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renew us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crif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pha and Omega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New Yea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an Luf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(Rev. 21:1-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7160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all n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tol the Lord, all peopl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293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’s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ward us is grea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aithfulnes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7:48Z</dcterms:modified>
  <cp:revision>288</cp:revision>
  <dc:subject/>
  <dc:title>PowerPoint Presentation</dc:title>
</cp:coreProperties>
</file>