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63C-9C3D-4577-8E4A-473C1A1C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1BF-86B8-43F8-8CA6-485E4A88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D8A-781D-411E-AEA6-0D1DE94C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51B-65F8-4608-AE26-44D68801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1E5-9779-4EEF-8B32-DD981329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C5C-348B-4F6B-8217-A2C08A0D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24B-69BB-455F-8996-4FDA62DC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FBE-04B2-495C-A419-4ADC6F7A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E5F-82DA-4A5A-B279-F5C86A06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9B1-D57D-4A36-95D0-EE49A9F7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3A6-3680-4B28-A43C-5A3DE8B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B9D-3D59-4723-8903-ED0D8425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9315-3FEA-4234-98B6-4226E7C64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2080" y="1143000"/>
            <a:ext cx="88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Is. 6: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223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, All Saints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the Ruler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ong and 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 mighty in battl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735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t up your heads, O gate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e lifted u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ancient door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e Ruler of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the Ruler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of hos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uler of glory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hall stan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holy plac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ith clean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pure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78680" y="1143000"/>
            <a:ext cx="16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4:3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4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12536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 is the Lor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fullness thereof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ld and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dwell there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 has founded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se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stablished 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riv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asc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ill of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ho shall st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od’s holy pl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have cle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nds and pure heart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do not lift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souls to what is fal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o not swear deceit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will receive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vindication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thei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is the gener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ose who seek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seek the fa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Jacob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735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ds, O gate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 lifted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ancient door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 Ruler of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53:50Z</dcterms:modified>
  <cp:revision>47</cp:revision>
  <dc:subject/>
  <dc:title>PowerPoint Presentation</dc:title>
</cp:coreProperties>
</file>