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ive thanks and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 is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and sh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412760" y="1219320"/>
            <a:ext cx="10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28: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922320"/>
            <a:ext cx="56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my streng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hie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whom my heart trust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I am help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y heart exul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ith my s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give thanks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the streng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aving refu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his anoin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save your peopl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less your heritag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their shephe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carry them for ever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93840"/>
            <a:ext cx="883908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, O Lord, I cal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rock, be not deaf to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st, if you are silent to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ecome like those wh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down to the p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111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the voic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upplica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I cry to you for help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I lift up my han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ward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st holy sanctuar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 me not aw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wick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ose who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kers of evi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peak peace wit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neighbo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le mischief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 thei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pay them accor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ir work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ccording to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il of their dee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45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pay them accor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work of their hand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nder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due rewa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74448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will brea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m down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ild them up no mo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they do not rega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eeds of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the work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’s hand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b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heard the voi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my supplic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3T16:00:50Z</dcterms:modified>
  <cp:revision>52</cp:revision>
  <dc:subject/>
  <dc:title>PowerPoint Presentation</dc:title>
</cp:coreProperties>
</file>