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034-75B9-4EA1-9F82-5D9F8262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E01-8FBC-44AA-9991-25F4F563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EB2-DCC0-42A0-8A9F-732E3666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FFB-A48B-4B47-A0A8-AFD1E84C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7ACA-7EF4-4966-A719-FD48A7B8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2DF-A7D6-4CB6-8831-936ADB2A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1D91-DA90-4C64-A9D1-590C8777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377-78B3-49C8-9209-98DC6C16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DB3-0A75-4093-B79E-C321F7D7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7C1-D989-40D2-90A0-86FF1010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8440-5F5D-437D-8308-2F49C3B5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196-E316-4127-9A61-F9A12E12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1C49-9AB9-428F-B185-E8AA04693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2:1-18, 25-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cred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ief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me weighed d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2:1-18, 25-3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ood Frida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non. Lat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rans. by Paul Gerhard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Yet it was you who too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 from the womb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kept me safe up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mother’s bre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you I was ca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my bi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ince my m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re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been my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85724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 not be far from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rouble is ne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re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ne to help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ny bulls encompass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ong bulls of Bash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rround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open wi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mouths at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a raven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roaring l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066680"/>
            <a:ext cx="883908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m poured out like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l my bones ar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t of join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heart is like wax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melted within my breas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mouth is dried u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a potshe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tongu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eaves to my jaw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lay me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ust of de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deed, dogs surround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company of evildo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circles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have pierc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hands and feet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an count all my bones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stare and glo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ver 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674720"/>
            <a:ext cx="8839080" cy="33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divide my garmen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ong th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or my raimen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cast lots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nds of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remember and tu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2:1-18, 25-3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22:2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you comes my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great congrega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vows I will p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rship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oor shall e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e satisfie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who seek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praise the Lord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your hear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ve for eve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7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ends of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rememb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urn to the Lor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famil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nat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worshi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8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dominion belo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rules over the na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9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who sleep in the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bow d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44792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who go down to the du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bow dow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for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shall live fo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576360"/>
            <a:ext cx="8839080" cy="55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sterity shall serve the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ach generation shall te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proclaim his delivera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 people yet unbor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ly the Lord has done it. 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393840"/>
            <a:ext cx="8839080" cy="59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God, m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have you forsaken 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y are you so f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helping me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wor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y groan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my God, I cry by d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you do not answer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y n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find no r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t you, the praise of Israe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enthroned in holi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 our forebears trust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trusted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delivered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674720"/>
            <a:ext cx="8839080" cy="33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you they crie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ere save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 they trusted,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re not disappointed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I am a wor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ot huma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corned by oth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espised by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who see me mock at m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make mouths at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wag their hea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He committed his cau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Lord deliver him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Lord rescue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delights in him!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6:23Z</dcterms:modified>
  <cp:revision>44</cp:revision>
  <dc:subject/>
  <dc:title>PowerPoint Presentation</dc:title>
</cp:coreProperties>
</file>