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89A-6273-4F03-9304-755C1BEB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869-DA20-411C-8366-464422F5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8BA-CE91-40F9-913E-F8B3E659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EEC-CBB0-42A0-9F51-89B2AE9C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E33-688C-4D7C-8A03-AAE46C42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52C-F0D9-45C0-AF19-B6491AE1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DD8-E614-426A-9823-90A27FD6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7C4-D831-4AE6-B9F1-32D993C9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B2C-ADC0-4A39-A5E3-491B580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3D9-2BD5-46F4-85CC-D4CDC9CC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17D-58DE-420B-B17D-85F78048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AA7-9A76-4B73-B4EE-C5D2324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0D94-87FB-479B-A379-F9CC5856A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39: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m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y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 my thought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take the w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mor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well in the uttermo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s of the se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there your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lead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hold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845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say, “Let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rkness cove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ght about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night,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111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the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not dark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ight is b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the da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darkness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ight with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was you who for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inward part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it me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mother’s wom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552680"/>
            <a:ext cx="86104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praise you, for you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earful and wonderfu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erful are your work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know me very well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frame was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den from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was be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de in secre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icately wrought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pths of the ear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" y="638280"/>
            <a:ext cx="86104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eyes behe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unformed substanc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book were writt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ays that were for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ry day, before th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me into be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profound 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your thoughts, O Go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vast i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m of the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would count them, the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more than the san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awa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still with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6588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you have searched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known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that you would sl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at the bloodthirs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uld depart from 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malicious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fy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ift themselves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you for ev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I not hat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hate you, O Lord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 I not loath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rise up against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te them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rfect hatr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ount them my enem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arch me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know my heart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y me and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thought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ee if there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y wicked way in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ad m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y everlasting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ow when I sit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en I rise up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iscern my though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f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735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arched out my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lying d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re acquain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ll my w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before a w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on my tongue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ow it al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ursu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hind and befo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ay your hand upon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ch knowledge is to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erful for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hig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annot attain it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ther shall I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r spir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whither shall I fl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your presen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ascend to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r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make my bed in Sheo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1:30Z</dcterms:modified>
  <cp:revision>54</cp:revision>
  <dc:subject/>
  <dc:title>Psalm</dc:title>
</cp:coreProperties>
</file>