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70A-CF8E-4B8E-BC5F-AB31B1B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01B-1054-4E0F-B1A4-CFC3E39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E1C-9504-4FD4-A964-492EC454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5EE-B803-4F4B-83F9-2DA9689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879-C677-4C40-88C6-EBD44545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469-B720-488A-A412-8128CE9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A5F-6A3D-4E6C-9DF0-268C4D3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F4A-3A7E-4C2A-9257-71B5194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408-B80A-4887-B0D8-C783275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35D-0698-4F43-A675-8036654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D59-71E4-4811-8ADE-033C1AA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0C3-9FCB-4FD1-8CBD-A0EEBCF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390-4A03-41F8-A4AD-5420C444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k. 6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are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eir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bowed down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o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at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the sojourne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pholds the wi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orpha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brings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 to ru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6207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reign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d, O Zion,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tion to gener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my sou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praises to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le I have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not your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inc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ortals, i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breath dep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return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at very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plans per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are those whose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 God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hope is in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Go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a, and all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m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faith for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xecutes just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oppress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ives f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ung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8288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soners fre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p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yes of the bl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21Z</dcterms:modified>
  <cp:revision>65</cp:revision>
  <dc:subject/>
  <dc:title>Psalm</dc:title>
</cp:coreProperties>
</file>