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5CEA-9380-4BDA-AF9E-115D9D10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9625-6414-4604-96B7-B65C9B50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E47A-F6EA-4223-9E3B-6BB24D5F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B9F3-A059-4EDB-97F0-B42E5F67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9236-21E1-42E2-8EDB-D94C6A19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FEA-3003-47A8-829F-BF0DFAEF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54FC-A10E-495B-854B-2567F972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5C5A-A7D3-4DAF-A095-F856C1DE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DABE-A692-4D76-8AA7-4D65A9D7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F08-D580-4042-A17C-B7B90E32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D0E8-8E01-4DD8-B1E9-A928A1D0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C57F-0438-4452-95CA-9BEB29D7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8D23-DDE6-4701-96F2-30B6E4EAC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(Easter &amp; General)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 T Kimbrough, J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514600"/>
            <a:ext cx="8534160" cy="27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te us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te us by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lov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29384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hold, how good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leasant it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we live toge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un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820800"/>
            <a:ext cx="8610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like the precious oi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the hea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unning dow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the bea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the beard of Aar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unning down on the colla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his rob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like the de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Herm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falls o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untains of Z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2208240"/>
            <a:ext cx="86104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re the Lord h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manded the bless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fe for evermore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6:59:44Z</dcterms:modified>
  <cp:revision>38</cp:revision>
  <dc:subject/>
  <dc:title>Psalm</dc:title>
</cp:coreProperties>
</file>