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914-9394-4C98-A70F-1E4548A6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76A-DDA5-4D1B-9E55-6139CBE2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D4E-8D12-437D-BD09-4E4F6CFF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F00-3AD3-4C1C-9F5A-DF36D4B4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E90-5081-4772-A07F-A9CF3995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67D-9FA5-4C44-8F02-4F48E066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F09-D815-4E5C-BE7F-21664289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90B-1F0B-4099-B1C7-83ED59C3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1DA-5B0A-4A93-9AFC-165BCAE7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F93-CE78-4C13-A72F-5B60ADE7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482-FF2E-442A-9F6E-CCC5210D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DDA-0B41-48B3-83BB-DFEC9508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50BB-5ECA-46D6-9F88-DC9BE4C97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who 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uge in you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m ever sing for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5: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all who take refu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you rejo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et them ever sing for jo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defend them, that those wh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ove your name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exult in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812960"/>
            <a:ext cx="8839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bless the righteo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 Lor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you cover them with fav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s with a shield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576360"/>
            <a:ext cx="883908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ear to my words, O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give heed to my groan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rken to the sou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f my c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my Ruler and my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for to you I pr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in the morn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you hear my voi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the morning I prep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 sacrifice for you, and wat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are not a God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delights in wickednes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evil may not dwell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astful may not st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fore your ey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you hate all evildo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You destroy thos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o speak li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 Lord abhor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loodthirsty and deceit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293840"/>
            <a:ext cx="883908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, through the abunda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f your 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 will enter your hou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ward your holy temp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I will worship you in awe.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7352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 me, O Lord,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your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cause of my enemi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e your way stra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efore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re is no tru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their mou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ir heart is destru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throat is an open gra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y flatter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ir tong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em bear their guil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 G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et them fall by thei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wn counsel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of thei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many transgress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ast them ou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for they have rebell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gainst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1:42Z</dcterms:modified>
  <cp:revision>22</cp:revision>
  <dc:subject/>
  <dc:title>PowerPoint Presentation</dc:title>
</cp:coreProperties>
</file>