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7E7-1FD5-4ED9-9287-C46A123D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B6C-CA88-4D63-907A-5675197F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7B1-5B98-479E-AD2C-C04B246C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672-5709-4A78-B2C8-99CFA3E9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B53-7503-47AB-B38E-E17BC71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E14-CD2D-443B-8AEC-3CB86B0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704-B54F-431B-91EC-58E6616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8BC-F84D-407B-911D-D59E2C4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527-00FC-49F2-961E-6E57DE3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6F8-AC10-45CD-B6BA-5B1121D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423-D806-47B9-B6B0-E321B164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39B-1556-4049-A1A4-F640053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8E6-6148-456B-839E-205DA64C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6:5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e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n you I take refu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840" y="152388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always befo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joi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94440" y="121932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9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chosen por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old my l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nes have fallen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leasant plac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a glorious herit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less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me counse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a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nstruct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set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ways before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right ha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be moved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heart is gl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soul rejoic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body also dwells sec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do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p to Sheo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let your godly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p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082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me the path of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fullnes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 hand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ures for evermor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4:50Z</dcterms:modified>
  <cp:revision>35</cp:revision>
  <dc:subject/>
  <dc:title>PowerPoint Presentation</dc:title>
</cp:coreProperties>
</file>