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t of the dept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ry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hea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implore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7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22320"/>
            <a:ext cx="91440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(Holy Week,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Martin Luther (Ps. 130:1, 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trans. by Catherine Winkwor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914400"/>
            <a:ext cx="883908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pleased, O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deliver m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ord, make hast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help m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m be put to sh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confus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seek my lif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them be turned bac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brought to dishon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desire my pai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m turn bac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of their sh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say, “Aha, Aha!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 all who seek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joice and be glad in you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those who l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salv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y evermore, “God is great!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47636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I am poor and needy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sten to me, O God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my hel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y deliverer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ord, do not tarry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0:23Z</dcterms:modified>
  <cp:revision>124</cp:revision>
  <dc:subject/>
  <dc:title>PowerPoint Presentation</dc:title>
</cp:coreProperties>
</file>