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62:5-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y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eadfast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fill your purpose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62:5-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38:1, 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490760"/>
            <a:ext cx="8839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alone my so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s in silen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y hope is from G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lone is my r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salv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ortr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be shak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God rests my delive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hon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ighty ro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refuge is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st in God at all tim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peop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ur out your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God who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refuge for u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of low est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but a br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of high est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a delus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alances they go 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er than a br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no confid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extor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t no vain hop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robbe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riches increa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t not your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ce God has spok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ice have I heard thi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wer belongs to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you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longs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repay all accor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ir work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4:03Z</dcterms:modified>
  <cp:revision>105</cp:revision>
  <dc:subject/>
  <dc:title>PowerPoint Presentation</dc:title>
</cp:coreProperties>
</file>