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036-186E-4C69-8C8A-DAC2856A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8B3-B727-406A-BBCE-2516A65B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915-75C8-4E75-BEFE-B99613C5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30B-2E38-4EDE-948F-BD9035D7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D0F-3686-4643-8531-60DCD9FA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C76-E38E-443C-9762-CEF69259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9A0-72B3-44ED-AE62-FA83ACE1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1C4-6C2E-4A67-8711-0C687624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C54-C08B-446C-BD5B-3D0ADFEB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752-382A-4DA0-A134-93978301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8882-6DF3-4C12-8521-5CD44200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F49-707F-4E7D-9588-01F44CF1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EA27-6735-4544-A0A9-0887A9B7D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harles Albert Tind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torm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re ra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by 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65888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t had not been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as on our side–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Israel now say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t had not been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on our sid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foes rose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u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they would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wallowed us up ali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ir anger w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indled against u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the flood would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wept us a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orrent would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ne over u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the raging wa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uld have g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ver 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lessed b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not give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prey to their teeth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37016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escaped as a bi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snar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fowler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nare is brok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e have escap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help is in the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made heav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arth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8:25Z</dcterms:modified>
  <cp:revision>28</cp:revision>
  <dc:subject/>
  <dc:title>Psalm</dc:title>
</cp:coreProperties>
</file>