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4:1-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our help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4:1-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44: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 we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asted continual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will give than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have heard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ears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orebears have told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eeds you perfor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ir d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days of ol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87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th your own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ove out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our foreb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plant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fflicted the peopl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but our forebears you set fr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not by their own s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they win the l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did their own ar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em victor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11320"/>
            <a:ext cx="883908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your right h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ar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countenanc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deligh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m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my Rul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orda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ctory for Jaco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, we pu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wn our fo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tread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assai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not in my b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tr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can my s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you have saved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our fo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ave put to confu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hat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2:17Z</dcterms:modified>
  <cp:revision>88</cp:revision>
  <dc:subject/>
  <dc:title>PowerPoint Presentation</dc:title>
</cp:coreProperties>
</file>