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C7AE-DE79-404B-8D10-A20212CB0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88FB-43A7-42CF-869F-8AEFA8D2A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CA26-8089-44E6-9A90-68E9C5D3A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5A28-C5B9-41AE-9068-348718AF3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4D04-2B6B-48CA-AAD2-EC06B73C4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E7B9-62B4-47A5-8A5B-8AB94F3CB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E468-B02A-4105-B4FC-1E0DE3158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7568-0EA8-45AB-A545-EDE1C0818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2547-BDB9-4745-B584-7D4E0E7A3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3CD7-751E-4CB7-92C5-232CD0C0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7536-FB48-4587-AAF6-FB33B21D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54AC-1458-4564-8626-538FDF67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71C6-366C-438D-81BA-8EEA7F50C8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209680"/>
            <a:ext cx="91440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erve the Lord with fear;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 humble before the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22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1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Transfiguration and General)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2:11, 12</a:t>
            </a:r>
            <a:r>
              <a:rPr b="0" i="1" lang="en-US" sz="2200" spc="-1" strike="noStrike">
                <a:solidFill>
                  <a:srgbClr val="333399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137016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10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Now therefore, O kings,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be wise; be warned,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O rulers of the ear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11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Serve the Lord with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fear and trembling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118728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1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humble yourselves befor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the L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lest God be angry,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and you perish in the way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for God’s wrath is quickly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kindl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2589120"/>
            <a:ext cx="883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lessed are all who take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refuge in the Lord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2438280"/>
            <a:ext cx="91440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know that m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Redeemer liv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922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2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General)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Job 19:25</a:t>
            </a:r>
            <a:r>
              <a:rPr b="0" i="1" lang="en-US" sz="2200" spc="-1" strike="noStrike">
                <a:solidFill>
                  <a:srgbClr val="333399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393840"/>
            <a:ext cx="8839080" cy="58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br>
              <a:rPr sz="5600"/>
            </a:b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y do the nations conspir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and the people plot in vain?</a:t>
            </a:r>
            <a:br>
              <a:rPr sz="4800"/>
            </a:b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The kings of the earth rise up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and the rulers take counsel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togeth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against God and God’s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anointed, saying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“Let us burst their bond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and cast their cords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from us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820800"/>
            <a:ext cx="8839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One who sits in the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heavens laughs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and holds them in derision.</a:t>
            </a:r>
            <a:br>
              <a:rPr sz="4800"/>
            </a:b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Then God will speak to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them in ang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and terrify them in fury,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saying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2589120"/>
            <a:ext cx="883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“I have set my king on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Zion, my holy hill.”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 will tell of the decree of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Lord who said to me: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“You are my son, toda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I have begotten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Ask of me, and I will make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the nations your heritag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and the ends of the earth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your possess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185724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You shall break them wi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a rod of iron, and dash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them in pieces like a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potter’s vessel.”              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4:00:01Z</dcterms:modified>
  <cp:revision>21</cp:revision>
  <dc:subject/>
  <dc:title>PowerPoint Presentation</dc:title>
</cp:coreProperties>
</file>