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EF04-FD41-4896-B6F6-EE0926FEB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F88E-0186-49A3-8359-2104AE69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37BA-D588-4520-95B7-038A11031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D0F8-2CA3-4208-B4A4-68BC83990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DFD5-12FB-4C34-AE11-11A6F6B8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A440-C8EF-475F-A7A3-9503AB0B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0B8B-477F-48E7-99E3-1FE6E618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C972-BEB3-4546-AB59-652CCE56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ABAB-1683-4375-BABA-AF5E4C7F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7B99-E3C7-4DA2-BA95-2B5529AB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75E0-6548-4FC0-ADB3-B614E262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25B6-5685-448A-99C4-A7D5F65B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31DC-7432-43D8-8FA5-994850A4D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17:1-7, 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ep me, keep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e apple of your ey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de me, hide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shadow of your wing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7:1-7,1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773120" y="1219320"/>
            <a:ext cx="108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17: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Easter &amp; Genera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125360"/>
            <a:ext cx="8839080" cy="44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ar a just cause, O Lor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ttend to my cry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ve ear to my pray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lips free of decei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2101680"/>
            <a:ext cx="8839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you let m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indication com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your eyes see the righ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143000"/>
            <a:ext cx="8839080" cy="47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you try my hear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you visit me by nigh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0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f you test me, you wi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ind no wickedness in m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mouth does not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ransgres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ncerning what others do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have avoided the way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viole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following your w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steps have held fa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your path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feet have not slipped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73520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call upon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you will answer me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Go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cline your ear to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r my word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ondrously show you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eadfast l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savior of tho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seek refug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eir adversari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t your right ha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49220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5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s for me, I shall behol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face in righteousnes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n I awake I sh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 satisfied wi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holding your presence.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3T15:39:19Z</dcterms:modified>
  <cp:revision>37</cp:revision>
  <dc:subject/>
  <dc:title>PowerPoint Presentation</dc:title>
</cp:coreProperties>
</file>