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D68-A366-4B07-AD8B-8EA40627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CCC-E572-4F20-B2E8-1283D14F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DAC-B7A0-4DE9-AB1E-CB0D9CF9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02B-9CA5-478E-8042-12DCF050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170-CBC0-4144-A615-317E2E7C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46B-89D2-4A0F-A7EC-1CA89EFF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E2D-717A-4253-BE80-8FBD3FD4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174-74A0-40C7-8087-B1F04F1A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4E9-8183-4DD3-8A6E-84FA3D67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EE3-84E8-4FE3-870B-A5DA7C2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95A-F8B3-419A-B329-1B221AB2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947-8710-419B-A0C0-ED65338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F369-D228-4DF2-92E3-B8E1B26C5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Christmas, Epiphany, General)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gi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beasts their f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o the you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vens that c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takes no de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ight of a hor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pleasure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trength of a runn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Lord takes pleas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ose who hop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’s steadfast lo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 O Jerusalem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your God, O Z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trength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bars of your gat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s your childr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mid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peace in your bord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lls y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nest whe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ends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ands to the ear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runs swift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g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now like woo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atters hoarfrost like ashe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sts forth ice like morsel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an withstand its col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ends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d and melts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the wind bl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aters fl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is good to sing prais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our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ong of praise is fi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cla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to Jacob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atute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dinances to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255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not dealt th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ny other na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o not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bui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Jerusal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thers the outcas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ea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okenheart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inds up their woun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termi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umber of the st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to all of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nam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is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bundant in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understan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yond meas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ifts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owntrodd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casts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roun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anksgiving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melody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yre to our G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vers the heave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clou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pares rain for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grass gr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hi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41Z</dcterms:modified>
  <cp:revision>70</cp:revision>
  <dc:subject/>
  <dc:title>Psalm</dc:title>
</cp:coreProperties>
</file>