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FCE-2DEA-4280-94D7-2B04FF55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E1E-C465-466D-9D8F-CF17454A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835-DDEE-42BC-B37C-8671E815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C77-0535-48E9-A785-E3552601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7F3-2273-4F11-A6B6-CFD6908C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E89-59F5-4AC4-BB11-2C5C2B89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73A-00E0-46E9-8E15-B7559C0F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E47-657F-4332-A282-580090B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614-0191-4DC8-9338-989ADB55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AB2-DDCE-4CBD-AAFF-28E35C2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2EC-0B93-497F-AAF3-8B428E5B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22A-8D39-439C-BC7C-01966CE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DC9B-7EDF-4BD2-9EDA-DA06D3D59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Evening Prayer &amp; 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41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s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ince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s li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ing sacrific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109520"/>
            <a:ext cx="86104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bless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 servants of the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tand by night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oly pl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less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e Lord who ma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 you from Zio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0:00Z</dcterms:modified>
  <cp:revision>40</cp:revision>
  <dc:subject/>
  <dc:title>Psalm</dc:title>
</cp:coreProperties>
</file>