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6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24382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ank we all our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eart and ha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voic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6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922320"/>
            <a:ext cx="9144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(Thanksgiving, 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Martin Rink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Catherine Winkwo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638280"/>
            <a:ext cx="8839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visit the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ater 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greatly enrich it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river of G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 full of water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provide its grai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so you have prepared 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water i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urrows abundantl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ttling its ridg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ftening it with showe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blessing its grow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90512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crown the yea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your bounty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tracks of your chario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rip with fatnes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pastures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derness drip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hills gird themselv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jo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92700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meadows clo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mselves with flock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valleys deck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mselves with grai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shout and s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gether for joy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914400"/>
            <a:ext cx="883908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ise is due to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God, in Zion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o you sha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vows be perform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you who hear pray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flesh shall co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cause of their si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n our transgression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evail over u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forgive th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927000"/>
            <a:ext cx="88390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lessed are those whom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oose and bring nea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dwell in your court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shall be satisfied with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odness of your hous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holy temple!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dread deeds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swer us with deliveran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God of our salvatio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is the hope of all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nds of the eart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of the farthest sea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by your streng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stablished the mountai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ing girded with might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stills the roar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sea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roaring of the wav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tumult of the people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927000"/>
            <a:ext cx="88390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that those who dwel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t earth’s farthest bound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afraid at your sig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make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rning and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vening resound with joy.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49:26Z</dcterms:modified>
  <cp:revision>111</cp:revision>
  <dc:subject/>
  <dc:title>PowerPoint Presentation</dc:title>
</cp:coreProperties>
</file>