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B4D-C170-4501-A513-F4179A74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287-AD61-426E-8E80-66612BB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056-F980-40A7-9221-00C2168B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861-F6E0-4687-8FB2-F1609068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266-2066-4455-8C71-3A5F99E8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E49-9105-440D-9376-2942814D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8BC-E8D8-4FE2-8146-53A798A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03D-17E8-4D69-8DBA-60760E5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498-E16E-4A60-BC5A-CC3276B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A7F-AC5C-4E03-9B91-3E81C7B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60C-372E-46C3-8C0E-7FA377CA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76A-F49A-410D-ABA9-BA4D931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4FA1-A911-4A2E-90A0-7178FEDC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5:1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ltz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5909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5:1-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n your mid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Egy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d signs and wond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Pharaoh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servan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truck many n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lew many kings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hon, king of the Amorit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g, king of Bash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e kingdo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anaa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ve their l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a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heritage to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renown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out all ag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will vindic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ve compa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his serva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pra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servants of the Lord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that stand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urt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our God!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o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’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racio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chos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as God’s 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as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wn possess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ea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our Lord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all go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ever the Lord plea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d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eaven and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as and all dee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the Lord who mak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rise a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s lightn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s wind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ehouse of G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was the Lord who stru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-born of Egy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imal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23Z</dcterms:modified>
  <cp:revision>43</cp:revision>
  <dc:subject/>
  <dc:title>Psalm</dc:title>
</cp:coreProperties>
</file>