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B30-9010-4785-9C4A-E29430D5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D09-B2E2-4F8D-9A45-AE5E2F6B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C27-BF09-4688-A5A6-B46F3787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624-4C22-4123-AAEE-54ECE6A4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3A7-07D5-415D-AC83-818DD39F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AF4-3428-49EF-86A0-410A4D58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960-2CF7-4906-9B81-00EBF8F5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1F0-7346-4D2A-9553-DF3F7310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2F6-16FC-44E1-84AB-275484B7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383-5BB7-49CB-8018-81DE4C75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372-F404-4797-A646-50713888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2D9-4DAF-4B30-9EE8-4C52B5AD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2934-35E3-473D-BE1E-F5C4CEA9F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Lent &amp; General)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39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at do I wait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n you alon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ppy shall they b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your little o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ash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the rock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44792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rivers of Babyl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we sat down and wep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remembered Z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willows the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ung up our ly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re our capto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quire of us song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tormento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rth, say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Sing us on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gs of Zion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shall we s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’s s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 foreign lan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forget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Jerusale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y right hand withe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my tongue cle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roof of my mou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do not remember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do not set Jerusal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ve my highest jo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00332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remember again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domi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ay of Jerusalem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they sai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Raze it, raze it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wn to its foundations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daughter of Babyl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devastator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ppy shall they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repay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what you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ne to u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0:40Z</dcterms:modified>
  <cp:revision>45</cp:revision>
  <dc:subject/>
  <dc:title>Psalm</dc:title>
</cp:coreProperties>
</file>