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397-D44F-43C0-8AE1-2EE5E5B9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F99-9E4E-453D-8107-2C8F4D6C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89A-CB91-43F3-885A-873F3337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AD3-0A31-4FDE-9A44-B2BF8419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076-3BC4-451E-B0C1-B77F9B86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7AB-A442-4826-844F-01730890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068-62CF-44EE-B0F5-45E206B3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F00-CBEE-41C6-852C-776C3058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261-94CD-4A01-AA40-B3B0283E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118-2B99-4A41-91F3-7673523D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E63-1F8A-47FC-B9B7-88AABA7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CE8-9D90-4BE2-AD9D-C99FB33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0A0A-2137-440F-A950-BF30E6B40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ign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69120" y="1701720"/>
            <a:ext cx="268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ann J. Schul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ances E. C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223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New Year, Trinity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sheep and ox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the beas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the fie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irds of the ai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fish of the se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ever passes al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paths of the se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735200"/>
            <a:ext cx="883908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jestic is your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n all the earth!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and gr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y th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 of earth and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oseph R. Renvi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ara. by Phillip Fraz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1600"/>
            <a:ext cx="88390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jestic is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ame in all the ear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lory is chan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bove the heave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y the mou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babes and infan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set up a defen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gainst your fo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o still the ene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avenger.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look at your heave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work of your fing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oon and the st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ich you have establish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re human be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you are mindful of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ortals that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re for the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mad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ittle less than G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rowned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ith glory and hon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given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dominion ove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orks of your ha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put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ings under their fee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2:43Z</dcterms:modified>
  <cp:revision>23</cp:revision>
  <dc:subject/>
  <dc:title>PowerPoint Presentation</dc:title>
</cp:coreProperties>
</file>