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DC0-DC3D-46FA-9968-F807C83B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B75-8F47-440F-9FF7-56DE273E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CBCC-FA7F-40DF-AB96-EBF084C8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588-BD9D-4B15-A7F7-4002F865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F26-EE5B-4FE2-8580-4765D81B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0217-F8A4-4CC2-BE29-2FC1E10C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CAE7-000C-4D14-BE77-6B37FEB1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7CC7-1F33-4AAE-A22C-F542A8C3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4E31-C826-4889-BEA1-3610282C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3B3-27FC-449A-87F0-47D4676B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695-9FE6-49A8-B4FB-B669F2B9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8B26-D7D2-4525-B670-1E52A295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BCF0-A24C-4E6A-8C1B-14409C833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Evening Prayer, General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ph. 6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59092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trong in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the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’s might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2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will keep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all evi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ill keep your lif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6760" y="147636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will kee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going ou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coming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is time fo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or evermore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63: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28600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had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ing for joy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2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3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(Funerals, Memorial Services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is. of Sol. 5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36232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ighteous love for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reward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Lord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2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91440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lift up my ey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hill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whence do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help co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help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made heav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ear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Lord will not le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foot be mov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who keeps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not slumb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hold, the 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keeps Israe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ll neither slumb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r slee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210168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your keeper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is your sha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your right ha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210168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un shall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mite you by da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r the moon by nigh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6:57:49Z</dcterms:modified>
  <cp:revision>22</cp:revision>
  <dc:subject/>
  <dc:title>Psalm</dc:title>
</cp:coreProperties>
</file>