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AB68-A826-4E2C-849B-7E21F9B6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3844-9639-4E45-AAD5-712F8B9F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B468-E051-44BF-83ED-47E34D1C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6ABD-D7DD-444F-895C-12CE91EF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6D6A-7CE8-4F44-9582-DB94CF57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509D-0775-4851-A473-B45C4D5C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D3CB-0407-485E-9688-79FAA9DD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303B-63F7-4620-8758-BE2781B8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501D-32BC-4431-925D-D27D51A2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28F2-FF33-4006-8558-0094D9B2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47AC-DFAE-4C87-8BB1-4FA1AFA3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EB9F-4616-423E-88AE-1C60EBA3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D836-7112-434A-8B1B-B198762F7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590920"/>
            <a:ext cx="9144000" cy="208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hepherd i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indeed shall I wan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ponse 1 © 1963 The Grail, by permission of G.I.A. Publications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, Christ the King, General)   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23: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362320"/>
            <a:ext cx="9144000" cy="34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ood Shephe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s that we m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ave it abundantly.</a:t>
            </a:r>
            <a:br>
              <a:rPr sz="50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ponse 2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3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91520" y="1905120"/>
            <a:ext cx="120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Jn. 10: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Easter, Funerals, Memorial Servic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125360"/>
            <a:ext cx="8839080" cy="44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is my shepher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shall not wa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makes 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e down in green pasture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ads me beside still wate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stores my life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ads me in right path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sake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’s n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942840"/>
            <a:ext cx="8839080" cy="48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ven though I wal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the darkest valle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fear no evil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you are with m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rod and your staff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comfort m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73520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prepare a table before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presence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enemie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noint my head with oi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cup overflow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942840"/>
            <a:ext cx="8839080" cy="48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rely goodness and merc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all follow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the days of my lif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I shall dwe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house of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long as I liv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07:18Z</dcterms:modified>
  <cp:revision>45</cp:revision>
  <dc:subject/>
  <dc:title>PowerPoint Presentation</dc:title>
</cp:coreProperties>
</file>