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6:5-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esire to fo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my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tinue your steadf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o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6:5-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920360" y="1143000"/>
            <a:ext cx="12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6: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9223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piphany, Holy Week &amp; 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308240"/>
            <a:ext cx="883908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steadfast love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tends to the heave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faithful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clou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righteousness is lik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mighty mounta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judgments are lik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reat deep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humans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imals you sav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 how precio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your steadfast love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people may take refu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shad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your wing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84320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feast on the abundan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hou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 give them drin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riv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deligh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ith you is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untain of lif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l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we see l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continue your steadf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to those who know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salvation to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right of heart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10:42Z</dcterms:modified>
  <cp:revision>75</cp:revision>
  <dc:subject/>
  <dc:title>PowerPoint Presentation</dc:title>
</cp:coreProperties>
</file>