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2C03-080C-43C5-B720-FF005C03E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10A9-7493-4444-B400-0E99C875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51EE-B461-4227-A802-B7F476B00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5ED8-444D-43BE-AC12-80E6F1776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551D-7F88-4593-A8E8-07F7AC2E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74D4-D1FB-4E8B-B251-4B228D03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A85F-4026-47ED-8847-3A863B5D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216D-362F-4BC2-B126-AB9494B3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31B8-0C53-4931-92EF-5CEDF801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5A59-007A-4C08-AE8C-5D3E1BFD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AA12-FAC0-4FA4-9D88-3991549B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1B95-2585-41DA-9B76-0FAC48CD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0DFB-9642-41F7-83D3-F84348665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45:8-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Easter &amp; 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85: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514600"/>
            <a:ext cx="8534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see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dness, L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us your salvation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45:8-2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760" y="2101680"/>
            <a:ext cx="8610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6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open your hand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satisfy the desi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every living th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6760" y="2101680"/>
            <a:ext cx="8610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7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the Lord’s ways are just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Lord’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oings are ki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is nea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all who call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all who c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pon the Lord in trut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9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fulfills the desi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all the faithful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hears their cr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saves the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0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who love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preserv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wick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destroy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66760" y="129384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1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mouth will spea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praise of the Lord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all flesh bl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’s holy na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ever and ever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92700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is gracio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mercifu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low to anger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bounding in steadfast lov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is good to al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s compassion is ov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his crea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your works shall gi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nks to you, O Lord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your faithful on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ll bless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2101680"/>
            <a:ext cx="8610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shall speak of the glo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your kingdom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ell of your power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make known to all peop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mighty deeds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e glorious splendo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your kingdo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760" y="111132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kingdom is a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verlasting kingdom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your dominion endur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out 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enerations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uphol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who are falling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raises up 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are bowed dow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2101680"/>
            <a:ext cx="8610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5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eyes of all look to you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you give the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ir food in due seas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7:02:05Z</dcterms:modified>
  <cp:revision>61</cp:revision>
  <dc:subject/>
  <dc:title>Psalm</dc:title>
</cp:coreProperties>
</file>