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rch m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now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y me and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though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4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04920" y="11430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39: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my bosom frie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whom I trust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te of my brea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 lifted a he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st m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gracious to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aise me 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I may repay them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is I know that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pleased with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at my enemy has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iumphed ove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you have upheld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of my integr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et me in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sence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be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Israe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everlast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everlasting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 and Ame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30824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are those wh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sider the poor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delivers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day of troubl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protects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keeps them aliv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are called bless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lan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do not give them u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will of their enemi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sustains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ir sickb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ir illness you he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ir infirmitie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for me, I said, “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gracious to m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l me, for I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ned against you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enemies say of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alic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When will he di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is name perish?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come to s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 utter empty wor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le their hear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ather mischief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y go ou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tell it abro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who hate me whisp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gether about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imagine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st fo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say, “A deadly th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fastened upon him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will not rise ag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where he lie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11:44Z</dcterms:modified>
  <cp:revision>83</cp:revision>
  <dc:subject/>
  <dc:title>PowerPoint Presentation</dc:title>
</cp:coreProperties>
</file>