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8954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5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Lk. 24: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un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5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Morning Pray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5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25360"/>
            <a:ext cx="883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God in his sanctuar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God in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firmam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God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mighty dee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God for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ceeding greatnes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God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mpet sou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God wi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ute and harp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God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mbourine and dan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Go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ings and pip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God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nding cymbal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Go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ud clashing cymb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8756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everything that breat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04:17Z</dcterms:modified>
  <cp:revision>294</cp:revision>
  <dc:subject/>
  <dc:title>PowerPoint Presentation</dc:title>
</cp:coreProperties>
</file>