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64C-1236-43EC-A926-AC9D2DFC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BF0-03C7-4FF3-923C-71A4A2A0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D18-2CF2-4E34-A4F4-02DFB8AC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6A4-5E7F-4FAC-BD38-3F37E0CE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EF1-9E55-4309-A75C-183A17DF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547-7A9C-4CCA-A4A8-4A46DD83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95D-ABEB-4EA5-9775-8505781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162-7273-4D98-8A16-D8B2A01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D65-E70E-4A5E-9BAF-73DC70F1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4D3-560A-40F6-B696-0D73B291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9D1-345F-4125-8991-2BC2FF4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928-09BB-4454-AEEC-42459575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8ED6-CF50-4C32-9B60-2E9079D33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Morning Prayer,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rancis of Assisi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          trans. by William H. D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438280"/>
            <a:ext cx="8534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 bl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ains and all hil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uit trees and all ceda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sts and all catt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eping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lying bird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g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inces and all rul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eart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 m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idens toge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ld men and childr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raise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name alone is exalt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glory is ab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th and hea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raised up a ho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faithful on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people of Israel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near their G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0948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heave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eigh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ange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hos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n and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shining sta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est heave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wa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the heavens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raise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mmand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y were crea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established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ixed their bou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cannot be pas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a mons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deep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e and ha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now and smo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rmy winds fulfil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comman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3:18Z</dcterms:modified>
  <cp:revision>74</cp:revision>
  <dc:subject/>
  <dc:title>Psalm</dc:title>
</cp:coreProperties>
</file>