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72:1-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ive you as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lvation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s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2:1-1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, Epiphany,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s. 49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he have domin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sea to se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the ri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e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arth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his foes b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wn befor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enem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dus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the kings of Tarsh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is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nder him tribu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the kings of Sheb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ba bring gifts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all k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l down before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nations serve hi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e delivers the nee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y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oor and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ve no help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has p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weak and need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aves the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oppr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viol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redeems their lif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recious is their bl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is sigh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ng may he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ld of Sheb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iven to him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prayer be ma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im continual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ings invo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im all the da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re be abunda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grain in the lan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it wave on the top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mountai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its fru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like Leban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they bloss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th in the cit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grass of the fie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57400"/>
            <a:ext cx="9144000" cy="279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the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justice and peace a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72:1-1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 (Ps. 72:1, 4, 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his name endure for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fame contin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the sun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people b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mselves by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nations call him blesse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762120"/>
            <a:ext cx="883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e king your just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royal s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he judge your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righteous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po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usti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 mountains b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sperity for the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hil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ighteousnes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he defend the ca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poor of the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delivera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ee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rush the oppresso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he live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un endur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long as the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out all gener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he be like rain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ls on the mown gra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showers that wat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is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righteousness flou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eace abou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the moon be no mor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0:52Z</dcterms:modified>
  <cp:revision>130</cp:revision>
  <dc:subject/>
  <dc:title>PowerPoint Presentation</dc:title>
</cp:coreProperties>
</file>