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052-32EF-43AD-B626-3D57AE2E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0BD-D73E-4C0A-A220-9FA1B719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24E-F949-41C0-8517-4D632254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325-E1E0-46B9-B388-10197EC7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E5C-8321-4C2C-ACAB-F431C81A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E0A-CE1D-4F9C-AFE9-3B66DC2D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BEB-58B9-4246-8C8F-695D6A7A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11E-3177-4886-91E4-7270A605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623-D86D-43AD-96D6-CAD018FE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165-C8C6-4DD6-8416-A5129FC0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856-9A5E-4BBD-BCB9-ED31A6B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B0F-6E12-4CD4-AB91-7A584C0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CE79-F67A-4656-9C68-BA7A36C04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5:1-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now your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 your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5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23040" y="137160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5: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5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143000"/>
            <a:ext cx="62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aths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aithful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se who keep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’s covenan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 thy 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y way p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y f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5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620840" y="1066680"/>
            <a:ext cx="94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5: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92232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ft up my soul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my God, in you I tru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me not be put to sha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not my enem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ult over 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none that wai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put to shame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m be asha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clot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reachery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me to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ways, O Lord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ch me your path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 in your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 me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the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salva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I wa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mindful of your merc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and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y have be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of ol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member not the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you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my transgressio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rding to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remembe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goodness, O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od and upright is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the Lord instruc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ners in the way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s the hum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at is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es them their way.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5:12Z</dcterms:modified>
  <cp:revision>51</cp:revision>
  <dc:subject/>
  <dc:title>PowerPoint Presentation</dc:title>
</cp:coreProperties>
</file>