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,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656040" y="1676520"/>
            <a:ext cx="24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Edward H. Plump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Thanksgiving, Morning Prayer, Gene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joyful no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natio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67652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a joyful no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, all the land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v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ladnes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 into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sence with singing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 that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ade us, is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the Lord’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the people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eep of God’s pastu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ter God’s ga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anksgiv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od’s courts with prais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thanks and bl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na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2938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go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ures for ev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faithful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5:06Z</dcterms:modified>
  <cp:revision>189</cp:revision>
  <dc:subject/>
  <dc:title>PowerPoint Presentation</dc:title>
</cp:coreProperties>
</file>