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77:1-2, 11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the wond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anks and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7:1-2, 11-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05: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louds pou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wat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kies g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th thund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arrows fla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ever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rash of your thu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in the whirlwi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lightnings illumi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tremb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way was through the se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ath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eat wat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your footpri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unse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led your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fl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han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es and Aar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1430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ry aloud t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oud that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hea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day of my troub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eek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ight my hand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tched out continual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refu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comfor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call to m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eds of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rememb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wonders of o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meditate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your wor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use on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y dee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101680"/>
            <a:ext cx="8839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way, O God, is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god is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our G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orks wond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nifested your m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peop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redeemed wit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m your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escendants of Jacob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Josep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waters saw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waters saw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ere afrai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ery deeps trembl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1:12Z</dcterms:modified>
  <cp:revision>135</cp:revision>
  <dc:subject/>
  <dc:title>PowerPoint Presentation</dc:title>
</cp:coreProperties>
</file>