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985C-C678-4062-A429-90EC346ED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756D-747B-4383-A3AC-BD0FA41E8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26B6-ACC7-4BF1-BE52-D5EE72740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0716-57C3-4392-B27B-2850F9FF6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A3F0-FE1F-4CE3-9C9C-60BC97BA3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D0A6-30D2-417C-A2FF-F944D5B81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A305-3D1F-4FD2-9549-C821E12B1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E591-62A5-4089-8A0D-4BE2A4FC8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52D5-89E8-45E7-8315-54D13F381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2801-5528-46CC-92AB-D80C09D3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F1EB-A3DB-44CE-B29B-5050E904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834A-D667-4F25-8E7F-BF5BFAFA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fff"/>
            </a:gs>
            <a:gs pos="100000">
              <a:srgbClr val="ff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C0C1F-0D87-4284-8349-8F9C43FAB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0" y="457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salm 118:14-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0" y="10666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1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(Passion/Palm Sunday)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s. 118: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04920" y="2133720"/>
            <a:ext cx="85341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ssed is the one wh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s in the n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Lor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sanna in the highest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18:14-2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266760" y="22845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1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 thank you that you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ve answered 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have become m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alvati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2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stone which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uilders reject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as become the cornerston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266760" y="265104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This is the Lord’s doing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t is marvelous in our ey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266760" y="184320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4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is is the da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ich the Lord has made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t us rejoice 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 glad in it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266760" y="1735200"/>
            <a:ext cx="86104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5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ave us, we beseech you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Lord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Lord, we beseech you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ive us succes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266760" y="1735200"/>
            <a:ext cx="86104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6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lessed is the one who com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name of the Lord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bless you from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house of the Lor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266760" y="1370160"/>
            <a:ext cx="86104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7</a:t>
            </a: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is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has given us ligh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ad the festal processio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 branche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up to the horns of the altar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8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You are my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and I will give thanks to you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are my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will extol you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266760" y="184320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9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give thanks to the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is good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God’s steadfast lov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ndures for ever!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5"/>
          <p:cNvSpPr/>
          <p:nvPr/>
        </p:nvSpPr>
        <p:spPr>
          <a:xfrm>
            <a:off x="0" y="76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salm 118:14-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0" y="6094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1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(Passion/Palm Sunday)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s. 118: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0" y="1371600"/>
            <a:ext cx="914400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Blessed is the one who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comes in the nam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f the Lord!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Hosanna in the highest!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18:14-2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3"/>
          <p:cNvSpPr/>
          <p:nvPr/>
        </p:nvSpPr>
        <p:spPr>
          <a:xfrm>
            <a:off x="0" y="6858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2 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(Easter &amp; General)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s. 118: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04920" y="2590920"/>
            <a:ext cx="8534160" cy="35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the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 has mad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rejoice, let us rejoi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rejoice and be glad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© 1975 G.I.A. Publications,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18:14-2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7"/>
          <p:cNvSpPr/>
          <p:nvPr/>
        </p:nvSpPr>
        <p:spPr>
          <a:xfrm>
            <a:off x="2743200" y="1981080"/>
            <a:ext cx="60948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8"/>
          <p:cNvSpPr/>
          <p:nvPr/>
        </p:nvSpPr>
        <p:spPr>
          <a:xfrm>
            <a:off x="5715000" y="1981080"/>
            <a:ext cx="60948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5"/>
          <p:cNvSpPr/>
          <p:nvPr/>
        </p:nvSpPr>
        <p:spPr>
          <a:xfrm>
            <a:off x="0" y="76320"/>
            <a:ext cx="9144000" cy="45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333399"/>
                </a:solidFill>
                <a:latin typeface="Times New Roman"/>
              </a:rPr>
              <a:t>Leader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4 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e Lord is my strength and my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power; the Lord has become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my salvati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0" y="152280"/>
            <a:ext cx="9144000" cy="40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6600"/>
                </a:solidFill>
                <a:latin typeface="Times New Roman"/>
              </a:rPr>
              <a:t>People: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 baseline="30000">
                <a:solidFill>
                  <a:srgbClr val="333399"/>
                </a:solidFill>
                <a:latin typeface="Times New Roman"/>
              </a:rPr>
              <a:t>15</a:t>
            </a:r>
            <a:r>
              <a:rPr b="0" lang="en-US" sz="5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5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re are joyous song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f victory in the tents of 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 righteous: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266760" y="264960"/>
            <a:ext cx="86104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333399"/>
                </a:solidFill>
                <a:latin typeface="Times New Roman"/>
              </a:rPr>
              <a:t>Leader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e right hand of the Lord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does valiantly,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800" spc="-1" strike="noStrike" baseline="30000">
                <a:solidFill>
                  <a:srgbClr val="333399"/>
                </a:solidFill>
                <a:latin typeface="Times New Roman"/>
              </a:rPr>
              <a:t>16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e right hand of the Lord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is exalted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114480" y="533520"/>
            <a:ext cx="8877240" cy="32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6600"/>
                </a:solidFill>
                <a:latin typeface="Times New Roman"/>
              </a:rPr>
              <a:t>People: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 right hand of the Lord 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does valiantly!”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304920" y="341280"/>
            <a:ext cx="86104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333399"/>
                </a:solidFill>
                <a:latin typeface="Times New Roman"/>
              </a:rPr>
              <a:t>Leader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baseline="30000">
                <a:solidFill>
                  <a:srgbClr val="333399"/>
                </a:solidFill>
                <a:latin typeface="Times New Roman"/>
              </a:rPr>
              <a:t>17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 I shall not die,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but I shall live,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nd recount the deeds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of the Lor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0" y="76320"/>
            <a:ext cx="914400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6600"/>
                </a:solidFill>
                <a:latin typeface="Times New Roman"/>
              </a:rPr>
              <a:t>People: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 baseline="30000">
                <a:solidFill>
                  <a:srgbClr val="333399"/>
                </a:solidFill>
                <a:latin typeface="Times New Roman"/>
              </a:rPr>
              <a:t>18</a:t>
            </a:r>
            <a:r>
              <a:rPr b="0" lang="en-US" sz="5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5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 Lord has chastene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me sorely, 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but has not given m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ver to death.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228600" y="76320"/>
            <a:ext cx="86104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333399"/>
                </a:solidFill>
                <a:latin typeface="Times New Roman"/>
              </a:rPr>
              <a:t>Leader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baseline="30000">
                <a:solidFill>
                  <a:srgbClr val="333399"/>
                </a:solidFill>
                <a:latin typeface="Times New Roman"/>
              </a:rPr>
              <a:t>19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Open to me the gates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of righteousness,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at I may enter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rough them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nd give thanks to the Lor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0" y="76320"/>
            <a:ext cx="914400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6600"/>
                </a:solidFill>
                <a:latin typeface="Times New Roman"/>
              </a:rPr>
              <a:t>People: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 baseline="30000">
                <a:solidFill>
                  <a:srgbClr val="333399"/>
                </a:solidFill>
                <a:latin typeface="Times New Roman"/>
              </a:rPr>
              <a:t>20</a:t>
            </a:r>
            <a:r>
              <a:rPr b="0" lang="en-US" sz="5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5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is is the gate of th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Lord, the righteous 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shall enter through it.</a:t>
            </a: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5"/>
          <p:cNvSpPr/>
          <p:nvPr/>
        </p:nvSpPr>
        <p:spPr>
          <a:xfrm>
            <a:off x="0" y="76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salm 118:14-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0" y="6094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1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(Passion/Palm Sunday)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s. 118: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0" y="1371600"/>
            <a:ext cx="914400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Blessed is the one who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comes in the nam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f the Lord!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Hosanna in the highest!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18:14-2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228600" y="304920"/>
            <a:ext cx="86104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333399"/>
                </a:solidFill>
                <a:latin typeface="Times New Roman"/>
              </a:rPr>
              <a:t>Leader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baseline="30000">
                <a:solidFill>
                  <a:srgbClr val="333399"/>
                </a:solidFill>
                <a:latin typeface="Times New Roman"/>
              </a:rPr>
              <a:t>21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I thank you that you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have answered me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nd have become m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salvati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304920" y="1066680"/>
            <a:ext cx="86104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4 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is my streng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my power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has beco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salvati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0" y="76320"/>
            <a:ext cx="914400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6600"/>
                </a:solidFill>
                <a:latin typeface="Times New Roman"/>
              </a:rPr>
              <a:t>People: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 baseline="30000">
                <a:solidFill>
                  <a:srgbClr val="333399"/>
                </a:solidFill>
                <a:latin typeface="Times New Roman"/>
              </a:rPr>
              <a:t>22</a:t>
            </a:r>
            <a:r>
              <a:rPr b="0" lang="en-US" sz="5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5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 stone which th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builders rejected ha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   has become the   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cornerstone.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228600" y="990720"/>
            <a:ext cx="86104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333399"/>
                </a:solidFill>
                <a:latin typeface="Times New Roman"/>
              </a:rPr>
              <a:t>Leader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baseline="30000">
                <a:solidFill>
                  <a:srgbClr val="333399"/>
                </a:solidFill>
                <a:latin typeface="Times New Roman"/>
              </a:rPr>
              <a:t>23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 This is the Lord’s doing;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it is marvelous in our ey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0" y="76320"/>
            <a:ext cx="914400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6600"/>
                </a:solidFill>
                <a:latin typeface="Times New Roman"/>
              </a:rPr>
              <a:t>People: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 baseline="30000">
                <a:solidFill>
                  <a:srgbClr val="333399"/>
                </a:solidFill>
                <a:latin typeface="Times New Roman"/>
              </a:rPr>
              <a:t>24</a:t>
            </a:r>
            <a:r>
              <a:rPr b="0" lang="en-US" sz="5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5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is is the day which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 Lord has made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let us rejoice an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be glad in it.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5"/>
          <p:cNvSpPr/>
          <p:nvPr/>
        </p:nvSpPr>
        <p:spPr>
          <a:xfrm>
            <a:off x="0" y="76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salm 118:14-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0" y="6094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1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(Passion/Palm Sunday)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s. 118: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0" y="1371600"/>
            <a:ext cx="914400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Blessed is the one who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comes in the nam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f the Lord!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Hosanna in the highest!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18:14-2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0" y="15228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333399"/>
                </a:solidFill>
                <a:latin typeface="Times New Roman"/>
              </a:rPr>
              <a:t>Leader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baseline="30000">
                <a:solidFill>
                  <a:srgbClr val="333399"/>
                </a:solidFill>
                <a:latin typeface="Times New Roman"/>
              </a:rPr>
              <a:t>25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Save us, we beseech you, O Lord!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6600"/>
                </a:solidFill>
                <a:latin typeface="Times New Roman"/>
              </a:rPr>
              <a:t>People: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 Lord, we beseech you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give us success!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114480" y="685800"/>
            <a:ext cx="887724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333399"/>
                </a:solidFill>
                <a:latin typeface="Times New Roman"/>
              </a:rPr>
              <a:t>Leader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baseline="30000">
                <a:solidFill>
                  <a:srgbClr val="333399"/>
                </a:solidFill>
                <a:latin typeface="Times New Roman"/>
              </a:rPr>
              <a:t>26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Blessed is the one who comes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in the name of the Lord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0" y="685800"/>
            <a:ext cx="8877240" cy="32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6600"/>
                </a:solidFill>
                <a:latin typeface="Times New Roman"/>
              </a:rPr>
              <a:t>People: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e bless you from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 house of the Lord.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266760" y="1370160"/>
            <a:ext cx="86104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333399"/>
                </a:solidFill>
                <a:latin typeface="Times New Roman"/>
              </a:rPr>
              <a:t>Leader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baseline="30000">
                <a:solidFill>
                  <a:srgbClr val="333399"/>
                </a:solidFill>
                <a:latin typeface="Times New Roman"/>
              </a:rPr>
              <a:t>27</a:t>
            </a:r>
            <a:r>
              <a:rPr b="0" i="1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e Lord is God,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who has given us ligh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0" y="76320"/>
            <a:ext cx="914400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6600"/>
                </a:solidFill>
                <a:latin typeface="Times New Roman"/>
              </a:rPr>
              <a:t>People: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Lead the festal procession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ith branches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up to the horns of the 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ltar!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14480" y="228600"/>
            <a:ext cx="887724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333399"/>
                </a:solidFill>
                <a:latin typeface="Times New Roman"/>
              </a:rPr>
              <a:t>Leader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baseline="30000">
                <a:solidFill>
                  <a:srgbClr val="333399"/>
                </a:solidFill>
                <a:latin typeface="Times New Roman"/>
              </a:rPr>
              <a:t>28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You are my God,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 and I will give thanks to you;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ou are my God,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I will extol you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5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re are joyous song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victor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e tents of the righteou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0" y="28440"/>
            <a:ext cx="914400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6600"/>
                </a:solidFill>
                <a:latin typeface="Times New Roman"/>
              </a:rPr>
              <a:t>People: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 baseline="30000">
                <a:solidFill>
                  <a:srgbClr val="333399"/>
                </a:solidFill>
                <a:latin typeface="Times New Roman"/>
              </a:rPr>
              <a:t>29</a:t>
            </a:r>
            <a:r>
              <a:rPr b="0" lang="en-US" sz="5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58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 give thanks to the 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Lord, who is good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for God’s steadfast lov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endures for ever!</a:t>
            </a: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5"/>
          <p:cNvSpPr/>
          <p:nvPr/>
        </p:nvSpPr>
        <p:spPr>
          <a:xfrm>
            <a:off x="0" y="76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salm 118:14-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0" y="6094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1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(Passion/Palm Sunday)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s. 118: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0" y="1371600"/>
            <a:ext cx="914400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Blessed is the one who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comes in the nam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f the Lord!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Hosanna in the highest!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18:14-2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266760" y="1003320"/>
            <a:ext cx="86104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right hand of the L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oes valiantl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6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right hand of the L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 exalted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right hand of the Lor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oes valiantly!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7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I shall not di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ut I shall liv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recount the deed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the Lor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8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has chasten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e sorel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ut has not given m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ver to death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266760" y="1552680"/>
            <a:ext cx="8610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9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Open to me the gat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righteousnes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I may ent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the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give thanks to the Lor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266760" y="184320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0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is is the gat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the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righteous sha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nter through it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3T14:00:19Z</dcterms:created>
  <dc:creator>First Baptist Church </dc:creator>
  <dc:description/>
  <dc:language>en-US</dc:language>
  <cp:lastModifiedBy>dan mccay</cp:lastModifiedBy>
  <dcterms:modified xsi:type="dcterms:W3CDTF">2012-03-31T19:30:10Z</dcterms:modified>
  <cp:revision>10</cp:revision>
  <dc:subject/>
  <dc:title>Psalm</dc:title>
</cp:coreProperties>
</file>