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D624-BC7D-4A49-A95B-6534EE15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E5A5-6222-448B-B3E5-5FBFECA2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1515-AA80-4E4A-8268-51E230A5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5661-2CED-4D1C-B2A3-78D8175D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6704-9AD1-442C-8ADF-DA2F4AB5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7801-C8BD-4C21-916D-5AF63724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C3EF-2124-4FE8-BB1A-9FC427DC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483-1F11-4F47-98A0-09DB03B2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4092-83B2-47EE-972A-4C1A8AB7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DC6F-F11C-4F01-8162-D2EE65A3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D6A4-BFE6-4AF7-85FC-60814407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DB18-3F4A-4E86-8B62-F6B3C1F9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8D2B-C4EF-48E9-904F-5F396E0DF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32:1-5, 11-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Harrell B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209680"/>
            <a:ext cx="8534160" cy="35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ing of your prom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faithfulnes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enerations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32:1-5, 11-1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220824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sons also for ev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sit up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throne.”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Lord ha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sen Z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as desired 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God’s habitatio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This is my resting pla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ever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re I will dwel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I have desired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abundantly bl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s provision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satisf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s poor with brea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s priests I will clo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salvat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ts faithful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out for jo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 will make a hor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prout for Davi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have prepared a lam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my anoint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enemies I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othe with sha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his crown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ine upon him.”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67652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in David’s fav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member all the hardship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endured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he swore to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vowed to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ghty One of Jacob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26510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I will not enter my hous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 get into my bed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9191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not give slee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my ey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r slumber to my eyelids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ntil I find a pla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dwelling place for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ighty One of Jacob.”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swore to Davi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ure o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rom 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not turn back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e of the so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your bod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set on your thron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your sons keep my coven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y testimon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I shall teach them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6:59:27Z</dcterms:modified>
  <cp:revision>37</cp:revision>
  <dc:subject/>
  <dc:title>Psalm</dc:title>
</cp:coreProperties>
</file>