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31E-E82B-4F5D-B95E-2FBEFC7F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8FB-9397-4A13-B63B-E417D9D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3B1-F84C-4852-8690-6D7B5AF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861-0061-447A-AFC8-71B77995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14B-C8A7-46A5-BD37-1367D97B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19C-B722-4A9D-8F77-FE35CB99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781-C948-4EB5-A91E-DCE6959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06-09D1-4531-917C-BAAD1135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9A8-C91E-4A56-851C-8BBB960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9DC-4BF2-4BCE-91AC-179CF76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DF0-D6E0-4849-8EA7-45CF9DF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658-4FE6-4824-84E4-6B180FDA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FE84-1073-4583-A805-C9C64B8B7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71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w of God is j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ing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8200" y="137160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9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ecept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are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ing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ndment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p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lightening the ey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ear of the Lord is cle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ing for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rdinanc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are tru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 al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0332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o be desi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y than g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much fine go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eeter also than hon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ripping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neycomb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over, by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your servant warn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great re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765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ut who can under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’s own error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r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so keep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insole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n no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minion o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be blamel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nocent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ransgr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Let the words of my mo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medi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cceptable in your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y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redeem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ment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rn wis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0320" y="121932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Bar. 3: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eavens are te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irmament proclai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handi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y to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urs forth spee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ight to n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s knowle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spee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re there word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ice is not hea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their voice goes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all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word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nd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m God has set a t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sun, 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me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bridegro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ving his chamb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uns its course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strong 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rising i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circu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end of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 from its hea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aw of the Lord is perfec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viving the sou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estimon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s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wise the simpl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42:21Z</dcterms:modified>
  <cp:revision>39</cp:revision>
  <dc:subject/>
  <dc:title>PowerPoint Presentation</dc:title>
</cp:coreProperties>
</file>