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819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v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branch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oted in faith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8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Advent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Jn 15:5; Eph. 3: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brought a vi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 of Egyp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drove out the na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planted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cleared the grou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i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took deep roo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ed the l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untains were cove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its sha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ighty ceda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its branch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sent out its branch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sea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ts shoo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ri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9191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then have you brok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wn its wal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at all who pa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uck its fru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boar from the fore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vages 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l that m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field feed on it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rn again, O God of hosts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ok down from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e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ave regard for this vi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tock which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ight hand plan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have burned it with fi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have cut it dow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they perish at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buke of your countenanc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735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let your hand be up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of your right ha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ones whom you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de strong for yourself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we will ne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rn back from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life, and we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ll on your na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 of Abraham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d be God’s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as, and is, and is to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the s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8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1440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Advent &amp; 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rom the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igdal</a:t>
            </a:r>
            <a:br>
              <a:rPr sz="2200"/>
            </a:b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ara. by Thomas Ol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tore us, O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hosts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face shi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be save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57636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ear, O Shepherd of Israe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who lead Josep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 flock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who are enthron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the cherub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ine fort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presence of Ephra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njam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anasse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ir up your m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come to save u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tore us, O Go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face shi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be save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 God of hos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long will you be ang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your people’s prayer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fed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 bread of tea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iven them t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drink in full measu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make us the sco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our neighbo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enemies lau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ong themselv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tore us, O God of host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face shi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be save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1:40Z</dcterms:modified>
  <cp:revision>143</cp:revision>
  <dc:subject/>
  <dc:title>PowerPoint Presentation</dc:title>
</cp:coreProperties>
</file>