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AAC2F-E954-49E8-A461-85030D71CD24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12FEC-4456-41A5-8CBF-521D92E5F72D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C576D-0390-4B29-9409-0D636652A75A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B068E-9636-4F8C-82B1-28FF4F16DF18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4FE39-F7FC-4132-B828-5DEC340F47C0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5DA4E-2B92-4B18-B9EF-19185B3B654B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67B67-5945-4627-9D12-D960DF8CCB6E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59545-FE7A-46FD-B80F-07E9256F4937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fffff"/>
            </a:gs>
            <a:gs pos="100000">
              <a:srgbClr val="ffcc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457200" y="457200"/>
            <a:ext cx="8686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3"/>
          <p:cNvSpPr/>
          <p:nvPr/>
        </p:nvSpPr>
        <p:spPr>
          <a:xfrm>
            <a:off x="0" y="2286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salm 33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0" y="1981080"/>
            <a:ext cx="9144000" cy="2745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Our soul waits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for the Lord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who is our help and shield.</a:t>
            </a:r>
            <a:endParaRPr b="1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33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8"/>
          <p:cNvSpPr/>
          <p:nvPr/>
        </p:nvSpPr>
        <p:spPr>
          <a:xfrm>
            <a:off x="0" y="11430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 1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(Lent, Easter &amp; Trinity) 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Ps. 33:20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0" y="76320"/>
            <a:ext cx="9144000" cy="48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333399"/>
                </a:solidFill>
                <a:latin typeface="Times New Roman"/>
              </a:rPr>
              <a:t>People:</a:t>
            </a:r>
            <a:endParaRPr b="1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 baseline="30000">
                <a:solidFill>
                  <a:srgbClr val="333399"/>
                </a:solidFill>
                <a:latin typeface="Times New Roman"/>
              </a:rPr>
              <a:t>8</a:t>
            </a:r>
            <a:r>
              <a:rPr b="0" lang="en-US" sz="58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Let all the earth fear the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Lord, let all the </a:t>
            </a:r>
            <a:endParaRPr b="1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inhabitants of the world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stand in awe!  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1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3"/>
          <p:cNvSpPr/>
          <p:nvPr/>
        </p:nvSpPr>
        <p:spPr>
          <a:xfrm>
            <a:off x="0" y="2286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salm 33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0" y="1981080"/>
            <a:ext cx="9144000" cy="2745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Our soul waits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for the Lord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who is our help and shield.</a:t>
            </a:r>
            <a:endParaRPr b="1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33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8"/>
          <p:cNvSpPr/>
          <p:nvPr/>
        </p:nvSpPr>
        <p:spPr>
          <a:xfrm>
            <a:off x="0" y="11430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 1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(Lent, Easter &amp; Trinity) 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Ps. 33:20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5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0" y="533520"/>
            <a:ext cx="9144000" cy="39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99"/>
                </a:solidFill>
                <a:latin typeface="Times New Roman"/>
              </a:rPr>
              <a:t>Leader: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9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For the Lord spoke,</a:t>
            </a:r>
            <a:br>
              <a:rPr sz="4800"/>
            </a:b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and it came to be;</a:t>
            </a:r>
            <a:br>
              <a:rPr sz="4800"/>
            </a:b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the Lord commanded,</a:t>
            </a:r>
            <a:br>
              <a:rPr sz="4800"/>
            </a:b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and it stood forth.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0" y="76320"/>
            <a:ext cx="9144000" cy="48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01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664d"/>
                </a:solidFill>
                <a:latin typeface="Times New Roman"/>
              </a:rPr>
              <a:t>People:</a:t>
            </a:r>
            <a:endParaRPr b="1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401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 baseline="30000">
                <a:solidFill>
                  <a:srgbClr val="333399"/>
                </a:solidFill>
                <a:latin typeface="Times New Roman"/>
              </a:rPr>
              <a:t>10 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The Lord brings the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counsel of the nations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to nothing and frustrates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  the plans of the peoples.</a:t>
            </a:r>
            <a:endParaRPr b="1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76320" y="457200"/>
            <a:ext cx="883908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99"/>
                </a:solidFill>
                <a:latin typeface="Times New Roman"/>
              </a:rPr>
              <a:t>Leader: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11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The counsel of the Lord</a:t>
            </a:r>
            <a:br>
              <a:rPr sz="4800"/>
            </a:b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stands for ever,</a:t>
            </a:r>
            <a:br>
              <a:rPr sz="4800"/>
            </a:b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the thoughts of God’s heart</a:t>
            </a:r>
            <a:br>
              <a:rPr sz="4800"/>
            </a:b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to all generations.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2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0" y="76320"/>
            <a:ext cx="9144000" cy="47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00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333399"/>
                </a:solidFill>
                <a:latin typeface="Times New Roman"/>
              </a:rPr>
              <a:t>People:</a:t>
            </a:r>
            <a:endParaRPr b="1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00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 baseline="30000">
                <a:solidFill>
                  <a:srgbClr val="333399"/>
                </a:solidFill>
                <a:latin typeface="Times New Roman"/>
              </a:rPr>
              <a:t>12</a:t>
            </a:r>
            <a:r>
              <a:rPr b="0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5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Blessed is the nation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whose God is the Lord, the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people whom the Lord 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has chosen as a heritage!   </a:t>
            </a:r>
            <a:r>
              <a:rPr b="1" lang="en-US" sz="5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1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3"/>
          <p:cNvSpPr/>
          <p:nvPr/>
        </p:nvSpPr>
        <p:spPr>
          <a:xfrm>
            <a:off x="0" y="2286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salm 33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0" y="1981080"/>
            <a:ext cx="9144000" cy="2745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Our soul waits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for the Lord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who is our help and shield.</a:t>
            </a:r>
            <a:endParaRPr b="1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33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8"/>
          <p:cNvSpPr/>
          <p:nvPr/>
        </p:nvSpPr>
        <p:spPr>
          <a:xfrm>
            <a:off x="0" y="11430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 1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(Lent, Easter &amp; Trinity) 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Ps. 33:20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152280" y="609480"/>
            <a:ext cx="883944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99"/>
                </a:solidFill>
                <a:latin typeface="Times New Roman"/>
              </a:rPr>
              <a:t>Leader: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13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The Lord looks down</a:t>
            </a:r>
            <a:br>
              <a:rPr sz="4800"/>
            </a:b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from heaven,</a:t>
            </a:r>
            <a:br>
              <a:rPr sz="4800"/>
            </a:b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and sees all peoples;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2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0" y="104760"/>
            <a:ext cx="9144000" cy="48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01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333399"/>
                </a:solidFill>
                <a:latin typeface="Times New Roman"/>
              </a:rPr>
              <a:t>People:</a:t>
            </a:r>
            <a:endParaRPr b="1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401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 baseline="30000">
                <a:solidFill>
                  <a:srgbClr val="333399"/>
                </a:solidFill>
                <a:latin typeface="Times New Roman"/>
              </a:rPr>
              <a:t>14 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the Lord sits enthroned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and looks forth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on all the inhabitants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of the earth,</a:t>
            </a:r>
            <a:endParaRPr b="1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152280" y="685800"/>
            <a:ext cx="883944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626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 baseline="30000">
                <a:solidFill>
                  <a:srgbClr val="333399"/>
                </a:solidFill>
                <a:latin typeface="Times New Roman"/>
              </a:rPr>
              <a:t>15 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fashioning the hearts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of them all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and observing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all their deeds.</a:t>
            </a:r>
            <a:endParaRPr b="1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2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76320" y="76320"/>
            <a:ext cx="9067680" cy="44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99"/>
                </a:solidFill>
                <a:latin typeface="Times New Roman"/>
              </a:rPr>
              <a:t>Leader: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Rejoice in the Lor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 you righteous!  Delight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praise, O you upright!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2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0" y="533520"/>
            <a:ext cx="914400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99"/>
                </a:solidFill>
                <a:latin typeface="Times New Roman"/>
              </a:rPr>
              <a:t>Leader: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16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A king is not saved</a:t>
            </a:r>
            <a:br>
              <a:rPr sz="4800"/>
            </a:b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by his great army;</a:t>
            </a:r>
            <a:br>
              <a:rPr sz="4800"/>
            </a:b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a warrior is not delivered</a:t>
            </a:r>
            <a:br>
              <a:rPr sz="4800"/>
            </a:b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by his great strength. 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2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0" y="152280"/>
            <a:ext cx="9144000" cy="46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800" spc="-1" strike="noStrike">
                <a:solidFill>
                  <a:srgbClr val="00664d"/>
                </a:solidFill>
                <a:latin typeface="Times New Roman"/>
              </a:rPr>
              <a:t>People:</a:t>
            </a:r>
            <a:endParaRPr b="1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 baseline="30000">
                <a:solidFill>
                  <a:srgbClr val="333399"/>
                </a:solidFill>
                <a:latin typeface="Times New Roman"/>
              </a:rPr>
              <a:t>17</a:t>
            </a:r>
            <a:r>
              <a:rPr b="0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The war horse is a vain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hope for victory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and despite its great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might it cannot save.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1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3"/>
          <p:cNvSpPr/>
          <p:nvPr/>
        </p:nvSpPr>
        <p:spPr>
          <a:xfrm>
            <a:off x="0" y="2286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salm 33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0" y="1981080"/>
            <a:ext cx="9144000" cy="2745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Our soul waits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for the Lord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who is our help and shield.</a:t>
            </a:r>
            <a:endParaRPr b="1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33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0" y="11430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 1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(Lent, Easter &amp; Trinity) 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Ps. 33:20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0" y="76320"/>
            <a:ext cx="9144000" cy="47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99"/>
                </a:solidFill>
                <a:latin typeface="Times New Roman"/>
              </a:rPr>
              <a:t>Leader: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18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Behold, the eye of the Lord is on those who are faithful and hope for God’s steadfast love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19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to deliver their souls from death,</a:t>
            </a:r>
            <a:br>
              <a:rPr sz="4800"/>
            </a:b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and to keep them alive in famine.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2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0" y="228600"/>
            <a:ext cx="9144000" cy="40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626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333399"/>
                </a:solidFill>
                <a:latin typeface="Times New Roman"/>
              </a:rPr>
              <a:t>People:</a:t>
            </a:r>
            <a:endParaRPr b="1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626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 baseline="30000">
                <a:solidFill>
                  <a:srgbClr val="333399"/>
                </a:solidFill>
                <a:latin typeface="Times New Roman"/>
              </a:rPr>
              <a:t>20 </a:t>
            </a:r>
            <a:r>
              <a:rPr b="1" lang="en-US" sz="5800" spc="-1" strike="noStrike" baseline="30000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Our soul waits for the Lord, who is our help and shield.</a:t>
            </a:r>
            <a:endParaRPr b="1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0" y="457200"/>
            <a:ext cx="914400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Leader: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21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ur heart is gla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the Lor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ecause we trus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God’s holy name.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2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0" y="76320"/>
            <a:ext cx="9144000" cy="49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626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333399"/>
                </a:solidFill>
                <a:latin typeface="Times New Roman"/>
              </a:rPr>
              <a:t>People:</a:t>
            </a:r>
            <a:endParaRPr b="1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626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 baseline="30000">
                <a:solidFill>
                  <a:srgbClr val="333399"/>
                </a:solidFill>
                <a:latin typeface="Times New Roman"/>
              </a:rPr>
              <a:t>22</a:t>
            </a:r>
            <a:r>
              <a:rPr b="0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Let your steadfast love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O Lord, be upon us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even as we hope in you.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1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2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3"/>
          <p:cNvSpPr/>
          <p:nvPr/>
        </p:nvSpPr>
        <p:spPr>
          <a:xfrm>
            <a:off x="0" y="2286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salm 33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0" y="1981080"/>
            <a:ext cx="9144000" cy="2745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Our soul waits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for the Lord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who is our help and shield.</a:t>
            </a:r>
            <a:endParaRPr b="1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33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8"/>
          <p:cNvSpPr/>
          <p:nvPr/>
        </p:nvSpPr>
        <p:spPr>
          <a:xfrm>
            <a:off x="0" y="11430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 1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(Lent, Easter &amp; Trinity) 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Ps. 33:20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3"/>
          <p:cNvSpPr/>
          <p:nvPr/>
        </p:nvSpPr>
        <p:spPr>
          <a:xfrm>
            <a:off x="0" y="2286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salm 33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0" y="23623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soul wai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the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is our help and shield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33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0" y="11430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 1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(Lent, Easter &amp; Trinity) 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Ps. 33:20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3"/>
          <p:cNvSpPr/>
          <p:nvPr/>
        </p:nvSpPr>
        <p:spPr>
          <a:xfrm>
            <a:off x="0" y="1981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aise the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e saints, and sing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he powe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music bring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33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6"/>
          <p:cNvSpPr/>
          <p:nvPr/>
        </p:nvSpPr>
        <p:spPr>
          <a:xfrm>
            <a:off x="0" y="9223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 2 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(General) 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     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Charles Wesley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0" y="76320"/>
            <a:ext cx="9144000" cy="45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664d"/>
                </a:solidFill>
                <a:latin typeface="Times New Roman"/>
              </a:rPr>
              <a:t>People:</a:t>
            </a:r>
            <a:endParaRPr b="1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r>
              <a:rPr b="0" lang="en-US" sz="5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Praise the Lord with the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lyre, make melody to the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Lord, with the harp of  </a:t>
            </a:r>
            <a:endParaRPr b="1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ten strings!</a:t>
            </a:r>
            <a:endParaRPr b="1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2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304920" y="1219320"/>
            <a:ext cx="8839080" cy="40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Rejoice in the Lor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 you righteous!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elight in prais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 you upright!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Praise the Lor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ith the lyr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ake melody to the Lor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ith the harp of ten strings!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3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ing to the Lord a new song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lay skillfull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n the string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ith loud shouts.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304920" y="184320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4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Upright is th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ord of the Lor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ose work is don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 faithfulness.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5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Lord loves righteousnes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justice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earth is full of th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teadfast love of the Lord.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6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y the word of the Lor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heavens were mad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all their host by th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reath of God’s mouth.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7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Lord gathered the water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f the sea as in a bottl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put the deep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storehouses.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304920" y="1552680"/>
            <a:ext cx="8839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8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et all the earth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ear the Lor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et all the inhabitant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f the worl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tand in awe!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9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the Lord spok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it came to be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Lord commande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it stood forth.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304920" y="1552680"/>
            <a:ext cx="8839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0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Lord brings th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ounsel of the nation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o nothing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frustrates th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plans of the peoples.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0" y="609480"/>
            <a:ext cx="9144000" cy="39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99"/>
                </a:solidFill>
                <a:latin typeface="Times New Roman"/>
              </a:rPr>
              <a:t>Leader: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3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Sing to the Lord a new song,</a:t>
            </a:r>
            <a:br>
              <a:rPr sz="4800"/>
            </a:b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play skillfully</a:t>
            </a:r>
            <a:br>
              <a:rPr sz="4800"/>
            </a:b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on the strings,</a:t>
            </a:r>
            <a:br>
              <a:rPr sz="4800"/>
            </a:b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with loud shouts.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2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1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counsel of the Lor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tands for ever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thoughts of God’s hear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all generations.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2"/>
          <p:cNvSpPr/>
          <p:nvPr/>
        </p:nvSpPr>
        <p:spPr>
          <a:xfrm>
            <a:off x="304920" y="184320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2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lessed is the nation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ose God is the Lor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people whom the Lor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as chosen as a heritage!  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304920" y="1919160"/>
            <a:ext cx="8839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3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Lord looks dow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rom heaven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sees all peoples;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4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Lord sits enthrone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looks forth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n all the inhabitant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f the earth,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5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ashioning the heart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f them all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observing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ll their deeds.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6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 king is not save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y his great army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 warrior is not delivere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y his great strength. 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304920" y="184320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7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war horse is a vain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ope for victory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despite its grea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ight it cannot save.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8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ehold, the eye of the Lor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s on those who are faithful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hope for God’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teadfast love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2"/>
          <p:cNvSpPr/>
          <p:nvPr/>
        </p:nvSpPr>
        <p:spPr>
          <a:xfrm>
            <a:off x="304920" y="1370160"/>
            <a:ext cx="883908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9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deliver their souls from death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to keep them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live in famine.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20 </a:t>
            </a: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ur soul waits for the Lor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o is our help and shield.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2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21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ur heart is gla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the Lor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ecause we trus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God’s holy name.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0" y="152280"/>
            <a:ext cx="9144000" cy="46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664d"/>
                </a:solidFill>
                <a:latin typeface="Times New Roman"/>
              </a:rPr>
              <a:t>People:</a:t>
            </a:r>
            <a:endParaRPr b="1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 baseline="30000">
                <a:solidFill>
                  <a:srgbClr val="333399"/>
                </a:solidFill>
                <a:latin typeface="Times New Roman"/>
              </a:rPr>
              <a:t>4</a:t>
            </a:r>
            <a:r>
              <a:rPr b="1" i="1" lang="en-US" sz="5800" spc="-1" strike="noStrike" baseline="30000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Upright is the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word of the Lord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whose work is done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in faithfulness.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1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2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304920" y="2208240"/>
            <a:ext cx="8839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22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et your steadfast lov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 Lord, be upon u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ven as we hope in you.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3"/>
          <p:cNvSpPr/>
          <p:nvPr/>
        </p:nvSpPr>
        <p:spPr>
          <a:xfrm>
            <a:off x="0" y="2286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salm 33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0" y="1981080"/>
            <a:ext cx="9144000" cy="2745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Our soul waits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for the Lord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who is our help and shield.</a:t>
            </a:r>
            <a:endParaRPr b="1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33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8"/>
          <p:cNvSpPr/>
          <p:nvPr/>
        </p:nvSpPr>
        <p:spPr>
          <a:xfrm>
            <a:off x="0" y="11430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 1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(Lent, Easter &amp; Trinity) 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Ps. 33:20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0" y="457200"/>
            <a:ext cx="914400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99"/>
                </a:solidFill>
                <a:latin typeface="Times New Roman"/>
              </a:rPr>
              <a:t>Leader: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99"/>
                </a:solidFill>
                <a:latin typeface="Times New Roman"/>
              </a:rPr>
              <a:t>5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The Lord loves righteousness</a:t>
            </a:r>
            <a:br>
              <a:rPr sz="4800"/>
            </a:b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and justice;</a:t>
            </a:r>
            <a:br>
              <a:rPr sz="4800"/>
            </a:b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the earth is full of the</a:t>
            </a:r>
            <a:br>
              <a:rPr sz="4800"/>
            </a:b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steadfast love of the Lord.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0" y="76320"/>
            <a:ext cx="9144000" cy="49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664d"/>
                </a:solidFill>
                <a:latin typeface="Times New Roman"/>
              </a:rPr>
              <a:t>People:</a:t>
            </a:r>
            <a:endParaRPr b="1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626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6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By the word of the Lord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the heavens were made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and all their host by the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breath of God’s mouth.</a:t>
            </a:r>
            <a:endParaRPr b="1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0" y="380880"/>
            <a:ext cx="914400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99"/>
                </a:solidFill>
                <a:latin typeface="Times New Roman"/>
              </a:rPr>
              <a:t>Leader: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99"/>
                </a:solidFill>
                <a:latin typeface="Times New Roman"/>
              </a:rPr>
              <a:t>7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The Lord gathered the waters</a:t>
            </a:r>
            <a:br>
              <a:rPr sz="4800"/>
            </a:b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of the sea as in a bottle</a:t>
            </a:r>
            <a:br>
              <a:rPr sz="4800"/>
            </a:b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and put the deeps</a:t>
            </a:r>
            <a:br>
              <a:rPr sz="4800"/>
            </a:b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in storehouses.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dan mccay</cp:lastModifiedBy>
  <dcterms:modified xsi:type="dcterms:W3CDTF">2012-03-24T20:45:33Z</dcterms:modified>
  <cp:revision>72</cp:revision>
  <dc:subject/>
  <dc:title>PowerPoint Presentation</dc:title>
</cp:coreProperties>
</file>