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979-6CA1-40A4-8377-2AE3B139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BBB-8988-47AE-BE5A-4C422E97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30E-7499-44D2-8000-68F7EE42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4A2-447D-4B2E-A788-DAAD43AD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1C8-F15A-45CB-9C2D-31B4D0C9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96F-2758-4ED3-8A2D-9EADD9C8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3F0-6E1B-486E-B23D-C83CB248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08D-E0A1-40EF-A770-D421F83C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6DA-851F-498D-8267-F9E27EE1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60E-C222-46C1-9C4A-E8C7604A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E9A-EDFA-45B8-BCC3-E828F96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10A-E133-4645-8F0A-49D06177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2ED4-B4C6-4A8E-8EF0-9DC8A3EF3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lone is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us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2240" y="11430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 T Kimbrough, J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223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who shall abi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tent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dwell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holy hil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ne who wal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amelessly, and do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r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peaks tru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oes not sland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tong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es no evi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 fri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akes up a reproa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a neighbo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ose eyes a reproa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despis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who honor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fear the Lord;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oes not put 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ney at intere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es not take a bri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the innoc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ne who does these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never be mov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5:13Z</dcterms:modified>
  <cp:revision>35</cp:revision>
  <dc:subject/>
  <dc:title>PowerPoint Presentation</dc:title>
</cp:coreProperties>
</file>