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8AD-BB3C-4265-8BAB-0ECC92C4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5DB-7CFE-43AC-BAC5-0E305AD5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970D-5F09-4DF7-B3F2-2A0EB1A5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A73-6F02-4DEB-9DA3-5F711BF8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836-112F-4F30-92BD-B43AF3E9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CA8E-DB72-4275-8A4A-F7E0D23E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9DA-0BAD-4DD6-A3A0-8E863917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CB8-C7F7-43ED-BE6D-2E597988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4FF-A87D-4479-97E6-0CD1F31A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800-B373-43AE-8BEB-C7EA9460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3B1-2447-4CA1-9ED4-521ECDCB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128-C452-401F-931A-8EAD4490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5AFD-6071-4A8B-8F4E-AF43502BF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90920"/>
            <a:ext cx="9144000" cy="203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ope is lo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e life upo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lan Luff  (Ezek. 37:1-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758880"/>
            <a:ext cx="88390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ols say in their hear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There is no God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are corrup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do abominable deed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 is none that does g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looks down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ven on all 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ee if there are 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are wi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eek afte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85724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have all gone astr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are all alike pervers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 is none that does go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, not one.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they no knowledg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vildo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eat up my peo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they eat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o not call up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 they shall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great terro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God is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ener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righteo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would confou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 plans of the po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ut the Lord is their refu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76032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that the deliverance f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rael would co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Zion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stores their fortun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cob shall rejoice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rael shall be glad!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4:59Z</dcterms:modified>
  <cp:revision>32</cp:revision>
  <dc:subject/>
  <dc:title>PowerPoint Presentation</dc:title>
</cp:coreProperties>
</file>