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78:1-4, 9-20, 32b-38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sten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t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ed the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mo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78:1-4, 9-20, 32b-38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78: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rought marvel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s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ir foreb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land of Egyp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fields of Zoa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divided the sea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pass through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de the wat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and like a heap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d them with a clou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dayti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l the n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a fiery ligh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eft rocks in the wilder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ave them drin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undantly as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eep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de streams come ou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rock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aused waters to fl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wn like river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t they sinned still m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gainst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belling against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st High in the dese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tested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ir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demanding the f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crav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spoke again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n God spread a tab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wildernes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74448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deed! God struc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ock so that wat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ushed ou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ams overflowe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n God also give brea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provide me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people?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did not belie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his wonders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God made their d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br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rned their yea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terr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ear, O my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y teaching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cline your ears 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ds of my mout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ever God slew 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ould inqui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fter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pent, and see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earnest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remembered that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their roc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st High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redeem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m they flatter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ir mouth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whom they l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ir tong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heart was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toward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were not tru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God’s coven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t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ing compassion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ave their iniqui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id not destroy them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open my mou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 parabl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utter dar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yings from of o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gs that we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d and know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our forebea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tol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not hide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ir childr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ell to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ing gene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lorious dee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, the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ond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has wrough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phraimites, arm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b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rned back o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y of batt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did not k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covena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refused to wal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cording to God’s la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forgot the dee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iracles that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d shown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1:21Z</dcterms:modified>
  <cp:revision>141</cp:revision>
  <dc:subject/>
  <dc:title>PowerPoint Presentation</dc:title>
</cp:coreProperties>
</file>