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a new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restores the e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9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7043760" y="1752480"/>
            <a:ext cx="1626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98:1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a,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3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914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Easter, Epiphany, Christmas, Genera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the sea roa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all that fills 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world and tho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dwell in i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the flood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lap their hand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the hills sing for jo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gether before the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744480"/>
            <a:ext cx="8839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comes to judg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earth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will judg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worl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righteousnes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he peoples with equity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895480"/>
            <a:ext cx="914400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 to the worl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is 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9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14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2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Epiphany &amp; Christmas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Isaac Wat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576360"/>
            <a:ext cx="8839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sing to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new so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 Lord has don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rvelous things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’s right hand and holy ar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ve gotten the victor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ha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clared victor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has revealed hi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vindication in the sight o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natio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has remembered h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eadfast lo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faithfulnes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house of Isra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220824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e ends of the ear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ve see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victory of our God.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 a joyful noise to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all the earth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reak forth into joyou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ng and sing praise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ing praises to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the lyr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the lyre and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und of melody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47636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trumpets and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und of the hor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ke a joyful noi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fore the Rul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54:44Z</dcterms:modified>
  <cp:revision>182</cp:revision>
  <dc:subject/>
  <dc:title>PowerPoint Presentation</dc:title>
</cp:coreProperties>
</file>