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41F-5171-403E-BE23-BCCFEA5A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E32-E16B-418F-AB29-9E59168E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940-BF36-4C17-9C56-5ADA14F9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5AA-2826-49D8-A6E5-84F13272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A8A-7D05-4B69-B1BD-AE0F1D01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5A2-C5DB-41F1-94D1-3E2A6F5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65A-23D3-4CD6-A004-47391E98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EC6-41F6-476C-B80F-61ED927A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2FA-5274-4D58-A488-2F58E055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4F4-0786-4275-896F-6A58BA50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061-C64C-47F0-9AC8-D535A5B7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19A-A92E-44D1-BDB0-510CD772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29E5-F6AC-4180-9525-58D6C5A52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38:1, 2,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362320"/>
            <a:ext cx="85345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your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teadfast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fill your purpose for 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tretch out your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the wr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enem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right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livers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9270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fulfill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rpose for m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may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endure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 not forsake the wor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hand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37160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give you thanks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my whole hear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e go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ing your prais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ow down towa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holy tem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ive thanks to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me for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and faithfulnes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have exal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r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ve every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day I call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nswered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trengthened my life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rulers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praise you, O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y have hear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ds of your mouth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y shall sing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ys of the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reat is the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65888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hig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regards the lowly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knows the haugh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far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I walk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dst of troub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reserve my lif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1:10Z</dcterms:modified>
  <cp:revision>50</cp:revision>
  <dc:subject/>
  <dc:title>Psalm</dc:title>
</cp:coreProperties>
</file>