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Text Box 5"/>
          <p:cNvSpPr/>
          <p:nvPr/>
        </p:nvSpPr>
        <p:spPr>
          <a:xfrm>
            <a:off x="0" y="1600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aste and se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the Lord is goo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appy are thos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refuge in God!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7"/>
          <p:cNvSpPr/>
          <p:nvPr/>
        </p:nvSpPr>
        <p:spPr>
          <a:xfrm>
            <a:off x="7392240" y="121932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4:8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0" y="922320"/>
            <a:ext cx="605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 &amp; General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76320"/>
            <a:ext cx="914400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33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aste and see that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 is good! Happy ar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se who take refug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God!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76320" y="38088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 fear the Lord,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u his holy ones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or those who fear Go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have no want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33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young lions suff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nt and hunger, bu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se who seek the L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ack no good thing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76320" y="30492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ome, O children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listen to me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 will teach you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fear of the Lor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76320" y="609480"/>
            <a:ext cx="883908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33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ich of you desires lif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covets many day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enjoy good?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6320" y="83808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Keep your tongue from evil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and your lip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from speaking deceit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52280" y="457200"/>
            <a:ext cx="883944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33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epart from evil, and d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od; seek pea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pursue it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380880"/>
            <a:ext cx="88394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eyes of the Lor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re on the righteous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ears of the Lor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hear their cry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6320" y="76320"/>
            <a:ext cx="90676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33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face of the Lord i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gainst evildoers, to cu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f the remembr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m from the earth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52280" y="380880"/>
            <a:ext cx="88394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hen the righteou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ry for help, the Lord hears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delivers them out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f all their trouble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0" y="190512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magnify the Lord with m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me exalt God’s name!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7315920" y="114300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4:3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922320"/>
            <a:ext cx="645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ll Saints &amp; General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320" y="104760"/>
            <a:ext cx="88390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33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is nea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the brokenheart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saves the crush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spirit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6320" y="60948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ny are the afflic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righteo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the Lord delivers them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76320" y="463680"/>
            <a:ext cx="883908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33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keeps all thei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ones, not one of the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s broken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2280" y="609480"/>
            <a:ext cx="88394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vil shall slay the wicked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those who hat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righteou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ill be condemne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49320"/>
            <a:ext cx="9144000" cy="53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33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redeems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fe of his servants; non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ose who take refug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God will be condemn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76320"/>
            <a:ext cx="883944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 will bless the Lor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t all times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God’s praise shall continually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 in my mouth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76320"/>
            <a:ext cx="91440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33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y soul makes its boas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the Lord; let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fflicted hear and be  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la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838080"/>
            <a:ext cx="8839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 magnify the Lord with me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let us exalt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God’s name together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280" y="76320"/>
            <a:ext cx="88394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33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ought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answered 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delivered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rom all my fears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609480"/>
            <a:ext cx="88394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Look to Go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be radiant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o your face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hall never be ashame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76320" y="152280"/>
            <a:ext cx="88390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3300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poor cried ou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the Lord hea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saved them ou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all their troubles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6320" y="53352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angel of th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Lord encamp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round those who fear Go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delivers them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03T02:22:08Z</dcterms:modified>
  <cp:revision>75</cp:revision>
  <dc:subject/>
  <dc:title>PowerPoint Presentation</dc:title>
</cp:coreProperties>
</file>