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93B-7340-45DF-874D-A27BB6EA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27B7-F5ED-48DE-9A08-54866AD9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C35-E339-49F3-8C28-3300CBAE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2F3-8410-4979-8187-EE85FABA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881-79FA-4E8F-9622-4AA316F0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DAEC-FABD-42C6-9353-1A087944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CABF-0B5A-406E-AD3F-D496811D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80BF-91C6-4313-81B7-B4CDB371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1AE4-B74E-4607-8EB8-A6B694A7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9A85-71A9-4F06-A4FA-69F65EF5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7674-A8DC-44F7-AC3B-7CE062D5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4D54-A22A-4A19-91E4-0D16DD52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3BE2-2911-4951-BE82-A7641CD08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ance bel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is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3:8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a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576360"/>
            <a:ext cx="883908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how m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re my foes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Many are rising against 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ny are saying of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“There is no hel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for him in God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561960"/>
            <a:ext cx="8839080" cy="55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you, O Lord, are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hield about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my glory, and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lifter of my h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cry aloud to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ho answers  me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his holy hill.  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lie down and sleep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 wake again, for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ustains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am not afraid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en thousand peop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ho have set themselv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gainst me on every si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820800"/>
            <a:ext cx="883908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ise, O Lor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liver me, O my Go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 strike all my enem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n the chee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you break the tee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f the wick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812960"/>
            <a:ext cx="8839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5000" spc="-1" strike="noStrike" baseline="30000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ance bel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to the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your blessing be up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your people!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0:49Z</dcterms:modified>
  <cp:revision>20</cp:revision>
  <dc:subject/>
  <dc:title>PowerPoint Presentation</dc:title>
</cp:coreProperties>
</file>