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elivers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from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16:19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have delivered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ul from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eyes from tea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feet from stumbling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65104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alk befor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land of the liv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kept my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when I sai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I am greatly afflicte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aid in my constern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All humans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vain hope.”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shall I ret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my benefi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lift up the c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salv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all on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pay my vow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ll his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cious in the s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the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his faithful o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I am your serva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your serv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ild of your handmai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loosed my bo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offer to you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crifice of thanks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all on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up of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l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&amp; Holy Thursday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16: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765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pay my vow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resenc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is peop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courts of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midst, O Jerusalem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428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ov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hea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voic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upplicatio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s inclined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 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ever I call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nares of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compassed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pangs of Sheo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id hold on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uffered distr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nguis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65888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I called 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name of the Lor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I beseec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ve my life!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is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ighteo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God is merci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preser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imp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was brought lo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aved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turn, O my soul, to your res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has deal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untifully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7:35Z</dcterms:modified>
  <cp:revision>286</cp:revision>
  <dc:subject/>
  <dc:title>PowerPoint Presentation</dc:title>
</cp:coreProperties>
</file>