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C05-F135-434B-A854-AE6D9500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319-8048-4671-97FA-408CD83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39E-1B51-4B4B-BCE1-402C2CF0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87C-5B2F-406E-8D9B-EF55D61D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7F7-2827-4A2C-A3F9-C3F8CDF9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CF5-8064-434F-A159-17D2F9C1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F53-7085-48CC-8214-7172B204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64F-D95C-4E68-B321-FD53C763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BFE-9EA0-4F94-B5C3-312D72C0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6E2-93F5-48F0-A19C-4A7C0E8B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6C0-EF3B-44B6-8C7E-418FB22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E74-E7ED-4017-97EC-1FEE98E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689A-D442-44EE-A4C5-2125A4639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9:1-8, 33-48, 129-1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d i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 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 to my path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praise y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upright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lear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observe your statut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orsake 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terl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each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ay of your statut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will keep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ndersta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keep your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bserve it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whole he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 in the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commandme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delight in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my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testimon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ot to gai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my eye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ing at vaniti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e in your 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firm to your serv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om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s for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fear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9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away the reproa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d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r ordina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g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l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r precept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lif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6668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walk at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have s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et your 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alvation accor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promis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shall I have an ans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se who taun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 trust in your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3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ake not the word of tr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tterly out of my mo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y hope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4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keep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w continual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5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shall walk at liber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have s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6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also speak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 before ruler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all no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t to sham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find my de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commandme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432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revere your commandme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medit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statute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9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testimon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wonderfu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my soul keeps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0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unfolding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s gives l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mparts under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sim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3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 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 unto my path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1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pen mouth I p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I long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command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urn to me and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cious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just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love your na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3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steady my ste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ording to your prom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t no iniqu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t dominion over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man oppress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5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your f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ine upon your serv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 me your statut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6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eyes 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s of t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your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not kept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7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are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ight are your judg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8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appointed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all faithfulne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9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zeal consume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my f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et your wor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omise is well tr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servant loves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y is blamel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lk in the la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1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small and despi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I do not forg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righteous for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law is tr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3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uble and angu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come upo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r command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my de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testimon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righteous 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nder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liv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ep God’s testimon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eek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ir whole hear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o also do no w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alk in God’s way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command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ecep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kept diligent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that my ways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steadf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keeping your statut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shall no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t to sh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ing my eyes fix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command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7:26Z</dcterms:modified>
  <cp:revision>18</cp:revision>
  <dc:subject/>
  <dc:title>Psalm</dc:title>
</cp:coreProperties>
</file>