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45C-E4F9-460C-9B6C-3478ED09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B60-5739-4D33-9977-6426A55F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373-5385-413F-8372-927132D7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684-CDE0-4061-AB51-28B9D809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AE6-665B-4F85-9CD9-B22BA76B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06E-4613-4C42-8EAC-D83D6221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845-40E6-4915-AA89-EA75BD07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87A-23DC-41FD-B132-96404522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704-ED97-4A91-9C12-7B342242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0FE-92AF-4358-91D1-BA0D7237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41E-2AA8-4FA4-A190-0011C268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30D-642E-457E-AC54-9AF2D0EF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549B-712F-413E-80BB-1CB47EAEB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0:12-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fend the nee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o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justic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a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ds Response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0:12-1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 T Kimbrough, J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(Ps. 72:1, 4, 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371600"/>
            <a:ext cx="88390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, O Lord; O Go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ift up your h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orget not the afflic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hy do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renounce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say in their hear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“You will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ll to account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735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indeed see, you no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rouble and vex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you may take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to your ha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38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unfortunate comm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mselves to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you have been the help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the orphan.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eak the arm of the wick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evildoe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k out their wicked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ill you find n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73520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Rul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or ever and eve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ations shall per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rom God’s land.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you will h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desire of the mee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will strengt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ir heart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incline your 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238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do justice to the orph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oppress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so that people on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may strike terr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 more.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3:53Z</dcterms:modified>
  <cp:revision>28</cp:revision>
  <dc:subject/>
  <dc:title>PowerPoint Presentation</dc:title>
</cp:coreProperties>
</file>