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A513-8B95-43F0-9A5D-50900722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9B7-336C-4EEC-84CE-96795154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C7D-07AC-446F-BD95-49BBB60E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05F1-D8DB-4F72-9384-2AB42742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B4B-E8E3-4B87-82D4-CEF8F043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1D1-2671-4CDC-BBBB-5CDFE877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6FDA-972F-4BAE-8033-BE09A3EC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9D9-DD8F-4C39-AB44-6EA1B642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6ED-7192-458D-9BD4-CE0600F2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F54-7E60-48BA-8E8D-3B09A938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CC7-6C5F-446C-99E8-A383EFF2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B10-7DF7-4135-8119-EC3719D5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0750-5EAA-41B2-9A9D-5045B4140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Thanksgiving, General)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26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8600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has d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things for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are filled with joy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(Advent &amp; Lent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30:5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36232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eping may tar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comes joy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Lord resto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ortunes of Z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were lik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drea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our mouth w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ed with laught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ur tongu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shouts of joy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they sai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ong the natio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The Lord has d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eat things for them.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has d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eat things for u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gla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Restore our fortunes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the watercour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egeb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w in te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ap with shouts of jo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go forth weep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aring the seed for sowing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come ho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shouts of jo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rrying their sheaves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8:47Z</dcterms:modified>
  <cp:revision>31</cp:revision>
  <dc:subject/>
  <dc:title>Psalm</dc:title>
</cp:coreProperties>
</file>