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209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re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reign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e earth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9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(Christmas, Epiphany, Easter, Genera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97:1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Zion hears and is gla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daught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Judah rejoi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cause of your judgme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, O Lord, are most hi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ver all the earth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exal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r above all go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loves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hate evi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eserves the liv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his faithf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eliver them from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nd of the wick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ght dawns for the righteo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joy for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right in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joice in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you righteo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ive thanks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holy name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0968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every voice and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earth and heaven r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m resound lou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rolling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1921 Edward B. Marks Music Co.; rene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9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James Weldon John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30824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reign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earth rejoi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many coastla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gla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ouds and thick dark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round the Lor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ighteousness and just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the found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God’s thro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re goes befor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urns up his adversar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ound abou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’s lightn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llumine the worl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arth sees and trembl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ountains melt like wax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for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fore the Lord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eavens procla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l the peopl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 God’s glory.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worshipers of imag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put to sh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make their boa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worthless idol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gods bow dow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fore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4:18Z</dcterms:modified>
  <cp:revision>179</cp:revision>
  <dc:subject/>
  <dc:title>PowerPoint Presentation</dc:title>
</cp:coreProperties>
</file>