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C22-3FB9-4144-8BA3-16ED9E22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CBF-B8D5-48CF-A41F-D97D2D0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922-A5F7-413C-9D65-A802E8FE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CF0-EEC7-415C-A450-2198112E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5A5-1896-4E41-90DD-680C113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C6D-24D6-4FF0-955C-F4FC081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DF7-EDCB-4487-A3B2-C45EDFE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BC4-E79F-4ED8-BD8C-C25E6F8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F18-55E8-474E-A40B-0A32DE2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032-215D-4238-AEA8-79C06AD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E05-F973-4A12-A91B-7C80CB9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CEC-D451-483D-BA0A-BB9D095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ED40-1A25-4A22-9785-1635BCAFE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thy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atharina von Schleg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Jane Borthwi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6212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ill you forget me for ev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h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your face from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 must I bear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have sorrow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shall my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exalted over me?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and answ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Lord my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ghten my ey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lest I sl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leep of dea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0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t my enemy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I have prevailed over him”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my foes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cause I am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trusted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teadfast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shall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y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03976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ing to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deal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ountifully with me.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28Z</dcterms:modified>
  <cp:revision>30</cp:revision>
  <dc:subject/>
  <dc:title>PowerPoint Presentation</dc:title>
</cp:coreProperties>
</file>