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62E-F16B-48B1-AF2A-DF76FEC5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D02-63FD-4A99-854C-DC932337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7A5-E346-4746-9931-C0C69B17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566-23D5-4A14-A37E-3FED1C5B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96E-56D1-484A-8DD3-4850358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0F1-09C6-4DBA-B350-F1928EC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0A9-EA0E-4DA9-813E-538953B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DD4-83A2-49B8-8843-52C137B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4AE-C615-400B-9CF4-BD47129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442-C570-4DE6-97B5-EADA4B8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AE0-ABE2-422D-8183-1083BFB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895-DC62-4207-9436-3950323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862-EA39-4D36-B937-2DD1F826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couns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ght in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and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tree tha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ted by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not be mo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42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o not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counsel of the wick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stand in the way of sinn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r sit in the seat of scoff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ir delight i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aw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God’s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y and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y are like tre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planted by streams of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ield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ruit in sea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ir leaves do not wi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ll that they d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prosper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are not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are like chaf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ind drive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526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the wicke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stand in the judgm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r sinners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ngreg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righteou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53960"/>
            <a:ext cx="8839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5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e Lord know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the way of the righteo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way of the wi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will perish.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3:58:33Z</dcterms:modified>
  <cp:revision>19</cp:revision>
  <dc:subject/>
  <dc:title>PowerPoint Presentation</dc:title>
</cp:coreProperties>
</file>