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5460-D972-4AAB-AAA1-F357EFB19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A1A4-70D2-4831-A23E-5A129B1B1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A581-7753-48D5-A977-D0063F84C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532C-1885-4834-BA2D-4A7CAB4C4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C300-E1A7-4238-9921-128087707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5EAC-CC8D-4566-8C55-DA860F857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39D4-6272-46FC-B909-B5AF182FA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8AA7-6762-4F2E-93A8-BA91C9551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CDF0-9AEB-46CC-B42F-1BA72D1E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6741-0AB6-4B73-8AF5-1143F1C6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C82B-BD31-40EE-911F-947D775C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558D-0CEB-4A65-A6A7-B5D1560F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205A5-AFDF-4D0A-A0D2-7B39223BC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57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salm 143:1-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066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1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Lent &amp; General)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lan Luff  (Exek. 37:1-1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514600"/>
            <a:ext cx="8534160" cy="32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hope is los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eathe life upon me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© 1989 The United Methodist Publishing Ho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43:1-10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28600" y="914400"/>
            <a:ext cx="86104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morning let me hea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your steadfast lov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in you I put my trus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each me the way I should go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to you I lift up my soul.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66760" y="1735200"/>
            <a:ext cx="86104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eliver me, O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my enemie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have fled to you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reveng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66760" y="1293840"/>
            <a:ext cx="86104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0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each me to do your will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you are my God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t your good Spiri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ad m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n a level path!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066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2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General)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s. 46: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2590920"/>
            <a:ext cx="85341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is my roc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y salv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trength of my life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43:1-10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6760" y="927000"/>
            <a:ext cx="86104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ar my prayer, O Lor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your faithfulnes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 ear to my supplication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your righteousnes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swer m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nter not into judgmen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your servant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no one liv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s righteous before you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66760" y="1187280"/>
            <a:ext cx="8610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enemies have pursued m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y have crushed my lif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the groun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y have made me si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darknes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ke those long dea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66760" y="184320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refore my spiri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aints within me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heart within m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s appalled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66760" y="1552680"/>
            <a:ext cx="8610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remember the days of ol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meditate on al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you have don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muse on wha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hands have wrough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8600" y="182880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stretch out m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ands to you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soul thirsts for you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ike a parched lan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838080"/>
            <a:ext cx="86104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ke haste to answer me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Lord!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spirit fail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ide not your face from m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st I be like thos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go down to the pi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3T14:00:19Z</dcterms:created>
  <dc:creator>First Baptist Church </dc:creator>
  <dc:description/>
  <dc:language>en-US</dc:language>
  <cp:lastModifiedBy>student</cp:lastModifiedBy>
  <dcterms:modified xsi:type="dcterms:W3CDTF">2001-10-31T17:01:45Z</dcterms:modified>
  <cp:revision>66</cp:revision>
  <dc:subject/>
  <dc:title>Psalm</dc:title>
</cp:coreProperties>
</file>