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CC1-4F6E-43B8-AAF1-684F4307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1B8-7056-4557-9FA9-F966B461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BFB-8E62-4617-8A1D-AC8153AF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443-52B6-42B9-82A6-37DCBF9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3EF-C136-49BA-9F69-4928746F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44B-991B-4752-A1A9-6DB6FF4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8F6-BC53-45C8-A1C8-CBB3A4D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D85-6451-451E-B771-8E562932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846-4399-472A-9E65-7689359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138-F5B0-464E-B5C3-055E837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7CD-8E2D-4741-BD38-35164DE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688-770E-45F4-AA27-DF5336E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DC65-C98D-41F6-888F-6AFB2576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i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 when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 of my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iven me ro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was in distr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hear my pray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my honor suffer sh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vain wor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eek after l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know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as set apart the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God’s ow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call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angry, but do not s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une wit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wn hearts in your be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be si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right sacrific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ut your tru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are many who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O that we m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some go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the light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untenanc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put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oy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n they hav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grain and wine ab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1296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I will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lie down and slee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for you alo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make me li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in safety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16Z</dcterms:modified>
  <cp:revision>21</cp:revision>
  <dc:subject/>
  <dc:title>PowerPoint Presentation</dc:title>
</cp:coreProperties>
</file>