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7B7-4CFC-46E8-9003-511420E1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4A5-F0BA-43B2-B712-5A83AEF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829-0A60-4D0B-A622-B0D3AAE0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AD5-BF20-4F68-BB5C-83817973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647-A894-483D-9DC4-44B7765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BAD-6F1A-4ECF-BEA9-19E296B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070-D475-4FAD-88EC-D1B7D5D7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98B-1190-4B01-9100-4B6C6BC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1A1-FC27-45FA-B2E5-4E1D6B6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DE8-3AB8-46DD-AB35-81EB2DF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CBD-8167-44F1-9B13-2727BED3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0DE-BF22-4233-8C7B-9C1452A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9EC8-D282-4FF5-8628-BEDB79BF9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:11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:11-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: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them in fear, O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they are mortal!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6668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wells in Z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amo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eoples God’s dee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avenge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s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es not forg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cry of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what I suffer from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hate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the One who lift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up from the gates of dea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11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at I may recou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ll your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, in the gat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ughter of Zion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joice in your deliverance.  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nations have su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it which they mad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own foot has b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ught in the n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they h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ade known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 has execu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udgm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icked are snared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work of their own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shall dep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heol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nations that forget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For the needy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always be forgott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hope of the po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hall not perish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not mortals preva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judged before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08Z</dcterms:modified>
  <cp:revision>26</cp:revision>
  <dc:subject/>
  <dc:title>PowerPoint Presentation</dc:title>
</cp:coreProperties>
</file>