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prais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ur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hom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our refu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 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92:15; 18: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you have exalted my ho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that of the wild ox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pou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ver me fresh o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eyes have see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wnfall of my enem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ears have heard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om of 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il assailant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ghteous flouris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the palm tr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row like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edar in Leban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are planted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use of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flourish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urts of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still bring fo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uit in old ag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ever full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p and gre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how that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upr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my rock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whom there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unrighteousnes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94284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good to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ing praises to your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Most Hig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8288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declare your steadf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in the mor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faithfulnes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nigh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music of the lu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har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mel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y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made me gla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your work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t the works of your han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ing for jo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great are your work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thoughts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y deep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ull ones cannot kno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foolish can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derstand thi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gh the wicked spro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gra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evildoers flouri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doomed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struction for e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on high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r enemies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r enem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perish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evildoers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scatte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3:08Z</dcterms:modified>
  <cp:revision>168</cp:revision>
  <dc:subject/>
  <dc:title>PowerPoint Presentation</dc:title>
</cp:coreProperties>
</file>