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276F-63BF-464D-83E5-8AA07343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8DC-F110-49E4-BFDE-38E2CA16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FD66-B77A-49D2-9B26-237F9C78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046-8FEB-4043-B68A-C5A5C0ED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AF2-32B6-4B17-AFCC-106538BD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F07-5F6C-451A-B1E7-FC08FAB5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A2B-DFB1-43F7-95E8-F6E8B3C7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7CA-863E-430B-9C1C-58FC8A9C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8D1-3DA6-454C-ABEF-1CB59981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5F3-70F9-4C74-967B-83D77F35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675-A845-459D-A1BA-26874F37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E6F-0926-4DC1-8575-7AA3E678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531C-EDC1-4AF0-828D-03E0FB1F4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(Lent, Funerals/Memorial Services,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General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20:1-2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3623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distr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ry to the Lor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Deliver me, O Lord.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29384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 of the depth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ry to you, O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hear my voic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your ears be attenti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voic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upplication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f you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ould mark iniquiti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ho could stan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re is forgive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you m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worship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wait for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oul wai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Lord’s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op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oul waits for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re than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tch for the mor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re than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tch for the morn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 Israel, hope in the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ith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Lord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lenteous redemp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Lord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deem Isra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all iniquitie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9:05Z</dcterms:modified>
  <cp:revision>33</cp:revision>
  <dc:subject/>
  <dc:title>Psalm</dc:title>
</cp:coreProperties>
</file>