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0CA7-DB8D-46D4-BDB4-CCE893ED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6249-3273-4B57-9EF4-9A287D5B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4907-69C3-4233-B5F4-F3235758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4324-CB39-4BA9-91E0-FCEF6B0D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B7B8-5021-441B-9273-9E32D02E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A11B-CDD9-47B0-9C54-15E82DFE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1C84-339B-4752-A2BF-58BA187A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D0BF-7B88-445F-8CD2-9EBD6159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6884-2BF0-4E0B-950F-003BF58D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7E58-E3EE-4B5A-9AAB-095482AD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622-9D05-44D1-9DAE-25705C22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F3EF-ECB4-4466-B341-29945A6C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3481-06A3-405F-83F1-939C17CFD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Advent &amp; General)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James Montgom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43828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il to the Lord’s Anoin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Davi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er Son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2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or the sake of m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latives and friend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s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Peace be within you!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220824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sake of the hou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Lord our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seek your good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22:6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a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7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286000"/>
            <a:ext cx="8534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 for the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rusale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your wa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eac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2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29384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as glad when the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id to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Let us go to the hou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Lord!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feet were stand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in your gat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Jerusalem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Jerusalem is built as a ci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s bou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rmly together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which the tribes go up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tribes of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give thanks to the 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as decreed for Israe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nes for judgmen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re set ther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thrones of the hou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David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Pray for the pe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Jerusalem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 they prosp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love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eace be within your wall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ecurit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in your towers!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6:58:06Z</dcterms:modified>
  <cp:revision>26</cp:revision>
  <dc:subject/>
  <dc:title>Psalm</dc:title>
</cp:coreProperties>
</file>