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0C1-650C-40A5-B0CB-7F0F3552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C29-3646-4D6C-9550-D3054FAF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491-291A-4AFA-B536-D0DF6441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415-9B8B-48A6-A1EF-20C2ECFE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739-839F-4F49-87CA-3FC0FFEE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66B-0BFA-4E64-9254-D4D98F50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799-BC6D-42BD-881F-E661F68D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A5F-BC42-4E3C-B99E-88004917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8E2-6A12-4F29-AA70-3E2CF006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36D-48DD-4A69-B0A9-3C1490C9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D26-BAFA-430E-ACEE-3CBD560C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941-AFA9-41F0-BC27-00F30EE1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B69D-3527-432E-9218-7DBF35E89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MODERN AFFI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523880"/>
            <a:ext cx="8458200" cy="423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asto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 Spirit of the Lord i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the one true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postolic and universa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holy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now decl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odern Affi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455760"/>
            <a:ext cx="853416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astor and People: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God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finite in wis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wer, and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mercy is o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is wor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ose will is ever direc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is children’s g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of God and Son of m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ift of the Father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failing gr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ound of our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promise of 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iverance from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e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 divine pres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liv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52680"/>
            <a:ext cx="82296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by we are kept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rpetual remembr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truth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ind strength and hel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ime of ne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that this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ould manifest itsel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ervice of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set forth in the exam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our blessed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 kingdom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come up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4:14Z</dcterms:modified>
  <cp:revision>40</cp:revision>
  <dc:subject/>
  <dc:title>PowerPoint Presentation</dc:title>
</cp:coreProperties>
</file>