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FC91-4C62-4EBD-B726-D1C8E3FFA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rvice is for groups as they end their day in pr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of the Light – A candle may be lit in the midst of the community.  The following may be sung or spok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ese prayers, all may sing: “Hear Us, O God”, “Jesus, Remember Me”, “Let Us Pray to the Lord”, “Remember Me”, or “This Is Our Pray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568-967D-430B-858D-39F4617C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4D6-D87D-41CE-A841-079E9B3A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633-EBA2-4759-A0A6-5D75A148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37C-7DA7-4A58-BB46-F35DC7D3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7BD-C8F7-49AB-AC67-262B7C94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B49-95B7-460E-B88C-F3003D47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6FD-D53D-4A9A-BD6E-163C26A0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0C8-08F5-4C4D-AC8F-6967530A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C2E-8E7B-4891-989E-C6A3258D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7173-AF3A-4EE8-9925-3B46DA31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4B0-6233-4007-9773-0C694D7F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874-D880-49A9-8664-5E0C3B29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A9DD-6E8E-462C-8015-9F89CA19F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ORDER FOR EVENING PRAIS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971800"/>
            <a:ext cx="85341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ght and peace in Jesus Chris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be to G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Evening Praise and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clamation of the Ligh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057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CLAMATION OF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447920"/>
            <a:ext cx="853416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hurch universal–i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ers, its members, it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ssion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1447920"/>
            <a:ext cx="85345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saints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54480" y="276876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2133720"/>
            <a:ext cx="8763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Jesus Chris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fold you this nigh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in peac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be to G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1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838080"/>
            <a:ext cx="8534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raise and thank you, O God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are without beginn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thout 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Christ, you crea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hole worl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preserve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made the day for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ks of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night for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freshment of our mi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bod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ep us now in Chris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us a peaceful even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night free from si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ring us at la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eternal lif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003320"/>
            <a:ext cx="853416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Christ and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offer you all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nor, and worshi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990720"/>
            <a:ext cx="883908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gether, let us pray f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eople 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congregation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447920"/>
            <a:ext cx="8534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suff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ose in troubl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676520"/>
            <a:ext cx="8534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ncern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local community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523880"/>
            <a:ext cx="8534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ld, its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s leaders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26T18:16:51Z</dcterms:modified>
  <cp:revision>100</cp:revision>
  <dc:subject/>
  <dc:title>Psalm</dc:title>
</cp:coreProperties>
</file>