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82E-3794-466D-AE34-5BC6FCDA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703-3454-4DF9-A282-916CFBE9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649-4FCE-4C63-8043-AA340A5E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BBF-4DB8-4777-814F-26D48DFE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5C6-C775-4D16-80B2-06DD353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517-F8BE-4C23-AE2E-8913EAFB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B8F-0AB5-4CF1-9866-955AADD0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24C-41FD-410B-91AB-4AEBFD19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C3C-2006-4C48-881B-B48AA571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661-E892-4576-BA34-64269F27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BC4-5DAD-445A-901E-A77A7EEB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C6F-342A-4E1D-BA94-1F00270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1EE6-06BE-4D14-8D62-95BDEE09C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CHRISTIA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RRI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9040" y="1752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NT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iends, we are gathered toge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ight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witness and bless the joining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gether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ian marria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e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22096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76212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love her, comfort 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nor and keep 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saking all oth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faithful to 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long as you both shall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28600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arriage of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ites their famil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reates a new o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sk for your bless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of the Families and Peo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040" y="7621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SPONSE OF THE FAMILIE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joice in your un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pray God’s bless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all of you, by God’s gr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everything in your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phold and care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se two per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ir marri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82880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all peo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the true 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llumining everyo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how us the 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ruth, and the l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love us even w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disobedient.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ustain us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Holy Spiri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rejoice in your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midst of our li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ise you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esence with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especially in this ac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olemn covenan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828800"/>
            <a:ext cx="85341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ternal God, creator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rver of all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uthor of salv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r of all grac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ercessory 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990720"/>
            <a:ext cx="84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ERCESSORY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 and sancti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your Holy Spirit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ome now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in in marria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venant of marria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established b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reated us male and fema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each o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they may 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vows to each 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trength of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able them to gr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ove and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you and with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ir day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370160"/>
            <a:ext cx="85341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y may reach 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oncern and serv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worl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762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MARRI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9092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 you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my wif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xchange of Vows [husband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040" y="1752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CHANGE OF V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ave and to h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forwa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better, for wor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richer, for poor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ove and to cheri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we are parted by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my solemn v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ake you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my husban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xchange of Vows [wife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ave and to h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forwa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better, for wor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richer, for poor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ove and to cheri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we are parted by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my solemn v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ngs (symbols)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outward and visible sig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an inward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iritual grac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essing and Exchange of Ring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 AND EXCHANGE OF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his presence and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graced a wed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Cana of Galil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his sacrificial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ve us the example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ve of husband and w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ifying to us the 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twee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is chur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, O Lord, the g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se rings (symbols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y who wear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live in your pe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73520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ontinue in your fav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days of their lif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give you this 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 sign of my v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th all that I a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that I ha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onor you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Holy Spir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1720" y="914400"/>
            <a:ext cx="59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ECLARATION OF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828800"/>
            <a:ext cx="845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declared your con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vows before God and thi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gregatio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God confirm your coven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ill you both with gr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06668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th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given them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ach other b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emn vows, with th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ining of hand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[and the giving and rece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ings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eclaration of Marri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040" y="990720"/>
            <a:ext cx="830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nnounce to you that the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husband and wif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Holy Spir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73520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m God h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ined toge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no one put asund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22860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so consecra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venant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ian marri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essing of the Marri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 OF THE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 to give them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holy covena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n it is represen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venant between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is churc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d therefore your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Na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y may sure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their marriage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 grow in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odliness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73520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ir home may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haven of blessing and pea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609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NDING F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81952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the Eternal keep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ov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the peace of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abide in your h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1828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to serv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r neighb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that you 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ar witness to the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 in this wor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those to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ve is a strang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find in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ous frien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101680"/>
            <a:ext cx="8534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wa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Pea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609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CLARATION OF IN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666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sk you now, in the pre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 and these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clare your intenti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nter into 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one an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eclaration of Inten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ECLARATION BY THE MA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AND THE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grac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alls you into 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himsel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cknowledg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bapt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219320"/>
            <a:ext cx="8534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hav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your husba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ive together in holy marri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6212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love him, comfort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nor and keep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saking all oth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faithful to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long as you both shall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hav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your w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ive together in holy marri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7:53:07Z</dcterms:modified>
  <cp:revision>79</cp:revision>
  <dc:subject/>
  <dc:title>Psalm</dc:title>
</cp:coreProperties>
</file>