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6290-17B2-4000-B52F-901F46278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54E6-B59D-4CC5-ABD0-E3C51C349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8043-5DE0-4650-964C-AB31F96AD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E224-87E2-47AD-AFB2-5C8DEE4CB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F93A-5CC0-410F-8163-949867EB0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10F6-D2F8-46D0-AD7C-D4ED5AD03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B13F-76D8-4F6E-9A8A-9B798E212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78C0-9CFE-4B44-ADAB-49BB66526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6462-DB74-4931-9D0E-E23830B19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5B1E-F8EF-49BD-ACD5-E345CB2C4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62F3-050E-4754-9400-030FDF56B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5DCC-3871-42A4-9B35-31017E0CF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10E08-3ED8-4780-A200-0B1CC3115D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PRAYER OF CONFESSION,</a:t>
            </a:r>
            <a:br>
              <a:rPr sz="3200"/>
            </a:b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ASSURANCE, AND PARD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3080" y="1919160"/>
            <a:ext cx="845820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4683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lmighty an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ost merciful Go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have erred and strayed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rom thy ways like lost sheep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ayer of Confession, Assurance, and Pard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238880" y="380880"/>
            <a:ext cx="1600200" cy="70344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89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66760" y="1552680"/>
            <a:ext cx="861048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have followed too much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devices and desire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f our own hearts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have offended agains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y holy law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66760" y="1187280"/>
            <a:ext cx="861048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have left undon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ose things which we ough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o have don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we have don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ose things which w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ught not to have don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1919160"/>
            <a:ext cx="853416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ut thou , O Lor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ave mercy upon us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pare thou those, O Go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o confess their fault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04920" y="1476360"/>
            <a:ext cx="853416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Restore thou thos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o are penitent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ccording to thy promise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declared in Christ Jesu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ur Lor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380880"/>
            <a:ext cx="8534160" cy="5943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grant, O most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erciful Go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or his sak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at we may hereafter live a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godly, righteou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sober life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o the glory of th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oly name.  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04920" y="927000"/>
            <a:ext cx="8534160" cy="4861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f we confess our sin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od is faithful and jus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will forgive our sin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cleanse us from all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unrighteousnes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student</cp:lastModifiedBy>
  <dcterms:modified xsi:type="dcterms:W3CDTF">2001-10-26T18:30:01Z</dcterms:modified>
  <cp:revision>58</cp:revision>
  <dc:subject/>
  <dc:title>PowerPoint Presentation</dc:title>
</cp:coreProperties>
</file>