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EF5-90BA-4168-841E-2F3228FB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1A4-7ECB-44F7-8162-E8830395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99B-D63C-465E-B4BD-4A353C51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849-A5EA-4419-AEBD-3D61B437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8D3-9473-4124-8F12-F196409B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29D-2E86-4FA2-B581-E390C82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A83-B088-4B3C-81DD-5C71955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1BE-DD0C-47D2-9C79-A61129FE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0E6-3E4A-4AE7-B6E6-E7A6988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542-33E1-4A28-87A4-21D51D5B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F0C-BD0A-4DB3-B78A-7E03280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08E-E55A-42C4-8224-7354643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AC9-00D5-44C4-A77A-4AC12D12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3716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d against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ught, word,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what we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w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ft un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our whole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 as oursel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ruly sor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umbly rep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on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give us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de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alk in your way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y 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all your sin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you in all good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power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you in eternal lif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48Z</dcterms:modified>
  <cp:revision>56</cp:revision>
  <dc:subject/>
  <dc:title>PowerPoint Presentation</dc:title>
</cp:coreProperties>
</file>