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F76-A0A6-466B-9B3F-8011E2E8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E52-09C5-44E1-B327-E154E522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DD8-36F1-4ACC-9683-A1FE6599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63D-C89C-4E5E-BCA5-8AEA73AB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6B0-F0E4-40CB-B55C-A5C2602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2AA-4830-40B6-B5C7-8CBB0BA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302-39DF-47E3-BFA6-AB6007AC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63C-637A-4CAF-9230-325DD5E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5EE-DC87-4325-A573-8F89C6D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BDF-C258-4AE6-AA6B-C731ECD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A2E-3943-4ACF-97C6-6C25BFD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8D1-5114-4305-A72A-1B6D8C9B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02A-A0D9-4D81-9486-FD4BF0C3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 KOREAN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76520"/>
            <a:ext cx="8763120" cy="489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and sustainer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of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rce of all goodnes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uty, all truth 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ean Methodist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manifest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teacher, exam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deem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vior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present with us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ance, fo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streng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orgiv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ife of love and pray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grace equal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y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Wor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ined in the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ew Testa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sufficient ru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faith and of pract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unite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ing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purpose of worshi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reign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will realiz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uman socie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family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we are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inal triump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life everlasting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3:09Z</dcterms:modified>
  <cp:revision>31</cp:revision>
  <dc:subject/>
  <dc:title>PowerPoint Presentation</dc:title>
</cp:coreProperties>
</file>