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F15F-A54F-4E12-8446-6DF08629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44C-2C5B-4D05-9B1C-A1EA7B64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9F14-2BAF-4EB3-9741-6B7D1611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90DF-C2CA-4540-8158-BAA716A3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09D-70A7-416A-86FF-47E26B89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64F0-C5F7-4E5F-BF94-DAFCA5D2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153D-3C9B-48EF-9FE6-56D1EB4F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3E2-5F71-4356-A558-B23F9377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A642-7DC8-4C7A-9540-03B110BB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794-0BD8-4F8D-9BD2-DC980C05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068-38C5-4D40-9D42-233DBEB3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88D-0B29-4612-BF56-ABFABBA2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A31E-5381-4EFE-95FF-0C28C5952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2133720"/>
            <a:ext cx="883944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Father, who art in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llowed be thy nam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kingdom co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will be do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earth as it is in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Former E.U.B.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0160" y="1014480"/>
            <a:ext cx="80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ROM THE RITUAL OF THE FORMER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VANGELICAL UNITED BRETHREN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43800" y="380880"/>
            <a:ext cx="129528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us this da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daily brea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give us our deb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we forgive our debtor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8208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ead us not into tempt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deliver us from evi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ine is the kingd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power and the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ever. Am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37:47Z</dcterms:modified>
  <cp:revision>20</cp:revision>
  <dc:subject/>
  <dc:title>PowerPoint Presentation</dc:title>
</cp:coreProperties>
</file>