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A361-C66A-4922-98CF-722D66CB1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rvice is for groups as they begin their day in pr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o Praise and Prayer – Sung or spok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or other prayer of thanksgiving may be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or other prayer of thanksgiving may be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or other prayer of thanksgiving may be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ese prayers, all may sing: “Hear Us, O God”, “Jesus, Remember Me”, “Let Us Pray to the Lord”, “Remember Me”, or “This Is Our Pray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3E5-3BB2-4CA6-96D2-24CA81B2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104-10EC-4594-A28A-F738F435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8D1-B576-40AF-8181-DA7549DA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6B9-D691-4262-AD47-5D38711D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B5A-608E-48C2-AE50-1D19B443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B01-6592-4694-B02E-21285330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EDB-74EE-485A-AC05-5481DB52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BDD-7BEB-4B25-9734-3D25ED15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28B-D38F-4495-B425-4CA22545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036-FBFA-4C75-8ECC-BCC34124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D02-60DB-4A15-BEFB-0E164DEF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C07-6EFE-4FA6-96B4-3E1586E8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FE6A-1218-449B-BFBB-F9FB8D14D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ORDER FOR MORNING PRAI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971800"/>
            <a:ext cx="8534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pen our li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shall decl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ai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all to Praise and 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04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ALL TO PRAISE AND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ank [The Lord’s Prayer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54480" y="27687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2762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e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every morning is your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God of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day long you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ing for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of Thanksgiv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OF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71440"/>
            <a:ext cx="85341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r up in us desire to serve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ive peacefully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neighbo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evote each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Savior,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23880"/>
            <a:ext cx="85341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gether, let us pray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opl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ongregation . .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s of the Peo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S OF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52388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suff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ose in troubl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37160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ncern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local community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37160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, its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s leader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143000"/>
            <a:ext cx="8534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urch universal–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ers, its members, i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ssion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52388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aint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8:05:38Z</dcterms:modified>
  <cp:revision>97</cp:revision>
  <dc:subject/>
  <dc:title>Psalm</dc:title>
</cp:coreProperties>
</file>