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E63-F280-4E86-9ED8-0DAAA876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83C-B286-4418-B5B4-9D9DC124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A3B-7B45-44AA-B23F-53643D4A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C1D-A43F-426A-B046-734E25DC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348-FB85-4C10-ACD2-9F4360AA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438-0A99-451C-AEF1-187E0161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5DE-2D27-43F7-9940-6D93EE1A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E8B-BB7E-4059-BF36-E1B5444E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C65-CE73-4CDE-933C-E72FE5EC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D52-809F-4BE8-B539-6CBF98C7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608-9C52-4870-9048-1D410C3D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660-CFE7-434D-8D1D-533B1B85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F6F0-DCDD-4F48-A876-29D221AA0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FFIRMATION FROM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 TIMOTHY 2:5-6; 1:15; 3: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828800"/>
            <a:ext cx="8458200" cy="470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on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re is one mediat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Jes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ame as a ransom for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whom we testif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rmation from 1 Timothy 2:5-6; 1:15; 3: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722600"/>
            <a:ext cx="861048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e saying is sur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worthy of full acceptance: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at Jesus Christ came into th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orld to save sinners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as manifested in the fle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ndicated in the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en by ange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claimed among the nation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ieved in through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n up in glor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indeed is the myst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gospel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8:03Z</dcterms:modified>
  <cp:revision>54</cp:revision>
  <dc:subject/>
  <dc:title>PowerPoint Presentation</dc:title>
</cp:coreProperties>
</file>