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4CC-E539-484B-8264-C3258ACA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DF1-1CCC-4DE2-A6E5-476F0C28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B9B-7D89-4527-86BA-B6D42741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772-215C-4688-B7EE-04A887BF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40E-AD4A-42E0-81A5-64ADB361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032-4995-485A-9F4E-2658C9ED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E6A-F525-4E47-BF29-B4B52A25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AF5-FA36-4CA6-B650-C9C1EF9C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D48-7128-4B70-9533-3E20E6C2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668-8E18-49CE-8E83-AC91C918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BCD-38FE-4149-85B9-13A016B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759-C4F1-4852-8402-0729AB7B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714E-46D9-4DC8-BEF4-393845186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 CORINTHIANS 15:1-6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ND COLOSSIANS 1:15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133720"/>
            <a:ext cx="84582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32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the good ne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we have receiv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ich we st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which we are sav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1 Corinthians 15:1-6 and Colossians 1:15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647640"/>
            <a:ext cx="8610480" cy="559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hrist died for our sin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as burie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as raised on the third day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appeared first to the wome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n to Peter and the Twelve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then to many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aithful witnesse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Jesus is the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nointed On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born of all cre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born from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d togeth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the fullness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pleased to dw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power of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is the head of th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the blood of the cro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onciles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od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7:22Z</dcterms:modified>
  <cp:revision>50</cp:revision>
  <dc:subject/>
  <dc:title>PowerPoint Presentation</dc:title>
</cp:coreProperties>
</file>