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112-2B1D-47C1-905E-DF79D593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BB5-0367-42E1-BCC8-83BF2ACE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34E-0B36-427E-8B27-F6615C6B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A61-B4E9-4C31-B21A-63CC45E8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B15-3124-49B9-95B4-014E2A77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058-F1C4-4003-8E08-9DE8D01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EA1-28EE-448A-A8B6-C8B51BA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BEB-799B-41AA-BD32-F460061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0D0-9AF3-46AB-8398-E362D02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B29-4CA5-4C2B-8879-601BD73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4A2-912D-4FA2-8A1C-E950EEA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D25-AE37-4201-8DC6-834829F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30B-642A-4B50-852D-380EC52C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WORLD METHODIST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CIAL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9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all peop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arnate among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and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© 1986 World Methodist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Methodist Social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it ourselves individua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commu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ay of Chr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52680"/>
            <a:ext cx="86108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ake up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abundant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huma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truggle for pea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 and freedo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isk ourselv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, hope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ying that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dom may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kingdom com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t is in heaven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t with us to gu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, and com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elie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help our unbelie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every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’s kingdom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upholding of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gnity and commu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expression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, and reconcili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ach act of self-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behalf of oth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abundance of God’s gif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trusted to us that all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enoug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responsible 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’s resour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God on hig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earth,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8208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nfess our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vidual and collectiv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silence or actio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viol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dig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d on race, class, a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x, nation, or fai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explo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greed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fferen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misuse of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ersonal, commun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tional, and international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ea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ecu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ose militar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conomic for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reaten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isten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ab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echnolog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endangers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life upo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06Z</dcterms:modified>
  <cp:revision>44</cp:revision>
  <dc:subject/>
  <dc:title>PowerPoint Presentation</dc:title>
</cp:coreProperties>
</file>