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E510-11DD-4175-A71F-6FFF52392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4E4C-9DD4-4BCE-AD6A-C5D111DDE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E754-3201-41AC-AC8C-5210ADFBE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F37A-3C71-46A6-AD4F-07CE07651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1A0E-D527-48ED-9D82-09D922297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2B4D-0122-4DC2-B8E1-FE34F5C4D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A45F-F972-471C-BF5A-665DE38B6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F24C-F072-4D8E-9AB7-E71C9152C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405D-B264-46BF-92AE-01B57DAA7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DAE6-D591-43C3-9B4E-017ACB4C1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4447-4FA4-4561-8CFA-1DB9712BB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2FDD-2C9A-4907-BDFE-D0E85B521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D58EF-0C94-40AE-AA8C-DBE1A9002E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A STATEMENT OF FAITH OF THE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UNITED CHURCH OF CAN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2444760"/>
            <a:ext cx="876312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4683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are not alon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live in God’s worl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tatement of Faith of th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ted Church of Cana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543800" y="380880"/>
            <a:ext cx="1295280" cy="7034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8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5638680"/>
            <a:ext cx="79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y permission of The United Church of Can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820800"/>
            <a:ext cx="8534160" cy="521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believe in God: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has created and is creating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has come in Jesu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Word made fles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reconcile and make new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works in us and other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y the Spiri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552680"/>
            <a:ext cx="853416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trust in God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are called to be the church: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celebrate God’s presenc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love and serve other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seek justice and resist evil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2284560"/>
            <a:ext cx="8839080" cy="22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proclaim Jesu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rucified and rise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ur judge and our hop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552680"/>
            <a:ext cx="853416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life, in deat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life beyond deat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od is with us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are not alone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anks be to God. 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6T18:22:11Z</dcterms:modified>
  <cp:revision>37</cp:revision>
  <dc:subject/>
  <dc:title>PowerPoint Presentation</dc:title>
</cp:coreProperties>
</file>