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DFC1-0929-4364-A737-5FEF6043E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0F4F-50E9-49B4-B1EC-BED580B4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C14A-16AC-41FF-8340-475CB65AB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207C-9920-4D1B-BAF9-1298B326B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F525-788C-4FD6-8073-22BD3DAF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697B-049C-4F78-94A4-1F0D1760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B4F3-672F-426B-9D1B-E008D38E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8034-A73C-4920-A76D-E5EEF320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0BDA-13C9-43FE-B448-1F1BB7E1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DBAA-A887-4AB7-84A9-50AC0672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07D4-CC29-49C8-BA7B-4044163E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867E-9CAB-417B-858D-69AFD007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EEE4-017E-409E-9DF4-7EEA0048A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SERVICE OF DEATH AN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ESURR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447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ENT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97180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ying, Christ destroy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r death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ising, Christ restored our lif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rist will come again in glor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Death and Resurrec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atheri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21337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GATH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820800"/>
            <a:ext cx="8534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come together in grief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cknowledging our human los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y God grant us gra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in pa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may find comfor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sorrow hop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death resurrec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917720"/>
            <a:ext cx="853416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pra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Death and Resurrec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ay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9040" y="6858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820800"/>
            <a:ext cx="8534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God, who gave us birt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are ever mo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ady to hea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 we are to pray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know our need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fore we ask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our ignorance in ask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 to us now your grac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as we shrink befo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mystery of deat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may se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ight of eternit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peak to us once mo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solemn messag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life and death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lp us to live as tho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are prepared to di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when our days here a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ccomplished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nable us to die as tho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go forth to li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 that living or dy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 life may be in you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at nothing in lif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r in death will be able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parate u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your great lo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Christ Jesus our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ternal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praise you for the grea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mpany of all tho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have finished thei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urse in fai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now rest from their labo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praise you for tho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ar to us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m we name in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ts before you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specially we praise you fo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m you have graciousl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ceived into your presence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To all of thes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rant your peac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in baptism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ut on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in Christ may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clothed with glor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perpetual ligh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ine upon them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help us so to belie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re we have not se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your presence may lea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s through our years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4920" y="820800"/>
            <a:ext cx="8534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bring us at la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the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to the joy of your ho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 made with hand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eternal in the heaven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 Jesus Christ our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4920" y="820800"/>
            <a:ext cx="8534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y God, before you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ts are op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from you no secre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re hidden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bring to you no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 shame and sorro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our sin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Death and Resurrec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nfess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forgotte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our life is from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unto you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neither sough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r done your wil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not been truthfu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our heart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our speech, in our lives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not lov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we ought to lov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04920" y="820800"/>
            <a:ext cx="8534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lp us and heal u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aising us from our sin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to a better lif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we may end our day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peac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rusting in your kind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nto the end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 Jesus Christ our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lives and reigns with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unity of the Holy Spiri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e God, now and for ever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is in a position to condemn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ly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rist who died for 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rose for 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reigns at God’s right h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prays for u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04920" y="2284560"/>
            <a:ext cx="853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nks be to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gives us the victo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our Lord Jesus Chris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4920" y="167652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t of the depths I cr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nto thee, O Lord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, hear my cry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thine ears be attenti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voice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supplica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Death and Resurrec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salm 13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040" y="6858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SALM 1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re and now, dear friend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are God’s children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we shall b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s not yet been revealed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f thou, Lord, shoul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rk iniquiti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, who could stand?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there is forgive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the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thou may be feare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ait for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soul wait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in his word do I hope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soul waits for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re than those who watc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 morn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820800"/>
            <a:ext cx="8534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Israel, hope in the Lord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with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great mercy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him is plenteou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demptio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he will redeem Israe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all their sin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198108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is my shepher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shall not want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 maketh me to lie dow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green pastures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 leadeth me besid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still water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Death and Resurrec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salm 2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121932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SALM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04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ROCLAMATION AND RESPO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 restoreth my soul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 leadeth me in the path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righteous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his name’s sak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4920" y="820800"/>
            <a:ext cx="8534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ea, though I walk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 the valley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dow of deat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 fear no evil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ou art with m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y rod and thy staf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comfort m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ou preparest a tabl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fore 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presence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ine enemie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ou anointest my head with oi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cup runneth ov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urely goodness and merc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ll follow 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of the days of my life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I will dwell in the hou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Lord for ev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220968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of us al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love never end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all else fail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still are Go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Death and Resurrec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MMENDAT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9040" y="12193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9040" y="4572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OMMEND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pray to you f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e another in our ne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for all, anywher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mourn with us this da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we know tha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he appea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shall be like hi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we shall see him as he i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ose who doubt, give light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ose who are weak, strength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all who have sinned, mercy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all who sorrow, your peac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eep true in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ve with whic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hold one another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all our ways we trust you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1003320"/>
            <a:ext cx="853416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o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your church on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n heav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offer honor and glor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w and for ev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160020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God, all that you ha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n us is your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first you gav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o 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now we giv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ack to you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ceiv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n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arms of your mercy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ais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up w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your peop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638280"/>
            <a:ext cx="853416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ceive us also, and raise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to a new lif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lp us so to love and ser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in this worl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we may enter in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joy in the world to com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to your hand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merciful Savio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commend your serva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cknowledge, we humbl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seech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sheep of your own fol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lamb of your own flock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sinner of you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wn redeem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920" y="638280"/>
            <a:ext cx="853416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ceiv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nto the arm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your mercy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to the blessed re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everlasting pea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nto the glorious compan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saints of ligh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of love, we thank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all with which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ve blessed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ven to this day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Death and Resurrec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ayer of Thanksgivi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040" y="12193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AYER OF THANKSG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919160"/>
            <a:ext cx="853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se who have this hop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urify themselv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Christ is pur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gift of joy in day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health and streng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for the gifts of your abid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esence and promi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days of pain and grief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praise you f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me and friend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for our baptis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place in your churc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all who have faithfull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ved and die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bove all else we thank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Jes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knew our grief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died our dea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rose for our sake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ho lives and pray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u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s he taught 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now we pra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Death and Resurrec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lank – The Lord’s Prayer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missal With Blessi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0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371600"/>
            <a:ext cx="8534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esus said, I am the resurrec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 am lif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se who believe in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ven though they di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et shall they li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hoever live and believ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me shall never di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Death and Resurrec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e Word of Grac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9040" y="6858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WORD OF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am Alpha and Omega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eginning and the en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irst and the last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died, and behol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am alive for evermore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 hold the key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hell and death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cause I li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shall live also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iends, we have gathered he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praise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o witness to our fa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e celebrate the life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Death and Resurrec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reeti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68580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GR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26T18:03:23Z</dcterms:modified>
  <cp:revision>95</cp:revision>
  <dc:subject/>
  <dc:title>Psalm</dc:title>
</cp:coreProperties>
</file>