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A57-4F1D-4A47-8D92-10331670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429-3BB0-49B8-A5AE-EEC9A54A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D59-C5A6-478F-BCCB-4DC0C14A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A13-DB37-4E00-8D16-9FEFC4BB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C6BB-DBDC-48F3-A8C3-E1A84053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0E10-3D1B-4DE1-B871-49975470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011C-2C86-48BB-BF91-B2551EE4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7A9D-5E15-4AB4-8CB5-C4F8E41C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12BB-A84D-453B-982F-C1EE98E8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64FD-3437-404F-B968-50DA3323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9E3A-1F86-4763-8824-D93F8967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810-1E1D-4010-950C-B0DBBEF1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922F-C314-4E83-8042-D9CF6289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C061-AE95-4C65-9ABF-C7443961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0873-E214-4042-87DE-914CFA78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6990-1B22-414D-8952-5F76A8A1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1C31-CC04-46F0-9DBD-5402815F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261-DDFA-444A-915B-8C1DBD82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0B7-B3E8-4D62-9548-C75812E4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601-ADCE-42BE-BDD9-F8DFD233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3AF-C4FD-46FC-9F4B-CB70BD63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3E2-91A0-47DB-B7AF-5DFFDC07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8A93-5735-4670-8C27-9DAD1FF1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5CC-D788-4BE6-A3A8-49CA2CEB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D673-D5A7-441D-A880-70C25A233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A1C2-3EC4-481B-B1B9-EDDB101D4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380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THE APOSTLES’ CREED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TRADITIONAL VERS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0" y="2284560"/>
            <a:ext cx="876312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 believe in God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ther Almighty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maker of heaven and earth;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ostles’ Creed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tional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881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101520"/>
            <a:ext cx="9144000" cy="51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Jesus Christ his only Son our Lord: who was conceived by the Holy Spirit, born of the Virgin Mary, suffered under Pontius Pilate,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was crucified, dead, and buried;</a:t>
            </a:r>
            <a:endParaRPr b="1" lang="en-US" sz="5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22860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ird day he rose from the dead; he ascended into heaven, and sitteth at the right hand of God the Father Almighty; from thence he shall come to judge the quick and the dead.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30492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believe in the Holy Spirit, the holy catholic church, the communion of saints, the forgiveness of sins, the resurrection of the body, and the life everlasting. Amen.</a:t>
            </a:r>
            <a:endParaRPr b="1" lang="en-US" sz="5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380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 APOSTLES’ CREED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RADITIONAL VERS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80880" y="2284560"/>
            <a:ext cx="838224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elieve in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r of heaven and earth;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ostles’ Creed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tional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1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04920" y="455760"/>
            <a:ext cx="853416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only Son our Lord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as conceived by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rn of the Virgin Ma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ffered under Pontius Pilat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crucified, d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uried;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hird day he r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d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ascended into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itteth at the right h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God the Father Almight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nce he shall come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dge the quick and the dead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elieve in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mmunion of sain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orgiveness of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esurrection of the bod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ife everlasting. Amen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2-05-20T12:26:17Z</dcterms:modified>
  <cp:revision>25</cp:revision>
  <dc:subject/>
  <dc:title>PowerPoint Presentation</dc:title>
</cp:coreProperties>
</file>