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89F-70FA-425D-BE5C-23483C21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3F1-0A42-45AE-9F67-2787E14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29E-ED9D-4CC6-961D-CA0D51A1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9E8-9527-499E-AB6F-534409B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C24-8404-4580-A243-2F12E63E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710-A0A7-4D48-AB68-D83880B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2D5-AD20-4D09-904B-CCF8A84C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660-B0AF-47BF-935F-76DCDC20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C8B-3F9B-495F-990A-F35BE3F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E29-EC14-4FB1-BB35-D01DA64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B7F-AB17-44B1-A527-BDCAF48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9FC-1F6C-4FA2-BD20-5E006DD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C9E-0764-4F58-AF7F-2B267832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133720"/>
            <a:ext cx="8458200" cy="42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our day to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lure to be truly hu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4763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fail to love wi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e have and a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because we do not 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 what loving mea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because we are afr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sking oursel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ut ourselves of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each other and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rect barriers of divi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by sil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ll-considered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uild up wall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27000"/>
            <a:ext cx="853416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b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lfishness and l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ympa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stifled generos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ft litt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me for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 speak to us. 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 to listen to your word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ness, for we are 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f. Come, fill this mo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ee us from s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2:03Z</dcterms:modified>
  <cp:revision>63</cp:revision>
  <dc:subject/>
  <dc:title>PowerPoint Presentation</dc:title>
</cp:coreProperties>
</file>