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04C-E591-4A1C-B65B-ABCAD674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576-D18E-41C7-B8BB-F80B7FD5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F53-662F-4476-AC03-E18B1E5A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E65-85F9-4D9D-91FA-5BD17B3A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888-8A9F-418E-A294-CC5E1295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458-44BC-4E74-904E-0EBBD4C4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4DF-C99E-4CBD-8B6F-1C8FC33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B2C-6410-45D5-8F2E-7E678F5A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C67-5488-4948-ADD9-4B370F8B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6D5-E852-41C9-A3FF-7FD6BB5B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36E-60FF-4135-9E14-1BA78DC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304-4259-4042-8593-C5B7F68C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AE9B-4CE6-4296-AA5D-DB638C595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91916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eavenly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by thy love hast made 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rough thy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t kept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thy love would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us perfec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umbly confess that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not loved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all our heart and so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ind and streng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at 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ano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Christ hath love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life is within our sou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our selfishness h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ndered the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ived by fai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sisted thy Spiri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eglec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ne inspir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what we have be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us to amend what we ar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th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rect what we shall b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ou mayest come in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ull glory of thy cre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us and in all peopl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Lord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4320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ying is sur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thy of full accepta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hrist Jesus came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 to save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yone sins, we have 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vocate with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 the righteo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e is the exp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our si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658880"/>
            <a:ext cx="853416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t for ours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also for the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whol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be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0:47Z</dcterms:modified>
  <cp:revision>60</cp:revision>
  <dc:subject/>
  <dc:title>PowerPoint Presentation</dc:title>
</cp:coreProperties>
</file>