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1A3-B112-46D2-8A5D-504E5F8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B56-939A-45AA-9F8A-18D94CC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347-5E07-4DF5-8EEF-6F84F2BA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C3D-1254-4D51-B0FB-B21E2516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FF9-1E3D-445A-9E81-6AA8EE51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D7D-142F-4744-81B9-D543251F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098-D804-4766-B3D2-CB5B6CA5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188-4FA9-4484-8C42-902654D4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55B-FA38-4F0D-866D-627E6ED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BE1-2BC0-4D15-A2B1-1619330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D2F-D283-40B3-8DA3-C79165C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24A-236E-4C37-9725-9206192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FBCA-941B-4703-A547-75811D43D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CUMENICAL 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456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umenic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only Son,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n of the Virgin Ma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ffered under Pontius Pila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crucified, di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buri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eated at the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come again to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iving and the dea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 of sai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giveness 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esurrection of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everlasting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19:54Z</dcterms:modified>
  <cp:revision>25</cp:revision>
  <dc:subject/>
  <dc:title>PowerPoint Presentation</dc:title>
</cp:coreProperties>
</file>