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595A-16B8-432D-94C5-3676B9C87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12F1-1FBF-4DBB-80D1-97597D3E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BE99-0FAB-4EF6-A880-7A7E62AAD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9421-4E0E-4E5F-AD16-6FCDF63A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E890-7915-42C1-ACDF-4201290B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834D-E8C3-4B91-BD53-45C820E4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923A-82DC-4B60-A9F4-B9A35A8D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FBC6-1AAE-4F4C-87E4-4D424B7E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F257-97C9-4812-8F37-AB4266B8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31B1-4204-469D-B3F2-A2FEC27A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8774-4632-4AEC-A543-8026A419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666C-C492-4759-910F-BA4E4D56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1FD2-5116-4D24-AE98-3E78BE63E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FFIRMATION FROM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OMANS 8:35, 37-3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1600200"/>
            <a:ext cx="8458200" cy="470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Leader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shall separate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love of Christ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all tribulation or distres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r persecution or famin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r nakedness or peril or swor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. © 1989 The United Methodist Publishing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firmation from Romans 8:35, 37-3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38880" y="380880"/>
            <a:ext cx="16002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8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690560"/>
            <a:ext cx="8534160" cy="35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eople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all things we a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re than conquero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the One who loved us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820800"/>
            <a:ext cx="86104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are sure that nei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ath nor lif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r angels, nor principaliti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r things presen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r things to co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r powers, nor heigh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r dept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820800"/>
            <a:ext cx="853416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r anything el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all creat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be able to separate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love of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Christ Jesus our Lord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nks be to God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26:46Z</dcterms:modified>
  <cp:revision>46</cp:revision>
  <dc:subject/>
  <dc:title>PowerPoint Presentation</dc:title>
</cp:coreProperties>
</file>