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B67E-3971-4623-9B45-04FA9EC6E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AF47-272A-487E-A7EA-09EA348C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0FA7-8976-4583-98AF-D92267D70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5689-CDB6-423D-A181-D4B74085B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D777-ACA6-48B9-8271-93D38C1C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B755-CE57-43A7-8856-B41A41E2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5F2F-19C5-4A8E-A635-38AEDE96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5249-FD73-4F75-992B-FBBBCF5A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2440-3288-4974-9B82-9B14A5FB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2676-98E4-49BC-BC8B-C8ED7159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CE57-F3D5-41CC-9286-BEBC9997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5BE0-A116-4804-A54C-37D36E52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B7DC-091C-4384-9480-B200AF1F8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LORD’S PR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905120"/>
            <a:ext cx="883944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r Father in heave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allowed be your na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r kingdom co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r will be don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 earth as in heav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cumenical Tex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95240" y="914400"/>
            <a:ext cx="396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ECUMENICAL TEX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467480" y="380880"/>
            <a:ext cx="13716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9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919160"/>
            <a:ext cx="82296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 us today our daily bread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give us our si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s we forgive tho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 sin against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ave us from the time of tria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deliver us from evil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 kingdom, the pow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he glory are your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now and for ever.  Am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8:33:00Z</dcterms:modified>
  <cp:revision>19</cp:revision>
  <dc:subject/>
  <dc:title>PowerPoint Presentation</dc:title>
</cp:coreProperties>
</file>