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60C-BE61-4580-A036-EDE6CDAE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555-73BD-41BE-A1C9-E92E9693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33E-1B65-4D40-B11E-E5C00B74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F43-4CAA-4423-811F-74483786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334-6290-465B-9017-142928E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7B1-3D8B-4ECB-B2DE-40029974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6FE-81B1-4DB8-A229-5DDA8C4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AF8-815E-40FB-9C85-59BF6297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396-05E2-4851-8E2E-9ED6AA08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532-FBCD-4B3C-85BA-796777C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F1B-6864-4BFC-A9FC-418ABDF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F00-50EB-4BDC-ACC4-518F8C0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67AD-6C85-43B8-A345-54AC5E5C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NICENE CR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19160"/>
            <a:ext cx="838224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, the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that is, seen and unse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icene Cr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catholic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ostolic churc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cknowledge one baptis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ook for the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 to co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ly Son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ly begotten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from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from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God from tru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gotten, not m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ne Being with the Fath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him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ma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 and for our salv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me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incarnat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irgin Ma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came truly hu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our sake he was crucifi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 Pontius Pilat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suffered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bu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ccordan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criptur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s seated at the r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 of the Fa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will come again in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judge the l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kingdom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no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the giver of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proceeds from the F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ith the F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worshiped and glorif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spo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18:14Z</dcterms:modified>
  <cp:revision>21</cp:revision>
  <dc:subject/>
  <dc:title>PowerPoint Presentation</dc:title>
</cp:coreProperties>
</file>