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2C5-159E-4575-844C-2A9749B1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894-C9E2-4333-AD66-20ABE111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222-1846-4E53-92B6-0EB6C562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D0B-3ECE-4020-9B44-BBADBBEE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561-AA13-4A05-8B7E-9C08494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107-F6DC-4D5A-A932-BB386A0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9FE-FB32-4B9A-9385-B8393CDE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41A-9D20-484A-A1A0-3CA999A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03F-2031-40D3-B583-E71FD55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10B-17E9-480D-BD92-AF5377E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C72-5727-48F5-9132-3931CEB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9FD-844B-4208-9AA7-EBB6F8A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F4AD-C695-4AD7-A0A8-9A8EDD020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15000" y="68580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87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lead us not into temptation, and deliver us from evil.  For thine is the kingdom, and the power, and the glory, forever. 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220968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518480" y="990720"/>
            <a:ext cx="6112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06T02:43:35Z</dcterms:modified>
  <cp:revision>22</cp:revision>
  <dc:subject/>
  <dc:title>PowerPoint Presentation</dc:title>
</cp:coreProperties>
</file>