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2105-4118-41D0-9EE7-C6943DDAD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5EF4-3E6F-4D44-8624-FA8C61CC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9452-FB85-4D47-85C3-816FD4E40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FEB4-CCB0-4FD2-8617-3048D513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12ED-54B4-4FA3-A802-F40F935C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A41B-96D8-4D93-A301-331CB8F6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94B6-9681-4DF9-864D-3F70CDDE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4ADC-9967-41DF-977C-3D9D9BD2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58D3-4904-4FDC-BF84-9A8E6BFD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047F-19CA-4F65-80D0-1F2134BE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D65C-0AE9-4356-B058-7C032348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EDC3-C1B6-402F-8573-243D27FE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73C9-B4E2-4860-8B27-D6973B197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t the Name of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At the name of Jes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very knee shall b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very tongue confess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King of glory n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Name of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93120" y="1039680"/>
            <a:ext cx="476784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Caroline M. Noel, 1870 (Phil. 2:5-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s the Father’s pleasu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should call him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from the begin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s the mighty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Humbled for a seas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receive a n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rom the lips of sinne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unto whom he ca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Name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666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ithfully he bore 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otless to the la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ought it back victorio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from dea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pass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Bore it up triumpha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th its human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rough all rank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creatur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central he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Name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throne of Godhe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Father’s breas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lled it with the gl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at perfect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In your hear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nthrone him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re let him subdu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at is not ho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at is not tru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Name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666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own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your capt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emptation’s hou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his will enfold y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its light and pow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2T17:10:23Z</dcterms:modified>
  <cp:revision>31</cp:revision>
  <dc:subject/>
  <dc:title>PowerPoint Presentation</dc:title>
</cp:coreProperties>
</file>