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6D6F-A1D3-4E37-B0DF-28CE40139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6A04-E55A-4BE7-9012-654B20022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DF47-5069-4E26-B638-A2C288B9E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B554-7265-42DB-B3A7-32157B0AD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626F-F98C-4BBE-ABD5-4B122D502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5971-9A96-434E-80CC-DD3A53E48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17F2-6661-44B1-8C6C-4A989EA5D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730D-861E-47A9-9F5C-155E098FF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7D88-3C54-4A50-AE2A-FCD545877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3320-0928-4414-879E-11CF449DD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00DE-A3E0-4B67-A7C5-6D5F315B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9A17-E1E2-4C7B-B990-733FE774F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F9200-DFCC-4348-ACA0-CFD0A10233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305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Church’s One Found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4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05120"/>
            <a:ext cx="9144000" cy="382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1. The church’s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one foundation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is Jesus Christ her Lord;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she is his new creation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by water and the Word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urch’s One Founda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33720" y="990720"/>
            <a:ext cx="487656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Samuel J. Stone, 1866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happy ones and holy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rd, give us grace that w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ike them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meek and lowl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n high ma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well with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rom heaven 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ame and sought h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be his holy brid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 his own bloo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 bought h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for her life he di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Elect from every natio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et one o’er all the earth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r charter of salvatio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ne Lord, one faith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ne birth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urch’s One Found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ne holy na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he blesse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artakes one holy foo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to one hop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he presse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 every grace endu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Though with a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cornful wond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see h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ore oppresse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y schisms rent asund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y heresies distress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Church’s One Foundatio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et saints thei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atch are keeping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ir cry goes up, “How long?”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soon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ight of weep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hall be the morn of so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Mid toil and tribulatio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tumult of her wa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he wait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consummatio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peace forevermo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urch’s One Found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ill, with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vision glorio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r longing eyes are bles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the grea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hurch victoriou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hall be the church at re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5. Yet she o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arth hath unio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 God the Three in On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mystic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weet communio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 those whose rest is w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urch’s One Found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53:19Z</dcterms:modified>
  <cp:revision>16</cp:revision>
  <dc:subject/>
  <dc:title>PowerPoint Presentation</dc:title>
</cp:coreProperties>
</file>