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42CD-A518-4ABD-86B2-623BDA2E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F2AE-AF6A-4FA7-A3F5-075FA8CE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D2F8-859A-4708-B2A9-ED53D5FF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C666-2D92-40CA-A207-D49A6591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CCA3-4006-4D3C-96D7-A15189A5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DF20-6358-4270-B11E-0AFB54C7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76C9-D4E9-4B3F-BF1F-E69A7C7F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C207-84D1-4B33-90FD-5C75E9BC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DC49-773D-4157-A3A0-7C77BF85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7538-340C-4116-B933-EBFB4209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2389-50F3-41FD-9ED6-9E80E8F9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B137-39D8-4072-8669-BEE30A7E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175F-F5A1-45EC-9D05-DB1EB1C69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heaves of Summer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Una Espig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12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eaves of summ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urned golden by the su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pes in bunches cut d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ripe and r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3 Ediciones Musical PAX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ves of Summ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esareo Gabara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ín, 1973; trans. by George Lockw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828800"/>
            <a:ext cx="89154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 convierten ahora 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n y vino de am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 el cuerpo 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sangre de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-1447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partim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misma comun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os trigo d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mo sembrado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Espiga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752480"/>
            <a:ext cx="86868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 molino a la vid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s tritura con dol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os hace puebl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uevo en el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o granos que h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cho el mismo p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o notas q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jen un cant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Espiga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828800"/>
            <a:ext cx="93726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o gotas de agu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se funden en el m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s cristian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 cuerpo formará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 la mesa 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os se sentar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hijos s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n compartirá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Espiga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a misma esperanz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minando cantará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 la vida como herman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 amará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295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converted into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ead and wi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od’s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body and blo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our dea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ves of Sum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sha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ame communion me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wheat b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ame gre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wer s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a millst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 grinds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wn with sorrow and p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God makes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w people bound by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ves of Sum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600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the grains whi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come one s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le loaf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the notes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woven into s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the droplet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ter that 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nded in the se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, as Christia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body shall be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ves of Summer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7524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God’s tab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gether we shall sit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God’s childr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’s bo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ill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same hope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ll sing toge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we walk along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others, sist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life, in love, we’ll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Una espiga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rada por el so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l racimo q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rta el v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ñado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Espiga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2:16Z</dcterms:modified>
  <cp:revision>143</cp:revision>
  <dc:subject/>
  <dc:title>PowerPoint Presentation</dc:title>
</cp:coreProperties>
</file>