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52B-327B-40B3-B1C1-672A7263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2CC-ABA0-40E8-8522-660C8A1F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B33-FBF8-444B-96FE-015CA9E7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F59-7919-46E2-8A33-BE402467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1E0-A8E6-430E-811D-D54CF72E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FEE-51CF-4657-BD4B-79CCF37F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C3B-A2B7-422F-9655-9A7E121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14E-8E83-4A17-BFFC-BE26F855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582-EB71-42CB-B101-44296709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450-3294-426C-A2D0-B826D806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568-88A2-47C6-9774-1DDEEA1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D2E-098E-4976-A1AF-A931649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29B5-F4E1-4385-B644-1A162AEF7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calls me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rld of car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3880" y="990720"/>
            <a:ext cx="3054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William Walford, 18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im whose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aithful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gage the wai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to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nce he bi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 his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lieve his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rust his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cast on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every c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ids me 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Father’s thr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all my wa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shes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season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stress and grie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ul has oft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und rel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ft escap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empter’s sn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y ret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joys I fee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liss I sh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ose whose anx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s bu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trong desi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y retu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uch I hast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God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s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ladly t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tation t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ings sh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tition b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24Z</dcterms:modified>
  <cp:revision>9</cp:revision>
  <dc:subject/>
  <dc:title>PowerPoint Presentation</dc:title>
</cp:coreProperties>
</file>