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4B6-2369-416F-9E43-A32332FE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4C9-C46F-45F0-817E-A738E00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4E2-9FED-466B-AA5B-D307A841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DCE-8140-4EED-992D-0C06E331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7D1-1A93-4E6F-AD19-62EA1B1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0E2-C272-40F6-8026-88B75665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76C-DFC2-4961-B7D6-B555D17D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E60-8DBA-433B-93A2-4FFD49A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BF0-AA0E-4804-87B0-B1CFAD2E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6C9-A05B-4077-8624-1C6F528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B6D-138C-4644-B6BF-6A4AD343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5CB-39CE-45F7-A1A8-E3A1CA7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225-BF8E-4D08-A11A-B08381DB0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d and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and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ubem Alves, Brazil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6104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just as the discipl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heard Christ’s words of promis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gan to eat the bread a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rink the wine in the suffering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 long remembrance and in the joy of ho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Believe in the Resurrection of the Body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we may hear you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ords, spoken in each thing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day affairs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Coffee, on our tab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in the morning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he simple gesture of open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 door to go out, fr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houts of childr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in the park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a familiar so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sung by an unfamiliar fac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a friendly tree that ha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not yet been cut d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y simple things speak to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of your mercy, and tell us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life can be good. And ma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hese sacramental gifts make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remember those who do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receive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have their liv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cut every da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in the bread abse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from the tabl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in the door of the hospital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 prison, the welfare ho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at does not op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sad childre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feet without shoe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eyes without hop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in war hymns that glorify death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in deserts where on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re was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rist was also sacrificed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may we learn that w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rticipate in the sav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crifice of Christ when w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rticipate in the suffering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s little ones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56:16Z</dcterms:modified>
  <cp:revision>139</cp:revision>
  <dc:subject/>
  <dc:title>PowerPoint Presentation</dc:title>
</cp:coreProperties>
</file>