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2EB-0857-48BD-B22A-00B98461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2353-95ED-4383-B343-2404900A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DA0-F714-4513-97F1-66EB8E20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19F-3C76-40BA-9CA8-9ECCEE52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4807-3D21-45C1-A53D-1EA8E858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EA5-C691-4986-9476-76ABCA6D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B314-3AE2-44C5-94D0-E3959216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7BFF-73A9-4550-BB2C-EF236E5E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4BC-1E43-4EDF-A119-30C9A1A3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5F4B-013C-4D9E-A3BD-5AC7E96C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624-A585-4F3F-883D-DF912859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AFC-4365-4D94-9AC4-EDEB01DA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A90B-A356-4351-8D7B-84EF1230C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ehold the Savio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f Mank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the Savior of Mank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7652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amuel Wes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51460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. Behold the Savior of manki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nailed to the shameful tree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how vast the love tha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him incline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to bleed and die for the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144440"/>
            <a:ext cx="89154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. Hark how he groans! whil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nature shake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and earth’s strong pillars bend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The temple’s veil i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sunder break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the solid marbles re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4444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. ’Tis done! the precio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ransom’s paid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“Receive my soul!” he cries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see where he bows hi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sacred head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He bows his head and di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4444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4. But soon he’ll break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death’s envious chai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and in full glory shine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O Lamb of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was ever pain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was ever love like thin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4:32:18Z</dcterms:modified>
  <cp:revision>54</cp:revision>
  <dc:subject/>
  <dc:title>PowerPoint Presentation</dc:title>
</cp:coreProperties>
</file>