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E75-7BDC-446F-BD05-50F79415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500-B418-4389-B905-5715775D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D7E-8C51-423A-A253-181916C0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E57-583A-4480-8F51-0AB26F1C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8B6-15B0-44C3-BA63-DA901888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8F7-7E03-4472-9E58-A93F0BFD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BF0-6962-4C49-A7CB-A0875CC2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5CF-3CD4-48B0-9004-A5F7510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236-DA9E-4447-8B2B-1AB0E818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258-728C-4246-8D88-ED38F5E8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9EC-C842-48FF-8268-5FD441AB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7EF-B9C8-4372-862E-62F51F2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A1B4-13E6-4ED5-AE4E-504061CCC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Birth of a Ch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362320"/>
            <a:ext cx="8763120" cy="4095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ail the day on which a child,</a:t>
            </a:r>
            <a:br>
              <a:rPr sz="5000"/>
            </a:b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(name)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was born. Rejoice! </a:t>
            </a:r>
            <a:br>
              <a:rPr sz="2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he Masai, Herders of East Afric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Sonia Bleek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© 1963 Sonia Bleeker. Reprinted by permission of  Morrow Junior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2) © 1975 John S.  Mbiti,  by permission of SP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523880"/>
            <a:ext cx="8305560" cy="474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Let us all sing and praise her that gave birth to a 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(son/daughter)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for whom she longed. Greet this day with joy. Our hearts are gla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Masai peopl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Kenya and Tanzania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514600"/>
            <a:ext cx="8839080" cy="3328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us pray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 Creator, who dost all huma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beings create,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kamba Peopl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enya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8080" y="2589120"/>
            <a:ext cx="8189280" cy="30186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u hast a great worth on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ferr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by bringing us this little child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45:04Z</dcterms:modified>
  <cp:revision>9</cp:revision>
  <dc:subject/>
  <dc:title>PowerPoint Presentation</dc:title>
</cp:coreProperties>
</file>