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3F3-7507-4E16-BE87-6F4786AE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4C6-D7C1-436A-8517-69BB4FAA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758-9E0F-4F76-80B0-71143E4F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B5A-7DD8-4945-AAF7-A7B8BD1F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48A-9F6F-464A-9F8A-777B3A2A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585-1326-4106-A615-948E08BD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FE4-7F86-4DCA-BBD1-DE446BC1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94D-9A3F-4B59-8AC3-634C405A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057-F495-4616-99BE-8F0D9E04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C01-C8DE-46A5-9508-9461F84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7B7-C706-4FD8-B4F5-45C7D7C4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5BC-63F4-48AF-BBB1-681516FA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A518-9E15-4773-BCEB-C70563CB0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R. Kelso Carter, 1886 (Eph. 6:14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Christ my 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eternal ag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his praises 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vercoming dai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the Spirit’s s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03200"/>
            <a:ext cx="7772400" cy="564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cannot f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stening every mo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Spirit’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sting in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my all in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03200"/>
            <a:ext cx="7772400" cy="564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hout and 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3200"/>
            <a:ext cx="7772400" cy="564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cannot f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howling sto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doubt and fear assa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the living Word of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shall prev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03200"/>
            <a:ext cx="7772400" cy="564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Christ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ound to him eternal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love’s strong 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8:48Z</dcterms:modified>
  <cp:revision>126</cp:revision>
  <dc:subject/>
  <dc:title>PowerPoint Presentation</dc:title>
</cp:coreProperties>
</file>