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F1C-D31E-46A9-AA23-840B6FD1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4C3-8BDC-4C1F-98FB-55DCD036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FD0-367A-4EA5-8DED-7708F8A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986-04DE-4BE6-8ED1-890734CA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45B-FF94-4FB0-9600-CC85144D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D9C-5819-423A-BF6A-37E47FB6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759-1E78-4062-99B7-16A4AD1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51B-79E0-44BA-819F-3B66ED7C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262-E4BE-40AE-9D60-3C7CD80B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507-1A15-43D1-9C09-0331FC1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D82-4B32-4E41-BD10-F6ACA6D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025-59A6-4E52-BE3C-78E4B0B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AE9-DD43-4DBE-B82D-C3F70638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Morning Sta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Fair and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1. O Morning Star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how fair and bright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ou beamest forth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in truth and light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O Sovereign meek and lowly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st. 3 ©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5960" y="1521000"/>
            <a:ext cx="62935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hilipp Nicolai, 1599; trans. by Catherine Winkworth, 1863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st. 3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Lutheran Book of Worship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Root of Jes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and Ma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 w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to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sole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 and gl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-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in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le and m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poss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 heavenly Bright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deep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now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n alt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ength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mb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joined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falt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ing doth possess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 and bless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n sa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 and heart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glad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joy to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ife is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w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first and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n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g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one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loriou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port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pp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all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ord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ea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10Z</dcterms:modified>
  <cp:revision>12</cp:revision>
  <dc:subject/>
  <dc:title>PowerPoint Presentation</dc:title>
</cp:coreProperties>
</file>