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D00-A33F-4BAB-87F0-2606C416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FD2-BB98-4CFC-B3C5-DB16193F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E41-84B1-4782-8EA8-A44E97F2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ECE-D705-4BB2-8031-76BEB776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74E-3D87-466B-814A-41A263DF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20D-3339-4F19-BC69-5D664200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DA5-97AD-457B-80B6-483E8952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302-13AD-421B-89B4-2CF2ADC0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C42-186F-4725-B1D1-8A79BAA5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9FE-C00C-45FB-85D9-4B851619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427-4862-4964-90A6-046C685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523-4EA9-425C-9769-1759DB6F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94B7-86E5-4330-8992-6D7DF190D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e Old Rugged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On a hill far away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tood an old rugged cros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emblem of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uffering and sham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36320" y="1143000"/>
            <a:ext cx="4429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George Bennard, 1913 (1 Cor. 1:22-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’twas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old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suffered and di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nctify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the    old  rugged cross,)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last I lay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15880"/>
            <a:ext cx="9144000" cy="44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(cross,               the old rugged cross,)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 day for a crown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o the old rugged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ever be tru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sham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proach gladly b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he’ll c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some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y home far a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is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I’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the     old  rugged cross,)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last I lay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15880"/>
            <a:ext cx="9144000" cy="44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(cross,               the old rugged cross,)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 day for a crown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love that old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the dear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 world of lo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 was sl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 the  old  rugged cross,)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last I lay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158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  the  old  rugged  cross,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 day for a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that old rugged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despised by the wor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 a wondr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traction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d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mb of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ft his glory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ar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ark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the   old rugged cross,)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last I lay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158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 day for a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n that old rugged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ained with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ondr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y I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29Z</dcterms:modified>
  <cp:revision>17</cp:revision>
  <dc:subject/>
  <dc:title>PowerPoint Presentation</dc:title>
</cp:coreProperties>
</file>