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EC5-8DC9-4BFF-916F-4D63A48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801-8F5E-4A3C-88D5-46F2528E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6D9-7F5D-4850-9262-99B8A52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EA8-F2F1-4BA0-B773-DCF646FD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FD7-7456-4E73-8F75-2155D3D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ED0-A891-450B-B3F4-ADE68640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FAB-B26D-4F11-B64D-9F58383F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0ED-9273-4C26-A7F5-B3FA90D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E60-1497-44C0-94D6-F7591526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3D4-082E-4FFC-9546-62CC33B3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F55-0FE4-48FF-9B19-3D2F3B9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7D9-8899-40BB-BCE4-89CC6ED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9B9-7F42-46AB-8EEC-BEF1EE0AE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ranam, Saranam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fu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by permission of Christian Conference of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rad. Pakistani; trans. by D. T. Niles, 1963 (Ps. 61; Heb. 13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that I my v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may p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at by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ness to me each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live, and o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y burdens l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sterday, to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’er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he heritag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bear th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ansom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the Savior ca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n the midst of f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ry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end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ver I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trength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ness, O answer 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thy tent giv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dwell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neath thy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I find sheltering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ft on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shine of thy fac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55Z</dcterms:modified>
  <cp:revision>49</cp:revision>
  <dc:subject/>
  <dc:title>PowerPoint Presentation</dc:title>
</cp:coreProperties>
</file>