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C31-60D2-4969-907F-15B5A850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030-8476-4B64-B5BF-BE03F5ED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446-83D9-4B12-8CEF-85065ADE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D22-A78E-4137-BB43-78197120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ECC-9D53-4772-B0D4-B6C661C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F47-2E8D-46D8-9C5D-A2C64B7A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85E-6A8A-458D-9DD9-4C04C67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A1E-0CE1-4B2E-B5D1-33DA19A9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C73-6623-40D0-B97A-25A5875A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792-5090-46B6-987F-45957DB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214-811B-40CF-84F0-3527D10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2DD-3DDC-4AD8-BFDE-324FDEC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CD7-75A0-40C8-A453-3372B67A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Lord, What a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200" y="1090440"/>
            <a:ext cx="61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; Rev. 6:12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’ll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mpet s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’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ners mo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’ll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ian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04Z</dcterms:modified>
  <cp:revision>57</cp:revision>
  <dc:subject/>
  <dc:title>PowerPoint Presentation</dc:title>
</cp:coreProperties>
</file>