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DC4-A2F0-4C96-B52E-CED3ABBD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1FA-9F1C-4878-9844-B0CC77FC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357-BC13-48FB-9CA8-A9DB808F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7B6-639F-4B19-B556-8C46EA33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CFF4-E4B0-46E8-B8BC-3AD724F2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6DE7-9A6A-4700-905B-89B0EE97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2BE-CA14-4F41-B9FB-B9AAE97D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980-096D-4BC5-AA13-9E54DE9B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3E5-9D2B-46D8-85BD-3AD94AFA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3B4F-7CE0-48D9-926D-30B1C705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B50-D423-4E39-AC19-2EFD5190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81D-46E3-4F90-8A77-42AAF506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81CD-8484-4130-8E37-C4D7A9522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the Bread Which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ou Have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For the bread wh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have bro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wine wh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have pour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Louis F. Benson, 192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wo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you have spo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we give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By this pled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you do lov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your gift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ace restor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your c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eaven abov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 all our liv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ith our sain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s in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ated at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ly boa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the chu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’s waiting for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eep love’s ti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broken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n your serv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defend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our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eep watch and wa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world w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have sent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your king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07:43Z</dcterms:modified>
  <cp:revision>119</cp:revision>
  <dc:subject/>
  <dc:title>PowerPoint Presentation</dc:title>
</cp:coreProperties>
</file>