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295-62F7-4566-B950-ECEF842F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120-C869-439F-8296-8644920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27B-A4AE-489E-9586-AA9F3ED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066-51C0-49E2-80EA-92519D6D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3F6-786C-465B-BA49-716C50D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23C-BE4F-4E9D-8139-5B5B43D4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39A-0A0C-4709-B5E7-BDB424A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CE8-CCD6-4E29-9CF4-69A1BD1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F63-CDBC-4232-AEB3-618FE2C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7CD-DC25-48F7-906A-AB4A8E5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214-0426-4A4F-BD15-DC92723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120-245B-42F6-914D-F0EC021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3C58-28D6-46A3-B858-1B7F2102E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a fou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with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ve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lliam Cowper, ca. 1771 (Zech. 13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n in a nobl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er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sing thy power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ying thie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d to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ountain in his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Dear dying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ecious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ever lose it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’er since, by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w the strea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lowing wounds supp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en my the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01Z</dcterms:modified>
  <cp:revision>124</cp:revision>
  <dc:subject/>
  <dc:title>PowerPoint Presentation</dc:title>
</cp:coreProperties>
</file>