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013E-E1FF-4EB0-8774-B5903BFE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6021-BE5A-4FDD-8F30-744931F8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C800-17CF-4D6C-88A8-F1EAF752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14E8-050F-4F3C-B925-280B8BE4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23D8-46DE-47E3-9638-A2F80088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8A90-9DC0-43E1-96B8-757E465F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0EEF-C702-42E0-BFBE-71F50691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E35F-6020-4DE3-9D67-F16F454A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65C6-6185-4FBD-BC20-0A542EC3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9E80-3D79-4555-BA68-174901EF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6C8B-2D28-462B-A358-086B5DBD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30B2-8035-4A77-A37D-FE41A4E8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E853-5A67-483B-BA98-36B7551AB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rist, Whose Glor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ills the Sk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Christ, whose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ills the ski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, the tru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only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un of Righteousness, ari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Whose Glory Fills the Sk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6320" y="1676520"/>
            <a:ext cx="3949560" cy="429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WORDS: Charles Wesley, 17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riumph o’er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ades of nigh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spring from 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gh, be nea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star, in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rt app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Dark and cheerl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s the mor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naccompanied by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oyless is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’s retur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Whose Glory Fills the Sk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ll thy mercy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ams I s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ll they inwa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ght imp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eer my eyes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arm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Visit then t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ul of min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ierce the glo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sin and grief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ill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adiancy div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Whose Glory Fills the Sk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catter all my unbelief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ore and m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yself displ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ining to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erfec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2T17:17:05Z</dcterms:modified>
  <cp:revision>35</cp:revision>
  <dc:subject/>
  <dc:title>PowerPoint Presentation</dc:title>
</cp:coreProperties>
</file>