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077-02ED-456D-8AB0-1F2164C2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2F9-1D6D-49D7-8AC7-529DAFA9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A11-B9AA-4C01-B28B-F3751705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03D-209A-4E81-A2F9-7E5508E3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31B-7A93-4708-A97C-45275CA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65A-7B64-47B6-A93B-9451ACA6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2DB-4AF6-4C2A-A377-E21F1161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268-CD4E-4D40-B2C8-81E7A7F7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7F7-3A19-4D44-9D82-129D32F9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728-75A1-4D45-AC7F-A622FC5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1ED-E531-41BD-A610-1261D86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C77-8B7D-4577-A201-52211223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5530-F7A1-4FF7-9176-71745663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the Victor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69080" y="1066680"/>
            <a:ext cx="299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rl P. Daw, Jr. 198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ly Immortal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y Creat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ildren of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arth you forme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glorious and 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we all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-spoken prophe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at creatio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You came from d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dust shall retur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at the grave shall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up our glad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Alleluia, alleluia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0:25Z</dcterms:modified>
  <cp:revision>10</cp:revision>
  <dc:subject/>
  <dc:title>PowerPoint Presentation</dc:title>
</cp:coreProperties>
</file>