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9AF-E2D8-4156-8B91-6ACB3560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92F-FDF4-4AB2-8077-7D711DEF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F5C-1A53-4417-8E82-DDAE65B9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7FD-77EA-45D5-B065-EB60E661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5BA-8052-4464-A484-FAFBAED6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A28-70E2-4FB5-A938-B9C9257D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AC2-86DB-4B24-9818-3542A54F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5C7-3059-407D-BC7F-D4919FD2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3A4-DAA2-43F8-AF6A-F7440C53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849-975F-4567-A31B-00E31929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3D9-3C54-45E6-A6C3-C8FAAD34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E85-E90F-4059-9538-571C35B8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D29F-0276-4FDD-A7ED-92E48D5F9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Need Thee Every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t gracious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tender voice like t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peace aff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3000" y="1066680"/>
            <a:ext cx="3824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nnie S. Hawks, 1872 (Jn. 15: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y thou nearb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mptations l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joy or p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quickly and ab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life is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me thy wi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y rich prom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e ful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t Holy O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ke me thine ind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blessed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51:45Z</dcterms:modified>
  <cp:revision>18</cp:revision>
  <dc:subject/>
  <dc:title>PowerPoint Presentation</dc:title>
</cp:coreProperties>
</file>