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7CC-AAC8-47DC-8C43-7D1DFDDC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446-2E95-44FB-9A93-69DDB623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2EC-1028-4680-9BA2-E17F23AA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6EC-578E-4461-B433-B50F7A82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203-174E-4DEF-BCF8-399BA2D0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ABF-C579-4189-872E-C1D33A99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DBC-F5D2-4F0C-9A66-56D8EE63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AB5-E7FA-4BF5-A92E-A21D7F95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7C7-FA11-4513-9D55-45DE4AFC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A44-4E79-4E68-8B66-D51B4CE7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B6C-C921-468D-AEE9-3604BBB7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B60-D626-493A-900A-48A0878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AC0F-3456-4F29-A22F-123DFDB61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Want a Principle With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want a principle with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watchful, godly f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ensibility of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pain to feel it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2640" y="1139760"/>
            <a:ext cx="291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he first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pproach to fe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pride or wrong desi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atch the wand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my w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quench the kindling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rom thee that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may str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thy goodness grie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me the filial aw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pray, the te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cience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ick as the ap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n ey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od, my conscience mak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wake my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sin is n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keep it still aw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lmighty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ruth and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e thy power imp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ountain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oul rem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ardness from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y the least omission p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reawakened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rive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lood ag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make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unded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46:02Z</dcterms:modified>
  <cp:revision>25</cp:revision>
  <dc:subject/>
  <dc:title>PowerPoint Presentation</dc:title>
</cp:coreProperties>
</file>