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EBB-EED9-4561-A2AD-B6451D7C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66E-F867-4ECB-8C34-B061B4D7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50F-64DE-4A72-A853-C8C1705D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7EA-8E4B-4B34-9B8B-B1BDD2DD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71C-1659-4DB0-AA5E-CA91ABB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44E-C344-48B2-822B-FF0C8881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231-FF86-4A9F-B15F-450F1BF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8C5-E236-4023-8F7D-E144377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DA5-5290-4150-A0E7-E493D458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473-865D-41C4-BD3A-2E0960B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396-143E-4326-824A-4A5A902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685-DDE5-493F-BAAD-C25246A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FAC-6864-44C2-9860-B4B4B0E1A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 Back Quickl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Young Taik Chun, 1943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by Sang E. Chun and Ivy G. Chun, 1988 (Lk. 15:11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how gr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ins may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r how burdens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se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no sin he cannot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sinner not accep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the bos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our loving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much gre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n all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Lord waits every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do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pt open wid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is anxious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it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y day and every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ord is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a child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gone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you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you have sin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ren’t fit to be his chi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d will celebr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a big fe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repent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ngs you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, come back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open arm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18:47Z</dcterms:modified>
  <cp:revision>99</cp:revision>
  <dc:subject/>
  <dc:title>PowerPoint Presentation</dc:title>
</cp:coreProperties>
</file>