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B5F2-CD0E-416D-85C9-3A58DD9B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B4A8-0C3D-4C44-B84A-89704757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0DCE-52EA-4118-A730-F5FB9FBF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6191-B5B8-4764-A3C2-B94BB545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B0A5-9D03-4758-ABF4-BD22D87B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6F45-17C1-4DA1-A4F8-D979AE1F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5933-0113-4A3F-A4AC-73D275FF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66A9-9251-46B1-B030-8F2AB55E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B6FD-BB97-4193-AECE-065A13E2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07A1-526B-415C-B2D9-921EBD3F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C5DF-7DE3-4540-8B0A-F2BE8D8F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4807-712A-49A1-A507-354CF78C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E800-44D6-44EF-B884-D7038F016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joice, the Lord Is 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Rejoice, the Lord is King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Lord and King ador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rtals, give thank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ing, and triump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51160" y="1166760"/>
            <a:ext cx="444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Charles Wesley, 1746 (1 Cor. 15:51-5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Jesus the Savior reig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od of truth and lov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he had purg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tains, he too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seat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His kingdom cannot fail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rules o’er earth and heav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eys of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ll ar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Jesus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Rejoice in glorious hop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the Judge shall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ake his serva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 to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soon shall h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’archangel’s voi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rump of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sound, rejoi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5:05Z</dcterms:modified>
  <cp:revision>52</cp:revision>
  <dc:subject/>
  <dc:title>PowerPoint Presentation</dc:title>
</cp:coreProperties>
</file>