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7E6-B419-4BA1-8295-CB3B000F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04A-FBDB-4EA6-8050-8CF52F01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D21-0505-48C6-934F-1726918D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B5A-0FA3-41E9-AA4E-494B6A3F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43E-5F4F-43F5-ACD9-4CEF72C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71D-5BE1-4759-858A-4ACEB6B4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27D-5BAF-48C7-8F10-140A35D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54A-66E8-4165-B72C-EAF4CD34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473-C447-491F-B42C-69AB261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C1D-594D-4A3F-8F66-40DD2F1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508-C1E7-4A5E-AECC-1901F2F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2FF-3A84-43A1-A1CE-60A4776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9927-68F4-4BB3-9ACA-40F8E7A9C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1120" y="1676520"/>
            <a:ext cx="420732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1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y soul he do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ore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 to walk doth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the pa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n for his own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ea, though I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eath’s dark va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will I fear no i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 art wi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rod and staf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comfort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y table thou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rnished in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y fo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d thou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il anoi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cup over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oodness and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urely follow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God’s hou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welling place sha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01Z</dcterms:modified>
  <cp:revision>31</cp:revision>
  <dc:subject/>
  <dc:title>PowerPoint Presentation</dc:title>
</cp:coreProperties>
</file>