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B3C-7D6A-43E3-AABD-B021AC01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F42-2ECB-4DD0-8781-A2D2369C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0D8A-3616-4722-B960-30FC658F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D7C-5387-4F0D-A21A-7F974BA6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F19-324A-4DDB-BAAB-DB98B781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CA3-A3B5-4088-BE25-3E52331A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C350-E46F-4695-A3CB-4F4D57AF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9258-A582-44CB-A0AA-94758E46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822C-E1E5-433A-829E-C954163B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5E0-5098-4223-9739-095DB98A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BCFF-4B9E-4C06-B728-B43DB3FC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787D-616C-4FEB-87EF-7377044B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924D-DACA-4B55-B55F-5353C0F4E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O Thou Who Camest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from Ab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5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O Thou who cam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ab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pure celesti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re to impar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Camest from Ab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1676520"/>
            <a:ext cx="5313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Charles Wesley, 1762 (Lev. 6: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indle a fl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sacred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pon the mean alt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here let it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glory bur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inextinguishable blaz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Camest from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rembling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s source retur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humble pray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ervent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Jesus, confir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heart’s desi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work and spea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ink for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Camest from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let me gua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holy fi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till stir u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gift i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6337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Ready for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perfect wi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acts of fa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ove repea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Camest from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death thy end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rcies sea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ake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crifice comple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7:04Z</dcterms:modified>
  <cp:revision>12</cp:revision>
  <dc:subject/>
  <dc:title>PowerPoint Presentation</dc:title>
</cp:coreProperties>
</file>