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9CC-76AD-4EBC-A4D3-6E884950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761-CCBF-4310-8909-8B457FD2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E8B-2618-4EEB-BB35-AA886150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F9F-EBB2-455D-AC08-A254E9AD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FD2-EE15-42AA-9D35-3228B3AF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F40-4B66-4FA8-A9EE-1843275F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A55-0A24-4187-AE8A-C1906F19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EDE-12EF-4181-94FE-12EB14CA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70A-AAB1-452E-B188-60AFE068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92F-3941-4242-8A28-5C8D3A0E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A3A-F6CA-4F6B-B6AF-81574BB9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30A-695E-4931-AB77-E26805BD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8578-F4F0-4725-9661-2AC00144D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ave It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If the wor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you withh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its silver and its go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you have to g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one with meager f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Albert Tindley, ca. 19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will make a way for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ill lead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fely throug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66680"/>
            <a:ext cx="9144000" cy="465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hen your youth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ys are d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ld age is stealing 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your body be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neath the weight of c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will never leave you th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’ll go with you to the e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19320"/>
            <a:ext cx="9144000" cy="465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 remember in his W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he feeds the little bi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14400"/>
            <a:ext cx="9144000" cy="465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f your body suffers p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your heal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can’t reg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your soul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most sinking in despai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knows the pain you fee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can save and he can hea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9144000" cy="465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en your enemies assa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your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gins to fa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n’t forget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eaven answers pray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5T16:23:02Z</dcterms:modified>
  <cp:revision>49</cp:revision>
  <dc:subject/>
  <dc:title>PowerPoint Presentation</dc:title>
</cp:coreProperties>
</file>