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E14-15C4-4497-AB1D-C091C4DC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07D-1CFF-484B-A4A0-87DD46A2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BC7-9995-4D77-B652-EBC844F5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F43-FE41-4C99-BB0A-4923E0CB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2E0-8879-448C-AAA4-6B1AE198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36C-48FD-4B19-A8B8-4F61374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A79-50C1-4126-A989-D58C18C9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64A-E917-412A-B6D2-97E3E3C8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E58-9FB6-4B24-A363-7687225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931-9097-49B5-919D-27266FD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C78-A103-4D5F-A136-4E71CE67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A31-5EC0-4D9E-BF28-C2493455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274B-5EF5-43A7-BB12-84FFED8E8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ad On, O King E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 has c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nceforth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elds of conqu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tents shall be our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Ernest W. Shurtleff, 18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d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prepar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race h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us stro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ow, O King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lift our battle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sin’s fie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r shall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liness shall whisp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weet ame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t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ords loud cla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roll of stirring drum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dee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kingdom co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, not with f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ladness brea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’er thy face app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ross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ed o’er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journey in its l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own awa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onqu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 on, O God of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00:19Z</dcterms:modified>
  <cp:revision>85</cp:revision>
  <dc:subject/>
  <dc:title>PowerPoint Presentation</dc:title>
</cp:coreProperties>
</file>