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51C-AC8B-438B-8A83-C1DE5C0D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5C5-D89E-4F68-9956-807545B7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B51-B1B8-4D57-80D5-579A2CE0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C30-B935-40A3-AC8C-729D452C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9F8-DDB7-419F-8A30-8FFAB04F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FFA-BC41-4E02-AC49-00D03B95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9FB-9A30-4637-B9AA-9293A17B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287-6BB2-467D-AB4F-F1D99763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857-B5ED-4D1B-96EA-A5AF8595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5C8-1E96-4769-AA64-3DF77315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0DB-D188-47F3-965D-EFBD2676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57A-533C-40A7-AD79-F971C475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F54C-102D-418D-B8CC-33BB905EF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ng We Now of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sing we her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 our grateful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babe so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75240" y="1116000"/>
            <a:ext cx="5409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French carol (Lk. 2:8-20; Mt. 2:1-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ngels ca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hepher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eave your flocks at r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urney fo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thle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nd the child so blest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n 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found hi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seph and Mary m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ted by the mang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ching the holy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rom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stern count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e the kings af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ing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thle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d by a s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Gold and myrr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took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of greatest pr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was n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ta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like parad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3:13Z</dcterms:modified>
  <cp:revision>12</cp:revision>
  <dc:subject/>
  <dc:title>PowerPoint Presentation</dc:title>
</cp:coreProperties>
</file>