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4F2-7BF7-4B74-AEE2-CCC43CFB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582-6717-43FE-AE5F-6272E729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2D0A-43B7-4D00-8CA2-EA9F076D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1C5-9A5E-40FB-ACE8-6B18E369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36F-22F6-407C-A6A9-0C63DF83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6C0-E81D-4CE6-A1F9-DA333EB4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26C-B978-4B22-82AF-858BA428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29D-EE80-405C-8D97-39371279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6AC-4ACC-47EF-BF11-D85AE6E6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1D6-C8C3-403F-8509-F96EE5B2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05E-A452-4B60-889F-79376F8D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659C-D234-443D-B531-C810922D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5082-8C89-417C-93BB-513DA1D90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risto Viv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Christ Is Ris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Nicolás Martinez, 1960; trans. by Fred Kaan, 1972 (1 Cor.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1. ¡Cristo vive, fuera el llanto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s lamentos y el pesar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i la muerte ni el sepulcr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 han podido suje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Times New Roman"/>
              </a:rPr>
              <a:t>© 1962 Metho Press, Ltd.; trans. © 197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ell the worl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at Christ is ris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ake it know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goes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If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d never ris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e’d have noth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b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ut his promis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n be trusted: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“You will liv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ecause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s we share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th of Adam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o in Chri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e liv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th has lo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ts sting and terro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the Lord ha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ome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Death has lo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ts old domini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et the worl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ejoice and shou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, the firstbor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f the liv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ives us lif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leads us 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et us thank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ur God, who caus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ope to spring up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rom the g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is ris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is giv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fe eterna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fe pro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 busqu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éi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ntre los muerto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 que siempre ha de vivi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¡Cristo vive! estas nueva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por doquier dejad oí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Que si Cristo no viviera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vana fuera nuestra fe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as se cumple su promesa: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‘Porque vivo, vivir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éis.’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i en Ad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án entró la muert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por Jesús la vida entró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 temái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l triunfo es vuestro: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¡El Señor resucitó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Si, es verdad qu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 la muert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l pecado es aguij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 temáis pues Jesucrist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s da vida y salv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racias demo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 Dios Padr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que nos da segurida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que quien cre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 Jesucrist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vive por la etern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Christ is ris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is liv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ry your tear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e unafrai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th and darknes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ould not hold him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r the tomb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n which he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o not look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mong the dead fo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ne who liv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6:25Z</dcterms:modified>
  <cp:revision>69</cp:revision>
  <dc:subject/>
  <dc:title>PowerPoint Presentation</dc:title>
</cp:coreProperties>
</file>