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998-C8E9-4450-9A0C-A23F6F03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2AD2-652A-4E45-B082-DF9FBCFC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014-169D-4E0D-9A45-B7F0EB3B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D8A-8825-47AD-9B3C-8A1EC5E1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B27-05E7-4B0D-B49D-C6EC4226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65B6-4A68-48EC-A1AA-DB1CDC7E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4B9-9F89-4367-90B8-CA7B28A9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79F-909E-4376-9F5C-A335D471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0CE-CA58-4A59-8891-F4664C67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859-D917-4B8F-B968-83FEF83C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888-89F0-4557-8193-8F06EB2B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2911-F0FE-4A91-A821-2E9C1B57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9461-9BD1-4189-9C8A-FC5078F70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Charge to Keep I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62 (Lev. 8: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A charge to keep I h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God to glorif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never-dy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ul to s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fit it for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To serve the present 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calling to fulfi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may it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powers eng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do my Master’s wi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Arm me with jealous c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 in thy sight to l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oh, thy serv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prep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strict account to gi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Help me to watch and pr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on thyself r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sured, if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trust betr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shall forever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19:50:12Z</dcterms:modified>
  <cp:revision>137</cp:revision>
  <dc:subject/>
  <dc:title>PowerPoint Presentation</dc:title>
</cp:coreProperties>
</file>