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BA4-7D78-4EA3-8C79-53E29040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C06-BD21-4286-8710-44895C6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260-F6C2-45E4-86C5-321B1E8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A26-3491-44A0-B5B1-0E25803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46E-703C-41CC-BDF8-B4BF52BC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89D-0EA4-44A9-9718-4469A99E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4D9-C508-4D2B-99C5-A53CD4C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02F-D42E-4CA1-B201-686AD3D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773-101E-408A-81D0-11039E2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0DD-B51A-46AE-B252-68F3B36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B5A-000E-4B25-8CA2-CA9EDB6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867-E7BD-4A51-A18F-F418332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784-8C6C-4C96-9DE9-D0F18ABA7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command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love one an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have love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8 S T Kimbrough, J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5960" y="1190520"/>
            <a:ext cx="75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mans 12:9, 16; Song of Solomon 8:6-7; 1 Corinthians 13:4-8;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olossians 3:12-14; 1 John 3:18; Tobit 8:7; Psalm  127:1, 34:8, adapt. by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 T Kimbrough, Jr.; Response 1, John 15:12, Response 2, Ephesians 5:30, 31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builds the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abor is never in v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e refuge in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are redeemed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two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92200"/>
            <a:ext cx="85345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love be genu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ive in harmon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te what is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d fast to what i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d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howing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ever concei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stronger than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jealousy is cru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gra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loods cannot drown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alth cannot buy it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love above all el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Christ’s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ule your hear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be for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Christ has forgiv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not jealous or boas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rogant, rude, or stub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rritable, resen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r possessi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ve is patient and kin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love in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speech on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ve also in deed and tru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ceive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ince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d merc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ow ol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5238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joices in the 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bears, believes, hop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ures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love is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less.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5:53Z</dcterms:modified>
  <cp:revision>31</cp:revision>
  <dc:subject/>
  <dc:title>PowerPoint Presentation</dc:title>
</cp:coreProperties>
</file>