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302-E9F8-4533-9004-32306FC5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60A-AD6A-42EE-9789-46309237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91C-EE92-43A9-A96B-F7AEFB44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F50-DF3D-4332-A087-5F618CC8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630-1715-421D-8FA7-15114E7C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B8C-5CCC-4D71-B597-C9BAE3DF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718-DE08-4CED-815F-63A87BC8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F01-8434-4B58-80E0-93B3F19C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2F0-1130-49EB-A790-1729FE1C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75D-8945-4C58-93F0-FF0A946E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B25-448C-465A-BEC7-C06D468D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CA3-E3D8-457E-A9CF-81164134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78DD-8AEA-4DA1-97A8-7C69D7F5F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Kum Ba Yah</a:t>
            </a:r>
            <a:br>
              <a:rPr sz="4000"/>
            </a:br>
            <a:r>
              <a:rPr b="1" lang="en-US" sz="3200" spc="-1" strike="noStrike">
                <a:solidFill>
                  <a:srgbClr val="99ccff"/>
                </a:solidFill>
                <a:latin typeface="Times New Roman"/>
              </a:rPr>
              <a:t>(Come By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Kum ba yah,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,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3400" y="1523880"/>
            <a:ext cx="3417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et us praise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praise the Lor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praise the Lor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,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47:57Z</dcterms:modified>
  <cp:revision>38</cp:revision>
  <dc:subject/>
  <dc:title>PowerPoint Presentation</dc:title>
</cp:coreProperties>
</file>