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0530-4498-4AF4-8522-8FB2698E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EF7-A6F3-4CE1-8A92-84EFC8B8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39D-60FC-48BC-B468-774C6155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AFD-A212-4B54-9920-0EFCB30E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DFC-1999-47E5-A1DE-5F3582B4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101-DABD-4F08-BB6B-C4F060A5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5FD0-F7A7-42E8-B46A-3FD8AA0A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EFC-2BB3-47B9-9199-9EC12256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468F-A315-4C38-838D-A3F4F7C5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5C55-0310-4890-B0CC-1ED4EA99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0B0D-35F2-41E0-AB9A-AE076BB2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F5D7-6BF0-486E-A295-5D2842BD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D75A-CA55-47CA-A396-188EB5FE7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92468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God, Our Help in Ages P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 O God, our help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 ages past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ur hope for years to com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ur shelter from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 stormy blast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d our eternal ho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ur Help in Ages P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3760" y="1143000"/>
            <a:ext cx="408996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Isaac Watts, 1719 (Ps. 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47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Under the shad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y thr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may we dwell secur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fficient is th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m al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ur defense is 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Before the hil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order sto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earth received her fr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everlast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art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endless years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47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A thousand ag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y s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like an evening gon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rt as the wat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ends the n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fore the rising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47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Time, like 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 rolling stre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rs all who breathe awa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fly forgott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a drea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ies at the opening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47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O God, our hel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ages pa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hope for years to co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thou our gu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life shall last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0:40Z</dcterms:modified>
  <cp:revision>34</cp:revision>
  <dc:subject/>
  <dc:title>PowerPoint Presentation</dc:title>
</cp:coreProperties>
</file>