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85A-D3F3-4966-AFB4-24E7F4A6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762-F6C4-47CA-9401-FC16A683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F58-420E-402E-80A3-0BE9A37A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040-72B9-45A4-B45D-9912A803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37F-5093-413E-A31A-C8E1068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56F-732A-4C44-A6C8-9318A12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328-1A53-467C-9927-F08E961F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AF4-C93A-4AFE-A41E-755325AC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51C-4BE4-42C8-8AB9-691F94D8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FCB-0C53-4555-98EF-05DF607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8EC-E241-4F31-BAEE-A7CC61A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F3E-162C-428D-971C-C9300FF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093D-F5DD-49C5-B0A5-B1E9CDA0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 Tierra Lejana Venimo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From a Distan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sirve de gu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63, 1980 Walter Ehret and George K. Evans, 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6960" y="1573200"/>
            <a:ext cx="757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Puerto Rican carol; trans. by George K. Evans (Mt. 2:1-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see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ar 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8:34Z</dcterms:modified>
  <cp:revision>18</cp:revision>
  <dc:subject/>
  <dc:title>PowerPoint Presentation</dc:title>
</cp:coreProperties>
</file>