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B1D-D0D5-494B-B3AE-99275B56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D4C-020B-403F-90CA-7A547F53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16E-38BF-4FBC-8496-B8C64297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44C-BC6A-4765-96F0-0AEB61A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A8F-EC01-4DDC-838F-75A481C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0DC-1FD6-4E7E-A441-8DDA403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283-908E-45F7-91C5-F5F84834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94F-356D-4F43-8675-7F8555A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2A-5D7E-46E2-BCA1-78D36ECD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3BA-3F79-4F53-9A0E-ACE98C4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13D-32E2-420B-B936-6D158D4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BED-4EC6-4C98-92E4-330A286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C5BA-81EF-41FC-BC5F-EF95ACB6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orning has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ackbird has sp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b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 by permission of David Higham Associates,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2000" y="1092240"/>
            <a:ext cx="540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0:11Z</dcterms:modified>
  <cp:revision>9</cp:revision>
  <dc:subject/>
  <dc:title>PowerPoint Presentation</dc:title>
</cp:coreProperties>
</file>