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3F72-770A-422C-B84B-52DEAFB0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6A61-FDF6-4C4B-9AD5-FE98AE8E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21DC-86B9-4EA2-9741-1EFA44B2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DE0F-E09F-41BC-A84B-9AFA2F8D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815D-CF12-4151-B444-24BCA7E1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65B7-9DEE-41B6-AD8D-4D7D26D7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6CAB-916E-4225-93C0-FC5237DD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D573-A8F1-476C-B87E-C0CA0CC9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53E7-082F-4CA6-8AC0-FDDE4B6E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6932-3740-4751-9C7F-C9153B66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0A3B-B5FC-4B5D-B0C2-CDFD188A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AB08-B615-47DA-9686-FBBD3311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B399-CCE4-4C35-A1C2-99C085D2D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aw-Kee, Aim Daw-Tsi-Taw</a:t>
            </a:r>
            <a:br>
              <a:rPr sz="36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Great Spirit, Now I Pr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w-Kee, Aim Daw-Tsi-T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Kiowa Prayer, para. by Libby Littlechief, 198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90920"/>
            <a:ext cx="9144000" cy="358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AW-KEE, AIM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AW-TSI-TAW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O-AW-BAY TAW HA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82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84560"/>
            <a:ext cx="914400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AW-KEE, AIM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AW-TSI-TAW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O-AW-BAY TAW HA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552680"/>
            <a:ext cx="91440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PBAY-GYA KEE AAL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AI DAHM GYA DAW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AW-KEAH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PBAY-GYA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YAH TSAHN-DAY-TOA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Spirit, Now I Pra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reat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w I pray to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pray now to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reat Spirit, hear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soul is wea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w I pr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your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ll dwell i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1:07:00Z</dcterms:modified>
  <cp:revision>91</cp:revision>
  <dc:subject/>
  <dc:title>PowerPoint Presentation</dc:title>
</cp:coreProperties>
</file>