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586-4CF3-479F-9F6C-BA1FFBE7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C6E-3DAD-41D4-A9D6-5AF81174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837-36D8-4244-817B-0AB5171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A14-A22C-47BB-9A38-56EF1171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52F-725B-4E44-BD60-E47CACCC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6D5-7B03-4F09-86BA-88025D66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6C7-361D-4CE5-9456-F6BEF39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59C-996C-4207-86B8-6625DD9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8F6-A624-460C-8662-1A81863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C69-A888-434B-BE45-49139B9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B42-E580-4C95-B415-591EED9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658-D500-4A56-AF39-7BE0366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CDF-DBBD-4D32-A0EE-6270C4DFC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 in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6080" y="1219320"/>
            <a:ext cx="6407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Edward H. Plumptre, 1865 (Ps. 20:4; 147:1; Phil. 4: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74320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ward flo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4320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1952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33Z</dcterms:modified>
  <cp:revision>24</cp:revision>
  <dc:subject/>
  <dc:title>PowerPoint Presentation</dc:title>
</cp:coreProperties>
</file>