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F58E-1F30-4482-97AE-27E28F2F4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A6E4-2C68-46EC-956F-C4F82437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A4AA-0452-4359-89FE-0D9567C40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59B1-8383-4EAB-9681-F7DA3D591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DA0E-8781-4742-81C5-B0CFC8D8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739B-DB51-4CD3-84D5-8F355CE9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EC1E-454D-4A5C-B2E0-FB45A445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6582-5B65-40EC-ACDB-B39DF55A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0F1D-2290-4BFF-8E7F-66B8CB22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2CD5-C869-4329-938B-8F1FD5CE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E4A4-16B0-4840-8136-1937A3E4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8C8B-5846-4252-9425-EC8B9F69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F515-EDA0-4B6B-BA33-34D4EE3E0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way in a Mang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1. Away in a manger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no crib for a bed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 little Lord Jesus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laid down his sweet hea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y in a Mang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3440" y="990720"/>
            <a:ext cx="3091680" cy="414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WORDS: Anon. (Lk. 2: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stars in the sk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ok down where he l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little Lord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sleep on the h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The cattle are low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baby awak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ut little Lord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 crying he make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y in a Mang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love thee, Lord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ok down from the sk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stay by my crad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ill morning is n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Be near me, Lord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ask thee to st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lose by me fore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love me, I pr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y in a Mang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less all the dear childr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thy tender ca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fit us for hea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live with thee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3T19:34:44Z</dcterms:modified>
  <cp:revision>61</cp:revision>
  <dc:subject/>
  <dc:title>PowerPoint Presentation</dc:title>
</cp:coreProperties>
</file>