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079-C15A-405A-9523-AC914A87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B46-D89C-47E4-98A1-8685249C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5F9-1D3E-4588-9176-41BDE928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6F5-C671-468A-91C3-B14A03E9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7DD-1A8C-4693-8B0D-8F7BDA2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BEA-C640-4187-90C6-5751AD0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294-98E9-449D-A590-041F085F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732-EAFC-4A6A-893E-3FC3B0D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FF1-5BF5-4204-96D6-308E47F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71E-92BE-4333-910E-DDDC853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F89-C382-4BED-9654-911E48D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7A2-6D52-4711-889C-30D2BCD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9356-6315-466D-9BF5-1E95D092B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Ye Faithful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aise the S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n of Damascus; trans. by John Mason Neale, 1859 (Ex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 ye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st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riumphant gladness;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th brought forth Isra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to joy from sa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” with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Father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Alleluia!” yet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pirit ra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sed from Pharaoh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tter yo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sons and daugh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d the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moistened fo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Red Seas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’Tis the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ouls to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hath burst his pri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om three days’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 in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a sun hath ris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winter of our s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 and dark, is fl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i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we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ud and praise und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w the que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sons,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day of sple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roy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 of fea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its joy to rend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o glad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th true affe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come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wearied str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either migh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es of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e tomb’s dark p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e watc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e s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thee as a m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oday am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wel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didst stand, best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y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eth human kn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“Alleluia!” now we c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King im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,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rst the b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tomb’s dark p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25:49Z</dcterms:modified>
  <cp:revision>72</cp:revision>
  <dc:subject/>
  <dc:title>PowerPoint Presentation</dc:title>
</cp:coreProperties>
</file>