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8F0-66E2-4B4A-AA76-57967315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102-42C3-4B74-8F72-66081503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018-F4CC-4204-9826-4DE5CAA6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AF7-9553-4B40-824C-3F83340A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6DA-1878-4A7A-9F37-177F440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20C-607B-4E5A-808C-01BDDB87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769-77DF-4DC6-96B5-A6AD3C95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801-27CB-4C4B-ABCC-571FF1E7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CEE-7A90-4D78-BFBF-26BDBC56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6F1-7C46-44EE-8D80-EB155353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5A6-EE5C-4FA2-BD44-B4203FF2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311-CA4F-4C13-BD64-1B64D75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461E-D1B4-4FBC-AEFB-8F4A73567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Meet You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532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meet you, O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any a gu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image we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imple and w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8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79880" y="111600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ed Kaan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live in a pal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xist in a shack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 you, the garden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ree on your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 millions a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y and abroa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volved in our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live down the 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prisoned in system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long to be fr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 you,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bearing your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 hear you, O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gony c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freedom you ma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riots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ace in the pap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ad and we s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ee must be plan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uman dec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You choose to be m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one with the ea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ark of the gr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pares for your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death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r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ative your w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ee springs to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ur hope is rest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15Z</dcterms:modified>
  <cp:revision>14</cp:revision>
  <dc:subject/>
  <dc:title>PowerPoint Presentation</dc:title>
</cp:coreProperties>
</file>