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769-80F9-4599-8EEB-E4171C39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27B-7A63-4D83-95F8-15E9F55C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F00-AC89-45BA-86E5-9C4ED57B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910-C0BB-4DEB-B5DC-2B9EE5F4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5B6-65BF-42B3-9FF9-3247360F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250-2BB0-4953-8707-9AB408E3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304-A304-4155-AFEA-3394587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71D-78FF-449F-9B7B-7EDE7692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3A2-DE59-4768-80E0-8A78431D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DF1-8B33-4BDD-B4C8-D371357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C63-A7AC-4892-B09B-4937805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5C9-E30A-4662-A355-A2F3B33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960-AF39-4B51-B182-A402115B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nely the Bo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onely the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ling at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ed on a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rmy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7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90720"/>
            <a:ext cx="7329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Helen Kim; trans. by Hae Jong Kim; para. by Linda and Doug Sugano; 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versed by Hope Omachi-Kawashima, 1987 (Mt. 8:23-27; Mk. 4:35-41; Lk. 8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“Storms in our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uel and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will arise ag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ing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ing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life’s wil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ful and gr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hand is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mly in control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calm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s from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comes to my lone soul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uel the se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eemed so w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aves so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single shi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led the deep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ight into the gal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is the per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ngers to all ass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rong winds ar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their 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ing the tiny lone boa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ves billowing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ing the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and aflo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lor st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ing what to d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helpless was h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ing what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rembling with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ep in despai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for help all a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lor sa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from abov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Help can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od is 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small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ing by my s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I trust in the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n my lif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“Pleading for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y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n a sinner lik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and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m to the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Galil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save m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ll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t a peaceful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l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merciful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imes of calm and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56Z</dcterms:modified>
  <cp:revision>18</cp:revision>
  <dc:subject/>
  <dc:title>PowerPoint Presentation</dc:title>
</cp:coreProperties>
</file>