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62D-77BD-4E8D-B813-3A2C5518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CC8-C71D-4F5B-A28D-C6F06362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FDB-2BFD-4A18-9811-CFAB6B3E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F25-681E-4473-A91F-900BC862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CF8-806C-4FE5-881B-F1459A72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61B-11B6-472E-AF19-11AFD761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77A-7A36-43AD-9D84-C3241643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147-BEDC-4E04-8012-5FC5A42E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3EA-248E-4067-B6DE-3C83B40D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6BA-979B-4754-B2DB-8FF004CC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C65-E65B-4BA8-864A-5E91630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0FE-C2EF-4EBA-8904-191081F1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CBE5-46C2-46EC-982D-90D102200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2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the Spirit of Tr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ayer from Ken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m the cowardic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dares not face new tru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m the laziness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s contented with half-tru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pirit of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9320" y="2600280"/>
            <a:ext cx="84646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m the arroganc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inks it knows all tru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od Lord, deliver me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44:18Z</dcterms:modified>
  <cp:revision>13</cp:revision>
  <dc:subject/>
  <dc:title>PowerPoint Presentation</dc:title>
</cp:coreProperties>
</file>