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5D7-15EE-442C-8228-219D56E9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64E-8622-44B8-BE38-6F89F918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231-3C76-4308-8156-F81F7E8A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FAE-F25C-49F5-AE22-1E512DF1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AD7-1864-4F00-856A-2CC64B46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5A1-2C45-4A48-88B9-09726290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FA9-1E5A-442D-BF31-5C70D466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E8D-DF6A-4EA2-A46F-848E9188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585-C45C-4D1A-A78C-3E85F33C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805-1332-48DD-A4D5-E383A7B8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E43-28C8-4134-9A11-F8900E73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56A-6E23-41C5-A540-47A344AC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14D2-58EE-4CC7-84D5-9FF25A006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915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Jo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Friend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ome, let us jo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friends ab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have obtained the priz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2800" y="1600200"/>
            <a:ext cx="2919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Charles Wesley, 17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 ar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argin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 expect to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’en now by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join our ha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ose that went befo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7432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ee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ood-besprinkled ba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eternal sh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ur spirits to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quickly jo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irs with glory crown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819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out to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Captain’s sig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ar his trumpet s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819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hat we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ght grasp our Guid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hat the word were giv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971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Lord of Hos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ves div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and us all in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7432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 the eag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ngs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oys celestial 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7432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saints on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ite to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ose to glory g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718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ll the serva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arth and heaven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ne family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well i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church above, benea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now divi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 strea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arrow stream of dea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army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iving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is command we b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rt of his 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ve crossed the fl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art are crossing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en thousand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endless h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solemn moment f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11:07Z</dcterms:modified>
  <cp:revision>52</cp:revision>
  <dc:subject/>
  <dc:title>PowerPoint Presentation</dc:title>
</cp:coreProperties>
</file>