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0DD-952E-45FD-B839-23B0240A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3BA-FF44-4D20-9BDC-17512CE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430-760E-4D4E-97F3-AF26729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3AA-1904-4BE0-BF86-61E1775B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1C7-478C-40D0-8E4B-6CB30CF1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02B-81DB-47C5-8CDB-8E6BB4BA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D2F-F921-437B-9585-879FE68B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2B5-4574-486F-B64A-F4ECFA70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8BC-895A-42B0-806D-F710D56A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31A-504C-45D5-B89D-E0B35E5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A54-CB20-41FB-86B2-34152F7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BC4-3294-4D40-AC48-CF47383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837D-BF2E-45D4-AB0C-FAC2588F0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Jesus Came to Jord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830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o Jord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baptized by Joh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d not come for pard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as the sinles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9040" y="1116000"/>
            <a:ext cx="7255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Pratt Green, 1973 (Mt. 3:13-17; Mk. 1:9-11; Lk. 3:21-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 repent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ll who mourn their s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ak the vital sent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ich good news beg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 ca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 tempt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utmost woe and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and our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ie up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ve desce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him, the Son of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dden years had 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ge of grace beg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, ai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e vows we m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very day inva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bondage br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giv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s dire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ift we covet mos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are the resurre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s to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41:46Z</dcterms:modified>
  <cp:revision>11</cp:revision>
  <dc:subject/>
  <dc:title>PowerPoint Presentation</dc:title>
</cp:coreProperties>
</file>