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50F-0979-4DFC-B6EF-B5D5B2C3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EE66-0A5D-4EA2-BFEF-591C01DE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0AD-3A2E-4A6A-8366-8FFEFC5E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2D6F-75F2-42FD-B3CB-4ED8C747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2558-2A63-4ED2-BC22-B8DD8B56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B20-0FD7-494F-9DF0-8558D5AD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DD7E-FAC4-4D55-B3DD-F6510924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21F-6AAC-4D20-A26B-9F334854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DB94-1587-45EE-AA63-4D5F9D64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163C-C19A-4907-A8F2-78EA09DC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7D17-E36E-4DEE-8B98-E925171F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35E2-66B6-4B0D-8FA2-50673A13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6C70-3643-4E26-A36D-1A2197259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f Thou But Suffe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to Guid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f thou but suff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to guid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ope in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all thy way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Thou But Suffer God to Guide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720" y="1600200"/>
            <a:ext cx="8228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Georg Neumark, 1657; trans. by Catherine Winkworth, 1863 (Ps. 55:2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give streng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e’er betid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ear thee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evil 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61240" y="3433680"/>
            <a:ext cx="622188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trust in God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changing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ilds on the roc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naught can m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nly be st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ait God’s leis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cheerful hop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heart conten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Thou But Suffer God to Guid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ake whate’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Maker’s pleas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-disce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hath sen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35200" y="3433680"/>
            <a:ext cx="56718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know our inm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nts are kn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we are call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God’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ing, pray, and kee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ways unswerv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do thine 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rt faithfull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Thou But Suffer God to Guid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rust God’s w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gh undeserv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yet shalt find 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ue fo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52120" y="3433680"/>
            <a:ext cx="563652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never y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sook at ne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oul that trus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nd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7:38:09Z</dcterms:modified>
  <cp:revision>36</cp:revision>
  <dc:subject/>
  <dc:title>PowerPoint Presentation</dc:title>
</cp:coreProperties>
</file>