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6203-98C1-40EA-866F-E0C371CC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7B66-2963-4576-A4A8-2CAC39D1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4245-079E-4DE4-8FAD-DF137449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83C9-9EEA-4494-9564-859B428E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54CA-6DEB-4891-9CCE-BE70CEC3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6D82-6FD1-492F-A232-FF4ADB2A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2F7B-076E-457D-BE86-FF5E2160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1521-74B6-4565-BFF8-6FF15D8D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3CC8-75C9-455F-A663-6A1A761E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EB62-6CBA-48D5-9276-E04308B3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C883-5564-49C7-9AA8-AEDD6AAE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2892-037F-4F4C-8BFA-571DD304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D7FD-D87A-4552-9F1A-8859ACBD4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ake, Awak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Night Is Fl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ake, awak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night is fly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atchmen o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ights are crying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wake, Jerusalem, at las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ke, Awake, for Night Is Fly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8720" y="1852560"/>
            <a:ext cx="622656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Philipp Nicolai, 1599; trans. by Catherine Winkworth, 1858</a:t>
            </a:r>
            <a:br>
              <a:rPr sz="1600"/>
            </a:b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(Rom. 13: 11-12; Mt. 25:1-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one pear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ch shining port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we 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choir immort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angels rou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dazzling thr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eye hath se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ear hath y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tained to h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there is our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we rejoi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ing to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hymn of j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dnight hea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elcome voic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t the thrill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y rejoice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forth, ye virgi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ight is pa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ridegro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s, awak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lamps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adness tak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or his marria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ast prepa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ye must g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eet him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Zion hea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atchmen sing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 her he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joy is spring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e wakes, she ris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her gloo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ke, Awake, for Night Is Fly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her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s down all-glorio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trong in g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ruth victoriou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 Star is ris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 Light is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h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blessed 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own beloved Son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follow till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alls we s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thou hast bi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 sup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Now let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avens ador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aints and ange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befor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harp and cymbal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earest t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ke, Awake, for Night Is Fly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06:00Z</dcterms:modified>
  <cp:revision>58</cp:revision>
  <dc:subject/>
  <dc:title>PowerPoint Presentation</dc:title>
</cp:coreProperties>
</file>