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8701-734E-4BF7-A8AD-4DA47F82E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1471-29ED-4A84-AF45-AD0145689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D6C2-7CA8-4E0D-826D-8CEEA261C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7478-A0B5-479C-9ED1-DF786F48E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2843-47D1-48AF-A00D-E2C7B8AF6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CFE9-8C6B-49AB-9B7D-D23C82B0C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E45F-DC16-4E93-ACA7-26937C48F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666E-2BEE-4B28-9231-7A889F8FB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1DBF-2AA1-4CDB-B7BA-C8370FAC4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B31E-BE52-449F-AFB1-80F411DCA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C934-E396-4942-B934-23C16CA5F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6393-DF6B-4995-B42F-D4FB97E35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8D3A3-EC6E-4D75-A105-5016F74886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Hallelujah! What a Savi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16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146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1. Man of Sorrows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hat a nam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for the Son of God, who cam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ruined sinners to reclaim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allelujah! What a Savior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llelujah! What a Savio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410200" y="1015920"/>
            <a:ext cx="43185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WORDS: Philip P. Bliss, 1875 (Is. 53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14300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2. Bearing sham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scoffing rud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n my plac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ondemned he stood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ealed by pardo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ith his blood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allelujah! What a Savior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llelujah! What a Savio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9051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3. Guilty, vil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helpless w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potless Lamb of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God was h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full atonement can it be?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allelujah! What a Savior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llelujah! What a Savio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2880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4. Lifted up was he to di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“It is finished!”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as his cry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now in heave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exalted high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allelujah! What a Savior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llelujah! What a Savio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14300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5. When he come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ur glorious K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ll his ransom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ome to br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en anew thi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ong we’ll sing: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allelujah! What a Savior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llelujah! What a Savio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12T17:02:39Z</dcterms:modified>
  <cp:revision>28</cp:revision>
  <dc:subject/>
  <dc:title>PowerPoint Presentation</dc:title>
</cp:coreProperties>
</file>