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7FF4-D86E-4353-99D2-80FFFB046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639A-4827-4C5A-A6A6-5135F3B5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AAAC-D49E-4595-B0E5-21A77E207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B760-8676-47F6-91A8-2A731A017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664D-D6BD-40FB-B3C3-4ACF4364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01E1-27FF-4BB4-9D24-5EA97B7C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04B3-B78F-4E86-8DD9-8B72E7EB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6E38-57D5-4531-B5F1-C807FA19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4754-CBD8-48AC-A180-0D0CD743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43A0-D5C2-479E-ADDE-56B2C417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159A-AEC8-4F3E-B628-474CEBE6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792D-8051-4124-B04F-3C8EF626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2AA5-4FD7-4122-905A-090D2B706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is Little Light of M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8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This little light of m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m goin’a let it sh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little light of m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m goin’a let it sh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Little Light of M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African American spiritual (Mt. 5:14-1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little light of m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m goin’a let it shin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it shine, let it sh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it shine.</a:t>
            </a:r>
            <a:r>
              <a:rPr b="0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let it shin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Everywhere I g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m goin’a let it sh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everywhere I g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m goin’a let it sh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Little Light of Mine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where I g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m goin’a let it shin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it shine, let it sh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it shine.</a:t>
            </a:r>
            <a:r>
              <a:rPr b="0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let it shin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All through the n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m goin’a let it sh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all through the n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m goin’a let it sh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Little Light of Mine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rough the n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m goin’a let it shin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it shine, let it sh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it shine.</a:t>
            </a:r>
            <a:r>
              <a:rPr b="0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let it shin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8:30Z</dcterms:modified>
  <cp:revision>91</cp:revision>
  <dc:subject/>
  <dc:title>PowerPoint Presentation</dc:title>
</cp:coreProperties>
</file>