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2B47-6FAE-4FD8-A35A-A7CBC91F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00F7-A03E-42A0-9BBD-D79FB464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BA6C-F5C0-4F77-ABB1-2E7107FA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A316-6F08-4627-B280-4CFA37E5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DB08-2861-42F6-8D3E-3C6C48C3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5A97-B826-4CC7-B72B-897708A5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3151-E70C-4451-814D-48C99C03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8B3A-E4C4-47F7-9F99-181335AA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D08-360C-402C-B56A-B74B06CF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18DB-E79D-4E6A-A37B-FC38E4FB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CDCD-5071-4B11-A99D-9FAD52C7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DED2-A9AA-476F-AE04-B6F88261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311B-0E8A-4AE6-A0A0-DED5A837B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ail the Day Tha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es Him 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 Day that Sees Him 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Charles Welsey, 173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1. Hail the day tha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ees him rise, 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his thron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bove the skies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19040" y="3429000"/>
            <a:ext cx="830592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, awhile t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mortals given, 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Reascends hi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ative heaven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There the gloriou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riumph waits, 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ft your head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ternal gates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 Day that Sees Him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19040" y="3429000"/>
            <a:ext cx="830592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hath conquere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ath and sin, 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ake the K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f glory in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See! the heave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ts Lord receives, 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Yet he loves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arth he leaves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 Day that Sees Him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19040" y="3429000"/>
            <a:ext cx="830592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ough return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his throne, 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till he calls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orld his own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4. See! he lifts hi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ands above, 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ee! he shows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prints of love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 Day that Sees Him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19040" y="3048120"/>
            <a:ext cx="830592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ark! his graciou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ps bestow, 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lessings on hi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urch below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5:23:50Z</dcterms:modified>
  <cp:revision>68</cp:revision>
  <dc:subject/>
  <dc:title>PowerPoint Presentation</dc:title>
</cp:coreProperties>
</file>