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DFB-62AC-41EC-BFF9-00150C20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872-82D0-4FBD-B5BD-13CFDD26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1B9-E121-4E28-B8D1-167B5BB0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486-4FEE-44AF-80B1-6BF7B287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CCA-3ADB-44FD-9BA7-566DADFE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CA0-A479-437F-93BB-491656F6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15F-07B5-4750-AD0D-012E3E6F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6A4-0BD5-47D5-8188-A59CCED1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C9A-D754-428E-92DC-0ED67FA5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39E-AFF4-4E05-88B5-8CF8FFF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0F3-3AEB-43F1-A765-878089F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6FD-4073-483B-B48F-6A18585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BA4D-6187-4AB0-B790-8B465CC3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ine eyes have s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y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29040" y="1166760"/>
            <a:ext cx="488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sifting ou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of m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s judgment sea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6765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the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lilies Chris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across the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bosom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nsfigures you and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7524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He is co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glory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on the wa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wis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mighty, h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nor to the b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he world sha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ootstool, a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of wrong his slav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trampling out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ntage where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pes of wrat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t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6765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th loos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eful lightning of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rrible swift s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have seen him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-fires of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ndred circling camp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have build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altar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ning dews and dam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ence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051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e has sounded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that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call retrea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40Z</dcterms:modified>
  <cp:revision>54</cp:revision>
  <dc:subject/>
  <dc:title>PowerPoint Presentation</dc:title>
</cp:coreProperties>
</file>