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84BB-C06F-49F6-AB4E-B8C3DEB31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7E0A-2371-41F2-BAF4-0D0D9DBB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DE48-5553-448B-AE80-57243C873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C6B7-08EC-4037-B821-7CE2B379F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20FB-399F-48B6-9442-3929E828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8804-025F-40FA-B07E-09E238A2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1B53-4763-4BAB-9A8C-F4FEC30E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9E9D-DE1A-4BB1-A47C-4431DA6B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1747-9D1E-46B2-A529-EBC179E3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F306-065E-41B4-A226-98932135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A4B3-8F98-4F60-8B34-B92B5153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19C7-4D82-425C-955B-5FD89415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36E8-609D-4A66-B989-4BC455BCD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Strife Is O’er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Battle D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rife Is O’er, the Battle Do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600200"/>
            <a:ext cx="908856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Anon. Latin, trans. by Francis Pott, 186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90920"/>
            <a:ext cx="9144000" cy="3107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ntiph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4382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1. The strife is o’er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e battle done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e victory of life is won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e song of triumph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as begun: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rife Is O’er, the Battle D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2. The powers of death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ave done their worst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but Christ their legion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ath dispersed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et shouts of holy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joy outburst: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rife Is O’er, the Battle D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6765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3. The three sad day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re quickly sped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ises gloriou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from the dead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ll the glory to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our risen Head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rife Is O’er, the Battle D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4. Lord, by the stripe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hich wounded the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from death’s dread sting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y servants fre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at we may liv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sing to thee: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rife Is O’er, the Battle D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666880"/>
            <a:ext cx="9144000" cy="3107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ntiph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rife Is O’er, the Battle D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4:59Z</dcterms:modified>
  <cp:revision>62</cp:revision>
  <dc:subject/>
  <dc:title>PowerPoint Presentation</dc:title>
</cp:coreProperties>
</file>