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59D-8E01-460C-B691-0C59A5B7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368-18F8-4986-A6FE-A160C24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19E-C09D-4AD0-A27C-95B5EEBF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988-0A3E-429B-8FAF-0F98AE6F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41A-D78E-44E0-80F3-8DC90603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498-FADA-4926-B139-0E8DDF1B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198-6C4D-4227-BEDD-53A26B14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CEC-BA36-4B96-8901-7446C856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F1D-D43F-4160-B188-53E0C4CA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429-7636-47A9-82A6-F2DC4EC6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303-240D-4C79-AC42-A43A8AAA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699-9DCD-4B34-8FDD-5E992924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9CB5-76F8-4B75-A038-2BB1C21B3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et Us Pray 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pray to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ray to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6800" y="1905120"/>
            <a:ext cx="83772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Let us pray to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Christ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83818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Let us pray to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3:22Z</dcterms:modified>
  <cp:revision>28</cp:revision>
  <dc:subject/>
  <dc:title>PowerPoint Presentation</dc:title>
</cp:coreProperties>
</file>