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F3B-1473-4A37-825F-44E67C70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181-75E5-4514-930D-BDCC5C33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8C2-F5C2-4539-BAC4-0778D866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B5F-684B-4B47-ACBA-391A26A4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81C-0240-46E4-9ED0-899944E5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B05-8DF6-4135-BC2E-BB95E713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C50-7FB8-49DD-A574-7E01CE6E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38F-CEE6-40CD-BFBB-C8AFA026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863-6193-4781-A167-BDA7BFE1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377-B2D5-4EC1-8012-07DA51A4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BDB-3E8A-4C9B-A8EC-53A409F0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EAC-1145-4551-ACF8-EAF67AFF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7C42-4FD9-4E05-BCD2-406E4D76D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Am Thin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am thine, 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heard thy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t told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to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0800" y="1063800"/>
            <a:ext cx="4080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anny J. Crosby 1875 (Heb. 10: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kneel in pray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h thee, my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mmune a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iend with frie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 -  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earer,     nearer,)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re are depths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 cannot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I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arrow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are heights of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 may not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I res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 -  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earer,     nearer,)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I long to r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arms of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 clos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 -  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earer,     nearer,)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onsecrate me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service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powe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y soul look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 steadfast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wi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t in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 -  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earer,     nearer,)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the pure de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 single h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efore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e I spe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09:22Z</dcterms:modified>
  <cp:revision>11</cp:revision>
  <dc:subject/>
  <dc:title>PowerPoint Presentation</dc:title>
</cp:coreProperties>
</file>