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8439-E907-4F79-AB8F-370A93D7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D579-364F-4D37-BE72-B8C8426A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09AB-6337-4B75-9ACD-9A7346E6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6D80-1131-4EAB-9722-3CF85CFA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ADA-7087-47C7-AEA0-0CE51B8D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AD5C-FF09-48D5-A845-01855214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7099-ABFE-4D66-8CA0-0FCE06F9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D56E-A9DB-4AA1-9864-CADE800C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F512-2020-4660-867F-3D0BA59A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E843-6819-4B3C-97EF-83CCA179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E028-D167-4A17-8AA9-93A046D1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7644-1D93-4E1F-960E-7EEACD6B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5151-6EEB-473D-BB82-ACC631F13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nt Forth b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d’s Bles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304920"/>
            <a:ext cx="12952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t Forth  by God’s Bles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Omer Westendorf, 19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9144000" cy="442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ent forth b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’s bless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ur true faith confess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y people of Go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rom this dwelling take le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© 1964 World Library Publication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service is ende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now be extende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fruits of our worship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all who belie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seed of the teach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receptive souls reach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hall blossom in actio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or God and fo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’s grace did invite 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love shall unite u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work fo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’s kingdom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answer the c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praise an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anksgiv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God ever liv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tasks of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ur everyda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ife we will f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t Forth  by God’s Bles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ur faith ever shar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love ever car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embracing God’s childre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f each tribe and 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your grac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you feed 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your light now lead us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unite us as one in thi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ife that we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n may all the liv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prais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thanksgiv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ive honor to Chris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that nam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hich we b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9:30Z</dcterms:modified>
  <cp:revision>155</cp:revision>
  <dc:subject/>
  <dc:title>PowerPoint Presentation</dc:title>
</cp:coreProperties>
</file>