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016-0F64-48BD-85E3-D29B6A5A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D01-33F1-4B8C-A3E3-85760E7E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80F-FB91-4981-8674-6BD114DB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32A-21C8-4CD9-AB33-F7A43F40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DEB-E17A-44A7-A13E-36A8AB82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FE8-179D-496F-AFB7-2CCAB9C0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AD7-4817-4B93-8D61-C8F06138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CD5-90B0-427B-AC37-92D85940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F83-C185-4EBF-BBA6-C5AFB4FA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52B-3AF9-4B7F-9CD5-4509BFDC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9F2-3A4A-46CC-BA35-5DB7082A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8F0-2E66-4E6F-A3DD-3285417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893C-F559-4E78-87A3-576B0454B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Jesus’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angels prostrate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let angels prostrate f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2240" y="1701720"/>
            <a:ext cx="6782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dward Perronet, 1779; alt. by John Rippon, 17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rrestrial b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rrestrial b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810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 ascri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tar c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who fro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tar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810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eet may fal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we at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eet may f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2880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743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f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who s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by hi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g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g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2880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 spread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ophies at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2:57Z</dcterms:modified>
  <cp:revision>17</cp:revision>
  <dc:subject/>
  <dc:title>PowerPoint Presentation</dc:title>
</cp:coreProperties>
</file>