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3700-9164-439B-B981-9775BF6B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F548-6CD6-4A00-90F0-4D2C5B66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0CA4-84EB-48F4-9E80-66F6D224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3AC3-68AE-4F13-829D-725F2DD48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BF34-6347-4656-B42F-9255BF98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F334-CA45-4488-8BA6-C198B400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E4D0-39BD-41DC-B0A6-470D8FCD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CE73-2349-42DF-A980-96F717A8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C125-F767-44C0-9B9B-4C057032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C814-CC80-4366-A1DD-139B75D5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8CA7-8EC4-42F0-A5B2-2234AA05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0535-C4B5-47B8-A1FB-F6F2CDAD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7BAD-7BF2-449D-A9D4-BFCC14FB7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t Came upon th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idnight Cl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74320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1. It came upon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 midnight clear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at glorious song of old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Came upon the Midnight Clear 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22280" y="1638360"/>
            <a:ext cx="4699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Edmund H. Sears, 1849 (Lk. 2:8-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8912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from angels bending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near the earth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o touch their harps of gold: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“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eace on the ea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od will to m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om heaven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gracious King.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world in solem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illness l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hear the angels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Still through the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loven skies they co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peacefu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ngs unfurl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still the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avenly music floa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’er all the weary worl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Came upon the Midnight Clear 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bove its s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lowly plai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y bend 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vering w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ever o’er i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abel soun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blessed angels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And ye, benea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fe’s crushing lo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se form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re bending l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toil al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climbing w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painful steps and s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Came upon the Midnight Clear 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ok now! for gl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golden hou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me swiftly on the wing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rest besi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weary ro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hear the angels s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For low! the day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re hastening 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y prophet seen of o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en with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ver-circling yea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come the time foretol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Came upon the Midnight Clear 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en pe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over all the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ts ancient splendors fl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whol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end back the s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ich now the angels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5:18:29Z</dcterms:modified>
  <cp:revision>65</cp:revision>
  <dc:subject/>
  <dc:title>PowerPoint Presentation</dc:title>
</cp:coreProperties>
</file>