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ACD-A288-4C43-A7A7-D35006A8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CCB-42D7-4042-B074-DC87FC4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B61-EE89-420C-95BC-BFB0CC51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820-DA82-49C8-A57B-DC9306CA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534-C672-4E30-A2CF-8F384022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F12-7BAE-4A2E-BEFD-02D05F17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8C2-790E-44D2-996F-2CE78374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DC5-1064-458D-8C70-94361010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E94-226A-442C-8226-B81263E1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5FA-DB3A-4F3F-A944-D6D57F21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C75-A10A-4223-AC3C-445E328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289-A10E-4EAE-BB8F-5CE9A5B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DC1D-69DA-4548-A5EC-F9E1A8230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My Peopl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ek Their Free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49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“Let my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 their free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ilderness awhi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1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. Herbert O’Driscoll, 1971 (Dt. 8:14-1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mi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ancient bond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, wan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the ro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yield its wa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man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l by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vis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 fu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we ma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ard th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the maelst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n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journey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la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ener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ung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ago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ca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newer wa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tomorro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arth’s to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slave p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elt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ghett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Nile”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God spo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t of Sinai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God spo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t was d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ssed the wat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ard the ri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“Let my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 their free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ilderness awhi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a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rines and structur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clois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aisle”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he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 has sp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torm clou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unfur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od’s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t be scatte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servants in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en we murm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mount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gyptian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2:14Z</dcterms:modified>
  <cp:revision>94</cp:revision>
  <dc:subject/>
  <dc:title>PowerPoint Presentation</dc:title>
</cp:coreProperties>
</file>