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88B-ACBC-4C7E-96DC-83A8EDA0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9BD-1307-4EF6-9703-97C78BAE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E5A-CAC0-4357-B46F-CEC61770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CC2-C30C-4745-8098-1E0ABD28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CD7-A547-4A4F-B5E6-991A80D8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406-DB49-4AD5-87AB-18B6AEAA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0DB-4DD2-4AFE-8167-FB6563A0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C67-1F81-4BDE-8E0E-279533B8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2E4-5B84-403F-9AF4-1D554152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269-D8A3-4ECA-BE64-641B4EDE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310-0F0E-4C7E-A698-4A001D06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A11-1578-46C6-98E0-6D7B39D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2F49-F93C-4377-B0CF-D3E84F449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ts. 1, 2 Lloyd Stone,  st. 3, Georgia Harkness, ca. 19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lands afar and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h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ountry w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i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are my hop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dreams, my holy shr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others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ther lands are bea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opes and drea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rue and high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My country’s sk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e bluer than the ocea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unlight bea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cloverleaf and 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other l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sunlight to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o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kies are everyw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blue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ear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ir l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is is my pray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 of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th’s kingdoms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kingdom co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earth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Christ be lif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 till all shall serve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arts uni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rn to live a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ear my pray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God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nation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self I give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39Z</dcterms:modified>
  <cp:revision>146</cp:revision>
  <dc:subject/>
  <dc:title>PowerPoint Presentation</dc:title>
</cp:coreProperties>
</file>