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884-82A5-4B9D-B100-8B191180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9D8-9A70-4BCC-97F6-4CF59F38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E77-9608-44B2-9814-155C3E5C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5E5-2B7D-4D8B-8CB8-7D40AE1C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A8C-F294-4AA0-AE5E-3DD78CE9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61F-BD0B-4966-BCD2-8EC423C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4F4-AD5A-4AB0-858D-8124DE53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745-D7FC-4E3B-BFC3-3D151246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588-BA7E-4CED-9128-50EAFD2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726-68A9-410B-8A3D-C4355B7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94A-9B02-42E4-B4E0-981CB00E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E4C-7072-4EF4-B568-BAB851B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0971-2B42-4A31-B2E3-10E76D2D8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 Gracious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y gracious pow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wonderfully shelte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nfidently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8458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Dietrich Bonhoeffer, 1944; trans. by Fred Pratt Green, 19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know that God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us night and mo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ver fai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reet us each new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Yet is this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its old foe tormen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evil days b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dens hard to b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ive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ightened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re salv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hich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a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when this c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give is filled to brimm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bitter sorr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d to underst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ake it thankful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thout tremb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of so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 beloved a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et when again i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me world you giv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joy we h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ightness of your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rememb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lived throu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whole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then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09:43Z</dcterms:modified>
  <cp:revision>43</cp:revision>
  <dc:subject/>
  <dc:title>PowerPoint Presentation</dc:title>
</cp:coreProperties>
</file>