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0072-88A1-4B51-9FE4-679A07A6A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12A6-04AB-4C7D-9E3E-9F61489A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9509-3B54-4CDC-8B23-AAB589034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7078-01DB-4CA1-9119-F9FFA5373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3191-A3CA-4DED-A438-EBF93F6B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3D78-78FF-4FC3-A8C4-8031F798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33E5-887B-4564-BC10-DC4EF813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CF03-437F-46A0-8541-DF4F158E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DBDC-ABD7-4D77-AEEC-AFFE030D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C3B1-A7BE-4707-81CD-7BA93435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E7DC-1B64-4A59-B4DF-080CAE2D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AAE5-C071-4A9D-B6AE-4CC10428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B06A-14D9-47D0-B1ED-AD05CDD17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cause He L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43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God sent his S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y called him Jesu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came to l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al, and forgi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71 William J. Gai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47280" y="1066680"/>
            <a:ext cx="41918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Gloria and William J. Gaither, 19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hen as dea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ives way to victo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’ll see the ligh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glo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I’ll know he reig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cause he liv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can face tomorrow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cause he liv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fear is g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cause I kn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holds the futu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ife is wor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liv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ust because he l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lived and di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buy my pard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 empty grave is the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prove my Savior l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cause he liv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can face tomorrow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cause he liv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fear is g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cause I kn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holds the futu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ife is wor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liv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ust because he l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How sweet to hol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newborn bab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feel the prid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joy he give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greater sti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calm assuran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child can fa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ncertain day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cause he l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cause he liv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can face tomorrow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cause he liv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fear is g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cause I kn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holds the futu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ife is wor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liv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ust because he l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And then one d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’ll cross the river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’ll fight life’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nal war with p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0:29:39Z</dcterms:modified>
  <cp:revision>15</cp:revision>
  <dc:subject/>
  <dc:title>PowerPoint Presentation</dc:title>
</cp:coreProperties>
</file>