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E1E5-B612-4BD8-8E4A-99A487FD4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14D7-4FF2-4130-9050-B5BE6487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18B8-3C22-429E-A096-8F1F261D7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4A48-F212-413E-9157-A92C3E2AA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295B-451E-43A0-B50F-B297AF17D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2722-3842-4D9F-B539-00C4FDD8B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41B1-5D33-45C1-A901-AFCA05301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8ACB-2580-44D4-A77A-F7B86162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2827-139F-4DBD-B70F-D5478B9B6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4849-5C1D-4CBA-8EEB-1973E807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229B-2846-4DAC-9504-2387BD53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430F-B17E-4DB5-800A-A0192084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98E7-C46D-4B71-AED4-FE454D839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Perfect Lo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64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Perfect Lov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430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WORDS: Dorothy B. Gurney, 188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9051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 perfect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hum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ght transcen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wly we kneel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yer before thy thro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eirs may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ve whi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nows no en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m thou foreverm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st join in 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6002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perfect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thou the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ull assura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ender chari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teadfast faith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Perfect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patient hop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qui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ave endura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childlike trust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ars nor pain nor d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nt them the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brighte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ly sorr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nt them the peace whi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lms all earthly strif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Perfect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o life’s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lor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known morr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dawns up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 love and l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25:21Z</dcterms:modified>
  <cp:revision>148</cp:revision>
  <dc:subject/>
  <dc:title>PowerPoint Presentation</dc:title>
</cp:coreProperties>
</file>