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69C-BE1F-4359-8BF3-2ECBEA5C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249-F73B-4B41-9516-B8FE0E7D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6F0-7AF3-4256-AFAC-902EA61A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1A7-1D0D-45C2-9450-98572641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195-E1A3-4F24-BB62-57EF6EA0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CB4-596C-4671-9D39-7491225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DED-541F-4B4B-98F0-D81E768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EE9-36F2-4EAE-85DC-823EE08D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65A-7A25-4512-90F9-98EEA639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E3B-7A93-4458-A6BC-A01AB4B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269-9373-40BA-9DFA-9084938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9A8-1993-4C2C-8EAC-0547A72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079B-55AF-4E65-90B4-E04960E7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Hath Spoke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the Proph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hath sp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prophe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ok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53, renewed 1981 The Hymn Society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92920" y="1778040"/>
            <a:ext cx="435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George W. Briggs, 1952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agel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expou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own mess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as th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of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ure faith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ing f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abides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uncha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from ag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e proclai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ighteou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d the world’s despa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rm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irm anch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eth fa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etern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s for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hath sp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lasting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ness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ther’s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F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oken by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incarn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time was b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arth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, as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an f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yet speake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eth to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1:12Z</dcterms:modified>
  <cp:revision>25</cp:revision>
  <dc:subject/>
  <dc:title>PowerPoint Presentation</dc:title>
</cp:coreProperties>
</file>