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09C-B94C-4A86-9C09-62FC64A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18F-856E-462A-9CDB-C12A6A2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B9E-648D-46FD-A419-17A489DE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F97-3F01-47D7-9E29-BDD63E43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517-E71A-409E-A445-0F173AC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F55-F76F-484A-8FCE-E86C65D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591-18E7-48E4-A87A-FE7443A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4B6-7372-4563-A730-DDC5EEF4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778-6B7B-47D3-9E96-742271E8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1E0-C027-45EA-9087-629B1BA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058-1AD0-457D-BAA7-71714A3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EEF-B3B0-4363-8160-FCB219B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B26-1CEB-48B1-83BE-E058F798C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ward Throug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erick Lucian Hosmer, 19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5680" y="1863720"/>
            <a:ext cx="7171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phets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83720" y="1482840"/>
            <a:ext cx="57769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und by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1:42Z</dcterms:modified>
  <cp:revision>64</cp:revision>
  <dc:subject/>
  <dc:title>PowerPoint Presentation</dc:title>
</cp:coreProperties>
</file>