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B8BA-1E97-4179-8543-0C021958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88A-46D6-4A3A-998C-E99099C9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50DF-F0CF-4A14-A659-C0F10327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ADC-9E40-475A-9CAD-4474480D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A87-02E7-44C3-B177-9BE70EC1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A05-19CA-4F3A-987F-0DA3027C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644-887C-49E0-BC1C-9DAAFD46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92D-AB85-47C2-B4A0-2FC1F919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2B8-AC01-488F-A2F0-0823801B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4AA-4D77-48E3-977D-A474CCAA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AFA-2557-4311-9899-193B8CA8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DB2-F265-4010-A420-16DD902D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5EFD-D5D9-497C-BA27-3A36BEAF6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A Covenant Prayer in</a:t>
            </a:r>
            <a:br>
              <a:rPr sz="4000"/>
            </a:b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the Wesleyan Tra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6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981080"/>
            <a:ext cx="830556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I am no longer my own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but thine.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Put me to what thou wilt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rank me with whom thou wilt.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Put me to doing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put me to suffering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venant Prayer in the Wesleyan Tra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820800"/>
            <a:ext cx="811512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 me be employed by the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r laid aside for the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alted for the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r brought low for thee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 me be full, let me be empty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 me have all thing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let me have noth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455760"/>
            <a:ext cx="803916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freely and heartil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yield all thing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 thy pleasure and disposal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now, O glorio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blessed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ather, Son, and Holy Spiri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ou art mine, and I am thine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So be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735200"/>
            <a:ext cx="834372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the covenan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ich I have made on ear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let it be ratified in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4:56:04Z</dcterms:modified>
  <cp:revision>15</cp:revision>
  <dc:subject/>
  <dc:title>PowerPoint Presentation</dc:title>
</cp:coreProperties>
</file>