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42B-1564-4929-8672-4AE1E048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BC9-AA6D-46CE-88E8-5E27F6E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B1F-3966-4DE7-8418-793E15CF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BF3-CB74-4955-9DE5-6A88D6FE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2A5-B541-4F2A-82B9-2AED36AE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74E-4BCC-4408-AB53-C1C3835C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8BB-5761-4255-9E86-D9108442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24A-0FE5-45FC-B211-AD5BD1D1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01B-A80F-419F-BB72-4E7784FD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AAC-F57B-46D9-AFA3-1E296C2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6FB-8012-4D9C-9959-B282E7C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202-F65D-414A-A456-4616C076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E86-494A-49CE-8AF2-723E445F6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, from Wh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hrist, from wh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blessings f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ing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nt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0 (1 Cor. 12:4-31; Gal. 3:27-2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nei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nd nor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le nor fema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ove, like d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all destroy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dered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tinctions vo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and sec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arties f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t all in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us,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ture sh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thy myst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dy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oin us,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spirit jo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ceive of t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for mor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we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ho fill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Move and actu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u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verse gif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ach di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ced accor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y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work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ever from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ice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edful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e the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each bestow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mper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Many are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, and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ho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put 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40:29Z</dcterms:modified>
  <cp:revision>22</cp:revision>
  <dc:subject/>
  <dc:title>PowerPoint Presentation</dc:title>
</cp:coreProperties>
</file>