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ACC-C5B2-4D10-88AD-86863569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EB1-BB98-4682-82CB-F849B3DA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2FA-62D8-42FA-8C5E-C2CEAD5C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C39-0F8C-4DF6-8489-D5E29E67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646-E37E-4FD2-AA05-45DD023D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83F-2966-4747-89E8-7CD6D8DF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7F2-32AC-4D43-ACCE-C768E9DB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FFA-2903-45F0-BF9B-5521251F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EE0-A08B-45E8-8E9F-6C5800FD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7A4-69AD-4BF9-9FFA-965BF54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906-E45B-4756-BA81-10DA41D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278-68D5-4C9F-B380-585D80B8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8AAD-6F19-43D4-AC75-553E1543F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ather, we thank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plan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© 1940, 1943, renewed 1971; 1985 rev.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Greek, 2nd cent.; trans. by F. Bland Tucker and others, 1939, 198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50:57Z</dcterms:modified>
  <cp:revision>71</cp:revision>
  <dc:subject/>
  <dc:title>PowerPoint Presentation</dc:title>
</cp:coreProperties>
</file>