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7718-64A8-45EC-B119-0C8FAEA8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C018-36E4-4705-A34A-38E875D1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FAEC-27C5-40CE-9F3A-423FF1A7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A6D-C1E3-4097-8F85-36C25FD8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539-EEFE-4D17-AC5E-DE218A59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E030-A664-4CB9-8550-F7207DFA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7E7-0F1A-466A-9D85-E484025E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2E6-4104-49A8-8F67-C61B390A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00A8-5A85-4932-AC67-C189720B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B92-177F-4DBA-A0F5-512130DE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C0C-FF16-41F4-8A7D-238DF9B0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900-5CE9-4E9A-854A-EB2B30E2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C436-9602-4B62-9DA3-EFD5DB767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Praise and Thanksgiving</a:t>
            </a:r>
            <a:br>
              <a:rPr sz="4000"/>
            </a:b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Be to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6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Praise and thanksg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o God our mak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rce of all bles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digal creat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2 H. Francis Yard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and Thanksgiving B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WORDS: H. Francis Yardley, 1982 (Lk. 3:21-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ptized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your 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we come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we adore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Not our own holi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that we have stri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ngs us the pe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Christ, have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and Thanksgiving B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ptized and set ap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engthen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race and fav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ome, Holy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in visitatio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are the tru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ope, and our salv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and Thanksgiving B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ptize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 and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, O Dove descen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never en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Praise to th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, and Holy Spiri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source of every mer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and Thanksgiving B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now rene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chu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this water giv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peace from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2:31Z</dcterms:modified>
  <cp:revision>105</cp:revision>
  <dc:subject/>
  <dc:title>PowerPoint Presentation</dc:title>
</cp:coreProperties>
</file>