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94F-8A9F-4448-ACD6-C7C110DA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50B-0666-47FF-B52F-0BE12834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64B-F722-4251-A197-E6E53C0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5FB-6F06-43CE-95A3-116AE131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50F-23A4-4FB8-AB45-BAF859E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759-ECD5-4CE2-BCC3-B068D700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F80-20E1-4C83-AF53-5A09991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BF7-7EF1-4462-BA3A-5184FA33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95B-6257-4BA0-B095-7A3E33F1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48D-DAA5-4DE3-BF7B-E724025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2AE-EE19-4A95-B5E9-9CD3842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E2D-68CC-4800-B4B2-EC87EAD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1E21-56EA-45D5-8ED4-777F5E4C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God Be the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o God be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loved he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gave us his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8880" y="1168560"/>
            <a:ext cx="3486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anny Crosby, 18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purer and hig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eater wi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ranspo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Jesus we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hear his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people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yielded his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atonement for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pened the lifeg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ll may go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hear his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people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perfect redemp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urchase of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 beli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lest off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ly belie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moment from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ardon re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hear his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people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reat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th taught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eat our rejoic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29Z</dcterms:modified>
  <cp:revision>16</cp:revision>
  <dc:subject/>
  <dc:title>PowerPoint Presentation</dc:title>
</cp:coreProperties>
</file>