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F88-CEBA-4AF5-9272-91566874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A6C-3389-4CAA-9293-B8F8B192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AAAA-9C7D-4248-AA32-0649986A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E79-1E63-4ED4-A062-AAAEF98C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849-2663-4FA6-AE3C-E870E4D4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2A7-3F55-4F5A-9C51-DF9F759A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053-F1EE-4D1C-AF6B-A2C7D4B3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C7E-3C11-4B56-A6E0-25282D0E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4D6-2187-4719-A582-298C4FEF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5C3-89A6-46D5-9CA3-0F0C5755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29D-CF5D-42C5-B723-D9BDA6D7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14D-7EB8-454F-BC3C-47FBAF9E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A822-0D3B-4CCC-A829-F1E266F8F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e Serenity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renity Pr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Anonym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514600"/>
            <a:ext cx="819144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God, grant m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he serenity to accep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he things I cannot chang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courage to chang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things I can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the wisdom to distinguish   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one from the other.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4:44Z</dcterms:modified>
  <cp:revision>154</cp:revision>
  <dc:subject/>
  <dc:title>PowerPoint Presentation</dc:title>
</cp:coreProperties>
</file>