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B48-1BAA-4F07-981B-C8E9E838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D9A-98F8-4295-A241-7308A9E3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FDE-FE5C-4F4C-96F0-AF3AE256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D91-4CDB-4E34-BA43-39592F81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792-2FDD-4DDC-ACC2-2A089AEF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066-14C2-4222-888E-C166B1B6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B4D-77B2-438B-86A1-8388A83F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301-EB3D-4044-BB1C-3BB2F7B4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E54-850A-48D5-BCCE-0B72EA2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72C-406D-4A4C-866F-DF8FC148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0F1-81D2-42CE-8486-E47A1CCB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B61-F6D6-442F-AB7A-78ED50EE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6460-8A89-4481-AC50-B72186FC8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My Hope Is Firmly Gr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3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All my hope i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rmly ground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the great and living Lord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o, whenever I most need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ever fails to keep his w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86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4480" y="914400"/>
            <a:ext cx="716220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Joachim Neander, 1680; trans. by Fred Pratt Green, 198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 m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ly tr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and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ell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an trust our na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an, weak, and insecur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of all the airy cast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the hurricane endu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ild on s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ught can st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our earth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dom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But in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and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t of love’s abundant st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ust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unt of life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ho sh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and 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t on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failing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ank, O than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reat Creat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u God’s only Son this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pot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us out of earth and c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ick to h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ong in d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hall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eople f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04:15Z</dcterms:modified>
  <cp:revision>53</cp:revision>
  <dc:subject/>
  <dc:title>PowerPoint Presentation</dc:title>
</cp:coreProperties>
</file>