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C04-52C2-4A69-A208-C6980BD1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0FB-3677-4F53-A675-D9E75FFD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B50-AD74-4756-A98C-EB58B860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ACE-2F1E-404C-808B-0D80949A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F22-67CA-4C71-85D0-C6D68205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360-1B05-48C7-A5BE-3C2914EA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9E0-7B16-472B-ABAA-0B3994BA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74C-2316-4C91-91C2-0F696F15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943-EDBE-4C6C-B18F-564C474F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C99-8263-4947-9D4F-5B897809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AB6-81C9-4746-9BC3-EABC278E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18E-2125-4132-B1F4-9F750EE9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41A7-6650-4BD0-847F-C3C2BC18C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Who Love an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rve Your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Erik Routley, 1966 (Lk. 19:41; Ezk. 48: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All who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erve your ci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who b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s daily str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69 by Galliard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Judge, our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its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“The Lord is ther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cry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peace and just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cur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who bles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In your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loss and sorr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your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helpless str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nor,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ve retrea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k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is your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n your day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alth and plen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sted wor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asted pl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ll to mind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of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Work ye y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it is day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For all d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re days of judgm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waiting sti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rawing near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who spurn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fering peace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lvary’s h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Risen Lord,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t the c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the c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despai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48:44Z</dcterms:modified>
  <cp:revision>142</cp:revision>
  <dc:subject/>
  <dc:title>PowerPoint Presentation</dc:title>
</cp:coreProperties>
</file>