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30C-C1FA-40BB-BFDD-4CC6727C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79C-AB37-40C4-B730-BEF2E56C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671-A3CD-48B7-AF13-45948BB7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326-23FE-442B-A84C-FF51D269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1AD-9D18-4FDE-BAF1-0E49436A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56A-B11F-4D2D-9182-39717AE2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B7F-3477-4CF5-97E8-F0A867C9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E57-1AA7-4CBE-ABD2-3075BC7C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49C-7D6E-4100-ADD9-C167CCBA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396-05EA-4B47-9F63-64833B2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31F-53D9-4C73-A1DD-661827A0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C59-4DC8-4415-9959-6FC3D046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B0AB-B716-4891-A984-6044B8EEA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body Know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Troubl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7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Nobody knows the trouble I see,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nobody knows but Jesus;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oh, nobody knows the trouble I see,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glory hallelujah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ometimes I’m u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I’m d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I’m almo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gr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46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but Jesu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h, nobody know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lory halleluja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lthough you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going long s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have my troubl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be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6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but Jesu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h, nobody know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lory halleluja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at makes old Sat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e me s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use he got me o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me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43000"/>
            <a:ext cx="9144000" cy="46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but Jesu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h, nobody know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lory halleluja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6:20Z</dcterms:modified>
  <cp:revision>47</cp:revision>
  <dc:subject/>
  <dc:title>PowerPoint Presentation</dc:title>
</cp:coreProperties>
</file>