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426-80C9-414D-B0CE-D10021C1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5C1-2560-456C-A130-CB2383B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DD2-6C3E-4C2B-896C-B34E72FB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B78-9A07-49A9-B520-B6E63075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4EE-163C-4D4D-9F35-1BF4918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0AD-0A51-4636-8B15-68FFEA66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4DF-FFD9-43F0-A734-64E22D0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9EB-2584-4D71-8A52-8BA28A3D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D93-5090-4A31-A145-D0913859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454-7E37-4EE8-8BDC-875C8AD5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FE1-DB10-449E-8AAE-56E5680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013-FC69-482D-890D-999BE5C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10CC-51A8-4362-853E-231EA0291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 Name Is Wonder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© 1959, renewed 1987 Manna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Name Is Wonder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8400" y="1092240"/>
            <a:ext cx="342540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udrey Mieir, 1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he might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ster of everyth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’s the great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ock of all 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God is h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w down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7:54Z</dcterms:modified>
  <cp:revision>37</cp:revision>
  <dc:subject/>
  <dc:title>PowerPoint Presentation</dc:title>
</cp:coreProperties>
</file>