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9FA-2A3D-40F7-9955-C936E404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03F-DD4F-4944-AA8A-2ED4300B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257-34EF-435C-916C-CFD6C8A5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52F-A09B-4049-99AB-0FC0C5A8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37E-D3FE-4F7C-A2AD-BA0463BC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033-4C64-432A-B1BC-48DE8784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5A5-1EC2-4CD1-9FE7-6CB6FF03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5CC-E67B-44BE-B187-6A65A6BF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B7A-5696-4D69-9595-55752D5D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00F-CD6B-467E-AC85-9A2B02E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13D-597B-4B4F-8BE8-E3F6D3B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869-C681-4D53-9436-82AB3F31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A443-7249-42FD-8400-75D5613F9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763120" cy="116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, Thy People, Prais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Kate Stearns Page, 1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every n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, Thy People, Prais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733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Hosts eterna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ays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s of beau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s of rap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ed with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y goo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y merc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y glorious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812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every n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, Thy People, Prais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581280"/>
            <a:ext cx="838224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Hosts eternal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thy bless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boun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so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ur God and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 ever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55Z</dcterms:modified>
  <cp:revision>15</cp:revision>
  <dc:subject/>
  <dc:title>PowerPoint Presentation</dc:title>
</cp:coreProperties>
</file>