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FE10D-7A3E-4343-B21F-9B49F705A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33A21-C33C-42FA-81C8-AB0E68DA0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1A9D2-8AF7-4A81-8C83-6AA78BBF1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41C83-FD61-4AAC-9CFD-BB9F2F1D6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32FDB-37C8-44AE-8037-A24B40EFC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DCB0B-9B83-4FAD-B7E6-35EC5F3CE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F7E2D-566C-4017-B606-EB2C207CF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C7977-8AC8-4CD8-9D3A-BA347BCA2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54551-AF2F-4ED2-8F33-3BCE12DA6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925F6-825C-4806-B37C-36ABEBCF2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B6C8E-945C-4186-89A0-0D2549BD1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11923-C148-4FC5-B41C-21D2440D9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134E4-878F-4621-AAC3-76F599F21D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80880"/>
            <a:ext cx="78487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Guide Me, O Thou Great Jehova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848720" y="304920"/>
            <a:ext cx="12952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12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5146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1. Guide m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 thou great Jehovah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pilgrim through thi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arren lan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uide Me, O Thou Great Jehovah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298160" y="1143000"/>
            <a:ext cx="6104520" cy="672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00"/>
                </a:solidFill>
                <a:latin typeface="Times New Roman"/>
              </a:rPr>
              <a:t>WORDS: William Williams, 1745; trans. from the Welsh </a:t>
            </a:r>
            <a:br>
              <a:rPr sz="1900"/>
            </a:br>
            <a:r>
              <a:rPr b="1" lang="en-US" sz="1900" spc="-1" strike="noStrike">
                <a:solidFill>
                  <a:srgbClr val="ffff00"/>
                </a:solidFill>
                <a:latin typeface="Times New Roman"/>
              </a:rPr>
              <a:t>by Peter Williams and the author, 1771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492800" y="1919160"/>
            <a:ext cx="18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17524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 am weak, 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ut thou art mighty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old me with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y powerful han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492800" y="1919160"/>
            <a:ext cx="18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167652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read of heave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read of heave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eed me till I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ant no more;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(want no more)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eed me till I want no mor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7524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2. Open now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crystal fountai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ence the healing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tream doth flow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uide Me, O Thou Great Jehovah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492800" y="1919160"/>
            <a:ext cx="18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18288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et the fir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cloudy pilla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ead me all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y journey through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492800" y="1919160"/>
            <a:ext cx="18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716040"/>
            <a:ext cx="9144000" cy="53348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trong deliverer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trong deliverer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e thou still m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trength and shield; </a:t>
            </a:r>
            <a:br>
              <a:rPr sz="50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(strength and shield)</a:t>
            </a:r>
            <a:br>
              <a:rPr sz="44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e thou still m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trength and shiel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6002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3. When I trea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verge of Jorda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id my anxiou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ears subsid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uide Me, O Thou Great Jehovah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4492800" y="1919160"/>
            <a:ext cx="18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0" y="17524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death of death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hell’s destructio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and me saf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n Canaan’s sid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4492800" y="1919160"/>
            <a:ext cx="18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0" y="11430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ongs of praise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ongs of praise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 will eve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ive to thee;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(give to thee)</a:t>
            </a:r>
            <a:br>
              <a:rPr sz="44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 will ever give to the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1-11T16:22:35Z</dcterms:modified>
  <cp:revision>44</cp:revision>
  <dc:subject/>
  <dc:title>PowerPoint Presentation</dc:title>
</cp:coreProperties>
</file>