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2C49-F921-49D6-9107-F33DAB6F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75CD-62BA-49FD-BF91-B9A49748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AA57-1010-45E7-B4BF-7504AF13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8F9D-D34C-4648-AA1B-466CD715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FFB7-4851-47EF-BB53-4B0E9DA2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EA51-CFCC-4CC2-B7B3-AAC17F6B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6AF2-C664-4559-A0CA-05583809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35B8-F0F6-44D0-A880-CEB06B26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7F80-60DB-4C5D-A6AE-6F2CE0B5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59AB-4A62-47E6-9076-E31EA6D0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A12-7711-4FCC-89A3-CFAE61B5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93F9-7853-49DD-A7F6-8FA42409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5862-B45E-4EB2-9516-5DB37576A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rom All That Dwell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elow the Sk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From all that dwe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low the ski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Creator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ar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ll That Dwell Below the Sk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3080" y="1473120"/>
            <a:ext cx="72079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Sts. 1-2, Isaac Watts; sts.  3-4, anon., ca. 1781 (Ps. 11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Redeemer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me be su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every l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every tongu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Eternal 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mercies, L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tru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tends th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ll That Dwell Below the Sk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raise shall s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shore to sho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suns shall r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et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Your lofty them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mortals, b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song of p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vinely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ll That Dwell Below the Sk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reat salv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ud procla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out for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avior’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n every l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gin the so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every l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trains be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ll That Dwell Below the Sk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cheerful sou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voices ra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i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loudest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20:49:34Z</dcterms:modified>
  <cp:revision>16</cp:revision>
  <dc:subject/>
  <dc:title>PowerPoint Presentation</dc:title>
</cp:coreProperties>
</file>