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631-6364-4022-9277-1572B7BB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7CD-F232-4CEB-BC0D-6733BC0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C59-ACF1-43CC-920D-887DD1F1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084-F0E1-4F7F-97B7-B3CD30B0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2B8-8B9E-4B38-B216-D54250C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4E3-3D4B-4317-B492-CDB43FC2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DAC-8F72-4FFE-8BA2-4CB1DC7F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49F-E368-41FA-8308-4B492C2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9B9-D113-4211-B2A0-6E663E2B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39B-83E7-48AF-B425-F1BD600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3B9-142B-44C1-932F-AA179F7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C74-2E13-45B9-B9E6-16639D3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D0F-E462-4DD4-A661-12142CA4F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Wondrous Sight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Vision F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ondrous si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vision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shall sh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8680" y="1573200"/>
            <a:ext cx="668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arum Breviary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1495; trans. by John Mason Neale, 1851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Mt. 17:1-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ich in joy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s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oice of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ymn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Christ up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 sh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bright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un he glow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age to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ale decl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disciples t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Mos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ijah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holds conve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and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law and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have pl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chosen witne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’s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t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s his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a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ith shining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ght ar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deign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est that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glory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eir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joy in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nd faithful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raise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s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sion’s myste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41Z</dcterms:modified>
  <cp:revision>17</cp:revision>
  <dc:subject/>
  <dc:title>PowerPoint Presentation</dc:title>
</cp:coreProperties>
</file>