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82A-5DF7-4228-8A35-446C28C7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CB9-5679-4F87-8717-C7B72016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CC0-B8F3-40B2-AE4C-5D220C80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D10-280E-4526-9C71-DA1BBB9C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B9D9-EEAC-40C1-82F4-012A0D1C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393-835F-4F37-B841-FD8E805D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F7E-E027-4FD5-958D-FFA98809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4C4-EC0E-4F48-A6C8-9513174E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790-A48F-4B6F-A81A-20D0E822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E42-7349-4C4D-8D3E-85DC612E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E1F-6563-46DB-A599-3B15AFED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C65-1044-4988-8321-EA3DE50C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3771-4322-4C74-B41B-FE30DE4C1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Come, O Come, Emman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228600"/>
            <a:ext cx="121932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8915400" cy="462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Antiph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O EMMANUEL, our King and</a:t>
            </a:r>
            <a:br>
              <a:rPr sz="4200"/>
            </a:br>
            <a:r>
              <a:rPr b="0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   Lawgiver, the Expected of the   </a:t>
            </a:r>
            <a:br>
              <a:rPr sz="4200"/>
            </a:br>
            <a:r>
              <a:rPr b="0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   nations and their Savior: </a:t>
            </a:r>
            <a:r>
              <a:rPr b="1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Come </a:t>
            </a:r>
            <a:br>
              <a:rPr sz="4200"/>
            </a:br>
            <a:r>
              <a:rPr b="1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   and save us, O Lord, our God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Sts. 1, 3, 5ab, 6cd, 7ab © 1940, 1943, renewed 1981 The Church Pension Fund;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trans. sts. 4, 5cd, 6ab, 7cd © 1989 The United Methodist Publishing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House; antiphons © 1962 Sisters of St. Bened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83059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9th cent. Latin; trans. st. 1, 3, 5ab, 6cd, 7ab, 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The Hymnal,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1940; st. 2,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Henry Sloane Coffin, 1916; st. 4, 5cd, 6ab, 7cd, Laurence Hull Stookey, 19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3. O come, O com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great Lord of might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who to thy tribes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n Sinai’s he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in ancient times once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gave the law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in cloud and majesty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nd a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288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Rejoice! Rejoice!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371600"/>
            <a:ext cx="8915400" cy="51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Antiphon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0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O ROOT OF JESSE,</a:t>
            </a: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who stands for 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an ensign of the people, before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whom kings shall keep silence and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to whom the Gentiles shall make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their supplication: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Come, and 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deliver us and tarry no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4. O come, thou Root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f Jesse’s tre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n ensign of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thy people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before thee rulers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silent fall;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ll peoples on thy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mercy c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288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Rejoice! Rejoice!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534960"/>
            <a:ext cx="8915400" cy="58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Antiphon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0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O KEY OF DAVID</a:t>
            </a: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and Scepter of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the house of Israel, who opens and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no one shuts, who shuts and no one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opens: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Come, and bring forth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from prison the captive who sits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in darkness and in the shadow of 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dea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5. O come, thou Key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f David, com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nd open wide our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heavenly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The captives from their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prison fre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nd conquer death’s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deep mis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1. O come, O com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nd ransom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captive Israe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8288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Rejoice! Rejoice!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1981080"/>
            <a:ext cx="8915400" cy="44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Antiphon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0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O DAYSPRING</a:t>
            </a: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, Brightness of the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light eternal and Sun of justice: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Come, and enlighten those who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sit in darkness and in the shadow 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of dea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6. O come, thou Dayspring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come and cheer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ur spirits by thy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justice 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disperse the gloomy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clouds of night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nd death’s dark shadows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put to f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9810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Rejoice! Rejoice!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1447920"/>
            <a:ext cx="89154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Antiphon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0" lang="en-US" sz="4300" spc="-1" strike="noStrike">
                <a:solidFill>
                  <a:srgbClr val="66ff33"/>
                </a:solidFill>
                <a:latin typeface="Times New Roman"/>
                <a:ea typeface="Arial"/>
              </a:rPr>
              <a:t>O KING OF THE GENTILES</a:t>
            </a: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,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and their Desired One, Cornerstone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that makes both one: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Come,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deliver us whom you formed ou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of the dust of the ear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7. O come, Desire of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nations bind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ll peoples in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ne heart and m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From dust thou brought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us forth to life;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deliver us from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earthly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1337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Rejoice! Rejoice!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that mourns in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lowly exile here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until the Son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f God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0574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Rejoice! Rejoice!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295280"/>
            <a:ext cx="8915400" cy="51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Antiph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0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O WISDOM,</a:t>
            </a: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who came forth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from the mouth of the Most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High, reaching from end to end,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and ordering all things mightily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and sweetly: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Come and teach us 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the way of pru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2. O come, thou wisdom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from on high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nd order all things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far and n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to us the path of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knowledge show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nd cause us in her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ways to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1337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Rejoice! Rejoice!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1219320"/>
            <a:ext cx="8915400" cy="58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Antiphon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0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O ADONAI</a:t>
            </a: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and Leader of the  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house of Israel, who appeared to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Moses in the flames of the bush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and gave him the law on Sinai: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Come, and with your outstretched   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arm redeem 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9:13Z</dcterms:modified>
  <cp:revision>61</cp:revision>
  <dc:subject/>
  <dc:title>PowerPoint Presentation</dc:title>
</cp:coreProperties>
</file>