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74AA-0907-428B-8DE8-96D26F9D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23E-5CB3-47C2-B7D2-AF84B42F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9487-0DD7-4F91-A8F6-1B1A8940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E72-1376-45D1-95D1-BB454A02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87F-7E91-48E6-A1FD-AA3F7287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B56-EDDC-414A-939F-94D4699E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4A8-9CD2-4171-BF2C-033ABD0D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F28-4D0B-4528-8586-3E182364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57A-B4B9-4B1E-A7EF-ECC2B51D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244-21D5-4FA6-A6ED-81D85D17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E398-ECBD-4095-848C-B25B38E1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80D-6849-4BD9-8FDE-47BD243E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D3B1-45C8-4F8F-A998-3FD8A0000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lessed Assu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Blessed assuran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is min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what a foretas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lory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4320" y="1066680"/>
            <a:ext cx="30106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Fanny J. Crosby, 18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tching and wait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oking ab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his goodn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st in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ir of salv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urchase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rn of his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shed in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Perfect submiss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rfect del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visions of rap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burst on my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gels descend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ng from ab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choes of merc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spers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Perfect submiss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is at res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in my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m happy and ble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30:46Z</dcterms:modified>
  <cp:revision>18</cp:revision>
  <dc:subject/>
  <dc:title>PowerPoint Presentation</dc:title>
</cp:coreProperties>
</file>