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714-F162-447F-A3DC-E7A929F9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1D4-5E6E-42F8-8983-B369559B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15E-E8BB-4206-B59A-47551B80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20A-40B7-4EA9-A42F-5FE7F31E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1C3-A483-42C7-B974-0B1180B4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C07-2581-493D-8407-7222BECC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761-0AAD-4511-A067-F7D5F558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3A4-7F43-43C2-ABF3-B2E85A69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875-619E-49C8-8F2F-D581B0E5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8B9-4874-46A7-8B60-67CAC79D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B82-A2C2-4427-B52E-DDD1BAF2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F87-E40D-4D7E-B78F-613C013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671C-8E64-4107-A4EE-595E074C3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ving the P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0968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ke us worthy,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serve those throughout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orld who live and die 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poverty or hung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ng the Po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0440" y="1063800"/>
            <a:ext cx="4492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ther Teresa of Calcutta, Yugoslavia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0512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ive then, through our hand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is day their daily brea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by our understanding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ive peace and joy.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46Z</dcterms:modified>
  <cp:revision>15</cp:revision>
  <dc:subject/>
  <dc:title>PowerPoint Presentation</dc:title>
</cp:coreProperties>
</file>