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7FA-81FC-494C-9D37-88BDF93E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223-18D4-4C41-ABF7-F50372B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B08-9C0F-498F-BC7A-CD6C8D44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2AE-A643-441B-BEEE-F0F8B39A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BEE-03FA-4DB6-B3C5-C9B53F07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F78-CA45-4F70-A349-702A0A02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6CC-7F5B-4B6D-BB00-A9AADD4C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EDB-A875-4425-9BA9-630EA822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C85-50AB-4633-BE76-4FB4DEB1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967-6081-4E6E-8427-2D22240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C1F-FB25-405D-8669-08D99B78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479-278B-41F8-9783-CD1A84B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190-7568-452E-A9A9-AA24E18AA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reedom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1903320"/>
            <a:ext cx="6477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ke me sensit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eviden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goo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dom in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1120" y="965160"/>
            <a:ext cx="2911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ubem Alves, Brazil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I Believe in the Resurrection of the Body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trans.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©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986 Fortress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209680"/>
            <a:ext cx="81532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y I, trusting 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ree myself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error of dea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600200"/>
            <a:ext cx="7620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eel free to l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tensely and happi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ife you h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5:19:09Z</dcterms:modified>
  <cp:revision>10</cp:revision>
  <dc:subject/>
  <dc:title>PowerPoint Presentation</dc:title>
</cp:coreProperties>
</file>