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2BA-7A4F-4CE6-A595-B74948EB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11E-7BFB-4670-B3A1-225A81ED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774-75D6-462E-AC64-895ECCB4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9B0-EAC7-4F61-AACB-C8B66E6E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074-1B48-426D-87F4-982EC3F2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087-AC85-4EF3-85F3-68DBBEBE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BF6-97F0-4338-A354-197A5FE0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045-A22F-4ADD-8A4B-EB93713A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538-1C2F-4C6C-A1E4-6E78495F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CA5-9AC5-4B64-967C-412360B9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DD4-C7A4-4941-8A55-30F132D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E2E-05F1-46BF-9C34-E552B77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8563-2C92-4699-AF0F-379A7476A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l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Hebrew blessing; trans. by Roger N. Deschne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905120"/>
            <a:ext cx="8001000" cy="515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 chaverim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 chaverim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, shalom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82880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27672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80060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057400"/>
            <a:ext cx="86868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hitraot, lehitrao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,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1981080"/>
            <a:ext cx="7238880" cy="37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rewell, dear frie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y safe, dear frie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752480"/>
            <a:ext cx="106668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124080"/>
            <a:ext cx="106668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57200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’ll see you agai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’ll see you agai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0:05Z</dcterms:modified>
  <cp:revision>161</cp:revision>
  <dc:subject/>
  <dc:title>PowerPoint Presentation</dc:title>
</cp:coreProperties>
</file>