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D1A-C7B0-401E-A66C-CB755B33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B7D-D2FB-4560-832C-18399A79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80B-637B-49A3-86B1-F12E90FF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57B-CAF0-4DC6-89B1-1695D569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A8E-8669-4101-80E8-1076909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1AA-364B-4DFA-A90A-F85F6448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163-E6F1-4719-98BC-505F709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3AB-3CBB-49F2-9873-F466B508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38F-4F10-47C3-9EB7-29E17666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1E3-E7A9-41F5-8623-D284BCB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536-19FF-4833-A4F7-811AB65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2A7-A02E-4849-B40F-80DA163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6509-0FBA-4179-B0F1-26FF83492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895480"/>
            <a:ext cx="8229600" cy="22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lmighty and everlasting Go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it is your will to restor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all things to Christ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5720" y="111456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2602080"/>
            <a:ext cx="8534520" cy="22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whom you have anointed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priest forever and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ruler of creati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666880"/>
            <a:ext cx="8458200" cy="29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Grant that all the peopl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of the earth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now divided by th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power of sin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2514600"/>
            <a:ext cx="853452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may be united under th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glorious and gentl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rule of Jesus Christ, who liv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nd reigns for ever and ev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36:16Z</dcterms:modified>
  <cp:revision>22</cp:revision>
  <dc:subject/>
  <dc:title>PowerPoint Presentation</dc:title>
</cp:coreProperties>
</file>