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01A-56E7-4F1A-9659-796B194F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91F-F1DA-4A98-9584-CA2BF1A1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8C8-421E-4469-B68B-980480E6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7DE-1436-41CF-ADE3-40664880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30C-D675-49CE-AB91-42150D9F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383-D3CC-45F6-8955-84699616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A76-F87B-41C4-BDA7-8BCFFFEE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65EF-7E2F-4726-994E-42E95201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36D-0785-4772-9CCF-4FD586FE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71C-714F-495E-BAC8-90E5A4D1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3EC-41A9-4F30-96AE-A15FF32D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A6E-8BA3-49B0-BB2F-6254E4E4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1DEE-94A4-4C8B-BB97-414470EC6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, the Very Thought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304920"/>
            <a:ext cx="14479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, the 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t of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wee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s the br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82640" y="1092240"/>
            <a:ext cx="5795280" cy="70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ttr. to Bernard of Clairvaux, 12th cent.;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. by Edward Caswall, 18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sweeter 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ce to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O hope of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trite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joy of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mee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who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w kind thou ar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ho seek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But what to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find? Ah,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tongue nor pe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10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it is,</a:t>
            </a:r>
            <a:br>
              <a:rPr sz="50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ne but hi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oved ones know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Jesus, our o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y be th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thou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ize wilt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191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be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glory 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rough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19:11Z</dcterms:modified>
  <cp:revision>37</cp:revision>
  <dc:subject/>
  <dc:title>PowerPoint Presentation</dc:title>
</cp:coreProperties>
</file>