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EC5-8CFF-44D0-B3FF-9AD302F6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0DB-5B09-47AB-A8C5-5CFC9E2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D99-9122-4121-A7CE-E459DF20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3B0-B173-4CFB-A2C1-47F2567F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12E-1306-42F7-A632-B72E5A1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EB3-622A-4F6B-91D8-0CA2D2C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1ED-01B1-4D8D-93B8-AC44A5C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8B7-12DF-4686-A5E2-E1B2D210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220-D1D3-4474-9A8E-39F0016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2E6-A439-4657-87FB-A01B84A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DE6-2292-4217-9F92-08D950B5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643-2105-4617-9895-4B5BEE9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189-5BD2-497C-BC40-DED6FE3AB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ove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 to do thy will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 to do thy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8 Richard Alan He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7840" y="1128600"/>
            <a:ext cx="3746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Richard Alan Henderson, 19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1:39Z</dcterms:modified>
  <cp:revision>12</cp:revision>
  <dc:subject/>
  <dc:title>PowerPoint Presentation</dc:title>
</cp:coreProperties>
</file>