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8ED-F07E-4EA3-9DBF-BEF9681F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667-CA29-48AF-BA71-B6E64E1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E72-1A52-4289-A4AF-52FEDEF8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CDB-851E-4AA4-80E0-103CC9BC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E49-38ED-4803-92A6-29C40D45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DD3-82D0-4D3E-B8BC-6670589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ED4-B77E-4B1D-8F3F-69FD6A1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F52-B592-4DF9-9B8C-2C37E5EF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E3D-E357-47DF-BCDD-91CF26D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A71-6F58-416B-9167-5F09F24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54C-42E9-4BE5-BF9D-9BD67E6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87B-B3A2-4FB0-B83C-60AC79C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FD78-87BC-43DF-92CF-CDC87F2E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o  Oo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un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come Sun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6, renewed G. Schirmer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040" y="11430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uke Ellington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believe that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t sun and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in the sk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on’t mind the gray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 they’re j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passing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aven is a goodness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righter light on high.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o unto others as you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would have them do unto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a brigh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believ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was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ways will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an make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48:21Z</dcterms:modified>
  <cp:revision>59</cp:revision>
  <dc:subject/>
  <dc:title>PowerPoint Presentation</dc:title>
</cp:coreProperties>
</file>