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5F1-33E2-43FD-90CE-FA9D7113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FEA-5D17-4F80-B89C-5C1C7CA3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20E-FA05-4F05-8AF9-0E057089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7CD-8408-4050-97F8-6A2EC28E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A9C-3FF5-4274-9F18-5A3C8E32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05D-19FC-4BDC-BD52-55170752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ABA-3D69-455E-9BAF-FC8B756D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106-FF1C-4545-B0A3-792A1E2D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B5C-9101-478B-AEAE-730C8750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EFF-BC55-4FEF-BF98-B1A27D7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4CC-E1DB-4D40-B825-D032CBAF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D66-CA2A-4956-B03E-F4DA294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0EC9-7A40-49D4-8D75-A69AA382E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ck Thyself, My Soul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ith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eck thyself,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ve the gloo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unts of sad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ann Franck, 1649; trans. by Catherine Winkworth, 1863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to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rt invi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y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e requi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is banqu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m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how v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ep its treasu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ere dost giv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thy gues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receiv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in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light’s splendo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aises re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grace unboun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this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nquet fou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o’er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s he reign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to d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e he deign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un, who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ife dost bright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, who d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oul enlight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, the b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ny knowe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unt, whenc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being flow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y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ry, my Mak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be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t partak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s bl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od from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lory,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esus, bread of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pray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glad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obey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04:05Z</dcterms:modified>
  <cp:revision>114</cp:revision>
  <dc:subject/>
  <dc:title>PowerPoint Presentation</dc:title>
</cp:coreProperties>
</file>