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863-D0F0-4F4E-8296-F7ABC4CC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DBF-8781-44A8-B434-C69E7F4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E9F-073B-4A84-A7B3-833DB929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A04-A4B6-4653-954A-7B0DCA79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537-4CDE-48B2-BE7A-07897F4F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2A6-6121-40D1-AA3C-C07F62B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74B-D5AD-45B1-874B-CE27401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760-C208-462A-B17B-CC713EF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B5F-2441-4500-B44D-A0C3313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8B1-758D-445F-AAEF-658F82B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FFE-556D-4244-8862-3B6E04B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D47-7086-4BD2-957B-1AA9163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7DB-4F14-47E9-85A9-8EC05A48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e serva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Master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blish ab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onderful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6160" y="1066680"/>
            <a:ext cx="56275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44 (Rev. 7:9-1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13Z</dcterms:modified>
  <cp:revision>11</cp:revision>
  <dc:subject/>
  <dc:title>PowerPoint Presentation</dc:title>
</cp:coreProperties>
</file>