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9390-06DB-4014-9DBD-2D645286F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23D2-7A11-4529-BA1D-CA92BE79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C554-B495-46FE-8FDF-FD53BEA1F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58E4-C6FC-4A81-B1A9-B336280B2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A5DA-83D1-458A-8A2F-034AE7AC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DED9-C12D-41F6-AE62-41780533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B440-D961-40AD-A2A0-C1917114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FDD1-1EA1-4FDB-AD8C-3A91E157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0C55-1FDB-43FE-8E39-23D3ADBD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B5D4-63AE-4A82-8A61-8814A949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4EA2-FDEC-4B04-BF9B-7EFB4DDD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BE89-99EA-4A15-9F33-E0FC6EE5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761D-37BB-444B-A7BB-C99998400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urce and Sovereign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ock and Clou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97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Source and Sovereig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ock and Clou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tress, Fountai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elter, L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© 1987 Oxford University 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and Sovereign, Rock and Clou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2480" y="1676520"/>
            <a:ext cx="3678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ORDS: Thomas H. Troeger, 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dge, Defend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ercy, M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fe whose lif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life endowe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25600"/>
            <a:ext cx="9144000" cy="5353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the church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prayer rec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no single holy na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the truth behi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m all is the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m we procla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and Sovereign, Rock and Clou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Word and Wisdo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oot and Vi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epherd,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rvant, Lamb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and Sovereign, Rock and Clou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ll and Wat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ead and Wi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y who leads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I AM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25600"/>
            <a:ext cx="9144000" cy="5353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the church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prayer rec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no single holy na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the truth behi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m all is the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m we procla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and Sovereign, Rock and Clou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Storm and Stillne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eath and D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under, Tempe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rlwind, Fi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and Sovereign, Rock and Clou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fort, Counsel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sence, L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nergies th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ver tir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525600"/>
            <a:ext cx="9144000" cy="5353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the church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prayer rec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no single holy na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the truth behi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m all is the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m we procla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and Sovereign, Rock and Clou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6:08Z</dcterms:modified>
  <cp:revision>32</cp:revision>
  <dc:subject/>
  <dc:title>PowerPoint Presentation</dc:title>
</cp:coreProperties>
</file>