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F87-A5C8-40E1-9E52-873EBE31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D23-A4A9-45FB-B624-D8C823AE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A80-5838-41B1-A554-11A7317F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A8F-3D23-4C6A-9011-39E098ED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53C-EA80-4EDB-93B3-F2EEDDAF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883-1CE5-46D6-BDB4-96ECCCFD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508-15F0-4ABF-965F-2AAA818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F6F-2158-48D6-AE56-284BFB5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599-C8A7-4AFD-9DF2-E3A77C57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A10-E9C2-4D0C-AB95-E46BC81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BED-D9AC-46CD-9C85-2E6EFD5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F27-3C0F-4C90-87FC-973D0DD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C80-7E32-40CF-B45E-2DED2736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na Nobis Pac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 Nobis Pa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rad. 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362320"/>
            <a:ext cx="716292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,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4382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2286000"/>
            <a:ext cx="701028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4382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2286000"/>
            <a:ext cx="701028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4382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9:52Z</dcterms:modified>
  <cp:revision>119</cp:revision>
  <dc:subject/>
  <dc:title>PowerPoint Presentation</dc:title>
</cp:coreProperties>
</file>