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B25E-E149-41D3-AAFF-81C9D939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E75E-D359-420B-A328-2E1CEFE0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8B87-902C-4E99-BAF9-F56833C4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1775-F1FE-4244-B87C-FD4A0381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174-7849-40E0-BD0B-95BCC12F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C0D0-D670-4C31-A6FC-4238DB73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D1D-9D10-469F-960D-F7D3F2DC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5861-B8B3-4ADD-9F8E-39404AE6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E4D-DD4D-4DCA-94AC-6277CADD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790E-0526-42DD-BA11-1D5F8950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162-0FD4-4BB4-B54A-547BEDD9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B290-F680-48C2-8F28-F77EB24E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491C-25DF-479C-9DF8-ECF78CB2D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t the Close of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209680"/>
            <a:ext cx="8534520" cy="2272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   </a:t>
            </a: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O Lord my God, I thank thee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that </a:t>
            </a: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thou hast brought this da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to its clo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Close of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50320" y="1066680"/>
            <a:ext cx="384156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Dietrich Bonhoeffer, Germany, 20th cent.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15000"/>
            <a:ext cx="91440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Reprinted with permission of Macmillan Publishing Compa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from </a:t>
            </a:r>
            <a:r>
              <a:rPr b="1" i="1" lang="en-US" sz="1600" spc="-1" strike="noStrike">
                <a:solidFill>
                  <a:srgbClr val="66ff66"/>
                </a:solidFill>
                <a:latin typeface="Times New Roman"/>
              </a:rPr>
              <a:t>Letters and Papers from Prison,</a:t>
            </a: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 rev. ed. by Dietrich Bonhoeff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© 1953, 1967, 1971 SCM Press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981080"/>
            <a:ext cx="86868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I thank thee that thou dost </a:t>
            </a: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give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rest to body and soul. Thy </a:t>
            </a: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hand has been over me, guarding me and preserving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919160"/>
            <a:ext cx="8534520" cy="3018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Forgive my feeble faith and al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the wrong I have done this da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and help me to forgive al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who have wronged m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2209680"/>
            <a:ext cx="8763120" cy="2287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Grant that I may sleep in pea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beneath thy care, and defend m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from the temptations of darkness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1066680"/>
            <a:ext cx="85345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Into thy hands I comme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my loved ones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I commend this household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I commend my body and soul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O God, thy holy name be praise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66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12:27Z</dcterms:modified>
  <cp:revision>18</cp:revision>
  <dc:subject/>
  <dc:title>PowerPoint Presentation</dc:title>
</cp:coreProperties>
</file>