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754-34D7-466A-AD49-E5835A1D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AF0-4C84-4D52-86BB-61F3F117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A8D-B7B4-41A1-AA9B-5B129D1F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54E-170B-4D3A-A161-36A43D25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FD7-4FB9-4F34-950C-4B9EE70B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213-03DD-464E-9A10-A8A9D566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7D9-15C2-492A-ABF1-43C85C02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063-EBA2-4271-9069-AE02A739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556-CC04-4AD9-8C6A-B65716C0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F1C-6833-4015-9F5D-9D53A70E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F84-9C3F-48D7-A718-A5228D4D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A3D-3200-4F59-85A7-8587EBB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356D-9089-4CF0-B229-A96A4C32F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Lead M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righteousnes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thy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ain before my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Me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5040" y="1128600"/>
            <a:ext cx="2303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Psalm 5:8; 4: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it is thou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, Lord on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kest me dw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safe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15:44Z</dcterms:modified>
  <cp:revision>15</cp:revision>
  <dc:subject/>
  <dc:title>PowerPoint Presentation</dc:title>
</cp:coreProperties>
</file>