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AFB-3948-41B5-8086-8C54F413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F76-B6F6-4140-A623-FA689C6F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484-D52A-4EFF-86F5-B26B1683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5FA-244F-4E2E-A3EA-F81B18DB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C4B-CFF4-4D8A-98E6-C008E9B9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DF6-0742-44BF-B101-B6E50F59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D4B-21C7-4865-85A4-ED954388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6A7-1494-45FD-9BD3-E40A577C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C48-123C-4241-B986-D8F48B99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0D3-70EC-4159-9FD9-3CE936C6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A90-4624-418D-A96F-207B08A0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F6A-0AFF-41E8-9CC0-E38C0569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A20E-A6BD-4BDC-AB7C-4E5B14576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, Tell It on the Moun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129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the hills and everywhe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080" y="1039680"/>
            <a:ext cx="8663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frican American spiritual; adapt. by John W. Works, Jr., 1907 (Lk. 2:8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ile shepherds kep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wat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silent flocks b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through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shown a holy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the hills and everywhe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ed and tremb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lo! above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ng out the angel chor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ai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vior’s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19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the hills and everywhe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Down in a lowly mang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umble Christ wa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sent us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l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mas m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19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the hills and everywhe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9:21Z</dcterms:modified>
  <cp:revision>11</cp:revision>
  <dc:subject/>
  <dc:title>PowerPoint Presentation</dc:title>
</cp:coreProperties>
</file>