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352-D597-4964-9593-6AAEBE65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452-6DC9-4DB6-9C68-93F318F7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F35-AB70-45EA-B8B2-948278DD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4FB-7CB0-46BF-A1A1-2C4E26F1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1D6-4A4F-4C68-A047-24738EB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B83-20F9-4EC1-8E81-C183F01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32E-604D-4D44-9C6E-545D18FD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F8B-DFDB-400A-9378-F7CF5C88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699-EDCF-4D45-862D-09074AC1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DEC-5F7C-4807-B55D-112F79E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DF9-AFC9-4F0A-B8D6-BF6BE81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F94-9BAD-4A55-8DAF-224463D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2801-792E-4154-8D09-4FBA26BE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 My Cup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my cup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lift it up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quen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thirsting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59 Sacred 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My Cup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ichard Blanchard, 1959 (Jn. 4:5-15; 6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my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it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57:16Z</dcterms:modified>
  <cp:revision>124</cp:revision>
  <dc:subject/>
  <dc:title>PowerPoint Presentation</dc:title>
</cp:coreProperties>
</file>