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1FD-A7C8-4E47-B453-53AAA1E7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1CD-D616-417A-801F-A7C42387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68D-C6F4-42E7-8C99-2CAA3923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76C-0D03-48C2-B972-4793F73C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FCE-3ECC-4597-AD63-192F1434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9E3-C88D-467D-A21B-32402BC0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841-E234-4060-9490-7769EAEB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268-AF9B-48CD-8E65-DD31E9B5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376-DFDB-48B9-9A7C-A17DE015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339-FE88-49A1-88AF-9EE0B78E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3AE-688D-4251-927E-24E3135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814-B38B-46C3-91A3-A3E36AED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F01C-A97B-4BA8-AF0E-64AAB457A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od of Abraham Pra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The God of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braham prais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o reigns enthroned above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cient of Everlast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ays, and God of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44480" y="1166760"/>
            <a:ext cx="588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From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he Yigd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of Daniel ben Judah, ca. 1400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a. by Thomas Olivers, 1760; a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219320"/>
            <a:ext cx="861048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hovah, great I AM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earth and heaven confess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bow and b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cred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bles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e great I 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 swor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on this oath depend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, on eag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ngs upborne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eaven asc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behold God’s f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God’s power ad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ing the wond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’s grace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 heavenly land I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peac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nty bl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and of sacred liber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ndless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milk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ney f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il and wine ab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rees of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gr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mercy crow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e God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igns on hi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eat archangels 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“Holy, holy, holy!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y, “Almighty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was, and is, the s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vermore shall b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hovah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eat I 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orship the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18Z</dcterms:modified>
  <cp:revision>32</cp:revision>
  <dc:subject/>
  <dc:title>PowerPoint Presentation</dc:title>
</cp:coreProperties>
</file>