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D0C-A9C4-4FF6-87DC-F017CA22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C42-BDD2-47B9-AC81-8C9D18F8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25F-C0AF-402F-9766-851DB87C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01C-7663-4AA4-A733-D28A05C7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F80-578E-4178-ACF3-8B656138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BD6-22F6-43CD-8788-E4DDAFE5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622-61AF-4105-8C3A-0D16E46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7E6-D04E-45D9-AA02-C3D72D5D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AAD-9390-49E7-8B3D-7D51B0A1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103-5BE0-4839-98FE-2A0CC6E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A2C-5ADA-41C0-ADFC-2E924CC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7E0-856D-45F1-A9BA-707D422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8533-9CDF-4C37-A870-CE55DAB6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Up Thy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8534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. Everest, 1833 (Mt. 16:24-25; Mk. 8:34-35; Lk. 9:23-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“Take up thy cross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f thou wouldst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sci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ny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fors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mbly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ter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ake up thy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its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y w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irit with alar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trength sha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pirit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ace th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rve thine a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ake up thy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heed the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le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olish pride rebe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for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endu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th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eath and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ake up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llow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think till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lay it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nly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hope to w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42Z</dcterms:modified>
  <cp:revision>139</cp:revision>
  <dc:subject/>
  <dc:title>PowerPoint Presentation</dc:title>
</cp:coreProperties>
</file>