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CE4-8A4C-4AC3-BBF5-2108366B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024-8255-4F65-A753-9480D12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CED-4A61-4DB6-8778-FC968C4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DB3-BADF-4D3F-8123-F5BBF87D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403-4F48-4468-A4FA-A026905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568-F5AF-4400-824E-EFBB152B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00F-0213-4BED-A419-FC8E32AC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3B8-BF7F-479D-B564-CCB7BCEA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87A-08C7-41B1-80EC-00FA6D8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64A-7970-414F-9E8E-901376D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D29-7137-4A59-9AEE-3128A4E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369-D4C4-4988-883A-DDB2E67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D1E0-657A-479B-964D-A58FBEE1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 of the Depth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Cry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25600"/>
            <a:ext cx="9144000" cy="414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ut of the depth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 cry to you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Lord, now hear me calling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cline your ear to my distr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spite of my rebell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560" y="1600200"/>
            <a:ext cx="6675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tin Luther, 1524; trans. by Gracia Grindal (Ps. 130; 120:1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not reg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ful deed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me the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pirit need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it I am not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2. All things you s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re full of grac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ou crown our lives with favor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ll our good work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re done in vai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out our Lord and Savi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gives us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ves u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ip of dea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God’s k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3. It is in God tha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hop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not in our own merit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rest our fear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God’s good W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trust the Holy Spiri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promise k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strong and 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rus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sign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scribed up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empl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y soul is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one who longs for morn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watcher wa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reater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I for Christ’s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ope as Isra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sends redemp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Word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G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less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45Z</dcterms:modified>
  <cp:revision>12</cp:revision>
  <dc:subject/>
  <dc:title>PowerPoint Presentation</dc:title>
</cp:coreProperties>
</file>