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301-A5F7-4812-9D17-797C9409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D59-25EA-4E96-804D-508122AA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603-CA3E-418E-B00A-D3012835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E89-9A3F-415D-A423-992FD1E4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FB3-9E4E-44B3-85E1-F50B159C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5EE-194F-4C51-85D1-7B8343FE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EDD-A3F5-4E21-A15B-74997381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EE4-F6C6-427F-A31F-0F0A8F2E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B62-67AD-4F81-B206-85CA4747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C30-B937-4037-B5AE-C2206EE5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FDF-57E6-4A8B-B92A-83A9F96F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AF9-EB64-450C-BE36-3BBBF4FF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6BE7-D73F-466B-88EA-6C0167634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O Th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aveler Unkn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Charles Wesley, 17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286000"/>
            <a:ext cx="83059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1. Come, O thou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raveler unknown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whom still I hold,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but cannot s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ough every sinew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e unstrung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t of my arm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ou shalt not fly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restling I will not let thee g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ill I thy name,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6. What though my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shrinking flesh complain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and murmur to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contend so lo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820800"/>
            <a:ext cx="83818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 rise superior to my pain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en I am weak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n I am strong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when my al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f strength shall fai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 shall with t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God-man preva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859040"/>
            <a:ext cx="8458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7. My strength is gon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my nature die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I sink beneath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thy weighty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aint to revive, and fall to ris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 fall, and yet by faith I stan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 stand and wil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not let thee g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ill I thy nam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919160"/>
            <a:ext cx="85345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8. Yield to me now—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for I am weak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but confiden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in self-despai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820800"/>
            <a:ext cx="84582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eak to my hear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in blessing speak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e conquered b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my instant prayer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eak, or thou nev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hence shalt m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tell me if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919160"/>
            <a:ext cx="85345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9. ’Tis Love! ’tis Love!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thou diedst for m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I hear thy whisp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in my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1187280"/>
            <a:ext cx="85345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morning break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shadows fle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ure, Universal Love thou art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 me, to all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y mercies move—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919160"/>
            <a:ext cx="84582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10. My prayer hath pow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with God; the grac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unspeakabl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I now rece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187280"/>
            <a:ext cx="84582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y company before is gon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I am left alone with the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th thee all night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I mean to sta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wrestle til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break of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1187280"/>
            <a:ext cx="85345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rough faith I se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e face to fac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 see thee face to face and live!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 vain I have no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ept and strove –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11. I know thee, Savior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who thou ar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Jesus, the feebl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sinner’s frien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187280"/>
            <a:ext cx="85345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r wilt thou wit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night depar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ut stay and love me to the end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 mercies nev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hall rem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12. The Sun of Righteousnes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on m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hath risen with healing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in his wing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thered my nature’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trength; from the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y soul its lif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succor brings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y help is all laid up abov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919160"/>
            <a:ext cx="87631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90512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3. Contented now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upon my thigh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I halt, till life’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short journey 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121932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ll helplessness, all weakness I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n thee alone for strength depen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r have I pow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from thee to move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 nature, a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905120"/>
            <a:ext cx="85345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14. Lame as I am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I take the pre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hell, earth, and si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with ease overco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, O Thou Traveler Unknown (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219320"/>
            <a:ext cx="84582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 leap for jo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pursue my wa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as a bounding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hart fly hom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rough all eternity to prov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859040"/>
            <a:ext cx="82296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I need not tell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thee who I am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my misery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and sin decl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457200"/>
            <a:ext cx="822960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self hast called m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y my nam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ook on thy hands a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read it there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ut who, I ask thee, who 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ou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ll me thy name, a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ell me 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59040"/>
            <a:ext cx="8458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In vain thou strugglest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to get fre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I never will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unloose my h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187280"/>
            <a:ext cx="84582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t thou the ma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at died for me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secret of thy love unfol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restling, I wil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not let thee g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ill I thy name,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59040"/>
            <a:ext cx="8458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Wilt thou not yet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to me reveal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thy new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unutterable na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ll me, I stil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eseech thee, tell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 know it now resolved I am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restling, I will no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let thee go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ill I thy name,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59040"/>
            <a:ext cx="86868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’Tis all in vain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to hold thy tongu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or touch the hollow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of my th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1:59Z</dcterms:modified>
  <cp:revision>141</cp:revision>
  <dc:subject/>
  <dc:title>PowerPoint Presentation</dc:title>
</cp:coreProperties>
</file>