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DCB-2722-40F4-8749-A2071953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4D5-873B-4D62-BDBA-73D561C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4D4-FA6E-454C-89BD-2E907B6B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433-43B0-48EF-8C52-786B6A0B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788-E706-4C97-86B3-343C9966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635-A9EA-48FF-9476-93B886DF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B98-08FE-40D3-BDC8-DF03B544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C73-D2DA-4E1A-B37C-F9BBFA0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48C-7D96-47EE-8FB7-42DBC7F8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5C9-0AC7-413A-9845-7A5C098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489-50CE-4B64-A19E-F2FA9B2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A80-CD4A-4935-ABCC-C64C404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79F3-0B51-4519-80F1-FFDF4B35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2, 1978 Manna Music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9720" y="1143000"/>
            <a:ext cx="34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erry Sinclair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33:19Z</dcterms:modified>
  <cp:revision>38</cp:revision>
  <dc:subject/>
  <dc:title>PowerPoint Presentation</dc:title>
</cp:coreProperties>
</file>