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79E-9942-4A3D-9840-326C6825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20D-8562-491B-8E30-D72E01E9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E8F-CDBB-463D-B626-A22EB851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6D1-4524-4AD8-8A72-5B850724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E38-E65B-44CD-A553-72BEAB4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21C-8A03-437C-9BAE-6DE51793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E4A-5EF8-463D-A312-8083E8A1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EC1-DB8E-4764-B22F-4E767BA9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609-2145-4CBF-9905-687E2CE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573-BEA9-4DA8-856F-84B47EE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DFB-94BC-4A29-BBDF-10BB800A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C0D-B2CE-4F54-815C-C86E7C9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616-D268-44D7-994F-28D90FA0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oses and Miriam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us Domi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exal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n your streng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ise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oses and Miri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200" y="1600200"/>
            <a:ext cx="764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Exodus 15:1-6, 11-13, 17-18, 20-21; Response, Psalm 21: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26708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tretched out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right han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earth swallow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371600"/>
            <a:ext cx="8610480" cy="500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your steadfast lov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have led the peop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m you have redeeme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have guided them b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strength to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holy abod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81952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will bring them 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plant them on you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wn mounta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place, O Lord, whic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ave made for your abo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981080"/>
            <a:ext cx="8610480" cy="427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anctuary,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ich your hand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ave establish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ord will reig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for ever and ever.”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9810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 Miriam, the prophe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sister of Aaro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ok a timbrel in her hand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all the wom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nt out after her wi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imbrels and danc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447920"/>
            <a:ext cx="8610480" cy="500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Miriam sang to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to the Lord, who ha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rse and its rid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Lord has throw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nto the sea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124080"/>
            <a:ext cx="8610480" cy="320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 Moses and the peop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Israel sang this so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the Lor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81952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will sing to the Lord, who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has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rse and its rider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Lord has thrown into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75248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my so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has beco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y salv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is my Go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whom I will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19112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will exalt my father’s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is a mighty warrio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se name is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743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haraoh’s chariots a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his host the Lord cas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nto the sea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his chosen officer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re sunk in 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8862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floods cover the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y went down into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epths like a ston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42900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glorious in powe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hatters the enemy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is like you,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mong the gods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is like you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ajestic in holines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errible in glorious deed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oing wonde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15:36Z</dcterms:modified>
  <cp:revision>56</cp:revision>
  <dc:subject/>
  <dc:title>PowerPoint Presentation</dc:title>
</cp:coreProperties>
</file>