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6B05-1D03-43EC-B63C-49E4D2E3B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E339-D26B-4496-BED3-4BC957CE3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CFF4-F095-4E05-BC94-F56F87695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C220-88C9-42ED-95A3-DA962F352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2769-A46C-49C9-AA16-B0418441D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196B-23D7-45B8-A4F7-85839F80B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9738-EB1A-45FD-A902-9F9F1734D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3F88-4873-4A1D-BBE2-406D63D5C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C420-B015-4BC7-BA7E-7E4428E06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4465-C83B-412D-80EE-B8203550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3AB6-2955-4E17-B2CE-5F33A062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4C27-A7F3-4791-9970-F174E81D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3E8BD-0D16-44B3-9682-6A674B1919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Holy Thursd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8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981080"/>
            <a:ext cx="88390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Gracious God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your Anointed One, on th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night before he suffered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instituted the sacrament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of his body and blo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ly Thurs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6960" y="990720"/>
            <a:ext cx="577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After </a:t>
            </a: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The Book of Common Pr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(Mt. 26:26-29; Mk. 14:22-25; Lk. 17-20; 1 Cor. 11:23-2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820800"/>
            <a:ext cx="883908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ercifully grant that w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may receive it thankfully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in remembrance of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Jesus Christ our Lord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who in these holy mysterie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gives us a pledge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of eternal life. 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5T21:03:49Z</dcterms:modified>
  <cp:revision>18</cp:revision>
  <dc:subject/>
  <dc:title>PowerPoint Presentation</dc:title>
</cp:coreProperties>
</file>