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BFE-91F4-4B0C-A4FC-C4F27F0D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AB3-467F-4910-A86A-4080E42C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0B9-2384-44B7-96B3-A1FF6C4A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AD6-9968-487B-A843-5F0A3294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C27-0283-4712-ABBA-9D096828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7AA-5853-403F-8B65-D1EF6C62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AF0-73DF-4972-9EBA-11993030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0D5-1523-48A5-B1AA-D5B5418C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FB5-44EF-47CA-B89A-4B0A2CA5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802-A836-44F2-8310-94F670EE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F2E-4930-4E15-BE4A-D51F8623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64E-B2FA-4874-A376-17A2BA65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9C32-BC64-4B28-AB0A-A6371CD33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nticle of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4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(Advent &amp; 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grant to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wisdo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new us with its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dapt. and Response 1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70080" y="1092240"/>
            <a:ext cx="665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Wisdom of Solomon 7:15, 24-30, adapt.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sponse 1, Harrell Beck; Response 2, Henry Sloane Cof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827360"/>
            <a:ext cx="8610480" cy="320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r light is succeede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by the night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but against wisdom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evil does not prevail.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come, thou Wisd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on hig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rder all th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r and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838080"/>
            <a:ext cx="861048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y God grant</a:t>
            </a: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that I speak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with judgment 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and have thoughts worthy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of what I have receiv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5760"/>
            <a:ext cx="86104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or God is the Go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even of wisdo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the corrector of the wise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sdom is more mobil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an any motion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ecause of her purit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isdom pervades a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penetrates all th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838080"/>
            <a:ext cx="8610480" cy="5395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r she is a breath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of the power of God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and a pure emanation of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the glory of the Almighty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therefore nothing defile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gains entrance into wisdom.</a:t>
            </a:r>
            <a:br>
              <a:rPr sz="3000"/>
            </a:b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or she is a reflectio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f eternal ligh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 spotless mirror of t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orking of Go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 image of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God’s good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ough wisdom is but on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she can do all things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while remaining in herself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wisdom renews all things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409680"/>
            <a:ext cx="8610480" cy="58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 every generation wisdo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passes into holy soul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makes them friend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f God and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ruly God loves nothing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so much as those wh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live with wisdom.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or she is more beautifu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an the sun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excels ever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onstellation of the star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ompared with the ligh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he is found to be superi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5:48:00Z</dcterms:modified>
  <cp:revision>28</cp:revision>
  <dc:subject/>
  <dc:title>PowerPoint Presentation</dc:title>
</cp:coreProperties>
</file>