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4E7D-38E8-49AD-8C2F-58E6D62A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4474-C63C-45FF-9E1F-FF71D606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D81B-5B8E-49EF-AB04-89AE2751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501F-2D35-4EB1-A215-2DF6F88B3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F206-90BF-4711-A078-AFFA9CD9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3B4D-0AD9-4184-B869-407E1B53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1BA9-C6F0-47A0-8FC7-E7809D31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AB81-E3E9-4E16-B79E-EDC61240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4FBD-A5F2-4369-AF72-A7ECA12E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EADA-11F6-4134-80C3-79865145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707C-7830-4984-9720-8AB91B8B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6274-4779-4CD3-B02D-105F89FE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6178-C9C9-4AF7-AACA-232353377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e Shall Over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We shall overcome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we shall overcome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we shall overcome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someday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hall Over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144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African American spiri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h, deep in my hear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do belie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the Lord will see us through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h, deep in my hear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do belie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hall overco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We’ll walk hand in h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’ll walk hand in h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’ll walk hand in h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hall Over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h, deep in my hear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do belie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’ll walk hand in h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We shall all be fr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hall all be fr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hall all be fr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hall Over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h, deep in my hear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do belie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hall all be free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We shall live in pe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hall live in pe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hall live in pe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hall Over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h, deep in my hear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do belie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hall live in peace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5. The Lord will see us through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the Lord will see us through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the Lord will see us through 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someday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hall Over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2:23Z</dcterms:modified>
  <cp:revision>55</cp:revision>
  <dc:subject/>
  <dc:title>PowerPoint Presentation</dc:title>
</cp:coreProperties>
</file>