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370-D32C-414C-B7E3-506B8CAA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C6-B390-4FEA-BAD2-1FDC4A4B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871-50ED-44C2-B69E-C4E86321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5EA-4D48-405F-954D-CA0D1651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F91-3944-4C63-B44B-16EFA81B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453-806A-4026-9DC5-9AFCF5D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95F-4582-424C-B36A-C6DD83A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947-1829-45D9-A22E-6FA806A9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0BF-6787-414A-BF08-03BF512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00F-CAC9-4C18-9766-294C2E8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B32-07F9-46DB-BCA8-7EDCEDC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3B7-8DF3-407B-9C73-D87FDBC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E51-D6F0-4313-AF77-E56AE1AB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Christ’s Obe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is mind be in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as al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and Response 1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1480" y="1116000"/>
            <a:ext cx="729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hilippians 2:5-11, adapt.; Response 1, Philippians 2:5, adapt.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sponse 2, Caroline M. N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ame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knee shall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4792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rist Jesus, though he wa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form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id not count equality with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 thing to be grasp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810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emptied himsel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aking the for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a servan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ing born in our like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479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being fou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uman for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e humbled himself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ecame obedi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unto dea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n death on a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7524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refore God has highl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exalted hi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bestowed on hi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name which i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bove every n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096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at the name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y knee shall bow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eaven and on ear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und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13372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every tongue confes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at Jesus Christ is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o the glor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God the Fath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9:02Z</dcterms:modified>
  <cp:revision>29</cp:revision>
  <dc:subject/>
  <dc:title>PowerPoint Presentation</dc:title>
</cp:coreProperties>
</file>