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7B8C-F1C2-4390-840C-6C184C932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92DE-7EB5-4FCC-8DA9-F88DB456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33BE-D876-404F-87C2-7340AD109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08F1-B263-45E6-9EF3-40E5B9178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74C6-97FC-4C87-A43D-3647E268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2874-9D83-4CC7-A83D-2B937A45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8D9A-DF07-44D9-8607-B2744C23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1AE2-90C1-4212-BF43-5D65C441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4493-BDB8-4B0F-9C25-BE8919A0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8ACF-8B07-4EBA-8B85-FE1737BF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C06D-C7D6-4110-9BF9-DAFD71DE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2B77-AABB-4026-B204-86261742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2E07-2D11-4740-A6FC-8BC6BEAB9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od Christia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riends, Rejo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Good Christi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iends, rejoi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th heart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ul and voi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Christian Friends, Rejoi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6480" y="1676520"/>
            <a:ext cx="6156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14th cent. Latin; trans. by John Mason Neale, 18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ive ye he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what we say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ews, news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sus Christ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orn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x and a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efore him b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he is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manger now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is born tod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is born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Good Christi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iends, rejoi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th heart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ul and voi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Christian Friends, Rejoi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w ye he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endless bliss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ews, news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sus Christ w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orn for thi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 hath open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aven’s do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ye are ble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revermor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was born for thi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was born for thi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Good Christi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iends, rejoi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th heart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ul and voi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Christian Friends, Rejoi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w ye ne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t fear the grave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ews, news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sus Christ w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orn to sa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alls you o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alls you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gain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verlasting hall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was born to sa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was born to sa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3T20:42:53Z</dcterms:modified>
  <cp:revision>69</cp:revision>
  <dc:subject/>
  <dc:title>PowerPoint Presentation</dc:title>
</cp:coreProperties>
</file>