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199-CF93-45E6-93FB-C5152590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050-1982-4A9C-9B3C-5ACAAE9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B38-9B71-4908-B372-5BB8834F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410-2465-49E3-BBCF-171B5731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0AF-26B0-478D-890B-C416431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435-3C5D-4373-803E-794EFCA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5A1-3745-4D64-8350-409562A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3DB-34B9-4536-839D-D1322098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89B-D661-42E0-A4B5-6F394CC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2DE-2375-48BB-A25B-BF7D0BF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680-56AD-46B9-ABC2-E0894C6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8FF-FB8C-4E4C-976F-C90D2DB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004A-9B8F-4BDD-BE6B-9B4F019A2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k Ye W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eat 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sk ye what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ng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eligh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rs me so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9240" y="1700280"/>
            <a:ext cx="61822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ann C. Schwedler, 1741;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ns.  by Benjamin H. Kennedy, 1863  (1 Cor. 2:2; Gal. 6: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ward I wi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glory i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ho defe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fiercest foes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conso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addest w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vive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ing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idden smar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o i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ife to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death will b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ll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on his 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ount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ts of ligh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his is that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ng I kn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deligh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rs me s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i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who triump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grav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6:59:24Z</dcterms:modified>
  <cp:revision>26</cp:revision>
  <dc:subject/>
  <dc:title>PowerPoint Presentation</dc:title>
</cp:coreProperties>
</file>