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5A8-F351-45B6-B4EC-4714BB1C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2BA-181C-4218-95CA-CAA3179F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408-51EB-4AD7-8BB9-3FF4D196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208-B887-4F2B-83A2-947A536B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225-C6A3-4496-915B-7BFEA0E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3E2-5376-4109-8997-4E299767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A5C-C2A5-40A3-AE16-923DE9EA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8D7-D89F-458B-A29E-84F45EEC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928-C773-4186-896A-B49B7205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432-5176-46B7-9473-5F9FE219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36E-C8BD-466D-98A9-82F93127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FC3-B963-4718-BE60-EE48EF5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5C4-3755-44BA-BB63-187AF78BB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yer of John Chrysos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John Chrysos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The Book of Common Prayers,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Greek, 5th cent. (Mt. 18:19-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1916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you have given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grace at this ti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with one accord to make our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common supplication to you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you have promis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rough your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ell-beloved S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at when two or three a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gathered together in his nam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you will be in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midst of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ulfill now, O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ur desires and petitio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s may be best for u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granting us in this worl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knowledge of your tru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and in the age to co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life everlasting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38Z</dcterms:modified>
  <cp:revision>136</cp:revision>
  <dc:subject/>
  <dc:title>PowerPoint Presentation</dc:title>
</cp:coreProperties>
</file>