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3A3-97C2-4547-B281-B515EAB3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762-DDF9-4D1B-8586-2D6EE2B6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C50-CFD1-4D63-970F-6B8A276C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DD3-7279-403B-B64F-15AE04BA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185-1B43-4A11-942B-AEB72FD6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62C-300E-4352-A82F-19AE16CC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FAC-641A-43FE-B357-B7F8FF80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236-B1CD-46E7-A367-49A85320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F64-53D9-469F-83F5-44F5574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161-3DC5-4857-ADF8-448BE745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21B-F55D-42AA-BAA9-ECBEE50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A96-793F-48E0-859A-6180DCC6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7429-F44E-4AEA-BF94-085394EC5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Blest Are The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Trust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w blest a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ust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nd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love must 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07800" y="1647720"/>
            <a:ext cx="3128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7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yield them 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 they m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do not l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m from our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 ripened 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harvest reap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gone from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th or pri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 they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leased from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onds of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, who tas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for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ise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natural gr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nes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ricken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ength and splend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l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1:26Z</dcterms:modified>
  <cp:revision>11</cp:revision>
  <dc:subject/>
  <dc:title>PowerPoint Presentation</dc:title>
</cp:coreProperties>
</file>