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AF0-B3E6-4B7C-AE8E-BF2DB19B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D4E-BA31-4F4F-BEFE-905F9BE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0B5-2C43-4D9E-82EF-6DF7F932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86C-5244-40A3-A805-22F205F9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D33-EE53-436F-80A1-CAE16D3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7B2-2318-4FEE-BDC1-6E9CBE4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1AC-DEE9-4795-8ED4-7ECC0FA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178-9146-491F-AC5F-2135AF4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86F-2850-4A03-8CFA-A54CCBB7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0FC-CAC9-428A-B419-C1A013C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FEE-A590-4B13-BD55-FBE6D9B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826-0BF7-4975-B588-19F0CED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51E4-D646-4046-91D1-B8DB87D7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r Lord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ther 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Lord and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lish w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9360" y="1523880"/>
            <a:ext cx="3350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John Greenleaf Whittier, 1872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ense be du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lesh ret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rou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quake, wind, and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ill, small voice of cal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othe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ghtful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i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e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rence,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simple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ho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yrian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iou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 and follow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abbath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al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lence of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reted b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reathe through the h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o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al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8:58Z</dcterms:modified>
  <cp:revision>9</cp:revision>
  <dc:subject/>
  <dc:title>PowerPoint Presentation</dc:title>
</cp:coreProperties>
</file>