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531-035B-4F13-9997-1166F34F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E43-3293-4CB1-BE65-47FE395D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D64-07B3-4963-85BC-B2E475D6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85E-57CA-406F-8E1C-A142106A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F5A-C63A-49DE-A894-F1EB4970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455-4939-45BD-8F0E-CA2C51EC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58B-9654-47AD-91DE-9575DBD6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311-7E86-40C3-AFC9-1B6BDE99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E5E-4D50-41B0-B88A-DDC7AEA9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6EC-6792-4CFE-BA71-1DDF198A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E8E8-D25E-417A-BFD0-8F70E255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92B-366C-4C6C-B517-8EA9B88A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6FB7-539C-4FAC-8713-028479AF2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, Thin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-Victorious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esus, thin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-victoriou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ed in m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 abro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2800" y="1600200"/>
            <a:ext cx="2919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hall my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longer r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ooted and fixed in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that in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cred fi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ght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gin to g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rn up the d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ase desi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k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untains flow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that it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heaven might f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s consu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Holy Gh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e I c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 of burning, c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Refining fi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 through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lluminate my sou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catter thy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every p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nctify th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0:14:59Z</dcterms:modified>
  <cp:revision>13</cp:revision>
  <dc:subject/>
  <dc:title>PowerPoint Presentation</dc:title>
</cp:coreProperties>
</file>