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069-0568-4964-952B-42531663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49B-502C-41A2-AACA-6B01FD01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A73-D786-468A-A0DD-0FB2167F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BE1-F9A0-4123-9059-4A4979A7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D6A-DBF1-49A0-B897-8DD6C92B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D29-3445-44F5-848C-82551F9A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222-5ADB-46D9-9027-BC85DACF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642-9C30-46DF-A523-C678D993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540-FC08-4867-9E98-765F3AB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C6A-DD47-44EB-B7F1-FB62D0DF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ED1-317B-48D4-90F1-6F5E4745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647-757E-43F6-8C04-4203B456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9D8-06D5-4E8F-8959-330C72FCB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ll Get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the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of Jes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his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116676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Eliza E. Hewitt, 18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one glimps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in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the toi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rep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3623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971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nward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ze before 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his beau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beh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the pear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es will op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hall t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reets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3623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mans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 and bl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ll prep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a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623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8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we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ilgrim path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uds will over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k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when trave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s are o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shad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s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43828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t us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rue and faith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ing, ser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3:58Z</dcterms:modified>
  <cp:revision>44</cp:revision>
  <dc:subject/>
  <dc:title>PowerPoint Presentation</dc:title>
</cp:coreProperties>
</file>