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B1A3-368E-485C-AAB2-BEE39EFF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936A-98C9-4C64-B856-4462E040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A230-0FF1-4215-8D01-75532D2C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2D30-8DA7-4B18-A621-A30967EA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1401-BD2D-4429-B70F-BFBE2585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988-7A35-43AD-A198-AFD43F29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59F8-ED8B-4986-A021-14B575BE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4535-9A10-48D9-BB8A-6A93C42D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3C35-2B56-4943-B8C8-70B3E0C5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CA3D-22CD-4013-888D-19685F25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181C-38A6-4985-A4DA-100AAA4A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217A-E802-49D9-8AFE-D2D6B10D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9B7F-7777-4531-A7DF-773F71163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167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lory Be to the F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Lesser Doxology, 3rd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4th c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429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be to the F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the S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the Holy Gho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Be to the Fa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it was in the begin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now, and ever shall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ld without en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en. 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17:01:25Z</dcterms:modified>
  <cp:revision>19</cp:revision>
  <dc:subject/>
  <dc:title>PowerPoint Presentation</dc:title>
</cp:coreProperties>
</file>