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A53-4282-49CB-89C3-B8CAFB96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5AB-2E36-4817-BA36-BB9A1789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D1B-2A4B-4841-AB80-AF9D305D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CA6-CAE0-4D5B-ABF7-07D5C5FB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717-3019-4BBB-90F2-937B1178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1965-BAC7-4E1A-989B-E0F7E0C7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98E-C755-485A-AB16-C021CB4C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B4B-7F86-4E7F-BADF-0244F945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1F0-860D-4A1A-8CDD-00965F2F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EA4-168D-4528-AD29-5B38E55B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B07-2B9A-47B5-ABC5-A3C35D30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0F5-7B0C-4FB3-A887-5274CD46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E439-D1BE-4C82-8E61-67196F03E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airest Lord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Fairest Lor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uler of all nat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man the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9520" y="1168560"/>
            <a:ext cx="8206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ünster Gesangbuch,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677; trans. by Joseph August Seiss, 1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e will I cheris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e will I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, my soul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, joy, and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Fair are the meadow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airer still the woodla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bed in the bloom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arb of spri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is fair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is pur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makes the woe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rt to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Fair is the sun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airer still the moon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the twink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arry ho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shines brigh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shines pur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n all the 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 can bo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Beautiful Savior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 the nation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n of God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n of Ma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and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, ador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and foreverm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4:37:28Z</dcterms:modified>
  <cp:revision>41</cp:revision>
  <dc:subject/>
  <dc:title>PowerPoint Presentation</dc:title>
</cp:coreProperties>
</file>