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99B-FB15-41B6-B57E-318D0D0E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A8C-3277-488F-AB8C-49F5D229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E53-D6CF-4E98-B621-AA531ADA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15E-823B-471C-AF6E-7348AA25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1B3-E8F7-4E24-BFE4-4BB8C231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164-3109-456B-9837-95B862DD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3EF-011A-4810-B878-67D48B83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BC3-AC8C-4C1A-91AB-92B018C1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068-5744-4AEB-89DB-B34E12A0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22C-6785-48E7-9539-22759434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332-D199-4EE2-9105-734CC250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675-0B91-4B93-A0ED-B3401A8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781A-3FCA-4B1F-B51B-53425227E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the Father’s Love Bego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f the Fath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begott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re the worlds began to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is Alpha and Omeg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the source, the ending 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7400" y="990720"/>
            <a:ext cx="748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urelius Clemens Prudentius; trans. by John Mason Neale, 1851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nd Henry W. Baker, 185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things that 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ave be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at fu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ars shall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 and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ye height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, adore hi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 hosts, his praises 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s, domin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w befor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xtol our God and K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no tong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rth be sil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voic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cert 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 and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hrist, to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od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, O Holy Ghost,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ymn and c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gh thanksg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nwearied praises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nor,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omin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ternal vic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 and evermor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8:34Z</dcterms:modified>
  <cp:revision>35</cp:revision>
  <dc:subject/>
  <dc:title>PowerPoint Presentation</dc:title>
</cp:coreProperties>
</file>