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425-CA1C-4FFE-879C-E6ED6B0E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1D1-63B4-4925-B71C-0E413BA9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90D-49E0-4AAC-B7E9-F80AF4BA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FEC-39CB-4232-8AF8-DBE782E2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B19-0D43-4D1A-98A2-6834D9A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C0E-F13A-45EE-9FC3-F7296AE8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161-0514-46C1-8AFE-413BC03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223-91E1-428E-8A58-98F3A3E6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D91-F6CF-4F23-BDE0-B2B74DD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2BD-2908-4C23-BB7D-30089CE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EC2-BCB8-473B-BEE4-DFDD9D5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AFC-8E02-443A-902F-7A77CBD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E600-A9BA-45E6-AF47-C97332707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Our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od, keep our country und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r protection. Wipe out s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this land; lift it up fr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depth of sorrow, O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shining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0  by  Harper and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ur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7080" y="1063800"/>
            <a:ext cx="3346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oyohiko Kagawa, Japan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4200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ave us from deep grief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sfortune, Lord of all nation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less us with your wisdo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that the poor may not b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pressed and the rich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t be oppress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this a nation having n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uler except God, a nati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aving no authority but t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Love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1:17Z</dcterms:modified>
  <cp:revision>14</cp:revision>
  <dc:subject/>
  <dc:title>PowerPoint Presentation</dc:title>
</cp:coreProperties>
</file>