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120-A4AD-4822-A4C9-4FC20283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498-7F1A-482B-925A-EAB488E2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9E5-5F44-4E8B-8B5F-4FB2649B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FB3-BF68-46EC-AF2D-04801CC6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60F-6E26-43D5-8A01-41071C81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8BE-C115-4491-88EB-98051E20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364-A5A0-4A60-B914-26283340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9CC-E541-4CF5-8BC4-5EA2E224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0B4-AE87-4CD2-8C78-41280BAB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B82-BC8C-40F6-8C71-813FB85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627-07A5-4229-ACE8-90AF87E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B2D-3640-493B-84F8-A80DA54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BEC-F5B1-4ED3-A0A6-D01AF856F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Gift Can We B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at gift can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present, what token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words can convey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oy of this d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2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ne Marshall, 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grateful we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embering, rej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song can we o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onor and prai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ive thanks for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se who had vi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planted and wat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reams could come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anks for the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tudy, for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ission that bi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urn prayer into 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ive thanks for tom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of surpr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knowing what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morrow may b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d is our prom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, for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st in God’s keep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 in God’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is gift we now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present, this t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se words can convey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oy of this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grateful we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embering, rej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song we now o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onor and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35Z</dcterms:modified>
  <cp:revision>28</cp:revision>
  <dc:subject/>
  <dc:title>PowerPoint Presentation</dc:title>
</cp:coreProperties>
</file>