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8467-81E3-48B5-92C1-620B81D9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7ED-4125-4EED-862D-1037B1B9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740-5240-49CD-B06C-FD4C935F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39C0-A305-4EC8-8E0D-69B832C3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0E1-8DC9-469A-B6FA-B9DBC88A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8352-7DAC-44DC-8D20-A3810C15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4159-F121-43C5-9604-BEA90AD5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21F-F618-416B-BE8C-2BFC8955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12A-5FF5-4A0E-8C44-B5808785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4999-1CEB-4998-804F-904A0E4E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931-DD27-418E-A0B2-F5115CCE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52E-BC5C-48FD-959C-C04DB04B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5823-6AE1-4EF8-9F9D-88BC67783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First No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e first No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ngel did s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to cert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or shephe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fields as they l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18480" y="1066680"/>
            <a:ext cx="61214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Trad. English carol (Lk. 2:8-14; Mt. 2:1-12)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is star drew ni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northw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Bethle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took its r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re it d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th stop and st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ght over the pl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Jesus 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of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hen entered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se Wise Men th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ull reverent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the kn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ffered t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is presen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gold and myrr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rankincen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of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fields where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y keeping their sh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a cold winter’s n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as so d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of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y looked u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aw a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ining in the e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yond them f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gave great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o it continu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th day and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of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nd by the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at same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ee Wise Men c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country f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eek for a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their inte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follow the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ver it we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of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2:41Z</dcterms:modified>
  <cp:revision>8</cp:revision>
  <dc:subject/>
  <dc:title>PowerPoint Presentation</dc:title>
</cp:coreProperties>
</file>