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4112-3678-4DBC-9AC0-A0E8DF5E3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9033-F927-47BB-BBF3-B21FCBF1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B6A2-2FD9-4483-8802-F736D4507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53CB-6F19-4938-9BD2-E3E95CEE6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4C11-F077-4E67-8EF0-A551FDF9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25D3-E5B8-4673-AF27-5A537773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04E7-E3BB-4428-AE36-FBA4D41A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B16D-39AC-44E4-A72F-D9D4B2FD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7536-978E-40DA-9101-BB986585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4796-64FC-4C57-8B78-61EF92F0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F3ED-D43B-4BEE-9A47-F5560D89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21FC-2C28-47FA-A176-2B0F89B4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86A4-FE2D-43B3-8F89-44D3F57D4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merica</a:t>
            </a:r>
            <a:br>
              <a:rPr sz="40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My Country ’Tis of The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69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4290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county, ’tis of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 land of liber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e I s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eric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67920" y="1700280"/>
            <a:ext cx="30078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Samuel F. Smith, 18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3124080"/>
            <a:ext cx="86104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nd where my fathers d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nd of the pilgrims’ pr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every mountain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freedom r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My native country,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nd of the noble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 I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eric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2438280"/>
            <a:ext cx="861048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love thy rocks and ril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oods and templed hill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pture thril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at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4290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usic swell the breez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ing from all the tre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 freedom’s s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eric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3200400"/>
            <a:ext cx="887724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ortal tongues awak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that breathe partak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rocks their silence brea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ound pro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4290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fathers’ God,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uthor of liber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we s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eric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760" y="3200400"/>
            <a:ext cx="887724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ng may our land be b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freedom’s holy li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tect us by thy m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God, our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8:23:02Z</dcterms:modified>
  <cp:revision>39</cp:revision>
  <dc:subject/>
  <dc:title>PowerPoint Presentation</dc:title>
</cp:coreProperties>
</file>