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C14-49B0-4BB4-9AE9-41F6528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BB6-F33C-4FA0-AB3D-72FBC45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FA2-3733-41FF-89FB-EB46D7C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7BB-0179-4CE5-A874-8FEAD6C4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3CB-6F9C-4C75-9D10-894E8C3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719-F9D7-4E4F-9E12-A751C041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E8D-BEB5-44C8-8C7B-27F9BCF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DE5-2578-4F2E-8716-BE0D3B9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A28-E692-4928-A3E3-F51890B9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7DE-FE72-4783-8141-F6FCF668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2C4-4AC2-4608-8168-9D5BA10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99C-30F9-4A57-8B70-75834AD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1A2-7431-4932-A2B9-571F1984C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60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240" y="914400"/>
            <a:ext cx="45637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Bob McGee, 1976 (Mt. 1:2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vealed in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3:27Z</dcterms:modified>
  <cp:revision>53</cp:revision>
  <dc:subject/>
  <dc:title>PowerPoint Presentation</dc:title>
</cp:coreProperties>
</file>