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0BF7-61D5-45E6-B64A-AD4D3A1A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A8D-B345-47BE-A5B0-37061E0F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FE6-73E1-46A9-9F2C-17FCF7B7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CB86-7A4D-4915-8173-863F5488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93C0-CA91-4454-959E-ABC5DF13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2258-943E-4479-9369-B675CD22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DE0E-E538-42C9-8C8F-F665FC69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9F32-578C-4544-AA8B-A5BCE691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BA5B-229E-4358-A5C7-620F7BCA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A8B8-8D2A-4ECA-AF48-87B6BCB5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ED16-91BF-43D3-8956-158D2318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6B85-BF84-4EC7-A779-535D0572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4FC5-A3A3-42B1-9F78-6E3432F93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116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rinity Sun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fter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he Book of Common Prayer;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a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28600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Holy God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you have given us grace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by the confession of the faith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of your holy churc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nity Sun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o acknowledge the mystery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of the eternal Trinity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and, in the power of your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divine majesty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o worship the U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096920"/>
            <a:ext cx="883908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Keep us steadfast in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his faith and worship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and bring us at last to see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in your eternal glory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One God, now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and forever.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1:06Z</dcterms:modified>
  <cp:revision>22</cp:revision>
  <dc:subject/>
  <dc:title>PowerPoint Presentation</dc:title>
</cp:coreProperties>
</file>