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DA3-F69A-47F4-91F8-0FAAA05E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9DF-9544-48B4-9376-6D9BA2BA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6F5-6A2D-4CBB-8F63-CB2BF6AA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016-76DC-481A-92BA-D53B6CCC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6E5-8708-47DF-9F3A-FB10F538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728-5A4D-4B14-B107-1E669AD0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E26-5D09-4431-A38A-AB904031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3CBD-EFA2-4CB2-8E8D-048C6032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8B0-20B5-4EDD-BFAC-0EFEB7C2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BA7-382E-47F4-8596-F78368D3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1E9-63C7-4B1C-BA33-68DFD608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66C-64A6-4F47-BD1B-8A295A7C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FD0E-AE27-4AAF-B9F5-63EF96356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Wash, O God,</a:t>
            </a:r>
            <a:br>
              <a:rPr sz="4000"/>
            </a:b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Our Sons and Daugh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6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ash, 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ons and daught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your clean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ers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WORDS: Ruth Duck, 1987 (Jn. 3:3-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r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glory, honor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ur li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orship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your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nd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er-wash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pirit-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your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ives we offe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create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, transform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umber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ong your peopl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 as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long a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ave them garme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ght and sparkl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pass them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, anoint the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d your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dov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’s de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e who bring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ng for nurtu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your mil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we be f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jo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feast, parta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up of bles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ing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, renew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our footstep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e from s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its snar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with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iving, dy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your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dren, hei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how d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holy wisdom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imagined, all your way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1:27Z</dcterms:modified>
  <cp:revision>106</cp:revision>
  <dc:subject/>
  <dc:title>PowerPoint Presentation</dc:title>
</cp:coreProperties>
</file>