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55E8-257F-4CB8-B4F3-F74555FD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9359-2991-42C4-BC32-B18AF9D1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EBCE-B8CC-4817-9721-9E1534741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3451-0CE6-42AE-804B-EF2BA809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30F4-478B-450E-AAED-2DAEF62D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199B-196C-441F-A91A-B59FE361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6C35-327C-4430-8470-3102D76F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004B-1BC8-417D-8E7D-D194F059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EED2-E2E0-471B-973F-C41A5B36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6F78-CB7D-4A3A-B1A8-7A5ECA53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CBCE-D192-4CCB-8E8E-2D013C58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64E8-B256-4F91-9BAE-A89819ED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A015-2F15-425E-B347-0F72D24F4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Mary, Don’t You We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n’t you mou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n’t you mour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78000" y="1066680"/>
            <a:ext cx="6619680" cy="38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Times New Roman"/>
              </a:rPr>
              <a:t>WORDS: African American spiritual (Jn. 20:11-18; Ex. 15:21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1337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hen I get to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in’a put on my sho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in’a run abou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pread the new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3623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371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n’t you mou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n’t you mour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905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4382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ne of these morn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ght and fai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in’a take my w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leave the ai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4382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371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n’t you mou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n’t you mour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1337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hen I get to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in’a sing and shou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in’t nobody th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in’a turn me ou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905120"/>
            <a:ext cx="89154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5238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n’t you mou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n’t you mour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4:52Z</dcterms:modified>
  <cp:revision>54</cp:revision>
  <dc:subject/>
  <dc:title>PowerPoint Presentation</dc:title>
</cp:coreProperties>
</file>