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BA8-97F0-4548-92C5-9DBD0265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746-5BF9-4DD2-92DD-E1F267E1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AD5-A6D0-463D-BF23-7B4141C4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BD2-573C-4A94-B9C6-B4E48B3A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64D-C2FD-465C-BD6D-2033CA00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8F9-372D-4900-9278-0FD87031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84A-C483-43BF-867A-93EBCF04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E0B-EAF5-4B1C-9C27-E2A7F8C1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280-E024-4396-9EB6-63C614ED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D94-DBCA-4A3A-82EE-CBF5C261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7A16-C683-4BC0-AA37-8FF6FC60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B08-EECF-493E-B458-B589B74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779-1C6B-4800-ACB1-0A8FFECEA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rd of God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 Down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ord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down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ing rai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descen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9 James Qu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on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6120" y="1549440"/>
            <a:ext cx="3370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ames Quinn,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ord that spea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ather’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with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yond all t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on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that send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dw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of tru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truth lead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of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Bread feed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uch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 to bi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and hope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vere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long to hea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ord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that br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fe cre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on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that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 to di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cifie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alv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ng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rest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to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ve outpou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ord that cau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ind eyes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and he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ortal blindne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on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f we ar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ler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se our tongue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your kind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ur Wor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ty spok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our sin brok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0:57Z</dcterms:modified>
  <cp:revision>14</cp:revision>
  <dc:subject/>
  <dc:title>PowerPoint Presentation</dc:title>
</cp:coreProperties>
</file>