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485-3D32-4FC6-8CAE-A9B02876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9BD-9A5C-4EDB-8DBF-8D24CB66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573-2B1D-4D0A-8436-85AC99EE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F82-D5A6-4476-8EAD-6786A661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BA5-9774-4A2B-A27D-F56BB710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6D5-8FB8-458F-B1A4-49704316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E74-9929-4FDA-B37E-A5F2137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0C2-F454-4562-A287-E5F125D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4F0-2D23-40BC-A1DD-9AD28BC9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F60-49AF-4639-A902-50C6706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FCB-0C1A-481A-9127-0AF58FC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EA6-0624-451D-B0B8-7F1D7D1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DE0B-BBF5-427D-A598-57AB7053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1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2 Hope Publishing 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Richard K. Avery and Donald S. Marsh, 19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nd whe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ople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s sing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re’s pr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s laughi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s crying someti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f it say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The churc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buil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urch is not a stee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urc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resting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urch is a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’re ma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s of peo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many kinds of fac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olors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ges, to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ll times and pla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ometime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is marc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avely bu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t’s ri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hi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it’s le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50Z</dcterms:modified>
  <cp:revision>64</cp:revision>
  <dc:subject/>
  <dc:title>PowerPoint Presentation</dc:title>
</cp:coreProperties>
</file>