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11C-7202-4FB3-B161-2503E43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7D4-F356-4396-9FA9-6CF3B9F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98C-EFBE-4893-A0E0-8643D600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8AA-2B8F-4091-9A74-5CAC8419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B19-B701-4155-A068-0B98699E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6D3-8F61-42A7-A2AA-4AB6B7BD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138-51C6-49EF-BBA3-270DEE38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A00-69D1-465D-8CB3-435B2D0D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EA8-D8D6-4A9E-9AE0-75C1835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FA5-B42B-4D15-B36E-D002048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58A-7006-4101-BA50-5AE5044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846-A228-4740-B2A1-ECC83D9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2CF-BDF9-4E1B-8491-DBA7AE0F0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upo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untain P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, up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s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lory blaz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7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573200"/>
            <a:ext cx="6496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Brian Wren, 1962 (Mt. 17:1-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, if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e to s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ain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prais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embling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we s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ijah spe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l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rough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ful greet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wift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c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roclai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thu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a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by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, cry a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ond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is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ved So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w and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de before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st and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ly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dor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59:31Z</dcterms:modified>
  <cp:revision>22</cp:revision>
  <dc:subject/>
  <dc:title>PowerPoint Presentation</dc:title>
</cp:coreProperties>
</file>