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CF6-AD8C-4B9C-A1B4-79F0DACC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1DB-8479-446B-8D36-7C091AC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DD4-A365-4E1A-9F9E-EC0A510F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95A-3E24-4B15-8382-6BAD517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CE9-2353-464A-B520-AD5C98B0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CA9-468E-44F5-ADD1-A2B4687C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9C7-2608-4791-B9B9-B6F1823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6F3-E385-4DC7-870D-58073AE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E70-A6F1-4AF6-B479-27E9F96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F49-F967-4ACD-B8A3-00EB546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C36-A197-42E4-8A71-C63977FA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BA1-233A-4D9B-9ED7-99C6CF1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6F9-9EC1-47E7-8DA8-CD684A7BB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Reid, Jr. 19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 God of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every race and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deem your whole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your almight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ate and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vid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tter threats are hur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ve and mercy guid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l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ife-torn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rom search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lth and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corn of truth and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rus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mbs that sh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truction through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ord, streng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la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all may find rel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fear of rattling sa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Keep bright in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ision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ays when war shall c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hatred and divi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ay to love and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awn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ning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ruth and justice reig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ule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ll the world’s do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30Z</dcterms:modified>
  <cp:revision>144</cp:revision>
  <dc:subject/>
  <dc:title>PowerPoint Presentation</dc:title>
</cp:coreProperties>
</file>