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1F8-233B-4FE9-9FB9-50B69536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42B-01CB-48B6-98C4-D64F7107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B21-877B-47E2-AB06-BC03FA21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5AC-392A-4D9D-9153-D73BB55B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A5B-3347-4DCB-A9B5-4066CC5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AFE-98B8-41BD-8FB6-DB6F0B5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F52-B8DC-4390-A2B0-50ABA155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4EC-9732-424F-BB3D-964F258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BF0-522A-4193-B3BC-CB8593D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1DC-F7F4-4411-9293-EF2D816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E68-8939-4DEC-BB42-9554540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C77-B465-4D2F-8397-94FC194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CBD-57BF-4257-A30C-C83296FBC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hn H. Stockton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every sou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oppresse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merc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ome then and jo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holy b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n to glory 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well in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lestial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oys immortal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 will sur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you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rusting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or Jesus 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preciou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ich bles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best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unge now in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imson f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shes bright as s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es, Jesus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ruth,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leads you into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 i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de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 are fully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48Z</dcterms:modified>
  <cp:revision>94</cp:revision>
  <dc:subject/>
  <dc:title>PowerPoint Presentation</dc:title>
</cp:coreProperties>
</file>