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DE2-4BA6-411E-BF09-24299D55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60F-20F4-443A-A26A-2FE3615F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C42-F539-460E-B559-E467CAB1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F67-9686-417E-BCD7-31DC57E1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EAB-E9EC-4BF7-A3B6-F980A39A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D77-1469-40E1-9129-44DA0190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A90-424E-488A-9EA8-A99BBCAE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160-530D-4F1F-ADEA-6D9057EA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E4F-58FA-4F49-886D-1E102734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0CD-3E57-49C6-B4BF-C821CB01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489-FB27-451B-945B-B49DDAB8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B2A-24EF-471F-B140-24692A87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2DA6-9D88-43E4-8711-507F7B282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appy Da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Fixed My Ch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fixed my cho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ee,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4600" y="1523880"/>
            <a:ext cx="80780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Philip Doddridge, 1755; refrain from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Wesleyan Sacred Harp,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 1854 (2 Chr. 15:15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t’s done: the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ansaction’s don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Lor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 is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drew m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followed 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rmed to conf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voi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Now rest,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ng-divided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xed on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issful center,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have I f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nobler par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heavenly pleasur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my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ll may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wing heart rejo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ll 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ptures all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High heaven, that he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olemn v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vow renew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daily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in lif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test hour I b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less in d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ond so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happy bo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seals my v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im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rits all my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cheer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thems fill his hou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to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cred shrine I 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1:14Z</dcterms:modified>
  <cp:revision>15</cp:revision>
  <dc:subject/>
  <dc:title>PowerPoint Presentation</dc:title>
</cp:coreProperties>
</file>