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1E0-844D-494B-BACA-CDF2726F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9234-A4C5-4461-9485-D8A67BDD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02D-45C4-41DF-8F49-0C792B21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DB0-386B-4D21-AFAE-65353834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48D4-6D96-43B0-AB00-E00C54E7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DDA-1DA2-49EF-BD36-E0BEF4A1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EF2-3B39-4DA0-9CF0-356D8A12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FEF-0DF1-4793-85BA-BEC3A465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187E-2C48-47E1-B06B-0E300FE5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E9F-A24D-4145-BF80-0E1D3EDC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5FB-2365-46AE-9B78-A27C9684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DEE-5945-44EA-A397-6231359D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F93B-76E4-42E3-82E5-E3DB54F99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Christ There I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 East or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69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In Christ there is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no east or west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n him no south or north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t. 3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Sts. 1, 2, 4, John Oxenham, 1913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. 3, Laurence Hull Stookey, 1987 (Gal. 3:2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one gre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llowship of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le wid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n Christ shall tru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ts everyw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ir hi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munion fi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service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golden c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ose binding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In Christ is nei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w nor Gree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either slave nor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th male and fema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irs are ma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are kin to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In Christ now m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th east and w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im m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uth and no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Christly sou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one in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out the who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d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5:35:34Z</dcterms:modified>
  <cp:revision>19</cp:revision>
  <dc:subject/>
  <dc:title>PowerPoint Presentation</dc:title>
</cp:coreProperties>
</file>