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6D94-29F8-4E62-9A78-ECEC24AF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9A6B-E468-4B86-B188-D0080D39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65A8-7F8F-439A-96B9-FC9805C4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FADD-43E2-452E-A17E-78290039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E841-DCD2-4287-A69A-37175A2F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549A-3061-4676-B6B5-D38B61EA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38FB-6F07-4B43-A283-51D01E09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5120-290B-4F08-8CD6-333EC144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9FBE-6695-4106-AEC5-32135A05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2FAF-C0C8-460B-B248-BDE7A965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49E1-EC55-47D2-AFF4-760A9B4F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1B88-BC8A-4565-BEA4-79710939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A5A8-41C3-4342-8DB2-819A14DE1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esus Calls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Jesus calls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’er the tumul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our life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ld, restless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2000" y="990720"/>
            <a:ext cx="4889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ecil Frances Alexander, 1863 (Mt. 4:18-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our heart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ne obedien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rve and love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st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y by 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sweet voice sounde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ying, “Christi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llow m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As of o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apostles heard 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e Galilean lak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rned from h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il and kindr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ving all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’ s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Jesus calls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worshi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v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ld’s golden sto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each ido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ould keep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ying, “Christi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me mor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n our joy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n our sorrow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ys of toi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ours of 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he calls,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es and pleasur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Christian, love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re than thes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Jesus calls u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y merci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ior, m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hear thy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0T19:53:13Z</dcterms:modified>
  <cp:revision>19</cp:revision>
  <dc:subject/>
  <dc:title>PowerPoint Presentation</dc:title>
</cp:coreProperties>
</file>