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7AD-9042-45FB-B259-B1D6F094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BF9-0A24-4355-AB18-AE2C645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4D7-008D-43F1-9740-B36B656F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9F8-522F-4C79-9D90-AA7FADDA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B7D-6BBC-485F-8CEA-21DDE39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005-F08B-4052-9F74-5F32AA1D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8F9-605A-46A8-A351-D6880A86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781-4E7D-4961-82D3-CB4F263B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B9F-6526-42FB-8C5D-856EF1AB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E04-739A-4E01-87E1-9B2454BD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C1E-9AB9-4960-8B22-24F060E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2EF-AB73-46C3-88F5-42B5532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45B6-8A9B-4D28-BF15-D8F033BD3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fuge amid Di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ike an ant on a stic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both ends of whic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are burni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 go to and fro withou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knowing what to do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and in great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fuge amid Di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4320" y="990720"/>
            <a:ext cx="1185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d. I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ike the inescapable shad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follows 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e dead weight of s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haunts m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raciously look upon m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love is my refuge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8:51Z</dcterms:modified>
  <cp:revision>8</cp:revision>
  <dc:subject/>
  <dc:title>PowerPoint Presentation</dc:title>
</cp:coreProperties>
</file>