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08B3-7F2E-4114-AC65-3D835335B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A5DE-2C99-426D-93BB-9E8117BF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5B44-69A2-4735-8F44-4B5EF9306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91C2-878A-4F7A-94B3-4967EA32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4B51-D049-4440-95D7-1AD3879C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C81C-8D51-454C-B485-9160E117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5F38-FEBD-468E-B2F8-7832C70E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5A4E-9B64-4477-80B0-7EB10171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6FF3-13F0-411A-AF09-A07E0383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E675-A2F3-421C-BE82-EE318F0B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05E0-A93A-45C7-BE1D-11FFF260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311B-DE67-4A2F-B6BB-93157CC4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790C-0C45-4960-A6D8-8912A4110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ow the Sil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the sile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the pe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the empt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nds uplifte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6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e Sil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Jaroslav J. Vajda, 19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the kneel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the ple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the Father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ms in welcom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the hea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the pow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the vesse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immed for pour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the bod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the blo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the joyful celebra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the wedd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the so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the he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given leap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the Spirit’s visita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the Son’s epiphan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the Father’s bles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Now Now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7:29Z</dcterms:modified>
  <cp:revision>121</cp:revision>
  <dc:subject/>
  <dc:title>PowerPoint Presentation</dc:title>
</cp:coreProperties>
</file>