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7D9D-E1A9-4DEF-BEF4-494BA5614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411E-1E74-4D35-A5A6-F14C778A8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FB9F-7D47-400A-AB6D-C4727384D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96D1-D98D-4C36-A8BC-8FE482B0A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9167-618F-41D9-AA55-E64E92EE3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4111-2EC1-446A-B0C9-A504685C7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8DFE-649C-47BA-8DDC-4328A913B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7B0E-F705-4E42-A3EC-8D646B0C7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BE9C-B96D-4109-B695-BEDDFDAEE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50D2-14AE-46A7-BF3C-B6458ABFD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EB67-99EF-4991-8A42-F97BC32ED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F8F3-3FAC-4047-AF17-C59169F60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2BF8A-6BE7-4506-B7C0-B09E6CA789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80880"/>
            <a:ext cx="853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Shall We Gather at the Riv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72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3623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Shall we gather at the riv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ere bright ange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eet have tro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its crystal tide forev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lowing by the throne of God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hall We Gather at the Rive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595960" y="1066680"/>
            <a:ext cx="397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imes New Roman"/>
              </a:rPr>
              <a:t>WORDS: Robert Lowry, 1864 (Rev. 22:1-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60020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 Soon we’ll reac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shining riv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oon our pilgrimage will ceas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oon our happ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arts will quiv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the melody of pe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hall We Gather at the Riv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066680"/>
            <a:ext cx="9144000" cy="42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Yes, we’ll gath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t the riv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beautifu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beautiful river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hall We Gather at the Riv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2286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ather with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aints at the riv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 flows by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rone of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066680"/>
            <a:ext cx="9144000" cy="42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Yes, we’ll gath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t the riv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beautifu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beautiful river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hall We Gather at the Riv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23623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ather with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aints at the riv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 flows by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rone of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3623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On the margin of the riv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ashing up its silver spra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will walk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worship ev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 the happy golden 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hall We Gather at the Riv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219320"/>
            <a:ext cx="9144000" cy="42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Yes, we’ll gath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t the riv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beautifu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beautiful river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hall We Gather at the Riv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24382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ather with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aints at the riv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 flows by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rone of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2880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Ere we reac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shining riv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ay we every burden down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race our spirits will deliv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provide a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robe and crow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hall We Gather at the Riv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219320"/>
            <a:ext cx="9144000" cy="42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Yes, we’ll gath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t the riv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beautifu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beautiful river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hall We Gather at the Riv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23623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ather with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aints at the riv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 flows by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rone of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39:58Z</dcterms:modified>
  <cp:revision>52</cp:revision>
  <dc:subject/>
  <dc:title>PowerPoint Presentation</dc:title>
</cp:coreProperties>
</file>