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D42-5F37-4F71-B4F6-610E4584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5CC-DBFF-4DA3-8521-658808C9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EEB-534F-494A-9F70-9017D13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D20-577C-44E4-8634-4C430580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18C-6EE2-44F6-B3B8-42524A7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9D5-B571-48A6-B690-CA6EE2E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1D2-AA53-4227-A4E8-9BFACEF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1DA-1566-49E2-AA54-9267421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8F4-608C-4CE7-ADD6-447BBD62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4FC-3080-44F8-A805-81AF68E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0DF-E16C-45A7-9E82-619A8C7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609-9893-4A78-BCEA-FBA3493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44E-B5F7-4DCE-8ADD-84D45DBBE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alds of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ralds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’s comm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mortal tid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mortal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aura S. Copenhaver, 191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 on and car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the news you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stra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stra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way of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desert 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fen, and deep mora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ungles, slugg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s, and mountain pa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now the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lter not, nor st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 a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’s high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give us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oad to bu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y fulf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ar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ife shall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high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Prin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4:46Z</dcterms:modified>
  <cp:revision>72</cp:revision>
  <dc:subject/>
  <dc:title>PowerPoint Presentation</dc:title>
</cp:coreProperties>
</file>