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B22A-5D7E-41BD-AAF0-D0EF32223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FEEE-CDED-4CB4-820A-B2587633E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F8B3-05B5-4676-84CB-FC43C751C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4B6A-77A5-446D-A0ED-7C4D884A4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2B08-F72E-4E66-958B-84FE37AEE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2D91-DCF1-47D8-B50C-D323B3655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E5B7-84F9-44D7-A6E0-667FFD109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2F2D-D7EC-47C1-B0DC-F02537258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3C57-EE6D-49DB-A23F-6BD6C43A4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C5D3-41A9-4E84-9A49-99DE258A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5EA5-B557-4D1A-9148-ECCA9A0C5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E42B-E83F-458E-A19B-3CC40A9AB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16B0C-FC61-40FC-B32B-6CD242E007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he Friendly Bea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2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81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1. Jesus, our broth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trong and go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as humbly bor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n a stable rud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riendly Beas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93480" y="1143000"/>
            <a:ext cx="6558840" cy="41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WORDS: 12th cent. French carol; trans. anon. (Lk. 2:7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e cooed him to sleep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y mate and I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,” said the do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rom the rafters hig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6. Thus all the beast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y some good spe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n the stable dark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ere glad to tell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riendly Beas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the gifts they ga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mmanue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gifts they ga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mmanue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the friendly beas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round him sto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Jesus, our broth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trong and go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“I,” said the donke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haggy and brow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“I carried his moth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up hill and dow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riendly Beas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 carried his moth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o Bethlehem town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,” said the donke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haggy and br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3. “I,” said the cow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l white and r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“I gave him m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anger for his b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riendly Beas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 gave him ha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o pillow his hea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,” said the cow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l white and r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4. “I,” said the sheep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ith curly hor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“I gave him m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ool for his blanket warm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riendly Beas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 wore my coa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n Christmas morn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,” said the sheep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ith curly hor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5. “I,” said the do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rom the rafters hig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“I cooed him to sleep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at he should not cr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riendly Beas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8:53:04Z</dcterms:modified>
  <cp:revision>72</cp:revision>
  <dc:subject/>
  <dc:title>PowerPoint Presentation</dc:title>
</cp:coreProperties>
</file>