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EF79-72B1-46D2-B6B9-0E935D97A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B9FA-8626-49C5-851B-93E97647A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C647-0B3F-45FB-AEFB-6450E3655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0856-AA85-4C23-8902-F2F643C84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2ADB-925B-4D1A-AFE2-066E04FC9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D3B9-3576-4A5A-83C4-E668DBD62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D484-1171-4F45-8585-D19403389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C43D-CCB0-498A-8ECC-F8F2AF9D6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EF40-DCE5-4D04-A84F-E1173C26E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95F1-91B0-4F33-AF2E-E164E2BB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0AC5-44F2-40E0-B930-9144C8B4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CCF1-8C79-40DF-B2D2-562271BE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00F0A-3AC2-443D-B434-E9B0D9C0B4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Rejoice, the Lord Is K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7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Rejoice, the Lord is King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r Lord and King ador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ortals, give thank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ing, and triump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the Lord Is K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51160" y="1166760"/>
            <a:ext cx="444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WORDS: Charles Wesley, 1746 (1 Cor. 15:51-5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971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ft up your hear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ft up your voic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joice; aga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say, rejoi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590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Jesus the Savior reign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God of truth and lov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he had purg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stains, he took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seat ab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the Lord Is K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ft up your hear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ft up your voic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joice; aga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say, rejoi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4382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His kingdom cannot fail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rules o’er earth and heave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keys of ear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ell are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Jesus gi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the Lord Is K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819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ft up your hear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ft up your voic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joice; aga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say, rejoi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590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Rejoice in glorious hop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 the Judge shall co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ake his servan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p to thei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ternal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the Lord Is K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soon shall he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archangel’s voic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trump of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all sound, rejoic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5:13Z</dcterms:modified>
  <cp:revision>55</cp:revision>
  <dc:subject/>
  <dc:title>PowerPoint Presentation</dc:title>
</cp:coreProperties>
</file>