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2EBD-CB87-44FE-8A2D-53E51817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723D-15F3-4FFE-A6D2-2A08C9A6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977F-6350-487B-ABFD-1F8D6F46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7DF0-5DD8-4EF6-A6F5-938098AA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5C4B-8FCD-49C3-A9ED-55A0ACA9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021B-9399-41C0-A503-DB3C4604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4587-C175-4E23-BB6A-A43E0B9E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3BD2-1C18-42D7-B5C2-E84B6B75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FD42-B421-48D8-86B8-07337A45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5039-F449-4624-BC6D-3B3E901F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F98C-890A-48CF-8637-C58E1BE9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3E49-A75F-485B-9E90-05728E92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2F89-D486-4E55-9C36-40BCBBD2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6C2A-8128-445D-90CD-1EAE4F61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9BDD-30F2-4948-B548-26D36564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F2FD-0BF0-4A90-8B6A-52F167A1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2085-4CFD-4048-908C-B2823B2B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E55-A242-476C-9FBB-0621CB0A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9E9A-A699-46F9-8ABF-B37C32AE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BA8B-6CDB-49F7-B1B3-6D47019B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4E39-DF7A-45F6-9B78-7AACD41F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8DF3-69B4-41C9-B106-3FC7B0CF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F6A8-5D72-4B8D-A670-41DBDEB5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0829-58DE-4B79-BF70-6CDD1991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A806-C4ED-4F2F-BF96-699D04F4D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147A-528E-4765-865F-DE00DE0FA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777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, Thou Long-Expected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1. Come, thou long-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expected Jes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born to set thy people fre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from our fear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and sins release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let us find our rest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g-Expected Jesus 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78760" y="990720"/>
            <a:ext cx="378648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WORDS: Charles Wesley, 174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Israel’s strengt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and consolatio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hope of all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he earth thou art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dear desire of every natio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joy of every longing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2. Born thy peopl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o deliv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born a child and yet a K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born to reig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in us forev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now thy graciou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kingdom b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g-Expected Jesus 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38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By thine ow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eternal spiri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rule in all our hearts alon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by thine all sufficient meri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raise us to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hy glorious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36440"/>
            <a:ext cx="777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, Thou Long-Expected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142920"/>
            <a:ext cx="137160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203480"/>
            <a:ext cx="9144000" cy="5287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1. Come, thou long-expected Jesus,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born to set thy people free;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from our fears and sins release us,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let us find our rest in the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Israel’s strength and consolation,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hope of all the earth thou art;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dear desire of every nation,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joy of every longing hea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g-Expected Jesus 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78760" y="806400"/>
            <a:ext cx="378648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WORDS: Charles Wesley, 174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716040"/>
            <a:ext cx="9144000" cy="5287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2. Born thy people to deliver,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born a child and yet a King,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born to reign in us forever,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now thy gracious kingdom br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By thine own eternal spirit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rule in all our hearts alone;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by thine all sufficient merit,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raise us to thy glorious thr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g-Expected Jesus 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2-09T00:06:13Z</dcterms:modified>
  <cp:revision>49</cp:revision>
  <dc:subject/>
  <dc:title>PowerPoint Presentation</dc:title>
</cp:coreProperties>
</file>