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CAFD-0993-40C8-B156-553FF857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D697-7A38-4CC4-8856-EA878AB8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E10B-7EAD-4E44-A601-C87F03390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13E3-C870-4771-8F46-ED144489D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B431-0FDB-4F3D-A77F-2F8B14F3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7AB0-3A37-41EA-B06C-817081D5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3E55-F1EA-44B4-86C9-89DDB00E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E9F3-6549-4C09-A98F-573617A0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9183-E047-4E8E-A255-1754A624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5858-6134-4D41-85DE-3587F01B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64F1-2B78-448C-9BE9-0F4ED240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C51D-A4DE-4171-8CE7-50AE86D5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27DD-FB94-4490-AEEF-DFC2FAC47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84872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y Soul Gives Glory to My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772400" y="304920"/>
            <a:ext cx="137160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4068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1. My soul gives glory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to my God.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My heart pour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ut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 its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66"/>
                </a:solidFill>
                <a:latin typeface="Times New Roman"/>
                <a:ea typeface="Arial"/>
              </a:rPr>
              <a:t>© 1978, 1987 Medical Mission S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Soul Gives Glory to My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4120" y="990720"/>
            <a:ext cx="6429240" cy="414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WORDS: Miriam Therese Winter, 1987 (Lk. 1:46</a:t>
            </a: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-55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God lifted up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my lowlines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in many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marvelous way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2. My God has don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great things for me: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yes, holy is this name.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All people will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declare me blesse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and blessing they shall cla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Soul Gives Glory to My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6002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3. From age to ag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to all who fear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such mercy love impart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dispensing justic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far and near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dismissing selfish he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Soul Gives Glory to My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4. Love casts the mighty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from their throne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promotes the insecur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leaves hungry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spirits satisfie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the rich seems suddenly po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Soul Gives Glory to My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6002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5. Praise God, whos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loving covenan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supports those in distres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remembering pas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promise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with present faithfuln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Soul Gives Glory to My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4:53Z</dcterms:modified>
  <cp:revision>50</cp:revision>
  <dc:subject/>
  <dc:title>PowerPoint Presentation</dc:title>
</cp:coreProperties>
</file>