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8C1-52CF-4E50-9687-92BA6913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B95-FE92-494F-9B6C-0A51A729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DF9-4D80-43C7-8193-2A0C5DA0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5C0-9526-4038-B89B-9F9F921A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4D1-88C0-427A-BE5F-9E396C98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87C-E9EB-40B5-8A0F-1920D884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79D-BCAB-425D-BDDC-CCDE3A6B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E03-200A-478D-A1CD-F3994D9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1CB-F5C9-433F-A8BB-CD01F7E2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99A-8B52-4005-B88C-BC0BFB6C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938-2BED-4EA3-9352-64C0296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F24-DD55-492C-8F62-2367B21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B66-AF3C-48DE-8597-602ED7484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was in the Moon of Wint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53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’Twas in the mo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wintertim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all the birds had fl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mighty Gitchi Manitou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nt angels choirs instea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by permission of Frederick Harris Music Co.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9880" y="1066680"/>
            <a:ext cx="7538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ean de Brebeuf, ca. 1643; trans. by Jesse Edgar Middleton, 19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orest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eed of Manit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ly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arth and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orn today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kneel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adiant b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rings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, peace,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952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ir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ars grew d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nters heard the hym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ithin a lo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oken b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ender babe was fou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agged ro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abbit sk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wrapped his beauty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as the hu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aves drew n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g loud and hig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earliest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inter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t so round and f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as the 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lory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lpless infa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efs from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m kne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ifts of fox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ver pe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952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3:29Z</dcterms:modified>
  <cp:revision>16</cp:revision>
  <dc:subject/>
  <dc:title>PowerPoint Presentation</dc:title>
</cp:coreProperties>
</file>