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9E3-0E01-434D-B986-A25BCE75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94A-02BB-4286-A0FC-1F9C1988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9A6-C18C-466C-B260-2A42BF4E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72E-C7A6-4C49-BF3D-1B5B7523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EC0-43ED-462F-83FB-3341219F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21B-747E-46A5-9AE8-EAC919F8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756-C5BE-45ED-BBBD-ADC757D2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7EE-529F-4573-96D3-EC8479DE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4DA-9045-4D5F-A544-AF453CBD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5A7-5338-4544-97A1-6A80DF13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DFF-E1A2-4586-8437-73B20DB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78F-E951-4145-9C3F-AB24F2A4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24D2-9BC4-4692-A2B1-20E592AFB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esus, Lord, We Look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Jesus, Lord, w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ook to the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us in thy name agre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how thyself th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Prince of Peac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bid our strife forever ceas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By thy reconciling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stumbling block rem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to 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ite, endea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and spr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banner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Make us of 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 and m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entle, courteous, and k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wly, mee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ought and 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together like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et us for each other c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the other’s burdens bea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y chur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attern g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how tru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lievers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Free from 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pr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thus in God abi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ept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love expr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heights of holi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Let us then with joy rem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family ab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e w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ngels f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how true believers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11:54Z</dcterms:modified>
  <cp:revision>67</cp:revision>
  <dc:subject/>
  <dc:title>PowerPoint Presentation</dc:title>
</cp:coreProperties>
</file>