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9B7-11A2-48FD-BBC3-E477ADAA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2A1-71AB-4F5E-97F2-A98725B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F75-3D71-4E88-B0A2-5FC360D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5B9-F454-4D28-B5E7-6084BA40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99D-05E3-48BA-901A-1AA9584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E1B-6FD3-4A69-99A4-2EA8B19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62A-513D-434F-96D5-8AF2ADC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ADC-9A24-4A0B-86DB-2C7C6A0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25F-53A1-4EE4-BBEF-9D986A1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18F-0FC9-4786-89C1-7820856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DC8-F794-4E75-BF63-E06316B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823-EE4B-4E89-B018-8214D51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777-4D94-415B-AF38-6C2444C70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ans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523880"/>
            <a:ext cx="8839080" cy="522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ol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pon the mount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ou revealed our Messia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who by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ould fulfill both the la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1166760"/>
            <a:ext cx="7756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aurence Hull Stookey, USA, 20th cent. (Mt. 17:1-1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his transfigur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nlighten our p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e may dare to suff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him in the servi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uma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o share i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lasting glory of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for 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58Z</dcterms:modified>
  <cp:revision>14</cp:revision>
  <dc:subject/>
  <dc:title>PowerPoint Presentation</dc:title>
</cp:coreProperties>
</file>