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A0C-63F2-4BE5-B916-BAF32452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4CA-FBA2-4216-9BA0-031CA58E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37C-F349-442E-8A6A-5B01BF86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1D0-7521-4439-B91B-A033E7AB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625-D46A-45F9-9329-C49F14FD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9ED-1476-489B-B995-6EC13BD6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741-9F30-43F0-A878-3DAB4200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362-9702-4E69-8AB3-B867DA8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43B-C958-465A-B672-BF47FDC7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FA4-5D3D-447B-B91B-8725489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86B-DB35-44F6-937E-ED5969F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E6A-3B26-416F-ACEA-8D65481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F89A-323F-4714-B941-4A8656FB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64880" y="1077840"/>
            <a:ext cx="34570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rect all paren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arding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constan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sentin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mes in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people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hildren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y may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hold your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nowing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grow in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ch love incr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every h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is rel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ing pla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34Z</dcterms:modified>
  <cp:revision>15</cp:revision>
  <dc:subject/>
  <dc:title>PowerPoint Presentation</dc:title>
</cp:coreProperties>
</file>