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FB0-0140-4621-883A-8F53EABC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E58-BB0C-4665-90B2-034FAB22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55C-5C9C-402E-9584-FD0AC8A9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788-49DE-4081-8838-68279BC8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0A0-9097-4443-BF59-B75D7AFD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54A-3E0C-480D-B0E6-871FCB89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70A-84A2-4889-9F07-25F78D8E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D4C-7ACA-4EE1-8822-D6199DE5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249-27A4-4E0F-9B0B-672884A3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8F5-F280-4C90-AA69-07A54F93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5F7-4B91-45D7-8E3E-58D97FBF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209-A354-49C9-A128-4D1B3816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0D49-7199-47B2-8091-B51FD5DFD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mething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hing beautifu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hing goo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y confu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underst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Beauti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05360" y="990720"/>
            <a:ext cx="29314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Gloria Gaither, 197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I had to offer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 broken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r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he made someth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of my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5:27Z</dcterms:modified>
  <cp:revision>16</cp:revision>
  <dc:subject/>
  <dc:title>PowerPoint Presentation</dc:title>
</cp:coreProperties>
</file>