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824-7A92-4EE4-A7A2-D3028F58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193-B0F5-423E-9778-FA991A1B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5EA-1247-4C69-BA38-1A1E8D9F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5AA-3243-4B04-BCB0-8B72D1EC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5D92-D2FF-4831-9EBD-C14F5BD8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CCA-9965-432C-9890-AC629B9B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672-C5A3-4323-85F5-866AFDF5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F57-7C9C-4541-8C56-344AD140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0C7-8B3F-4687-BBA1-2A61533B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07E-41F5-4B2E-9E36-C1D3D0B8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74F-804C-45CE-BF04-C59807F6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C48-67D4-48C3-A3B5-9CF69B4E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7DE3-27CE-4358-817C-AD7543232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ke the Murmur of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Dove’s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Like the murmur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f the dove’s song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ike the challeng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f her flight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the Murmur of the Dove’s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9200" y="1676520"/>
            <a:ext cx="37684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arl P. Daw, Jr., 1981 (Acts 2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 vig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wind’s rus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 new flam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ger might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Holy Spirit,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o the memb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Christ’s bod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branch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the Murmur of the Dove’s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chur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faith assembl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er mid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gift and sign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Holy Spirit,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ith the hea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divi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cease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oice of pray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ke the Murmur of the Dove’s So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power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and wit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pe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yond compar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Holy Spirit,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9:11Z</dcterms:modified>
  <cp:revision>15</cp:revision>
  <dc:subject/>
  <dc:title>PowerPoint Presentation</dc:title>
</cp:coreProperties>
</file>