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122-3794-470A-9827-2EF2403F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9E3-6BEE-498F-9029-F0E1922D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7C3-41EB-47FF-861C-3DF582ED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191-4288-450E-A7A5-C00225F6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D72-2387-42B2-ACEB-27BA6532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349-4112-43A9-8C4B-6ED7E59E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33E-5882-4263-85E4-C0FAE495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D86-4303-4B9A-8826-8A31775F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650-ABF5-4C4E-8FEF-62F6381F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AC4-5D44-4FE9-9C35-C1AE259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723-C392-4CCB-8D5E-F728BE9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225-1257-4BAD-8201-A6ED0895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5187-D940-417D-8B43-20B50A5B8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ing Go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Fingers T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604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reat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fingers t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old design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rthest sp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© 1979 The Hymn Society of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83000" y="1600200"/>
            <a:ext cx="3868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Jeffery Rowthorn, 19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sun and mo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ars and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hat lies hid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 your m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ustain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ands uph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’s mysteries kn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yet unt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water’s fragi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end with ai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abling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claim your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Redeem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arms emb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now despi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creed or 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peace, descen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a d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known on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eal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Indwell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gospel clai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family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illion nam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every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touched by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il we praise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ce to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1:17:54Z</dcterms:modified>
  <cp:revision>24</cp:revision>
  <dc:subject/>
  <dc:title>PowerPoint Presentation</dc:title>
</cp:coreProperties>
</file>