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568FA-ED1B-45F2-B99E-EE2BCBC2A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3DBDD-E668-43E2-8C3B-D7EFF96E9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6BFDE-EB90-4397-B66A-98528F505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A8489-0E3F-4FC9-8CA4-8E1E77875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01F70-04EE-4380-B4DF-E7BC57AA5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CA307-4846-4E51-8AC9-16D134481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7EB92-3383-4B84-A81D-21DA0CA8C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3C008-ECEB-4333-B8C7-F248D41D6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8664A-45B4-4508-BBFE-F60158AC0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25E77-6B6F-4AF0-A8A1-AD402BBFB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C25FC-1FC6-44A0-A1F8-D313E0D1A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EFE79-7417-4388-B08A-6082A3F2C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23113-6713-4351-9E7F-D90D9E7192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ccff"/>
                </a:solidFill>
                <a:latin typeface="Times New Roman"/>
              </a:rPr>
              <a:t>Wellspring of Wisdo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cccc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ccff"/>
                </a:solidFill>
                <a:latin typeface="Times New Roman"/>
              </a:rPr>
              <a:t>50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676520"/>
            <a:ext cx="9144000" cy="4568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ffff00"/>
                </a:solidFill>
                <a:latin typeface="Times New Roman"/>
              </a:rPr>
              <a:t>1. Wellspring of Wisdom,</a:t>
            </a:r>
            <a:br>
              <a:rPr sz="4900"/>
            </a:br>
            <a:r>
              <a:rPr b="1" lang="en-US" sz="4900" spc="-1" strike="noStrike">
                <a:solidFill>
                  <a:srgbClr val="ffff00"/>
                </a:solidFill>
                <a:latin typeface="Times New Roman"/>
              </a:rPr>
              <a:t>hear our cry.</a:t>
            </a:r>
            <a:br>
              <a:rPr sz="4900"/>
            </a:br>
            <a:r>
              <a:rPr b="1" lang="en-US" sz="4900" spc="-1" strike="noStrike">
                <a:solidFill>
                  <a:srgbClr val="ffff00"/>
                </a:solidFill>
                <a:latin typeface="Times New Roman"/>
              </a:rPr>
              <a:t>the way ahead is</a:t>
            </a:r>
            <a:br>
              <a:rPr sz="4900"/>
            </a:br>
            <a:r>
              <a:rPr b="1" lang="en-US" sz="4900" spc="-1" strike="noStrike">
                <a:solidFill>
                  <a:srgbClr val="ffff00"/>
                </a:solidFill>
                <a:latin typeface="Times New Roman"/>
              </a:rPr>
              <a:t>parched and dry.</a:t>
            </a:r>
            <a:br>
              <a:rPr sz="4900"/>
            </a:br>
            <a:r>
              <a:rPr b="1" lang="en-US" sz="4900" spc="-1" strike="noStrike">
                <a:solidFill>
                  <a:srgbClr val="ffff00"/>
                </a:solidFill>
                <a:latin typeface="Times New Roman"/>
              </a:rPr>
              <a:t>We seek a source to satisfy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© 1989 Medical Mission Sis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llspring of Wisdom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990720"/>
            <a:ext cx="914400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ccff"/>
                </a:solidFill>
                <a:latin typeface="Times New Roman"/>
              </a:rPr>
              <a:t>WORDS: Miriam Therese Winter, 198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729000" y="1863720"/>
            <a:ext cx="768636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ur thirst for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anctifying waters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isdom for your faith-fille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ons and daughter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2. Dawn of a New Day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put to flight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e terrors of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 nuclear night.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s bearers of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your loving light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llspring of Wisdom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743120" y="1863720"/>
            <a:ext cx="565488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e huddle closer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o your fir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lift the lamp of hop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 little highe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3. Garden of Grac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your gifts aboun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e sacred sign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re all aroun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e whole of earth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s holy groun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llspring of Wisdom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179000" y="1863720"/>
            <a:ext cx="67842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e learn, from all of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life expressing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ow to grow in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owing seeds of blessi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4. Call to Compassion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elp us bring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ur burning nee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for nurturing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e emptines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f everything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llspring of Wisdom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929600" y="1863720"/>
            <a:ext cx="5283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o your embrac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s we endeavor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o proclaim your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oly name foreve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9:13:23Z</dcterms:modified>
  <cp:revision>39</cp:revision>
  <dc:subject/>
  <dc:title>PowerPoint Presentation</dc:title>
</cp:coreProperties>
</file>