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878-2626-4DFC-8F47-1729CB3E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673-37B9-4252-8E61-D3C2962E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89A-4F10-4CB5-8941-48D66F40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1FB-BAC2-4CCF-982E-26BD8A93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B2F-FB18-4695-AA84-90615060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8FA-0414-43C4-B444-8AF31BE2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927-0C06-4E9C-B655-A3D01C07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2F8-21C6-442C-8286-C3CA4945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F4E-8BC3-4C9C-9A2E-97B0B8D5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525-1AAC-48E8-B941-B425147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D14-F0E9-4E19-BC4D-F4F48613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77A-94F2-4DFA-8AFA-CC57B23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99CE-52EF-4DEE-9B58-2E64A4B01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nderful Word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ing them o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m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ir beauty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Philip P. Bliss, 18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s of life and beau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e faith and d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3352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Christ, the blessed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s to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, list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so freely gi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oing us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858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weetly 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ospel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fer 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 to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onl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nctify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0:10Z</dcterms:modified>
  <cp:revision>101</cp:revision>
  <dc:subject/>
  <dc:title>PowerPoint Presentation</dc:title>
</cp:coreProperties>
</file>