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4B5-B71F-4CBF-8AA7-FD2019CA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93D-9BA1-4834-8A8B-39B87E4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AE8-3EB1-45A0-8781-4DCD9F24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FFE-5559-46CE-8378-1DE511F1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2E2-15D2-44FC-8980-A44AE922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2A2-DFAD-4453-B44D-9EB81E65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1D9-77D1-4440-887F-062038E0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EF8-8C84-4916-8DE1-78114605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DF0-08E0-43A6-BD23-6F603A1D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76D-FD15-42A8-BD67-53131C6D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33F-9DF3-44B6-8E32-90CB5AA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C7C-A5C1-4059-A5BD-68AAE49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F06A-034A-48C9-8888-24265ACC1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 Wh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aped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God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ped cre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earth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otic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7440" y="1600200"/>
            <a:ext cx="5051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W. Reid, Jr. 1987 (Gen. 1:1-3; 26-2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never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earc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evil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some m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en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ase our run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jo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od, abou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joy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arching wom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reasured co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God,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inkets tarn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easu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e their ch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, weari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wande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k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ed 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mother-li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shar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rm emb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set fo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anqu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l us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In merc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revea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ender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ouc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oken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hea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claim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your childr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strip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ideful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word of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spok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!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 was g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89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free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rn of merc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bless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framed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your im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b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into bi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blessed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fant footst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ared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lendored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God, with p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ngu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mother s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chi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mbark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dend path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uring, but defi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too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at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ust incr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orlds you birt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urtu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urn way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to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lthough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orn your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53Z</dcterms:modified>
  <cp:revision>17</cp:revision>
  <dc:subject/>
  <dc:title>PowerPoint Presentation</dc:title>
</cp:coreProperties>
</file>