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119-74EC-4423-8199-2264646C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447-4529-4A6C-9A5D-9133230B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B77-AE27-45F7-B645-5337645E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14B-8E67-4826-820E-47C4AE21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59C-AF12-44F7-9D06-001296E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DCA-E4B4-4513-86B0-470F7671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251-81B4-4BF3-818E-0E274E79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A50-895B-4259-AFC4-9EE0E024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137-CA5C-47AF-B8DD-1DFD5087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A6A-AE93-4714-9EE3-7E90E93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AE1-A78F-4BDD-86EA-662ECC80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119-5FD7-4211-95F3-74EB001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7904-613B-4335-82E4-99395BEDD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Is the World’s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hrist is the world’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n our dark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became our br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1560" y="1092240"/>
            <a:ext cx="3829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red Pratt Green, 19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we have see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ave seen the Fath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Christ is the world’s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one can serve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spise an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else unites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e in God the Father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Christ is the world’s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ld once for sil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urdered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, who redeems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igns with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Give God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d none o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pirit, Son, and F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broth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36:29Z</dcterms:modified>
  <cp:revision>42</cp:revision>
  <dc:subject/>
  <dc:title>PowerPoint Presentation</dc:title>
</cp:coreProperties>
</file>