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3E28-40DF-4957-910E-958E3EDB0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C425-C63A-4088-8110-9CAEF9335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75C0-4B72-4FB8-9E22-524E82A5E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F5FA-F476-4386-8D5E-E46934FAC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7900-F536-4225-8C4A-40262ADFF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FBAE-2492-41BC-8D9D-4CE2909FE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8834-1184-415C-8E57-9A592889C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ECDE-BECE-41AA-B29C-CB9AE34A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93AB-A5DD-4CB3-8A62-3438C4C9E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5097-52A0-43E0-838D-EB9E28D9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148B-3730-46ED-8D40-5FD2E99D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B742-53A3-46C6-AAC3-788F805A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5559-88A1-4EF4-98DC-6501913871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Have Thine Own</a:t>
            </a: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Way,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38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ve Thine Own Way,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76520"/>
            <a:ext cx="9144000" cy="3682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WORDS: Adelaide A. Pollard, 1902 (Jer. 18: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1. Have thine own way, Lord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ave thine own way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ou art the potter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am the cl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old me and make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fter thy wil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ile I am wait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ielded and sti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ve Thine Own Way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Have thine own way, Lord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ave thine own way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earch me and try 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avior to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ash me just now,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ash me just now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in thy presen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umbly I b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ve Thine Own Way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3. Have thine own way, Lord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ave thine own way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ounded and wear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elp me I pr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ower, all pow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urely is thine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uch me and heal 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vior divin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ve Thine Own Way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4. Have thine own way, Lord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ave thine own way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old o’er my be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bsolute s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ill with thy Spiri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ll all shall se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hrist only, alway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iving in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0T19:22:17Z</dcterms:modified>
  <cp:revision>130</cp:revision>
  <dc:subject/>
  <dc:title>PowerPoint Presentation</dc:title>
</cp:coreProperties>
</file>