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9435-0A29-4F6A-A431-B8C4AD397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2D44-8E8B-45EF-BBB2-C3A3A37BA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2C78-D14D-4BBB-A8D8-5CA9D9C7F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7FED-65E7-4FC4-B892-9204782FE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9A2B-C532-4ECA-802F-1053149B7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2A5B-8631-4392-BA6D-A73543C6E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1F43-6231-4AF9-8B4A-F093DD732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2B24-0863-49B1-A34F-281F706AC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E02A-4519-450C-B58B-DE5645C70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8783-D20F-44B3-A54C-288807CE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7ECA-2B7B-4F73-AB36-DD0CCB81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06D0-EE6F-4BAA-B6D4-9D0E940E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84E70-BB42-4808-9F21-B3C7C93083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228600" y="228600"/>
            <a:ext cx="937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l Shadda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2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057400"/>
            <a:ext cx="9144000" cy="4167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El Shaddai, El Shaddai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El Elyon na Adonai;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ge to age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you’re still the same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by the power of the na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© Whole Armor Pub. Co.; administered by LITA Mus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 Shadd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0040" y="1066680"/>
            <a:ext cx="58089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ORDS: Michael Card and John Thompson, 198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676520"/>
            <a:ext cx="9144000" cy="3749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El Shaddai, El Shaddai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Erkahmka na Adonai;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we will praise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nd lift you high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El Shadda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1T16:06:17Z</dcterms:modified>
  <cp:revision>40</cp:revision>
  <dc:subject/>
  <dc:title>PowerPoint Presentation</dc:title>
</cp:coreProperties>
</file>