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C86-5EC4-4D73-AD5E-43222336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D3F-6296-4030-BE49-D2EF859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782-8481-4E3F-B942-D5F534A2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070-8A2E-4B78-802E-399A5285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924-B057-40B3-86CD-9B656B44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E00-B004-4578-826F-606EDCD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D1C-FBBA-4731-8B43-BEB4ADEE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CCB-1A71-4683-9EA5-4496860B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CA7-47BB-4CFF-9951-326CAC04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C62-9A6F-4CC7-80B8-24491A5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AF7-4C06-4037-B844-88934E56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C22-FAE3-4759-81C6-0235076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6D81-AE8E-4F5B-9E9B-524797C13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Di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90920"/>
            <a:ext cx="861048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Direct us, O Lor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all our doings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with your most gracious favor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nd further us with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your continual help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7560" y="99072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2438280"/>
            <a:ext cx="853452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that in all our works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begun, continue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and ended in you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we may glorify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your holy name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895480"/>
            <a:ext cx="838188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nd finally, by your mercy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obtain everlasting life;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04:30Z</dcterms:modified>
  <cp:revision>20</cp:revision>
  <dc:subject/>
  <dc:title>PowerPoint Presentation</dc:title>
</cp:coreProperties>
</file>