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46C-4E5C-4A79-BC6C-25F930AC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C1A-1714-46D1-A6BD-AE274C1C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561-5F14-4629-B9A2-11D9DD35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A87-F67E-4E5D-985D-F774D39C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490-E614-4851-AC3C-9F28538F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4AC-7A34-4ED0-8C97-E67D3D87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2E5-DA29-40C1-AF05-08DD245D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8C7-268D-414E-9C6A-0BCDE188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D42-7EF9-4CE9-9688-DA3AED59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06A-8EC2-47EE-A664-881146E1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B6D-1566-4DCE-BBE1-A90E1826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54E-4A4B-4C5B-8D4B-47C053DE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B8EF-9DF4-48EF-B095-A6A0168D9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Child of Blessing,</a:t>
            </a:r>
            <a:br>
              <a:rPr sz="40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Child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Child of blessing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child of promise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aptized with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e Spirit’s sig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1 Ronald S. Cole-Tu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WORDS: Ronald S. Cole-Turner, 19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is wa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has sealed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a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hild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ove’s expre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’s cre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d inde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sh from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fresh our spiri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joy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ughter 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hild of j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dearest tr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you 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God you c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ck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umbly give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e as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ears Christ’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Child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oving Par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rn to k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child you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ow to la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g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st and love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e tha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46:23Z</dcterms:modified>
  <cp:revision>112</cp:revision>
  <dc:subject/>
  <dc:title>PowerPoint Presentation</dc:title>
</cp:coreProperties>
</file>