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70D-B10A-4206-8A34-3A5E9E56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8D0-2758-4C9A-A3DF-C99A7316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2E6-BC8F-4A28-A10B-648339B0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CAC-B906-458E-A5D9-2338CA51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F6A-E135-4141-80B1-DE4C6B6B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D20-FAFA-4E47-97B6-D09DAC16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AEE-F515-4392-BF49-C82FF82B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DE5-2423-4895-8241-58BF9ADD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3D4-2BB0-48AB-9ED4-9BE09C8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756-5BFA-4881-88EF-D4B9519C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C4D-FED6-4683-A8B4-BFB873FE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B46-AA5F-4ADE-93F4-E2EDADF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B15C-D9D2-488B-8A70-AA6294D7D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ek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Seek the Lor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o now is presen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ray to One who is at hand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ease from sinni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ildoers change their mi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1040" y="938160"/>
            <a:ext cx="4741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Fred Pratt Green, 1986 (Is. 55:6-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sinful God has pit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se retur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forgive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w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is say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a world that dis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1932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. “Judge me no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y human standards!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s the vault of heaven soar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igh above th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arth, so highe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re my thoughts and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ays than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 how rai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now from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earth bloss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ar fru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ing you, before retur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d for sow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d to ea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3. “So my wor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turns not fruitles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oes not from it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bors ceas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ll it ha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chieved my purpos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a world of joy and peac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close the proph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at vit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spel w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Isaiah’s inspir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hea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54Z</dcterms:modified>
  <cp:revision>41</cp:revision>
  <dc:subject/>
  <dc:title>PowerPoint Presentation</dc:title>
</cp:coreProperties>
</file>