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2690-0688-4447-B36A-15FDBB807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D080-8252-4716-B3B1-D27F0FC7F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82B8-550F-4997-A3A5-9DCCF7E46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71E7-1315-431E-82F3-962E1215B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4B49-3CC3-4379-A397-C8E274DF6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ADD2-042F-4713-8E43-CD99FE4D9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6E82-6EBE-4613-9242-6C84344E9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2481-F4AB-47DA-8F0B-BD4AB99C5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CEBA-D72F-47B1-9DEC-567C29EC3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541A-BC0F-4D4E-8477-918A8C809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5CED-6CDC-4542-80E6-E453774C9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F700-286B-486D-806B-9953F0404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2A6D3-540E-49B2-9E71-8B974F7816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Let All Mortal Flesh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Keep Sil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2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895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Let all mortal fles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keep silenc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with fear 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rembling stand;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All Mortal Flesh Keep Silen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0020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Liturgy of St. James, 4th cent.; trans. by Gerald Moultrie, 1864 (Jn. 6:35-58; Rev. 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At his fee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six-winged serap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herubim, wi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leepless ey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All Mortal Flesh Keep Sile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veil their fac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e presenc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s with ceaseles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voice they cry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, Alleluia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rd Most Hig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onder noth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arthly mind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with bless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his han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hrist our God to ear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escendet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full homag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dema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King of kings, ye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orn of Mar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s of old o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arth he stoo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All Mortal Flesh Keep Sile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rd of lords, 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uman vestur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e bod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he bloo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 will give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the faithfu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own sel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heavenly fo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ank on rank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host of heav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preads its vanguar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 the w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All Mortal Flesh Keep Sile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s the Light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ght descende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the realms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ndless d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the powers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ll may vanis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s the darknes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lears a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2T15:32:01Z</dcterms:modified>
  <cp:revision>128</cp:revision>
  <dc:subject/>
  <dc:title>PowerPoint Presentation</dc:title>
</cp:coreProperties>
</file>