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582-5C45-4D6E-80D8-4B2C8D7B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ADB-0F73-4213-8BB9-A763FE1B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2C7-CB90-4CF5-BB3A-34DDCBCC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C27-09A4-48F0-9825-340187A5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40E-95AF-441C-9162-FF9CF4C2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663-C1FF-4D8E-BCDF-8B9E1832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750-DD00-41E1-926B-B2635A6A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D8B-647C-487F-9CE1-8B3F1F74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5C6-3876-4092-AFFC-B6387EB4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BF5-166E-4470-896C-C8052DA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3CA-186D-4F9B-B4E7-463A90CF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C48-6AD9-4C1D-88C9-338CBD34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5BE1-D644-4A82-BBE8-DBECD3E11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neath the Cros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Elizabeth C. Clephane, 18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Benea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fain would take my st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hadow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ighty ro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a weary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ome with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ilder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rest upon the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burning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oontide he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burden of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Upon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e eye at times can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ery dy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m of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uffered there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om my stric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with t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o wonders I confes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nd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unworth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take, O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ad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abiding pl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sk no other suns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 the suns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s f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tent to l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go 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now no gain nor l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inful se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only sh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lory all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36:42Z</dcterms:modified>
  <cp:revision>52</cp:revision>
  <dc:subject/>
  <dc:title>PowerPoint Presentation</dc:title>
</cp:coreProperties>
</file>