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CE4-E1D9-4767-88CD-239BBA41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3E9-CEB8-447F-A067-F150F91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32C-9B97-455C-B089-4C0266C9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968-EB27-4662-AAE8-07FB3B61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169-7F4D-4320-A2F7-D6BA6214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FB4-4115-4147-9421-5AB6F875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CEE-36D6-4096-AE24-DF7ED2D3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D06-C204-4465-940A-1A6F6838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D2B-3EC5-419A-9FC0-860B351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408-4785-422E-B8B3-F73C300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0AB-A2A1-4B3F-BBC7-46873A3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35A-D939-4877-9826-CCDED07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DF0-9F15-4E5C-B3CB-864AF50F1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, Thy Boundles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ve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, thy bou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thought can rea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tongue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1480" y="1549440"/>
            <a:ext cx="5444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Paul Gerhardt; trans. by John Wes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suffering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my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eakness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m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the st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shall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, in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ortan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eath as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my gu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ve m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or me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knit my thank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ign wit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ival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whol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alone I a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constan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grant that no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dwell, but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love al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y th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ssess me who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y, my tr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nge flames a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my soul re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every act,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t, b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ove, how che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y ra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ain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esence fli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, anguish,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lt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’er thy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m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Jesu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may I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hear, fe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think, but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28:35Z</dcterms:modified>
  <cp:revision>13</cp:revision>
  <dc:subject/>
  <dc:title>PowerPoint Presentation</dc:title>
</cp:coreProperties>
</file>