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E82-45CB-403D-B721-0C46270D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9DA-3C45-4930-A3EA-A5DA1EE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76A-4045-4707-B0E9-D9D9471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613-A16D-4C75-B175-A78EE4CB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B79-36D4-4438-A6AD-A72FE916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4A9-44CD-498F-B5A7-EEAF2855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A63-6C31-492A-A2F8-B764D05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EA4-E3C4-42B6-9DBB-C54428C5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1D9-55BD-4AED-B677-8F86277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1CD-1A12-4C18-931A-6086353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E9C-3730-4FF4-9277-83ADD89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396-9F4E-4404-A990-9D458D6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89B6-BFB6-4E16-9BE3-8F47D595F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ftly and Tenderl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Will L. Thompson, 188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oftly and tende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dows are gathe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athbeds are co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4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O for the wonder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 he has promi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d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we have sin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has mercy and pard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rdon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, on the portals h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iting and watc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ch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hy should we tar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Jesus is plea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lead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y should we li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ed not his merc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rcies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ime is now flee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moments are pa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ssing from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rom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4:43Z</dcterms:modified>
  <cp:revision>105</cp:revision>
  <dc:subject/>
  <dc:title>PowerPoint Presentation</dc:title>
</cp:coreProperties>
</file>