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8FD-58FB-4E1F-8CDB-06A526E0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7E1-5D46-4BBF-99B5-9E9C3594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B42-0C89-4D58-84A2-C68D0F44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DD4-97AA-4625-B73F-1D361DB2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77B-31AC-48C2-8429-C23AD349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5D9-2497-496C-A620-16A5DB52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460-D5B2-4610-BE60-EB5E94F3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006-E961-4ACF-AFA3-251F9BD2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4D5-177C-4EBA-A4BE-6E3266F3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070-382F-47B5-950F-568040D4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0DE-4E57-4A91-A568-1F3EB82D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2D8-B58D-41B3-A1A7-1A4F298F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FB0F-CA3B-4A4E-B3B1-B91D22C55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isten, Lord (A Pray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981080"/>
            <a:ext cx="876312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O Lord, we come this morning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knee-bowed and body-ben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before thy throne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en Lord (A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47880" y="1066680"/>
            <a:ext cx="372564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James Weldon Johnson, USA, 20th c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42240" y="22860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5715000"/>
            <a:ext cx="8229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© 1927 The Viking Press, Inc., renewed 1955 Grace Nail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981080"/>
            <a:ext cx="85345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O Lord–this morning–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bow our hearts beneath our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knees, and our knee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in some lonesome vall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90512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We come this morn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like empty pitcher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to a full fountain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with no merits of our own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371600"/>
            <a:ext cx="84582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O Lord, open up 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window of heaven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and lean out far ov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the battlements of glory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and listen this morning.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9:18Z</dcterms:modified>
  <cp:revision>16</cp:revision>
  <dc:subject/>
  <dc:title>PowerPoint Presentation</dc:title>
</cp:coreProperties>
</file>