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35E-C8A3-4726-A086-30CD21B3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84C-0571-4612-94E6-E68B7BD4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404-DC10-444B-B0A2-94D6788B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2A8-3A7A-4BFB-A510-9E8486AA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3B2E-BFBA-4148-9519-3869B088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506-8BE7-4E38-A4A9-18045364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7F5-6652-4890-949C-85FC0203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E0E-781F-4679-9BBD-10AB68FA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9C3-5840-4D65-BDDB-959EA7BA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FE5-E1F0-4DF7-8FF7-FF7C188A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9DD-C197-4886-89AE-DE7ECEE4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A6F-83F5-4A99-A450-F2912D8A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80E1-D6C3-42C7-A7E2-BB630EFA3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and Up and Bless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ames Montgomery (Neh. 9: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 Stand up a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less the Lor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ye people of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is ch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nd up and bl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Lord your Go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heart and soul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ough hig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bove all prais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bove all blessing high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o would not fea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is holy nam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laud and magnif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for the living flam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rom his own altar brou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touch our lip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minds inspir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wing to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ven our thou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is ou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rength and so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his salvation ours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n be his lov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Christ proclaime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all our ransomed pow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 Up and Bless the Lord 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nd up a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less the Lor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Lord your God ador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nd up and bl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is glorious nam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nceforth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 Up and Bless the Lord (5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7:58Z</dcterms:modified>
  <cp:revision>156</cp:revision>
  <dc:subject/>
  <dc:title>PowerPoint Presentation</dc:title>
</cp:coreProperties>
</file>