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369A-C528-407B-B2B0-E4005CFE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FC6A-A027-4558-8DD2-7996FC4E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CF42-1AF7-4345-AD0B-B3AE8A778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6957-33D7-406E-A812-8E41208CF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C869-476D-4B28-9795-7D8A14A4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7607-78FD-445B-B00E-6E998C86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7732-6CAB-4891-B836-D490379B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9E41-D748-48FA-9C6C-3A784826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457A-07B7-416E-8A56-E2A16409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AFDF-84AB-4CD7-BD8D-977C818E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4CE4-1AC9-4AB8-B259-AF4CD408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F897-E1A8-4BD0-B024-AA54216D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CC1E-D2AD-40B7-BAA8-DF5C3FC5C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For a Thousan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ongues to 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4290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for a thous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ngues to 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great Redeemer’s prai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r a Thousand Tongues to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99520" y="1752480"/>
            <a:ext cx="31449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WORDS: Charles Wesley, 173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88920" y="3048120"/>
            <a:ext cx="71712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lorie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God and King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riumphs of his gra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gracious Mast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y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sist me to procla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pread through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earth abro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onors of 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r a Thousand Tongues to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47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Jesus! the n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charms our fea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bids our sorrows ceas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’tis music in the sinner’s ea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’tis life, and health, and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r a Thousand Tongues to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666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He breaks the p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canceled s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sets the prisoner fr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blood c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 the foulest clea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blood availed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r a Thousand Tongues to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He speaks, and liste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his voi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w life the dead receiv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ournful, brok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ts rejoi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umble poor belie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r a Thousand Tongues to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6. Hear him, ye deaf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praise, ye dumb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loosen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ngues emplo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 blind, beho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Savior c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eap, ye lame, for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r a Thousand Tongues to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523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7. In Christ, your he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then shall kn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feel your sins forgive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ticipate your heaven bel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own that love is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r a Thousand Tongues to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0:06Z</dcterms:modified>
  <cp:revision>11</cp:revision>
  <dc:subject/>
  <dc:title>PowerPoint Presentation</dc:title>
</cp:coreProperties>
</file>