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B8A-1668-4522-B683-9C5C06A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0A5-47CA-4B27-83D6-AFC6DDB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5E0-0F9B-4F02-ACC3-9F797E5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502-0683-445F-B91E-64148F06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CD0-2F82-4573-BB19-A185D70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5CA-B39A-4487-BF24-E43ED7D1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8D2-1447-4C11-973D-51C329D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2BE-8185-470C-BB7E-04DC6815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D63-9E59-414F-892B-B04979F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F8A-CB38-4128-9407-104A4E1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69D-2060-4785-9C03-9F0B440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9DE-FB53-4FD8-93D2-01DCCB7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E18-5C4E-4BF7-8870-83AA8D82B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t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uniting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ill not let us p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odies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off re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till are one in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2 (1 Cor. 2:2)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ined in on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e appoints w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in Jesus’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otsteps t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o his work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may we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i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thing know be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est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Jesu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all are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him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ch with each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th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uth, we li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t point of u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Partak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or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me in mind and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joy, nor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time, nor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life, nor death can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3:18Z</dcterms:modified>
  <cp:revision>72</cp:revision>
  <dc:subject/>
  <dc:title>PowerPoint Presentation</dc:title>
</cp:coreProperties>
</file>