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180-C0F1-4FAE-AF9C-A31B8077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030-84DA-4A23-B680-7BEA7E94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54F-368C-4EDD-B070-D11F6814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E15-D875-42F7-9E56-F4E9861A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AC8-EB3C-4943-A142-5CC6B7DD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516-870E-4995-8E89-3305759C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5BE-A288-46F9-B9EE-C3695B7C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760-FF16-4DED-A85D-F0A21846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4C-886D-4C60-A07E-50376754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E20-FF7A-49A8-896E-865A9747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38C-F5AB-49B4-ABD5-E6DFBA1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5FA-EF9A-4A63-905F-628C4FC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677B-074F-446D-847F-5F05FFD1E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ian People, Ra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r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ian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your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se away all grieving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permission of Saint Andrew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olin P. Thompson, 1975 (1 Cor. 15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your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 made st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rd’s life recei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ure’s gift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at and v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re set befor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o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and w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comes to restor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o wel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reat revel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s pione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et the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risen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ly recogniz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reet the sp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t of wint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46:45Z</dcterms:modified>
  <cp:revision>139</cp:revision>
  <dc:subject/>
  <dc:title>PowerPoint Presentation</dc:title>
</cp:coreProperties>
</file>