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C3F-4066-4B64-8F19-FEF2B6CF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253-ACCC-477E-9219-8DEC141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B6D-F6B1-41B5-B621-2E0E4E6A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493-D608-4F65-AA54-09DC0D5C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0E6-BA1D-438F-AB52-14BDEA61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E08-062F-426A-9EF5-A55AFC66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288-4FBD-4BBC-8645-989084D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1A4-0415-4450-91FD-4ACA3BD0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3A4-2A04-48C7-89FC-C9A52A97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D83-04D7-4572-9222-F6B745D2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7D0-6C91-4D17-A5E2-D9D50AE9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32E-88D6-4F56-B0D0-DD5820A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17F8-81D6-4D10-BB06-9D8B41A34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ord, Speak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Frances R. Havergal, 1872 (Rom. 14: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Lord, speak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may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living echo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y 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il thy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I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rest, thy jo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glory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ou hast sou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let me seek t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ring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t and 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 strengthen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while I 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rm on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trong in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may stretch 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oving h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restlers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roubl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O teach me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may t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precious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dos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ng my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y may r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idden dep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any a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O fill me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fullnes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il my 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t o’er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kindling th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lowing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love to t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praise to sh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O use me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se even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as thou wil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en, and w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52Z</dcterms:modified>
  <cp:revision>158</cp:revision>
  <dc:subject/>
  <dc:title>PowerPoint Presentation</dc:title>
</cp:coreProperties>
</file>