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857-5306-4715-A834-91C1D066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42A-15A1-4ED7-B0F1-99D08E33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530-14A0-4968-9F3F-6083DA07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26D-641D-455D-BA31-2F0F1AB2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515-13FE-42ED-B729-8DB7402D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76F-D76B-499E-A62E-E286D980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057-4EA7-4F7F-9949-86E292C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2FA-EA98-4135-AB29-62964415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F5A-C884-4728-AFF2-4975578E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0DB-F8ED-4943-9819-58B22BA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9C9-FC20-49CD-9927-841A0B80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C18-0D1E-4B4B-A60D-652AF86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D72-DDE7-4B3F-A11A-DAFA91115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ee Is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n thee is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id all s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suns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520" y="1092240"/>
            <a:ext cx="8297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ann Lindemann, 1598; trans. by Catherine Winkworth, 1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e are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ifts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r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uls thou mak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bonds thou break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usts thee sure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built secur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ands forev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are pi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y shi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ying or l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are cleav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ught can us sev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f God be ou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fear no pow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t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 sin 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ees and bles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worst distres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an chan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m in a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fore the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of God’s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rt and voic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eaven rejoi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ing forev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hout for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umph o’er s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ing and p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ices still ra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 hymns forev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1:26Z</dcterms:modified>
  <cp:revision>32</cp:revision>
  <dc:subject/>
  <dc:title>PowerPoint Presentation</dc:title>
</cp:coreProperties>
</file>