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859-4603-4C63-91EB-25188761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CC8-9A0D-4A50-B62D-54B64380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BD1D-C640-41D6-B885-53C181FB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3BB-96B5-4611-926E-AABD4497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86D-FC22-45AC-B610-F6AD010C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CF2-56F4-46F1-80BF-E4432083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9CC-2BB4-4F4E-84D1-35F2D2F8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6BE-A9BF-4973-86A0-7B907516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470-84A5-4C00-8180-7B63E54B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E02-CB95-45F3-9DF3-6AAA2C72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20D-197E-4565-B1EA-46807E6E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9F5-A91A-4012-B573-78A66ABA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9489-E67B-4444-96B6-D445D6DC1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reator of the Stars of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reator of th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rs of n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people’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verlasting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Trans. 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Stars of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99080" y="1166760"/>
            <a:ext cx="694116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non. Latin, 9th cent.; trans. from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The Hymnal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, 1940 (Phil. 2:10-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Christ, 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ou Savior of us al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pray th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r us when we c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At the great nam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Jesus now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knees must ben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hearts must b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Stars of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things celestia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e shall ow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things terrestria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rd alone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15:37Z</dcterms:modified>
  <cp:revision>30</cp:revision>
  <dc:subject/>
  <dc:title>PowerPoint Presentation</dc:title>
</cp:coreProperties>
</file>