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C05-657C-4A45-A0A7-FC48595E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6E3-5384-4065-A49B-F0EDA580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B332-0863-4BA4-B3E1-C84A65AE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B1F-0B7D-4CB8-9D86-F065217F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54D-8FB7-43ED-ACD4-F73FA54D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357-0331-4531-A8B3-2576F9A5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033B-4DAC-4B73-AE09-8C3C74F2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42BF-557F-4184-9151-607EE3ED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2E3E-E9D0-44EA-B7C9-8239A8A4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091-2449-45DE-9F75-74B78CD7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3BF-0CE0-43A0-9671-D7CF7AC0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A6B7-D4AD-4655-8F92-96D598AB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415E-C2FC-438C-BBD7-8F9A86912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appy the Hom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n God Is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Happy the h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God is the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ove fil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y bre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4160" y="1662120"/>
            <a:ext cx="30520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Henry Ware, Jr., 184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one their wi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ne their pray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ne thei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venly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Happy the h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Jesus’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sweet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y 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children ear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eak his f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arents ho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m d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Happy the h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prayer is hea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raise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t to r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parents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acred W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i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sdom priz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Lord, let us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homes agr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bles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ace to 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ite our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love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ove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will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21:23:55Z</dcterms:modified>
  <cp:revision>15</cp:revision>
  <dc:subject/>
  <dc:title>PowerPoint Presentation</dc:title>
</cp:coreProperties>
</file>