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E55-7D6C-4C0B-BF43-CF9555D9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74C-3E0E-41EF-B0B1-02D36477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BCD-2AEA-417D-97AF-630314D8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D87-3AF2-4005-A0B9-EACB4409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7D7-27AD-4450-9BAE-119B7B17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CFD-0F9C-4187-9FCF-055120E8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6C5-8645-4685-9321-56E7FE0F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C93-5509-4F43-A2D2-02640ADA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602-9B7E-4D14-A4EF-14F79FAD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625-A263-4706-8F49-099C93D8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BB1-7DE5-4A7C-B57B-8794AAFA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6C0-1926-46A9-9F34-7804EC7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16B1-EA4B-472E-BE85-74FBCC08A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il Voces Para Celebr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66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Mil voces para celebr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i Libertad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s glorias de s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jest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 triunfos de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ns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94480" y="1139760"/>
            <a:ext cx="67521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harles Wesley, 1739; trans. by Federico J. Pagura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Mi buen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estro y Dio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pueda divulg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u grato nomb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su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cielo, tierra y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El dulce nomb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 Jes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ú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s libra del tem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las tristez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rae lu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rdón al peca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43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Destruye 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der del m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brinda liberta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m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s impuro puede d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reza y sant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Él habla y al oír su voz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muerto vivirá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 alegra el tris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razó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s pobres hallan pa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Escuchen, sord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abe el muldo a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s cojos salt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vean hoy l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iegos a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En Cristo, pu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oce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a gracia del perdó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aquí del cie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zará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cielo es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9:52Z</dcterms:modified>
  <cp:revision>16</cp:revision>
  <dc:subject/>
  <dc:title>PowerPoint Presentation</dc:title>
</cp:coreProperties>
</file>