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F10-54F6-437E-B91D-155DA3E3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0C9-AFE8-441A-8F01-F9A9CC0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311-6546-4680-A532-652FA3A0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CF1-CEC8-4364-9963-CF9C98A0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645-4D80-4A76-816A-4E229C48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1AD-747E-499A-97E1-FDA4061E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B9F-2BE7-4B4A-BC27-3835768B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AFE-1885-4EDA-9789-26AADCC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B01-D3B2-41C9-9B8F-38DA9C85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C5B-58E9-467D-BBC8-CFF160E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ED2-1E0F-492E-863D-63DC956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C2C-FD65-4186-B604-E533F99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D48-60DE-44CB-939E-96826EF78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Is He in Yonder 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nder st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whose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epherds fall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2600" y="1092240"/>
            <a:ext cx="4107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enjamin R. Hanby, 18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rom the gr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s to h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p and sa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rom yon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les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light alo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o, at mid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ys in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ethsem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Calvary’s thr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ks for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f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9:15Z</dcterms:modified>
  <cp:revision>44</cp:revision>
  <dc:subject/>
  <dc:title>PowerPoint Presentation</dc:title>
</cp:coreProperties>
</file>