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14F-AAE0-4893-B4C8-DBD2B779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955-4357-4493-9364-D216EFB7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2F1-ACC0-43A2-81F4-F8C04BAE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E41-9511-4B70-9351-6C5C3661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20E-C8C6-4B21-8732-340366BA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059-0091-4190-BF47-A10A8351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DA9-5CCE-4DCB-A03C-0FEC7726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4B2-CAF7-465D-AC85-F99A13E5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BC6-FB0F-42A8-843F-8A3968B5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3A4-0212-41BC-A6E3-2BB437E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AD0-8B90-445E-988C-783F378D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FD8-6DB2-4D0C-BC7C-79508EFD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683D-288B-4FEA-882D-F3ED5D601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Precious Lord,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ake My H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Precious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on, let me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ired, I am wea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wo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38 Hill &amp; Range Songs, Inc., renewed Unichappell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1160" y="1662120"/>
            <a:ext cx="3179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Thomas A. Dorsey, 19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stor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o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447920"/>
            <a:ext cx="876312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hen my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ows dr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Lord, linger n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my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almost g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my c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my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my h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st I f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600200"/>
            <a:ext cx="89154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ness app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night draws n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day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st and g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river I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de my f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my ha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75248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53Z</dcterms:modified>
  <cp:revision>15</cp:revision>
  <dc:subject/>
  <dc:title>PowerPoint Presentation</dc:title>
</cp:coreProperties>
</file>