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6707-943B-4070-A6EC-8008926C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0D06-6370-416E-A1E1-108FC4FA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E44D-0BC2-4073-9F3B-EA7155CE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B645-74C6-455B-B9F7-9E26083E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4F96-DB08-4E65-82C5-7490256C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A854-3F2C-4DB6-A02D-119DD678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48F-390A-420F-A115-31A32B19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95C-4514-4E4D-BDF8-BD4F1B78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27D-D53F-4D73-BEE6-2458AF30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C58-3C8B-48E1-8C9C-6DB2609F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510-9C6C-4C8A-80E1-2CC53678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630F-0475-4BF8-AE16-4285FD2C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2D56-AB31-4A66-AE32-D7BFD2DA2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mazing Gr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John Newton, 1779; st. 6 anon. (1 Chr. 17:16-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Amazing grac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w sweet the s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saved 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retch like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62680" y="2239920"/>
            <a:ext cx="622044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 poss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in the ve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life of joy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6. When we’ve been t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n thousand yea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right shin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s the su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88120" y="1859040"/>
            <a:ext cx="55666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’ve no less day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ing God’s prai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n wh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’d first beg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heroke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762120"/>
            <a:ext cx="9144000" cy="542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CHEROK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OOH NAY THLA NAH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HEE OO WAY GEE.’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E GAH GWOO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YAH HAY 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Cherokee phonetic transcription, as sung in Oklahoma Indian Missionary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58040" y="1859040"/>
            <a:ext cx="7026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AW GWOO JOE SA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YOU LOW S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 GAH GWO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AH HO N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Navaj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43000"/>
            <a:ext cx="9144000" cy="50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NAVAJ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NIZH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ÓNÍGO JOOBA´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TTS´ A´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ISDÁSHÍÍTÍNÍGÍ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Navajo phonetic transcription by Albert Tso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48600" y="2239920"/>
            <a:ext cx="7245720" cy="234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AH YÓÓÍÍYÁ, K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´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D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HÉNÁHOOSDZIN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OO EESH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´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ÍÍ DA ŃT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´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É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Kiow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09480"/>
            <a:ext cx="9144000" cy="552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KIOW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 K’EE DA HA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TSAHY H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SOW’HAW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 K’EE DA HA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TSAHY H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Kiowa phonetic transcription as sung in Oklahoma Indian Missionary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AY DAWTSAHY TA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AW AYM 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H T’A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W K’EE DA H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WTSAHY H’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reek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066680"/>
            <a:ext cx="9144000" cy="50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CR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PO YA FEK CHA H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HALT AH TE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H NON AH CHA PA K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Creek  phonetic transcription as sung in Oklahoma Indian Missionary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54880" y="2239920"/>
            <a:ext cx="683604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once was lo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t now am foun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s blind, but now I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A FEE K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FUNN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 K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M E HA TA LA Y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hoctaw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066680"/>
            <a:ext cx="9144000" cy="533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CHOCT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SHILOMBISH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HOLITOPA MA!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ISHMMINTI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PULLA CH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Choctaw phonetic transcription as sung in Oklahoma Indian Missionary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TAK ILBUSH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IA H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PI YUKPALASH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’Twas grace that tau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heart to f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grace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ears reliev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07440" y="2239920"/>
            <a:ext cx="672948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precious di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grace app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hour I first believ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Through many dange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ils, and snar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have already c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63680" y="1859040"/>
            <a:ext cx="64152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s grace hath brou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 safe thus f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race w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d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The Lord has promi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od to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is word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pe secur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36040" y="2239920"/>
            <a:ext cx="627228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will my shie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ortion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long as life endur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5. Yea, when this fles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heart shall fa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mort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ife shall c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0T19:14:51Z</dcterms:modified>
  <cp:revision>124</cp:revision>
  <dc:subject/>
  <dc:title>PowerPoint Presentation</dc:title>
</cp:coreProperties>
</file>