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7E8-EA45-49AE-A091-59A38104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2E2-25E3-4998-900E-620A31B7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25B-6019-4552-A5B2-F9C831B4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8F4-6DDF-4B5A-990D-B7D38ECB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19E-35AD-4406-9DAA-1C0A33D7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9E3-BDB3-4BB9-A5BF-1F30A924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B27-EDC7-4E5D-9C44-61CA460A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5B8-56A9-4322-BD39-9C36C12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238-CCCF-4C9A-9C41-3CE1813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915-468F-4B86-A479-E029350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16B-A500-4399-834E-D25674E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B2B-646C-41B2-8BF8-B2AF989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3018-A7D8-4E07-862E-8142C50C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ou, O King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ll prai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, O King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idst yield th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of right was t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40, 1943, renewed 1971 The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4240" y="1625760"/>
            <a:ext cx="520524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. Bland Tucker, 1938 (Phil. 2:5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191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by all ador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n our dark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thy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might shin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ou cam’st to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lowliness of thou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e the outc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poor were sou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y thy death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salvation wrough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Let this mind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us which was in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wast a serv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might be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ing thy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death on Calvar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Wherefore, by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purpose,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t high exal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creatures n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n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ich all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ow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Let every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fess with one acc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eaven and earth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 is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04:14Z</dcterms:modified>
  <cp:revision>29</cp:revision>
  <dc:subject/>
  <dc:title>PowerPoint Presentation</dc:title>
</cp:coreProperties>
</file>