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CD1-FB08-4914-BAF1-7E387842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B18-F6DC-4FF1-8F04-EDA33B22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429-4118-4C68-B5F5-64A08110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151-9361-4BFA-A619-A95F4096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E65-271B-41AE-91C8-D38DB5EE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885-0247-4141-9F6F-206B192E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BD7-4A02-4988-B0A3-53E5CF0F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08F-4129-4115-8B04-8877BF18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FE9-F46E-48A2-A61A-789EF8F6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02F-190E-444F-A3AE-C7D4CCE6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1A0-5F70-4057-BB4D-0E48BCBE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8E4-1DFD-439A-A73A-ED22AC3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AE01-792B-44A4-A881-78438143B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 Would Se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 would see Jes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! his star is shi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ove the sta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the angels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5040" y="1116000"/>
            <a:ext cx="3219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. Edgar Parks, 19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ar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mea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ice sc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we are t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give ourselves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n a mang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hay recli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te, let us lay our gifts 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e would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y’s son most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of the vill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from day to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ing revealed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task most low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rist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ife, the truth,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e would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mountain teac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ll the liste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ople gathered r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birds and flow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k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ove are preac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lessedness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mple trust ha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e would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work of hea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event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 sun was se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vine and hum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deep revea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od made fle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oving service m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We would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early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as of 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calleth, “Follow m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50Z</dcterms:modified>
  <cp:revision>15</cp:revision>
  <dc:subject/>
  <dc:title>PowerPoint Presentation</dc:title>
</cp:coreProperties>
</file>