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5C1-50CF-4902-AF47-DFBCA9AC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54D-6615-4382-9823-F631D0D5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724-0DCB-48D7-947A-4F433C09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0EC-7FAC-4823-ACD2-454AE006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B22-47EE-4BF8-81E3-6AE0CDD1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094-4533-4658-B1B6-4E6BD14E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798-87B1-488B-8057-0EB19B09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B4EB-FE83-46AA-B840-382332E7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2A3-E219-477D-B41B-3EDE3893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F89-00DD-4BEC-931D-2D60F303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5F72-40B8-47EF-AD7F-13D0C32B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895E-7EBA-43BF-A824-9A1854D6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8E88-157D-4159-902C-F9E206CB7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For Illu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752480"/>
            <a:ext cx="8381880" cy="44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00"/>
                </a:solidFill>
                <a:latin typeface="Times New Roman"/>
              </a:rPr>
              <a:t>Open wide the window of our spirits, O Lord, and fill us full of light; open wide the door of our hearts, that we may receive and entertain thee with all our powers of adoration and love.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Illu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3080" y="1052640"/>
            <a:ext cx="3778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Christina G. Rossetti, England, 19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6:35:47Z</dcterms:modified>
  <cp:revision>20</cp:revision>
  <dc:subject/>
  <dc:title>PowerPoint Presentation</dc:title>
</cp:coreProperties>
</file>