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C48A-730B-4713-989E-7360A392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0B2B-7513-45AA-9B56-F424AF40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8D18-73D7-4F44-9EB9-EDD3BD967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DA1B-89CC-48F9-A92F-F95147347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FB09-1362-4871-9B17-8A2E1575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F1BC-960D-4B46-9040-19D4E495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31A0-861C-48F4-9318-9401C031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08AD-DA92-43E1-BCFB-0ABE00B4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C492-9759-4F75-8426-0F20C8E6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3832-BCF6-4583-ADD8-E2F19697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761A-CD29-4864-B416-D01FF3C4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737F-F4B6-44CE-8160-567183D8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633A-104F-48F6-9F92-799169299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Times New Roman"/>
              </a:rPr>
              <a:t>We Know That</a:t>
            </a:r>
            <a:br>
              <a:rPr sz="4000"/>
            </a:br>
            <a:r>
              <a:rPr b="1" lang="en-US" sz="4000" spc="-1" strike="noStrike">
                <a:solidFill>
                  <a:srgbClr val="ccccff"/>
                </a:solidFill>
                <a:latin typeface="Times New Roman"/>
              </a:rPr>
              <a:t>Christ Is Rai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6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82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1. We know that Christ is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raised and dies no more.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Embraced by death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he broke its fearful hold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y permission of John Brownlow Ge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Know That Christ Is Rais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524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Times New Roman"/>
              </a:rPr>
              <a:t>WORDS: John Brownlow Geyer, 1969 (Rom. 6:3-1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6368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and our despair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he turned to blazing joy.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771480"/>
            <a:ext cx="9144000" cy="532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2. We share by water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in his saving death.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Reborn, we shar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with him an Easter lif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as living members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of a living Christ.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Know That Christ Is Rais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71480"/>
            <a:ext cx="9144000" cy="532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3. A new creation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comes to life and grows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as Christ’s new body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takes on flesh and blood.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The universe restored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and whole will sing: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Know That Christ Is Rais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2:08Z</dcterms:modified>
  <cp:revision>110</cp:revision>
  <dc:subject/>
  <dc:title>PowerPoint Presentation</dc:title>
</cp:coreProperties>
</file>