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961-E6E5-4245-BE12-5139D00D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19C-0227-48E7-B11A-6E0A85A9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07E-95B4-4CC2-B3DD-0A2369C6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EA4-DA1C-4DE8-AF7D-75DFE1A4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6AB-34D9-494B-97FB-43E1BCC0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E56-CE17-459F-B508-DA1DA3FF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9D5-5518-4C51-A9E1-E4F2C99B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3A3-239F-497D-8CEC-956B4779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14A-80D6-4E29-9070-334EB371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BEB-A3CC-4A72-9381-5EEF2A0B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16D-2EE3-4662-9CDE-5937CE3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53D-5AC9-4B32-9778-6F41D7F5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042C-67ED-410E-91B7-690D89D1B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ll the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or all the sai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from their labors r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hee by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 world conf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7640" y="1219320"/>
            <a:ext cx="40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William W. How, 1864 (Heb. 12: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1460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rts are br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ain, and arms are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From earth’s wide bou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cean’s farthest co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gates of pear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am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ntless ho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1460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ing to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, and Holy G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ar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 blest commun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llowship divin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eebly strugg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in glory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0"/>
            <a:ext cx="9144000" cy="37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all are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e, for all ar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, O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forever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ou wast their roc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fortr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ir m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, Lord, their cap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ell-fought f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909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, in the dark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ear, their one tru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may thy soldi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ful, true, and bo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ght as the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nobly fought of ol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n with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ctor’s crown of g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 blest commun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llowship divin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eebly strugg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in glory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1460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all are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e, for all ar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And when the str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fier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rfare l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s on the 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istant triumph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17:26Z</dcterms:modified>
  <cp:revision>55</cp:revision>
  <dc:subject/>
  <dc:title>PowerPoint Presentation</dc:title>
</cp:coreProperties>
</file>