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A0C-4328-42C3-94F9-5D082677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66C-C701-4021-BFB3-CB38C636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1CB-3ECD-4E0E-B6CF-D3AAB1B5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C98-9158-4981-8712-4E47AFFF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BEA-29EE-4FC2-BFE3-4AE265D3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92C-1412-4F21-A944-46604A2B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BD8-6700-460F-B455-3D36411D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188-443C-437B-9B9C-E97E829A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906-6961-4502-8700-E9868999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763-C95C-4151-81A0-BBB26F21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061-3101-42F0-8268-8E0A71F0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9A7-9A1D-433F-BF15-90C3FFEC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2FD1-2155-4760-8FA6-62E859397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, Whose Lov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rough Humble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ord, whos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humble serv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e the we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uman ne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1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lbert F. Bayly, 1961, a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its he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pth and great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wns up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quickened s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ing kn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eds and burde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compass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ids us b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rring u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reless str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abund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Called by worshi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r serv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th in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r name we g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youth, the ag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in l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ds to sh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pe and heal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 will and comfo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nsel, ai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eace we gi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your servan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n free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your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now,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upon the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sa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fered mercy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rfect de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your servan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 the worshi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of voice al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he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secrat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r purp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gif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you im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till your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nder homele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the hung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y for br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the capti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ng for freedo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in grie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mourn our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, O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deep compass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ed the sic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reed the sou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e th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Spirit kindl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to s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ke us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s we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vi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your love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vealing l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1:14Z</dcterms:modified>
  <cp:revision>86</cp:revision>
  <dc:subject/>
  <dc:title>PowerPoint Presentation</dc:title>
</cp:coreProperties>
</file>