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595-ECAF-4F58-9DE0-549A47A2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670-D716-41CC-83DF-BBF7475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5AC-12F8-4C54-9538-67D8B411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17F-AA68-4CC4-8E36-384AB220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1D6-C30E-4C1E-A54D-DCAC409A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2A0-AC3A-4FF5-9199-249AA98C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310-FE43-45DB-8CFA-CD4C78AE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AA5-BB7F-4310-A071-5E703CE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C0A-1289-4CD2-8D8B-276AFD82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D62-ECDE-458C-8A05-70DA2A6F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75E-ED29-403E-A28D-4B139343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B4D-7EF8-4176-AF11-8EEE53F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CBE5-27EB-46F0-A3CA-487A47F5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to Dark Gethsem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ames Montgomery, 1820, 1825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 to d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thsema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that fe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empter’s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Early hast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o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ey l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reathless c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s solitu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o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s ta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is ris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meets our ey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t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so to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Redeem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flict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ch with him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itter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 not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riefs a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ee him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judgment h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ten, 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iled, arraign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e wormw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gal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e pa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oul sustain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un not suffe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me, or lo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of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ar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alvary’s mourn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 climb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, ado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k that mirac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i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finished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him c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26:12Z</dcterms:modified>
  <cp:revision>50</cp:revision>
  <dc:subject/>
  <dc:title>PowerPoint Presentation</dc:title>
</cp:coreProperties>
</file>