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BCF6-EF62-4CEF-9E6A-60446875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54F0-7880-436F-B6D1-E1133AB9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7019-9B54-4A6D-A39D-FCAF2D63D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38CA-AF30-404A-8C3D-FB53DDB4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AAC3-8C37-4B41-9FE6-D4FC569E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7677-8D46-4731-B453-40704492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1E36-DF5F-4886-A286-F07696D6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18AE-0A4B-43EE-9C91-9367FEF4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137C-5F9F-4BF5-81E7-84DFAD99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6612-5368-474A-A956-E0990E84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92ED-A0D7-4B16-A6BB-9FE74BA2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A037-DB5E-41D6-B5F2-B3188E17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D04F-1876-4ACD-8D86-A1D635D4F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urn Your Eyes upon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228600"/>
            <a:ext cx="12952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n Your Eyes upon Jes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RDS: Helen H. Lemmel, 192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828800"/>
            <a:ext cx="9144000" cy="449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urn your ey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upon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ook full in h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onderful face,</a:t>
            </a:r>
            <a:r>
              <a:rPr b="1" lang="en-US" sz="5000" spc="-1" strike="noStrike" baseline="-25000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wonderful face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© 1922, renewed 1950 Singspiration Mu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the things of ea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ll grow strangely d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the light of h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lory and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01:54Z</dcterms:modified>
  <cp:revision>105</cp:revision>
  <dc:subject/>
  <dc:title>PowerPoint Presentation</dc:title>
</cp:coreProperties>
</file>