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0E2-A7DF-46C2-882D-BE2189DC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42F-929F-4020-994F-B914779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5A7-998D-42AB-960A-434CF634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61D-2F33-4AD3-B3C4-5C603475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919-AFA9-45B0-A064-07D8840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5FC-D317-4140-BCD2-099742D5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AFA-F77D-47CD-B976-35981721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4F5-BEC1-4E4D-A415-87D138F1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B22-1AEF-48DB-85AE-9BF62B1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068-4504-496C-A755-00FB9C7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1F6-23DD-4DFE-8360-FDDC22C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764-35A2-46B6-956D-E0C63D3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71DC-3B43-4FA3-8151-28D9AA046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79246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Jesus, My King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 Sovereign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s Es Mi Rey Sober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036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2,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icente Mendoza, 1920; trans. by Esther Frances, 1982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George Lockwood, 1988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 y me ve cual herm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 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jando su trono de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vino a sacar de la esc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tanta bondad para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90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ft all his glory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Jesus, My King and My Sovereig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9718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only now I surrend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3:47Z</dcterms:modified>
  <cp:revision>10</cp:revision>
  <dc:subject/>
  <dc:title>PowerPoint Presentation</dc:title>
</cp:coreProperties>
</file>