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9A1-1890-4645-9387-4F2F5193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C18-A5A4-4BE2-90B8-7DAA94C0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5D7-7BE8-4D91-BDA9-E065B8A9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746-DA75-4EC7-8BEF-09ACFA0B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344-9971-46E6-9126-722B76F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1E7-C5BA-49BF-B421-9617210B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870-E142-4AAD-AF44-D548E7B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D00-5285-48FF-BF0D-F7D8498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964-6DA2-4FC9-A56E-1259E4B2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7D8-8E0F-4463-92D0-D28A8B5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74A-55E3-43B3-8702-91F0A79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2CD-0575-4CAA-9B56-83805F2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13E-2E61-49FB-8904-A3D94C9C5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Young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you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less Proph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cient Galil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6880" y="1600200"/>
            <a:ext cx="3087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ate and l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alseh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back Chris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bid false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ount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lind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lifts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ity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tir up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a pro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ed for weal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others sta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u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ea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and heal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ome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ou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ck of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live their y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burde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omy dread</a:t>
            </a: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you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less Proph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need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nce 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id our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e app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ce more to h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challen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our nois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lif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 summ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rve hum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to 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ke our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c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s pron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the crow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and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e cou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ruth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unc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marv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ld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cour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to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med the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teadfast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lov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ty sh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we bet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help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 unswer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war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11Z</dcterms:modified>
  <cp:revision>14</cp:revision>
  <dc:subject/>
  <dc:title>PowerPoint Presentation</dc:title>
</cp:coreProperties>
</file>