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4752-2D3C-4B50-860B-78E82AEFD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3233-A877-4801-9D05-75284E6E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49E9-F25F-461E-BBE1-DF7AFEC1D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2B1C-2059-4EDA-B50A-60057A5E3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0345-052A-4150-B73A-0DF6CFCE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81E5-C044-4F69-9802-B30895DC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8837-1417-4666-9AD6-C55B346B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F0AF-B321-4EF6-BA48-E9C08A3C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2B80-B9AD-43A0-9FF6-48148922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729B-6DFA-4902-9BB0-3BC3FCA2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CA69-DB45-439A-AD44-6E5714F5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374B-F2E3-4028-A82B-E38F9544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2696-D74E-4BAD-8E01-BD7C1C731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elp Us Accept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ach 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Help us accept each oth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Christ accepted u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each us as sister, broth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ch person to emb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75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 Us Accept Each O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524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Fred Kaan, 1974 (Jn. 15: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 present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mong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bring us to belie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are ourselves accept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eant to love and l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Teach us, O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lesson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in our daily lif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struggle to be huma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earch f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pe and fai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 Us Accept Each O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each us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are for peopl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all, not just for so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love them a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find the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r as they may be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Let your acceptan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ange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 that we may be mov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living situation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do the truth in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 Us Accept Each O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practi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acceptan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ntil we know by hear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table of forgive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aughter’s healing 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7160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Lord, f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day’s encounte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all who are in ne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 hung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acceptan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righteousness and br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 Us Accept Each O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need ne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yes for see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w hands for holding on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new us with your Spirit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rd, free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ke us o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6T20:07:55Z</dcterms:modified>
  <cp:revision>66</cp:revision>
  <dc:subject/>
  <dc:title>PowerPoint Presentation</dc:title>
</cp:coreProperties>
</file>