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E64-1A16-4123-BEF1-1AA42A65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A76-0EB1-458F-B6C4-F529935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A1E-06FB-4E55-9F0D-A0297A60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B5B-5D4A-4174-9865-A8BA5EE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68B-162B-4E31-8AE8-46777E09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563-360B-4968-86D1-15E6C0D0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CC9-FAD1-407D-8917-FBF75B9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102-E510-4172-B6E1-23B71F9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8DB-9BF9-4DD7-837D-667869F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F2D-6F9D-4D32-92DF-212B392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BF5-F4C6-488A-A354-4535A1E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0E9-EABD-4445-B363-8DB8608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42D-65F0-4692-A462-51D92198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he Poor Ones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Cuando El Pob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. A. Olivar and Miguel Manzano; trans. by George Lockwood (Mt. 25:31-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7000" y="1295280"/>
            <a:ext cx="75067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438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7360" y="2057400"/>
            <a:ext cx="55846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666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4160" y="1600200"/>
            <a:ext cx="6979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0520" y="2057400"/>
            <a:ext cx="42786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herman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47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9000" y="1447920"/>
            <a:ext cx="637596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11120" y="2057400"/>
            <a:ext cx="47376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unque el odi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175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69800" y="1371600"/>
            <a:ext cx="622044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920" y="2209680"/>
            <a:ext cx="600552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47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4040" y="990720"/>
            <a:ext cx="53028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69440" y="2362320"/>
            <a:ext cx="646704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981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8680" y="1143000"/>
            <a:ext cx="64872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362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8040" y="2057400"/>
            <a:ext cx="5850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88560" y="1371600"/>
            <a:ext cx="711936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0574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6800" y="2057400"/>
            <a:ext cx="66790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19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0:18Z</dcterms:modified>
  <cp:revision>147</cp:revision>
  <dc:subject/>
  <dc:title>PowerPoint Presentation</dc:title>
</cp:coreProperties>
</file>