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867-BCD8-445C-AC43-0ECC522C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468-B1AB-4590-BE5B-34C70213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560-7D9D-4620-B91C-BB0BD0B0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1E7-1074-4A2D-8A1E-51260015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C32-9C88-437A-990F-092B4518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2F8-AD20-4829-98FC-CE3F8FD4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7E2-3EA5-4F73-9C60-4C186015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7F1-AC49-4395-B8A3-5E5CC289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162-57A8-4D44-9926-11057416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0D3-286F-4B07-91F6-9B97230C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675-D469-43D1-B76E-C8708356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6975-0243-4D71-90B8-50DA1216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D0A8-2752-4395-B61D-A585B2217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lled with Excitement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Mantos y Pal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6680"/>
            <a:ext cx="9144000" cy="3928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illed with exciteme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happy thr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read cloaks and branch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city stree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2, 1979,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1760" y="1521000"/>
            <a:ext cx="67158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Rub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n Ruiz Avila, 1972; trans. by Gertrude C. Suppe, 1979, 1987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Mt. 21:8-9; Mk. 11:8-10; Lk. 19:36-38; Jn. 12:12-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á a lo lej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 empieza a mir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un pollino 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j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os y Palma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83808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omo en la entrad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dos cantam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Jesús el Re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os y Palma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Cristo viv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nos llama h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ra seguirle c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or y 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os y Palma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9144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in the dist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begin to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ding on a donk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s the Son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952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comes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led with Excitement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83808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Hos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Hos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s in that entr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Jerusal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ing hosann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Christ, our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75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led with Excitement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living Savi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still calls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king us to follow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love and fai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952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comes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led with Excitement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7621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Hos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Hos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Mantos y palm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sparciendo, v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l pueblo aleg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os y Palmas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33:49Z</dcterms:modified>
  <cp:revision>45</cp:revision>
  <dc:subject/>
  <dc:title>PowerPoint Presentation</dc:title>
</cp:coreProperties>
</file>