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99A-6098-4551-BD30-8521AC1A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058-8D04-444F-917D-ECA5E0D2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22C-C05E-45B6-AD02-806723E1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B3D-E44F-48A0-9F94-7A70BD51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824-8DC9-4BCC-99D4-B648D4B0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515-9E7E-4217-9D4B-D2FA2716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A31-3C5B-4CE9-83A1-9F8E3C46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CAC-F996-4E4F-8293-1F6C44D8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9EC-DD02-4A42-AA63-B4BDAE73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30E-43AE-4D5D-9163-F9E9353F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973-4813-4346-BB18-62B5195F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11D-78BF-4913-9C02-7ABEFE8C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62D6-803A-4B10-8891-EF1F95787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 Frien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 Have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What a frie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have in Jes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ll our sins and griefs to bear!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hat a privilege to carry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everything to God in pray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seph M. Scriven, ca. 18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what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often forfe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what need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in we b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because we do not car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thing to God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ave we tria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mptations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there trouble anywher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discourag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it to the Lord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we f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friend so faith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will all our sorrows shar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kn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every weakn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it to the Lord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34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re we w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avy la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mbered with a load of car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our refug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it to the Lord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 thy friends despise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sake the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it to the Lord in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s arms he’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and shield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wilt find a solac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4:00Z</dcterms:modified>
  <cp:revision>52</cp:revision>
  <dc:subject/>
  <dc:title>PowerPoint Presentation</dc:title>
</cp:coreProperties>
</file>