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947-172E-481D-9C5C-675E2139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269F-5544-4010-ACE8-993738D9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13E5-2542-4D86-9868-873B8329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A3D-3E8F-44CE-8E98-535E63CE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22E3-D3AF-4374-826A-879B77B6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C98F-E310-4177-87E7-EA259FB3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1235-70C2-4468-866C-E82FC671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6EC-2554-47C7-93BB-CFD1B133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737-C7C2-4C54-8F32-562D0A3E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EF2D-D525-4CA7-A252-62C8FCB4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7B5-28E0-49DA-9149-6EB2DF1A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A5A9-405C-4E36-BD49-D5882A75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3E32-2386-4116-BBF1-14ED14663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, Make of All Dis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“Go, make of all disciples.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hear the call, O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comes from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y eternal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64 Abingdon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Leon M. Adkins, 1955, alt. (Mt. 28:19-20)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spire our ways of lea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earn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rvent pray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et our daily li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veal thee ever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“Go, make of all disciples,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ptizing in the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Father, Son, and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ge to age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call each new disci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follow thee, O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eming soul and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water and the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“Go, make of all disciples.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t thy feet would st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il each life’s voc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ccents thy holy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cultivate the nat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plants in ever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vealing in our wit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aster teacher’s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“Go, make of all disciples.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elcome thy comman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Lo, I a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you always.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take thy guiding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ask loo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rge before 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follow without fea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eaven and earth thy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bring God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dom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21:16:49Z</dcterms:modified>
  <cp:revision>76</cp:revision>
  <dc:subject/>
  <dc:title>PowerPoint Presentation</dc:title>
</cp:coreProperties>
</file>