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FE6-A48D-4A1A-9757-E6356EB9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819-3E54-4824-A546-1BB82B61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59D-DABC-45EB-91D1-961586EB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749-D924-4E74-8DB4-5881B1F0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6B9-A5A7-45B5-853A-64430437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B37-8CD3-4125-82D7-88DDFE60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190-FAB2-4289-87D3-2AEF2597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9A9-3795-45B4-A2A1-2CFD6F3C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453-CB1C-4CAC-91F1-A980B0B4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F82-581E-4923-A8BC-032ACF75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F21-8C81-4F56-AF0D-9F85DCF7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B01-6A4B-482D-BD8B-D77B106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F12-DA86-4B14-970C-0C49D6D6C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Invitation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God, the Holy Spiri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e to us, and among u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e as the win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cleanse u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e as the fire, and bur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come as the dew, and refresh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permission of S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3080" y="1028880"/>
            <a:ext cx="4018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Eric Milner-White, England, 20th c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71440"/>
            <a:ext cx="8839080" cy="63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vict, conve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consecrat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any hearts and liv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our great goo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to thy greater glor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is we as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or Jesus Christ’s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7:05:30Z</dcterms:modified>
  <cp:revision>25</cp:revision>
  <dc:subject/>
  <dc:title>PowerPoint Presentation</dc:title>
</cp:coreProperties>
</file>