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B72-CB15-4102-8B9F-DF8ED6B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DD3-45F3-45D8-8F6A-0D88CF7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43B-5AEB-4193-A7E7-137F6476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1E4-60AD-41BE-A284-7AE01AA2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FCA-D7E4-43B7-9857-BE5F358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A39-025E-4463-9F70-3633D2B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487-9422-4311-844A-2916EFA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C3F-9FE9-45A9-AA34-768F91D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463-70B1-4B61-901D-6A5A56A2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B9E-F26E-490E-A58D-B0F14C1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D53-7D28-4B75-9F63-E0F5E64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814-77ED-4876-BD29-B7D33BB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3EF-E242-43D8-B8A0-404C619F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 the Sun Doth Daily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 sun doth daily ri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ghtening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morning ski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 to thee 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t we up our heart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6400" y="990720"/>
            <a:ext cx="6787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atin hymn; trans. by J. Masters; adapt. by Horatio Nelson, 186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Day by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ovide us f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from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all things goo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unto our souls aff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thy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ead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Be our gu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sin and str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the leader of our l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st from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tray abroa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y our wayw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ee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Quickened b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thy holy will to t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we dai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arch thy W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sdom true impar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Praise we, w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eavenly ho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, Son, and Holy Gho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e would w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and magnify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48:39Z</dcterms:modified>
  <cp:revision>15</cp:revision>
  <dc:subject/>
  <dc:title>PowerPoint Presentation</dc:title>
</cp:coreProperties>
</file>