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078-D721-4C65-8B58-2E69EADB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8C1-CF5E-4CFC-B666-4C37115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B11-11C1-4635-891D-730DC602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CDE-728A-40D5-B990-24638C28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5E9-2CC8-407D-B024-A2AA460E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3BE-0074-4508-871A-71AC5D23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36C-CAC3-4EB9-B4EB-5C26102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EED-CBD4-4265-8267-F485AAE1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772-ED88-43CE-96A5-8BF45FF0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966-5A59-4F00-B7E9-36C314E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B99-69B9-4CA3-96F1-3F87040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039-3C65-4361-9987-AC429E1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98E-3C8B-481C-825E-AAAE59B6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eal Away to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0440" y="106668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 me by the thund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reen trees a-b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a-tremb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light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56Z</dcterms:modified>
  <cp:revision>49</cp:revision>
  <dc:subject/>
  <dc:title>PowerPoint Presentation</dc:title>
</cp:coreProperties>
</file>