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A7AA-936E-4971-B227-641623C0A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5A55-9995-41A9-ADDB-4B68D914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AAC2-FEE2-4835-830D-AEA487C3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2008-2DEE-43FD-AC08-FF8AACCE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EB2A-6618-496A-93C0-D2E07217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1465-430D-4EF0-B648-871B7449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5B9-ECA0-4F0C-9029-76D84B4E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5B71-F8F5-47B0-B98C-6F64E26C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110-49FE-4E96-8469-542D671C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B414-EC4C-432B-A40D-AC5FE576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1666-0ED6-4BB0-8AB2-35387EEB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707-EEFB-4E66-8DB0-C24A053E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0AE-566E-441E-A6EA-6043EEDD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4B9A-A4B7-4B4C-9D16-38CCA58BC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ke Our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oe Wise, 19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676520"/>
            <a:ext cx="9144000" cy="466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our bread, we ask y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our hearts, we love you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our lives, O Fa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yours, we are y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66 Joe Wise, by permission of G.I.A. Publicati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s as we st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table you se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s as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t the b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earts can’t forg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the sig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your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us y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you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y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17324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our bread, we ask y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our hearts, we love you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our lives, O Fa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yours, we are y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holy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nding wash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your bl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irit-fil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hung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wait your f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po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we’ve brought oursel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st we coul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you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y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7324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our bread, we ask y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our hearts, we love you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our lives, O Fa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yours, we are y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1:27Z</dcterms:modified>
  <cp:revision>137</cp:revision>
  <dc:subject/>
  <dc:title>PowerPoint Presentation</dc:title>
</cp:coreProperties>
</file>