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A60-83ED-4348-A924-609ABD02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A82-9F63-4D1E-B434-D9458AC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DA2-9BFA-453C-8987-85E8CF59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517-5D3C-4E15-AB3A-56888988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56D-BCBF-4BD7-8BB4-24ADFAAB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A51-825F-435C-9E31-58D175CA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853-4ED5-4334-A9A6-7E8AB669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951-80DB-452F-BC71-6E6EA4D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BE8-9E9E-461A-9A26-8E87770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5B9-5AA3-47F3-8853-A16CC17B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27E-14CD-4450-B2AF-AE41525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A33-350C-4929-AF3E-20F39C3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B9E1-3A45-4778-ADC0-CA09F2F2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Gladsom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ladsome light, O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our Creator’s fa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eternal splendor wea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7640" y="990720"/>
            <a:ext cx="5914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cient Greek hymn; trans. by Robert S. Bridges, 189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lestial, holy ble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Savior Jesus Chri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ful in your appea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As fades the day’s last l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ee the lamps of n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comm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 outpou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od of might unknow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, the incarnate S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pirit blest ado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016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you of right belo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praise of holy song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Son of God, lifeg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, therefo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Most Hig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world does glorif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hall exalt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12Z</dcterms:modified>
  <cp:revision>24</cp:revision>
  <dc:subject/>
  <dc:title>PowerPoint Presentation</dc:title>
</cp:coreProperties>
</file>