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D16-39E3-4B4C-8D21-6D61928E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844-5F79-40B6-8BD8-65720A08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AFE-6764-48BB-8136-E34F5C38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994-940E-48A2-8A76-80558278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E9C-6808-481C-BD92-B55F8533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308-9114-4063-A7D7-B789ECA2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508-9025-44DC-9541-171FE1F5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E07-2E18-4015-81BC-1DD08F8A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4B7-4EBF-4E18-B1E6-333F5E24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3AD-9A86-4152-A46F-05DDEBD0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E12-3737-44A8-AFF1-42EAC0FB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137-D17F-4D19-9381-615E351E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60DC-F402-4EB6-9CCE-64C75D077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Sing a Song of Bethle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sing a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ethleh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hepherds watching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f the new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me to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ngels in the 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9440" y="1066680"/>
            <a:ext cx="40852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Louis F. Benson, 1889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ight that sh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Bethle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s all the world tod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Jesus’ bi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eace on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ngels sing al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sing a song of Nazare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unny days of jo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ing of fragr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ers’ br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f the sinless B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ow the flow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Nazare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heart may gr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spreads the f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is dear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all the winds that b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sing a song of Galil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ake and woo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im who walk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 se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ade the waves be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ough like wa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Galil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rk seas of trouble ro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faith has he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aster’s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lls peace upon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 sing a song of Calva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glory and dism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im who hu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 t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ok our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he who d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Calv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risen from the gr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rist, our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eaven ado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mighty now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5:45Z</dcterms:modified>
  <cp:revision>8</cp:revision>
  <dc:subject/>
  <dc:title>PowerPoint Presentation</dc:title>
</cp:coreProperties>
</file>