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EC9-99BF-4333-9B8E-D3B17BF2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334-B5C3-404A-9F49-460DFD0C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182-17D6-4D72-B609-D4386C8A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336-8131-4F64-941F-77BC3D94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4AD-0707-4D98-AAD9-85E39239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F89-559D-459B-AD80-56339A88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7CB-D250-460A-932B-427FC0DB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F2D-373F-458E-AA2A-7761916C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38B-C0FE-4C91-9A58-983B751F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8EC-CD9A-41FC-9D5C-5C07ADF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03B-055C-4C7D-809C-D7999106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6D4-BC24-4ADC-8EC1-0B7D7A33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F383-C04C-41E6-9842-82512604B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Christma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rn Is Daw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When Christmas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could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78 Lutheran Book of Worsh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166212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ttr. to Elisabeth Ehrenborg-Posse, 1856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ns. by Joel W. Lundeen, 1978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n, newborn to s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n, newborn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How kind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us to come to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spise your lowly birth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spise your lowl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e need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b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ares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r love will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keep us to life’s en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Your love will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keep us to life’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50Z</dcterms:modified>
  <cp:revision>78</cp:revision>
  <dc:subject/>
  <dc:title>PowerPoint Presentation</dc:title>
</cp:coreProperties>
</file>