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046-6DD3-4174-AA4A-FDCA4328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E25-FD13-4055-96BB-0E2F932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E6C-BB83-4692-AA43-5785ADF6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62D-7E90-4760-B786-FC48D9F2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EF0-D7E3-49F2-BD44-EAACE72A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78F-14F4-4795-B16B-B8E6E54A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245-D627-4C78-A20A-4CA79907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7DE-74E5-4D7C-BDE3-3B6B3DB7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D94-5B56-4FC8-93B9-5A3AE90B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E3F-156E-485F-9400-193DBDB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336-DF45-413B-A931-BB12E7F4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E06-40CE-4611-BF25-89CC7A7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F4DF-6248-46E2-9C28-F7139BD19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ft High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64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4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400" y="1066680"/>
            <a:ext cx="7421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eorge William Kitchin and Michael Robert Newbolt, 1916,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Christians,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triumphant sig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sts of Go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ity comb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Each newborn serv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Crucif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rs on the brow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l of him who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O Lord, once lif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glorious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thou hast promis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raw the world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So shall our so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 ever b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ucified for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8:50Z</dcterms:modified>
  <cp:revision>22</cp:revision>
  <dc:subject/>
  <dc:title>PowerPoint Presentation</dc:title>
</cp:coreProperties>
</file>