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C756-EA00-460D-BD09-E0AFCD49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6E8D-E56E-4AAE-B194-BB0A3D8A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138B-B641-459F-939D-3CC43F1A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C699-2159-4261-9A8F-DCB0A709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46C7-8A1C-48D3-9505-BE24EAC3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BB6-7DF7-4415-AFC3-B2C59C8A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0AFE-F84C-45A7-8093-CBE86967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FEE9-667A-496E-9B22-1D7910E3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62E8-EE1F-4F1B-9941-DF6CFAED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BD15-1CC8-49F1-B94D-88C60C39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45C7-2BCF-4A2F-AB8F-C490D9DB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D787-1A85-4602-909B-E417C23E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BAD9-415E-4CC6-BD8F-2C9DE14B1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f Death My Frien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d Me Div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057400"/>
            <a:ext cx="89154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. If death my frien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and me divid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thou dost not, Lor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my sorrow chid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or frown my tears to se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Death My Friend and Me Divid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25480" y="1600200"/>
            <a:ext cx="2100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Charles Wesley, 176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5268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estrained from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passionate exces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ou bidst me mour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n calm distres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or them that rest in th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. I feel a stro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immortal hop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which bears my mournful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spirit up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beneath its mountain loa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edeemed from death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grief, and pain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soon shall fin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my friend agai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ithin the arms of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52680"/>
            <a:ext cx="86868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. Pass a few fleet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moments mor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and death the bless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shall restor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which death has snatch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way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1552680"/>
            <a:ext cx="85345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or me thou wil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e summons sen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give me back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my parted frien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that eternal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15:25Z</dcterms:modified>
  <cp:revision>13</cp:revision>
  <dc:subject/>
  <dc:title>PowerPoint Presentation</dc:title>
</cp:coreProperties>
</file>