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5B9-D0BA-4518-8E34-9CDA3217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4C3-E72A-4F4A-8237-A465E713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2B2-75A4-47C0-A06F-D195CE78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ED6-C7DF-493B-B6BE-CF7AB318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CCF-A5F0-4C3F-88B7-AAD873B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4D0-05DB-43F6-A45B-9BC2636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299-910C-42DF-8AEB-E54578C0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371-7579-48C6-A35C-EB607CF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84F-C126-44B0-8B75-6F9DBD0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EDF-0083-478F-A2AB-6EB1E4B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34F-897B-4074-B4AB-C7388FF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3F1-CD1F-4A1E-B613-9BCBE31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76C3-AB8D-48A3-A352-B4607265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4160" y="1116000"/>
            <a:ext cx="377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oland Ford Palmer, 1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rnful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of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y heart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in was t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ous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rewar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 cr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Jesu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e to 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 recor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bl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est chil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est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Lor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o ea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very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s our na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ing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Nazar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il and lab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we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endu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tan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 he gave 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it dr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from her s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th to preach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, and su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on Calv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oyful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of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ne a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rd was bor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56Z</dcterms:modified>
  <cp:revision>28</cp:revision>
  <dc:subject/>
  <dc:title>PowerPoint Presentation</dc:title>
</cp:coreProperties>
</file>