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AE0-054C-4D71-AACA-9EDEBDC8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670-EAD8-4028-B6B0-1480FA85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021-5E17-4223-B3DD-809D7CC6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A87-6A2E-4058-A93A-EB52CF5E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47D-0228-47CB-AE14-FA40AEA4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CAF-7D8A-4A4D-A9C2-CEFA9CD3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973-4D63-4216-8790-B634961D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B3C-04EF-44F7-AAD6-D0F1C8D4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996-C890-4566-B4B1-AB5073B8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9E8-5CE7-4238-8EE5-FACF9FF7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565-5E19-4E48-B4BE-E3155380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46A-4EB7-4F06-AF5C-68930E5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5057-DA88-403E-8CC2-30B6689D5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Creatures of Ou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and King</a:t>
            </a:r>
            <a:br>
              <a:rPr sz="40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ancis of Assisi, ca. 1225; trans. by William H. Draper, 1925, adapt.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ll creatur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and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u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apt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Dear mother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ay by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foldest bless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lowers and fru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n thee g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m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also sh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0574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ll ye who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ende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iving o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your 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who long p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rrow b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 and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cast your ca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09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And thou, our sis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le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iting to hu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atest br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leadest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 our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y has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0574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Let all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Creator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rship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umble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rother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lden bea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ister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ilver glea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, praise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ise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in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brother w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ir, clouds, and r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ich all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sus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rising m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praise rej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lights of eve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 a v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sister wa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ing cl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music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rd t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rother f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lights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viding warm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hancing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18:41Z</dcterms:modified>
  <cp:revision>12</cp:revision>
  <dc:subject/>
  <dc:title>PowerPoint Presentation</dc:title>
</cp:coreProperties>
</file>