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0B5-ECFE-448C-8511-E54213CE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205-56CC-4799-961A-532AD70D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B8B-EF59-41FD-8681-D9E2F228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CD2-E545-4C33-8D47-D213967C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DBD-65E2-4A7C-9377-E10FC649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0ED-D818-4542-9771-1E7E0D3C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059-3A16-4A17-B78E-DC50C628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3C2-3B15-45B8-B0A8-88144EAB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C1D-669D-4D0F-A8A8-162C5E34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5D9-FAE2-405B-9C54-DD783A89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FEE-AD9E-40B9-A0A8-000374E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05B-2667-42DE-BB9D-BEDF1F2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9F57-C586-48F6-A23C-F6FF0E751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at Boy-Child of 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293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9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320" y="1116000"/>
            <a:ext cx="3823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om Colvin, 1969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One with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our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-sent help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Gladly we prais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ourselv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at shall we call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 of the manger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name is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is name is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ever wit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given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w can he sa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can he help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here among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ift of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uman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s him our br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07Z</dcterms:modified>
  <cp:revision>16</cp:revision>
  <dc:subject/>
  <dc:title>PowerPoint Presentation</dc:title>
</cp:coreProperties>
</file>