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9C5-11BC-4BEF-8943-8005848B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76C-2316-46DE-BFF2-3E6870F2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7C1-8083-4BE6-8056-DCBD58A0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7F9-1413-4547-8E55-1110BA49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E15-3EB8-44EB-A2D1-935C3DF2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651-3B33-4147-85AB-CCC48363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495-4C71-4FD9-827F-0A165D70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A79-2777-40F1-B0CC-003CCA5D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2E5-3411-4743-8448-BDB29E2D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525-CB7A-4C20-8CCF-17EE52A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B28-D052-4767-ACA3-487C4CD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274-9C3D-4F31-9405-A6D2BF2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8641-B0F5-4704-87B6-56BCA997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ere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sabbath res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alile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alm of 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7200" y="990720"/>
            <a:ext cx="415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WORDS: John Greenleaf Whittier, 18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ilence of etern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erprete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op thy still de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quiet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all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37Z</dcterms:modified>
  <cp:revision>11</cp:revision>
  <dc:subject/>
  <dc:title>PowerPoint Presentation</dc:title>
</cp:coreProperties>
</file>