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95A-02D9-4088-A43E-BCD70716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2A2-82EC-4524-BBB0-8EADF4F6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0D4-B5E2-4CE0-8E25-1E7232FF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50E-DC78-4104-BBC4-3ABDB32F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B47-A4A1-4F4C-9B7E-C80A00F1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CC8-0D05-4079-AF01-88482370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0D6-98A2-4DB1-952F-50C1048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477-C0DD-47AE-8D54-4DFFCA5F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F64-A485-44BB-AA91-232D20E5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2A5-C97D-49C7-99DC-B179ED72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DDD-5AB8-4C3F-9EC2-A69395C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446-CC6E-41FD-AD13-F19C710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F847-8937-42C9-B6DC-8785C14DA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 the Green Blade Ris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J. M. C. Crum, 1928, al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Now the green blade riseth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buried gr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at that in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ark ear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ny days has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When our heart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re wint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rieving, or in p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’ touch can call 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ack to lif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4114800"/>
            <a:ext cx="830592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ields of our heart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dead a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are have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27672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038480"/>
            <a:ext cx="830592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lives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with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d has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7672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In the grave they laid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who had been sl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inking that he nev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ould awak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886200"/>
            <a:ext cx="830556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aid in the ear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grain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leeps un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20040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Forth he came at East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the risen gr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who for three day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the grave had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91120"/>
            <a:ext cx="830592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ick from the dea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y rise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rd is 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7672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23Z</dcterms:modified>
  <cp:revision>67</cp:revision>
  <dc:subject/>
  <dc:title>PowerPoint Presentation</dc:title>
</cp:coreProperties>
</file>