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CC74-8C1E-4012-98C1-E3F57746D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E9F2-8238-456D-BB23-C856044C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6205-B8E4-4351-8370-7BEB4183B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EC1A-A983-49C6-8F5B-729939A28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6357-C850-4E37-80D2-BC44EC05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BF5B-98B8-4373-89BC-34161ACD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BFBA-68CF-4649-9321-3A7ACF79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04C0-92B0-41B6-8E4A-4058AA4E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8161-F4A4-4278-A6FC-F5329EB4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97EA-50D9-4BA6-B7DC-2FE63250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DCA5-AB34-41E1-B548-464D8D5E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3E58-7EED-418E-B78C-69D573FC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41DB-23CB-47F3-9BBA-87138C9E3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Day of Peac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at Dimly Sh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O day of pe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dimly shin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all our hop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prayers and dream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Day of Peace That Dimly Shin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97400" y="1828800"/>
            <a:ext cx="39646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Carl P. Daw, Jr., 1982 (Is. 11:6-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uide us to justi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uth, and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livered fr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selfish schem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swords of hat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ll from our han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hearts fr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nvy find relea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 by God’s gr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warring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see Christ’s promis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ign of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hen shall the wol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well with the lamb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r shall the fier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vour the sma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Day of Peace That Dimly Shin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beasts and catt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lmly graz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little chi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lead them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n enemies sh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rn to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creatures fi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 true acc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ope of pe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be fulfill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all the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know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9:38Z</dcterms:modified>
  <cp:revision>59</cp:revision>
  <dc:subject/>
  <dc:title>PowerPoint Presentation</dc:title>
</cp:coreProperties>
</file>