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222-3A0C-43CF-AB42-C05EA3D0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C17-1344-48C7-9732-DE88E075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9BC-AFDE-452C-B92B-CCFC9117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26A-FF0D-407C-A132-85C98820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D2F-69CA-4DFC-98E8-7F24DE5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C1D-300F-43ED-97AA-8AE04FAA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713-12EF-4C04-AD45-1EBF1FDF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013-BFE9-4EF6-B890-A5F2468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52C-F0EA-49A1-9A76-02C5CEF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F42-A174-4BEF-884F-86294C15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D57-9453-4AFD-8A91-6F519B9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74B-B1CD-4439-B902-A3B8F16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26EC-D58F-46FE-BDF3-310960FD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of chang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ime and sp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fear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to us 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4 Al Carm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640" y="1143000"/>
            <a:ext cx="331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we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shadows 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great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midst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ing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us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of many colo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ny sig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differ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ing many ki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old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your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st out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reshness of the mo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wness of each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still crea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less 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19Z</dcterms:modified>
  <cp:revision>32</cp:revision>
  <dc:subject/>
  <dc:title>PowerPoint Presentation</dc:title>
</cp:coreProperties>
</file>