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41C-993F-44AA-8F5D-15B30AD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EC3-456F-404C-A767-FAD7FA9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B5E-6F4A-4B8F-9C5B-3E38A00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74A-6EDE-46C4-81E5-703644C1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65B-9460-482A-BE67-F77B93D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0F-DAC7-4383-81DF-C5252655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7D4-FEA1-4E32-AE90-8F53441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FEB-A685-48EB-B441-7ECE069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520-9AD1-462F-ACFF-7A48FFC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F3C-BFFA-4922-B332-FD11C5D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4E1-271E-4D82-9688-30A939C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D2D-EA11-4585-98F0-46080C68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5EDC-AB62-4F02-88E8-7CB6EA15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Watchers and Ye Holy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e watcher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oly on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seraphs, cherub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n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glad st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Athelstan Laurie Riley, 1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out, domin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doms,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rtues, archange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’ choir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high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erub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glorious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erap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their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ear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grac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gnify the Lord: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spond, ye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ndless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patriarc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phets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oly twel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martyrs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saints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friends, in gla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p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hems echo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in O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22Z</dcterms:modified>
  <cp:revision>30</cp:revision>
  <dc:subject/>
  <dc:title>PowerPoint Presentation</dc:title>
</cp:coreProperties>
</file>