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405-5823-460A-92CF-BA8AC54D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511-218C-4510-AAC0-3CEBCD9A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869-EFD3-4E63-9555-0A895F04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E1F-600D-4D66-838B-317FF01E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F1E-7625-4012-AAE7-4079853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929-0319-47BD-A3F3-083BE41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C3D-464B-4567-8327-98AF4F2F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DF9-732F-4859-B769-4931A020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3E0-D8E4-4C0A-A1E7-BF6E8F9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CA8-C35A-4523-8147-56C0E9A6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118-4885-4785-9878-9657A65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C48-1B60-47A5-B547-AE7A7C9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CBF-3119-4641-BAC9-DFE31FAA6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irst One 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5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he first one ever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h, ever to know of th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irth of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as the Maid Mary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as Mary the Maid of Galil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, 1983 Linda Wilberger E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3160" y="1039680"/>
            <a:ext cx="8475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inda Wilberger Egan, 1980, alt. (Lk. 1:26-38, 45; Jn. 4:7-26; Lk. 24:1-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belie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lieves i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 was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id of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first one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ever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essiah,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s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 am he,” wa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maritan wo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rew from the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percei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perceive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as the Samaritan wo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rew from the 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first ones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ever to know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ing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lory to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Mary, Jo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gdal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they who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e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were Mary, Jo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gdale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they 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48Z</dcterms:modified>
  <cp:revision>33</cp:revision>
  <dc:subject/>
  <dc:title>PowerPoint Presentation</dc:title>
</cp:coreProperties>
</file>