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2349-5F8C-4CB3-854D-928307AC8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8CB0-AC63-4D9B-8662-52404230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AB6C-5FDD-49E8-8BE9-51F3E47AD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9156-4F9B-4BE4-BA52-0D869C331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6CEB-2E10-4663-81AF-C00C33E53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FEB6-5E03-45A5-BC65-B4CC1F9C7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E278-92BF-4DA6-94D8-BBF3E86A6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B5B9-5B0B-4F3D-867F-2BAEE44B5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5803-73C4-486C-A9F2-FF68E4462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0925-FC4F-4FF5-8D24-32E5F6D0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14C2-A741-4B53-91E5-D0E0C548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B6F2-0141-414D-9AA0-4ECB9A19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10282-0248-4000-8FA0-5C994A0B6A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e Utter Our C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3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Utter Our C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666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Fred Kaan, 198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90512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1. We utter our cry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at peace may prevai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at earth will survi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faith must not fai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  <a:ea typeface="Arial"/>
              </a:rPr>
              <a:t>© 1984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match all our statement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lofty resol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being, unrest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action involv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Utter Our C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6. Whatever the i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r pressure we f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Lord, hearten and hea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ive insight and grac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think and make pea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each heartbea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breath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hoose Christ before Caesa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life before deat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pray with our lif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the world in our car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people diminish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y doubt and despai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Utter Our C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We cry from the frigh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f our daily scen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or strength to say “No”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all that is mean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esigns bearing chao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xtinction of lif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energy wast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 weapons of d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Utter Our C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3. We lift up our heart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or children unborn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ive wisdom, O G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at we may hand o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eplenished and tend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is good planet Earth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eserving the futu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wonder of bi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Utter Our C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4. Creator of lif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ome, share out, we pr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our Spirit on earth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revealing the Way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leaders conferr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ound tables for pe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they may from bia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guile be releas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Utter Our C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5. Come with us, Lord; lo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n protest and march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help us to fi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ith passion your church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12:44Z</dcterms:modified>
  <cp:revision>149</cp:revision>
  <dc:subject/>
  <dc:title>PowerPoint Presentation</dc:title>
</cp:coreProperties>
</file>