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4155-856B-4DA3-AF03-FD5DA371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5545-CF34-49BC-A490-6E5B77FD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2A53-9AB5-407D-BEEA-D31252B6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2F3-2586-46F7-A916-766EF323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5909-E60E-4A20-8CB3-7334E557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BCEE-4491-4577-BB1C-FA15EE28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6FE6-B85D-453B-893E-1AEE7C37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7402-5358-41F4-A99D-5259ED0B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DCB8-116E-4F6A-B581-4F1A9015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9FF4-E653-4DB4-9EF4-E7B8F643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51A9-B15F-4909-AC1C-F1C8FA8E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72E0-5F9B-4416-B1AC-7A75B61E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6D57-610E-4DD7-995F-32D37EF14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wake, O Sleep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37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Awake, O sleeper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rise from death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and Christ shall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give you light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Augsburg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ke, O Sleep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F. Bland Tucker, 1980 (Rom. 13:11-14; Eph. 4:4-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wake, ari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 forth in fai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hrist sh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ive you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learn his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s length and bread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s fulln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pth, and he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To us on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came to br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sin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ear rel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ke, O Sleep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giv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irit’s unit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very bo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here is one bod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ne hop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Spirit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wake, O Sleep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Lord, one fai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ne baptis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Fath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us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Then walk in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Christ has lov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died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might s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ke, O Sleep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kind and gent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rts forgi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God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rist forg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For us Christ liv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us he di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onque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 str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ke, O Sleep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19:50:43Z</dcterms:modified>
  <cp:revision>22</cp:revision>
  <dc:subject/>
  <dc:title>PowerPoint Presentation</dc:title>
</cp:coreProperties>
</file>