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1AFB-A73D-41AB-90C8-6EAAB75E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50F8-5E31-47F7-9159-4D20AD8A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0EEC-10B7-42ED-9A50-70192C53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BCE4-5621-4B23-8AF3-E11F378C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EB2C-4E9E-4200-99B3-668DCF1B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3E8C-CCEA-4D8D-A9A9-DA82C7E3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EACE-F136-4C3C-A860-84344EDF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20D2-8B21-4CFD-AB5E-A929BE7A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7EBA-2F54-4D8A-98CC-CDFC5D14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593-7C85-40D9-AB80-04D5AA20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6231-F2BA-4988-BAD2-F9131F8C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DAC3-9A43-4E5C-8CCD-B56EFCFF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B152-DB93-44E8-9C79-16D9AE7F2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gels We Hav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eard on Hi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Angels we ha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d on hi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eetly sing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’er the plain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4480" y="1676520"/>
            <a:ext cx="7418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Trad. French carol; trans.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Crown of Jesus,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1862, alt. (Lk 2:6-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See him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anger lai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m the choi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angels pra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ry, Josep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nd your ai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our hea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love we 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9528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 - - - - - ri – a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 - - - - - ri – a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mountai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rep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choing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yous stra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37160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 - - - - - ri – a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 - - - - - ri – a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Shepher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y this jubilee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y your joy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ains prolong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the glads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dings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inspire y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ly song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9528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 - - - - - ri – a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 - - - - - ri – a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Com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thlehem and s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whose bi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angels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ad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bended kn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ewborn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9528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 - - - - - ri – a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 - - - - - ri – a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21:25:18Z</dcterms:modified>
  <cp:revision>13</cp:revision>
  <dc:subject/>
  <dc:title>PowerPoint Presentation</dc:title>
</cp:coreProperties>
</file>