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748-1AAA-409E-B2D5-6B2F28E1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4A0-0C0B-439E-B18A-6327C0EE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E86-AA59-4A1D-8A4B-A84D33B4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775-B703-4A85-BF9C-68AD048F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22E-3992-4C4B-A016-CC9349E0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34D-54EB-4DBE-BA78-05941B3C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FA3-1BD8-4669-BE03-6B23C549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3A5-30D7-4A32-9765-7A00AFC9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030-3DFE-4D6B-BFA7-376C87EC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31B-FD5A-4B7E-AB54-E93202E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C51-BBB6-48BF-8D12-85C40929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F38-4FCD-43D0-B8AB-B9F26B8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A361-26ED-460D-ABD8-49F5B7101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ust as I Am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ithout One Pl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WORDS: Charlotte Elliott, 1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one pl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at thy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shed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thy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e un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broken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rrier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, to b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a, thine al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thou bids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the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aiting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id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ne dark bl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e whose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cleanse each sp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ossed ab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any a conflic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doub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ghtings and f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, with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, wretched, bl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ght, riches,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a, all I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e to f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wilt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t welcome,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, r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5:11:50Z</dcterms:modified>
  <cp:revision>116</cp:revision>
  <dc:subject/>
  <dc:title>PowerPoint Presentation</dc:title>
</cp:coreProperties>
</file>