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E46-4534-4ECB-A611-B863D7C2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C0F-107F-4532-BF7D-986EE6B8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6B7-1832-4E34-9009-3029C3AA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3F0-BDDF-4558-9C41-29A86F83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007-6D75-4589-8464-5246E1E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6C0-186E-4B34-9733-AD6F85D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7CE-EB9E-45F1-A22A-6FA64793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E94-2B1B-4EDB-94D1-C1AE297B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013-7CAE-49AE-AE3B-7DA7712A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F96-C969-40DE-8A74-78835B9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4D2-47D5-41C1-A47F-A6F3DF80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9B8-6DF6-48E6-BAF3-0F571CA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279C-2B20-44CB-895E-5B5F4B2C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 my Fa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no shad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urning with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23, renewed 1951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6680" y="1066680"/>
            <a:ext cx="5930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4:14Z</dcterms:modified>
  <cp:revision>35</cp:revision>
  <dc:subject/>
  <dc:title>PowerPoint Presentation</dc:title>
</cp:coreProperties>
</file>