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C7D-78FF-4D84-993E-BCD8E149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29D-FC29-4479-8386-6FE50A54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4FC-6360-4928-820A-2BC2B9E7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9DB-AAC5-4578-8535-272550BD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DC1-09B9-4BD3-AB27-87AFC128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5F4-0C30-46AE-9B0E-8D82C35B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E4A-46D1-4BF3-AE6F-65CA963B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AFB-B60F-4D0A-8CBE-0A367A19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BF6-B8DE-4DDA-B630-B10A23B8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21D-B0CE-4442-A2E7-9762DED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E85-CDBF-4CD3-8204-1EE7078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A89-ED27-403A-9F65-8B818B3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B910-EECF-46EC-954C-3FD953EA7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the Spiri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uide and Guar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rl P. Daw, Jr. 1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0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and guardi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d-sped fl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vering d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t of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b of mer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ing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trength and wea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may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urch exal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see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steadfas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not overlook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faul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un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sterious be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divided and diver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inds can fath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reeds rehear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u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varied call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ull im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ocla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our ministrie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giv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voice of prophe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gn of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of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ead your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anoin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 them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bold apost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r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vereign,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er, heal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ing serv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 of sinn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e of pr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t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all pasto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and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hepherd’s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them cour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n through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ed an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reat Crea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best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th beyond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t’s re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3:18Z</dcterms:modified>
  <cp:revision>149</cp:revision>
  <dc:subject/>
  <dc:title>PowerPoint Presentation</dc:title>
</cp:coreProperties>
</file>