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C7F-42EF-4CF8-9709-2209B858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863-F51D-47D0-93FE-7DB647CA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6C1-3BC2-4311-A653-4542628A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346-C788-4E45-A1E8-E1BBDE04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2F4-9EC3-40BF-9DC1-62E046A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006-43AC-4F0C-91D5-11C668AF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F27-E511-4267-9A75-72F88CD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2F4-295E-4FFA-9C15-A4EB6CC6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303-9F23-4102-A63F-97CD6518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E7F-95CB-4F70-A4D2-E33F474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B83-2048-4998-9ACB-E839694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665-A18F-4731-AAB5-7A34C5A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3EA0-9E8D-4729-A59F-6AA23D725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07 (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08Z</dcterms:modified>
  <cp:revision>55</cp:revision>
  <dc:subject/>
  <dc:title>PowerPoint Presentation</dc:title>
</cp:coreProperties>
</file>