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49F-5163-44DE-B54E-92E66824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E6A-4EC6-4C32-93CA-7BB44C7B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4E1-512E-442F-9DDA-E4831982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351-0016-4205-A1D1-9A6F5F03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CFF-5EDC-47BE-83AF-ED74CD1A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37C-73E3-4B06-9ACC-81E7D67A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79C-F4CA-4739-B395-46586C1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FFB-6084-4125-A07C-15127B8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13C-9629-4708-A6F5-D867CB09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B2C-718C-40EA-A353-FD42150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D70-8C0E-496B-9C96-6BF9046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8A4-966C-439C-B9C6-BE5F3F5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C1A6-4A65-412E-A8EB-80D2BDE0C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ly City, Seen of Joh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holy c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n of Joh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, doth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0920" y="1143000"/>
            <a:ext cx="49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Walter Russell Bowie, 1909 (Rev. 21:1–22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how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lendor challen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ls that greatly d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, bids us seiz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uild its glory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whose foursqu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ls sha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ight, nor need, nor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re the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wiped from ey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not weep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ark, how from m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lives are he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chea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 merchand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women strugg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e for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little children’s cr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swells the sob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an plai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ids thy wall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shame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st cont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us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ed for ga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treet and sho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ne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ing gold from human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itter lip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lind despair c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Christ hath died in vain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ive us, 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ength to bu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ity that hath sto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o long a dr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laws are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rown is servanth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re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ineth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race for human goo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lready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ity riseth fai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24Z</dcterms:modified>
  <cp:revision>57</cp:revision>
  <dc:subject/>
  <dc:title>PowerPoint Presentation</dc:title>
</cp:coreProperties>
</file>