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01F-8525-4DE9-9865-6F276493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3A6-9FFA-4858-B8E8-B97B23E2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E70-B746-452D-A9AE-239EEE83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B31-DCFC-499D-8FB2-AC5A7A38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81A-E2CA-4A49-AAF9-9E5A1103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F6E-44B6-40CA-B7B7-5098E667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C76-ACAE-436D-AF3E-5B862F4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0AB-3FFB-4816-B71C-C11E6359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DFF-666E-42D6-9AC3-BE5170A1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42D-0027-40FC-9275-4125619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16F-EB66-419B-8B06-B29EE5A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B01-732A-41AC-9DEA-DCBB5A5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C33F-4AAE-48CE-8EBE-B2974255E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e, O Thou Traveler Unkn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1000" y="228600"/>
            <a:ext cx="114300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WORDS: Charles Wesley, 1742 (Gen. 32:24-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O th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aveler un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m still I hol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cannot s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 to my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blessing sp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conquered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instant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me i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me if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’Tis Love! ’tis Lov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diedst fo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hear thy whisp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orning break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hadows fl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e, Univers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ompan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is g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am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eak of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eak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e who I 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mis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self hast cal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by m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 on thy h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ead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ield to me 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I am w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confid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self-desp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0:00Z</dcterms:modified>
  <cp:revision>137</cp:revision>
  <dc:subject/>
  <dc:title>PowerPoint Presentation</dc:title>
</cp:coreProperties>
</file>