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B983-DAB0-43C6-B5C9-68AE87B8F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841F-2D04-4614-B58F-98A21A5E5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E6B7-B598-4912-946E-823A2CC43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46C3-F7DC-448B-BD51-A689CBCAA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15CE-04EC-4B3B-9AA8-233A898DA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2A83-84FB-458C-AEFF-85F93C1BD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A1E3-E6F8-4871-8519-A10D4D012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9E0D-C16F-4DD9-A7A9-C36EE9B63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7EE9-9BEA-4D5E-A6DC-712268300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D53F-0B7C-458C-9AC6-CE3699B1E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F147-4428-412A-B4E6-8F9E5220F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CFC8-51E2-4A14-A9D4-18B91DCAD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BBCA3-633C-4F94-BE75-03E4CAD31D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ome, All of Yo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848720" y="228600"/>
            <a:ext cx="12952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5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All of You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914400"/>
            <a:ext cx="9144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WORDS: Laotian hymn; trans. by Cher Lue Vang, 1987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Rev. 22:17; Mt. 11:28; Jn. 14:27; Is. 55:1-2)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905120"/>
            <a:ext cx="9144000" cy="4690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1. Come, all of you, com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men and women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come forwar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drink of the wate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provided for you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  <a:ea typeface="Arial"/>
              </a:rPr>
              <a:t>Trans. © 1989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ll of you who are thirsty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come to me to drink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from the water of lif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provided by Jesu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your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All of You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2. Come, all of you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come, bearers of burden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come forwar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I will give you rest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don’t wait for long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ll of you who are weary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come to me, the Chris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Jesus the Lord of all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he Savior, King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of humanki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All of You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3. Come, all of you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come, trouble-minde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come forwar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I will give you peac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he peaceful min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ll of you who are hungry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come to me, receiv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bread and the water of lif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provided by Jesu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your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All of You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4. Come, all of you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come, hungry and poo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come forwar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buy your milk an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wine without money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come for fre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bring no penny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come to me, receive th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bread and the water of lif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provided by Jesu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your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19T21:04:00Z</dcterms:modified>
  <cp:revision>109</cp:revision>
  <dc:subject/>
  <dc:title>PowerPoint Presentation</dc:title>
</cp:coreProperties>
</file>