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590-A307-4CD2-B4E6-FCC06BDF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C8B-9894-4555-8619-C87B959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C02-1A94-4C7B-B749-F25BE652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F1F-050B-466C-9F1D-F2BDB196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D72-3BEE-4692-9209-2F74D656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AD1-EF77-463B-B240-A9F69FDB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95C-B0E4-4C39-BF1D-652AF85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499-CBCF-45D2-A233-7D047E4B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E83-0610-4CE1-BFD1-2EDB3B7A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3E2-6292-456D-96E0-0005A18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46E-8932-4C9D-B7FE-84CF4884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819-400A-4E42-8895-F987630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5AF-A513-46DB-994B-00E5250A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ke Me a Captiv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ke me a captiv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I shall be fr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ce me to r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my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hall conquero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1063800"/>
            <a:ext cx="4028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orge Matheson, 1890 (Eph. 3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ink in life’s ala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by myself I sta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riso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ine ar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ong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y heart is weak and po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it master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has no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ction 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varies with the w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cannot freely 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its ch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slave it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tchles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less it sha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y power is faint and 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have learned to ser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lacks th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to g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lacks the breeze to ner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cannot drive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itself be dr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flag can only be unfur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ou sha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 will is not my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ou hast made it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t would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onarch’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must its crown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only stands unb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id the clashing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on thy bos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has le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und in thee it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46Z</dcterms:modified>
  <cp:revision>12</cp:revision>
  <dc:subject/>
  <dc:title>PowerPoint Presentation</dc:title>
</cp:coreProperties>
</file>