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C1B-E99D-4E5E-BFFD-A96C46FA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785-DB57-419B-946D-43DAFA4A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F90-E5B5-48D8-A9C9-BDB6C016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431-507C-4B2A-8E93-99D91BAA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6D4-AA72-4395-88F9-33853733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979-924C-4669-82A3-DA4725B7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73D-CCBB-4A98-BAFB-E44CF870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736-5ACD-42F2-8BC1-9E58DE5A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AE8-DFFB-45A8-BC25-493511D0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312-C907-4835-9C0B-6CECF35C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0CA-BB6F-4AED-886F-53A3081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04B-EC4C-4C02-BE5A-A7A1337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5196-8B86-4D55-916B-43044603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ar Lord, Lead M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ay by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ancisca Asuncion,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Dear Lord, lead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ke me steadf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se and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up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I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er c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ympath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ppy mos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my dea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Dear Lord, lead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ke me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be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s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Now with confid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ous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our G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48:17Z</dcterms:modified>
  <cp:revision>136</cp:revision>
  <dc:subject/>
  <dc:title>PowerPoint Presentation</dc:title>
</cp:coreProperties>
</file>