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553F-5709-4F9B-A9ED-455ED238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8906-BBC6-49DD-8EB1-546522D4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D048-A6CE-4877-86C7-10A79AFC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E3CD-8E5E-4368-9F21-C17B36D7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7FB0-E66A-458D-822F-3384E5A4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9488-31E2-4209-A187-9F9D33FF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0E23-DB61-4458-9BF7-BAAE6C70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3752-AFE9-4319-A7B4-4D9F6182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09E4-4E2B-474B-A3EA-FDBE0821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75E-5B94-47E6-A293-A30A1981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C1FA-6452-4DB2-8AFE-1BC75588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4EAC-224C-41A9-B096-3C2E4EC1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6785-BD49-42F0-A425-7E7F6244F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Sing the Almight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ower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I sing the almigh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ower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made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ountains ri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the Almighty Power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64600" y="1523880"/>
            <a:ext cx="3216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ORDS: Isaac Watts, 17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louds ar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empests bl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y ord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y thr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ile all that borrow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e from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s 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thy c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everyw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we can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ou,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rt presen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spread the flow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as abro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built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fty sk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sing the wisd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ordain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sun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ule the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moon shines fu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t God’s comm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all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ars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I sing the good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filled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arth with fo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the Almighty Power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formed the creatur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 the W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onounced them g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how thy wond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re display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ere’er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urn my ey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40384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f I surv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ground I tr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r gaze upon the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There’s not a pl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r flower bel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ut makes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lories kn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the Almighty Power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9:47:06Z</dcterms:modified>
  <cp:revision>14</cp:revision>
  <dc:subject/>
  <dc:title>PowerPoint Presentation</dc:title>
</cp:coreProperties>
</file>