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1DD-B504-4A5F-801C-D063E705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F2D-4EF0-4A9F-93C3-4D77D58A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152-6D25-4101-81A7-50209956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BEF-E9DF-44B2-BB52-B3141515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40D-DF5F-4E9D-A6A4-BA229928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818-96CC-40A2-A2D4-456BC4EB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62E-5291-415E-9A93-3CABE2A9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76B-ABF9-4430-B106-ED99DCB7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9F3-147C-4201-A628-13307AF0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141-33EB-4350-9BEE-CCDF964C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F52-A62D-4F2A-9DDC-1B052DF7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01D-83C9-4E89-A00A-6F6716B1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1FBF-75E9-4DD1-89A3-4BF544F28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Charit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Love Prev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49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re charity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prev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God is ever found;</a:t>
            </a:r>
            <a:br>
              <a:rPr sz="49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© 1961 World Library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9th cent. Latin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by Omer Westendorf, 1961 (1 Jn. 4: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ught here toge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Christ’s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love are we thus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ith grateful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ly f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charity we lear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with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ind and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love Christ in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orgive we 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’s faul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our faults conf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u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w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hristian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et strife among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un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contention ceas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Christ the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see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ours his ho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Let us re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 our mid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s God’s begotten S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member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body joi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in him mad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ove can exclu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race or cr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honored be God’s na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mbrace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se Maker i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7:41Z</dcterms:modified>
  <cp:revision>21</cp:revision>
  <dc:subject/>
  <dc:title>PowerPoint Presentation</dc:title>
</cp:coreProperties>
</file>