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DDEE-7692-431D-B071-2C5DCAD9B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9723-C69A-45BD-9BAA-DCED41447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5F6E-5E9D-499B-8C6E-30FC72AE9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5833-C0F4-4D75-ACB6-3CB49337F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3F7D-FD4D-4164-9FE7-4524DA970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A26E-085C-4ABB-AF6A-A788D37F8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43A4-EC78-4C2B-9127-AB70242A9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E12E-206B-445E-866C-41509FD7E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7BD8-1CAE-4F4D-8E38-C65059A16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47B4-EB1B-457B-A3B2-2ED9C2C4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9623-5F3A-4E18-91E2-C8C8E2B1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386D-8212-4D0E-AD15-47471C530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3B59B-B27E-4076-8C73-3054C6A27B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Voice of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od Is Call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3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Voice of God is Call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52388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John Haynes Holmes, 1913 (Is. 6: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4382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1. The voice of God is call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ts summons in our day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saiah heard in Zio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we now hear God say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om shall I send to succo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people in their need?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om shall I send to loos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bonds of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hame and gree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Voice of God is Call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2. “I hear my people cry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n slum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ine and mill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no field or mart is silen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no city street is sti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see my people fall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darkness and despair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om shall I se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shatt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fetter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ich they bear?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Voice of God is Call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3. We heed, O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your summon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answer: Here are we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end us upon your erran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let us your servants b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ur strength i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ust and ashe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ur years a passing hour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ut you ca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use our weakne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magnify your pow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Voice of God is Call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4. From ease and plent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ave us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from pride of place absolv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purge us of low desir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lift us to high resol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ake us,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ake us holy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each us your will and way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peak, and behold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answer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ommand, and we obe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8:55:25Z</dcterms:modified>
  <cp:revision>145</cp:revision>
  <dc:subject/>
  <dc:title>PowerPoint Presentation</dc:title>
</cp:coreProperties>
</file>