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A0F5-A056-4DE4-ADC9-F88F9ED2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EBDE-132B-4C63-845E-7D3871D9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DD56-9219-46D4-95C5-71B9ABAE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B9AA-7A60-4E00-BD16-D5E309BFB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D8D1-9993-4A9E-8A81-D534DA03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E05C-8576-47E9-B6AA-D68ED5A8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5EE1-E263-4D6F-BE4E-E211A97E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E01B-A201-4AAA-B9C2-9BBE72A5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8218-7A8E-4434-A9D0-AEEBA18B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3A2F-B7D0-4C96-BEF7-BC675691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DF47-03EB-439A-ADD3-8F07A75D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C397-CCD4-4FFB-8F4A-5DB1B154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ADB2-76D7-447B-8618-B171A51E2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en the Church of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9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64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hen the church of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uts its outer do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st the roar of traffic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own the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oice of pray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6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Church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Fred Pratt Green, 1968 (Jas. 2:14-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our prayers,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n times more aw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the world we banis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our Christian c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If our hearts are lift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 devotion soa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gh above this hung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ffering world of our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Church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st our hymns shou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ug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forget its nee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ge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ian worshi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to Christian dee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Lest the gifts we off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ney, talents, ti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rve to sal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conscien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our secret sha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Church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reprove, inspire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the way you giv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ach us, dying Savi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true Christians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6:15Z</dcterms:modified>
  <cp:revision>96</cp:revision>
  <dc:subject/>
  <dc:title>PowerPoint Presentation</dc:title>
</cp:coreProperties>
</file>