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509-A439-4EE2-8F1E-4C050C39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839-3907-4318-8449-28EA3DF7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8F1-9398-45FE-B9FC-EE7EF76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F12-F0ED-47F4-9E02-2FBB6D19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186-1B91-48B3-B390-3C680292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706-D520-449E-BB50-F90A36E6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CFE-D12A-4DCB-BB11-1F046CB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C35-EF68-49A2-A40B-2AEAA16E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02E-DCBA-40AE-BFAF-8D8F11EA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CEF-80A7-485E-BD9E-8B9E4E8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5E9-5274-494F-9C08-B4EB5D4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E63-1CA7-4DE0-8958-E66B772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4A1-CB35-4420-B6F9-7F4D651DB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7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, Holy, Holy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God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eginald Heber, 1826 (Rev. 4:8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God Almigh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y in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ng shall ris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iful and 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three pers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ri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saint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sting down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en cr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the glassy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ing down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rt, and ar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sha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the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inful 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 may not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thou art ho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none bes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fect in power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pu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God Almigh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y work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y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rth and sky an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iful and 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three pers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ri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6:44:16Z</dcterms:modified>
  <cp:revision>14</cp:revision>
  <dc:subject/>
  <dc:title>PowerPoint Presentation</dc:title>
</cp:coreProperties>
</file>