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FB5-5211-4637-A33B-A95951BD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2D7-7625-4184-9AC2-B7C5E82B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4B0-3CC1-40A3-99F6-C65CC17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646-D6B6-4930-B045-1BCFE3EF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FA5-D2B3-4AF9-B412-32E3F5B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BFD-2171-4BFA-B8B7-DC909B44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AA7-BEE6-44AC-96EA-72A11F2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2DF-72CF-4497-8766-D925F26A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6AA-08AF-4B21-9A92-25A9E00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ABE-A8E5-4255-9C55-1A13F27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228-6D8A-4C1E-B2F9-2E8C0B96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4E6-E1FB-4A56-A1DF-83BC474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0C56-819C-4852-B0F4-AB63BB513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ion/Palm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44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sent your Son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ur Savior 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suffer death on the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8, 1989 Augsburg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on/Palm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1520" y="1066680"/>
            <a:ext cx="753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; alt. by Laurence Hull Stookey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e may shar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is obedience to your wil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in the glorious vict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is resurrec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lives and reig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now and e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15Z</dcterms:modified>
  <cp:revision>16</cp:revision>
  <dc:subject/>
  <dc:title>PowerPoint Presentation</dc:title>
</cp:coreProperties>
</file>