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405-D126-4271-A92C-7EF565EC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7F3-A71A-4D5F-921A-16954BBC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C46-B4EE-4DF6-B3BF-E4C26BE2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F57-BABC-4E1C-B3DD-6C20A314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CE9-EA77-453C-8D4F-5352FCD8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ADA-51DA-4AF5-A1AD-555172BC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F27-7011-4057-BFC1-2328D9E2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9CC-6506-4262-894B-DD1E2346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1C4-FA84-4BB3-A74A-70AF21CD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CC8-03B7-404B-8EB2-E61B85A3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0F3-C029-4219-AE57-034091C1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AC1-4057-4568-BA22-1AE2DE5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16F8-E678-4CB3-BDE5-30F842574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Gu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828800"/>
            <a:ext cx="8686800" cy="431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just as we look into a mirro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o see any soiled spo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on our f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42 Harper &amp; Row, Publisher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u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8600" y="987480"/>
            <a:ext cx="1666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ore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o let us look to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n order to understand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hings we have done ami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e are like a reed shake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n the win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we are inexpressibly weak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Leave us not to ourselve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but to dwell in out hear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and guide our though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and actions.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8:52:58Z</dcterms:modified>
  <cp:revision>11</cp:revision>
  <dc:subject/>
  <dc:title>PowerPoint Presentation</dc:title>
</cp:coreProperties>
</file>