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ADD-BC09-43FC-8B5D-DC4E431F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418-4E89-467A-B272-53B10DBB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639-C7FB-44B2-8358-ED44F527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F39-2403-4F4D-9E62-74AE156E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019-7346-4B79-9834-C5C9E27E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597-788C-4193-90C3-02B957D3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358-2714-4408-B188-5AB5A47D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F2D-3F9D-4087-8301-DD3E8BAE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3F1-1C28-4E21-AFD9-8B47837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C90-1A72-4450-922C-65763A6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FB4-C9EA-4F1C-A02D-06507EF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167-D1EF-4C7B-94B7-B081F3A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EA78-2202-4E48-9371-550AC03A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737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1. God of many nam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ving, endlessly be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4880" y="1092240"/>
            <a:ext cx="324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f many nam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fully we sing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your prais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ving, endlessly becom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f hovering wing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omb and birth of tim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every peop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2. God of Jewish fait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exodus and la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 of Miriam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Mos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f Jesus Chris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rabbi of the poor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rucifie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ive fore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3. God of wounded hand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eb and loom of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arpenter of new cre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59:23Z</dcterms:modified>
  <cp:revision>23</cp:revision>
  <dc:subject/>
  <dc:title>PowerPoint Presentation</dc:title>
</cp:coreProperties>
</file>