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C16-474D-42EC-9BD2-81846325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90A-9CAA-464B-B71B-57C25AD4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C41-1258-4533-8D4E-C8C2AB6E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184-C129-4295-BA60-4E8EE9DE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BE5-661D-4DA3-9B27-8E89820D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C0D-DAD6-4B5B-B3F3-686EC364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F60-9232-4501-B43A-E51C3AA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F19-59CB-41E6-9560-EF604BCF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EC5-8A4A-4C68-B894-17CC129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89C-44CE-4B4B-BD4C-0F2C203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8BD-8254-49D5-BFFF-B6572EEB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76B-F4DC-4C46-A26C-423B7A82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4F4-EFFB-47DC-8B71-00BE36D4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Like a Gentl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like a gen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deep with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reins our ferv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sions day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8520" y="1066680"/>
            <a:ext cx="36082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C. Eric Lincoln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God 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ansc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yle and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e id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tions we purs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s us strength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llenge and to w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pite the peri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et God b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ver life may b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very tongue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ness to the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humankind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by God’s decr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God be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God be Go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like a m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gle hovers n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mighty wing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manif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like a gen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pherd stills our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fort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a peaceful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in our v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tensions we consp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pe God’s ima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see our 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k to the vo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our base desi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the sculpt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he broken st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rough all our fret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aims of sex and 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nivers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of God shines throug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55:00Z</dcterms:modified>
  <cp:revision>33</cp:revision>
  <dc:subject/>
  <dc:title>PowerPoint Presentation</dc:title>
</cp:coreProperties>
</file>