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262-9B2B-4BE3-9AAC-67A314B0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2F3-A74C-43D3-BC3E-1A740854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B6D-4DE8-4E51-9204-305AAA47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D0A-1A02-4CFC-9889-C9C43D51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B10-631C-47AD-9703-E0607930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57C-3117-4360-9DAC-DB90F11A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D48-7E43-49E3-B100-2177A924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A2E-A8D9-4063-8570-A1A191FF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6B4-2FD1-4095-B74A-41AF0A94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9D4-8586-4202-A791-87C3FBEA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EDC0-5B7E-4B27-9153-65C1AC10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953-E700-4880-8BD7-5C1BD691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2665-394D-4E95-8596-E98FA7AF9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, Who Throughou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se Forty D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ord, who througho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se forty d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did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st and pr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1040" y="1573200"/>
            <a:ext cx="7634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laudia F. Hernaman, 1873 (Mt. 4:1-11; Mk. 1:12-13; Lk. 4:1-13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 Easter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ending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may att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ach us with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mourn our s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lose b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e to st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s thou with Sat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dst conte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id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ctory w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ive us streng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e to f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quer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s thou did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nger bear, and thir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teach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ious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die to self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iefly l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st hol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nd through these d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penit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assiontide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a, ever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ife and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Abide with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life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ffering over p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1:04Z</dcterms:modified>
  <cp:revision>25</cp:revision>
  <dc:subject/>
  <dc:title>PowerPoint Presentation</dc:title>
</cp:coreProperties>
</file>