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CC6-2886-497D-943A-A8899A02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419-7100-4FEC-885D-5E8241E4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685-96AD-43AB-8A01-30AEEA66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1B1-F649-490A-8D67-731B5401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A03-4D6B-4B04-A379-3E61D82A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083-9917-4A89-879B-1E5D46FE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95D-5C68-46DE-B282-070B854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58B-2B8B-461D-A75E-146ADA87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692-2520-4053-86D0-CAC29497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6F7-79D1-4C9E-8D59-CB62F6A0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4AC-68D5-40BE-AF36-A2C00E6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2BD-EE2D-4627-88CD-30E2DEC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3020-BDDB-4F82-9871-29B41EB02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Is Ri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, 1984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hout Hosann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elebrate t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ay of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new crea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re the world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 still in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 its gr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monic chorus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et you gon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 the Fir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Last is with us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ing Hosanna every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86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ush in wonde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amaz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the deser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surround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, a spread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ree has g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aling lea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grace abound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ring a taste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aise your spiri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cavern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with glad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the morn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 what love ca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o and d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rink the wi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resurrect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t a servan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a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is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trong companio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oy and pe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hall never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nevermore shall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be the sa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5:09:03Z</dcterms:modified>
  <cp:revision>63</cp:revision>
  <dc:subject/>
  <dc:title>PowerPoint Presentation</dc:title>
</cp:coreProperties>
</file>