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6B7-3AEC-455B-8524-217E1B9D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901-9609-4BAC-B998-8F729384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ECD-8AB0-4EB3-A583-4A0AF28A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097-BD88-40DD-8FC3-DDCCAFC9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49E-B1CD-4450-9CA5-571AA9E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D6A-6276-47C5-B717-D6513EDC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086-10A2-42B1-9274-47E2515E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D7B-6D15-491E-8A5C-DD92FB8A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7FB-7C8E-4D63-A6E9-628C0D91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108-6B2B-4FC7-9996-0B7B949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500-37F4-468C-8D43-2E7ECE9B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954-D9B7-435C-8F7E-FE7C5601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8C00-6859-49C6-924F-75C4DA13B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ild So Lovel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o Lind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49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562040"/>
            <a:ext cx="6334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Venezuelan; trans.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tender ba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child, 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sweet belo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sweet belov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child, 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30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9528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a vida, bien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193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0:30Z</dcterms:modified>
  <cp:revision>69</cp:revision>
  <dc:subject/>
  <dc:title>PowerPoint Presentation</dc:title>
</cp:coreProperties>
</file>