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5AA2-377D-46A2-847D-75B310FB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B3A-8413-4D4A-8017-9AD50E91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03A-DDA5-4E65-ADB2-1D48C967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7B2-4FF4-42C8-937C-411B3C15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A1E-C599-49F1-A5A1-3A5D8C07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AF12-7CCB-4988-99B8-B78FB1DD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03E6-0B99-4D34-93E6-79DFA565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7D7-9231-4477-AB9D-6D6F27F3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2C3-EFB2-41AE-ACC7-6E55D572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EEB-C8AC-4018-810E-F9616DC0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FE9-13B5-40BF-99D6-5DD2B308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03CD-7EF7-431A-9684-92961138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7341-2DFD-458E-B6BD-99EA66246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Let Us 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59040"/>
            <a:ext cx="9144000" cy="439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let us ea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now the feast is sp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. 4 © 1972 Contemporary Worship 4: Hymns for Baptism and Communion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. sts. 1-3 by permission of Lutheran World Fe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Sts. 1-3.  Billema Kwillia, 1970; trans. by Margaret D. Miller;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t. 4, Gilbert E. Doan, 1972; alt. (1 Cor. 5:7-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let us ea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now the feast is sp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9072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ord’s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take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ord’s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take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6212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ome, let us drin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now the wine is pou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let us drin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now the wine is pou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6668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’ blood pou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drink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’ blood pou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drink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6212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n his pre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we meet and re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pre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we meet and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83808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pre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Lord we g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pre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Lord we g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83808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Rise, then, to sp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road God’s might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se, then, to sp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road God’s might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83808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ris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l bring in the kingd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ris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l bring in the kingd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29:24Z</dcterms:modified>
  <cp:revision>128</cp:revision>
  <dc:subject/>
  <dc:title>PowerPoint Presentation</dc:title>
</cp:coreProperties>
</file>