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429-36B1-4195-90FB-ABA23755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36F-BA7E-4C20-B56B-C18825E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5E3-1A82-4659-AA1B-9828A82D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CC9-074A-461D-9ACF-7C25E30E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DC6-1B69-4EC7-9D7B-E0282CB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27D-D2E3-41C0-983D-9ECC6148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165-88B8-4426-8960-0C5A7A7E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41F-2DB6-4087-89C8-F9FFE2D4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7A9-430C-40B3-84BB-33C4DDB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BCF-7EC6-4218-8D31-50D0635E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6EB-441A-4E58-802D-47147768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214-D697-4FF4-A8E0-0BE240E7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7BB-7E12-4F81-88E1-CE52E8FA9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rucified Redee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crucified Redeem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se life-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sp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 by permission of Community of Resurrection, Mirfield, 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8040" y="990720"/>
            <a:ext cx="2773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imothy Rees, 19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anguish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million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break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umb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rucified Redeem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se are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i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may they br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elfish hear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co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 we ra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guilty h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wn our gu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day we se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passio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ead ope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ur g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owded str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ountry ro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Calvary displ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 hear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 of anguis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outpour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battlefiel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un red with bl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neighbors’ bl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ther batt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ight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ily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might is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elf is 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rn-crowned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groa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re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rung out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in and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23Z</dcterms:modified>
  <cp:revision>16</cp:revision>
  <dc:subject/>
  <dc:title>PowerPoint Presentation</dc:title>
</cp:coreProperties>
</file>