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2D2-4289-4540-9E54-78EE5E4E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0F4-6F1C-40F3-8DA5-1CF2D4C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FCC-786C-4235-9F31-D0EAF0FF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9FA-4446-4255-895D-D69164D3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3EB-90C1-480E-8700-561AD0F0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F32-C67A-40CA-A439-CC8D9BC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177-B9A3-471C-A1FC-673BC11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844-79E4-4CD7-900A-6D14881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545-5321-4183-B9ED-F0BC212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F39-B368-4F3F-9042-E4BCADC6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A62-E9AE-458B-A3EC-8062A26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227-AD03-42B4-9D6D-84B1DB0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98E-DCFD-4D5D-A3F2-DD38479A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519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7880" y="990720"/>
            <a:ext cx="3749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m Colvin, 1969 (Jn. 13:1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Kneel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of our frie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lently was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Kneels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of his frie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lently was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 who ac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slave to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ch and po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ack and whi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and far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se are the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ser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are the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se ar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a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ving put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kne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ing as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sla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7:13Z</dcterms:modified>
  <cp:revision>21</cp:revision>
  <dc:subject/>
  <dc:title>PowerPoint Presentation</dc:title>
</cp:coreProperties>
</file>