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5B5-AA21-4F44-A27E-816CD0F0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3B3-3A9B-4B73-9932-E51A7C33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064-584B-487F-BCD5-D5FDDDB6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92D-A9A5-4DFB-A435-C31422DD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964-A15D-404F-9DA1-309B195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F25-3217-48BE-B3EC-0D5A378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5C7-0C9D-4137-AAF2-69317204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E7F-2E65-4EA6-8CC6-DD0FAE39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941-9FDB-47EE-A2B0-687F2BA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8C8-3732-4D0F-9578-A28D3B3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AED-8AC3-4789-9283-8931AD3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A41-F8E6-4C58-AB6B-ADC08B4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2CE4-C7AD-44C4-8EFE-721629A7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n we wal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light of his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a glory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ds on our 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9360" y="1139760"/>
            <a:ext cx="3922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John H. Sammis, 1887 (1 Jn. 1: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n in fellowship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sit at his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we’ll walk by his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6560" y="1863720"/>
            <a:ext cx="732816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he says we will d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e sends we will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 fear, on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t a burden we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sorrow we sh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ur toil he d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chly rep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4320" y="1863720"/>
            <a:ext cx="6253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grief or a l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frown or a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is blest if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ut we never can pr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elights of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all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tar we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5800" y="1863720"/>
            <a:ext cx="63421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favor he sh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joy he best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for them who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18Z</dcterms:modified>
  <cp:revision>9</cp:revision>
  <dc:subject/>
  <dc:title>PowerPoint Presentation</dc:title>
</cp:coreProperties>
</file>