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027-CF41-46A6-8902-2BE2A228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4EE-1940-4E1D-B82E-73DFCC16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73F-B329-4722-83CF-0CCF4046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F75-E709-4404-8DD5-51FB0E31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49D-BC8B-4571-AF06-FCB5DC99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3C1-3F2D-4131-A59D-067E8F33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034-133C-4274-8146-4869A23F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442-10F6-4B30-84FA-D476033F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1EA-C069-486F-ACA4-B45BF8B6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4BB-896F-48CB-AEF6-0B165DAA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614-7C37-4AFF-9A88-3D0FBA61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376-AE7D-426A-931C-8448359E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10A0-D96C-4EDE-A7DC-BA181AC08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l Est N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He Is Bor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93240" y="1523880"/>
            <a:ext cx="536076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rad. 19th cent. French carol; trans. anon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051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uez hautbo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sonnez musett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antons tous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v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nemen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Jesus,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ing as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among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ant to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y heaven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uez hautbo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sonnez musett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antons tous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v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nemen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2193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antons tous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v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nemen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Through long ag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phets have foret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long ag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the ti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 come at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uez hautbo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sonnez musett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antons tous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v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nemen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O how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p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this perfec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of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p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acious gif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umank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uez hautbo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sonnez musett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5:27Z</dcterms:modified>
  <cp:revision>75</cp:revision>
  <dc:subject/>
  <dc:title>PowerPoint Presentation</dc:title>
</cp:coreProperties>
</file>