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5AF-C457-4644-AF5D-C380D493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4F7-CFD3-48D5-99F0-9D65944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19A-98E9-4236-B20E-438125F8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439-2A2C-4EA4-B2E9-A6BE9102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FED-1625-4820-8763-2C312F5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FA7-CEDB-4A97-BA87-9593F3F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975-5CBB-41C5-BE8E-2E7B6D1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4F1-59E1-4DE3-970A-0BC57FF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42F-AEDC-4FB0-BB11-884F2291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177-7A50-4E1D-B30E-64AF966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9A6-44F4-4434-A4E1-28502F6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95C-C415-4242-8545-B28C702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361-3DF2-4AB8-8073-85BFFA1B3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da la Tierra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All Earth Is Wa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2 Alberto Taulè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3560" y="1585800"/>
            <a:ext cx="60253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talonian text by Alberto Tau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53Z</dcterms:modified>
  <cp:revision>58</cp:revision>
  <dc:subject/>
  <dc:title>PowerPoint Presentation</dc:title>
</cp:coreProperties>
</file>