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08C-AB48-410E-AE80-A25FDBB9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005-827D-40A4-B28C-CA1A8BE5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8D3D-7041-4103-9F77-5FB529BE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835-F663-439A-8186-29535AB4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F63B-A7BF-4CCF-8DC6-BC563075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D363-1DA7-43DC-A5C0-695F30DB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A33-EE81-4B89-BB01-434B740B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19C-F8CE-4088-883F-D4AD8F58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675-9AF5-4A9F-A248-3DD38E10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533-BC4D-403A-8CED-72A78C83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80E-3572-4B78-BE2F-B7F78F44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C72-6A70-47CA-AE5F-78BF97E3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9B35-F3B3-414A-8981-14AF444A6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More Love to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hee, O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ove to Thee, O Chri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Elizabeth P. Prentiss, 18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More love to thee, O Chri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re love to the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ar thou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ayer I mak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bended kn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rnest plea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e love, O Chri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e love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e love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ove to Thee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Once earthly joy I crav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ought peace and res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thee alone I seek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ive what is b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is all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ayer shall b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re love, O Chri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re love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re love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ove to Thee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Let sorrow do its wor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grief and pai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weet are thy messenge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weet their refr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y c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g with m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e love, O Chri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e love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e love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ove to Thee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Then shall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atest brea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isper thy prais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is b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arting c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heart shall ra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still i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yer shall b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e love, O Chri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e love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e love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9:58Z</dcterms:modified>
  <cp:revision>152</cp:revision>
  <dc:subject/>
  <dc:title>PowerPoint Presentation</dc:title>
</cp:coreProperties>
</file>