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A0F-17EE-4583-BC58-E6013619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D7C-88A6-464D-9DE3-EE35B051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3DA-CC3E-4FCA-8092-834F88D7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168-AE2B-4348-AFA5-5A105360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D32-5C8C-45B8-A663-C62F5F0E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D9C-B99A-4347-9110-4705D1E7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7EE0-807F-4AA4-B327-1FF1F6BD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AEE-5F00-4C07-A139-D757BA81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5E1-7F7C-4A4C-907F-4EDF63E8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31E-8C12-4F15-AECA-E4C7B390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9AE-CAD2-40D8-84E8-F87BE5FE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603-BCD1-46D1-BC66-A2A70AA0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ED41-989F-4843-ABCC-005B0C07E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Are We Yet A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And are we yet aliv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see each other’s face?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Glory and thank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o Jesus giv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for his almighty grace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Preserved by power div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full salvation he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gain in Jesus’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e we jo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his sight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at troubl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ve we se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mighty conflicts pa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ghtings withou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ears with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ce we assembled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Yet out of all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th brought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his l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ill he do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help aff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ides our lif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Then let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our boa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his redeeming p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saves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uttermo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we can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Let us take up the 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we the crown obt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ladly reck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ings l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we may Jesus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9:53:21Z</dcterms:modified>
  <cp:revision>58</cp:revision>
  <dc:subject/>
  <dc:title>PowerPoint Presentation</dc:title>
</cp:coreProperties>
</file>