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38B-10FF-47DE-9C93-9DA4F58E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684-E225-4A41-9316-2BEBE85B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848-6B3F-4CE9-B96D-4229C048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34F-5C66-42C6-8213-0DC2B118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A63-7EAC-402A-BAC7-87F26939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F46-A400-4791-ACDA-52D7D974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92A-4174-4244-B2EC-854B2E80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51B-71D8-46D3-BD97-AC2ECE7F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398-BB0B-4026-8898-F010E325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E41-E3A1-4A67-B5A6-3CE42595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2894-11AE-45DC-8DF8-699805B7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5B7-5149-4872-9C72-A2253598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B58A-676A-497B-92AF-732D2A466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 Has Venido a la Orilla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ord, You Have Come to the Lakesh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4792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esareo Gabara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n; trans. by Gertrude C. Suppe, George Lockwood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Raquel Gutiérrez-Achon, 1987 (Mt. 4:18-22; Mk. 1:16-20; Lk. 5:1-1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1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1. Tú has venido a la orilla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no has buscad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ni a sabios ni a ricos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an sólo quieres que yo te sig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© 1979 Ediciones Paulinas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87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4. Tú, pescador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e otros mares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nsia eterna de alma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que espera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migo bueno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que así me llam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Lord, you h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to the lakesho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oking nei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wealthy nor wise one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only asked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follow humb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 with your eye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You know so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ell my possession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boat carr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gold and no weapon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will find t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nets and lab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 with your eye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You need my han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ull of ca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my la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give others r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constant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keeps on lo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 with your eye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You, who h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shed other ocea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ver longed for b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ouls who are wait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loving frie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s thus you call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 with your eye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87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Tú sabes bi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 que tengo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mi barc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hay oro ni espada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an sólo red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mi trabaj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52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ú necesitas mis mano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e cansanci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que a otros descan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mor que quier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guir aman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1:42Z</dcterms:modified>
  <cp:revision>102</cp:revision>
  <dc:subject/>
  <dc:title>PowerPoint Presentation</dc:title>
</cp:coreProperties>
</file>