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F7FA-5950-4108-8779-F9134CCE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F96-D55E-419F-9353-97E7D72E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9F58-D28E-442B-B5AE-945A0937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EAD-63A0-4F47-AFCD-2E73E92B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333-701B-42F2-A178-00CCCA57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549-BAD9-455A-8134-B08065EF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D946-8685-47C2-B65A-AF657984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7D3-B20E-461A-A426-837C5B1F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568-7FDE-4A51-9DEA-29E9A7AB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B572-34A6-4DA4-A9B2-09A9220F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28C-A81A-42F0-8074-CFD892C4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DE0-CAF3-4188-9086-E85F12A6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CC4F-4D3A-43F6-83A1-962B5BE7C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piph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828800"/>
            <a:ext cx="8839080" cy="463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made of one blood all nation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, by a star in the Eas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revealed to all people him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hose name is Emmanu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ph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0400" y="1092240"/>
            <a:ext cx="5824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urence Hull Stookey, USA, 20th cent. (Mt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nable us who kn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your presence with 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so to proclaim hi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unsearchable rich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that all may come to his ligh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and bow before th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brightness of his rising,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2284560"/>
            <a:ext cx="8534520" cy="2287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o lives and reigns with you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the Holy Spiri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now and for ever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19:48:24Z</dcterms:modified>
  <cp:revision>13</cp:revision>
  <dc:subject/>
  <dc:title>PowerPoint Presentation</dc:title>
</cp:coreProperties>
</file>