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E0C-95BD-49DB-996B-99890D6F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8B8-2919-4AE8-B5C3-2752D686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F9F-9AA3-4E08-BA0B-28FC8574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5DC-8AD2-449B-9430-B77BFDDD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E0D-09D3-4C64-8327-BB103110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2AF-C525-4D92-A6EC-53F3E97C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530-71F1-4DB2-A4C1-E8586BBA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0CF-18DD-4C78-A74D-B035B1C3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2F5-73D4-4034-BBE5-B3F7122E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1C0-127B-4652-8FFE-B9A80435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E8F-4DC5-4963-B048-BE94C4C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497-9BEC-4BBD-B366-520277B4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D733-6C8F-464C-AC2E-12327D948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yrie, Kyrie,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9160" y="1143000"/>
            <a:ext cx="23950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1:05Z</dcterms:modified>
  <cp:revision>25</cp:revision>
  <dc:subject/>
  <dc:title>PowerPoint Presentation</dc:title>
</cp:coreProperties>
</file>