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350-CCF4-4D0A-B3CC-1117549B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010-237C-4EAC-A479-BBAD2EB7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0DA-3ED4-471C-836E-A11408E6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463-3029-4611-B768-63136D4B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2E2-C641-4355-960C-D17CD734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50E-3B27-4886-A53A-6CD676CF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8D4-B959-4AAA-A75C-C24BDEF6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801-FB83-49C4-A626-A8493A06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D08-4149-4A96-A3C6-B7A209CA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F4B-E821-4BFB-8348-B5F72646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322-A59B-47FD-927C-7BB1B655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609-0139-4B5F-8D7E-A07AE5C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AEB3-5E79-4972-8FE9-E4759B5B6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for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orld We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hrist fo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oving ze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amuel Wolcott, 1869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oor, and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mou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aint and overbor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-sick and sorrow-w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Christ doth h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hrist fo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fervent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yward and the l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rest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ssions toss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ed 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ntless c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dark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hrist fo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us the work to sh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us reproach to d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us the cross to b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Christ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Christ fo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joyful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sou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d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claimed from error’s w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spired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 and p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hrist be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56:28Z</dcterms:modified>
  <cp:revision>74</cp:revision>
  <dc:subject/>
  <dc:title>PowerPoint Presentation</dc:title>
</cp:coreProperties>
</file>