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2379-8715-4758-A284-C2F0A4B01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15B3-0629-4E27-8D64-34891393D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D078-685C-4830-855E-D7831853D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8520-4F0B-4F4B-90E3-C5DE50C3A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4F84-EAC4-45E9-80E2-8716214D0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669C-F376-4C0F-B201-79EDEF6B0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3B28-3036-47D2-B05E-BEC127A8A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C737-3A7B-4E4D-91A6-109C8C368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93C4-E547-4426-8E73-59862D7B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C221-FDEC-4869-94FA-24ECB183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BBD6-466A-4A6D-8FB7-669506DB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2561-6E4E-4D67-B5C7-1554412F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2E4A2-B3C8-4B59-A960-9886F48DDC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 Jesus, I Have Promis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9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O Jesus, I have promis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serve thee to the en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thou forever near 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Master and my fri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Jesus, I Have Promis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95240" y="1066680"/>
            <a:ext cx="39283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John E. Bode, ca. 1866 (Lk. 9:5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shall not fear the battl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f thou art by my sid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r wand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the pathwa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f thou wilt be my gu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O let me feel thee near m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world is ever near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see the sights that dazzl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tempting sounds I hea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Jesus, I Have Promis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foes are ever near 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round me and withi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t Jesus, draw thou near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hield m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ul from s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O let me hear thee speak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accents clear and sti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bove the storms of passi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murmurs of self-wi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Jesus, I Have Promis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speak to reassure 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hasten or control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speak,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ke me list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 guardian of my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14444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O Jesus, thou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st promis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all who follow th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where thou ar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glo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re shall thy servant be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Jesus, I Have Promis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Jesus, I have promis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serve thee to the en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give me grace to follow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Master and my fri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21:37Z</dcterms:modified>
  <cp:revision>18</cp:revision>
  <dc:subject/>
  <dc:title>PowerPoint Presentation</dc:title>
</cp:coreProperties>
</file>