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0B1-CC02-42FE-86AD-6439CFAD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6E9-D75A-4B56-A8D3-8562E785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4F9-3847-4B23-983D-19F32BF1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A7C-8A42-4306-9372-38F32C22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538-D01F-47B7-85EE-FB9EC094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65C-88ED-4E6F-8599-3DA763C8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774-E233-441B-9E3A-809AB309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BB2-E4C1-48B0-B4D5-C08CC838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D3E-EFA7-445B-899C-55848269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7CC-E817-4BFF-9DEC-3168F94C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070-B471-4E0B-A1AD-8ABCE045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972-19BF-41AE-A992-CDFA1654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872E-9866-4925-BF27-BF975FE3C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ur Father,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t in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apt. © 1981 Abingdon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7680" y="914400"/>
            <a:ext cx="56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Matthew 6:9-13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dapt. by J. Jefferson Cleveland and Verolga Nix, 198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Amen, a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, a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, a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kingdom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will be d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Done on earth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in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 this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aily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nd for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ur deb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for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ebto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ead us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tempt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del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from ev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ine is the king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, and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18Z</dcterms:modified>
  <cp:revision>27</cp:revision>
  <dc:subject/>
  <dc:title>PowerPoint Presentation</dc:title>
</cp:coreProperties>
</file>