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865-C2F9-47F0-B948-D8DF5707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C5D-37A1-4F6A-B0EA-788676C8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CD2-B1E4-4AD5-9201-9F3F9E31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ED9-7352-432E-B531-0C6A8A33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3E7-104A-447B-9881-998E8B27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2B3-69FE-48E4-B134-068167B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9E7-D3E5-49AC-8C95-BCEC83B0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469-2989-4C6F-AB3B-6C34CD10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013-D0FA-436E-BCEB-8B560424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041-821D-430B-AF06-0C827F24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730-3196-4721-AEBF-43BF6A1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D7C-9EEE-4DD7-B9F6-F1CD2014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6AE0-2363-45E3-80D6-31F0398C7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e to the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lmigh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3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Praise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of cre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sts. 2 and 4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4240" y="1839960"/>
            <a:ext cx="82684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achim Neander, 1680; sts. 1, 3, 5 trans. by Catherine Winkworth, 1863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. 2 by S. Paul Schilling, 1986; st. 4 by Rupert E. Davies, 1983 (Ps. 103:1-6; 1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Praise to the Lor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et all tha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e adore him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at hath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now with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hi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am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nd fro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 ag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ly forever 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y soul, prais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 is thy h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ye wh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o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mple draw n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me in glad ador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Praise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o’er all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wondrously reig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s thee on eagle’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gs, e’er in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ing mainta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care enfol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, whos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he uphold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t thou not kn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ustain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Praise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oth prosp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work and defen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ely his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rcy here dai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t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nder ane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he Almighty can 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th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th befri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Praise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oth nourish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and rest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tting thee 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tasks that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bef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o thy n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s a m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th sp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eading the w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ce o’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55Z</dcterms:modified>
  <cp:revision>32</cp:revision>
  <dc:subject/>
  <dc:title>PowerPoint Presentation</dc:title>
</cp:coreProperties>
</file>