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8AF-CAF2-4BAB-848E-F6A7FBF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077-1A10-4342-9373-CC19F2D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22B-6684-4FAC-81EF-F88B9F09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5DE-999D-407F-85DF-BCDAA22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4E5-A19E-4F2D-A580-CB83AEE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A16-D272-4CFE-BFBF-03F8AAC0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31A-0C91-49C2-8615-297991C7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1CB-2460-4350-860A-58A7D4E9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C5F-2C84-4138-A46A-70A10BF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812-0FB4-412F-A500-ACDA45D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977-9E1E-464D-9CE7-98251DC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C43-DBED-412D-9AFC-6F3F0F2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C673-7B10-409F-BCD6-C59EEFA6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t Be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e That Bi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Blest be the tie that bind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ur hearts in Christian lov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fellowship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kindred mind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like to that abo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Fawcett, 17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efore our Father’s thr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our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dent prayer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fears, our hop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aims ar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omforts and our ca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wo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mutual burdens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ten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fl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ympathizing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we asunder 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gives us inward p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e shall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joined in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to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0:03Z</dcterms:modified>
  <cp:revision>65</cp:revision>
  <dc:subject/>
  <dc:title>PowerPoint Presentation</dc:title>
</cp:coreProperties>
</file>