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D39-5254-410D-8366-AE7B42BE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B3B-0F61-4095-BA14-D6C2F1F4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6DF-E954-424E-87D8-65B486F5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49A-03CD-4043-AF31-15EB32B4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397-672B-4B63-A8B4-6E441C41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3F0-3B71-4089-B72B-C6F0EC06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0AF-B72A-4FA3-A904-26796163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851-B642-445B-883E-B0D865CC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6FB-141C-4C86-9FED-849FC25A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2CA-09D3-4389-A86C-FC121A5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B77-66B9-4B0F-A145-E404D5B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1BD-6049-4D8E-8906-93A61D4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56C1-1398-4F65-B996-4D5EF1819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Shall They Hea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Word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ichael Perry, 1982 (Rom. 10:14-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3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y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less the truth is tol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sinful be set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rrowful conso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who sp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art your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y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for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less they have believe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po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given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isoner repriev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ose who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ind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light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gosp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roclai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inners may repen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peace at l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heralds are not se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end us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e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ak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ife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10:55Z</dcterms:modified>
  <cp:revision>152</cp:revision>
  <dc:subject/>
  <dc:title>PowerPoint Presentation</dc:title>
</cp:coreProperties>
</file>