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AC75-B78F-4008-9AEF-AA40A2F75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DDE4-774B-49F8-8D8E-50E30034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2517-EE60-46D7-A040-BF1901D5B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D9E0-7AEC-444D-B62F-2F88613CA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BA0D-E7B1-452E-815C-ACAB1177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2FCE-0CE5-4039-8830-BEAA6F13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DA83-3F68-49B0-896E-0EB5934F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E94B-0B8D-4CCD-BF4F-93C78A74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6192-5843-4EDF-B27B-64ACD6C6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8BF8-056E-4F80-A2C9-9B343B13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A69B-6E6B-440E-BD67-AF2D8CA3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C36B-F310-43E8-8436-BA3D9CA0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6040-8270-460C-BC65-06E2FDF8A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lled with the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pirit’s Po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19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Filled with the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Spirit’s power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with one accord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the infant church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confessed its risen Lor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85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ed with the Spirit’s Pow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48960" y="1523880"/>
            <a:ext cx="36662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John R. Peacey, 1969 (Acts 2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Holy Spiri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e church tod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 less your pow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fellowship displ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Now with the mi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Chri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t us on fi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unit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y be our great desi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ed with the Spirit’s Pow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ive joy and peac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ive faith to hear your ca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readi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each to work for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Widen our l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od Spirit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embrace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your strong ca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ose of every 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lled with the Spirit’s Powe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ke wind and fi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life among us m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we are know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Christ’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Christians pr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4:33:58Z</dcterms:modified>
  <cp:revision>10</cp:revision>
  <dc:subject/>
  <dc:title>PowerPoint Presentation</dc:title>
</cp:coreProperties>
</file>