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2C91-5A0B-4964-BC3F-9044B3A1B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A204-9107-4210-802C-9070E8564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B083-8E90-47AB-A8E4-073D77711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F01F-F85D-420C-9B93-1669A735E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6BB4-6184-478F-B276-FAEB20BEF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4229-A6E2-4709-BFE1-4734A0D9D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C8AE-A8B5-49C8-A9DD-22145BFF0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4961-F1A0-4D88-BAFC-3D5EED5FE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3A28-55D7-46F2-AA94-4F29D67B9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5549-A3F9-4EAA-A1C0-989CB284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0726-E96B-4E90-BC79-E6410DD4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90F6-0811-4898-BCD9-3CF4AB7F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398D1-B9E6-4719-9F02-13BBE19DCC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57200"/>
            <a:ext cx="9144000" cy="1069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¡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anto!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¡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anto!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¡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anto! </a:t>
            </a:r>
            <a:br>
              <a:rPr sz="4000"/>
            </a:b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Reginald Heber, 1826; trans. by Juan Bautista Cabrera (Rev. 4:8-1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4382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¡Santo! ¡Santo! ¡Santo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eñor omnipotent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iempre el labio mí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oores te dará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¡Santo! ¡Santo! ¡Santo!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¡Santo! ¡Santo! ¡Santo!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e adoro reverent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ios en tres persona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ndita Trinid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¡ Santo! ¡ Santo! ¡Santo!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a inmensa muchedumb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e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ángeles que cumpl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u santa volunta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¡Santo! ¡Santo! ¡Santo!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te ti se postra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a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ñada de tu lumb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te ti que has si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que eres y será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3. ¡ Santo! ¡ Santo! ¡Santo!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or m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ás que estés vela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 imposible se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u gloria contempla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¡Santo! ¡Santo! ¡Santo!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anto t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ú eres sól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 nada hay a tu lad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n poder perfect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ureza y carid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4. ¡ Santo! ¡ Santo! ¡Santo!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a gloria de tu nomb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vemos en tus obra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n cielo, tierra y ma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¡Santo! ¡Santo! ¡Santo!!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¡Santo! ¡Santo! ¡Santo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e adorar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á todo homb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Dios en tres persona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endita Trinid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37:40Z</dcterms:modified>
  <cp:revision>13</cp:revision>
  <dc:subject/>
  <dc:title>PowerPoint Presentation</dc:title>
</cp:coreProperties>
</file>