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EBB-6CA2-44EE-BE97-20DF7AD8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0E0-5E91-4888-8E63-00ECE36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329-25D4-4F50-B45C-10739483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660-AA96-4273-B527-C1FE44C7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488-F4F2-4370-BD2C-047EFB8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22C-98BE-4F52-81CC-2AE2BAF1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4ED-EB6D-4C51-80C1-E3F0F27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CD4-A64A-45E8-8C12-409EE1E8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DFD-83BA-4C38-A465-08CA661C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9A5-AD50-47B9-9227-5358511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8EA-0D76-4A8C-89B8-BD1C10F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54F-7BEC-4E18-A2C5-DCB648E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3966-C37A-43F6-A4F3-DC2D9EB0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Times New Roman"/>
              </a:rPr>
              <a:t>Jesus Is All</a:t>
            </a:r>
            <a:br>
              <a:rPr sz="4000"/>
            </a:br>
            <a:r>
              <a:rPr b="1" lang="en-US" sz="4000" spc="-1" strike="noStrike">
                <a:solidFill>
                  <a:srgbClr val="6699ff"/>
                </a:solidFill>
                <a:latin typeface="Times New Roman"/>
              </a:rPr>
              <a:t>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life, my joy, my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1600" y="1662120"/>
            <a:ext cx="3157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WORDS: Will L. Thompson, 1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could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friend den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e’s s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know I’m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atches o’er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 and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day and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rust him 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trust him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flee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uch a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as no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jo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is my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ay to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uld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m I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cheer me s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makes me gl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fri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rials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o to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blessings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gives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and o’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ends the suns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ends the harves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nshine and 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vest of g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ue to him I’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11:19Z</dcterms:modified>
  <cp:revision>9</cp:revision>
  <dc:subject/>
  <dc:title>PowerPoint Presentation</dc:title>
</cp:coreProperties>
</file>