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287-C6C4-4C8D-939C-E6F506C3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8F9-F393-40E9-9446-6BB5E58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13E-0F90-48A9-B62C-8010AE64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2A9-A556-4A0A-898C-81225E27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CD3-B0F6-4D9B-8311-BEB23CE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068-A558-4239-87B5-37039F22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7A6-7FCE-4D35-88BF-65E437D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416-7A57-4861-8D2F-AE039BFB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1F1-0438-4517-8AE1-5083981D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C65-8ED1-4FE7-BA3D-BDBC5F6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C2F-19DF-490E-9808-709B563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56E-0872-4F88-BA6B-4A06000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A8F3-FB64-4041-81BE-0EDCDF9FE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Co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firm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Brian Fol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nfirm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truth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hrist makes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Faber Music,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 hav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understa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your hel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ft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nsol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s advoc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pl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ing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help we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new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your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us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ving prese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ifts you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ssess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the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ree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58:47Z</dcterms:modified>
  <cp:revision>91</cp:revision>
  <dc:subject/>
  <dc:title>PowerPoint Presentation</dc:title>
</cp:coreProperties>
</file>