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991-CE89-4F5D-8C27-B78FF617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BA3-2F45-4AA9-B5F1-0532547C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E9E-3D7A-4CD5-AAE6-F241C75E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63F-5AF6-4B2C-8CE4-73CA8622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464-C00A-4730-96BF-CB178287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EBB-EBF5-4F41-9791-9196C930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21E-F57B-4090-8A3C-D8066534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A32-188B-4F95-9BEB-F151A9DA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0E5-7F2F-45E2-A123-58877EA4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F10-0278-4907-B18D-B6FD9784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598-9F7D-42A1-BFA2-3DA92A4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3B4-D43B-410F-90F5-0CA9E3D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AD98-2CEA-4FF7-A9CA-FC6CEF9D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diers of Christ, A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oldiers of Christ, ar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ut your armor 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ong in the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God suppl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his eternal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3240" y="990720"/>
            <a:ext cx="42771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 (Eph. 6:13-18)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ong 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 of Hos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his mighty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in the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Jesus trus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ore than conquer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tand then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great m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all his strength endu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ake to arm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f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noply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aving all things d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flicts pa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 may o’er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Christ al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and entir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Pray with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easing,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(your Captain gives the word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summ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eerfully ob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all upon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od your every wa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instant prayer displ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 always,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ever fai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, without ceasing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From streng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trength go o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restle and fight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ead all the pow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darkness d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n the well-fough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let the Spirit c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his soldiers, “Come!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Christ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cends from hi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ake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querors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5:18Z</dcterms:modified>
  <cp:revision>12</cp:revision>
  <dc:subject/>
  <dc:title>PowerPoint Presentation</dc:title>
</cp:coreProperties>
</file>