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909-2FA1-41AC-8803-C2E6D6D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5EC-F234-4E46-BEE8-8B28DBE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A06-F6E8-4821-8F18-523FF8BC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182-F606-4C47-8DF6-E3750FFC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FC8-1EA8-4A7E-A4F7-97FD5AA0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CA3-0963-4E6D-9FC0-C3F47AF2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EBB-0297-4564-B1BB-8578985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705-051F-42EE-8402-4DA023E1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3D9-7CF2-433A-9C02-247556BE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8F4-6DF8-49C8-962A-FA05D4F1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416-F629-4077-8B31-2442AF7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5FE-244F-447F-ABA6-8257572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5270-6D8C-4750-BAC1-1D6F35D7D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Bread of Lif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All I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bread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is brok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drank the c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Golgoth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imothy Tingfang Lew, 1936; trans. by Walter Reginald Oxenham Taylor, 1943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honetic transcription from the Chinese by I-to Loh, 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race we tr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ead with rever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holy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us rememb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ly f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k thy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dist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people’s gr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ly fac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ined with bitter te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uman pain st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est thou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we p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hou among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en our ey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ly app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joy un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ife with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bl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Jiu shi zhi shen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wei zhong-sheng bo-kai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Zai Gu-lou di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tong in ku-bei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i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Meng en xin-zhong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feng ming chang ji-nian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Jing she sheng-yan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zhui-i dang nian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55Z</dcterms:modified>
  <cp:revision>135</cp:revision>
  <dc:subject/>
  <dc:title>PowerPoint Presentation</dc:title>
</cp:coreProperties>
</file>