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255-EA7E-4C3C-A5AA-9BED3791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E2E-AB84-47DF-8AA4-9DE21BD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5AE-5D54-45B1-AFD7-F06B250C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6D7-B5F2-4D20-B058-562490EC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D3E-D765-4035-A982-B60E7C5E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8E8-7DFB-4D3F-A1BB-D6F13795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697-7472-429D-8BAC-38CB50F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66E-1E54-4EE6-80F2-9FBFF416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973-EBB2-4004-ADD3-534C5EB6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A40-1E7A-41D1-9D94-4B1ED92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CCF-E566-447C-8F09-ACDDB49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AB4-1765-49A5-84AB-C5545C1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577A-A0E9-45CD-85C2-6304E723B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ose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ou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por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than fri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life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0640" y="1066680"/>
            <a:ext cx="3010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anny J. Crosby, 18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le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ot for 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worldly pl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for f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prayer sha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will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il and su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le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will I toil and su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ad me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ale of sha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me o’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fitfu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g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et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I en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gate of life et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I enter, Lord,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4:56Z</dcterms:modified>
  <cp:revision>22</cp:revision>
  <dc:subject/>
  <dc:title>PowerPoint Presentation</dc:title>
</cp:coreProperties>
</file>