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7C2-EED7-4966-81D4-4DD9F561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F5C-287A-4A8B-A197-10AEFA41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455-5E6A-46EB-92F6-02C74DF5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E57-2032-4915-BF7F-C5C71EE2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6B0-8839-4C3E-BCC9-6EC4E080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CBB-AB60-4A87-BBAE-A824CE38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3C1-B941-4575-91A7-ED2FBEB1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9A6-5D25-4E55-8DEE-50D38A13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D96-ACC1-408B-B8B1-9511DD27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4F1-CD26-4537-85A4-977AF470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7CB-7CD7-435E-9454-EBC914E4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AF3-049D-4B7C-947E-D69B990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678-8EAE-41C4-83E8-E5F0FB1BA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or of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 and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Donald Hughes, 1964, 1969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reator of the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k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whom all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power be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Words by permission of The Methodist Publishing House, Eng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us your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us wis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us your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u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e have not known you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monu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folly so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all our self-w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se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made us tr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selves th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e have not loved you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r and w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wreckag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hatred sprea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evils w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human pr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coil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repentant hea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e long to 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worldwide strif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shall we fol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your 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eak to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words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il our dar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urn to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1:32:17Z</dcterms:modified>
  <cp:revision>149</cp:revision>
  <dc:subject/>
  <dc:title>PowerPoint Presentation</dc:title>
</cp:coreProperties>
</file>