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B62-C8BF-4FF0-841E-03123817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F7E-FA72-4BAB-93DD-92A7FAF1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946-65B4-48C6-8BA6-F5B83496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BED-20F7-48D9-BB36-B76167C7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7BB-3114-4FC0-840E-89617A44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44C-A3CD-4946-B5AE-ECFDA609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C44-C287-46CF-8AEA-BBA0D683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173-4FAD-4F2D-8D4C-ED986D69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097-14C4-46A2-A26C-95B5846D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907-22E9-49AC-9064-27280067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59E-3726-4745-A40A-B3F9F9F6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956-A207-4D8E-9BEE-5A71F5C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A8A0-411F-47F4-804B-4A2F40954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Praise to God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Venite Exultem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come, let u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the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heartily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streng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1600200"/>
            <a:ext cx="3410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Psalm 95:1-7; 96:9, 13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0. Glory be 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Holy Gho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it was in the begin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now, and ever shall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ithout end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t us come bef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presence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giv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w oursel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 in him with psal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or the Lord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great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great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ve all go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his hand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corners of the ea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treng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hills is his al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 sea is h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made i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h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pared the dr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O come let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ship and fall d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kneel bef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our Mak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For he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ur G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the people of his pas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heep of his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8. O worship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beauty of holine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whol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 in awe of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9. For he com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e com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udge the ea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h righteous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udge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peop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is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27:58Z</dcterms:modified>
  <cp:revision>7</cp:revision>
  <dc:subject/>
  <dc:title>PowerPoint Presentation</dc:title>
</cp:coreProperties>
</file>