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C489-93AA-4C65-AF9B-C5155B02A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C873-58D3-4456-8354-9303D8DD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5553-FF7D-4BE3-9AF4-89070E0AC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75B3-1FAC-4F33-ACED-3A45C8DA7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1AC9-FB25-41E3-A88A-8F2B7BAB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0166-C1B7-432D-A801-F257BC9B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DE28-B0B4-49E3-BF68-190C56D2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FD80-CE63-4DCE-9837-C5C087A2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863E-2C96-496C-A06A-886DA8B9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8589-2C96-44DB-AA1A-AF885D9A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DB5E-AC05-4556-A489-CDCB4FBB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E733-2AE5-4405-974A-4F36A7A8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4957-CDAD-4919-B95C-21E96DF46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Day Thou Gavest,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ord, Is End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day thou gavest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ord, is ended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darkness fall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t thy behe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ay Thou Gavest, Lord, Is End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23680" y="1623960"/>
            <a:ext cx="389484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John Ellerton, 1879 (Ps. 113:2-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859040"/>
            <a:ext cx="861048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o thee our morning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ymns ascended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y praise shall hallow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now our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2. We thank thee that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y church, unsleeping 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hile earth rolls onward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into l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ay Thou Gavest, Lord, Is End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rough all the world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er watch is keeping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rests not now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by day or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3. As o’er each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continent and island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dawn leads on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other d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ay Thou Gavest, Lord, Is End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voice of prayer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is never silent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nor die the strain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f praise a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4. So be it, Lord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y throne shall never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ike earth’s proud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empires, pass a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ay Thou Gavest, Lord, Is End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y kingdom stands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grows forever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all thy creature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wn thy s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8:14:05Z</dcterms:modified>
  <cp:revision>28</cp:revision>
  <dc:subject/>
  <dc:title>PowerPoint Presentation</dc:title>
</cp:coreProperties>
</file>