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80AD-9488-43B0-9079-EE21A314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A040-6844-4A96-AA8A-F0FE611F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33CA-940D-4AD6-982F-E2A8F6C37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FB6B-53B1-4B61-9720-98CF528B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F72D-2C56-4245-B84F-D4218043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CA2D-7903-43EF-AAFC-215168E1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859C-7D55-4996-BEE3-D168F2D6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088F-0C92-4E88-AAAF-7947852A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E8A7-47F6-49EF-BF2B-6513E9D3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C61F-0345-4FF5-A360-B3886492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C95C-3FB5-4ED5-9B61-89318FB3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691E-F1A7-4BFF-8328-C469D163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A686-84AD-4750-86E0-C65B3AECC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arching to Zion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812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. Come, we that love the Lord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d let our joys be known;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join in a song with sweet accord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join in a song with sweet accor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9680" y="1066680"/>
            <a:ext cx="539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Isaac Watts, 1707; refrain by Robert Lowry; 18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28800"/>
            <a:ext cx="9144000" cy="528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r walk     the   gold - en</a:t>
            </a:r>
            <a:br>
              <a:rPr sz="5000"/>
            </a:b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5400" spc="-1" strike="noStrike" baseline="20000">
                <a:solidFill>
                  <a:srgbClr val="ffffff"/>
                </a:solidFill>
                <a:latin typeface="Times New Roman"/>
              </a:rPr>
              <a:t>walk  the  golden  streets, t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reets,     or </a:t>
            </a:r>
            <a:br>
              <a:rPr sz="5000"/>
            </a:br>
            <a:r>
              <a:rPr b="0" lang="en-US" sz="5000" spc="-1" strike="noStrike" baseline="30000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5400" spc="-1" strike="noStrike" baseline="20000">
                <a:solidFill>
                  <a:srgbClr val="ffffff"/>
                </a:solidFill>
                <a:latin typeface="Times New Roman"/>
              </a:rPr>
              <a:t>walk            th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lk  the  golden street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 baseline="20000">
                <a:solidFill>
                  <a:srgbClr val="ffffff"/>
                </a:solidFill>
                <a:latin typeface="Times New Roman"/>
              </a:rPr>
              <a:t>gold        -       en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5400" spc="-1" strike="noStrike" baseline="20000">
                <a:solidFill>
                  <a:srgbClr val="ffffff"/>
                </a:solidFill>
                <a:latin typeface="Times New Roman"/>
              </a:rPr>
              <a:t>street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362320"/>
            <a:ext cx="9144000" cy="268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’re marching to Z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autiful, beautiful Zi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971800"/>
            <a:ext cx="9144000" cy="320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’re march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pward to Zi - 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imes New Roman"/>
              </a:rPr>
              <a:t>Zion,  Zion,</a:t>
            </a:r>
            <a:br>
              <a:rPr sz="48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eautiful city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Then let our songs abou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every tear be dr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’re marching throu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mmanuel’s grou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’re marching throu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mmanuel’s grou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28800"/>
            <a:ext cx="9144000" cy="526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fair  -  er    worlds</a:t>
            </a:r>
            <a:br>
              <a:rPr sz="5000"/>
            </a:b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imes New Roman"/>
              </a:rPr>
              <a:t>fair - er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imes New Roman"/>
              </a:rPr>
              <a:t>worlds   on high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high, to fairer</a:t>
            </a:r>
            <a:br>
              <a:rPr sz="5000"/>
            </a:br>
            <a:r>
              <a:rPr b="0" lang="en-US" sz="5400" spc="-1" strike="noStrike" baseline="16000">
                <a:solidFill>
                  <a:srgbClr val="ffffff"/>
                </a:solidFill>
                <a:latin typeface="Times New Roman"/>
              </a:rPr>
              <a:t>to      fair    -  er   worlds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lds   on  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baseline="18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 baseline="18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 baseline="18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400" spc="-1" strike="noStrike" baseline="18000">
                <a:solidFill>
                  <a:srgbClr val="ffffff"/>
                </a:solidFill>
                <a:latin typeface="Times New Roman"/>
              </a:rPr>
              <a:t>on  </a:t>
            </a:r>
            <a:r>
              <a:rPr b="0" lang="en-US" sz="5400" spc="-1" strike="noStrike" baseline="18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400" spc="-1" strike="noStrike" baseline="18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400" spc="-1" strike="noStrike" baseline="18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400" spc="-1" strike="noStrike" baseline="18000">
                <a:solidFill>
                  <a:srgbClr val="ffffff"/>
                </a:solidFill>
                <a:latin typeface="Times New Roman"/>
              </a:rPr>
              <a:t>high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2514600"/>
            <a:ext cx="9144000" cy="268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’re marching to Z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autiful, beautiful Zi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971800"/>
            <a:ext cx="9144000" cy="320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’re march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pward to Zi - 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imes New Roman"/>
              </a:rPr>
              <a:t>Zion,  Zion,</a:t>
            </a:r>
            <a:br>
              <a:rPr sz="48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eautiful city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05120"/>
            <a:ext cx="9144000" cy="527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us   sur - round</a:t>
            </a:r>
            <a:br>
              <a:rPr sz="5000"/>
            </a:b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5400" spc="-1" strike="noStrike" baseline="20000">
                <a:solidFill>
                  <a:srgbClr val="ffffff"/>
                </a:solidFill>
                <a:latin typeface="Times New Roman"/>
              </a:rPr>
              <a:t>thus surround the throne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throne, and thus</a:t>
            </a:r>
            <a:br>
              <a:rPr sz="5000"/>
            </a:br>
            <a:r>
              <a:rPr b="0" lang="en-US" sz="5400" spc="-1" strike="noStrike" baseline="20000">
                <a:solidFill>
                  <a:srgbClr val="ffffff"/>
                </a:solidFill>
                <a:latin typeface="Times New Roman"/>
              </a:rPr>
              <a:t>and      thus           sur - round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rround the thron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5400" spc="-1" strike="noStrike" baseline="20000">
                <a:solidFill>
                  <a:srgbClr val="ffffff"/>
                </a:solidFill>
                <a:latin typeface="Times New Roman"/>
              </a:rPr>
              <a:t>the                 thron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362320"/>
            <a:ext cx="9144000" cy="268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’re marching to Z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autiful, beautiful Zi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971800"/>
            <a:ext cx="9144000" cy="320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’re march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pward to Zi - 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imes New Roman"/>
              </a:rPr>
              <a:t>Zion,  Zion,</a:t>
            </a:r>
            <a:br>
              <a:rPr sz="48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eautiful city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9810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Let those refuse to 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never knew our Go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children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eavenly 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children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eavenly King ma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981080"/>
            <a:ext cx="9144000" cy="53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eak their joy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 baseline="18000">
                <a:solidFill>
                  <a:srgbClr val="ffffff"/>
                </a:solidFill>
                <a:latin typeface="Times New Roman"/>
              </a:rPr>
              <a:t>speak  their  joys abroad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broad may speak</a:t>
            </a:r>
            <a:br>
              <a:rPr sz="5000"/>
            </a:br>
            <a:r>
              <a:rPr b="0" lang="en-US" sz="5400" spc="-1" strike="noStrike" baseline="20000">
                <a:solidFill>
                  <a:srgbClr val="ffffff"/>
                </a:solidFill>
                <a:latin typeface="Times New Roman"/>
              </a:rPr>
              <a:t>may  speak   their       joys</a:t>
            </a:r>
            <a:r>
              <a:rPr b="0" lang="en-US" sz="5000" spc="-1" strike="noStrike" baseline="20000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joys abroa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400" spc="-1" strike="noStrike" baseline="40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5400" spc="-1" strike="noStrike" baseline="4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400" spc="-1" strike="noStrike" baseline="4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5400" spc="-1" strike="noStrike" baseline="4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400" spc="-1" strike="noStrike" baseline="40000">
                <a:solidFill>
                  <a:srgbClr val="ffffff"/>
                </a:solidFill>
                <a:latin typeface="Times New Roman"/>
              </a:rPr>
              <a:t>broa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590920"/>
            <a:ext cx="9144000" cy="268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’re marching to Z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autiful, beautiful Zi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971800"/>
            <a:ext cx="9144000" cy="320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’re march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pward to Zi - 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imes New Roman"/>
              </a:rPr>
              <a:t>Zion,  Zion,</a:t>
            </a:r>
            <a:br>
              <a:rPr sz="48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eautiful city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The hill of Zion yiel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thousand sacred swee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fore we rea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eavenly fiel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fore we rea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eavenly field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09:28Z</dcterms:modified>
  <cp:revision>56</cp:revision>
  <dc:subject/>
  <dc:title>PowerPoint Presentation</dc:title>
</cp:coreProperties>
</file>