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297-B980-4087-9F08-065EAE9F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BD5-F964-4C60-9063-87394696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21B-B691-4251-860C-61AFECA5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3EC-755F-4DAC-B116-7667A79C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423-73C7-4A23-A4A1-319109C6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172-8FDA-434F-B71F-45DA98A5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055-078C-4185-9D33-B59574FD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901-AF1A-4D54-B1F5-50AFB8A8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14C-7AAC-4A4A-B37F-56FA1E07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F94-A57F-4896-8778-57EE15CD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ADE-7108-4357-939B-6794371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4FC-80E3-40A4-86EC-80E05506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FF3C-D97D-4F4C-9FF7-CBACDBCBC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y Faith Looks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Up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Ray Palmer, 1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My faith loo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p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Lamb of Calv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hear me while I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ake all my guilt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et me from this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wholly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May thy r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ce imp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rength to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zeal insp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ou hast died fo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may my love to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ure, warm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hangeless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living f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hile life’s dar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ze I tr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rief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ound me spr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thou my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id darkness turn to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pe sorrow’s tears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r let me ever st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thee a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hen ends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ansient dre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death’s c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llen stre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ll o’er me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t Savior, then in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ear and distrust rem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bear me safe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ransomed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2:51Z</dcterms:modified>
  <cp:revision>153</cp:revision>
  <dc:subject/>
  <dc:title>PowerPoint Presentation</dc:title>
</cp:coreProperties>
</file>