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B7E-F3EB-4818-864B-60E3ED39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FF4-5514-4BF9-ABD8-0047B021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68E-300B-4C68-9E9E-42FA3327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DD2-A4C5-45F0-B621-16C41797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D11-7AD2-48B9-A282-BF6FB7C8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635-2EDB-4657-9908-CF9C0543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240-2A4C-47FC-8DFE-D62628FA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EC2-53B3-46A5-A194-4E24A4EC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5E0-8226-4476-87B8-004FC167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344-6FA3-4B82-ACAC-BB4BC68C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DD6-A2E7-46A6-BD47-D26313D2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F8B-E50B-46C1-A285-AB83482F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D99D-7B22-4632-A5D4-7E0C79756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Mock Your Reign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Dearest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o mock your reig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dearest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made a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of thor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3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Fred Pratt Green, 1972 (Mt. 27:27-31; Mk. 15:16-20; Jn. 19:1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t you with tau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ong that ro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one ret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lorious is that cr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orns wou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er upon your b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sorrows heal our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n mock ac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racious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snatched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purple cloa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assion turn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they ca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a soldier’s jo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ough w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rit b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will your ro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mercy thr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ound our naked sh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 sceptered r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atient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thr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your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cted 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grim char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its appointed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empires rise and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kingdom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cease to gr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love embrace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39Z</dcterms:modified>
  <cp:revision>46</cp:revision>
  <dc:subject/>
  <dc:title>PowerPoint Presentation</dc:title>
</cp:coreProperties>
</file>