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745-5C17-4F57-BE45-398BD779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169-CA22-4319-BB1B-E1377048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5FF-842B-4082-BE4E-0A7224BF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9DA-4013-46C4-8A22-7D646C87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5A1-E6CC-4141-99C7-D41151AA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404-E838-434B-B460-6AD2F64A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546-4908-405C-8025-BA95E8B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408-5001-44AC-A585-7172EAA5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15E-B574-412E-8CBB-FED778F0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136-3420-44D1-81B3-E4C65580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49E-71A0-4895-A4C0-90BA9E47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597-6725-41BA-8D7E-F4C6E8D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26C9-7695-4E93-B8DA-AF906EDA0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 Palabra Del S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r Es 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6800"/>
            <a:ext cx="9144000" cy="412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y permission of Juan Luis Gar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1523880"/>
            <a:ext cx="757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Juan Luis Gar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; trans. by George Lockwood, 1987 (Ps. 33:4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14400"/>
            <a:ext cx="8670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Righteous and Just Is the Word of Our L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ed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37160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19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49:11Z</dcterms:modified>
  <cp:revision>24</cp:revision>
  <dc:subject/>
  <dc:title>PowerPoint Presentation</dc:title>
</cp:coreProperties>
</file>