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4F31-0EC6-4AC5-BEBA-BD91486C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A5C4-9B99-439E-A5D3-BB484208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172C-71E0-487E-8089-1D2834F2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664D-9187-4D5D-A734-35683373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9559-8A15-4F52-B3DB-D2E6AD38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4049-F041-479C-8F13-556C2A6E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0470-1E9E-4A0C-9955-3429C4C7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F8BE-68D1-4830-A3FD-4DBA555B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00DB-1638-4FE1-8CE5-97205D71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2110-9565-4EE5-AB15-3C88E520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88DC-2EE0-49E9-9B2C-A7D6C9C9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0BD6-1C46-45B2-A4D3-3893802D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DF6C-8AFB-4E18-9F75-0317F4DF6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ajesty, Worship His Majes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4068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jes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his majest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nto Jesus be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lory, honor,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© 1981 Rocksmith Music c/o Trust Music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esty, Worship His Majes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4120" y="1066680"/>
            <a:ext cx="37360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WORDS: Jack Hayford, 198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jes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kingdom authori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low from his thr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nto his ow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anthem 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 exal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t up on hi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name of Jesu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gnify, come glorif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Jesus,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jes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his majes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 who di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w glorifi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King of all k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8:39Z</dcterms:modified>
  <cp:revision>40</cp:revision>
  <dc:subject/>
  <dc:title>PowerPoint Presentation</dc:title>
</cp:coreProperties>
</file>