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F67-A63F-46BB-B240-744C005A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A18-02D6-447C-BC29-AA9F82A2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10C-1CD3-4976-9A95-1FC70889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546-F4FC-491C-B7CC-032613B2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B25-FDEB-4E8E-9220-989ED941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B9B-C5A9-4D61-83AA-AF21A6E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3B2-EC51-4A2E-ADE9-54649BB5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EA4-05FD-4207-82C5-21BC5CCC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EDB-6263-4D33-8836-1448B589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903-19D8-4E3D-9651-B0FBF047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343-56E9-4F4B-8929-4CD3960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680-D2FF-4BDD-924B-12A40BF4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EE9-1C5E-4A4B-A12E-379C74F3F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Now in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Now in Pe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Natalie Sleeth, 1976 (Lk. 2: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057400"/>
            <a:ext cx="83818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now in peac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now in pe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209680"/>
            <a:ext cx="106668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76 Hinshaw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1981080"/>
            <a:ext cx="792468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the love of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surr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05740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28800" y="2133720"/>
            <a:ext cx="73152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verywhere, everywhe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 may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13372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30:09Z</dcterms:modified>
  <cp:revision>157</cp:revision>
  <dc:subject/>
  <dc:title>PowerPoint Presentation</dc:title>
</cp:coreProperties>
</file>