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D55-CCE8-401A-8E4D-9D60C719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C52-8304-434E-BA47-C8BD9187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C85-EE97-4ABB-ADDE-C46AAB61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F04-F594-482F-82E9-0D764693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7A7-E7B8-48B4-A4FB-828A933C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19A-F34E-49F8-BA99-AAC1CBF5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E4B-3BDF-4ACB-801D-B595FB74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4F2-EE98-4B91-8775-3393E94C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9D4-81B2-49A1-BC29-50A0BF44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E34-29BB-4D87-9888-2ED3CC4A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C12-5B35-45FA-8775-C529C5D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FBC-A0D1-4DED-B321-C6E52007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3453-407F-404C-9132-18D29D164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! the Name High over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!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gh over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ell or earth or sk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gels and morta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strate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vils fear and f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1040" y="1116000"/>
            <a:ext cx="4600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49 (Phil. 2:9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Jesus!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sinners d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me to sinners g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scatters all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uilty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turns their hell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O that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ght taste and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riches of his gra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arms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ompass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all the world emb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Thee I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stantly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ll opp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bold to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ious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a world of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His only righteous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h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saving truth procla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all my busi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be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cry, “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Happy, if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latest br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may but gasp his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each him to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y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Behold, 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46:32Z</dcterms:modified>
  <cp:revision>45</cp:revision>
  <dc:subject/>
  <dc:title>PowerPoint Presentation</dc:title>
</cp:coreProperties>
</file>