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1DD2-DEAF-4B88-B452-AEE6582E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100-886C-470B-BD0A-F1658530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1E2-B14A-4099-8FEF-6D9FF899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5DA5-9C29-4AC7-AE81-4663E16B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4EF1-5663-4DA2-AF6F-0B2E4D53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8EB6-31B2-477E-A643-4F1F8902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C09-ECA0-45F7-A58B-19063E37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1C74-824A-4933-82B6-078CECB8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3208-C617-43DC-85AA-AEA3D5FF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28C-4D21-463B-AE63-41F0DAA9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EC37-E399-4FED-9372-4858DA8B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934-380F-4AE8-8FE6-C0517FBB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F02D-2E23-44B8-8D24-301A0E1F8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Sacred Head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ow Wou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sacred H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wou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rief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me weighed d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acred Head, Now Wou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40" y="1523880"/>
            <a:ext cx="908856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Anon. Latin; trans. by Paul Gerhardt, 1656,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nd James W. Alexander, 1830 (Mt. 27:27-31; Mk. 15:16-20; Jn. 19:1-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is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ying sor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i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out e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ke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ne forev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ould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nting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let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ver, n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tlive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scornful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rroun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or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ne only crow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pale thou 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anguis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s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use and sc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does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isage languis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once w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ght as m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hat thou, my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t suffe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all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sinners’ 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acred Head, Now W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ne, mine w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ansgress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th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eadly p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, here I f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avior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Tis I deser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l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ok on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y fav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ouchsaf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 thy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hat language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borr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ank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arest frie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acred Head, Now W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5:35Z</dcterms:modified>
  <cp:revision>47</cp:revision>
  <dc:subject/>
  <dc:title>PowerPoint Presentation</dc:title>
</cp:coreProperties>
</file>