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E04-8D34-49D0-B6BC-01577FC2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5CD2-B347-4443-9D64-5F831091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C92-6216-44C6-A95E-45CD249C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447-090B-4C11-A229-F1628AD7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9AE-CA7C-4AB0-AC55-90C77253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8C2-1F8E-4FC9-A804-EBA7E9DB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00C-14FB-4E3C-AD51-036B4EA1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E80-9AD8-4554-BE6F-C0D12F2C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082-7AF0-402F-A2BE-86C6DB2A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AE4-2AD2-417B-BD05-776DB0E7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1CA-F3A9-46D6-B00A-2BFAB07C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FC4-54ED-48BC-9397-1F7AD0A9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1E19-7284-404D-AA25-4DEF4D85A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68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ther the Word B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ached or 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rles Wesley, 1783 (2 Cor. 3:5-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05740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ether the Wor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e preached or rea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 saving benefit I ga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empty sound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r letters dea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unprofitable all and v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unless by fait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y word I hea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see i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eavenly charac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Unmixed with faith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Scripture give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 comfort, life, or light to se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ut me in dark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darkness leave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mplunged in deeper miser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verwhelmed with nature’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orest ill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Spirit save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letter kil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820800"/>
            <a:ext cx="830592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f God enlighte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rough his W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shall my ki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Enlightener bles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ut void and nak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my L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at are all verbal promis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91916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thing to 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ill faith divin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spire, inspeak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and make them m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187280"/>
            <a:ext cx="84582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Jesus,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ppropriating grac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’tis thine on sinners to bestow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my eye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see thy fac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my heart thyself to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919160"/>
            <a:ext cx="83818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then I throug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y Word obta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re presen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eternal 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8:33Z</dcterms:modified>
  <cp:revision>12</cp:revision>
  <dc:subject/>
  <dc:title>PowerPoint Presentation</dc:title>
</cp:coreProperties>
</file>