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E09-D4B2-46F5-8E68-A7AADB1B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9E4-AC5C-4CE6-9272-49A03EE7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C95-2DD3-4960-B762-ED68BB82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885-99D5-4D88-80AB-25129D37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C08-9293-41DD-9D2E-5D2EC45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688-E412-40F4-80C9-8ECE8159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5AC-82C2-4E1E-BD06-5DBA1F5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52A-8171-49E5-8E49-8385122B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D9D-03E4-487D-A865-E91B435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ED4-88A8-430C-A1E2-FDC7C45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451-4F2F-4ED5-88BF-B154317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EDC-F588-44CF-9A36-EF511CB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6F2-D199-4A69-B20F-BF9333910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Love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19160"/>
            <a:ext cx="9144000" cy="458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Your love, O Go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broad lik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ach and meado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7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1600" y="1143000"/>
            <a:ext cx="69944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Anders Frostenson, 1968; trans. by Fred Kaa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judge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your judg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t our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freedom’s open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us as f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your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nd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the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leave us f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ek you or reject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give us ro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nswer “yes” or “no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long for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our truest be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gi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urage to unf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k in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ace and sc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drea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ok fo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r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ants can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907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ut there are w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keep us all divid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ence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ith hate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is the bric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ortar of our pris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pride of sel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ison coat we w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13Z</dcterms:modified>
  <cp:revision>39</cp:revision>
  <dc:subject/>
  <dc:title>PowerPoint Presentation</dc:title>
</cp:coreProperties>
</file>