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D8A-89A9-40DF-9EDD-4BA51099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C14-E8D2-4271-9CB1-1AE64CDE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BE1-C53C-4705-9E11-3ECAD496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13D-3B29-49D8-A9B8-F9B557CE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735-7538-47D7-A754-D59EE3C3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B1A-F428-4D89-8A24-68154AD9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60A-12B9-4254-9229-32D7BF2E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F50-62F5-4C41-9750-EDFB0A96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171-B9A3-437E-99F8-63E2055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877-36AB-4BF6-BC2B-98945CB0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50D-B68D-4C71-9D5E-296271E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D3E-3396-4EC6-88AA-925B0B6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2A0-7EC4-41C1-9FCF-B580B062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3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come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et 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en, loved and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Brian Wren, 1968 (1 Cor. 10:16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s his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eak his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eak hi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we and w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ife laid down fo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ife laid d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63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come with Christia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nd near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ind, as all are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s Christ breaks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ids us sh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pr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sion ends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thus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eet our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 n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n such friend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tter kn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her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ogether m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go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fferent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0:09Z</dcterms:modified>
  <cp:revision>120</cp:revision>
  <dc:subject/>
  <dc:title>PowerPoint Presentation</dc:title>
</cp:coreProperties>
</file>