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303F-6BA0-4AAD-BF34-BEB626B7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0052-347D-417F-8832-EF4D3005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DDC-628C-462A-8528-C8803E21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1D0-67FA-4701-A48A-E07D9F94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D78C-968F-4EDB-B99D-8027D131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1843-A719-4377-BC48-20235854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BF04-EA31-466F-85FE-7A63BA9E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7C1-2395-41A4-986D-AD65CEBF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5A36-A69D-40A2-89CE-D70BA331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CB67-FB09-473A-89FA-08A60934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1837-837D-47C1-8F25-A16670B8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F57D-626F-49D9-B2D2-AB9F2A65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42ED-AF4C-4FBC-8E25-CA2B73DD3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nticle of God’s Glory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Gloria in Excelsi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38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ESPONSE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to God in the highest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peace to God’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eople on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God’s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10800" y="1676520"/>
            <a:ext cx="5665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Luke 2:14; John 1:29, ICET, rev. EL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927000"/>
            <a:ext cx="8763120" cy="5014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lory to God in the highes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peace to God’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people on earth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ord God, heavenly King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lmighty God and Fath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859040"/>
            <a:ext cx="8763120" cy="317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 worship you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e give you thank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 praise you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for your glory.</a:t>
            </a:r>
            <a:r>
              <a:rPr b="0" lang="en-US" sz="5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1477800"/>
            <a:ext cx="8915400" cy="374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ord Jesus Chris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nly Son of the Father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Lord God, Lamb of G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 take away th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sin of the worl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1859040"/>
            <a:ext cx="8763120" cy="317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ve mercy on us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you are seated at th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ight hand of the Father: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receive our prayer.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47780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or you alone ar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e Holy On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 alone are the Lor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 alone are th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Most Hig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7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esus Chris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ith the Holy Spiri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the glory of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God the Father.  Amen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19:49:19Z</dcterms:modified>
  <cp:revision>30</cp:revision>
  <dc:subject/>
  <dc:title>PowerPoint Presentation</dc:title>
</cp:coreProperties>
</file>