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75D-342A-4B43-A5A1-1BB857F7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942-D8F7-4C8E-80A5-FB7CCECA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774-3365-4D46-BE49-CF488AA2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C90-55E3-4E79-B157-61C70C23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0FC-726E-472C-BEEC-B14E002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E0C-29C1-422E-8578-7B07DCB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A17-C7F1-4D2D-9F1B-61273697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B74-B5BC-4537-A038-D41CD823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596-3711-45B5-A7EB-31CCD117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F28-6D39-4207-A0A7-09E6B513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228-B165-48A4-A0DB-7E6B4D18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680-3D86-4F5F-92C1-EBE3FD6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7A71-D02D-4E1C-92BC-99993D45E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61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in Our Music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Is Glorified</a:t>
            </a:r>
            <a:br>
              <a:rPr sz="4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red Pratt Green, 1971 (Mk. 14:2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in our mus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lorif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doration le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room for pr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as th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 creation cr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ow often, m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ic, we have f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new dimen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orld of s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orship mov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to a more prof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o has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turgy and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aith and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centuries of w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e witnes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th in every tongu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did not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a psalm that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utmost 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ove against the light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let u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hom he won the figh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et every instru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uned for prais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ve a voice to rais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y God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faith to sing al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16Z</dcterms:modified>
  <cp:revision>17</cp:revision>
  <dc:subject/>
  <dc:title>PowerPoint Presentation</dc:title>
</cp:coreProperties>
</file>