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A09-ABE6-4057-9A13-FF0F1798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D7F-C591-4992-838E-70D770A4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ABB-D02F-4844-84CB-DDC5C8F9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A33-193D-4847-896F-D0C7F5D9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270-3591-446A-9C41-F10A462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CEE-5CAE-4C20-9AE4-AB4EEE43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094-C501-472D-9FE5-F096349E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E74-7168-43D5-B1DF-0C0D8FD4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D82-510E-48B5-A239-15538667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4FF-42C6-422D-9560-26D6FCF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CE3-E5DC-4AFF-825D-F29131EC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6EA-A953-4475-964A-5B0D879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1A6E-BB78-4FB8-95C0-96809E806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Those Who Mo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ose Who M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Laurence Hull Stookey, USA, 20th cent. (Jn. 11:35; Mt. 5: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05120"/>
            <a:ext cx="819144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s your Son wept with Ma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Martha at the tomb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Lazar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ook with compassion 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ose who grie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[especially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ame(s)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]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them the assuran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your presence n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faith in you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eternal goo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n them may b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fulfilled the promis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at those who mour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shall be comforte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55:10Z</dcterms:modified>
  <cp:revision>154</cp:revision>
  <dc:subject/>
  <dc:title>PowerPoint Presentation</dc:title>
</cp:coreProperties>
</file>