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0735-E413-4F7E-9AF5-7A7A73C0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047B-91EC-4931-B307-335ADD86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2427-723A-4418-B642-E203DA79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6E75-46D6-48E7-A3AE-21F1CAAA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F6A0-CCBE-4C68-8E35-B0AF7E15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466B-1ACD-4C41-A97F-5970A127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EE7E-8469-4ABA-838D-B802D9B4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E6D8-9821-42A6-80AC-B28CB732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1A50-CC39-4619-8C36-FF7E3AA4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859E-F476-48AA-937B-0A71D805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6F7A-8938-46A1-BB84-10342405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A1D9-3D38-40AD-A7D4-2D05ECCC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BEC3-9D85-4844-A428-D19C6CAF8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Come and Dwell in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O come and dwell in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irit of power with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ring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lorious liber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sorrow, fear, and s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nd Dwell in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38160" y="990720"/>
            <a:ext cx="55803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Charles Wesley, 1762 (2 Cor. 3:17; 5:17; Heb. 11:5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Hasten the joyful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ch shall my sins consu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old things sh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done aw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ll things new be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nd Dwell in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I want the witness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all I do is r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ccording to 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ind and w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ll-pleasing in thy s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nd Dwell in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I ask no higher stat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dulge me but in thi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oon or lat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translat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ine eternal bli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nd Dwell in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8:24Z</dcterms:modified>
  <cp:revision>10</cp:revision>
  <dc:subject/>
  <dc:title>PowerPoint Presentation</dc:title>
</cp:coreProperties>
</file>