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3D7-9EB3-42DC-8EBC-6D32FAE8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E577-854D-4C3F-848C-71A4959E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6EDD-1023-4E88-99E9-F1FFE060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012-B366-485C-86CB-6D3AF94E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721-9FAC-40A7-9DE6-A20FC1A2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6C5-B410-4360-B6C7-BABB1FB6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EA7-A6B9-4177-AD00-D72A304F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F3D4-FD28-433A-8E8E-278DFD46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D84-35B0-499F-BBC1-D4A9A75F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4D8D-E5C6-4E5B-A81B-61D25F85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84D0-C74A-4CE4-929E-94E134CD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D7A3-330D-4BE3-89B9-83FE5095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D70C-0370-4D29-B1FD-E1F3A2614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nd By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 When the storm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f life are raging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;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en the storm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f life are raging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;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36640" y="900000"/>
            <a:ext cx="38703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Albert Tindley, ca. 1906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(Mt. 8:23-27; Mk. 4:35-41; Lk. 8:22-25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en my lif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becomes a burden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d I’m nearing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hilly Jordan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 thou Lily of the Valley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.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en the worl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s tossing m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ike a ship upon the sea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ou who rules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ind and water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.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4444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2. In the mids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f tribulation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;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br>
              <a:rPr sz="4800"/>
            </a:b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 the mids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f tribulation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;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en the hos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f hell assail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d my strength begins to fail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ou who never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ost a battl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.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3. In the mids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f faults and failures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;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br>
              <a:rPr sz="4800"/>
            </a:b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 the mids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of faults and failures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;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en I’ve don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 best I can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d my friends misunderstand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ou who knowes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ll about m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.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4. In the mids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f persecution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;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 the mids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f persecution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;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en my foe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 war array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undertake to stop my way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ou who save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aul and Silas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.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4444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5. When I’m growing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ld and feebl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;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br>
              <a:rPr sz="4800"/>
            </a:b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en I’m growing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ld and feebl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;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7:03Z</dcterms:modified>
  <cp:revision>10</cp:revision>
  <dc:subject/>
  <dc:title>PowerPoint Presentation</dc:title>
</cp:coreProperties>
</file>