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38B0-8943-4E88-B6A8-38AAE34E4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E59D-AC78-44AC-81C9-FD3051AA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DBA0-EC54-4B9C-BF21-784254B92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C7C4-997C-4BA3-9FF0-025FF6BF4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4F07-EC66-4471-82F7-13537493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41F7-F9FD-4197-8583-54CFA5CD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52D8-C10F-4ABB-8D40-21AC0C76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F4FD-EC35-418B-9C59-703CBB04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437E-FCCF-4F97-A621-9DF91FA2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F28C-034E-4B0F-9E21-16236733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2A6D-2431-4224-B79A-A3DAF18F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3840-1589-4D14-82AE-F77371ED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0C7A-1B5D-4561-81AE-CB4A386AD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839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ll Glory, Laud, and Hon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64600" dir="67483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glory, laud, and hon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e, Redeemer, K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whom the lips of childr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de sweet hosannas 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Glory, Laud, and Hon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440" y="1066680"/>
            <a:ext cx="908856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Theodulph of Orleans, 8-9th cent.; trans. by John Mason Neale, 185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Mt. 21:8-9; Mk. 11:8-10; Lk. 19:36-38; Jn. 12:12-1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Thou didst accep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praise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ccept the prayers we br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in all good delighte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good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cious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Glory, Laud, and Hon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glory, laud, and hon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e, Redeemer, K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whom the lips of childr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de sweet hosannas 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Glory, Laud, and Hon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Thou art the K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Israe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David’s royal S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in the Lord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ame come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King and Blessed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Glory, Laud, and Hon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glory, laud, and hon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e, Redeemer, K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whom the lips of childr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de sweet hosannas 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Glory, Laud, and Hon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he company of angel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e prai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e on hig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e with all creat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chorus make rep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Glory, Laud, and Hon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glory, laud, and hon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e, Redeemer, K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whom the lips of childr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de sweet hosannas 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Glory, Laud, and Hon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The people of the Hebrew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palm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fore thee wen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prayer and pra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nthem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fore thee we presen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Glory, Laud, and Hon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glory, laud, and hon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e, Redeemer, K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whom the lips of childr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de sweet hosannas 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Glory, Laud, and Hon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To thee, before thy pass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sang thei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ymns of prais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e, now high exalt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melody we 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Glory, Laud, and Hon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glory, laud, and hon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e, Redeemer, K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whom the lips of childr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de sweet hosannas 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Glory, Laud, and Hon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5T20:59:53Z</dcterms:modified>
  <cp:revision>44</cp:revision>
  <dc:subject/>
  <dc:title>PowerPoint Presentation</dc:title>
</cp:coreProperties>
</file>