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0E5C-4D18-4FA3-BF85-53B7F4969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17F6-7093-4FA8-8DCC-9C0232FAE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37B7-2AA6-4914-A4E3-DBF28E37B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21A3-3EE2-4D85-836E-D9F3F7611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6400-21DA-4043-A858-93A291168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C5A3-CAA5-4990-814F-6EA8E6E75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D2AB-C97E-49B1-BEA8-99251A25E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4272-C695-4021-84C1-D39E1C1D0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4E94-2BD0-436C-BB77-0EBD18B6F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B2CA-A25F-4554-8393-B31A6474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272C-0B7F-45E5-B6E0-51E1ADA3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72EA-4096-406F-8171-111F6496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014AE-2D0C-45CB-8BE1-7264F11E52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o Forth for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96080" y="304920"/>
            <a:ext cx="144792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7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1.</a:t>
            </a:r>
            <a:r>
              <a:rPr b="0" i="1" lang="en-US" sz="40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o forth for God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o to the world in peace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be of good courage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rmed with heavenly grac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66"/>
                </a:solidFill>
                <a:latin typeface="Times New Roman"/>
              </a:rPr>
              <a:t>By permission of Mildred Peac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Forth for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98880" y="1092240"/>
            <a:ext cx="296064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John R. Peacey, 1975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in God’s good Spirit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daily to increase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ill in the kingdom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e see face to face.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o forth for God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o to the world in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o forth for God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o to the world in love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trengthen the faint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ive courage to the weak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Forth for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help the afflicted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richly from abov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od’s love supplies th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race and power we seek.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o forth for God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o to the world in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o forth for God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o to the world in strength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hold fast the good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be urgent for the r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Forth for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render to no one evil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Christ at length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hall overcom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ll darkness with his light.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o forth for God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o to the world in streng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4.</a:t>
            </a: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o forth for God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o to the world in joy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o serve God’s peopl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every day and hou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Forth for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nd serving Christ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ur every gift employ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rejoicing in th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Holy Spirit’s power.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o forth for God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o to the world in jo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4:48:45Z</dcterms:modified>
  <cp:revision>11</cp:revision>
  <dc:subject/>
  <dc:title>PowerPoint Presentation</dc:title>
</cp:coreProperties>
</file>