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0E9-24AF-4BB0-AB01-E48BBBE9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A8B-CF85-40B8-9388-2BF86F1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414-0D9F-4C3F-B793-B0DDF353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128-ECD9-4B0F-ABC0-857E7B8A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9C4-1021-430B-86AA-85F0F5E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7D1-F5A9-40EB-877D-6CA2B43E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46B-EE9B-4B4F-9F2F-9D470E3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BA1-8C7B-4435-9192-22DF4CF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192-2107-4245-AB76-1016D6F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0A5-47F4-4463-B644-7E67E37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169-D05C-4C1B-91E5-FB64FE1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9CF-B36A-4688-BBCD-77215C3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1C2B-59ED-4EDD-AB03-EFA65E0C8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Is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9144000" cy="542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someone here moving towar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wilight of life and fearful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which we call 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be afraid? God is 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3 Martin Luther King, J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8000" y="914400"/>
            <a:ext cx="5147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rtin Luther King, Jr., US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someone here on the brink of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pair because of the death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ved one, the breaking of a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riage, or the waywardnes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chil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76520"/>
            <a:ext cx="9144000" cy="28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despair? God is able to give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 the power to endure that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ich cannot be chang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59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someone here anxiou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ause of bad heal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be anxious? Come what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y, God is 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ll: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ely God is 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1:03:30Z</dcterms:modified>
  <cp:revision>24</cp:revision>
  <dc:subject/>
  <dc:title>PowerPoint Presentation</dc:title>
</cp:coreProperties>
</file>