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E21-20B4-4B4F-81FA-54C9156A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364-F363-4AC3-98E2-427147E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97E-E490-497B-9359-1CA731B2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E3D-8800-43F8-836A-010876AB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5FC-2C7B-455A-97A8-2B6AE393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459-8A64-4811-9D2B-55B2117E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5F8-C53C-4CE3-8ED1-B85FC4E0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8BE-5D1C-473E-B61C-0F6619BA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AFA-1D13-4E4B-99CB-3239DC8F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1A9-8DC0-401A-8A88-5CFEDCB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D2C-A64D-4582-97FC-20B18678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9FC-1F01-44DE-BDBE-42240D3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4FD-3D36-4A57-B33E-5969BCF86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 Still,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is on your sid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r patient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oss of grief and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5520" y="1066680"/>
            <a:ext cx="74365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Katharine von Schlegel, 1752; trans. by Jane Borthwick, 1855 (Ps. 46:10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to your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rder and prov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chan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faithful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b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eavenly fri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orny 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s to a joyfu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od will undert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uide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ages p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op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confid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nothing shak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now myste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bright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aves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nds sti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rist who ru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m while he dwelt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ur is hastening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with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disappoint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ief, and fear are g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row forgo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’s purest joys rest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chang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rs are p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safe and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meet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9:03Z</dcterms:modified>
  <cp:revision>9</cp:revision>
  <dc:subject/>
  <dc:title>PowerPoint Presentation</dc:title>
</cp:coreProperties>
</file>