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3D4-122C-4C29-AD51-D310E85A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E8B-2AA3-49F9-9A2A-47D0FC4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A8B-7C42-422A-81FD-5C945954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E70-457F-45ED-8221-35151BEC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D12-18C3-4E7A-9644-C065273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75F-2C1A-487D-8236-0D2506B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886-8B9B-4AF0-92FE-94BD4C6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DAD-851F-461A-8573-F9498FB2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35D-26CA-4D95-8406-4B62D72E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15B-7267-4A77-95EF-338FD6D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5EA-3334-4B0F-AFEB-7D6E5A9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136-BCEF-41E4-A4C0-EF1B4F0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C67-4C3F-4156-89CC-09DCF0893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rue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6676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vern all by thy wisdo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o that my soul may alway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be serving th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s thou dost will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nd not as I may cho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5360" y="990720"/>
            <a:ext cx="3112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eresa of Avila, Spain, 16th cen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 not punish m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I beseech the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by granting that whic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I wish or as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if it offends thy love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which would alway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live i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die to myself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et me live to the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who in thyself art the true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35:33Z</dcterms:modified>
  <cp:revision>24</cp:revision>
  <dc:subject/>
  <dc:title>PowerPoint Presentation</dc:title>
</cp:coreProperties>
</file>