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3AAD-F3EE-4515-ACA5-22442A96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FDC7-8A09-41EE-8AB1-B953778F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24D9-E0A0-401C-BD36-5570F70F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C382-E4FB-4B62-8BD5-AE7870F6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D70C-4159-4C16-A5D0-27B42394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8BC9-C912-415E-8245-E6A4F5E7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6741-8551-4C5A-81D3-47D4DC2C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DE29-1EDA-4863-8651-B8E5EC7A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0153-FF9C-40CB-A523-013C464D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D867-33D9-492A-B42B-583D8308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5107-B68B-480E-8159-84AF1725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1B14-E033-476C-A12E-89E6B060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BF3F-E90E-46A0-AEED-920C197F0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d, That Madest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arth and Hea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, that mades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earth and heave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darkness and ligh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ho the day for toil hast give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or rest the nigh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That Madest Earth and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9360" y="1523880"/>
            <a:ext cx="814212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St. 1, J. Reginald Heber, 1827; st. 2, Frederick Lucian Hosmer, 1912 (Gen. 1:1-1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716040"/>
            <a:ext cx="8610480" cy="5426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may thine angel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uards defend 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lumber sweet th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mercy send us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oly dreams an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opes attend 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is live-long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 When the constan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un return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unseals our eye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may we, bor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ew like morn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labor 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That Madest Earth and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ird us fo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task that calls 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t not eas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self enthrall 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trong through the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hate’er befall 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God most wi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8:11:07Z</dcterms:modified>
  <cp:revision>26</cp:revision>
  <dc:subject/>
  <dc:title>PowerPoint Presentation</dc:title>
</cp:coreProperties>
</file>