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D71-3BC4-46B1-B4CA-B5B3D013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8A2-4988-493E-A9EE-6BBC081E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3C9-811B-4666-B8D0-9056AE4B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69F-B35A-476E-99B8-243D882D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542-16D9-4A33-A489-981F69EC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C95-5E9E-49ED-A15C-23C5C8E0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481-6A86-468B-9A5D-F23A9AFD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23E-08AB-4F40-A164-F3C68C37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C77-9BD0-49CF-9CDF-F3BAA4DE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BFB-83B6-499B-BE9C-39AE456A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C3F-E4B1-476F-BA72-F2C70D28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953-D2F7-431D-A5BD-C9EC5868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4430-B802-4EE5-92D0-71ECF2002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al Us, Emmanuel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ar Our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eal us, Emmanu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 our pray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a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eel thy touc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2400" y="1596960"/>
            <a:ext cx="7643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William Cowper, 1779 (Mk. 9:14-27; Mt. 9:20-22; Mk. 5:25-34; Lk. 8:43-4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end us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spairing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d n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healed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-wounded sou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repai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suc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ur faith is fee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conf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aint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st thy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wilt thou p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the less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at f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e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Remember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once appl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remb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relief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believe,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ears he cri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O hel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unbelief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She, too, who touch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e in the pr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a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irtue st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answe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Daughter, go in peac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faith h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thee whol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Like her, with hop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ears we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ouch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we m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20:19:21Z</dcterms:modified>
  <cp:revision>23</cp:revision>
  <dc:subject/>
  <dc:title>PowerPoint Presentation</dc:title>
</cp:coreProperties>
</file>