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955-22A7-412A-B6D0-014B655C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F70-6849-4F2A-9AE8-32565B3D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CC4-938C-4579-9139-780AD0AD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F11-E968-4499-8CE7-711BADA6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C5B-9802-42C5-A676-AB3F79FF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730-30D1-4AC7-A57D-91EC4F08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F1E-0DF0-420F-9B12-538CE814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9F7-2B97-42C8-BCAF-DD2D0FE7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288-83A8-4E0D-B104-623B288E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D3B-8CED-4F8B-833A-807F73C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189-F7C2-4794-9DE0-C7F9B7A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756-1008-40D6-9F89-A0BF448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8AA5-8EEE-4F30-8C80-0BA7F24F6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epare the Way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repare the w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repare the w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the Way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2880" y="1066680"/>
            <a:ext cx="337824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Isaiah 40:3; 52: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57200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9092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all peopl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see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alvatio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59092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457200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09Z</dcterms:modified>
  <cp:revision>55</cp:revision>
  <dc:subject/>
  <dc:title>PowerPoint Presentation</dc:title>
</cp:coreProperties>
</file>