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AA3-F7C8-4B09-8008-9720BB5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857-5AB2-4114-8716-329DB4D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52A-19AB-4B59-A840-C93FC64B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AED-E8DE-41C8-8E8D-5DB8D0F0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F75-1FC8-4284-8F15-20B1949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812-CA4A-4864-AD47-F63C1EBF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9E3-82EE-43EA-B51C-222B1B2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9A9-B207-4788-9357-5C5081B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A48-945D-4BFE-9A3D-90619664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933-86CF-40D5-B9A7-97EFC21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6BA-E2AC-41EB-8C1C-282C295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2DA-0B53-45AD-932F-F597D73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29F-15D0-43B4-8C07-78D35AC9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Ye Disconso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, ye disconsol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’er ye langui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 mercy s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rvently kne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28000" y="1066680"/>
            <a:ext cx="5694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Moore, 1816; alt. by Thomas Hastings, 183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bring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unded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tell your anguis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aven cannot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y of the desol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the st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the penit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deless and p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speaks the Comfor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nderly s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aven cannot cu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re see the bread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waters fl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th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st of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ever kn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aven can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4:28Z</dcterms:modified>
  <cp:revision>9</cp:revision>
  <dc:subject/>
  <dc:title>PowerPoint Presentation</dc:title>
</cp:coreProperties>
</file>