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7CA8-B3F9-4245-B026-E404E3F8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6EDE-9CCA-4C9E-94B2-83686C6D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2597-0046-4FB0-A6F9-1F1C65D5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4E16-CD8C-411D-8CBD-AEEFA691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F4AA-7C13-41F9-8791-15B79B2E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4E6E-53CA-497E-9762-2F2A4D0B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362D-0E01-4E7D-BA5A-89C209A2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3488-3996-4B26-A1BF-888357F0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D65C-6C08-4ACB-B6B0-1087A539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E7FE-F4D1-46C7-9134-2B7A5AFB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FC79-01E8-45D4-8F7A-AF57F338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1285-0895-4249-8726-06DB6420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7A55-F379-40FF-84DF-285E5C478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the Depth of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ve Div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depth of love div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unfathomable grac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shall s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bread and wi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into us conveys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e Depth of Love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harles Wesley, 1745 (Jn. 6:35-5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the b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flesh impar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the wi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ansmits his bl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lls his faithf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ople’s hearts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e lif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 wisest morta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ow how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race receiv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eble elements best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power no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s to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e Depth of Lov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explains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ndrous w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through the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virtue came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se the virt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d convey, y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remain the s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can spiri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ward r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earthly matter f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ink here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vine suppli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at immortal br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e Depth of Lov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k the Father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sdom how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who di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eans ordai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gels round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tars bow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arch it out, in v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re and re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the g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anner be unknow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ly meet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y way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erfect us in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e Depth of Lov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tast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avenly pow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we as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nothing mor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ne to bl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’tis only ours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nder and ad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6:43Z</dcterms:modified>
  <cp:revision>128</cp:revision>
  <dc:subject/>
  <dc:title>PowerPoint Presentation</dc:title>
</cp:coreProperties>
</file>