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F56-2093-4695-98D1-BC7F3376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310-6914-48DD-9A38-ECC39541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836-550F-4324-8290-03B5C99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F19-E656-451B-A9E3-2A16E615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33D-9B3F-4BAD-BF4E-54E2F48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294-71A1-4E9B-92A3-2A76517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76B-BA49-4DC7-A276-52374EB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CC6-3E7E-4784-BFDC-51A09ED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43A-DF92-4610-9AC3-49B4FAB0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638-E789-42D5-9A36-E0E0100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08B-5ABC-4FE0-8238-ABC907B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293-1E08-485E-AA89-2C43999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B042-3D16-4259-A705-396879C09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t Thi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ver be hung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4 Les Presses de Taiz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France;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This B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bert Batastini and the Taiz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 Community, 1982 (Jn. 6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in m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ill not thir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4:53Z</dcterms:modified>
  <cp:revision>123</cp:revision>
  <dc:subject/>
  <dc:title>PowerPoint Presentation</dc:title>
</cp:coreProperties>
</file>