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5847-4D2D-4830-B9D7-0CA53F92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1E5D-6F99-4B17-A0D6-3AFC5C87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965C-0264-4290-96A9-2939571D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9AFB-B47B-4DFF-A381-BA3514BF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389B-750B-474F-B2E9-84BC6456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B0A0-0EEE-42AD-87F4-5B833EDB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7D06-76B3-4FC2-A5F0-A972ECBA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E0C4-C14E-4F02-A60E-26ADDB19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7042-0F11-40A4-BBE9-396A9930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0234-FF65-4FCF-8DB9-65FBCC38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F057-2C6E-4B7F-A738-B999469A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2FD1-5057-49E2-91B5-BF44254C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5FAA-E333-4379-B7B8-2B13C07CD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We That Love the Lor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Come, we that love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et our joys be know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in in a s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sweet acc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us surround the thr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We That Love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0" y="114300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Isaac Watts, 17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Let those refuse to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never knew our Go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children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avenly 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speak their joys abro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We That Love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e hill of Zion yiel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thousand sacred swee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we rea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avenly fiel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walk the golden stree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We That Love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hen let our songs abou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very tear be dr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re marching throu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mmanuel’s grou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fairer worlds on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We That Love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20:55:08Z</dcterms:modified>
  <cp:revision>54</cp:revision>
  <dc:subject/>
  <dc:title>PowerPoint Presentation</dc:title>
</cp:coreProperties>
</file>