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BBF-E813-4329-9CE0-BB513456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9D4-0592-4C4A-A85A-2AB7C406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485-C3F0-431D-9B5E-92BF8D37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953-A21A-4668-815D-A2791FFE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66E-5932-41F3-83AD-0CEE1335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6D4-F189-4419-B708-2474AE9E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EAA-3689-4F64-89E9-EB7477E9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547-9911-4D05-A777-6F23A2E6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EAD-A9B1-45D1-A061-7D41491C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358-E96E-4611-9A1F-7DA70D3A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645-8FD2-432A-93DC-24D320D5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650-A1A0-409B-897A-9A8E5379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27F6-BBE8-414A-9F6F-F286A9D42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ntos y Palmas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Filled with Excit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antos y palm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sparciendo, v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l pueblo aleg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2, 1979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1760" y="1521000"/>
            <a:ext cx="67158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Rub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n Ruiz Avila, 1972; trans. by Gertrude C. Suppe, 1979, 1987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Mt. 21:8-9; Mk. 11:8-10; Lk. 19:36-38; Jn. 12:12-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in the dist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begin to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ding on a donk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s the Son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comes in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s in that entr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erusal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ing hosann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Christ, our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living Savi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still calls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king us to follow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lov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comes in th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á a lo lej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 empieza a mir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un pollino 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j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omo en la entrad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dos cantam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Jesús el Re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Cristo viv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nos llama h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ra seguirle c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or y 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illed with exciteme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happy thr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read cloaks and branch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city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9:07Z</dcterms:modified>
  <cp:revision>43</cp:revision>
  <dc:subject/>
  <dc:title>PowerPoint Presentation</dc:title>
</cp:coreProperties>
</file>