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6F5-FD38-491C-83DF-AD568B8D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220-E477-44D4-8263-3435ED5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D11-C713-43A4-A8BE-DD199CAB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3A6-F3B4-41B1-8724-36219E99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737-E4B9-4BDC-B621-EAED6F6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8F1-C352-4268-99A2-A34038DF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010-1DC2-4FF1-9116-BC912C5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BD2-4EFD-4EC5-BE46-20B33C2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1E5-6DC8-41FE-9F57-48144C0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B6D-5CF5-48D7-A324-31E510B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655-B432-4F2D-A439-E2D22E0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BF5-37F0-4DA3-A119-95CFF447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A7E-AC58-4A22-85B2-E76038A9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ye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 of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ll is safely gathered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re the winter storms beg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2920" y="1752480"/>
            <a:ext cx="5583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enry Alford, 1844, alt. (Mk. 4:26-29; Mt. 13:36-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096920"/>
            <a:ext cx="86104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ur Maker doth prov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wants to be suppli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le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worl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fie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uit as praise to God we yie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at and t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s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o joy or sorrow gr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st the bl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the 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full corn shall app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arvest, grant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some g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r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field shall in that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ffenses purg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rge at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n s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ly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8:34Z</dcterms:modified>
  <cp:revision>30</cp:revision>
  <dc:subject/>
  <dc:title>PowerPoint Presentation</dc:title>
</cp:coreProperties>
</file>