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96E-3780-4143-898E-394BA7DB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8AD-224B-4049-B5F1-F6F2DE01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ADA-8C5F-412E-8B60-2F6413D3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396-A2FD-4397-B64F-F5E0FEC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F10-270F-41A2-9D03-F7D8221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04F-2EDA-48B6-9A1A-30A448EF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3E7-6B40-4821-A336-0075522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E93-9C81-4F74-BF7C-3AB4731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3BE-A7A8-43AF-ACFB-BE30F84F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E0E-5BDB-4B72-8A62-39DD33C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BA5-EEA0-483A-89A5-D67F579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542-4BB2-4ABE-99C2-0F4AB05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548-4778-481B-8ACD-C8F04DE7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y Hope Is B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y hope is bui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nothing 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Jesus’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ighteous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9960" y="1066680"/>
            <a:ext cx="2773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dward Mote, 18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he shall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rumpet s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I 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be fou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ssed i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ness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ultless to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are not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weetest fr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lly le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darkness ve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lovely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est o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ormy ga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nchor 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the ve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is oath, his coven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pport me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elm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all a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gives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hen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ope and st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3:42Z</dcterms:modified>
  <cp:revision>17</cp:revision>
  <dc:subject/>
  <dc:title>PowerPoint Presentation</dc:title>
</cp:coreProperties>
</file>