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800-1F44-4694-8826-66089BB1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E59-32C0-40E2-8828-DE1EC908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2BF-3B05-45DD-AD24-817B27B2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9AB-04D3-48C0-B368-ED55D591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A00-BC52-4E2F-AFAE-34EBAB08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B8F-8FEB-4049-85C5-01204F4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141-0029-4B20-9256-DDC91C08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39E-9038-41F4-8430-2AD35C16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552-D1BB-4B85-8BAB-07BF4E5D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791-244D-42D2-8521-1EF8221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828-F402-4E01-858C-5AD4D47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1B9-F186-45D5-92F4-3270409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BFE-6C2E-4C2D-9F5B-EC710F7F8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0" y="304920"/>
            <a:ext cx="9117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p from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Robert Lowry, 18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Low in the grave he l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iting the coming d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53Z</dcterms:modified>
  <cp:revision>79</cp:revision>
  <dc:subject/>
  <dc:title>PowerPoint Presentation</dc:title>
</cp:coreProperties>
</file>