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B4E-CFF4-4802-900C-C7AC7675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07-2854-44F1-BB0C-CCD0C05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718-3146-40CC-9A93-BB74765C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2E4-9CB9-4C46-A342-FCC904AF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D97-9AF4-424A-8745-76E0B772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757-315C-4271-97E1-436171A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3CF-7601-434A-8878-FD76999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55A-A244-4D89-ACD0-8577BAE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D24-1379-4DF8-BF8E-EF4DF76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962-F8E8-4736-8208-025226E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9FE-949D-409C-B881-C54102B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E97-4B0E-4EA6-AD61-6C6A0E1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ED9-1C99-4FAB-AD17-2518E571B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Created Heaven and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d create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and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ught to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83  Boris and Clare A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1014480"/>
            <a:ext cx="5464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Trad. Taiwanese hymn;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rans. by Boris and Clare Anderson, 1983 (Gen. 1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reat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de dark and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revol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et us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mercy grea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ne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love awa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ho fash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each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blessing g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is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ll ever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ols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re v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ndmade go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od and c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help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ut God’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com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ves u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ath’s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earth’s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mall and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for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st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45:47Z</dcterms:modified>
  <cp:revision>13</cp:revision>
  <dc:subject/>
  <dc:title>PowerPoint Presentation</dc:title>
</cp:coreProperties>
</file>