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0C2-9A23-473F-B6B8-3A7175CA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93A-CC16-47A1-8A48-33BCE6E0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07C-72F2-47F6-BF4B-A09D317F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682-09CB-46A9-9B54-6A2A39D4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A43A-3E2D-47D8-98DA-13379AE6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5C31-3516-4BFD-88CD-1099FFA0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B559-6BEC-4FA9-899D-B1D3B2E1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A771-8564-4C54-A8C8-B23334FE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FEE1-34BD-4985-A461-54C36FB0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6148-949C-4C12-A25B-6F2B82FA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1F5-F086-40AC-9F34-608417DF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FCAC-AFA7-45FB-83B6-0FA84A9E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8210-DA24-4DE2-A7F7-73BF6CE9D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th in Thy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me, O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Forth in thy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 I g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daily lab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pursu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e, only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solved to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all I thin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speak or d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The task thy wisd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th assign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e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heerfully fulf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all my work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presence f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rove thy g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erfect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hee may I s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t my right h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ose eyes m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most substance s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abor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y comm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ffer all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ks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For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lightfully emplo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ate’er thy bounte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ace hath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run my cour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even jo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losely wal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e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1:18Z</dcterms:modified>
  <cp:revision>148</cp:revision>
  <dc:subject/>
  <dc:title>PowerPoint Presentation</dc:title>
</cp:coreProperties>
</file>