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3F0-E918-47F9-9FD0-AF9F90A3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DBE-4B2E-4186-909C-D816E97E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1BE-6A76-486F-80D1-605732BB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93B-31A0-4A25-8AEE-6ADB9C16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5C7-0725-41BE-92D7-5BF51CEB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419-0656-4DEE-AD2C-CCEA6E93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2C9-DA2C-4F5A-857F-C1490938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672-A2F7-4C71-81FB-48E1FDCB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63D-2059-428C-ABAE-EC259D92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5A2-2D17-440F-AEDF-3B98BA70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D7C-B181-4CCA-9D82-70EA8515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85A-6A67-47AB-B9E8-DD4DB236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B22-19C4-423B-948F-E3CFA12A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are the Eagl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s Her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The care the eagl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ives her you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fe in her lofty nes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s like the tender love of Go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us made manif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3280" y="1623960"/>
            <a:ext cx="453492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R. Deane Postlethwaite (Dt. 32: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s when the ti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venture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 stirs the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t to f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we are pr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oldly t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trive for daring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if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utter helpless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fledgling eagles f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us li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mighty w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ar us,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3:02Z</dcterms:modified>
  <cp:revision>34</cp:revision>
  <dc:subject/>
  <dc:title>PowerPoint Presentation</dc:title>
</cp:coreProperties>
</file>