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3A9-8FE1-4761-9005-87DAE4A4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E7D-DE80-4DE7-8ED6-D9564C8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77D-AD16-4FAC-A994-DE4F318C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58F-96AA-4248-B50D-3695A01F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485-CCD7-4E6F-A1FE-123352C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FDA-B3AE-425B-8BD2-13ED86BF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EB4-E5EE-4285-8C89-3A7AAF3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E78-9E9B-49E0-9D23-D0605A08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32F-EF82-4A3E-8AA4-AA7E04FC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7BF-4458-436B-B5FF-D8490905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971-2393-40D9-8279-5D3AE36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793-785D-4D47-9EFE-05FC76A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E64-6724-463E-8385-A6ED7F62A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Help for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thcoming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lmighty and everlasting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you have safely brought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o the beginning of thi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elp for the Forthcom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86080" y="1600200"/>
            <a:ext cx="617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; alt. Laurence Hull Stookey, 198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8001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98108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Defend us with y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mighty pow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grant that this da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e fall into no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81080"/>
            <a:ext cx="80769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neither run into any kind of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dang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ut that all our doing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rdered by your governance,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905120"/>
            <a:ext cx="81532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may be always righteo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in your sight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rough Jesus Chris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ur Lor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6:14Z</dcterms:modified>
  <cp:revision>17</cp:revision>
  <dc:subject/>
  <dc:title>PowerPoint Presentation</dc:title>
</cp:coreProperties>
</file>