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BAE-F1E3-4C46-B8B1-B08AF44E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8D1-5F14-4A15-83AC-8F331A0F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EE7-2DD8-4217-BD90-797D3D8C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F8A-D446-46E8-8DE8-1C48ED1F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0DD-0273-4BB2-A97E-E87CC295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AA6-9C74-4BE6-B937-B4D8FE3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FEA-D8E2-4269-B497-D62BF9F4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834-CDA5-4C4F-81DF-686BA89E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A1D-9767-4D90-A1C7-17E14910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640-677B-4246-9331-F229507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97E-2C05-4C3F-AE26-2B35DA93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99D-6CDB-4F8F-89EE-11D4B77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675B-E693-4B2E-A915-4BEDB423E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the S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ff"/>
                </a:solidFill>
                <a:latin typeface="Times New Roman"/>
              </a:rPr>
              <a:t>The Book of Common Prayer; </a:t>
            </a: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alt. by Laurence Hull Stoo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76520"/>
            <a:ext cx="826776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od of compassio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source of life and health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strengthen and relie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ervant(s),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ame(s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55760"/>
            <a:ext cx="85345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give your power of heal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o those who minist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o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eir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need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t those for whom our prayer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re offer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may find help in weakn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have confiden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in your loving ca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003320"/>
            <a:ext cx="85345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him wh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healed the sic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is the physicia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our soul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even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50:27Z</dcterms:modified>
  <cp:revision>152</cp:revision>
  <dc:subject/>
  <dc:title>PowerPoint Presentation</dc:title>
</cp:coreProperties>
</file>