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7DFA-9C6C-431C-AB47-505DC758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DDC2-94EB-4C8A-9623-FB625735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0C7A-0FA7-4D5A-BEA9-8C4D9BAC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4163-7437-4832-A86E-EE1815AD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0FF0-EC18-40BF-9734-28274F56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C2AD-9C1D-4F3B-8CD8-E20309DF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76B1-5171-4632-A631-0ACAB630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0023-9FE0-4174-ACEC-560C0EEA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631F-CAAF-41A8-B066-DA61D7D5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C1BD-2090-4B53-8C57-4CB863ED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FD55-66C5-4D8E-B143-09D28999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9753-F58E-4A86-B14A-706000AA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5559-094E-46E7-813E-99AB7EA09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e, Sinners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o the Gospel Fe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: Charles Wesley, 1747 (Lk. 14:16-2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Come, sinne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the gospel feas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every sou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 Jesus’ gu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thou, this mome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t his c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live for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o died fo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e need not o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 left behi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God hath bi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l 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Sent by my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 you I call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invita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s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, all the worl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, sinner, thou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l things in Chri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re ready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Come, all ye sou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sin oppress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e restless wander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fter r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e poor, and maim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halt, and bli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Christ a hear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elcome f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My message 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rom God receiv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e all may co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Christ and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let his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r heart constra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t suffer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die in v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5. This is the ti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 more delay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is is the Lord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ccepted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7:12:17Z</dcterms:modified>
  <cp:revision>96</cp:revision>
  <dc:subject/>
  <dc:title>PowerPoint Presentation</dc:title>
</cp:coreProperties>
</file>