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F72-5C0A-4EA3-BF25-37FB28A6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BF9-E731-4198-9AC8-CEE60D0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125-6CE3-4C64-A71F-2A0971CB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C8-60D4-4560-9D34-AFD4CEB1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AD9-DC84-4F6C-AE12-44D3E4C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73C-554E-4D62-BF38-2E0319F0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65A-9C59-4A2D-8C64-E94B143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FC5-913C-4377-953A-2F5FB42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D49-3AA0-412C-9908-C84A696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32D-A239-4065-AF0D-BC85161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2FC-222A-4A19-824C-98AC75E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3CF-DCC6-4E0D-8690-5CB4F59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C4C1-4F86-4D8C-A630-1C673135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Lanny Wolfe, 197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mighty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’s w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14Z</dcterms:modified>
  <cp:revision>88</cp:revision>
  <dc:subject/>
  <dc:title>PowerPoint Presentation</dc:title>
</cp:coreProperties>
</file>