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3B0-7F09-4220-9AF6-EF69A786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68B-8BA7-46C0-95E8-92EB9A17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F31-E5B9-46D1-B23D-4FB8C8A4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D67-F472-46B3-8DF1-98C20C04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BED-A49F-4847-BA26-2643BCC6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004-DEA9-478A-826E-94200D4A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FE8-AC36-4749-9DEC-C116732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724-664E-461B-8896-5A92930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99C-7856-40DD-8EB4-0196FEFE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696-4278-4CCE-96A7-F298525F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EB5-F62E-425E-98C6-6D469AF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1BF-CEB0-419A-93FC-9E10444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838A-4116-47D9-A642-3CDC9F3A8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x Me,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02680" y="1066680"/>
            <a:ext cx="513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Rev. 6:11; 7:9-14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8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ng white ro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tarry cr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48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urne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43000"/>
            <a:ext cx="9144000" cy="446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ying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4:19Z</dcterms:modified>
  <cp:revision>13</cp:revision>
  <dc:subject/>
  <dc:title>PowerPoint Presentation</dc:title>
</cp:coreProperties>
</file>