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36D-48D4-4B6A-8BF9-57C79714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94B-802C-41BC-9192-A2C05E6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318-BCC5-4320-ACEE-C1E5FE58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D57-2C1B-4412-9DC1-C3AA6E6C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540-2FE5-4526-AD4C-519879D3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A72-3AE1-481D-B8B6-069B7988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C28-5D21-4C34-8B8F-E70E4F6B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973-9902-44E2-ACB4-580EACB1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897-F59E-4D72-B3DB-0B1C2A64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530-043A-4266-AC01-5AA24168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A96-B5E5-480C-B8C5-90B867E6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B5A-4745-4075-B117-884C040B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7159-044B-45D7-AB64-2285AE9B8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I Want to 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Lord, I want to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e a Christian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n my heart, in my heart;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Lord, I want to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e a Christian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8840" y="1066680"/>
            <a:ext cx="3417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47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a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more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47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more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47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like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47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17Z</dcterms:modified>
  <cp:revision>22</cp:revision>
  <dc:subject/>
  <dc:title>PowerPoint Presentation</dc:title>
</cp:coreProperties>
</file>