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73F-A958-4A39-B54D-E261BE82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FBF-571E-46B4-ACB3-913019E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451-7C87-40D4-A45A-8283242A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CE1-3E7D-4D9A-AE4A-518B8E14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1DA-21CF-4D31-B0E7-A28A2564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A57-B9FE-4ABF-B079-1E7BB829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461-0D6C-48A0-9603-69654CC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2AB-C26E-472E-ACA4-3F41A86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6A0-F504-4B3D-A896-602C38D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9EB-37A4-4041-AA3D-EFA5D21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8E2-BA0E-4E7E-8E43-0F5224F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3E7-4C48-4983-98E0-96EBBA50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1CB-BE55-4C0A-9BD8-3B509F27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Bowring, 1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4:19Z</dcterms:modified>
  <cp:revision>50</cp:revision>
  <dc:subject/>
  <dc:title>PowerPoint Presentation</dc:title>
</cp:coreProperties>
</file>