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794D-9B8D-44DD-AFD4-7EB7DB277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E239-588A-4368-A428-984E5E33B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C58E-45D7-4CD6-8796-FA8CD3B6C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6178-A8C0-4D26-B8CC-AB058E44F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B2B4-778D-4681-8CF6-07E44AEF1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BAFC-BFC0-4CFB-A009-AD757C32B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127A-A791-4F4D-8C68-25243432C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C3D2-3AED-4BF9-B6DE-A61AC0E23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D77E-CFF5-4A23-AE41-54627516E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CAD0-95C5-45E4-832F-99A0A615F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127F-3160-4395-8DE8-B5346C999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F78D-4BB9-4B7F-8A01-CF7A4689D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B0478-EFF3-4AF2-BA58-D6F4CE9319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o, He Comes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ith Clouds Descend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71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743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Lo, he comes wi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louds descend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ce for favor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inners slai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, He Comes with Clouds Descend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223440" y="1752480"/>
            <a:ext cx="26967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WORDS: Charles Wesl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2666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Yea, Amen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all adore th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gh on th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ternal thro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, He Comes with Clouds Descend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avior, take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ower and glor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laim the kingdo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thine 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26668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allelujah! Hallelujah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allelujah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verlasting God, come dow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666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ousand, thousan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aints attend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well the triump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his train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allelujah! Hallelujah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allelujah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appears o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arth to re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2666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Every eye sh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w behold hi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obed 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readful majest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, He Comes with Clouds Descend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ose who set a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aught and sold hi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ierced and nailed hi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e tre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eeply wail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eeply wail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eeply wail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all the true Messiah s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666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The dear token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his passio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ill his dazzl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ody bear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, He Comes with Clouds Descend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ause of endles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xultatio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his ransom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orshiper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24382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what raptur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what raptur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what raptur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aze we on thos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orious scars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6:59:36Z</dcterms:modified>
  <cp:revision>55</cp:revision>
  <dc:subject/>
  <dc:title>PowerPoint Presentation</dc:title>
</cp:coreProperties>
</file>