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7CA-63FF-48D5-B3B1-FD3EB1FF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FEC-CE54-47C1-9845-BAFCE09A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B63-52E7-47DE-B71E-42A1B7FA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A79-8126-4829-8C3A-731E5198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AF7-47D5-4668-A864-035E711D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EDD-E493-4822-91FE-BBA8EEC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A0C-6030-4173-BA9D-CAB3581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311-0108-4C1A-988E-BBBCDFD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F8F-B033-4C64-921B-F48D175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27E-A18C-4399-AD82-744B60E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7F4-162E-46AF-B785-71D3437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BCF-59D9-4EA9-9E65-415ABED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38D-C33F-4AE4-82B3-F3BA2277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 in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9080" y="1244520"/>
            <a:ext cx="712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ward flo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22Z</dcterms:modified>
  <cp:revision>23</cp:revision>
  <dc:subject/>
  <dc:title>PowerPoint Presentation</dc:title>
</cp:coreProperties>
</file>