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DDAF-C759-44A4-907B-54BA153A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1200-06CF-4F11-B13A-F3CF54AA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A959-2649-4496-837F-3C352510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963-B871-4FE8-AB76-29A45444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1C6-637B-42AD-BF89-2BDE761F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2F9-8D33-4192-82D3-EDE397EE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D70-277F-4F39-A01A-5B9E816E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D947-4AB1-44FD-A0D8-139074BD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75D-2453-4F12-9D1C-582BAD77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14D-0E2C-4723-BB06-B04891A9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536-7679-403D-8689-6036E364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BEF-4603-424B-B183-D10D262C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32CF-CEC8-4863-B874-00D38128A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gels from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alms of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Angels from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alms of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ng your f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all the ea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5720" y="1523880"/>
            <a:ext cx="7005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ames Montgomery, 1816 (Lk. 2:8-20; Mt. 2:1-12; Mal. 3: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Saints, befor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tar ben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tching l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hope and f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ddenly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descen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tem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appea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 who sa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eation’s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procla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essiah’s birth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Shepherds,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eld abi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tching o’er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locks by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th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now resi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nder shin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infant ligh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Sages, le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r contemplat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ghter visio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am af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ek the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sire of nation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 have se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tal sta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26:27Z</dcterms:modified>
  <cp:revision>67</cp:revision>
  <dc:subject/>
  <dc:title>PowerPoint Presentation</dc:title>
</cp:coreProperties>
</file>