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1AF-E146-490F-AC8C-4145A8C6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35E-1C78-4B75-938F-C8DAAC8B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9483-EA41-4A15-842F-1F65A104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0E4-ED71-4B88-B460-31D4F31B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A66-9A18-41D6-89A7-C008C9F6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9CD-34E0-4B49-B3D2-1B3F0D46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4A4-926B-47C8-9CEA-C86455CA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E59-0BC0-484C-BE7F-A69254A5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52C-1EDF-4590-A1E8-F44485E4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AB1-587B-47C4-BC01-BF080CEB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2B7-2A0B-4D62-ABB6-B4F9DC89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FF0-831C-4C26-A29F-0482566C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FC59-1204-425E-8A75-1A151844F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We Are Living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Pues Si Vivim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WORDS: St. 1, anon., trans. by Elise S. Eslinger, 1983; sts. 2, 3, 4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Roberto Escamilla, 1983, trans. by George Lockwood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1987 (Rom. 14: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13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we are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Christ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 we’re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560" y="1600200"/>
            <a:ext cx="7750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Pues si vivimo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ara Él vivimos y si morimo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para Él morimo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vivamo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muram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 Si Vivimos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 Si Vivimo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752480"/>
            <a:ext cx="8763120" cy="23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 Si Vivimo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120" y="1219320"/>
            <a:ext cx="5600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En esta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utos hemos de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obras buen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para ofren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sea que 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reciba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 Si Vivimo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828800"/>
            <a:ext cx="8763120" cy="23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 Si Vivimos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1066680"/>
            <a:ext cx="4841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En la trist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dol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bell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sufra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goc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 Si Vivimos (Estribill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676520"/>
            <a:ext cx="8839080" cy="23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 Si Vivimos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1143000"/>
            <a:ext cx="5546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n este mu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mos de encontr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nte que ll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in consol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ayu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aliment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914400"/>
            <a:ext cx="8686800" cy="472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Co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765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th in our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our dy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752480"/>
            <a:ext cx="8610480" cy="23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Are Living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2360" y="1295280"/>
            <a:ext cx="70005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rough all ou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our fruits must gi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works of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for offe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are g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receiv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752480"/>
            <a:ext cx="8610480" cy="23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4920" y="1219320"/>
            <a:ext cx="6517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’Mid times of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imes of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ensing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in love’s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ther we su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sing rejoic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828800"/>
            <a:ext cx="8153280" cy="23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1080" y="1066680"/>
            <a:ext cx="71348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cross this wid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alway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are cr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no peace of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when we help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we feed th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838080"/>
            <a:ext cx="8305920" cy="480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Co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7:30Z</dcterms:modified>
  <cp:revision>118</cp:revision>
  <dc:subject/>
  <dc:title>PowerPoint Presentation</dc:title>
</cp:coreProperties>
</file>