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A24BF-F236-4E70-A997-46496F3E9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B5C68-5163-49A7-B5C7-834DFBEAA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FB076-32D0-4351-9A2A-7CC1727C2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80622-F428-4A21-B1DB-BAC4D8525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D59AA-2048-49E6-B76B-C73D39C59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D52DA-2D30-425C-BA8B-088D0921B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95FCE-2A5C-4B5D-9375-B463D004A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E50D1-253F-422E-ABB9-A1CC93997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CC297-9B1A-43EE-B8C3-6CDD89AAC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37E15-B2CE-4551-A34F-887EF036B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7F013-AB61-41C5-A827-7288FC097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28A9D-FF2E-429D-B841-724613F05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0BF33-40F0-4E3F-8EBD-42DAAB6D45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ccff"/>
                </a:solidFill>
                <a:latin typeface="Times New Roman"/>
              </a:rPr>
              <a:t>In Time of Ill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228600"/>
            <a:ext cx="1523880" cy="764280"/>
          </a:xfrm>
          <a:prstGeom prst="rect">
            <a:avLst/>
          </a:prstGeom>
          <a:noFill/>
          <a:ln w="9360">
            <a:solidFill>
              <a:srgbClr val="99cc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ccff"/>
                </a:solidFill>
                <a:latin typeface="Times New Roman"/>
              </a:rPr>
              <a:t>46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 Time of Illne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990720"/>
            <a:ext cx="914400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ccff"/>
                </a:solidFill>
                <a:latin typeface="Times New Roman"/>
              </a:rPr>
              <a:t>Georgia Harkness, USA, 20th cen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905120"/>
            <a:ext cx="8420040" cy="4363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  <a:ea typeface="Arial"/>
              </a:rPr>
              <a:t>O God, who dost forgive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  <a:ea typeface="Arial"/>
              </a:rPr>
              <a:t>   our iniquities and heal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  <a:ea typeface="Arial"/>
              </a:rPr>
              <a:t>   our diseases, we cry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  <a:ea typeface="Arial"/>
              </a:rPr>
              <a:t>   </a:t>
            </a:r>
            <a:r>
              <a:rPr b="0" lang="en-US" sz="4800" spc="-1" strike="noStrike">
                <a:solidFill>
                  <a:srgbClr val="ffff00"/>
                </a:solidFill>
                <a:latin typeface="Times New Roman"/>
                <a:ea typeface="Arial"/>
              </a:rPr>
              <a:t>unto the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© 1943 Whitmore &amp; Stone, renewed 1970 Georgia Hark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04920" y="1187280"/>
            <a:ext cx="8839080" cy="448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  <a:ea typeface="Arial"/>
              </a:rPr>
              <a:t>Our strength has been brought low,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  <a:ea typeface="Arial"/>
              </a:rPr>
              <a:t>   and we know not what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  <a:ea typeface="Arial"/>
              </a:rPr>
              <a:t>   the future holds.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  <a:ea typeface="Arial"/>
              </a:rPr>
              <a:t>   In our bodies, there is pain;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  <a:ea typeface="Arial"/>
              </a:rPr>
              <a:t>   in our souls,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  <a:ea typeface="Arial"/>
              </a:rPr>
              <a:t>   anxiety and unres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533520" y="609480"/>
            <a:ext cx="8610480" cy="5943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  <a:ea typeface="Arial"/>
              </a:rPr>
              <a:t>If it may be,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  <a:ea typeface="Arial"/>
              </a:rPr>
              <a:t>  restore us to health.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  <a:ea typeface="Arial"/>
              </a:rPr>
              <a:t>  We ask no miracle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  <a:ea typeface="Arial"/>
              </a:rPr>
              <a:t>    of deliverance,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  <a:ea typeface="Arial"/>
              </a:rPr>
              <a:t>    and if in the order of nature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  <a:ea typeface="Arial"/>
              </a:rPr>
              <a:t>      our suffering must continue,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  <a:ea typeface="Arial"/>
              </a:rPr>
              <a:t>      help us to accept it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  <a:ea typeface="Arial"/>
              </a:rPr>
              <a:t>      without rebellio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609480" y="1552680"/>
            <a:ext cx="8534520" cy="3749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  <a:ea typeface="Arial"/>
              </a:rPr>
              <a:t>If it must lead us toward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  <a:ea typeface="Arial"/>
              </a:rPr>
              <a:t>  the valley of the shadow,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  <a:ea typeface="Arial"/>
              </a:rPr>
              <a:t>  help us to fear no evil,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  <a:ea typeface="Arial"/>
              </a:rPr>
              <a:t>    but to go bravely into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  <a:ea typeface="Arial"/>
              </a:rPr>
              <a:t>    thy nearer presenc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533520" y="1370160"/>
            <a:ext cx="8610480" cy="4130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  <a:ea typeface="Arial"/>
              </a:rPr>
              <a:t>In thy good keeping, all is well.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  <a:ea typeface="Arial"/>
              </a:rPr>
              <a:t>  Into thy hand, we commend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  <a:ea typeface="Arial"/>
              </a:rPr>
              <a:t>  our bodies and our spirits.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  <a:ea typeface="Arial"/>
              </a:rPr>
              <a:t>  Do with us as thou wil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  <a:ea typeface="Arial"/>
              </a:rPr>
              <a:t>Am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5:17:45Z</dcterms:modified>
  <cp:revision>155</cp:revision>
  <dc:subject/>
  <dc:title>PowerPoint Presentation</dc:title>
</cp:coreProperties>
</file>