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5A1-D79F-49E3-B7F6-E0471F2D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0B4-ADD4-4932-9A2E-44FCFCC0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401-B0E9-4CC5-831C-2B9CC3CF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29E-A74F-4B5C-86C8-02A1E67C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EBC-B2A6-464A-AFBC-3B87AC84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1A6-DF89-4646-A5B7-CDEAB520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07B-8E2E-4869-BD0F-914CE3E2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545-056B-43C3-8993-256BD278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785-7B1C-498B-8115-3D4C3694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837-2C15-4B3E-98E2-1A61141E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1F8-BDE4-4780-912C-E59ECB79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44D-1335-4FD5-9863-23925E0F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A3A9-AE29-4E97-BD8D-E773ED76E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Breath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O Breath of Lif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ome sweeping through u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revive your church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th life and power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eath of Lif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3440" y="1066680"/>
            <a:ext cx="4905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Bessie Porter Head, 1920 (Acts 2; Jn. 20:2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Breath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cleanse, renew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it your chur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eet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Wind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bend us, break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humbly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nfess our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eath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in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nderness remake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vive, rest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is we p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Breath of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breathe within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newing th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ll and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Breath of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love of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fresh to win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vive your chur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very 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7:47Z</dcterms:modified>
  <cp:revision>14</cp:revision>
  <dc:subject/>
  <dc:title>PowerPoint Presentation</dc:title>
</cp:coreProperties>
</file>