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8DE-E480-47C0-8F4A-C7AA6197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493-33A9-4F1F-AEF5-548A1B5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716-13BA-4424-B4D1-BCF54EDC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E16-772C-4496-8393-34CFA84A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E1C-2859-4231-A071-9A415E2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751-8734-4FF6-8FC2-1E959E7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495-B292-41F5-8921-0D9F9D8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EDD-DBD0-42E9-95A7-0FDA8A5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5B2-C64D-4071-9E75-E9168F6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B78-521A-48FE-ACAF-29028DF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EF0-4D2E-40FA-AD74-1D2ED79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875-F7BB-4E1B-8424-03D5A22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2D1-BFDB-41A3-9985-E4C27024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Surrend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. W. Van Deventer, 1896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19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1604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066680"/>
            <a:ext cx="19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elf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762120"/>
            <a:ext cx="19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2:24Z</dcterms:modified>
  <cp:revision>112</cp:revision>
  <dc:subject/>
  <dc:title>PowerPoint Presentation</dc:title>
</cp:coreProperties>
</file>