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7FC-8F67-4D52-85E9-F335040B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C88-AF46-4918-80E3-1E75E646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FA5-6667-4D7C-A115-A3376007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766-06C9-49F2-B954-81CE62C8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7D4-19AB-41D3-9996-3FB31B9E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1B4-5B99-49DA-A182-752D5D5C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65D-2EFE-4958-A8B1-0CFB05AD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D2F-1DE6-42D1-909E-859A8B74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02C-D262-4B56-B17E-0403935B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001-5CC6-4C5B-B72A-F23986FF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DCD-066F-4BE2-8DAF-7B09392C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FAC-E76B-4A61-A76B-9F7C393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3851-BF41-404B-B8FA-F17F5002A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aster Vigil or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1952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through Jesus Christ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you overcame death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and opened to us the gate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f everlasting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Vigil o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79800" y="914400"/>
            <a:ext cx="307044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The Book of Hymns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, 19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666880"/>
            <a:ext cx="883944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Grant that we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who celebrate the day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f our Lord’s resurrection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may, by the renewing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f your Spir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0968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arise from the death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f sin to the life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f righteousness;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35:19Z</dcterms:modified>
  <cp:revision>20</cp:revision>
  <dc:subject/>
  <dc:title>PowerPoint Presentation</dc:title>
</cp:coreProperties>
</file>