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D8F-F418-4C60-B912-C4D0649C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439-B8E6-4015-9589-4BF49C22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AE2-A5DD-40ED-A673-972B8E7C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B0C-667E-4F86-A94D-65119C6A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AB7-35C3-4D1E-A499-8089681A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55A-873B-469F-89C8-8FFE79B1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DA2-CE1A-4A8E-BB77-EBDAD58B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650-92CA-4778-A0E9-515556DD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B16-84F6-4E46-99D1-54603312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E7D-CFE7-41D4-81A4-EA3DBC2F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B33-A0D7-4C99-A9C9-41B932C5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AED-1533-4505-91B8-86DA3C3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FAEC-83C3-40FC-8B5E-BD1A3B983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Protection at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951200"/>
            <a:ext cx="830592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Dear Jesus, as a hen covers her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chicks with her wings to keep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them safe, do thou this nigh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protect us under your golde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wings. </a:t>
            </a:r>
            <a:r>
              <a:rPr b="1" lang="en-US" sz="47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Protection at 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8040" y="1066680"/>
            <a:ext cx="3260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d., India (Mt. 23:37; Lk. 13:34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4:41Z</dcterms:modified>
  <cp:revision>19</cp:revision>
  <dc:subject/>
  <dc:title>PowerPoint Presentation</dc:title>
</cp:coreProperties>
</file>