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B94-F8F5-403A-B4BD-6E8DF339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F50-B2CB-4996-B1FB-CB836ECE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55E-1304-4793-8443-8CEA1015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700-89A2-4927-AB51-F8EF0B63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306-C9CF-453F-8AC4-584DF87C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C92-E6FC-4F37-929E-620219D3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6CB-A085-4F7A-9AC1-A47B778E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568-C1D9-4927-9168-58EFFE12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DE3-FDFC-44D3-BC59-349817E3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2EA-3439-4E80-859A-727C5600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C77-F81D-4CB2-BA67-C8A7AF74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4C1-4B0D-4696-AC3D-3C725CF4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8735-1BC3-48AA-A23B-900AF9D88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My Prayer Rises to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47920"/>
            <a:ext cx="9144000" cy="49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y  permission of Vietnamese Min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6520" y="1066680"/>
            <a:ext cx="2809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Dao Kim (Ps. 141: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Lord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I wish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ould live with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rest of my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welling in your hou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ould feel assu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y prayers wou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always in your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O Lord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lov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ice and truth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your judgments are ju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tr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yond compar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in you do I tru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As the thirsty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oks to hea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life-giving r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ave flower and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I raise my ha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gh in prayer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fend me from all peop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try to harm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4:32Z</dcterms:modified>
  <cp:revision>9</cp:revision>
  <dc:subject/>
  <dc:title>PowerPoint Presentation</dc:title>
</cp:coreProperties>
</file>