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0B7-22C5-453E-8389-681FD7BF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5DB-FC27-41D5-9AAE-E34EF657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4DE-1394-455D-81B8-FDC50E56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ADA-9D39-4619-87B6-E7C6936A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12F-C079-4823-A553-8AEBB304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C4C-8A3E-4793-BD5B-DE8B10CA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A93-A8E2-499B-AA8B-07473B5F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B0E-B004-40C0-BA7F-A59FCF9B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C55-F9F6-4B0B-A314-5C5B98C4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1D0-DEA4-4DA1-A5B8-F9AF2AC7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9D8-4741-42B7-B5D8-F79E6AA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C11-E1EF-4FDF-933A-85F4C442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58DD-E4BC-45AC-AA45-D053D10CD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ues Si Vivimos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When We Are Liv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t. 1, anon., trans. by Elise S. Eslinger, 1983; sts. 2, 3, 4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oberto Escamilla, 1983, trans. by George Lockwood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1987 (Rom. 14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Pues si vivimo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ara Él vivimos y si morimo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para Él morimo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vivamo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muram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971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057400"/>
            <a:ext cx="221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rough all 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ur fruits must gi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orks of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or offe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are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receiv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66688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752480"/>
            <a:ext cx="221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’Mid times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ime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ensing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in love’s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we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g rejoic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5146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600200"/>
            <a:ext cx="221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cross this wid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alway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ar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o peace of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when we help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we feed th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47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114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85800"/>
            <a:ext cx="220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352680"/>
            <a:ext cx="1904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195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057400"/>
            <a:ext cx="220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n est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utos hemos de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s bue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para ofren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sea que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reciba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195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057400"/>
            <a:ext cx="220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n la trist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bell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sufr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goc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7432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057400"/>
            <a:ext cx="220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este mu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mos de encont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nte que ll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in consol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ayu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aliment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6002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581280"/>
            <a:ext cx="220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3434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85800"/>
            <a:ext cx="220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we ar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Chris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 we’r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th in our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our dy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48Z</dcterms:modified>
  <cp:revision>115</cp:revision>
  <dc:subject/>
  <dc:title>PowerPoint Presentation</dc:title>
</cp:coreProperties>
</file>