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60B-8050-415E-8848-9E71BB59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4B7-041F-457E-BB20-99FD234D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731-5BE0-46FE-AB0B-75473008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3BC-9565-4FE7-A5FF-8603ADA4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F25-64A5-4B09-AA58-9502C34E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DC0-4286-4616-BF39-A4840764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D6F-8DC5-444F-BF28-40E1351B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52A-97E0-4658-A230-77360294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DA8-222E-48E7-A958-F0876A6A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8201-DB0C-43B3-A279-6C93C580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D2B-5323-4325-A768-06A73BCA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8A2-32AF-4719-B489-A4E60793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7C9-76E3-4215-BA12-BBAB7C4A4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’ Hands Were Kind H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78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us’ hands w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ing good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ing pain and sick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ing children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 by permission of A. S. Hopkin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7760" y="1116000"/>
            <a:ext cx="3588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Margaret Cropper, 19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ing tired feet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ng those who fa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hands w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ing good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ake my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m work for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them st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ent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d in all I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e watch you,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I’m gentle to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my h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kind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ick to work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34:47Z</dcterms:modified>
  <cp:revision>30</cp:revision>
  <dc:subject/>
  <dc:title>PowerPoint Presentation</dc:title>
</cp:coreProperties>
</file>