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5981-29F7-47CA-9AA9-0F392E0BE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676A-C95C-4713-B65F-12FF69A2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F340-FE5D-4F89-ADEA-E83C5912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44DE-BECA-497B-9B51-3658542C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E344-60D6-4923-9339-22F83416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E0C1-3480-47FD-8CED-AAE70824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1359-E79D-4061-93A0-8F6B6568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35FE-DB42-4D82-BC8B-D590B4EC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4E1D-2B53-4D49-890B-9E90F7C2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E24E-0633-4F86-AB83-23940FAF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84FA-7900-4EA1-AD19-A1FD0BF0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6384-1695-4D85-8D91-5296A3D7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DE01-1B01-416F-B967-85AE450B6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 Want Jesus to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lk with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4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I want Jesus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lk with me.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walk with 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want Jesus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lk with me.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walk with 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Jesus to Walk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African American spiri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along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ilgrim journe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, I want Jesus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lk with me.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walk with 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68600"/>
            <a:ext cx="9144000" cy="34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In my trials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lk with me.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walk with 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my trials, Lord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lk with me.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walk with 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Jesus to Walk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my heart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most break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Lord, I want Jesus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lk with me.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walk with 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668600"/>
            <a:ext cx="9144000" cy="34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When I’m troubled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lk with me.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walk with 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I’m troubled, Lord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lk with me.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walk with 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Jesus to Walk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my hea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bowed in sorr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Lord, I want Jesus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lk with me.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walk with 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5T16:18:18Z</dcterms:modified>
  <cp:revision>48</cp:revision>
  <dc:subject/>
  <dc:title>PowerPoint Presentation</dc:title>
</cp:coreProperties>
</file>