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067-C656-46A1-8468-19D07469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1C6-1761-42F0-8E4B-D80288E1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B4B-059A-42D1-9985-D42501BD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D74-5FAF-426D-ABF8-CD2D0E93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99A-187D-4DD0-9443-332DF5CD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EF3-B58B-4247-A93D-C282BB64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80C-A9DF-4DF7-9E4C-D5D5343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E07-8DA1-4F45-8AFE-59AC5F50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8A7-71C8-4096-828B-316B32FE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481-2A19-46F7-9BA7-68E7D26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335-DBE1-4085-AA27-676633F7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7C9-5852-481E-9C87-C65335C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B578-300D-4F33-8C5B-D89593F6D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78; alt. 1987 (Rev. 21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me to rememb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For by the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death of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d’s might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as th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make fo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of differe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faith and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born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en le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the Spirit da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ep from the p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eave beh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disappointmen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lt, and griev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ing new path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ur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hrist is al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oes befor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show and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In faith we’ll ga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ound the ta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aste and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19Z</dcterms:modified>
  <cp:revision>131</cp:revision>
  <dc:subject/>
  <dc:title>PowerPoint Presentation</dc:title>
</cp:coreProperties>
</file>