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D4E-7E1A-4C47-B867-2D2437A6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7C3-2AA8-48A5-8388-F1E8CA9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598-7598-4FCF-8179-BFFFA1DA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C6E-80E0-4E5B-B3CA-8578F45F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214-A62A-475E-A16C-5DC41838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8CE-C553-4126-BF3D-115C94FF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1F1-D662-4AAB-A6B1-B0F9E02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678-21CD-43C6-BE3A-7CF5FAA9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0DB-4CAB-4A44-9C27-936A6B84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685-E604-4265-AD2C-82050D5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F92-5721-4B03-83AA-70E6234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CA3-2528-4C2B-9FB3-19D950B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ABD4-B422-471F-8C2C-21977487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ticle of Redemption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De Profund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iver 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de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72600" y="1647720"/>
            <a:ext cx="4797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Psalm 130; response, Psalm 120:1-2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8610480" cy="58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t of the deep have I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alled to thee, O Lor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ord, hear my v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 let thine ears consider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well the voi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of my complain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79560"/>
            <a:ext cx="8839080" cy="49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thou, Lord, wilt be extre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mark what is done amis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 Lord, who may abid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or there is mercy with the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therefore shalt thou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be fear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06600"/>
            <a:ext cx="8839080" cy="566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look for the Lor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y soul doth wait for him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his word is my tr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My soul fleeth unto the Lord   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before the morning watch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I say before th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morning watch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01800"/>
            <a:ext cx="8839080" cy="50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Israel, trust in the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 with the Lord there is merc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with him 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lenteous redemp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he shall redeem Israe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from all their sins.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07:58Z</dcterms:modified>
  <cp:revision>30</cp:revision>
  <dc:subject/>
  <dc:title>PowerPoint Presentation</dc:title>
</cp:coreProperties>
</file>