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7810-B091-4DD3-85DD-CAAFDE43A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0FA1-6197-4869-A3AA-DE451A6C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735E-3D28-4DAE-A9D9-E67948BC5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7EB1-14E0-4865-9C0F-C4AEEC76F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F723-D712-4A68-9411-424AE139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D8D8-B0CE-4A5F-8374-C468429D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E1AB-3C39-42D5-9F26-DE694584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59AD-1CF7-42F3-A505-CE17E3C9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9CDA-F2F4-4086-8A81-DADAF969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0E81-5FFF-4812-98C2-8D75F56E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5516-6A86-402F-AED0-008AB7EB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7629-4FC0-41DA-BD8E-9A1A0F3B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FD55-DCFF-495B-8408-EA73F5027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lory to God, an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aise and L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. Glory to God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d praise and lov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e ever, ever given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y saints below and saints above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church in earth and heav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y to God, and Praise and L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15960" y="1600200"/>
            <a:ext cx="2511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harles Wesley, 17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4479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0. He breaks the power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f canceled sin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e sets the prisoner free;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blood can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make the foulest clean;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blood availed for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y to God, and Praise and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5238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1. He speaks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d listening to his voice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new life the dead receive;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mournful, broken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earts rejoice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humble poor belie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y to God, and Praise and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4479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2. Hear him, ye deaf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praise, ye dumb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our loosened tongues employ;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e blind, behol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our Savior come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d leap, ye lame, for jo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y to God, and Praise and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952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3. Look unto hi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e nations, own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our God, ye fallen race!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ook, and be save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rough faith alone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e justified by grac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y to God, and Praise and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37160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4. See all your sins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n Jesus laid;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Lamb of God was slain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soul was onc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 offering mad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every soul of m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y to God, and Praise and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2952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5. Harlots and publicans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d thieves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n holy triumph join!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aved is the sinner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at believes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rom crimes as great as m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y to God, and Praise and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14300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6. Murderers and all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e hellish crew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e sons of lust and pride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elieve the Savior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ied for you;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me the Savior di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y to God, and Praise and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2952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7. With me, your chief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ou then shall know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hall feel your sins forgiven;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ticipate your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eaven below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d own that love is heav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y to God, and Praise and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479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2. On this glad day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the glorious Sun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f Righteousness arose;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n my benighte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soul he shon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d filled it with repo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y to God, and Praise and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Sudden expired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gal strif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’twas then I ceased to griev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second, rea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ving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then began to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y to God, and Praise and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37160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4. Then with my heart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first believed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elieved with faith divine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 with th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oly Ghost received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 call the Savior m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y to God, and Praise and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952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5. I felt my Lord’s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toning bloo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lose to my soul applied;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me, me he loved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Son of God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me, for me he die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y to God, and Praise and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37160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6. I found and owne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promise true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scertained of my part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my pardon passe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n heaven I knew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en written on my hear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y to God, and Praise and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479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7. O for a thousan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ngues to sing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my dear Redeemer’s praise!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glories of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my God and King,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triumphs of his gra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y to God, and Praise and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479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8. My gracious Master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d my God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ssist me to proclai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 spread through all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earth abroa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honors of thy nam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y to God, and Praise and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37160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9. Jesus! the nam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at charms our fears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at bids our sorrows cease;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’tis music in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sinner’s ears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’tis life, and health, and peac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y to God, and Praise and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47:41Z</dcterms:modified>
  <cp:revision>9</cp:revision>
  <dc:subject/>
  <dc:title>PowerPoint Presentation</dc:title>
</cp:coreProperties>
</file>