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1D4-F617-4051-9F8D-44F4A4EB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EE9-6FA9-4C85-BF5C-DD475164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B5D-094D-48D0-8915-F456FE2A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064-197D-4D6A-93E0-4849C393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668-168A-4580-92DA-EA3A93C7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961-70B6-4D82-AF80-FFF5E0AE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9A7-38EF-423A-B0FF-38E6CA83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BAF-D1AA-4B5C-969F-8FEE0953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8E2-A475-4166-9FF2-6B8633A6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7EB-71AB-4A02-9729-8A443E6E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DD0-A4D6-4F92-9D1D-E92CF1AA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751-0359-491C-853B-5A71477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2A18-4407-4ABA-956F-139DFB6CB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the Bleak Midw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In the bleak midwin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sty wind made mo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stood hard as ir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ter like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8040" y="990720"/>
            <a:ext cx="5824080" cy="414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Christina G. Rossetti, 1872 (Lk. 2:8-1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now had fall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now on s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now on s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bleak midwi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Our God,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not 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earth sust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lee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he come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bl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dwi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stable place suffic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ngels and arch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y have gathered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erubim and serap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nged the 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his mother on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er maiden bli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ed the belov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ki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What can I giv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or as I am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were a shephe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would bring a lamb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were a Wise 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would do my p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t what I c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give him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15:30Z</dcterms:modified>
  <cp:revision>67</cp:revision>
  <dc:subject/>
  <dc:title>PowerPoint Presentation</dc:title>
</cp:coreProperties>
</file>