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71C-1A05-4DA7-B477-36F358C4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E72-4E6F-49CF-A60A-5D6934D4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57A-149A-43DE-92D3-0CB4408B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0E1-2C64-4808-AB27-2F60B6A1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047-D016-4163-BD12-AA9CD77A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0BC-B288-451F-8901-50F05B9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AD0-DE7D-471D-8288-9B57D856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13A-F68E-4355-B5D4-A6DAD09D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BE9-A03F-4FC0-ACB8-47999BE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80A-869B-46F2-A307-C07FCAE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309-D948-43E1-99B7-B3ABA61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35C-0586-4FBE-AB97-698EE29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E9D9-4E80-4217-B194-60494BDA1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come to U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iving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ving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ich the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The Westminster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iriam Drury, 1970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newed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ly comfort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-failing w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pring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inc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to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ovenant sig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Christians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te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ed bo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aise th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, O Lor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37:46Z</dcterms:modified>
  <cp:revision>131</cp:revision>
  <dc:subject/>
  <dc:title>PowerPoint Presentation</dc:title>
</cp:coreProperties>
</file>