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546-0028-4C67-A3FD-E6B6277E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608-216A-4482-B5EF-8CC8300B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65A-C510-4C44-AE5B-A555555F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196-FE71-408D-8461-2E53F45D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651-1436-4360-BA5C-C4C81672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0F6-0814-4C4C-B568-4850B8CB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31D-BE91-46F8-B2ED-AAA9F957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CB1-0F92-4D9A-B376-67C95D98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B11-0B1B-4E70-9950-9A54F560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060-F34D-467D-8259-2A309AA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DB0-31F4-402E-8B0D-BE80ED58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F39-9E84-431C-9239-08CE9324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A88B-8972-4CF6-8207-88D7170DE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is Is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1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our prayer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our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Our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48Z</dcterms:modified>
  <cp:revision>31</cp:revision>
  <dc:subject/>
  <dc:title>PowerPoint Presentation</dc:title>
</cp:coreProperties>
</file>