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1CB-FEAC-49AB-AC73-80A6F8F3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FF7-DDB7-433E-BD09-B8BD941C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792-7D2C-4169-AC73-24DD054B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B1A-B020-4249-926E-4D8F687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B06-654E-49CE-9E5E-F688EC3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AB2-893E-4D07-B9CC-3A95C20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436-A21F-437A-A767-8272DF2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6AE-1559-4BE4-82A0-F27EA8C9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92A-0E91-4681-8424-852A330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DD8-4D5B-4A20-A334-4AD24FE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69C-44F4-4FA2-A0DF-D2DB2AA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703-6E72-4072-9CBD-7107233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6DD-6123-4F64-8557-5C072F36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Jordan’s Stormy Banks I St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1000" y="228600"/>
            <a:ext cx="114300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 Jordan’s sto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ks I st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st a wishful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naan’s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pp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my possessions l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9320" y="99072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amuel Stennett, 17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I shall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ppy pla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be forever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I shall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ather’s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his bosom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952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’er all those 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tended pl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s one eternal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God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catters night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chilling wi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poisonous breath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 that healthful sh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ckness and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elt and feared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59Z</dcterms:modified>
  <cp:revision>54</cp:revision>
  <dc:subject/>
  <dc:title>PowerPoint Presentation</dc:title>
</cp:coreProperties>
</file>