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6FC-83B7-4E9D-886A-491FCBD0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1A6-1D48-48FD-A6B1-A41715C9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952A-1A8C-4C5E-ADBD-D6FD9FC4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A34-024D-401C-AB84-54DCD112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3BA-395D-482A-A1BC-EF64E549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E65-841A-493B-A90D-8688BB4C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FD0-F82C-4928-A72E-FD90728B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C16-4FC0-47B2-9DD7-0FB10F84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C10-1775-4DE9-90B5-59E82D8E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7B0-C867-4F40-9D3E-BB2AE551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FB3-AE0F-470B-B96B-30B73B25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95C-D122-483F-981A-9E319245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8CC9-DA5A-49F8-8820-E54CF9D37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untains Are All Ag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4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ountains are all ag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utumn colors so br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vers are filled with wa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ing life to our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67 The United Methodist Publishing Hous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Ok In Lim, 1967; trans. by Hae Jong Kim, 1988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versification by Hope Omachi-Kawashima (Ps. 65:9-13; Acts 14: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606680"/>
            <a:ext cx="9144000" cy="447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to our God.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imes New Roman"/>
              </a:rPr>
              <a:t>(give thank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praise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Early spring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 to s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od’s rich seeds of lif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king ha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ing God’s ea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ing preparatio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ing forw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reward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rvest so plentifu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mised blessings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be ou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ach revel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ly eyes can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ble hands can to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arves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blessing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606680"/>
            <a:ext cx="9144000" cy="447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to our God.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imes New Roman"/>
              </a:rPr>
              <a:t>(give thank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praise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Praise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’re plan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 in each hear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as s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shine and the r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the seedlings may g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sert l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seem barr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ers still might bloo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sting in God’s prom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thanks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show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ly eyes can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ble hands can to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arves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blessing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lden fields w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praise to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untiful harve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tefully, skyward ar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 our joy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s of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606680"/>
            <a:ext cx="9144000" cy="447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to our God.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imes New Roman"/>
              </a:rPr>
              <a:t>(give thank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praise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ly eyes can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ble hands can to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arves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blessing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371600"/>
            <a:ext cx="9144000" cy="4593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to our God.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imes New Roman"/>
              </a:rPr>
              <a:t>(give thank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praise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Every land so abundant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ch the harvest bear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orchard is fi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uscious, ripe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fru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 and rain b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’s desig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come at proper ti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king ha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as given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sons for deep gratitu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ly eyes can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ble hands can to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arves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blessing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1:20Z</dcterms:modified>
  <cp:revision>27</cp:revision>
  <dc:subject/>
  <dc:title>PowerPoint Presentation</dc:title>
</cp:coreProperties>
</file>