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3FE-A050-458B-A923-AB2C7B8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BB2-E791-4390-B9A8-EE3364F0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98A-FD9C-4465-A270-EE1D8EB9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951-737B-4EF6-95A0-A4E73B67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973-9C06-4932-B905-557296AC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392-BA4F-4B21-A608-9B159D6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F12-5853-4806-9E7A-651A5E3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D99-247A-4551-8110-4E7E443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1F8-5A04-481E-A178-E4D4E6A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F14-9416-41DF-A7AC-681941A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921-0A47-4074-9284-D3ABBA7C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669-96B6-4C27-ABCB-BB32A82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6EB2-F225-4A57-922B-A28EC490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0520" y="1143000"/>
            <a:ext cx="312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5146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312408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9718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9718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4:47Z</dcterms:modified>
  <cp:revision>40</cp:revision>
  <dc:subject/>
  <dc:title>PowerPoint Presentation</dc:title>
</cp:coreProperties>
</file>