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D2D8-FD40-4D63-97F3-9EE489B89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44C6-75B4-4C56-80C0-26ED84C5C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1E45-0A10-4C64-B3E1-2DAE07542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9890-E3EB-485C-98A9-D75C45216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C60F-8EF3-45A1-A74C-910ADD6A5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83DC-7D17-473C-B94C-2668A0299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A7D6-8B43-4814-A59F-E23F3C3EF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AAD1-2DA5-41A9-9B08-D523E86B2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20D3-4707-409F-9A90-196944BB4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6E70-D72F-49B0-936A-45EF35881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12C7-D71C-4474-A64E-6B8B6A2F0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C66F-4A4B-427B-8F87-F0E335CB3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8673C-C896-4B7F-BB00-41FAFE8A7D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rise, Shine Out, 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Your Light Has Co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72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90920"/>
            <a:ext cx="9144000" cy="3881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Arise, shine ou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your light has com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unfolding cit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our dreams.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© 1989 Hope Publishing 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ise, Shine Out, Your Light Has Co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49320" y="1600200"/>
            <a:ext cx="360072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imes New Roman"/>
              </a:rPr>
              <a:t>WORDS: Brian Wren, 1986 (Is. 60:1-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25146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en love shines ou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every fac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ur good, our glor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del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5909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n distant hill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 glory gleams: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new creatio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as begu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25909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Above earth’s valley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ick with nigh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igh on your wall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dawn appears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ise, Shine Out, Your Light Has Co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6668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histor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hall dry its tear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s nations marc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ward your l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24382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From walls surpass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ime and spac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unnumbered gate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ike open hands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ise, Shine Out, Your Light Has Co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25909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hall gather gift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rom all the land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welcome al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human r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25909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 The sounds of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violence shall ceas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s dwellings of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alvation ris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ise, Shine Out, Your Light Has Co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25146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sparkle i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ternal skie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rom avenues of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raise and pe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23623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5. The dancing ai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hall glow with ligh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sun and moo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ive up their plac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ise, Shine Out, Your Light Has Co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20:27:22Z</dcterms:modified>
  <cp:revision>56</cp:revision>
  <dc:subject/>
  <dc:title>PowerPoint Presentation</dc:title>
</cp:coreProperties>
</file>