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414-EFAA-4C85-BDC1-9DE58D89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DE2-A6CB-4D1B-972B-E963DD1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790-99A4-4AD4-BB9F-38B9265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5B4-FB6A-4AE0-A497-8F856042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6D2-5204-46ED-A051-952F280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3A0-706E-464F-B2F3-43631C4E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A1F-BDD0-4554-B390-E1EFCCF6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3C5-6AB0-47CC-A611-7D24137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320-82B9-4D62-A899-F57E496F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C2F-92D2-4EA0-9636-75C6E68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B06-0031-492F-9898-FAB6AC0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DB-5CCA-4CCA-8F95-3E63467A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159-C25F-4B81-92B4-68BE59F09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, on L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Sea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Now, on l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a descend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ngs the n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ts peace pro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23200" y="1676520"/>
            <a:ext cx="3294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Longfellow, 185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As the dark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eepens o’er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! eternal stars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ing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ing in 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ho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holy 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on as di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unset gl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of heav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e ou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, our wan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urdens lea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God’s ca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cares for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40Z</dcterms:modified>
  <cp:revision>24</cp:revision>
  <dc:subject/>
  <dc:title>PowerPoint Presentation</dc:title>
</cp:coreProperties>
</file>