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87F-F675-496E-AA48-5A7B8004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3BD-2719-4271-A437-7FD30945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988-EEB3-4F6E-9A0C-DD0F75D0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943-F860-4C04-B62C-B7E42A01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75F-76A4-4D3C-BF54-2FE2CF89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000-D269-4825-BA22-31B4BCAB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448-B290-4AFC-9F7F-F49DD34E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740-08B8-45BA-B790-D00335E8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825-BA26-46E1-BC24-6057BE47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82C-A60F-4CC4-8536-6FB1004C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2B0-0764-423C-9378-601F4615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46B4-5161-413C-8F4A-1A4CA3BF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F65B-6B50-462A-B06F-92A5466B4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st Jesus Bear the Cross Al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Jesus Bear the Cross Alone 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8610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homas Shepherd and others, 18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Must Jesus b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ross al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the worl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 f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16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, there’s a 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every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re’s 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oss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Jesus Bear the Cross Alone 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ow happy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ints ab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once w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rrowing he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now they tas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mingled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out a t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Jesus Bear the Cross Alone 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 consecra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oss I’ll b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death shall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t me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n go h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crown to w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re’s 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own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2:26Z</dcterms:modified>
  <cp:revision>141</cp:revision>
  <dc:subject/>
  <dc:title>PowerPoint Presentation</dc:title>
</cp:coreProperties>
</file>