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A5A-328A-4444-B7FC-A171EDB3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31E-CF82-46B4-B26A-F28AB199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48E-D421-4C31-B5E8-AEEE46A6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8D86-8107-4B7C-BB4F-B8D1A0F0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9516-38DD-4971-9AF6-8C8C0F0A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27C-6F65-40A9-91CB-65277630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3909-F4A9-4750-9EF2-13A789FF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D01-9D67-4787-962D-A9973697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8AB9-4F03-4523-8B35-26982E5E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978-7856-4899-9DA9-FA47ADFA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A57-9FEA-4ADC-9B5F-CB37E22D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AE3-7A36-4181-A42F-132D759E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1552-5F0C-4EF3-BB2F-7A84F5189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reely, Fre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345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God forgave my s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Jesus’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’ve been born aga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Jesus’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72 Communiqu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é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ly, Free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07600" y="1139760"/>
            <a:ext cx="4536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Carol Owens, 1972 (Mt. 10:8; 28:18-2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n Jesus’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come to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hare his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he told me t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said, “Freely, free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have receiv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eely, freely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ly, Free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 in my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ecause you belie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thers will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I l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All power is giv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Jesus’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earth and heav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Jesus’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ly, Free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n Jesus’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come to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hare his p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he told me t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said, “Freely, free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have receiv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eely, freely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ly, Free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 in my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ecause you belie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thers will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I l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42:02Z</dcterms:modified>
  <cp:revision>13</cp:revision>
  <dc:subject/>
  <dc:title>PowerPoint Presentation</dc:title>
</cp:coreProperties>
</file>