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0D5-0842-4023-B474-2A6AE548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F6C-8428-4635-983B-B7BCD70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97A-1E28-4D18-A18E-200D7BCC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A55-275A-4000-A3D4-B3B23434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DBE-679D-4784-ACD5-2BA73DC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004-09AC-432A-BC93-A4BE7DD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D74-E75B-4DC9-B352-F7F8EA98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1A2-F37F-4A50-822A-1140F80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771-696D-482B-B9AA-0B48D16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177-0F95-49F8-A4C8-A535260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26E-B920-412E-AA32-0440266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92F-A9A5-4964-8323-5751BD5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1BE-1171-411A-A5DD-30C7D851A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ning Glory, Starlit S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orning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lit sk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aring mus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holars’ tru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by permission of J. W. Shor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7160" y="1116000"/>
            <a:ext cx="460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W. H. Vanstone, 1980 (1 Cor. 13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a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of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 of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love mus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Here is Go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monarch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ned in eas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te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s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arms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ching, sp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sus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ight of swall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umn lea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mory’s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of you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pen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ft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mind and s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dden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agon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endeav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exp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Love that g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s ever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s with z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ager h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ares not, keeps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tp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enture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all exp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Drained 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aking fu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und in set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thers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or in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y r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ak in 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refore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ows us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less ha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0:04Z</dcterms:modified>
  <cp:revision>45</cp:revision>
  <dc:subject/>
  <dc:title>PowerPoint Presentation</dc:title>
</cp:coreProperties>
</file>