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EE20-E060-490F-AAE1-92047708C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6B17-8745-493B-ADA9-F76C62E9C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75DE-D96D-4D5F-B715-1328488CB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B8F0-E8DE-4BC4-993D-9165BCD4A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BABD-4302-4872-941E-525078A43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BE6E-2ED3-4452-83E2-DF7BDBAD7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317A-2EBE-4359-8EE0-1EFDAD381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E589-9F67-4213-8666-C4A39C356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A16A-1939-4128-BA34-149CBA620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211E-A13C-4C63-B93F-6A02B7F4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3005-9C05-4387-A4DB-A7ADD36B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F97E-9F8E-4D45-89A6-955214CC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ACDBC-FC3D-49A9-8A2A-EC87D2EB16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 Food to Pilgrims Giv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3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O food to pilgrims giv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bread of lif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heav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manna from on hig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Food to Pilgrims Giv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</a:t>
            </a:r>
            <a:r>
              <a:rPr b="1" i="1" lang="en-US" sz="1600" spc="-1" strike="noStrike">
                <a:solidFill>
                  <a:srgbClr val="ffff00"/>
                </a:solidFill>
                <a:latin typeface="Times New Roman"/>
              </a:rPr>
              <a:t>Maintzich Gesangbuch,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 1661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trans. by John Athelstan, Laurie Riley, 1906 (Jn. 6:35-5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hunger;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upply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r thy deligh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eny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se hear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e draw ni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stream of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ast tell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purest fountai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lling from out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avior’s sid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Food to Pilgrims Giv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faint with thirst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vive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thine abundan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ive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all we need prov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thee bidd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here adore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dden in form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bread and w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Food to Pilgrims Giv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ant when the vei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s ris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may beho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heav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countenance div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19:46Z</dcterms:modified>
  <cp:revision>133</cp:revision>
  <dc:subject/>
  <dc:title>PowerPoint Presentation</dc:title>
</cp:coreProperties>
</file>