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101A-4088-4B8D-851F-9C991C73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C5D-643F-4DB6-8F2F-81079FDA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EF9-9AE0-457C-B482-64726107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735E-B1FE-4AC7-929E-7037B72E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64DE-0DD7-4F1F-A622-A2FC2B6C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737-88AF-4C95-9816-A6C95378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F72B-3ADE-4C03-8AC5-30F7BEB6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1617-E103-4644-9874-1F5D8C48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E507-03C3-4839-9351-B660D7E2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8C33-E3FB-4C10-AD08-F0A23321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595D-CF70-401F-B840-027BDD51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315-6252-460B-B367-1DDFCB46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7638-DB6B-4077-B60F-D56090911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r Overcoming Ad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1919160"/>
            <a:ext cx="81532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ord, we pray no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for tranquillit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nor that our tribulation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may ceas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Overcoming Adver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34640" y="1052640"/>
            <a:ext cx="3503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irolamo Savonarola, Italy, 15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e pray for th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spirit and thy lo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at thou grant us strength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grace to overcome adversity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through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5:03:52Z</dcterms:modified>
  <cp:revision>21</cp:revision>
  <dc:subject/>
  <dc:title>PowerPoint Presentation</dc:title>
</cp:coreProperties>
</file>