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A62-BA8C-4532-9365-6C031BD5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6D8-A4BA-427A-B4F4-C5CC485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1DC-A548-44D5-9CBA-402E3B7E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1AE-8D08-40AB-B0A8-3A70B956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D4A-6C9D-4793-91FC-FA624D8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626-0B3F-42B4-8138-62D49673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067-C705-4526-A9B2-E113022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CBA-5B2D-4F11-A8B1-AAD3E93A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AA1-1DF2-4DE2-8C89-8957F883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465-6CFF-4BA7-A685-111BD70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82C-CD2C-4E38-B049-19F700C5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CF1-8B58-45A6-A48B-08B226E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7247-6561-4A30-8DC9-059BEDDC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 and brav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3840" y="1143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were all of them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of God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mean, God hel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9:13Z</dcterms:modified>
  <cp:revision>56</cp:revision>
  <dc:subject/>
  <dc:title>PowerPoint Presentation</dc:title>
</cp:coreProperties>
</file>