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98F-C7F2-48E1-BCD6-812AF0C2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53E-5644-42BE-8867-D76D8B7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526-890C-406D-A3FE-F1F9C28F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BC8-41F0-40E2-ADAC-6DBC16BD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98F-C8C2-473F-B092-0A7A0AD1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14C-87E2-4E64-A5A3-73363E54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F61-C89C-437C-81F9-D7F3138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02C-AB97-4E84-B58B-0A8540F6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6B2-567A-430A-8B24-C03A474E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C47-D023-4F6B-AC3A-C59C8AC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82E-6264-4FDB-BD5D-AFEEDCF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B05-D45B-4C71-A889-58F92F8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C5D0-DA79-471F-B9B7-35E45C593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Morning Gild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lds the sk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awaking crie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5840" y="1066680"/>
            <a:ext cx="75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Katholisches Gesangbuch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ca. 1744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733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86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ness f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bli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 loveli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eterna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58Z</dcterms:modified>
  <cp:revision>37</cp:revision>
  <dc:subject/>
  <dc:title>PowerPoint Presentation</dc:title>
</cp:coreProperties>
</file>