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89C-0A33-4081-90D3-15FA2F7D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FBC-3582-47B4-94FB-A2494FFA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DDD-A0AE-40E2-80C8-97903E90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FC9-0791-4D13-A020-DC8CEE34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A04-6234-4FD5-8641-0AEEE67F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F68-200D-4A60-BA92-AC6DA85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67B-9DFF-4E1E-8757-27E4B8D9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52F-5252-4DAA-80B7-65B5FE2E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FC1-3450-419A-BE18-FC2AC965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906-DEDB-4708-BB7F-6CD3915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4C9-A569-414A-9D43-7E24643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ABF-E25E-4349-ACBB-D5EAA40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C0F-C5F3-42E4-B9B4-1F03D0951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t’s Sing un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antemos al S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glad rejoic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ew day’s 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8600" y="1496880"/>
            <a:ext cx="707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485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6 Resource Publications, Inc.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19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226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989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ing unto the Lor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002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ing unto the Lor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nacer el nuevo dí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765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7:10Z</dcterms:modified>
  <cp:revision>13</cp:revision>
  <dc:subject/>
  <dc:title>PowerPoint Presentation</dc:title>
</cp:coreProperties>
</file>