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1667-4ED3-43E7-9F03-05D14E59A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A91E-8EE6-4D98-A8D3-4DE82493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9756-0330-4673-A81F-0D208B350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5A10-5D9B-46DB-A5E2-3906179CA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B861-8CA4-4648-99F8-00579BE5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F394-81A1-4070-A34A-6886F8E8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2F5F-8F7B-4B99-A259-3008BC16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9E35-C061-4EDD-9E42-9A923026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5DEB-FBC5-4A26-8097-A0A8D85C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7946-AE9A-4C45-AED6-6ED75560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14A8-7685-4FA0-817F-6FA1BAB4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45B3-CACB-4452-AF37-4F33C8A6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E886-96A4-4235-A4EA-8E29A5F22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686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ise Up, O Men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7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765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. Rise up, O men of God!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ave done with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esser things.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Give heart and min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d soul and strength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o serve the King of king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 Up, O Men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 William P. Merrill, 19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Rise up, O men of God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kingdom tarries long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ing in the d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brotherho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end the night of wr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 Up, O Men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Rise up, O men of God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hurch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doth wa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r strength unequ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her task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ise up, and make her grea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 Up, O Men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Lift high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oss of Christ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ead where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et have tro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brother of the Son of Ma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ise up, O men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 Up, O Men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6:46Z</dcterms:modified>
  <cp:revision>81</cp:revision>
  <dc:subject/>
  <dc:title>PowerPoint Presentation</dc:title>
</cp:coreProperties>
</file>