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82E-7942-492B-BF9C-2D76A862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B4C-A442-4087-84F9-8369B623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B2E-DF52-422F-A4C0-38FFBE23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6E1-790B-41F9-8D56-0EE5615D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471-AC3A-4F38-88AC-7B740D4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C5E-7881-4A79-A02E-CAA5B0A8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F47-3B48-41E0-BCA1-B431326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12D-59CE-46C8-A4B9-8683C78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49E-8D1C-4D64-AD24-FD274D5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745-7636-482C-B5DC-EC9F632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422-EE81-4780-9445-B721B52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135-56CA-4A11-91C1-6BBD8AF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64D-328B-47C5-8932-13847304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r a Heart to Praise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2 (Ps. 51: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O for a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praise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from sin se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that al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ls thy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freely sh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 heart resig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bmissive, m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 Redeemer’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nly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heard to s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Jesus reign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 humble,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ing, true, and cle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neither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death can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Christ who dwells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 heart in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t rene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ull of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ect and 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ure and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copy, Lord, of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y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Lord, im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quickly from ab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rite thy new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new, best name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54Z</dcterms:modified>
  <cp:revision>142</cp:revision>
  <dc:subject/>
  <dc:title>PowerPoint Presentation</dc:title>
</cp:coreProperties>
</file>