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3D8-6D95-485A-BF12-4FE6276D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38D-F54C-46EC-A41C-5AA61CF1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EDC-7BF7-4484-AAF1-11715025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FEF-902A-4425-8137-B5B92A6A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D98-970D-4728-92EB-8EFC126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6E3-9A71-4564-B3E6-40FE1295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0CD-8625-4798-A9C8-2890CA17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887-289B-49C0-8EDC-5F8F6F2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C09-803F-44E7-AC13-4004C89B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7D6-7457-4E8E-8558-9F5E703B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263-90FD-4E55-97B9-242C5A7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2F1-FB59-4B1B-A581-6BAF582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4F17-88EB-44E0-91F4-7E628266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 God, from Who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98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 from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blessings fl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 all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below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God, from Whom All Blessings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0400" y="1701720"/>
            <a:ext cx="7063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homas Ken, 1674; adapt. by Gilbert H. Vieira,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 the sou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ll our gift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power uplift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Spiri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36Z</dcterms:modified>
  <cp:revision>10</cp:revision>
  <dc:subject/>
  <dc:title>PowerPoint Presentation</dc:title>
</cp:coreProperties>
</file>