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3BAC-8DA2-429D-A108-EC4C541B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881C-9622-48D1-91DB-72B2EA64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033-4DBF-4315-98CF-5626521D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C63-B6FE-4E49-A5FA-D8A95B86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DCD-C336-405C-A884-597F0E5D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D80-9263-43A8-B789-2973C5B4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0C0-0CC2-4452-9895-E4250C40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291-ECB2-4AB7-8C90-8A2E619F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521-BDD2-424F-8CFC-315F2534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BC7-C890-40F7-9367-F2C0FC62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3A6-7EA2-4C4A-86A1-33E350EA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477F-2603-45DF-B050-9FA99691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D3BC-C356-4097-9CFF-0034D5525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Asc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666880"/>
            <a:ext cx="8839080" cy="375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Everlasting God,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your eternal Christ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once dwelt on earth,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confined by time and sp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sc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990720"/>
            <a:ext cx="7543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Laurence Hull Stookey, USA, 20th cent. (Lk. 24:51; Acts 1:9-11; Eph. 1:16-2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29528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Give us faith to discern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in every time and place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the presence among us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of him who is head over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all things and fills all,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even Jesus Christ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our ascended Lord. 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2:22Z</dcterms:modified>
  <cp:revision>23</cp:revision>
  <dc:subject/>
  <dc:title>PowerPoint Presentation</dc:title>
</cp:coreProperties>
</file>