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FFA-0986-4D3A-AB87-24ED417A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B88-6313-4F0D-9A10-041B42D5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DF3-A1B3-4E3C-9658-6921FF43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8EE-AA9E-4B47-B3D5-A25B0DA3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D90-803C-4D96-BC21-5BCF5042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499-CE06-45A6-B2D7-04CC99F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124-6C5B-4104-AD3C-1EE485A3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9A5-A36A-49B2-A136-F7F71B85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8D7-824E-46A2-A343-AC74625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527-F53C-41E8-B734-F0A714F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D2B-E2E6-4864-AF53-9E70635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92D-B28B-434B-9560-83A0465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6102-01F8-4126-A8CE-B86C260C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Keep Me Near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anny J. Crosby, 18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vary’s moun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ear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rembling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mercy found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the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orning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ds its beams arou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its shadow o’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ear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watch and wa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ing, trusting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lden str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41:22Z</dcterms:modified>
  <cp:revision>57</cp:revision>
  <dc:subject/>
  <dc:title>PowerPoint Presentation</dc:title>
</cp:coreProperties>
</file>