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2D8-5F81-497C-BEFA-E80AA51B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2FF-5CD8-46B8-A411-440682D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95B-0D25-4AB5-8869-D5B1CB6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475-D09E-4D22-BFBA-61615B71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6C7-7D6D-428C-AF41-C1E828B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5CA-669E-4FF9-A6DD-5820F25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29B-F68B-4898-B90B-0E54356F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C00-387B-40F5-B68B-9DA206A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7B3-6B24-4B5F-9E69-D030B81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B5C-30C2-495B-9AE4-34AB3C3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688-8048-478A-B404-8C842F44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3D5-9FFE-4973-BA6C-73C9EFD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D68-A28D-421F-B8F2-D0A141E5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Who Claim the Fait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Ye who clai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faith of Jes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wonder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at were d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  <a:ea typeface="Arial"/>
              </a:rPr>
              <a:t>St. 4 © 1982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6480" y="1004760"/>
            <a:ext cx="5532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s. 1-3 Vincent Stucky Stratton Coles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. 4 F.  Bland Tucker, 1982 (Lk. 1:26-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4. “Magnify, my so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od’s greatnes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my Savi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 rej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the ag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call me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his p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 lift my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e has cast d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the might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the low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re his choic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en the l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f God the Fat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ver sin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victory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en he mad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Virgin Ma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other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s only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Blessed we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chosen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ut of wh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Lord did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lessed wa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land of prom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shioned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s earth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ut more bless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r the mo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he who bo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m in her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3. Therefore l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faithful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hon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f her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the chur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her foreshadow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art in 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anksgiving cla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at Christ’s mot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ang in glad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Christ’s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sa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30Z</dcterms:modified>
  <cp:revision>51</cp:revision>
  <dc:subject/>
  <dc:title>PowerPoint Presentation</dc:title>
</cp:coreProperties>
</file>