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7DFD-2B5A-4754-8BDF-BE63CE1D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7B8-6502-451F-976A-E1132725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86A8-6899-41AC-96C4-09FEE9AA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E4E6-3899-4B54-B222-62E27845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175E-1647-4800-889C-27B7A691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ED28-D818-4F14-A54D-7C8E16B7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6A46-9AA2-40AC-A000-513962E5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4035-8245-44FB-8CFB-7D5DFE32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2BCC-9016-4607-8D97-5BBBFCA5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3EC8-6260-4315-A1C7-8D598423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4CAF-96B4-4AB9-ABE0-ADA61A82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DAB7-D510-4DA3-8B62-32C5D541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CB81-CCD0-4303-8FCF-4F38DD1BB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e Believe in One True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e believe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true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ther, Son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 Gho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Believe in One True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21932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Tobias Clausnitzer, 1668; trans. by Catherine Winkworth, 18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-pres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lp in ne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d by all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ly ho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352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whose migh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wer al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is made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rought and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e believe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 of God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ry’s S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Believe in One True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descen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his thr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or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lvation w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whose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eath are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cued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’s mise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 We conf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oly Gho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from bo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e’er proceed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Believe in One True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upholds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forts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all trial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ars, and nee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t and Ho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ini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for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1:56Z</dcterms:modified>
  <cp:revision>26</cp:revision>
  <dc:subject/>
  <dc:title>PowerPoint Presentation</dc:title>
</cp:coreProperties>
</file>