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1D0D-2532-4945-8E7C-CE5B7757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E94A-439A-48AA-9934-93B12517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352C-9E96-44EB-9D82-AE1EF7EF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9523-618C-4698-8A8D-3B1D6D38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7547-BE0E-4920-A405-E68D7C3A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738-23BF-42A2-A342-DA697C12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4F8-14E8-433D-8C1D-E7E8DBFB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D4FA-0DEE-4389-BD3E-3EC2EDAE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AFC6-7B91-426F-B9EF-ADA8662E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352-CE17-4088-BE71-2F5FDFAA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D947-C113-4C0C-ABB5-96898C15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CAA-DFBA-49D7-8466-8C74A9A7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D6B3-C792-4BE6-B338-3978CCB82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 Jesus Lay i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ath’s Strong B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Jesus Lay in Death’s Strong Ban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Martin Luther, 1524; trans. by Richard Massie, 185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11480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1. Christ Jesus lay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in death’s strong bands,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for our offenses give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Jesus Lay in Death’s Strong Ban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4. Then let us feas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is Easter da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n the tru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read of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Word of grac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ath purged awa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old an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cked l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hrist alon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ur souls will fee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is our mea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drink indee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faith lives upo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o other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ut now at God’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right hand he stand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brings u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ife from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herefore let us joyful b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sing to Go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right thankfull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ud songs of 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Jesus Lay in Death’s Strong Ban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2. It was a strang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dreadful strif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hen life an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death contend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victor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remained with life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reign of deat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as end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Stripped of powe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o more it reign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 empty form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one remains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death’s sting is lost forever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Jesus Lay in Death’s Strong Ban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3. So let us keep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festival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hereto the Lor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invites u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hrist himself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joy of all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Sun that warm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lights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y his grac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doth impar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ternal sunshin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o the heart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night of si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is ended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53:33Z</dcterms:modified>
  <cp:revision>80</cp:revision>
  <dc:subject/>
  <dc:title>PowerPoint Presentation</dc:title>
</cp:coreProperties>
</file>