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C6F-5095-4946-B950-5B5D575B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867-3A4F-4BAF-93CD-19510E6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DD8-4F16-45D5-A44A-7661019C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F6D-3770-4B07-9880-AD734696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903-D94A-42C8-8E2E-D49F1F4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ECD-52D5-437A-88D6-9D29A2A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FA0-C940-4261-97B1-279DB58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5A9-D83C-4A41-A7E5-F1E4057A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BE1-FF74-4972-964C-30164A0B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AD6-2D06-4380-9497-00FF610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1F6-E2F9-437D-AFB3-3D1C078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9CD-BF79-4F7F-9A56-E928ED9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187-651E-4D3D-B551-97295827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ell me th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tories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love to hear;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ings I would ask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im to tell m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f he were here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9480" y="1015920"/>
            <a:ext cx="6350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H. Parker, 1885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Mt. 19:13-15; 21:8-9; Mk. 10:13-16; 11:8-10; Jn. 12:13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irst let m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round his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hall fan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ing on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s full of kin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ds full of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n the love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49Z</dcterms:modified>
  <cp:revision>34</cp:revision>
  <dc:subject/>
  <dc:title>PowerPoint Presentation</dc:title>
</cp:coreProperties>
</file>