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ACB4-3ADA-4CBC-B95D-34DED84C3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410F-0AB4-4855-AE19-BA31D6C84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4EF5-C824-4B02-986A-90F8C5CCE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8C8B-4640-4216-8F07-03DB440AD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36A4-81D4-487F-9D56-D6C500A11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329E-B654-4D52-8A7D-AB5691C63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9D4A-4A51-4535-AA22-A990C9767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188D-A0C1-4BB6-9955-B583BB6C8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61CE-3E82-4BED-A8DB-C06BB2762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A3DF-2BDF-40C4-AE70-6D76F56B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FDF3-4CF1-48CE-99B0-EEEF729A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9797-D163-4CD3-9271-183B491E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1AD73-A865-471D-8ACC-AF1C8A7532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 Splendor of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od’s Glory Br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7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1.</a:t>
            </a: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 splendor of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od’s glory bright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 thou that bringest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light from l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plendor of God’s Glory Br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0440" y="1600200"/>
            <a:ext cx="7336080" cy="368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Ambrose of Milan, 4th cent.; trans. by Robert S. Bridges, 1899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 Light of light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light’s living spring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 day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ll days illumin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2. O thou true Sun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n us thy glanc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let fall in royal radian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plendor of God’s Glory Br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e Spirit’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anctifying beam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upon our earthly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enses strea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3. The Father, too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ur prayers implore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Father of glory evermo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plendor of God’s Glory Br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e Father of all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race and might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o banish sin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from our de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4. To guide whate’er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e nobly do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ith love all envy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o subdu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plendor of God’s Glory Br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o make ill fortun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urn to fair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nd give us grac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ur wrongs to b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26:32Z</dcterms:modified>
  <cp:revision>15</cp:revision>
  <dc:subject/>
  <dc:title>PowerPoint Presentation</dc:title>
</cp:coreProperties>
</file>