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7F7A-378B-4E5C-97D7-0022E4253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85DB-03B6-4553-8B43-47C176115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C7A8-BFB8-44AA-9123-E3D3D3236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3C1A-844D-471C-8EAC-1E155E12E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6E9A-16DE-4FEE-A601-C015620F2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4401-FFC9-4F48-A08E-10BF2DE41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F9AA-3716-4ADF-93C7-814577727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1509-7295-4648-A618-8465B50CE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B213-E9C4-4E51-BE9B-5A605128D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BFCB-F57D-4430-88BB-F3744234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D4B8-CE14-4545-B542-83077FCD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4BEF-C899-4BB4-877B-6517F5AD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5DEDC-207B-4084-A0F6-0DA55A42DC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74680"/>
            <a:ext cx="914400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loria, Gloria</a:t>
            </a:r>
            <a:br>
              <a:rPr sz="4000"/>
            </a:b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Luke 2: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74680"/>
            <a:ext cx="1523880" cy="764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ia, glori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excelsis Deo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ia, glori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 Alleluia!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ria, Gl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08T17:02:36Z</dcterms:modified>
  <cp:revision>18</cp:revision>
  <dc:subject/>
  <dc:title>PowerPoint Presentation</dc:title>
</cp:coreProperties>
</file>