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E0C9-108C-4D4D-9A25-A8BEE08CA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3EE9-FEBA-45DB-A35D-DF8B81B7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F921-80A1-4394-81E7-E2B22CB72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49CD-B876-4779-81FF-DB3B71C30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A17E-AE09-4024-89DE-DD98413C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5AF8-D3F5-4F89-9702-4D1DD6F3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5CFF-FFA4-453B-97D1-A4BA2768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22E7-A1EC-4751-89ED-F57DB1D6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0BC7-F69A-4008-8A08-2CEDF9A1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39F0-1262-4341-B7D2-33590F7A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720E-17CD-4DFC-8721-BEB93620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244F-2DFA-4E0E-90B9-9EA3C9BB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4327-4844-4510-B9F0-D5B6B2DCA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763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Jesus Our Friend and Br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228600"/>
            <a:ext cx="12952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5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Jesus our frien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brother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Jesus our frien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broth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66"/>
                </a:solidFill>
                <a:latin typeface="Times New Roman"/>
              </a:rPr>
              <a:t>Trans. © 1982 by Mennonite Leaders’ Counc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Our Friend and Br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98400" y="990720"/>
            <a:ext cx="75218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Attr. to Ova’hehe; trans. by David Graber and others, 1982 (Jn. 15:14-15)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e invites u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e invites u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come together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come together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Jesus calls us together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come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7:18:41Z</dcterms:modified>
  <cp:revision>16</cp:revision>
  <dc:subject/>
  <dc:title>PowerPoint Presentation</dc:title>
</cp:coreProperties>
</file>