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74F-1B9C-42F4-A7F7-2687E18AC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4C35-2190-4492-8CD4-4DA5A46E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82C1-7496-4325-A2FF-0C84C03A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EC43-2F7E-4F49-83A6-2378D92D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6E87-7E9D-43CA-9F31-92FC1C72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DF6D-F218-40CD-92F1-7CF77C66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72C9-28E7-436F-9C5D-7B0B6EC9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71FE-833D-455C-8AB2-94B781A7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AAC5-7422-4558-BAB9-4855E178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7E1A-646E-40F3-8AD6-BADC1FBA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6EAC-FF19-415A-ABD5-A15926F6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DC69-CF4D-4772-AE2F-6688BD56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C2C9-88C9-4CBF-A8AB-D51A3385A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rist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2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055960"/>
            <a:ext cx="8839080" cy="4500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Go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by the birth of Jesus Chris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 you  gave yourself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 to the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Al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56040" y="990720"/>
            <a:ext cx="6633360" cy="414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The Book of Hymns, 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1966; alt. by Laurence Hull Stooke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Grant that, being bor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 in our hearts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 he may save u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 from all our sins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 and restore within u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 the image and likenes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 of our Creato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09680"/>
            <a:ext cx="8839080" cy="228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to whom be everlasti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 praise and glory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 world without end.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20:56:45Z</dcterms:modified>
  <cp:revision>78</cp:revision>
  <dc:subject/>
  <dc:title>PowerPoint Presentation</dc:title>
</cp:coreProperties>
</file>