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F82-800B-4DC5-9ED6-F412ABD6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464-93E4-4DEC-9DBA-F7DB160E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D05-44F7-4931-A999-DEA0F2BE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405-A98C-46D4-A2EB-4733924F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3EB-D038-41AF-BE48-4A330D75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AC0-DD26-44C1-B04A-DBC5E7B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84F-E313-4D8C-A40C-7F7FB46C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887-2553-4300-A921-3355CB2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B3D-897A-4BFE-A05F-70F65942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206-EDF5-434E-AE8D-B553DC2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174-6201-4CAF-8CCC-B78B77C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C7B-9542-4B51-A2EA-1B22F617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3BC-B558-4105-8D30-AF4202A75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7160" y="1600200"/>
            <a:ext cx="337824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eremiah E. Rankin, 188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0:20Z</dcterms:modified>
  <cp:revision>12</cp:revision>
  <dc:subject/>
  <dc:title>PowerPoint Presentation</dc:title>
</cp:coreProperties>
</file>