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029-B832-4263-81FF-A1A2A8E3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03-97BF-4D1A-82BA-534C5DCA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7EF-D0BE-49FD-A008-2DB6BCC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7C3-68E4-4B60-9A94-56BA4F22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349-E773-4607-9461-26BAEEC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0E4-69DE-4077-B5BC-24970D8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8D8-3538-4108-9FF5-CFF6CC0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E5-040B-4201-AC5D-C3666CF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37A-63F7-49AB-8B6E-001F6EA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F30-102F-47CC-AE22-973D201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B77-931C-469E-A846-CD49814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99B-51E9-4B34-9B7D-5344A62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F66-CFC9-4A2F-86F3-B20F1228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Be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9400" y="990720"/>
            <a:ext cx="47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Rev. 21:2, 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ohn, O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did you s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52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’d be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hn said the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just four-squ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decla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d meet m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sinners,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you step 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9144000" cy="49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oot might sl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your soul get l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37:45Z</dcterms:modified>
  <cp:revision>60</cp:revision>
  <dc:subject/>
  <dc:title>PowerPoint Presentation</dc:title>
</cp:coreProperties>
</file>