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0114-FB02-44B0-8405-D90749F81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5153-C7A8-4909-9054-9FF2C040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0BCD-961A-4333-A4C4-CCFD646C1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616C-627D-45B0-BA95-E126565A1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3695-3482-4887-A59A-83B41FBE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7538-9E51-4775-9482-24CC9E67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D46F-EDED-4737-A2BF-D358E22E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D7F6-62B9-4355-A091-9026D3A9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B625-FE6A-43DA-B95B-2174586E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1FC2-EF4E-4878-911C-D4822FAD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AC6F-6BB5-4275-9760-46DC3317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15D8-B4CE-4AEA-8C73-87B0E241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C74F-2BA3-4915-BC4F-91DAA0B0E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et Us Break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read Toge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45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us break bread together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our knees,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on our kne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us break bread toge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our knees,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on our knee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Break Bread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African American spiritual (Acts 2:4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I fall on my kne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my f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rising su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Lord, have merc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me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on m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668600"/>
            <a:ext cx="9144000" cy="345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us drink wine toge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our knees,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on our knee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us drink wine toge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our knees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on our knee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Break Bread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I fall on my kne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my f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rising su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Lord, have merc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me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on m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668600"/>
            <a:ext cx="9144000" cy="34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us praise God toge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our knees,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on our kne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us praise God toge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our knees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on our kne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Break Bread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I fall on my kne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my f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rising su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Lord, have merc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me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on m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668600"/>
            <a:ext cx="9144000" cy="34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us praise God toge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our knees,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on our knee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us praise God toge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our knees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on our kne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Break Bread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I fall on my kne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my f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rising su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Lord, have merc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f you please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if you pleas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6:52:53Z</dcterms:modified>
  <cp:revision>123</cp:revision>
  <dc:subject/>
  <dc:title>PowerPoint Presentation</dc:title>
</cp:coreProperties>
</file>