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D2A-2B91-4009-9C75-7C030728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2D2-A9CF-4447-B5F1-78C67B60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726-B190-4A73-B745-DB02F326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7C1-AA5F-451D-8DC1-095563D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B9F-0F43-4129-8653-9C880D6F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59C-A94B-4882-90E6-B4339F1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29F-5D43-41D7-8B52-9F92D956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CEF-FB00-440F-8C01-098DE6C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A39-036B-4F02-BBAE-AC73C905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014-AF69-422F-9DCD-626E7DB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C36-43E7-4D2F-8927-91BB73D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BC3-964A-46A7-BFF5-53E0B3F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9D38-4106-42C3-8791-BCDA760F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Master, Let M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Master, le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wly pa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ervic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0520" y="1676520"/>
            <a:ext cx="3416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ashington Gladden, 18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02Z</dcterms:modified>
  <cp:revision>20</cp:revision>
  <dc:subject/>
  <dc:title>PowerPoint Presentation</dc:title>
</cp:coreProperties>
</file>