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310-975D-4970-BDEF-FD4918B3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D3D-A6B4-4E71-B7B5-ADEDC22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312-267A-46CC-A81F-B254C1A2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657-250D-4B50-803D-8E320CD7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62D-E07F-4A7C-BD4D-246B49C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A10-0DCA-455E-A38D-C05891F0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C8F-EC77-480A-914B-90E241C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199-5511-4C8D-8035-C0796C2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984-46C0-4D99-BD41-3E7ED3E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95E-156D-4F00-A94E-5C9794D7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1EE-6813-4E16-8534-4C0A417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A5E-99FA-43A4-B546-8080A76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C85-AFB9-4B2E-934C-EB793AB68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reat Spiri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ose breath gives lif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the worl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whose voice 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ard in the soft bree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960" y="990720"/>
            <a:ext cx="36705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Trad. Native America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e need your streng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wisdom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ause us to walk in beauty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e us eyes ever to behol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red and purple suns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us wise so t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e may underst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at you have taught u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lp us learn the lesso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 have hidde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every leaf and r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us always read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come to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 clean ha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steady ey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when life fade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ike the fading sunse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ur spirits may co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you without s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44Z</dcterms:modified>
  <cp:revision>23</cp:revision>
  <dc:subject/>
  <dc:title>PowerPoint Presentation</dc:title>
</cp:coreProperties>
</file>