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1AFC-9862-494C-A2A8-BB2397CC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8A80-F425-454A-B3C2-DAA5D1B7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A48B-5660-4A49-B7E6-D767378D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F9EA-43CE-4C11-8BAF-6BD93D02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B85E-BA5B-4099-A6D2-F444E894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ED8E-9FAF-469A-91CF-6D1B84CB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7F1C-0A8F-4482-B062-A6C806CE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39C7-DD9E-415E-971D-ACDAF7B7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523C-4348-42AC-B93A-4F90C487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C40A-2259-4795-B5A2-B6D3354C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8404-8A98-4539-8D50-E4E253AB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CAA0-8D30-4945-9936-C07A2258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01E6-AF76-4387-9B71-483C81A76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Gift of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hough I may spea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bravest fi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ave the gif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all inspi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2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ift of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7400" y="1066680"/>
            <a:ext cx="3922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Hal Hopson, 1972 (1 Cor. 13:1-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ave not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words are v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sounding bra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opeless 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ough I may g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I poss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triving s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ve prof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ift of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not be gi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love with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ofit so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rns strangely th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Come, Spirit,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earts contro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pirits l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 made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ift of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inward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uide every de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this we worshi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re fr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3:10Z</dcterms:modified>
  <cp:revision>23</cp:revision>
  <dc:subject/>
  <dc:title>PowerPoint Presentation</dc:title>
</cp:coreProperties>
</file>