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6731-BB07-46D7-819D-E53A09D7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155B-3A12-4364-BFAA-8EE85FD5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CAB-05FA-4500-A48C-B9BBBDF5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282-EDED-44FB-A732-53C43C97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D20C-5CB3-4147-94F4-BD061B9D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C9A-DA93-477E-8094-12272546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3AA-4293-422B-A321-CCFAFE9C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981-3259-42EA-9B5F-5B565BDF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7D8-961C-4D8F-8C5F-05431136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17C-7074-498A-B6E5-B0EE2478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9677-A705-4FAC-987C-FFDEAE70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4A08-60EA-407E-91FD-ECAE3FD0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3A7B-1B83-42A1-93C0-7A455246D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is Is the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447920"/>
            <a:ext cx="9144000" cy="405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s is the d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© 1967, 1980 Scripture in S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D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77280" y="1066680"/>
            <a:ext cx="4792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Psalm 118:24; adapt. by Les Garrett, 1967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66680"/>
            <a:ext cx="9144000" cy="369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t the Lord hath m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t the Lord hath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61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us rejoi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us rejoi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19320"/>
            <a:ext cx="9144000" cy="361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be glad in i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t the Lord hath mad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us rejoi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66680"/>
            <a:ext cx="9144000" cy="446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t the Lord hath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7:55Z</dcterms:modified>
  <cp:revision>16</cp:revision>
  <dc:subject/>
  <dc:title>PowerPoint Presentation</dc:title>
</cp:coreProperties>
</file>