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099-94F2-4E7F-8469-C812570D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34F-CFB7-414C-9207-B1D48851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3CB-5912-47B5-B39A-314B1C59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63F-53A1-4651-A78D-BC8BD3C8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DAB-5750-4DA9-96F7-2C8B2AC6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D86-974C-4A69-8D41-37C45E0A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727-0485-4309-8EAA-A7B02BF7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0D3-4931-48DF-9428-9146E0A7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A94-A57E-4ACC-9083-B78F950C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009-EB1C-4172-A08D-4B9F232E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1EC-DFCB-4E8B-9A85-A467CE6C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6BD-3697-48E5-9324-688E3BC9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4B3B-3C01-4D19-9E58-644AF05F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35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Thanksgiving</a:t>
            </a:r>
            <a:br>
              <a:rPr sz="40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Psalm 100, Response 1, Charles Wesley, adapt.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sponse 2, Edward H. Plump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a joyful no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nation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Thanksgiv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18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Thanksgiving &amp; 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hanks, 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Thanksg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77280" y="1066680"/>
            <a:ext cx="4792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380880"/>
            <a:ext cx="8686800" cy="582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Make a joyful nois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unto the Lor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ll ye l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e the Lord with gladn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before his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Thanksg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ad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06480"/>
            <a:ext cx="8686800" cy="506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Know ye that the Lor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he is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he that hath mad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ot we ourselv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his people, an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ep of his past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06480"/>
            <a:ext cx="8686800" cy="506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Enter into his gate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ith thanksgiving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nd into his court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ith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ankful unto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676520"/>
            <a:ext cx="8763120" cy="3537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For the Lord is g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mercy is everlast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truth endur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generations.  </a:t>
            </a:r>
            <a:r>
              <a:rPr b="0" lang="en-US" sz="5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8:56:23Z</dcterms:modified>
  <cp:revision>21</cp:revision>
  <dc:subject/>
  <dc:title>PowerPoint Presentation</dc:title>
</cp:coreProperties>
</file>