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0124-99B6-4DB7-A43A-70A17825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EE97-E200-4482-8406-213D8A88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3892-3B83-4671-A03B-DF4653018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0963-A621-4AB7-90B4-0AC43497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360D-25C3-4C8E-93E2-69C0B46A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1BF8-F139-4E65-8452-7F31EAE2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41DC-77E8-4B48-8E9A-A0F3D68D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8CF2-8DB0-4B5E-BAF1-9B5EFE6E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AD23-60A5-447F-8DDF-1F7511F2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8EF6-272B-4122-A230-3CBD995A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FED9-64E6-4A39-9639-F835DD26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838A-38F5-43AA-B204-D07380BA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C6D5-7AC8-406F-901C-CAD79878C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e’ve a Story t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ell to the N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e’ve a story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ll to the natio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shall turn thei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ts to the r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H. Ernest Nichol, 189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th send us his S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ave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how us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is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how us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darkness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turn to daw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daw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noonday br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hrist’s great kingd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come on ear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kingdom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and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We’ve a Savi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how to the natio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the pa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sorrow hath tro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all of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ld’s great peopl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ight come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truth of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ight come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truth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darkness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turn to daw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daw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noonday br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hrist’s great kingd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come on ear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kingdom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and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story of truth and merc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story of peace and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story of peace and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darkness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turn to daw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daw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noonday br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hrist’s great kingd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come on ear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kingdom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and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We’ve a song to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ng to the natio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shall lift thei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ts to the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song that sh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nquer evi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hatter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ear and sw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hatter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ear and s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darkness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turn to daw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daw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noonday br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hrist’s great kingd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come on ear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kingdom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and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We’ve a messag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give to the natio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the Lord wh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igneth abov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3:52Z</dcterms:modified>
  <cp:revision>74</cp:revision>
  <dc:subject/>
  <dc:title>PowerPoint Presentation</dc:title>
</cp:coreProperties>
</file>