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171-0C01-4114-9816-4C5C58BF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D9C-B0B4-47DA-8023-3229DBD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1F1-BCFC-46A3-A1FA-55A7D0E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3F6-64BD-45FD-995A-D1A2FC5B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872-667C-4B01-9920-71432EBD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2F1E-0AAF-45B1-80D1-C291213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6A7-94CE-445C-AB3E-033B8985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DF4E-A77B-41C1-A6F5-3FCA0E8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C30E-5D45-49BB-BC98-E32DD2AB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E550-702F-4FED-99AC-8C04F218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74F1-58F0-4ED8-A184-4BA94B0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FE9-8C77-4B5A-B625-E18AC930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E2C2-9767-4B88-BFBC-0A9CAE81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5A61-1C2C-40F0-B31B-CBDA7D6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F11-2CA4-4D64-B2DD-3F6EB013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5E7A-C533-4DE1-BB24-451A93F3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13C-7798-4905-A928-D2651237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4F6-0490-4847-8381-764A7465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DA4-A602-4920-8A02-46101116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69A-6089-4BDB-A058-37DAE87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146-5D7B-458B-9DE1-939FEE3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6DB-44DC-4CD5-887C-002169C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028-7B8B-46F7-ADF0-7787270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4A4-6864-4881-A879-85F4877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54D9-A51E-451F-8561-0FC18C9B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683-F12E-41D0-A1B7-A9E895E05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Open My Eyes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479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lara H. Scott, 18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: Clara H. Scott, 18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8760"/>
            <a:ext cx="9144000" cy="41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35080"/>
            <a:ext cx="9144000" cy="41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ars, illumine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8600"/>
            <a:ext cx="9144000" cy="41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, illumine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lently n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en my eyes, illumin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lently n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en my ears, illumin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lently n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en my heart, illumin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2:18:26Z</dcterms:modified>
  <cp:revision>155</cp:revision>
  <dc:subject/>
  <dc:title>PowerPoint Presentation</dc:title>
</cp:coreProperties>
</file>