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53F-58FB-46A5-B9B0-4EB28754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7E9-70FD-44B5-A034-00E064EC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F0B-3866-4266-BE75-499016A2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225-A847-481C-95E4-A9A2BF40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EAE-8134-4BEB-B548-FDB26169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FAB-C9FC-4900-8AD1-35CE3901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078-706F-49D1-BC49-6BE7FFD2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600-C6B2-4813-B340-23EBF39E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66C-37BF-46AF-AF0A-D5F91E7C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696-69B9-43A9-87C7-D6885F19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7CBE-BA17-4809-B968-DCB22CDE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E1D-E3E6-4AAF-AFF1-26BC7842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A791-9339-45D4-A60A-6B8D51483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rist Is Risen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Cristo V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Nicolás Martinez, 1960; trans. by Fred Kaan, 1972 (1 Cor.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24852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© 1962 Metho Press, Ltd.; trans. © 1974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71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Christ is ris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is liv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ry your tear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e unafrai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52120" y="3429000"/>
            <a:ext cx="5670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, the firstbor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f the liv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ives us lif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leads us 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52120" y="3352680"/>
            <a:ext cx="57952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et us thank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ur God, who caus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ope to spring up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rom the g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61240" y="3429000"/>
            <a:ext cx="43138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is ris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is giv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fe eterna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fe pro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4320" y="3276720"/>
            <a:ext cx="823212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1. ¡Cristo vive, fuera el llanto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s lamentos y el pesar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i la muerte ni el sepulcr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 han podido suje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sto Vive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8920" y="2571840"/>
            <a:ext cx="734796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 busqu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é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ntre los muerto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 que siempre ha de vivi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¡Cristo vive! estas nueva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por doquier dejad oí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480" y="3124080"/>
            <a:ext cx="755676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Que si Cristo no viviera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vana fuera nuestra fe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as se cumple su promesa: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‘Porque vivo, vivir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éis.’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sto Viv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9440" y="2571840"/>
            <a:ext cx="766512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i en Ad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án entró la muert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por Jesús la vida entró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 temái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l triunfo es vuestro: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¡El Señor resucitó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49040" y="2571840"/>
            <a:ext cx="704772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Si, es verdad qu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 la muert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l pecado es aguij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 temáis pues Jesucrist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s da vida y salv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sto Vive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828800"/>
            <a:ext cx="84582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racias demo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 Dios Padr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que nos da segurida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que quien cre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 Jesucrist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vive por la etern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and darknes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ould not hold him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r the tomb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n which he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14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o not look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mong the dead fo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ne who liv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ell the worl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at Christ is ris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ake it know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goes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14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If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d never ris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e’d have noth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b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 Is Risen (Verse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14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ut his promis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n be trusted: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“You will liv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ecause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7524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s we share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of Adam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o in Chri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e liv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52120" y="3276720"/>
            <a:ext cx="552996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has lo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ts sting and terro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the Lord ha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om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055960" y="3276720"/>
            <a:ext cx="50544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Death has lo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ts old domini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et the worl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ejoice and shou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 Is Risen (Verse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53:02Z</dcterms:modified>
  <cp:revision>71</cp:revision>
  <dc:subject/>
  <dc:title>PowerPoint Presentation</dc:title>
</cp:coreProperties>
</file>