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8A7-1AF2-46BC-9D9A-6ABBD494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659-A01F-4033-B6F5-3949BA0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41D-B544-47E2-8077-93DC9427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5A6-6579-41AA-AA82-72584959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E21-6F08-4F90-AA37-79D6C90D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726-C3E2-49E6-A722-F2D73FD5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21A-EDD6-4789-A12C-8124E8BD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27E-3274-47E4-9049-BBCA14C9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A60-91E8-4E6B-A951-21FB41BC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977-7960-4DC8-A120-40587BE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127-1360-4288-B469-7BD4FCF8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B6D-CEF5-491F-BE77-FACA9FB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3E45-DE02-48E9-88AF-D4BBAE398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the Holy Trinit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Te Deum Laudam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e Holy Trin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8840" y="1776240"/>
            <a:ext cx="5973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4t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th cent. hymn; Response, Johann J. Sc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ütz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rans. by Frances E. C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over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ing of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pened the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eaven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belie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 are seated at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God’s right hand in glory.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e believe that you will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come to be our jud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716040"/>
            <a:ext cx="8763120" cy="536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 then,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help your peopl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ought with the pri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your own blo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bring us wit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saint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glory everlasting.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68600"/>
            <a:ext cx="861048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ave your people,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bless your inherit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vern and uphol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nd alw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049480"/>
            <a:ext cx="86868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ay by day we bless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prais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for 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668600"/>
            <a:ext cx="86868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eep us today,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rom all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ercy on u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68600"/>
            <a:ext cx="86868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Lord, show us your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love and merc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e put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in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606680"/>
            <a:ext cx="8763120" cy="37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n you,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s our hop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shall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in vain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09520"/>
            <a:ext cx="86868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e praise you, 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cclaim you as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ion worships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 everlast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85904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you all angels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ll the powers of heaven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cherubim and seraphim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ing in endless prais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87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ly, holy, holy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685800"/>
            <a:ext cx="8839080" cy="524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glorious compan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the apostles prais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oble fellowship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prophets prais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white-robed arm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martyrs prais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world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holy church acclaims you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, of majesty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unbound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859040"/>
            <a:ext cx="8534520" cy="317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glorio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rue and only So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the Holy Spiri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dvocate and guid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85904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, Christ, are th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ing of glory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eternal Son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f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85904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en you became incarnat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set us fre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 humbly accepted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Virgin’s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4:56Z</dcterms:modified>
  <cp:revision>29</cp:revision>
  <dc:subject/>
  <dc:title>PowerPoint Presentation</dc:title>
</cp:coreProperties>
</file>