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806-E1F4-46D3-9F8A-C19B0153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DCD-30D1-40BB-97DA-85ECDAB5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373-5296-495B-AD71-5388C3D9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1F9-31A2-479F-A93D-1F8A951D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524-01F7-4780-AC5E-3B38CF9A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5C9-0F84-4E86-A6D1-A1DDB676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6FD-4301-474B-8DF4-1AD6B2D7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329-18A9-473C-BA52-E45A69BB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CD3-74A9-4498-B35E-99343328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FBF-96B4-4AED-ABE0-41F09695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EA6-3A90-4469-9802-DE41A147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E12-B611-41F4-A4F5-F82243EF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7B5A-7A89-4BCB-AFCB-3D0ABB9F1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re Cross the Crowde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y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here cross the crowd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ys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sound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ies of race and cla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4400" y="1600200"/>
            <a:ext cx="423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rank Mason North, 1903 (Mt. 22: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ong these rest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ngs abid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tread the city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ets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Till all the wor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learn your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ollow w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feet have tr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, glorious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eaven ab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come the c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our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the no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selfish str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ear your voi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Son of 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n haunt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retchedness and ne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shadowed threshol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 with f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paths where h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ures of gre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catch the vi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your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From tender childhoo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less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woman’s grief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n’s burdened to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famished soul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sorrow’s str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eart has n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nown reco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he cup of wa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n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holds the fresh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you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long the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ultitudes to vie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weet compas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your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O Master, from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untain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haste to he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se heart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7:49Z</dcterms:modified>
  <cp:revision>17</cp:revision>
  <dc:subject/>
  <dc:title>PowerPoint Presentation</dc:title>
</cp:coreProperties>
</file>