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10D2-57DB-48E2-B67B-69BC7ECE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19E-CEA4-497D-BC37-DD5BBC16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750-19F3-4C12-9FB3-A2E5DD0D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87B-8CD8-44FF-B350-29DD6EED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5D8-DCE7-4BB1-ABBC-E1CABBBB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774-EA49-47AA-A7FD-B19920CB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9FA-0380-4D27-91AE-E8414765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3FDC-34E6-43CB-B162-8DCF2A5B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F6F-FFBD-46AF-9D1F-7B86C910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B92-E1BC-4682-BFA9-2766BACD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B2A-5A88-44CD-BDC1-8846137C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8D6-734B-49C8-933E-9DB029B5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C06A-A11F-45CB-9DD9-A5D255111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sh Wednes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438280"/>
            <a:ext cx="8839080" cy="358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r of every thing and jud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all that you have mad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h Wednes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38720" y="952560"/>
            <a:ext cx="407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Laurence Hull Stookey, USA, 20th cent.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(Gen. 3:19; Ps. 51:10; 1 Th. 2: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dust of the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have formed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rom the dust of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would raise us u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redemptive p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cro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e in us clean hear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ut within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new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003320"/>
            <a:ext cx="868680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 may rep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lead li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orthy of your calling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21:13:40Z</dcterms:modified>
  <cp:revision>16</cp:revision>
  <dc:subject/>
  <dc:title>PowerPoint Presentation</dc:title>
</cp:coreProperties>
</file>