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404-5106-427C-B2D5-80F6972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5A6-6F36-462B-A97A-E168346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D5E-9AEB-45C1-BA60-228B0960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633-E452-4428-8080-F3C581C3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58DB-3E18-427E-8807-D13C3FA7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84F-AA92-41DB-A994-2FF0286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F43-2B3C-45DB-989B-125FDA4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B73-1A91-4831-8EDA-CD2961F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97B-DEE7-4E9E-BE03-4C12BAB7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D73B-F206-4D20-B8CB-EDE48A07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185-73E4-4A7C-8162-63E5980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2A7-A790-4292-BB27-1F98FA3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F660-8294-4661-AE10-C9A95869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FEBA-9E07-4E00-B249-C804F60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D3B6-F1A0-44B2-BB38-89BAC95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0EF-F97F-4D93-B3D2-E4F3F288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9D27-2834-4815-8833-836A4179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DBA-F844-431A-AF5B-EC27BED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4E1-FA1B-47F2-A9AD-7DFD58C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D1B-BE23-41D2-89C5-AC4483B5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5B5-AC68-4DE7-AE01-F08A41C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86A-8300-4BB3-BB34-05AAD8B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92C-2404-4637-91C8-2C513EF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6E9-9CD6-44FA-98F9-6D6CF2C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332-31B8-4F05-B137-0389A6C8B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0F0-1FC2-4568-BCA8-F8FD0F360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There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it begin with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eace that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ant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5.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1240" y="1600200"/>
            <a:ext cx="3320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y Miller and Jill Jack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peace begin with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ment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ry step I tak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lemn vow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81240"/>
            <a:ext cx="9144000" cy="314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ere be peace on earth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eace that was meant to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  Assigned to Jan Lee Music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our 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 with each o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 the moment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 my solemn v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22T02:16:59Z</dcterms:modified>
  <cp:revision>22</cp:revision>
  <dc:subject/>
  <dc:title>PowerPoint Presentation</dc:title>
</cp:coreProperties>
</file>