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DB27-57CA-4106-9171-7723B3191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E554-5B24-481A-B000-E1C765649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E7DC-A9DA-4D51-B14D-38AB35D10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5086-DD44-4C47-BCCC-46B35D734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29E2-AB08-4EC3-A4E0-87AE581C1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BAF8-735C-4417-A88C-DD68C9089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1BB7-B4D0-4A55-AA4C-910229EE0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3A23-987E-420C-A906-DEE1D5D3C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F2E9-6E85-4E90-A1BE-340F66CC9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0D44-CCD3-4EB6-97BE-F47D7AEA1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4A5E-DB43-490D-AF1A-26C76E2D9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71DB-E5FF-4E54-9AD7-3F78650D8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1C593-BF00-4AFC-9E50-209D84D131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’m Goin’a Sing When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Spirit Says S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33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’m Goin’a Sing When the Spirit Says S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676520"/>
            <a:ext cx="90885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WORDS: African American spiritu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49876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1. I’m goin’a s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hen the Spirit says s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 I’m goin’a s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hen the Spirit says si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’m goin’a s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hen the Spirit says s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obey the Spiri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f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’m Goin’a Sing When the Spirit Says S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2. I’m goin’a pra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hen the Spirit says pra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 I’m goin’a pray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hen the Spirit says pr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’m goin’a pray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hen the Spirit says pra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obey the Spiri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f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’m Goin’a Sing When the Spirit Says S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3. I’m goin’a moa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hen the Spirit says moa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 I’m goin’a moan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hen the Spirit says moa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’m goin’a moan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hen the Spirit says moa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obey the Spiri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f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’m Goin’a Sing When the Spirit Says S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4. I’m goin’a shou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hen the Spirit says shou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 I’m goin’a shout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hen the Spirit says shou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’m goin’a shout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hen the Spirit says shou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obey the Spiri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f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5:16:10Z</dcterms:modified>
  <cp:revision>89</cp:revision>
  <dc:subject/>
  <dc:title>PowerPoint Presentation</dc:title>
</cp:coreProperties>
</file>