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C4AE-21D3-476F-BD51-BBED7C146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C78A-BD20-4280-B8F1-03CF314E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35BD-BF84-43B6-B73F-06572A18A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45AE-D602-445D-BC6F-B141940C7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241E-FFC1-4C54-A2B4-AAF781DF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2CF7-C754-4C71-A987-F39CC52F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369C-9794-4AF4-BA03-061AA553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568B-8B86-438D-9431-775D7147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229D-1272-41AB-B136-F5C6BC33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5CC3-ED9E-4816-BEF4-2D76683C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D430-594E-4F7F-AC27-A399BD1C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3A43-A88C-40BA-AF49-332C1A2C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66CE-62EE-4DFB-B352-B7BA7BFD4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Day Is Past and O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772400" y="228600"/>
            <a:ext cx="137160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8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1. The day is past and over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ll thanks, O Lord, to thee!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e pray thee that offenseles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hours of dark may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y Is Past and O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47760" y="1066680"/>
            <a:ext cx="6642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Anon. Greek, prob. 6th cent.; trans. by John Mason Neale, 1853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 Jesus, keep u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in thy sight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guard us through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coming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2. The joys of day are over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e lift our hearts to the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call on thee that sinles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hours of dark may be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y Is Past and O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 Jesus, mak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ir darkness light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guard us through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coming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3. The toils of day are over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e raise our hymn to the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ask that free from peril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hours of dark may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y Is Past and O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 Jesus, keep u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in thy sight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guard us through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coming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4. Be thou our souls’ preserver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 God, for thou dost know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ow many are the peril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rough which we have to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y Is Past and O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ord Jesus Christ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 hear our call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guard and sav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us from them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2:15Z</dcterms:modified>
  <cp:revision>20</cp:revision>
  <dc:subject/>
  <dc:title>PowerPoint Presentation</dc:title>
</cp:coreProperties>
</file>