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AD4-148C-492C-B3DB-12AB3F40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E45-89CD-41D6-8A99-C2ED3E3D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E48-63A4-4A12-9367-FAA7A0B5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978-C24E-424F-B86A-645AAB9B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ADF-616A-4C16-BD27-50A6D643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194-C0C2-4B45-9B92-C94107D7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865-3B2D-4D18-AFA0-9DA3F13E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A6B-31ED-40D1-9BB5-3CAEA7DC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284-0D41-42A0-8188-E0532CED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846-E038-4D41-818B-EFF35734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9CB-B737-47DD-96C6-26FC4483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1D6-4D6D-4B86-9EE8-96E7479F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4F6B-F185-4C13-B8AD-0DA879A6D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5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e do not know how to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pray as we ought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ut the Spirit intercedes for 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ith sighs too deep for word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. from The Revised Standard Version of the Bible © 1946, 1952,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94720" y="914400"/>
            <a:ext cx="624456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omans 8:26; Luke 11:9-10; adapt. by Alan Luff, 1962, alt.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sk, and i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given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, and you will fi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ock, and i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opened to you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do not know how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y as we ou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ercedes fo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ighs too deep for wor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 all who ask rece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who seek fi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ose who kno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will be open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do not know how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y as we ou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ercedes fo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ighs too deep for wor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44:00Z</dcterms:modified>
  <cp:revision>28</cp:revision>
  <dc:subject/>
  <dc:title>PowerPoint Presentation</dc:title>
</cp:coreProperties>
</file>