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BC7-6AB7-4284-BB38-B3B50F18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14E-35D7-4F24-A258-5FCD4279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AD5-EA30-4426-A331-240EFD93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28F-F3EF-49A9-AAB0-2E540CB3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667-911B-4B6E-B2A1-E885E63C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A44-D256-4816-9204-F9389C10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D0D-C3E0-4F70-A86B-B32ACE04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7F3-F07A-4690-ACCE-983A2F5A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46D-3F54-4E15-818C-ABF859DA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6F5-913C-452E-B8F8-6E797494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5B5-18DF-4465-8B69-E9D44DF5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645-D452-4236-B3D8-486A55F7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ABB7-E7E2-4A71-9187-B5E4F4B74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ren of the Heavenly F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1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hildren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fely in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som ga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© 1925, renewed 1953 Augsburg/For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6720" y="1066680"/>
            <a:ext cx="8181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Caroline V. Sandell-Berg, 1855; trans. by Ernst W. Olson, 19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stling bird nor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in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refu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’er wa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od his own do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nd and nouris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rts they flouris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ev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gs he spares t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migh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ms he bears t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either life n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shall 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Lord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ren sev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them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he show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ir sorrow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he know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ough he giv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he tak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is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’er forsake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he lo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rpose sole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preserve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re and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36:32Z</dcterms:modified>
  <cp:revision>34</cp:revision>
  <dc:subject/>
  <dc:title>PowerPoint Presentation</dc:title>
</cp:coreProperties>
</file>