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975-0F54-4FC2-AE49-6FFC75EE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DC3-0C30-4CF9-9B95-87A55DBC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DFE-8536-413D-AA6D-2897BD65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C96-6813-41EE-A128-A8DCA3C4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A39-74C8-456B-A19C-88702B3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6C5-15ED-4D33-83B7-63A8D223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8F7-7FEB-4ABC-A428-E4A3A7BB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D4B-AFF3-43D3-AAD5-D2F8F3C2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30E-A512-4108-8E2A-4199E60E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022-0886-455A-9FB3-0119B79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42C-9FFF-4C7F-A580-9366E23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EB0-1F50-4CD2-8A01-DD8AF96E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DADB-0C23-48F5-8A80-F96226C72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ly God, We Praise Thy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ly Go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praise thy na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bow before the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s. 5-7 © 1985 The Church Pension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600" y="1166760"/>
            <a:ext cx="78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Sts. 1-4, Ignaz Franz, 18th cent.; trans. by Clarence Walworth, 1853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s. 5-7, F. Bland Tucke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deliverance to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ll hono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st surre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ast of a virgin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y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lessed m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Thou didst t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ing from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Savior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dying br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pened w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ealm of heave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glory of that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s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As our ju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wilt app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who h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ed to win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thy serva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ing n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renew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within 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that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aints we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well in everlasting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cepter cla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adore th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inite thy vast dom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is thy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ark, the gl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lestial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 choi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are rai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erubim and serap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uncea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orus p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the heav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weet accor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, holy, hol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!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ostolic tr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s thy sac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to hal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phets s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ad refr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white-rob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tyrs follow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om morn to set of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ng goes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oly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Spiri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we name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in es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o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divide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laim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doring bend the kn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 own the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Christ, thou 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throned in splend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07:17Z</dcterms:modified>
  <cp:revision>27</cp:revision>
  <dc:subject/>
  <dc:title>PowerPoint Presentation</dc:title>
</cp:coreProperties>
</file>