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ED8-E192-4005-9327-21F8D9F3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AD04-52BC-4E60-8052-126CC5B1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FDA5-C032-474A-BD10-B8F5E298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B5D-CACC-45C1-9567-9CE079B3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AEB-2CEA-4C91-AF1F-248B78EE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400D-3A85-4550-A6BE-79295861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19DA-7A03-4321-B6CA-C033B1FF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0AC-12F7-4D40-81F6-4CA979AB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09B5-2524-4894-B50D-5F9A6A17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0FEC-EF9C-4165-A28D-E222973B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D8B-67BA-47FB-8699-3AF45E22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703F-08EC-4ECB-8F26-CF8131A7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AEBA-A5C9-4A5C-9793-A434DE98B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 Three K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e three k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Orient a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ring gifts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averse af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4480" y="1092240"/>
            <a:ext cx="5523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John H. Hopkins, Jr. 1857 (Mt.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yer and prai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oices rai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shiping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14300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 with royal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uty br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uide us to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erfec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Myrrh is mi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s bitter perfu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eathes a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athering gloo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rrowing, sigh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eding, dy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aled in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one-cold tomb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9528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 with royal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uty br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uide us to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erfec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Glorious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hold him ari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 and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acrific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nds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earth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29528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 with royal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uty br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eld and f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or and m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llowing yonder st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uide us to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erfec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193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 with royal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uty br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uide us to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erfec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Born a 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Bethlehem’s pl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ld I b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crown him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 for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easing n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ver u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907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 with royal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uty bright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uide us to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erfec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Frankincen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offer have I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cense ow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Deity nig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2:36Z</dcterms:modified>
  <cp:revision>12</cp:revision>
  <dc:subject/>
  <dc:title>PowerPoint Presentation</dc:title>
</cp:coreProperties>
</file>