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AE48-D503-4139-A055-059D46FD2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8EB6-6C30-4B39-B668-54430407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23AD-62DB-48EB-BCF4-0B3C7DE1D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D1C5-C1D7-47A3-AE58-74E5E59A1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2A84-DD2C-42E0-A203-CD171371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2981-FE45-4064-986D-9C819354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F25F-78F1-466A-B655-7E25A25D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47E3-EC26-4270-AF0D-B8A8D604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88CB-5F0E-4EE6-BD85-4D040295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085E-894B-4379-A6F6-CCB57C48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F329-CC69-4843-B9F2-22BB0DD6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0921-7CE3-4F40-969C-FEFB1565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B019-A0EF-4232-8B5A-7B65E5219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ay Is Dying in the W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8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Day is dying in the west;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heaven is touching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earth with re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43680" y="1066680"/>
            <a:ext cx="39052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Mary A. Lathbury, 1878 (Is. 6: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through the glory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and the grace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of the stars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that veil thy face,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our hearts asc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7780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Holy, holy, holy,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Lord God of Hosts!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are full of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66760" y="2239920"/>
            <a:ext cx="861048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are praising thee,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O Lord most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4. When forever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from our sight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pass the stars,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the day, the n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Lord of angels,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on our eyes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let eternal morning rise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and shadows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7780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Holy, holy, holy,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Lord God of Hosts!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are full of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66760" y="2239920"/>
            <a:ext cx="861048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are praising thee,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O Lord most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477800"/>
            <a:ext cx="861048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wait and worship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while the night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sets the evening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lamps alight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through all the sk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Holy, holy, holy,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Lord God of Hosts!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are full of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2239920"/>
            <a:ext cx="861048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are praising thee,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O Lord most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2. Lord of life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beneath the dome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of the universe,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thy ho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gather us who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seek thy face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to the fold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of thy embrace,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for thou art n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47780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Holy, holy, holy,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Lord God of Hosts!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are full of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760" y="2239920"/>
            <a:ext cx="861048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are praising thee,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O Lord most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3. While the deepening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shadows fall,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heart of love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enfolding 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1:07:14Z</dcterms:modified>
  <cp:revision>25</cp:revision>
  <dc:subject/>
  <dc:title>PowerPoint Presentation</dc:title>
</cp:coreProperties>
</file>