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E90-CA2B-4802-94C6-97197B2D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76D2-8D33-4E65-A8F2-A89C5159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6CBC-325D-4002-A096-E7355DFD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0A0D-2373-492D-8CBD-F51DC226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F9B0-F5D9-4594-8335-C4D5986F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15C-E4A0-4C8C-87F4-D9F3C3E3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34F2-5EA3-4BEB-9E11-5C143C59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A40E-81D9-4190-9880-86D5F689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406-CCAD-40C1-9D25-EFBF248E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8E7-1A9D-44E5-A44A-4647B425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7081-D131-481C-A770-0A7009C7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98DC-1234-4B00-B482-BA40A000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3B39-9E50-4DC8-93DA-DC06A3E7B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9154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mortal, Invisible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d Only 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1. Immortal, invisibl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God only wis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in light inaccessible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id from our ey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3560" y="1600200"/>
            <a:ext cx="5947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Walter Chalmers Smith, 1867 (1 Tim 1: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most blessed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most gloriou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e Ancient of Day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lmighty, victoriou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y great name we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73964" dir="18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2. Unresting, unhasting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nd silent as light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nor wanting, nor wasting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ou rulest in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y justice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like mountains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igh soaring above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y clouds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hich are fountains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f goodness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3. To all, life thou givest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o both great and small;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in all life thou livest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e true life of 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77353" dir="56247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e blossom and flourish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s leaves on the tre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nd wither and perish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but naught change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4. Thou reignest in glory;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ou dwellest in light;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ine angels adore the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ll veiling their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ll laud we would render: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help us to see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’tis only the splendor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f light hidest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20:54:07Z</dcterms:modified>
  <cp:revision>19</cp:revision>
  <dc:subject/>
  <dc:title>PowerPoint Presentation</dc:title>
</cp:coreProperties>
</file>