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266-8F30-49A4-98FB-EF81AE0F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488-1BED-4E68-B1F3-4EE5545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743-4068-45ED-A32A-15E7E346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CDD-9822-450C-BE98-60F1E2E0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D04-9991-4179-BA9A-0F4C8EC7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14A-DE4F-44A3-AAA1-C16000D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72F-8FAE-4816-A1BF-64DDACC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1B8-1B48-4983-97F6-A73995D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878-C4C4-45B3-B048-91494E6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731-0615-4E29-AB27-3DB9920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19C-0356-4359-B9CF-4903B6F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1F6-0A63-45E4-8E74-E7633E8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D2D-A0BF-4765-86F3-E4FCD790D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6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2:41Z</dcterms:modified>
  <cp:revision>31</cp:revision>
  <dc:subject/>
  <dc:title>PowerPoint Presentation</dc:title>
</cp:coreProperties>
</file>