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32E-8919-4A95-8A2E-D9C74DFF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E7E-4C76-4029-BF9A-9EF2ADEC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42F-C5DD-4598-8C8E-FCF78658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46C-7150-4857-8E0C-E9524EFA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3D8-39D8-4B50-89C1-8F0DE31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A0E-B035-4F5D-9ADF-E214C2D8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BDB-A8FB-40D7-9B4D-9133A6D2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96B-4AFE-4791-B853-C24B366F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A69-EBCD-4608-A249-3FD12874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096-83C3-4E36-BED7-6C03CE13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D66-4FF8-42F0-831E-EB621B82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D9D-D5C8-4CE8-B337-CCA04DE4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2140-9F04-4A53-8775-5FF335A76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30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I want to walk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s a child of the light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want to follow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  <a:ea typeface="Arial"/>
              </a:rPr>
              <a:t>© 1970, 1975 Cele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66000" y="1614600"/>
            <a:ext cx="4232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Kathleen Thomerson,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en we have ru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patience the rac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joy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 set the star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give light to the worl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tar of my lif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I want to se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brightness of Go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want to look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lear Su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e on my path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how me the w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he F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I’m looking f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coming of Christ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want to b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08:34Z</dcterms:modified>
  <cp:revision>53</cp:revision>
  <dc:subject/>
  <dc:title>PowerPoint Presentation</dc:title>
</cp:coreProperties>
</file>