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904-3A08-41AA-BB9B-2C3A9D4B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A60-C3D2-43FC-A62F-3E220A4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BAB-3B29-4EFF-8C06-A85B51F1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B7D-B692-4765-ACFC-BB32E8F6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616-8318-491F-993C-5EE9293C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1A0-E7EE-4367-BABA-CCEF976B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FA8-5D0F-436C-84BF-0691B2A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D02-3070-4357-ACA0-BE367D71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967-6782-4E7D-8812-7DDBDC8D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3DF-7733-47E1-AD76-458B4C4A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BC5-FED6-4993-8BAE-D8AC860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E57-43D9-4743-9E12-45699E8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560C-B76C-4065-BDF6-26898CC00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ndays of Ea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429000"/>
            <a:ext cx="8839080" cy="31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you give us the joy of celebrating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ur Lord’s resurre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78 Lutheran Book of Wo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days of E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62400" y="914400"/>
            <a:ext cx="4326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Lutheran Book of Worship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Give us also the joys of lif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in your service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and bring us at last to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the full joy of life eternal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02Z</dcterms:modified>
  <cp:revision>22</cp:revision>
  <dc:subject/>
  <dc:title>PowerPoint Presentation</dc:title>
</cp:coreProperties>
</file>