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C34-78BC-41A5-9FBE-CDFC8C39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9B6-BEC9-459B-BEC7-EE7F69A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CDA-360E-4BEC-B92B-E6287FF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AA2-2864-4027-A439-55E2F7EC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17E-F612-4780-B4BC-E908FC2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9CA-BC59-40C5-ACBE-C988BFEF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EC9-41EC-4D4A-801D-9A2CE12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040-8675-4BE0-8575-116F956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468-5408-4E7E-BFE0-80A28802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9CA-2193-4841-9096-8F0F5CF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608-13D2-4895-9651-302FD56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A90-B4B4-46E5-8ED0-95DEDF9A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FF4-8619-4277-BA12-171CB99D4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7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anticle of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ovenant Faithfulness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Quaerite Domin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36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ace, Lord, do I seek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e not your face fro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and words 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ovenant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040" y="2057400"/>
            <a:ext cx="627228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Isaiah 55:6-11; adapt.; Response, Isaiah 55:6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4300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ut it shall accomplis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at which I inte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prosper in the thing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 which I send it.</a:t>
            </a:r>
            <a:br>
              <a:rPr sz="3000"/>
            </a:b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9528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66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 now is presen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all upon the Lord,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 is ne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810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sake their wa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the unrighteou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ir though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them return, that the L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have mercy on the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our God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bundantly pard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my thoughts are no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your thought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neither are your way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my ways, says the Lord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21932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as the heavens are hig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 the earth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 are my ways higher th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r ways and my thou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 your thoughts.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4479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as the rain and the sn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down from hea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turn not b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at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3716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ing it br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th and sprou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ing seed to the s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read to the ea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 shall my word be that go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th from my mouth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it shall not return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o me emp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18:12Z</dcterms:modified>
  <cp:revision>29</cp:revision>
  <dc:subject/>
  <dc:title>PowerPoint Presentation</dc:title>
</cp:coreProperties>
</file>