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863-39C5-4F74-B810-6696F75A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31E-EA11-4286-8F59-8F6E6975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E71-DF6C-467D-B774-2FE44241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928-5103-4FDF-AEE9-FAD223D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0BD-4173-41AA-90F3-F0E6181F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329-3F47-446B-AE81-6B4F1442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B20-3FF5-423D-B2A9-484AAA30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0D6-9E9A-4D89-9F0F-21A80715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C20-0722-4FBA-9128-D01687B2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37A-3A18-4AEC-86FF-0B0355BB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322-24A2-4015-B0FF-55BC62A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163-9E05-4D01-8064-7DF4BCF1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B012-35CD-4BD3-9F7A-58E1021BF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Prayer Is the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oul’s Sincere Des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’s sincere des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uttered or exp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otion of a hidden f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rembles in the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9440" y="1523880"/>
            <a:ext cx="329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James Montgomery, 18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den of a s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alling of a t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upward glan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none but God i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mplest form of spee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fants lips can tr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er the sublim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ains that r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ajesty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trite sinners’ v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ing from their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angels in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ngs rejoice and cr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Behold, they pra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ians’ vital br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ristians’ native ai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watchword a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tes of dea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enter heaven with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O Thou, by wh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come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fe, the Truth, the Wa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th of pray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self hast tr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teach us how to pray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26Z</dcterms:modified>
  <cp:revision>36</cp:revision>
  <dc:subject/>
  <dc:title>PowerPoint Presentation</dc:title>
</cp:coreProperties>
</file>