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185-9C4D-4BFC-85DC-6C4A46D4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6AD-D9F5-4C44-ADA7-E2FDBDC6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B21-CA48-4BA2-BBEC-A92F2516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55E-F622-4E7C-BF63-7F38826B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2C8-DBEF-41B5-AAED-D7671F67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6FF-7809-4B49-A99C-3BF6CF29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F85-9133-4A46-9D3E-6053EA8E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029-FA9E-48EB-8C29-18B90B47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16C-A310-4DE4-A7D1-0C97D4FB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425-CC51-4503-AD0D-FAF17B8D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4B6-82D0-4C63-BC4A-AA865AA6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253-5598-48A6-A590-4216BB4D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D696-3D63-43E8-9FC2-FEA022562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286000"/>
            <a:ext cx="861048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lmighty God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you have knit together your elect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in one communion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and fellowship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in the mystical body of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your Son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S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5720" y="1114560"/>
            <a:ext cx="316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590920"/>
            <a:ext cx="89154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Grant us grace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so to follow your holy saints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in all virtuous and godly living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that we may come to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those unspeakable joys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743200"/>
            <a:ext cx="891540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which you have prepared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for those who sincerely love you;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through Jesus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19:52Z</dcterms:modified>
  <cp:revision>21</cp:revision>
  <dc:subject/>
  <dc:title>PowerPoint Presentation</dc:title>
</cp:coreProperties>
</file>