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BB3-3BFF-4403-A8F1-3E71C17C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02F-A15B-453E-AB4D-E3E0DE3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26F-51CB-4462-8345-EB1FB67E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8C6-05B6-414A-972A-7A868F49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9C2-A4A3-4457-814F-74E1571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206-50F5-4ECE-8674-ADFC1DC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6A6-8FE3-4F39-8936-81599BA1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4C2-AE28-4905-9991-D395FC4B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E86-E0DA-4586-9E6E-D8B6848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463-DBD1-4203-B6AE-E59B2EA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57C-CADE-4B6B-BC94-B8AAF89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18F-4BDD-470E-A4FA-4080FC8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FEE-E652-4560-B0FF-2E6A7103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Now Depar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y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Now Depart in Thy Pe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New Mexican folk song, adapt. by Lee Hastings Bristol, Jr.,  1961 (Lk. 2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now depar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pe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ed Jesus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Adapt. © 1961 Concordia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0574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d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hom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God’s lov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not the busy wor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laim all our loyalties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us ever mindf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ear Lord, of thee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02Z</dcterms:modified>
  <cp:revision>162</cp:revision>
  <dc:subject/>
  <dc:title>PowerPoint Presentation</dc:title>
</cp:coreProperties>
</file>