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6E7-D5C4-438D-95AE-C3F70E85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650-3EAC-4D10-B360-F3189FAB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F3E-5598-4E3D-9D18-8117C725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973-FA31-4523-AE82-E738B844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E9F-1DEE-497E-B513-68F44963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177-CE5B-48BD-BD0A-AE5A9D31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DF4-40F8-4926-A07A-055B87A4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10E-24AD-4041-8063-629D0650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BEC-AFC2-4C0A-8E0C-89EAF83F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515-B20C-449B-AC6A-056C5AD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D53-6F7F-457B-9197-1E0BB02F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44B-D627-4518-9D68-29B8208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07B4-86ED-4CEA-A102-D65836AA3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2296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e Fruits of This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7920"/>
            <a:ext cx="9144000" cy="508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the fru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s cre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od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very n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0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Fruits of This Cre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57520" y="939960"/>
            <a:ext cx="382932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red Pratt Green, 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plow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wing, rea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lent grow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 are slee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ture need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’s safe-kee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 the j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ward of lab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ill is do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el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ive our neighb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ill i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Fruits of This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worldw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sk of c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spai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arve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sh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ill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or the harve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g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ll inhe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Fruits of This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nd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stou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trut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till confou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ove has fou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40:21Z</dcterms:modified>
  <cp:revision>13</cp:revision>
  <dc:subject/>
  <dc:title>PowerPoint Presentation</dc:title>
</cp:coreProperties>
</file>