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806-2E3F-4A66-B69F-DF2FAC46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997-F8CA-4640-88F2-023814E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7AB-BDBD-4C6F-A1E0-E6DA6E8A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F68-60B8-4009-96E4-2EA8D3E9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40D-1083-4006-A25F-1492084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892-3BB8-42E9-B317-B2797786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989-5548-4617-8CCB-31AE23D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B71-6AC8-4CFD-9416-A04C6B3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477-DED1-41B0-B9FE-2B691963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492-15E8-48E6-BC47-F5CD31B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32D-2B51-4E41-B32D-D3E5AAC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A2D-A8BB-4015-BFE3-668514E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FD3A-A7C4-4151-B28E-0F851C08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rk! the Herald Angel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born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280" y="1116000"/>
            <a:ext cx="88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; alt. by George Whitefield, 1753, and others (Lk 2: 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ighteous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may di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econd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oncile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ki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virgin’s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il th’incarnate Die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9:47Z</dcterms:modified>
  <cp:revision>16</cp:revision>
  <dc:subject/>
  <dc:title>PowerPoint Presentation</dc:title>
</cp:coreProperties>
</file>