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C7B-F1D8-4863-922E-700CD1CB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4E0-6217-4019-B673-F511FBE2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664-D9E2-412C-82A9-78DC6EC3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4F1-9F4B-4E7A-9A0F-C058FF23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B27-C6A9-4243-90C3-C7C62E7F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E11-D882-455F-A6A9-8A509144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A01-9A7D-4902-BE24-25170778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AED-54EC-4966-9EF6-14116B7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755-E92B-47B8-97F5-56762EEF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34B-966C-419E-9B43-0BEB0B1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CC3-DF2E-4603-94A4-E0F92E5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F8B-AEE7-4C97-AA69-0009B52D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DB10-9376-4C78-9822-52D514481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just want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r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00Z</dcterms:modified>
  <cp:revision>30</cp:revision>
  <dc:subject/>
  <dc:title>PowerPoint Presentation</dc:title>
</cp:coreProperties>
</file>