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9B5B-6335-4DA1-B54C-A97734B6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035D-F496-4E6B-8A3C-F44EC1B1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2C1-636A-481D-8205-3B6258F5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ED5-50FE-4757-9576-9D96CADF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074-9C9A-46EC-9181-72942517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B4CD-D8FB-4FEA-9321-4E0CF2F7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68FB-F82A-4F21-9520-98488923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AE6-BDF3-41C2-92FD-CA85BC97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1B42-5E6F-4345-9E78-77545894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152A-DC17-43AC-8764-E7CC56B8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C09-2938-4F8A-A80A-D4828B59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00B-EB81-480D-ADE5-70558D15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F091-C161-42D0-8344-271A51418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eluia, Allelu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757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the risen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73 The Word of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58040" y="1092240"/>
            <a:ext cx="344052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Donald Fishel, 1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Jesus is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all the earth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the 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29528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the risen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 Spread the good new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all the earth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has di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has ris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9528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the risen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We have be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ucified with Chris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we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ve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9528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the risen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Come, let us p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iving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oyfully sing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ur Savi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9528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the risen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2T16:58:11Z</dcterms:modified>
  <cp:revision>25</cp:revision>
  <dc:subject/>
  <dc:title>PowerPoint Presentation</dc:title>
</cp:coreProperties>
</file>