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A15-5742-4127-9B7A-0B9DCCC0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FE3-9D94-4E71-95B9-CF9ED48A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616-1BF2-4E96-8C6B-76374200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3C9-0A44-4E1E-B721-1CCDB1D7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D45-99C3-4B1A-B269-4827591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0AF-5EE1-49B2-9F43-49B888E4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F9E-829A-4C10-8F08-44E1E087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5D6-D1A0-441B-BFB9-E8CB3F0E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674-3A1A-458C-B7C9-CE796A29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F25-1E2D-4F7B-936A-106346FD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1ED-745C-44EF-BFC0-D5810C2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4CB-49BF-41F4-9484-845DA97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2E93-693C-4889-B602-AD3758446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, My Tongu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lorious Ba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Venantius Honorius Fortunatus, 6th cent.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. by Percy Dearmer, 1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, my tong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ous batt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e 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f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aithful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ign of triump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oblest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ne in foli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ne in bloss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ne in fru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er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ymbol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redemp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ung on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Unto God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glor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’eternal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nor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igh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un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bove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oph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nd the 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umphant l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how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’s Redeem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a vict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ell how,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length the full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’appoi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was c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, th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of wo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ft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eaven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ed us hu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made perfec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ne as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id the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us, with thir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rs accomplish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nt he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Nazare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tined, dedica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ing, wr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ork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t his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umbly yiel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31Z</dcterms:modified>
  <cp:revision>51</cp:revision>
  <dc:subject/>
  <dc:title>PowerPoint Presentation</dc:title>
</cp:coreProperties>
</file>