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F87-39CB-4AC8-AD7D-61F95EA8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5DE-114A-4E76-AF23-2892C17D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4D2-4DD3-48DE-975E-1BB5BE73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AC3-718F-42B3-8F12-5122EA7B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EE2-16E7-4FCC-A845-CFB3F1FA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9BD-E861-4546-9AB3-9EDC860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094-00D2-4BBD-A90C-BDF49A42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619-C6FB-4F8C-BAA7-F4835BFF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62D-6DCB-48A8-8E6B-9AB90CB7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3A7-D417-4E9D-84E1-B896C93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D7A-B040-40F3-ACA0-E8DD2E6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724-7494-4508-B342-717BDE8B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2F7-51FD-452B-9177-8C51AA02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, Savior, Pilot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Jesus,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ilo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ver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mpestuou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8839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dward Hopper, 1871 (Mt. 8:23-27; Mk. 4:35-41; Lk. 8:22-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505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known wav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me ro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ding rock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eacherous sh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rt and compa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from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s a m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s her chi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canst hu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cean w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isterous wav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bey thy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ou say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m, “Be sti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rous sovereig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se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at l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near the sh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fear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kers ro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wixt m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eaceful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, while lea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y br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I hear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Fear not,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pilot th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5:51:32Z</dcterms:modified>
  <cp:revision>42</cp:revision>
  <dc:subject/>
  <dc:title>PowerPoint Presentation</dc:title>
</cp:coreProperties>
</file>