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2221-EE18-4019-AB1D-B6A47B316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A4D1-72F3-49D7-8650-D1EA9929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0522-414A-4BB7-9068-2D8507FB6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7E97-4D72-45A4-81D3-A260EBCA0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395E-770B-476F-B29F-12DB63DF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2D0D-DD2B-42DF-B057-10C6D50A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F232-141D-4E25-A0C5-6612CA7D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FC26-759B-418A-93A4-1F043C3C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A8A6-11DB-4DAA-80E8-E852F486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B914-8401-4A74-864B-0BC10DDA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E6AD-56D6-417E-B123-BE81A292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0C5E-757B-452F-85CF-B7D14547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F4E0-B9A6-4885-B112-041FC1072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e Leadeth Me: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 Blessed Thou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He leadeth me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blessed thought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words with heaven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fort fraugh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11840" y="1752480"/>
            <a:ext cx="4658400" cy="38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WORDS: Joseph H. Gilmore, 1862 (Ps. 23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ntent, whate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t I s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ce ’tis my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20968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his own h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leadeth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2895480"/>
            <a:ext cx="815328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faithful follow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ould b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by his h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3276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And when my tas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earth is do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by thy gr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victory’s w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’en death’s cold wa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ill not fl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ce God through Jorda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36232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his own h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leadeth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2895480"/>
            <a:ext cx="815328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faithful follow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ould b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by his h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e’er I 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’er I b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ill ’tis God’s h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2880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his own h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leadeth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2743200"/>
            <a:ext cx="815328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faithful follow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ould b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by his h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Sometimes mid scen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deepest gloo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metimes whe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den’s bowers bloo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waters sti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’er troubled se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ill ’tis his h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36232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his own h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leadeth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3048120"/>
            <a:ext cx="815328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faithful follow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ould b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by his h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Lord, I would pl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hand in th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r ever murm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r rep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1T16:24:10Z</dcterms:modified>
  <cp:revision>45</cp:revision>
  <dc:subject/>
  <dc:title>PowerPoint Presentation</dc:title>
</cp:coreProperties>
</file>