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F8D-304D-40CA-AF52-C23A203F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AA3-D998-45C1-BD46-CDDFB089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099-27A1-4230-BA2E-18781C4C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6AA-D658-43A8-86B9-EC7A955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666-1C9D-41DB-AC50-04E73361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84E-4558-4E10-9485-F9E8A257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F21-3035-4525-83C7-E7FEDC3C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F0B-0413-470F-9ECB-B51113F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C8E-40F3-4D6E-913D-4FC88A8D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5B8-6CF9-46B3-8415-4032E702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827-D8DC-4414-9BEA-84F17A4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069-62C4-45B3-AF4C-1DCADEA6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05A1-E8A9-4191-BD2F-A08F0F8E4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ather, We Prais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ther, we praise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 the night is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ctive and watchfu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we all before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160" y="1066680"/>
            <a:ext cx="709200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Gregory the Great, 6thncent.; trans. by Percy Dearmer, 1906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inging, we off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yer and meditatio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us we ad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Monarch of all thing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it us for thy mansion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anish our weaknes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lth and wholeness sen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ing us to heav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y saints unit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 without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All holy Fa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n, and equal Spiri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inity bless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d us thy salv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ne is the gl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eaming and resou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54:59Z</dcterms:modified>
  <cp:revision>16</cp:revision>
  <dc:subject/>
  <dc:title>PowerPoint Presentation</dc:title>
</cp:coreProperties>
</file>