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0E22-EFC6-48E7-AE6D-EC3D9C79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E70C-17C6-4A43-95E7-4B3C4D04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88D2-7608-48A9-88E3-7F8EF34E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55BC-1616-4951-886F-E99C70B1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4AA0-7265-44E8-87CE-76321C41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1534-5CB4-4833-A762-4F388C08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6957-F6F7-464B-A04D-9A831FC8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2E32-05A1-4FAF-8F27-426C86F5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33FA-326C-46A3-8C97-C7FE5C8D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D249-5CF8-447E-B077-549CD551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72E0-2E6B-416B-A9BE-0389D79B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6882-3FB6-46C5-98C8-72C94289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A43C-B0F4-4A87-B4DF-CED87F2F0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077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n This Day Earth Shall 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52388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1. On this day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earth shall ring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with the song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children sing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to the Lord,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Christ our King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is Day Earth Shall R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3600" y="914400"/>
            <a:ext cx="7220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Piae Cantiones,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1582; trans. by Jane M. Joseph (Lk. 2:6-14; Mt. 2:1-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On this d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gels s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ir s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th shall 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ing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’s K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is Day Earth Shall R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on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ave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ace and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gav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6668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deo glori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on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ave u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m the F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v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37160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deo glori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His the doo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s the mirt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he c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wn to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thle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w his bir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is Day Earth Shall R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x and a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side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co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uld hide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1932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deo glori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God’s bright st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’er his he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se Men th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im le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neel they l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his b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is Day Earth Shall R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y their gif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him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dore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14300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deo glori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9:18Z</dcterms:modified>
  <cp:revision>11</cp:revision>
  <dc:subject/>
  <dc:title>PowerPoint Presentation</dc:title>
</cp:coreProperties>
</file>