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393-F99E-4983-89C1-FA40D2F7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61C-1A10-482B-BDB3-84F45606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34D-3499-470F-A698-AB78ABD4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553-5AE3-4B77-ABCA-78672950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1A2-C2F1-483D-BCDB-238F9DF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162-1709-47D3-BFF2-E7F03B37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D9B-D4BD-432D-966C-D7693304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7B2-9DB5-4568-BF2A-BBAB6321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025-0A94-4343-9F8B-F3D27A94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715-36E9-4535-8ABE-3658230F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3E1-A13A-4105-B814-116D3F1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2A2-ED22-4AB2-AF04-DA00F69D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7B1D-C702-49AC-884A-3EFEF24AB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ce in Royal David’s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nce in royal David’s c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ood a lowly cattle sh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a m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id her ba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 manger for his b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6720" y="1116000"/>
            <a:ext cx="512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ecil Frances Alexander, 1848 (Lk. 2:7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y,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ther m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little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e came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arth from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is God and 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shel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cradle was a st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p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corned, the low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ed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avior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Jesus is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hood’s patter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 by day, like us he gre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as litt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ak, and help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rs and smile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us he kne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feel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s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shar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glad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our ey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last shall se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i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l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at ch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ear and gentle is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in heaven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lea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children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he is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9:30Z</dcterms:modified>
  <cp:revision>10</cp:revision>
  <dc:subject/>
  <dc:title>PowerPoint Presentation</dc:title>
</cp:coreProperties>
</file>