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25E-2A94-4F17-B35B-03D788E8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D8A-4B77-4F39-A746-9C33715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51A-D668-40C0-8122-F38FB7C6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917-DCAA-48E7-8786-17B403C2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A09-69D4-45D3-ABE6-5B806E0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B9B-0406-4A0B-ADCE-D793B514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551-ADD6-402F-91EA-D50C80E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CB5-96BF-48FE-9C44-B3B57644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DD2-0346-4132-AEE8-0EF5301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A02-391A-4A16-B6DB-59F286D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427-E34D-454E-94CA-3213395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ADF-9272-4A22-AF3A-6BB42EF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139-C06B-4544-BCDF-A7948647E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 love to tell the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unseen thing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00" y="1092240"/>
            <a:ext cx="4320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some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he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4:30Z</dcterms:modified>
  <cp:revision>19</cp:revision>
  <dc:subject/>
  <dc:title>PowerPoint Presentation</dc:title>
</cp:coreProperties>
</file>