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88D-8FF9-4FB5-924E-13CCD824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E82-33FB-4044-9962-4833C2B6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722-80AE-4216-B9ED-974A683A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B65-DCBD-4227-BB51-8DC6C6CE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C45-1650-4C3E-AB71-89303FE9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A19-68F2-4206-BA61-8A5C435C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4AB-BBB7-4A44-A189-46F38A03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6EF-B865-496D-8061-39EF6BE4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51E-FC8F-416C-9D4A-1D90CA27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737-4AE2-49C6-A150-4A7A28B7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12E-E3C4-477E-8A99-49EEADA9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290-0AC8-47CE-AD1A-44063A0E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9CD1-197E-441F-A50D-13F4DBA4C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ree Things We Pr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Things We P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Richard of Chichester, England, 13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873080"/>
            <a:ext cx="8039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anks be to thee, O Lord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Christ, for all the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benefits which thou hast given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us; for all the pains and insul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which thou hast borne for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003320"/>
            <a:ext cx="853452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most merciful Redeemer, friend, and brother, may we know thee more clearly, love thee mor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early, and follow thee mor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early, for thine own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56Z</dcterms:modified>
  <cp:revision>158</cp:revision>
  <dc:subject/>
  <dc:title>PowerPoint Presentation</dc:title>
</cp:coreProperties>
</file>