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FC1-B93A-430B-888A-C8D7DC3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AC5-B8E6-49A7-AF48-6E3C47A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85F-5E53-4F32-A772-9843E0A5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19C-2D0F-4AE2-A6CD-9A4B2FF4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949-2D81-440C-A4ED-8D3F436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8C7-274F-4CA3-95B1-918A7F2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B5A-1113-4723-8F22-171AA0D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17A-D230-4DFD-B21A-68F3F6C1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034-2844-4C98-A220-C3D4E7DA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AD3-1008-42CB-898C-1DD93CC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A72-8F0A-4232-9777-B38C804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0EF-04BB-4A5A-A5FC-4CC455B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D752-8860-46D5-B72F-5504CA24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040" y="990720"/>
            <a:ext cx="2562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rad. (Lk. 23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41Z</dcterms:modified>
  <cp:revision>36</cp:revision>
  <dc:subject/>
  <dc:title>PowerPoint Presentation</dc:title>
</cp:coreProperties>
</file>