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9D8-80E2-4AF5-A3E9-2228CEB7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278-0B02-4F60-A856-BE5B639E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63A-7154-490A-AD56-8A71187E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E89-AEE9-4F4A-A963-700ED18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FC8-5FB4-4CBE-91CF-1AD2C57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F03-8D99-4BED-87D4-2BD07C6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1D1-7DF0-48F3-B3B6-34D8335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657-1BEE-46CE-BACD-45F3C454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294-9FCD-494B-8852-9D0E53F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89B-0244-4966-A029-8DB2B75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EC3-DC08-43E5-8912-CBE098C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F06-6517-4173-9CF0-95DA450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3950-EE65-43FB-B4B9-21AE3901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Child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ary’s lap is sleep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6960" y="1143000"/>
            <a:ext cx="64886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William C. Dix, 1865 (Lk. 2:6-20; Mt. 2:1-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 are keeping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hy lies h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mean est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x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s are feed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Christians,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ners 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d is plea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o bring him incen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ld, and myrr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peas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, to own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enthron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08Z</dcterms:modified>
  <cp:revision>66</cp:revision>
  <dc:subject/>
  <dc:title>PowerPoint Presentation</dc:title>
</cp:coreProperties>
</file>