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A0D2-ACAC-427C-8A88-EF06D266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8CDC-9E66-45FA-A39C-00A24246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7996-6B1B-4515-9282-58471F58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4C40-DB6C-4E76-AC78-70D5ECDD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0AAF-8BDE-4816-92E8-79D4B037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C2D1-BBBF-448F-BC96-6A06C649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5DB1-5A66-417E-9509-D58C5067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9071-5FC2-4F4F-BFB4-1EBD790D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9397-679D-4D45-813C-9371E3CB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BC06-B3C6-4B59-ADCB-5A728BA1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7789-524F-4F04-B5BC-41F2D5AE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38FC-BF47-4834-B031-CF53DD77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98E5-7373-4C68-B033-D4C296C86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I Will Trust in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ill Trust in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African American spiritual (Ps. 37: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I will trust in the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trust in the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trust in the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ill I di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trust in the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trust in the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trust in the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ill I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ill Trust in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Sister, will you tru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ster, will you tru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ster, will you tru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you di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ster, will you tru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ster, will you tru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ster, will you tru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you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ill Trust in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Brother, will you tru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other, will you tru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other, will you tru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you di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other, will you tru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other, will you tru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other, will you tru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you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ill Trust in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Preacher, will you tru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acher, will you tru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acher, will you tru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you di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acher, will you tru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acher, will you tru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acher, will you tru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you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5:13:19Z</dcterms:modified>
  <cp:revision>161</cp:revision>
  <dc:subject/>
  <dc:title>PowerPoint Presentation</dc:title>
</cp:coreProperties>
</file>