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4C12-71CD-443A-B532-3F09B950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BD0E-768A-4110-8FC5-1751A955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4F39-466D-4619-9C98-DB24DD8FB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0B23-AC32-4C46-9936-DE76E3E9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D970-299F-4014-8E2A-48733F93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96FE-E569-4AF4-9276-C2177FC3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0998-7748-4CA6-942D-65F583AD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65DB-B954-4C35-8959-77A1F3C9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29B7-2301-4863-A67B-C65277FA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B785-BDF2-461A-803C-ACA299BE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837B-99FA-4CC6-9EE6-213C7DD8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79D6-1FC0-4899-A856-5D0784BE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FD22-7235-473A-881B-3B1FC16FF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earer, My God, to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Nearer, my God, to thee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nearer to thee!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E’en though it be a cross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hat raiseth me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Sarah F. Adams, 1841 (Gen. 28:10-2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all my song shall b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er, my God, to the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er, my God, to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er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all my song shall b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er, my God, to the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er, my God, to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er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Though like the wander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un gone dow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arkness be over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rest a st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et in my dreams I’d b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er, my God, to the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er, my God, to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er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There let the way appe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eps unto heaven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at thou sendest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mercy gi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gels to beckon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er, my God, to the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er, my God, to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er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Then, with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king though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ight with thy prais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t of my stony grief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thel I’ll raise;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 by my woes to b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er, my God, to the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er, my God, to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er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Or if, on joyful w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leaving the sk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un, moon, and stars forgo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pward I fl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5:25Z</dcterms:modified>
  <cp:revision>54</cp:revision>
  <dc:subject/>
  <dc:title>PowerPoint Presentation</dc:title>
</cp:coreProperties>
</file>