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2C3-9608-4680-8ADC-7EF83548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0FE-D57A-43FF-AEAC-7624A4B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A89-4DEF-489B-BCE7-06E1C86A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B22-1A71-477D-9731-C1CDECBF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244-6C0F-4D48-9155-2E64D32E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232-5F70-4144-AA5A-9FB57BE8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3CA-81D2-4E26-8218-FD512E15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905-B5F4-45FF-9C34-9AEEFFE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434-21F1-4E2E-9CCB-EE7DADE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31D-5762-4096-8AE9-8BED46C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71A-D980-40EF-8FEF-D6F5B48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D5E-093E-47DA-8E6B-1B6B76E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584-1AE7-41C0-AE16-F4F954C18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King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hepherd i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eth n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9400" y="1676520"/>
            <a:ext cx="37652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re streams of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f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ansomed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ver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tures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ood celestial fee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erverse and fool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t I str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yet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ought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 his shoul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lai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me, rejoicing, brough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death’s dark va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ear no 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, dear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ide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rod and staf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omfort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oss before to guid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ou spreadst a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s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unction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ow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h, what transpo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delight from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chalice flowe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nd so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ength of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eth n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Shepherd, may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y prais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us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40Z</dcterms:modified>
  <cp:revision>32</cp:revision>
  <dc:subject/>
  <dc:title>PowerPoint Presentation</dc:title>
</cp:coreProperties>
</file>