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7F8-8909-45FA-9413-FC0C64CA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707-4F5B-4269-9094-7AD7A4D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5A5-8F5A-4850-BC96-561AF65B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665-F0F5-4CAC-9734-46611705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23D-0D06-4A71-9FB5-90C266E1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E20-8088-4730-94D1-98056CD0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7D8-FE3C-4AD1-8BCE-82E9C58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6DF-4014-4EC6-AB4A-506481D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6E6-204D-4A9D-AE24-58C657F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64A-F613-49ED-8C05-B6DF1DA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FBA-0870-458C-AD8C-792F4B62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B4F-43FE-48AF-B08F-F89682F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C71-C100-4300-8F35-D9F3DA18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 True Singing</a:t>
            </a:r>
            <a:br>
              <a:rPr sz="4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red D. Gealy, USA, 20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cent.; alt. by Laurence Hull Stookey, 1987 (Ja. 1: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00200"/>
            <a:ext cx="8763120" cy="494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lorious God, source of jo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righteousnes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able us as redeemed and   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given childr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rmore to rejoi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in singing your prai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Sin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what we s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our lip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may believe in our heart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what we believ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our heart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we may practice in our liv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71604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 that being doer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the Wor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not hearers onl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 may receiv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lasting lif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rough Jesus Chris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ur L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0:02Z</dcterms:modified>
  <cp:revision>18</cp:revision>
  <dc:subject/>
  <dc:title>PowerPoint Presentation</dc:title>
</cp:coreProperties>
</file>