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A48-77D9-432B-8BD9-A80F6BCF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F9F-7627-4A01-A07F-416C41AC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AE4-1C11-422B-A793-20FE0BC1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9F9-892A-4C4D-9EBC-2A2F2433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999-91E8-44F7-9153-5257EC30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545-7441-4E1A-BDCE-B1C11A8D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319-4F9B-4F59-AE71-9BC6D5A8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D1B-CEAC-457E-979B-501194A9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CDE-73E6-473D-B46B-68EEAF3B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CBA-D544-4AFC-979F-E5467CFD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88E-5B0B-4ABB-BA58-F8D29B6B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13E-E1E6-4BFF-814F-782C14F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C824-B8D4-441F-8BD9-447734ABB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Is Mad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ur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hrist is ma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re found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the h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rner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7th cent. Latin; trans. by John Mason Neale, 1851  (Eph. 2:20-22; 1 Pet. 2:4-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osen of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reci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inding all the church in 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Zion’s help for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r confidenc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o this tem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we call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O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ost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y faith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thy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y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y fullest benedic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d within its walls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ere vouchsaf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y serva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they as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they 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e for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blessed to ret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reafter in thy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more with the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aud and hon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 three and ever 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in m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in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unending 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6:46:47Z</dcterms:modified>
  <cp:revision>65</cp:revision>
  <dc:subject/>
  <dc:title>PowerPoint Presentation</dc:title>
</cp:coreProperties>
</file>