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424-F0FA-4C20-AB80-6901C490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E35-27D6-418B-9AC0-5F559769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159-9FD5-479F-BB7F-DCF621E0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EC8-007C-4AFF-A0C7-6B38A7D1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F9C-ABCE-4BE7-8B1F-BD62EEDF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32E-5E6A-4FD0-B5ED-449820B4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A60-B79B-4E42-813F-D31B97B5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5A0-210F-4E86-9D74-87221143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156-DEFF-4749-A9C8-681A04BA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A4C-C9DB-4982-B142-0B9119A9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113-782A-4D9D-9464-A31D11B2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340-99C6-4D7E-B6D1-733884B3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ED37-1587-48E0-A6F5-BF3021DF7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aster People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aise Your V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William M. James, 197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1. Easter peopl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raise your voice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sounds of heave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in earth should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 has brought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us heaven’s choices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eavenly music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et it ring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aster people, let u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2. Fear of death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n no more stop u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rom our pressing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ere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or our Lor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mpowered us t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riumph over every foe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n to victory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ow w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3. Every day t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us is Easter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ith it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resurrection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hen in trouble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move the faster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our Go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ho rights the wrong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See the power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f heavenly thro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48:41Z</dcterms:modified>
  <cp:revision>62</cp:revision>
  <dc:subject/>
  <dc:title>PowerPoint Presentation</dc:title>
</cp:coreProperties>
</file>