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77AB5-0C9F-40F4-ABEF-336A30B05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06889-62E5-48B1-9984-7F333D22A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A7878-F0EE-449F-8B63-53C521F19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16D19-89F7-42BC-B213-E87CEAFCF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5EBBC-D579-4677-908E-0922C99A8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47A38-5CB4-4DBA-8044-423277F46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AD60E-C9AD-4E30-9848-23C6C0092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FD6A5-2305-4C6E-B69B-5B2C05AAD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8D0EB-C027-4D2D-9F3C-513DEE53A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CCD5F-010D-4EDB-A2A2-1E817C383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B1683-EEBD-4FB0-A78A-1C145399D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6B202-8D20-46F3-A171-2B15B3367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A02FB-0886-4D79-814A-239F6A0FD4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8088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The Lord’s Pray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27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590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ur Father who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rt in heave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allowed be thy nam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Lord’s Prayer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027240" y="1066680"/>
            <a:ext cx="3088440" cy="42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WORDS: Matthew 6:9-13</a:t>
            </a: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y kingdom com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y will be don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n earth as i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s in heave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ive us this da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ur daily bread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forgive u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ur trespasse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s we forgive thos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o trespass against u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lead us no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to temptatio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ut deliver us from evil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or thine is the kingdom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the powe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the glory forever. Ame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8:54:08Z</dcterms:modified>
  <cp:revision>26</cp:revision>
  <dc:subject/>
  <dc:title>PowerPoint Presentation</dc:title>
</cp:coreProperties>
</file>