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77F6-FA56-4367-9628-21FD779D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01C8-D0BD-4AA3-8BEB-E9BEA75E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6AD4-D031-4CEA-897A-C10334DA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0473-42E6-4116-AD76-E68BF3A5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C509-2F99-4850-8A1D-771F11E3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CBE3-0686-4A04-8BC6-D44C4471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3438-2374-455F-8925-9C721FBE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0066-A7F5-4DC6-A1C8-F757BFC1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456C-F48D-45BF-B73B-50F36F5B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E9BE-DAE7-4E4D-8A7B-5A1D3AA7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17F7-EC5E-48E0-B1FF-84147885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D794-4AD7-4464-99B9-C0C949E1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EA9C-F755-488A-A337-649289758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An Invitation to Chr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vitation to Chr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Dimitri of Rostov, Russia, 17th 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420040" cy="48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Come, my Ligh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and illumine my darkness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Come, my Lif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and revive me from death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Come, my Physician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and heal my woun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By permission of A. R. Mowbray &amp; Co.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47780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ome, Flame of divine lov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burn up the thorn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of my sins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kindling my hear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with the flame of thy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906480"/>
            <a:ext cx="86104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ome, my King, sit upo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e throne of my hear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reign there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or thou alone art my King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my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6:05:10Z</dcterms:modified>
  <cp:revision>155</cp:revision>
  <dc:subject/>
  <dc:title>PowerPoint Presentation</dc:title>
</cp:coreProperties>
</file>