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486-CC64-41E8-89A2-473911CB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9D3-0AB6-4E87-8220-59E98B99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B479-BA7F-4531-8E4F-A015970C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0CB7-42FE-42FF-9A93-9260DB94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F8C-0F8E-43A6-A210-6AD661BE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3D19-CCFC-4663-9E4A-6E959C32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3BB-DA24-4509-AE04-CFD6C21F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5F78-E518-4654-93C9-CE74F706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5A6-709F-46DF-BDA0-45BA78E1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064-D830-4A96-8C6C-BBA3BE53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F67F-615B-47BF-AD19-E9716ABB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77AC-B0B6-4F27-A379-4ACD7B7F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422D-DBCD-42E2-8C4A-C2D6F4BD2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irit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John Wimber, 1979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473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O let the S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God enfold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s Spirit and his lov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him fill your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atisfy your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© 1979 Mercy Publi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et him h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things that hold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his Spirit like a d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ll descend upon your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make you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O Jesus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O come and s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s song with gla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s your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re filled with joy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ift your hands in sw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urrender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give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your tears and sadnes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ive him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years of p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you’ll ent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to life in Jesus’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O Jesus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6:54Z</dcterms:modified>
  <cp:revision>102</cp:revision>
  <dc:subject/>
  <dc:title>PowerPoint Presentation</dc:title>
</cp:coreProperties>
</file>