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524-BC0B-42EA-85A5-56DEC67B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520-BE6A-4D25-BD02-DD72E6E3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2A4-8D6F-4533-A1C2-60084654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50D-0334-4D66-B297-2C5F763A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1DC-6BC6-46D0-950F-E35CE18B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3F0-9DD4-42C2-AD6D-E765CCEB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DF1-A307-4724-9915-C69893B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20A-2783-41BF-B046-44629AE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C88-4C1E-4F2C-981D-9F1114F4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574-AFAA-44F5-B058-46825DA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99C-96A2-4F8A-9A96-9FFF671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7B5-D99F-4E3C-B07F-D79EE3F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7897-64AE-48A4-B2E4-611F4FCA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, Thou Once Despis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784872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John Bakewell, 1757, and Martin Madan, 1760, alt. (Rev. 4:2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Hail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ce despised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, thou Galilean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t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ted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ther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for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plead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place prep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fo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interce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orship,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, and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udest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u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, ye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ic spi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your swee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blest l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me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 to c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’s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leas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fre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versal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bor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in and sh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mer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find fav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is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Pascal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God appoin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e were l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al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anoin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onement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for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virt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y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pened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te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conciled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hai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d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ab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1:03Z</dcterms:modified>
  <cp:revision>84</cp:revision>
  <dc:subject/>
  <dc:title>PowerPoint Presentation</dc:title>
</cp:coreProperties>
</file>