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E57-9A12-4A44-996B-AC7E47B0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ADE-A75E-4732-B935-83133068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8DD-47C5-4239-AD78-B2B46E83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406-2D55-480F-B9B9-CB8D3BC0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2EB-152B-4C24-9BC9-ECC025B5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471-9B48-4726-BFF6-E14572DB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257-F6BC-467F-A181-A12BD8C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314-03B2-4A8C-9C3D-E95CFDED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00F-1025-47F2-BC31-06D0D60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FFD-B447-4C91-9748-2FB6054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004-B635-49EB-ACC0-DD5A9C7C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4F8-4702-4F03-90BC-F68C546F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8DE8-7C4E-4B70-800B-4DBCE504F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Can We Sinners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ow can we sinners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ins on earth forgiven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can my gra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ior show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inscribed in heave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8760" y="114300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at we have felt and s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confidence we t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ublish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s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igns infalli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e who in Christ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e for us hath di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ll his un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 rece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el his blood appl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e by his Spirit pr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know the things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hings which free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ath on us best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he meek and lowl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 our Savior wa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us that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th imp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gns us with his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Our nature’s tur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m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ansformed in all its pow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o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nesses are joi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pirit of God with 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00:59Z</dcterms:modified>
  <cp:revision>22</cp:revision>
  <dc:subject/>
  <dc:title>PowerPoint Presentation</dc:title>
</cp:coreProperties>
</file>