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403-CE08-4E91-A04B-8836533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840-3A1D-4C0A-B179-C64D77D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CA2-8113-47D7-B2E2-F4A1C16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8A5-23FB-4741-B112-935913D3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CF3-453C-4775-90C1-3D957F4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998-8F54-47AB-BC35-6D7996C6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394-434E-494F-B148-D5DB387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A29-3039-45D6-B4B0-6AEF55D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AC2-B0C5-48EE-86CD-7C3DE2E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B0F-3178-4BC0-A1C4-0FFD505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2C3-40EE-48BA-B7CD-843584D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9E8-2D3A-4849-B275-DBDFA52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F27-295E-4916-BDC3-6B0250B74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hurch of God, Un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church of God, unite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serve one common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roclaim to all one messag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hearts in glad acc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4, renewed 198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erick B. Morley, 1953 (Acts 2:5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ever goes befor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llow day b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ro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er footst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the up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rom every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rdered ranks app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rve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aliant lea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ome from far and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hant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confe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praise one living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ace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 depen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his sa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cr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ngues may diff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hrist, of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y 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one people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may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serv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gleness of a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 to all the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redeeming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ay thy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be answ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all b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love uni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, God’s blessed S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ring a single wi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thway b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ouls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ope in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 the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09Z</dcterms:modified>
  <cp:revision>19</cp:revision>
  <dc:subject/>
  <dc:title>PowerPoint Presentation</dc:title>
</cp:coreProperties>
</file>