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3D17-4315-42B5-BE22-1E7A85F1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C3E-F13B-4EB4-8003-29518CAC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488-B46B-4931-B393-A21F6DC2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FD87-3450-46A2-8523-8EA5713F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17A-9CF3-49A9-BC29-B57A2DF4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E261-4CCF-430D-9205-6D22DB52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B18-BD6F-42F4-9B66-85819EBB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28A-3D11-438B-8491-DD195EC7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391D-C242-4807-B0B9-99C0F553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5796-A441-4F72-B745-E1C50D31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C7F3-0635-40A5-A369-45C91034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BBF1-0524-4D92-B9DA-E22C7B45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72EB-131B-4B49-9D62-C4F696C90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al Me, Hands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Heal me, hands of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earch out all my pai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tore my hop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move my f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ring me peace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2 Jubilate Hymns, Ltd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89440" y="1192320"/>
            <a:ext cx="3158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Michael Perry, 19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leanse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ood of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bitterness aw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me for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one forgi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ring me peace to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Know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nd of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ow me all my si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spel the memories of guil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ring me peace with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Fill me, joy of Jes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xiety shall cea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aven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renity be m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Jesus brings me pea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5T20:06:50Z</dcterms:modified>
  <cp:revision>25</cp:revision>
  <dc:subject/>
  <dc:title>PowerPoint Presentation</dc:title>
</cp:coreProperties>
</file>