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9F93-F851-42E7-987C-C2A21CA05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F49F-1702-49BA-84D7-E388C556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0D4F-56ED-4EDB-A426-50F0CB302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E0FE-62F7-4C4D-8282-AA9210B4F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43E4-5D3D-4A6B-9ACA-5784AB79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2A10-5DE4-4098-80B1-AA60FAA4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011D-3D3F-4E92-BD68-DD56EF8F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9B6A-35AB-4A77-BD0C-24BD3431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58CB-7AD3-4E6A-80B3-7FE855E3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8A22-C509-45F1-B574-F0F304C4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41F0-B0E8-47A4-8D91-4EBE29E9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D17E-1A46-4184-8D08-606189F0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FE1B-BB6A-4675-A6F0-1F2E5298E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Joy of Our Desi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6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Joy of Our Desir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30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Martin Janus, 1661; trans. an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us, joy of our desi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wis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most br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n by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ouls aspi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ar to uncreated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flesh that fashio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fi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ife impassion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iving s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ruths unkn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aring, dy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und thy thr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rough the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hope is gui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rk, what peace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usic ring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Joy of Our Desir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the floc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e confi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ink of joy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less spri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s is beauty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rest pleasu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s is wisdom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iest treas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dost 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thine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joys un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6:02:53Z</dcterms:modified>
  <cp:revision>147</cp:revision>
  <dc:subject/>
  <dc:title>PowerPoint Presentation</dc:title>
</cp:coreProperties>
</file>