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E95-79E1-4566-8542-61BDE00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EE6-A823-4D01-912A-C7C445C1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CCE-A1D8-47F1-882C-E852B7D2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5F7-D3ED-4607-89EE-36C1EB52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8EB-8A78-4188-B79E-C0E80EBB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E87-0B7D-47DF-A6E9-721A3CCB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EF2-0340-414F-86ED-8053DED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EEF-97A6-4709-8B02-9FDE68CE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6DF-3A07-427C-A82D-78EB4ED7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1E4-3502-47EC-833D-1C028A4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A24-9FF0-4CF9-B203-3CA99CBF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7A0-32B2-45AA-AADC-522F387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B90C-AEC2-4F46-AC0D-D0459A51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and Great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ny and great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, are thy th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r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5920" y="1066680"/>
            <a:ext cx="76636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Joseph R. Renville, ca. 1846; para. by Philip Frazier, 1929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Ps. 104:24-30; Jer. 10:12,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s have 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 with st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ingers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s and pl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657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at thy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ters were form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seas obey thy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505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rant un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on with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tar abiding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un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well with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 are 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ift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us with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s no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if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12Z</dcterms:modified>
  <cp:revision>10</cp:revision>
  <dc:subject/>
  <dc:title>PowerPoint Presentation</dc:title>
</cp:coreProperties>
</file>