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424-9363-400C-A89B-A8C7C3F9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0D6-F0C9-4BD6-B9ED-18E85AC8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F6D-5EA6-480D-81F2-386BEE08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F31-3885-45E3-ABBB-653A5771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AD3-989B-45DD-8F17-3C374CD1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09B-271E-443F-907E-D1DD740A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A3C-055C-4A02-9D65-B818D30C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341-EE31-4200-B238-DF5829C2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74D-C935-43C6-96C6-8F3711A3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A9E-807D-45D9-9D2F-C289F2C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B19-7DE6-4989-B84A-77EC9B7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E02-2A5D-43F6-9135-056265C8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18C7-1E76-48F7-8B94-E3979A5B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He Lead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E. W.  Blandy, 1890 (Mk. 8:34; Mt. 8: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 can hear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 c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He will g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he will g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grace and glo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g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o with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e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“Take thy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llow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he gard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the judg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7:57Z</dcterms:modified>
  <cp:revision>95</cp:revision>
  <dc:subject/>
  <dc:title>PowerPoint Presentation</dc:title>
</cp:coreProperties>
</file>