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9D1-51EC-40F0-B7DA-41DE64BC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DEC-2294-4A75-8F0A-DD867BB0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486-E0B9-44A7-8987-F40C85F0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0FF-8F39-4EDC-9291-7BF39C8F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2CB-6288-427C-9752-1B373BA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0B-B6E0-4BE8-B1C0-BB7DE45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B5C-73F3-49C9-8129-B7DAE24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7DC-B6F4-4661-92C0-4950708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62A-8B2C-47EF-87DA-A8590C1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FF5-3EF5-4222-A6C4-BA16787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C38-2629-429A-B160-E117691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CFC-AA42-4686-98DB-5F4F777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0F9-B4DF-4380-A528-EF9772008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ck-a-Bye, My Dear 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ock-a-b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ear little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little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 of wond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lessing and j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87 Jaroslav J. Vaj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8880" y="1116000"/>
            <a:ext cx="566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zech carol; trans. by Jaroslav J. Vajda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umber as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hol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y t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nfold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 of God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n my arm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o peacefully cur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ittl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born to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 rock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ly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guards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 are keep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cious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day we shall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love has desti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ou 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27Z</dcterms:modified>
  <cp:revision>10</cp:revision>
  <dc:subject/>
  <dc:title>PowerPoint Presentation</dc:title>
</cp:coreProperties>
</file>