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57C2-D259-479E-916E-28478DB6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F45-0ED2-4F93-BDDF-17E23A3F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32BC-F1EB-4CCD-9540-489302A7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89F-21A5-4603-85F1-7A0F5E95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97F-EA9B-439F-B444-CCD2A9A2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31CB-58DD-46F3-ADA4-CD10E4AB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DB52-DE0F-458A-95EB-BF74FB81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FC5D-046C-4350-AD50-E0111C33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EFD1-44A0-496D-B1E2-DD898D07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648-902C-44BE-BBD1-920A4A4D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DD9-1D3A-415A-9591-4C613E6E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5553-AEE7-4C9B-AE7B-44278DE1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911D-ECB0-4400-BA13-911763BA7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Love Is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6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Love Is Fou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Brian Wren, 1978 (Gen. 1:27; Jn. 2:1-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20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love is f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pe comes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and be gl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wo ar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3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love be f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death and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roken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ve explod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lls the sk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God and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aker’s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ve has flow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rust and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ild both each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ove may da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Love Is Fou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each beyo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me’s warmth and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and str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ruth and r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ve is tr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oved ones chan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still to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all seems strang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Love Is Fou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ease retur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grows w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listening 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pened ey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love is t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rust betr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strength to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orments fa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Love Is Fou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lovers k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score of w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ear through p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’s Easter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God for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God for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ge or you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usband, wif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Love Is Fou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6:00:39Z</dcterms:modified>
  <cp:revision>146</cp:revision>
  <dc:subject/>
  <dc:title>PowerPoint Presentation</dc:title>
</cp:coreProperties>
</file>