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6FC-7620-4BC4-A2A4-E7B4F273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C1A6-0454-48E6-8C52-1E0623CE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47D-37B6-433B-B80E-1B490FCC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A3D1-FC6E-4DF1-A3CB-931DD381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0CB-CD09-4D0C-BF0E-9ECB6BAC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6A2-7401-4786-9BD7-1BC059A2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ABED-1370-4E3D-B77C-3A6FA5C8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312-B9DB-47CF-B5B9-5C034852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9B9-6221-44D3-8D8D-225B3D88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150-A54E-4FD0-961C-F1A26FA4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26E-0D5B-4303-AD6F-19B3ED28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E13-8376-4490-80B7-2022DA24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C604-2A6A-4768-9FE0-8589B6353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228600"/>
            <a:ext cx="93726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’s a Widenes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God’s Mer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There’s a widenes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 God’s mercy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ike the wideness of the sea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re’s a kindnes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 God’s justic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ich is more than liberty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0640" y="1523880"/>
            <a:ext cx="370584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Frederick W. Faber, 18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here is welc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sinn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ore grac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goo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is mercy with the Savio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is healing in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47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For the love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is broad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n the meas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our min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heart of the Etern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most wonderfully 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If our love w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more simp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ould r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pon God’s wo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ur liv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uld be illumin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e presence of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6:29Z</dcterms:modified>
  <cp:revision>38</cp:revision>
  <dc:subject/>
  <dc:title>PowerPoint Presentation</dc:title>
</cp:coreProperties>
</file>