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DE8-E1F9-477F-81D3-274004A7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BA1-9D5F-4BD7-8832-29086F48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9558-1B20-4EEB-920F-8681741B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33E-BBE9-4DF0-9830-66DD957D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CE6-8A4E-42AC-8610-8066A6C6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2D4-0B2D-4759-A9E3-928CA029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1EF-763E-4279-A409-45D73CE1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AEA6-AA65-4265-895F-14DCA30D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DD1-9C6A-4861-A2BF-332F109C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BF4-9E10-4CF1-A88B-F8367C7B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67D-EB6E-42C8-9395-28F1909C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5A95-7D70-4F8A-8E0D-86055BC6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E575-EE9E-43EB-BDED-9C51A7070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fant Holy, Infant Low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Infant holy, infant low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bed a cattle sta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xen lowing, little know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the babe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nt Holy, Infant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9840" y="1042920"/>
            <a:ext cx="6898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Polish carol; trans. by Edith M. G. Reed, 1925 (Lk.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wift are wing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gels sing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els ring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dings bringi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the babe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Flocks are sleep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epherds keep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vigil till the morning ne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w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rd the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dings of a gospel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nt Holy, Infant Low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us rejoic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ee from s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s voic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eet the morrow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the babe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20:53:55Z</dcterms:modified>
  <cp:revision>76</cp:revision>
  <dc:subject/>
  <dc:title>PowerPoint Presentation</dc:title>
</cp:coreProperties>
</file>