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4C-A888-47B7-A4B9-B2A2F0FA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E51-24D8-4380-B784-4C82698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B77-100F-49AB-93E9-01CCAB5C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53D-4A42-4865-905C-809962B6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AC3-DB5F-43F5-8B76-51603DAF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450-C897-4ECF-90DC-69ADA3D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542-3E79-4E12-824A-C9E42D00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809-28EF-44BF-AA6A-43CBF21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429-ED1B-4544-82A4-7BF75AE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859-506B-4458-A468-693754E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82F-EB49-4D30-A15F-55026645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2AD-FAF8-458B-9EDF-F899F9A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C0A-80C7-48ED-A592-BCDD1762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432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2920" y="1676520"/>
            <a:ext cx="757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89880" y="106668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La Palabra Del 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 Es Rec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ghteous and Just Is the Word of Our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60020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8400" y="259092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704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59092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5238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27Z</dcterms:modified>
  <cp:revision>24</cp:revision>
  <dc:subject/>
  <dc:title>PowerPoint Presentation</dc:title>
</cp:coreProperties>
</file>