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B80-75BC-41A8-927D-D1673CB0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6E0-6780-4375-AAD1-64105023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037-0D12-404D-A482-1E670E5D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493-3B6C-4B18-8010-9ED01BCF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028-C642-44C3-8747-5C4009C9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040-6466-4BB7-AEEF-61DF09A3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FBC-36E2-4105-BE21-AF86069F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659-C767-444C-B4AE-5699E995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861-586C-47EC-BA56-794CF1ED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947-24B5-4271-9AB7-36097937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17B-A7F3-45A9-88F3-EBB06608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71C-910B-4187-9086-4952F217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287F-49B6-4E48-8396-37D1DE77B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My Way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 Truth, My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Come, my 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Truth, my Lif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ch a 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 gives us brea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My Way, My Truth, My Lif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3880" y="1625760"/>
            <a:ext cx="48319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George Herbert, 1633 (Jn. 14: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ch a tru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ends all str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ch a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killeth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Come, my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Feast, my Strengt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ch a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 shows a fea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My Way, My Truth, My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ch a fe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mends in leng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ch a streng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makes his gu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Come, my J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Love, my Heart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ch a joy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ne can m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My Way, My Truth, My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ch a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none can p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ch a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joys in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00:59Z</dcterms:modified>
  <cp:revision>26</cp:revision>
  <dc:subject/>
  <dc:title>PowerPoint Presentation</dc:title>
</cp:coreProperties>
</file>