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F4C-E043-4AC9-89B7-C42FDA4C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967-F50B-41C1-BB1C-DC01887C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659-FD0A-4248-9FCD-0288DF18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7F6-D823-4FCF-AA8F-321E3DF8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AE8-2B23-42D2-B6D2-EDE5A68B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78D-6710-4A17-94E5-50EFBA4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A56-ECCC-4C73-A221-6EDD53FC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4CB-FF98-4FCB-9824-06B531E2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56E-FC87-4080-B444-7EE20403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4BE-F4AA-44D2-8F35-1F19ACEC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BF5-D19D-4C6C-9D4D-EC9FBA42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76B-C83E-44C1-BC9D-F32F68D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C0B0-CC87-4F5A-BC3D-A65788C26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6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lessed Be th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USA campmeeting chorus (Ps. 72: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6:39:05Z</dcterms:modified>
  <cp:revision>11</cp:revision>
  <dc:subject/>
  <dc:title>PowerPoint Presentation</dc:title>
</cp:coreProperties>
</file>