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94B-755C-4094-B7AF-7F6871F5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3A9-F36F-491A-BAA1-84AC089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AD7-C1A1-4B4E-A32E-BE7ECB41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BD7-5723-48A4-8CD8-D04E5CF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6A7-D53A-41DA-8D35-B7665346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D6A-F4E9-444B-9177-35B450B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C26-F38F-46ED-8FB4-5C45A3C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8D9-3A62-43C9-840F-9C11031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970-9FD0-4402-8E5D-7BCB9525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36C-619F-44B3-A1A1-5225D8A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161-35A1-43F2-9750-90E986D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705-5A99-4FC9-BFFF-ADBC27B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48F3-F1E2-416B-B281-67C0C8C71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gospel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sou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7 (Lk. 14:16-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the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esus wa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ke you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Do not beg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ake excu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h! do not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race refu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worldly c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leasures le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what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 and par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spel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Jesus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aste the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t his fl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rink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ee him set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your ey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acrif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offere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haste to emb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eely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 b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Ye who belie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record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up with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with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1:29Z</dcterms:modified>
  <cp:revision>118</cp:revision>
  <dc:subject/>
  <dc:title>PowerPoint Presentation</dc:title>
</cp:coreProperties>
</file>