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C6DA-4671-4F6B-A4D2-2863987B8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902E-419F-4F83-B5CB-97E91C09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055E-EFE2-4950-83EA-DB314B7AB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5252-3110-4579-88E9-AE2925CDA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A5C6-D436-4644-BDDA-E83D1E57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3778-2871-4730-8075-8F5900DA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E4A2-2BA1-4289-8451-9FAD5BEA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3088-48FD-476E-9680-5DCAC65C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0BB4-66CD-4D28-8D61-A4015802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84AF-6830-49F4-B62B-246FD896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BC1A-1772-4ECD-92D6-60763DE2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E43B-0836-4AB7-87E8-6FC8773C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C350-38AB-4A89-AFC0-E417B21A8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Know Whom I Have Believ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6080" y="304920"/>
            <a:ext cx="144792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4290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I know not w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wondrous gr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me he hath made kno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66400" y="1143000"/>
            <a:ext cx="431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Daniel W. Whittle, 1883 (2 Tim. 1: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2767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vealing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the w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eating faith in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743200"/>
            <a:ext cx="9144000" cy="38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I know wh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have believ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m persuad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he is abl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2004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keep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I’ve committ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to him against that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33526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I know not wh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ord may c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night or noonday fai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3526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r if I wal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vale with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r meet him in the ai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2743200"/>
            <a:ext cx="9144000" cy="38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I know wh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have believ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m persuad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he is abl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2767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keep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I’ve committ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to him against that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2004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r why, unworth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in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deemed me for his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514600"/>
            <a:ext cx="9144000" cy="38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I know wh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have believ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m persuad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he is abl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3526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keep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I’ve committ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to him against that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2004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I know not h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saving fa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me he did impar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r how believ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his w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rought pe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in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666880"/>
            <a:ext cx="9144000" cy="38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I know wh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have believ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m persuad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he is abl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2767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keep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I’ve committ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to him against that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2004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I  know not h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pirit mov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nvincing us of s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5:10:26Z</dcterms:modified>
  <cp:revision>56</cp:revision>
  <dc:subject/>
  <dc:title>PowerPoint Presentation</dc:title>
</cp:coreProperties>
</file>