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CDB-A3BC-4818-80D0-A5292F46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F8A-6A10-4060-A8D6-FE8AF27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223-687E-4ECB-8307-3E3E10E8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F88-0F51-47D5-87A6-090D227A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22A-8167-46DB-8FBC-D589F32A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5DD-97FA-42A1-965D-3E29C4AF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C22-A181-4D1D-B311-C414ABF4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216-5E64-4444-8517-781C7DB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908-D8AA-4E17-AB42-7A4A206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5B0-83D2-433C-9C56-3041086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FC8-B579-4978-881B-49090E4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ECD-1726-4483-9237-9C1BF20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0DB-32A8-4DEB-80E9-42026206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ons and Daughter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ean Tisserand, 15th cent.; trans. by John Mason Neale, 1851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O sons and daughte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us sing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gloriou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e,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ubile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6. When Thomas fir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tidings hea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w they had se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risen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doubted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isciples’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7. “My pierced sid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 Thomas, se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hands, my fee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 show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t faithless bu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lieving b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8. No longer Thom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n deni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saw the fee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ands, the 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art my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God,” he cr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9. How blest are the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o have not se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yet whose fai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th constant be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 they eterna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shall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death and he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ose triump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at Easter m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t break of d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faithful wom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nt their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seek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Jesus lay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An angel cl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white they s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o sat and spak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nto the th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Your Lord doth g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Galil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That night the apostl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et in fea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idst them ca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ir Lord most d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said, “My pe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on all he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On this most ho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of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hearts and voic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, we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07Z</dcterms:modified>
  <cp:revision>74</cp:revision>
  <dc:subject/>
  <dc:title>PowerPoint Presentation</dc:title>
</cp:coreProperties>
</file>