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1D0-CAE8-4E99-B1CD-B7FAC4BD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161-D54C-4A04-9B99-7135CB7F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A5C7-1C8A-45BC-80D2-FA4217B9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967-367A-4947-8E76-48F529B0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7AF-D446-4BC9-A22E-4D872D22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EBA-137C-478D-9268-57EC877E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13A2-4103-4425-8CB1-597581E5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AD41-08E9-4FB1-BD8E-18A53217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C51-C406-4C49-AFC7-971F5891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8CA-DA99-45B9-B76A-E7AB4DE1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D3E-4ABC-4BE2-8FED-64352D00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8DE-8976-4420-8A8C-23309BF5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A781-6B93-45EE-B8B4-8CACEBF83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Renewal of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76520"/>
            <a:ext cx="853452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new your church,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r people in this land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ve us from cheap word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self-decepti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your serv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6 John de Gru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Renewal of the Chu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61400" y="1063800"/>
            <a:ext cx="2235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outh Africa,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371600"/>
            <a:ext cx="845820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the power of your Spiri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ransform u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shape 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y your cro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1:21:03Z</dcterms:modified>
  <cp:revision>15</cp:revision>
  <dc:subject/>
  <dc:title>PowerPoint Presentation</dc:title>
</cp:coreProperties>
</file>