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803-BD17-47BB-9AAE-B1E8287D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B04-B5E3-4B38-95BF-FFB11CC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9E9-4208-4C64-BF41-3D8724FE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D28-77FD-4AF9-B8E5-D9A028A9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22F-1E39-4236-8C1B-7261E41D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38B-0C2B-4918-A53B-B6FDA5D2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1E8-1D58-4EF1-97CA-330A545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9D2-A842-4747-9AD0-6F86C996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49C-B84E-4035-B583-D6558199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77D-4E7E-4272-B2CF-96EBCE8B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B1B-1A5B-43B8-BEC7-C16CBB8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89D-36C8-4B4A-BF70-397EAB0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7B75-60DF-40EA-A43C-AF7EC1452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Wondrous Love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USA folk hy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What wondro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 my soul, O my soul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 my soul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716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4. And when from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when from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’ll sing 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I’m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’ll sing 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love is thi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at caused the Lor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f bli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at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y soul, O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s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aus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ay aside his cr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lay aside his crow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3. To God and to the Lamb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 will sing, I will sing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o God and to the Lamb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 will sing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La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 A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sing, I will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1:16Z</dcterms:modified>
  <cp:revision>54</cp:revision>
  <dc:subject/>
  <dc:title>PowerPoint Presentation</dc:title>
</cp:coreProperties>
</file>