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CFB-614B-47E9-8FD3-04644BB7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C43-15D3-4833-9CB8-8AAB4532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376-EA29-4008-BB7F-5D494891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102-D0D6-4483-A929-40CBEEEF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24D-5804-448A-927B-1DD3CA84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553-8333-4D4F-AE21-EEEC7BB4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747-B245-4B94-810F-B5C285C0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0CD-7589-449E-80F2-FA68A93D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F65-482C-492E-B6F4-B66AE335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775-41B0-4D9D-8B3B-722A7301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84D-4E8A-4C9D-8512-2D5FB37A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695-9B86-4765-B70D-865F2C86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A960-80BA-460E-BD0F-21291C128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I Survey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ondrous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Isaac Watts, 1707 (Gal. 6: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en I surv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ndrous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which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ince of Glory d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richest g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ount but l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our contemp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all my pr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orbid it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 should bo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e in the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Christ, my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vain th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harm me m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crifice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ee, from his h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hands, his f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rrow an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 mingled d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d e’er such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orrow m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thorns comp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rich a crow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ere the whole real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nature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ere an off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r too sm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so amaz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mand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ife, my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5:00Z</dcterms:modified>
  <cp:revision>53</cp:revision>
  <dc:subject/>
  <dc:title>PowerPoint Presentation</dc:title>
</cp:coreProperties>
</file>