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ECB-E801-41D1-B519-7AD190BB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80E-C751-4095-B576-03664823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49E-0CF8-44D3-A03D-2771623F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E08-AC5F-43B8-8FA6-6FE076A0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3A6-F938-47DC-B6E6-8D8AB67D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250-B3BA-4156-BD2E-6285201C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CC6-B3F5-400E-A222-E05B5E38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E89-A745-4BF8-9654-185B5387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CF8-5401-456C-93DC-1DFCA9C3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BF1-A31E-48B3-A897-3FC125B6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EB4-2E68-4000-A992-E89AF43B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279-C08B-40F5-B3A6-18CB3E2C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5D8B-8E47-45F5-8598-2A562B8CC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Can It B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I Should 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And can it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 should g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 interest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vior’s blo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3720" y="1600200"/>
            <a:ext cx="4012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39 (Acts 16: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mptied himsel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ll but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led for Adam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less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s mercy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mmense and f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O my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found out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3640"/>
            <a:ext cx="9144000" cy="50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s mercy all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’Tis mercy all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mmense and free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immense and fre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O my God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for O my God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found out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Long my imprison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l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st bound in s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ature’s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ne eye diffu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quickening ra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oke, the dunge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lamed with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chains fell off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eart was f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rose, went for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ollowe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593640"/>
            <a:ext cx="9144000" cy="50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chains fell off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My chains fell off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eart was free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my heart was fre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rose, went forth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I rose, went forth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ollowe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No condemn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I drea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and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im, is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ive in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living H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lothed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eousness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ld I appro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’eternal thr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laim the cr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Christ my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ed he for me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caused his pain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me? who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death pursu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593640"/>
            <a:ext cx="9144000" cy="50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ld I approach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Bold I approa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’eternal throne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th’eternal thron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laim the crown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and claim the crown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Christ my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azing lov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can it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hou, my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uldst die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2120"/>
            <a:ext cx="9144000" cy="494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azing lov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Amazing love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can it b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How can it b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hou, my God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that thou, my God,)</a:t>
            </a:r>
            <a:br>
              <a:rPr sz="36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uldst die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’Tis mystery all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’Immortal die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can explo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strange desig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vai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rstborn seraph tr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ound the depth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lov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s mercy all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earth ado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angel mi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quire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3640"/>
            <a:ext cx="9144000" cy="52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s mercy all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’Tis mercy all!)</a:t>
            </a: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earth adore;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Let earth adore;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angel minds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let angel min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quire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e left his Father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ne ab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(so f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infinite his grace!)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26:08Z</dcterms:modified>
  <cp:revision>13</cp:revision>
  <dc:subject/>
  <dc:title>PowerPoint Presentation</dc:title>
</cp:coreProperties>
</file>