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30A-493F-4C37-8C68-FEDA6F7A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60D5-E243-42B6-AA7D-A4F7D6A2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61A2-33D2-4E1D-A48E-41E30633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3151-6FC2-4EF1-AE07-C7C85CD6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F6EB-1E78-45A7-8E52-81F2D401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C7B6-1649-4B3F-8EB9-932CFC21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D05D-0ACA-45B6-A3D5-765644BD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DCC8-8A3F-4735-87B1-116B538A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1625-6D2E-49E9-B032-8254DDDD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73AB-C375-4472-87DB-8E6C628C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A587-A0DC-466D-8D3A-AB4A5A04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7F9E-C534-40A7-8D54-147C2DB7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CECC-1EE3-48A8-93C9-EAFA525B7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on and Very So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43200"/>
            <a:ext cx="9144000" cy="386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Soon and very so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going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 the King;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Hallelujah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8 Communiqu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 Music, Inc. &amp; Crouch Music Cor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20000" y="1066680"/>
            <a:ext cx="409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Andra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é Crouch, 1978 (Rev. 21:3-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8195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on and very so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going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 the King;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Hallelujah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438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on and very so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go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ee the King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elujah!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re going to see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048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No more dying the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going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 the King;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Hallelujah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048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more dying the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we are going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 the King;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Hallelujah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more dying there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go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ee the King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elujah!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re going to see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2004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No more crying the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going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 the King;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Hallelujah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1240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more crying the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we are going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 the King;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Hallelujah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more crying the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go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ee the King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elujah!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re going to see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5:35Z</dcterms:modified>
  <cp:revision>50</cp:revision>
  <dc:subject/>
  <dc:title>PowerPoint Presentation</dc:title>
</cp:coreProperties>
</file>