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59B1-C221-440E-A191-DCB265FE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7991-D40C-442E-9DC8-CBDA6177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3721-E8F5-4810-BAB4-E107ECDE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C2F-E4ED-4150-A5DC-E6CA3A5B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6991-1009-4CF6-8F52-E681FE13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99E-3111-4FDB-8EA6-5C76DBC9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BCC-A179-41BD-B3D9-E6F5D07C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533-B65F-41B4-92AD-63ABB76D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80DC-9857-4C0B-A012-634ED742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13AB-C385-4ABA-BC00-E4248C92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56C-9550-4A21-81E2-7014708B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631-D88C-4F78-B481-C64C0DAF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595D-A6F0-454D-B635-D69A37CCA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Dear Lord, for All in P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for All in P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Amy W. Carmichael, 19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Dear Lord, for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pain we pray to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come and smi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gain thine enem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© 1933 Dohnavur Fellow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for All in P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Give to thy serva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kill to soothe and bl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to the ti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ill give quiet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for All in P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And, Lord, to those w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now pain may not cea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near, that e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o they may hav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5:51:34Z</dcterms:modified>
  <cp:revision>156</cp:revision>
  <dc:subject/>
  <dc:title>PowerPoint Presentation</dc:title>
</cp:coreProperties>
</file>