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8C3-FB66-44C4-9485-5A490B95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5CA-8D0A-4521-B197-6E26A1ED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FA8-DE3D-4829-8135-0DEA46D2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E11-1A49-4846-8688-88E4C940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886-F25A-40D2-BBDA-C709C2C5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B93-32F8-42D5-AC10-37356B22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9DA-703C-455E-9950-33AD8482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C1A-E45B-428F-831B-03B4A500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B33-B9C9-47EB-A181-AC8AA6CA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339-2C81-4E29-B2CC-33ED042D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D00-562A-420C-84C8-B9048CF9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317-28D5-488F-9CE9-4657F67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228D-9B9E-470F-83F0-2C5F6E74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ve came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ll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16200" y="1116000"/>
            <a:ext cx="3803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ristina G. Rossetti, 18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was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Christma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and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v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rship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ncarna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here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acred 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ve sha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ok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be your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for pl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ft and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6:58Z</dcterms:modified>
  <cp:revision>17</cp:revision>
  <dc:subject/>
  <dc:title>PowerPoint Presentation</dc:title>
</cp:coreProperties>
</file>