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077B-33CE-4A55-AF18-33F298A41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68C6-CCCF-4589-A2CE-0B4BA61D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06E0-90CB-4C64-A316-9E02A22D3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BB40-6842-4AE0-934C-8495A08CF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145E-5346-4621-ADFE-E9EABF4E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43D3-7697-4357-97EF-CDF64610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B95B-7CCC-423F-9D37-2B3F4A93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567F-8443-494D-B34A-0F74AC5C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F67C-F69C-4621-8ACA-2E003630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3E26-E268-4962-916C-B9289C66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920E-44C3-4C6B-BB7B-CD32B49A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0460-BCA5-46A6-91C3-420254F9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9CB6-579C-46ED-AC93-B761F3393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229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o, How a Rose E’er Bloom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568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99ff66"/>
                </a:solidFill>
                <a:latin typeface="Times New Roman"/>
                <a:ea typeface="Arial"/>
              </a:rPr>
              <a:t>1. Lo, how a Rose</a:t>
            </a:r>
            <a:br>
              <a:rPr sz="4900"/>
            </a:br>
            <a:r>
              <a:rPr b="1" lang="en-US" sz="4900" spc="-1" strike="noStrike">
                <a:solidFill>
                  <a:srgbClr val="99ff66"/>
                </a:solidFill>
                <a:latin typeface="Times New Roman"/>
                <a:ea typeface="Arial"/>
              </a:rPr>
              <a:t>e’er blooming</a:t>
            </a:r>
            <a:br>
              <a:rPr sz="4900"/>
            </a:br>
            <a:r>
              <a:rPr b="1" lang="en-US" sz="4900" spc="-1" strike="noStrike">
                <a:solidFill>
                  <a:srgbClr val="99ff66"/>
                </a:solidFill>
                <a:latin typeface="Times New Roman"/>
                <a:ea typeface="Arial"/>
              </a:rPr>
              <a:t>from tender stem hath sprung!</a:t>
            </a:r>
            <a:br>
              <a:rPr sz="4900"/>
            </a:br>
            <a:r>
              <a:rPr b="1" lang="en-US" sz="4900" spc="-1" strike="noStrike">
                <a:solidFill>
                  <a:srgbClr val="99ff66"/>
                </a:solidFill>
                <a:latin typeface="Times New Roman"/>
                <a:ea typeface="Arial"/>
              </a:rPr>
              <a:t>Of Jesse’s  lineage coming,</a:t>
            </a:r>
            <a:br>
              <a:rPr sz="4900"/>
            </a:br>
            <a:r>
              <a:rPr b="1" lang="en-US" sz="4900" spc="-1" strike="noStrike">
                <a:solidFill>
                  <a:srgbClr val="99ff66"/>
                </a:solidFill>
                <a:latin typeface="Times New Roman"/>
                <a:ea typeface="Arial"/>
              </a:rPr>
              <a:t>as those of old have sung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66"/>
                </a:solidFill>
                <a:latin typeface="Times New Roman"/>
                <a:ea typeface="Arial"/>
              </a:rPr>
              <a:t>St. 3 © 1940, 1942, renewed 1971 The Church Pension F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, How a Rose E’er Bloom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58160" y="1143000"/>
            <a:ext cx="7189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Sts. 1-2, 15th cent. German; trans.  by Theodore Baker, 1894;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st. 3 from 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The Hymnal,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1940 (Is. 35:1-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t came a floweret bright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mid the cold of winter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hen half spent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as the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2. Isaiah ’twas foretold it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Rose I have in mind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ith Mary we behold it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Virgin Mother 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, How a Rose E’er Bloom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o show God’s love aright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he bore to us a Savior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hen half spent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as the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3. O Flower, 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hose fragrance tender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ith sweetnes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fills the air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dispel in glorious splendor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darkness everyw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, How a Rose E’er Bloom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rue man yet very God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from sin and death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now save us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share our every lo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6:59:48Z</dcterms:modified>
  <cp:revision>61</cp:revision>
  <dc:subject/>
  <dc:title>PowerPoint Presentation</dc:title>
</cp:coreProperties>
</file>