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E2E3-64CB-4A6F-B2F3-56F04B3E9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7EE7-CB44-4E43-918E-B2B30B1A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AAA2-BDD3-49F3-9D4B-D4AC31F98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85C1-F125-4E1B-9D74-51EC4F7C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89A3-089B-4922-9B1C-1ADF8ADC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FBF4-AD45-4377-8AE1-BBB5537F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C58C-B4C4-49AD-881B-EA616A07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0CE0-5040-4565-875B-98717B6B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C79C-33EE-4FDF-82FE-EDE6CD94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F010-715D-41BE-B446-A877F6EA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1240-63E4-4962-B6B6-D77FEBB9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14D8-599A-4409-9495-E94A8D77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B696-80B7-4C72-8025-12AC68EBA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6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i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ño Lindo</a:t>
            </a:r>
            <a:br>
              <a:rPr sz="4000"/>
            </a:b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hild So Lovel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17880"/>
            <a:ext cx="9144000" cy="393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 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 Lind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69440" y="1447920"/>
            <a:ext cx="6392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Trad. Venezuelan; trans.  by George Lockwood, 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Adiós, tierno infant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diós, niño, adió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diós, dulce amant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adiós, dulce, amant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adiós, niño, adió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 Li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3750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 Lind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my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You ha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aven’s beau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God’s puri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ealing my devo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ealing my affec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ealing all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my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All my lif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darl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my soul, as well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is is what I off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fer joyous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alling at your fe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my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Adiós, tender bab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diós, child, adió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diós, sweet belov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diós, sweet belove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diós, child, adió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my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Esa tu hermosura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se tu cand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l alma me rob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l alma me rob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e roba el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 Li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 Lind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La vida, bien mí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el alma tambié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e ofrezco, gustos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e ofrezco, gustos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ndido a tus p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 Li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87360"/>
            <a:ext cx="9144000" cy="3750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 Lind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5:55Z</dcterms:modified>
  <cp:revision>70</cp:revision>
  <dc:subject/>
  <dc:title>PowerPoint Presentation</dc:title>
</cp:coreProperties>
</file>