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DDC-35A2-407D-83CF-C464523E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E59-1107-467E-8478-4E6A1B2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DE0-2AE1-47D1-AE67-849545E7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201-6B0B-4078-B219-52C4109B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DE3-B96B-4C62-A47A-8432818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106-D193-4CC2-B614-D4573F57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87E-18DC-4250-9F3B-F14FD57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D29-F10E-4785-81A8-EA0FDA1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5A-42E9-43A1-8C66-CFE0BF7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36-8951-44A7-BDF8-76E5866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CFB-31A5-4AC9-ACF8-F9F717C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EF4-B524-456B-B81C-9C88889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AE8-1A85-4D85-B25B-25C1C940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Grace to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83818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hings, good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e pray fo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ive us the gra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labor f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race to L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7960" y="1116000"/>
            <a:ext cx="3628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omas More, England, 16th c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3:28Z</dcterms:modified>
  <cp:revision>24</cp:revision>
  <dc:subject/>
  <dc:title>PowerPoint Presentation</dc:title>
</cp:coreProperties>
</file>