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A4C-B5CF-4017-91C8-FFD7FEB5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3A7-57AF-44D4-B4F0-534A6846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7A3-56F7-4F75-9DD9-9E31A7C2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9DF-2434-402E-9FBB-87D9F260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5AC-C69D-4484-986F-E798AB2D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0D2-08F8-42F2-9514-76C3AA0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820-A756-4F33-A385-98491EB1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804-DFE6-464A-A7C9-E3A3D3E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445-E4C9-48DC-B8C0-5F97B5CB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0FB-2502-41BE-A603-301DA41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DBC-3873-4692-9127-711104D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57B-F627-4615-A4E2-E9C1539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7A9-E167-4DC9-A25D-AAF006C9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let us u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c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with one ac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Charles Wesley, 1762 (Jer. 50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perpet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venant jo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elve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p oursel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’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name to glorif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sacred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d to live and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covenan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moment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ever kept in m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no 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forsa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cast these words beh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never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w off the f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who hears our v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f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 pleased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down and meet u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e,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our hearts r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sent wit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lestial 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eaceful answer 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ach coven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ood app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takes our sin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gi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names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 us to that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54:56Z</dcterms:modified>
  <cp:revision>108</cp:revision>
  <dc:subject/>
  <dc:title>PowerPoint Presentation</dc:title>
</cp:coreProperties>
</file>