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A13-9CC1-45C7-A3F8-7E18F93E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50C-B79B-4D98-8B51-3B7C3820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F4F-8A3C-44E9-A31F-5FF1F7FA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129-5724-4704-85D3-796E0896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284-D746-40F9-B14F-E70AC16E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42F-E194-4194-9509-DD2E52F5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DE2-F0F1-46CB-BBA2-264EAEDB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F09-0407-4030-9AA5-154E131E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A6F-032D-488D-BB09-BF4B9A7C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385-2753-4236-98CE-589F043B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122-AF0C-4F56-B7B0-FBDC75FE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C24-F8D1-4979-BB38-96CA5121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409A-F2E9-425E-86A4-7708809E4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ace Greater than Our S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Marvelous grac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our loving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excee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in and our guil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20720" y="1066680"/>
            <a:ext cx="41767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ulia H. Johnston, 1911 (Rom. 5: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ok! There is flow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crimson t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ghter than s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can be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Marvelous, infini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tchles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eely bestow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all who belie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that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nging to see his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l you this mom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grace recei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nder on Calvary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unt outpour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whe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mb was spi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in and despair, lik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a waves co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eaten the so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infinite l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is grea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s, grace unto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oint to the refu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ighty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Dark is the st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e cannot hid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can avai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ash it aw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54:59Z</dcterms:modified>
  <cp:revision>15</cp:revision>
  <dc:subject/>
  <dc:title>PowerPoint Presentation</dc:title>
</cp:coreProperties>
</file>