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EBC-56E4-43F7-B3C9-8AE417F5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1FE-9870-49FD-9982-DDA5FC9B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667-7521-4E09-8F47-DCB0E4FC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1B2-1CFB-4032-8593-E96449E3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C1E-4946-482B-B0B0-F95B87B1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D0B-38A3-4B9E-AED5-C5FCE911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887-AAB1-4B3F-9A2F-7A556997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9C0-D387-4555-A741-3715912D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461-5CBE-4F37-A449-FBCFF6D9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A4D-27CD-40FD-899E-7BEF14BD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F55-2F7E-436D-8ED7-7A2FF8FE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89E-B4C5-4DC0-B9B7-E2CA8B7F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DF2B-194C-43E4-9718-04206C99A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Simeon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Nunc Dimitt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Christmas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every n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shall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Sime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3680" y="1623960"/>
            <a:ext cx="7165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uke 2:29-2, ICET, rev. ELLC; Response, Psalm 72:11 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295280"/>
            <a:ext cx="8381880" cy="393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rd, now let y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servant go in peac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your word ha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een fulfill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own eyes hav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seen the salvati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which you have prepar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in the presenc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f all peop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2736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light to reveal you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o the natio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 glory o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your people Israe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44:59Z</dcterms:modified>
  <cp:revision>32</cp:revision>
  <dc:subject/>
  <dc:title>PowerPoint Presentation</dc:title>
</cp:coreProperties>
</file>