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593-A481-40D0-86B3-076D2570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C37-1F39-4F5D-B6A7-C8A023C0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84E-02B6-419D-9016-9C6A7787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C63-3C28-4016-B666-79897DA8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685-6698-4A85-AF00-5D4303BE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309-C6F7-4CAC-900B-736ED160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076-0FAA-4C48-A009-483F5BBA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4FA-34D4-43B9-8FED-5D8574D2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86FA-8635-44DC-A541-B565EB0F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EDF-8107-43E7-A70C-67264B99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39C-71D3-4C9F-ADF3-237D4BBC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4010-D290-4B63-81E9-A77EFD29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A70B-9B09-4DD0-A65D-596F3CB61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re You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91440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African American spiri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46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ucified my Lord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ucified my Lord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5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id him in the tomb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5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ucified my Lord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96920"/>
            <a:ext cx="9144000" cy="46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iled him to the tree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nailed him to the tree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5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iled him to the tree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ierced him in the side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br>
              <a:rPr sz="48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pierced him in the side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5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ierced him in the side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96920"/>
            <a:ext cx="9144000" cy="46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n refused to shine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br>
              <a:rPr sz="48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sun refused to shine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5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n refused to shine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id him in the tomb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laid him in the tomb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3:41Z</dcterms:modified>
  <cp:revision>49</cp:revision>
  <dc:subject/>
  <dc:title>PowerPoint Presentation</dc:title>
</cp:coreProperties>
</file>