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FBA-3737-44F4-B247-A0BC9D79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7C3-D5C2-40EC-973B-1F64F0FF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F1D-DFA4-4364-903E-9CEAECD3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E7A-846A-4CF1-BC12-65D408A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CED-1276-4126-9EE5-A9CA3CF2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2C3-8EA7-4C78-8094-7ADEAC77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7F1-8453-45B9-8D3A-E05647D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9D5-C9F9-42CB-9AC9-B067D66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936-FB66-4877-9BBF-D4C4D2B0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236-CC81-4A8E-A2CD-171E989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8DA-D5E4-4EBA-AB72-8DB49A7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534-59EE-4D04-BF48-ABEB370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C76D-C22F-4C4B-A043-185380BB3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ot So in Haste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Bradford Torrey, ca. 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Not so in haste, my hear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faith in God, and wa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though he linger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never comes too l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e never cometh lat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knoweth what is b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ex not thyself in v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he cometh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Until he cometh,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grudg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urs that ro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feet that wait for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soonest at the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Are soonest at the go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s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ained with spe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n hold thee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I shall wait his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29Z</dcterms:modified>
  <cp:revision>154</cp:revision>
  <dc:subject/>
  <dc:title>PowerPoint Presentation</dc:title>
</cp:coreProperties>
</file>