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06C-5413-4931-BC47-133C904A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B868-F680-40FE-8955-C55EB302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E608-16F2-4D0A-B1A1-EF8F2F2B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7C8-E098-4EE3-9CD5-A2FA44EE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07B-87F1-4A1C-AEF4-CEAA448C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B5DF-F5F3-4B4A-88D2-0221FA4E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02C-936B-4E67-B197-8DE74B19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328-2FE5-4CEB-9F7C-7F9093B0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4AFD-457D-4D01-9044-A4910E2A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1D1-35D5-48FC-8C98-1EAD601F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E6E0-F625-4B98-B887-0B2E2E7C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588-F778-451B-8898-1859F72D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BF3C-4278-4F11-877E-5DD9F0059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Jesus, Remembe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1144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Jesus, remember m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hen you com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nto your kingdom.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Jesus, remember m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hen you com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nto your kingdom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Remember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4160" y="990720"/>
            <a:ext cx="2040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Luke 23: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7:13:59Z</dcterms:modified>
  <cp:revision>31</cp:revision>
  <dc:subject/>
  <dc:title>PowerPoint Presentation</dc:title>
</cp:coreProperties>
</file>