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7C4-95F1-4E59-B8AD-2DF57E65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305-D399-457F-BA6D-D38C2C89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AFA-CBD0-4B49-A981-9D8A75B4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4E0-D007-4C4B-834B-8E0F31A0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C4F-CFFC-452B-BC70-8B527606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75A-610C-439B-BE72-7B82A2B1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391-91E5-4975-B3F9-2832F32F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C23-DA8C-49C0-977A-7EE5C24B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765-4157-4007-8773-30979843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FE5-34F6-44F3-9177-5F7A3367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D71-6765-497F-894B-0EE7F41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D6F-3705-4E38-A9EC-AF3E30A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55C2-DC90-44DA-BBD5-EF56149E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 Out the Wilder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85800"/>
            <a:ext cx="8686800" cy="543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1. Tell me, how did you fe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85800"/>
            <a:ext cx="9144000" cy="547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Tell me, how did you fe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leaning on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8686800" cy="58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2. Did you love everybod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25600"/>
            <a:ext cx="9144000" cy="547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id you love everybod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leaning on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80880"/>
            <a:ext cx="8686800" cy="58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3. Did your soul feel happ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25600"/>
            <a:ext cx="9144000" cy="547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id your soul feel happ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leaning on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7:14Z</dcterms:modified>
  <cp:revision>142</cp:revision>
  <dc:subject/>
  <dc:title>PowerPoint Presentation</dc:title>
</cp:coreProperties>
</file>