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409-A75B-4592-A7AC-528B1798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E2A-B0E5-4984-BD16-56096A98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E38-CB85-4354-8F6E-A0846B25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B6C-C9A6-45EA-B5B1-923CECF4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0D8-8D97-4777-9527-A292F838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C10-7457-4C09-8BF0-71435F97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2F9-EB4F-4994-8ADF-654B0118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03E-F7F3-4F5E-B45C-77621522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300-4FC2-402F-B2E9-BBF168F8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E00-9A66-47D6-9D09-0653563F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996-16A5-4D18-BA44-12B93E0D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539-EE14-4931-B35E-101F618E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10FF-D582-47A0-AE22-B51A0C010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oy to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oy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is co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earth receive her K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ever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pare him roo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6040" y="1066680"/>
            <a:ext cx="41342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Isaac Watts, 1719 (Ps. 98:4-9)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5478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4900" spc="-1" strike="noStrike" baseline="-25000">
                <a:solidFill>
                  <a:srgbClr val="ffffff"/>
                </a:solidFill>
                <a:latin typeface="Times New Roman"/>
              </a:rPr>
              <a:t>(and heaven and nature sing,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4900" spc="-1" strike="noStrike" baseline="-25000">
                <a:solidFill>
                  <a:srgbClr val="ffffff"/>
                </a:solidFill>
                <a:latin typeface="Times New Roman"/>
              </a:rPr>
              <a:t>(and heaven and nature sing,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heaven, and heaven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nature sing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oy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vior reign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ir songs emplo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fields and floo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ocks, hills and plai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66680"/>
            <a:ext cx="9144000" cy="5668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5000" spc="-1" strike="noStrike" baseline="-25000">
                <a:solidFill>
                  <a:srgbClr val="ffffff"/>
                </a:solidFill>
                <a:latin typeface="Times New Roman"/>
              </a:rPr>
              <a:t>(repeat the sounding joy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5000" spc="-1" strike="noStrike" baseline="-25000">
                <a:solidFill>
                  <a:srgbClr val="ffffff"/>
                </a:solidFill>
                <a:latin typeface="Times New Roman"/>
              </a:rPr>
              <a:t>(repeat the sounding joy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peat, rep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ounding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o more let s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orrows g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thor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fest the grou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comes to m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essings 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9144000" cy="5668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5000" spc="-1" strike="noStrike" baseline="-25000">
                <a:solidFill>
                  <a:srgbClr val="ffffff"/>
                </a:solidFill>
                <a:latin typeface="Times New Roman"/>
              </a:rPr>
              <a:t>(far as the curse is found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5000" spc="-1" strike="noStrike" baseline="-25000">
                <a:solidFill>
                  <a:srgbClr val="ffffff"/>
                </a:solidFill>
                <a:latin typeface="Times New Roman"/>
              </a:rPr>
              <a:t>(far as the curse is found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as,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urse i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He rules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ruth and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ations pr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i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righteou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3000"/>
            <a:ext cx="9144000" cy="5668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5000" spc="-1" strike="noStrike" baseline="-25000">
                <a:solidFill>
                  <a:srgbClr val="ffffff"/>
                </a:solidFill>
                <a:latin typeface="Times New Roman"/>
              </a:rPr>
              <a:t>(and wonders of his lov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5000" spc="-1" strike="noStrike" baseline="-25000">
                <a:solidFill>
                  <a:srgbClr val="ffffff"/>
                </a:solidFill>
                <a:latin typeface="Times New Roman"/>
              </a:rPr>
              <a:t>(and wonders of his lov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s, wond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4T15:00:22Z</dcterms:modified>
  <cp:revision>11</cp:revision>
  <dc:subject/>
  <dc:title>PowerPoint Presentation</dc:title>
</cp:coreProperties>
</file>