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78C2-97D9-452F-B775-4C4BDBD91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F3F2-61F1-43FB-A200-92152534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2782-4A76-4F41-8967-A303F4476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B1DD-A58C-4CD8-B355-EB23B4EF5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B3AA-20CB-4D61-B50F-9C1FC751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B24A-840B-467F-9EAF-C4CA07AF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D418-88CB-4DB6-9A50-43829F9D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3B21-ADC0-40B0-A8DA-250EE514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9373-F0A4-4FBB-A7F6-024153DD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2EA6-7058-42F0-B9B1-E7DF4DC6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0AEB-1324-4707-946F-B10D06F6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1F0F-22C9-4A42-8DCB-1C0636EF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DC90-0A92-46B7-B3C5-E9FE28C20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25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antemos al Se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ñor</a:t>
            </a:r>
            <a:br>
              <a:rPr sz="40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Let’s Sing unto the L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1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4249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Cantemos al Se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ñ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un himno de alegr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un cántico de am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 nacer el nuevo d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© 1976 Resource Publications, Inc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rans. 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emos a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38600" y="1496880"/>
            <a:ext cx="7079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WORDS: Carlos Rosas; trans. by Roberto Escamilla, Elise S. Eslinger,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and George Lockwood, 1983, 1987 (Ps. 1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Let’s sing unto the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hymn of adorat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ch shows our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a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hope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cre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Sing Unto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21932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rough all t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s been mad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is prais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or great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so we sing to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 bestows su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vely blessing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447920"/>
            <a:ext cx="9144000" cy="4969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et’s sing unto the Lor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Let’s sing unto the Lor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Sing Unto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Él hizo el cielo, el m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l sol y las estrell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 vio en ellos bonda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ues sus obras eran bell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666880"/>
            <a:ext cx="9144000" cy="344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¡Aleluya! ¡Aleluy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ntemos al Se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ñor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¡Aleluya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emos a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666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Cantemos al Se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ñ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un himno de alabanz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que exprese nuestro am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uestra fe 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uestra esperanz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emos a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n toda la creació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egona su grandez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sí nuestro cant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va anunciando su bellez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523880"/>
            <a:ext cx="9144000" cy="4969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¡Aleluya! ¡Aleluy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ntemos al Se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ñor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¡Aleluy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ntemos al Se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ñor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¡Aleluya! 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emos a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666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Let’s sing unto the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hymn of glad rejoicing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’s sing a hymn of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the new day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esh beginn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Sing Unto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od made the sky ab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stars, the su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ocea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God saw it was go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ose works we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illed with beau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590920"/>
            <a:ext cx="9144000" cy="344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et’s sing unto the Lor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Sing Unto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0:40:57Z</dcterms:modified>
  <cp:revision>12</cp:revision>
  <dc:subject/>
  <dc:title>PowerPoint Presentation</dc:title>
</cp:coreProperties>
</file>