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58D-5E5D-431C-B1A7-F13C9C41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8D8-59BB-4D9A-A88E-A0EB3FA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30B-6D14-4051-9C61-884C131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63B-DDC7-49BB-8B6B-96BA3CC0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36D-675F-440C-B18F-17771F7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695-946A-480F-A861-ADA1B0E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EBB-728D-49F9-B629-8D28598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0CE-4268-4D63-9BAA-4F66B8BC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A5D-8126-4A8A-8043-9BF3205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122-D2A5-40D4-8420-EA2A5D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1E3-2EF4-4F64-91FD-1764FF5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C41-DD07-49BA-BA2C-3C100C9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93D-1F81-4573-904E-B4F7B10D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Great Thou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uart K. Hine, 19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rd my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in awesome w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id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s thy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53, renewed 1981 Manna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n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urden gladly be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bled and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away my s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Christ sha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hout of acclam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me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joy shall fill my hear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I shall b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ble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 st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ear the rolling thu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ower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iverse displa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through the woo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est glades I wa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 the bi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sweetly in the tre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look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lofty m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de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 the broo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l the gentle bree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when I thi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hi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p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him to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carce can take it 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3:13Z</dcterms:modified>
  <cp:revision>25</cp:revision>
  <dc:subject/>
  <dc:title>PowerPoint Presentation</dc:title>
</cp:coreProperties>
</file>