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43AA-50DA-4802-AA27-2D7E3505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C3B7-8F6F-4BB9-BB87-07E6764C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0BB0-FA2C-47AA-A718-0D9FF14B6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BAD8-4FC3-4720-818E-98718ECC9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308B-33C4-4F22-B5D5-8834925B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FAD8-4CE8-4BA7-B0F2-31F1DDD1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D53B-2179-40B6-B494-89EF3C89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61C9-9A0D-46FD-869C-52139562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76D6-118D-4994-84CB-35F82916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B0FB-65EF-4BE7-9AF3-607443AE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BA33-2AA7-490B-8064-27705AB9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2C86-654F-4A3C-A05D-74E118A6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F481-0AA5-4D20-99B7-78BDE4A15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ive to the Winds Thy Fe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Give to the winds thy fear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pe and be undismaye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hears thy sigh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counts thy tea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shall lift up thy h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 to the Winds Thy Fea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3160" y="1219320"/>
            <a:ext cx="7392240" cy="38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WORDS: Paul Gerhardt, 1653; trans. by John Wesley, 1739 (Ps. 37:5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hrough waves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louds and storm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gently clears thy wa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it thou God’s ti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shall this n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on end in joyous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 to the Winds Thy Fea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14300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Leave to God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vereign sw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choose and to comman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shalt thou, wonde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wn that w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wi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strong this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 to the Winds Thy Fea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14300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Let us in life, in dea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steadfast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uth decla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publish 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latest brea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love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uardian c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 to the Winds Thy Fea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1T16:27:02Z</dcterms:modified>
  <cp:revision>45</cp:revision>
  <dc:subject/>
  <dc:title>PowerPoint Presentation</dc:title>
</cp:coreProperties>
</file>