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EBA-67AF-437B-A1FD-A217EFB5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0CB-49EA-4B96-B6F3-11C3221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C2F-49D1-4BDD-AB26-D4E2D25C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5EF-E250-4E5D-9A53-3DA69B84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DA6-A903-4BAD-A830-B738FA87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69F-95E8-4299-9C51-072E6D7C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80A-0E99-47FC-A275-048B97DC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A54-BDAC-4CC0-A428-968E06E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6C1-27CF-4C2A-B456-EAB95124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02A-CC7D-4912-84B5-FF3FE4C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B82-8E2B-4DCB-99EC-80C34EE4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294-38F4-4237-9836-2EDBF10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D230-6FDB-4476-ACF0-EC766C06B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All the World i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very Corner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corner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0040" y="1600200"/>
            <a:ext cx="372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George Herbert, 16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heavens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too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aise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ther f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is not too 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may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corner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church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salms must sh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door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them ou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, more than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bear the longest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0968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corner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1:33Z</dcterms:modified>
  <cp:revision>11</cp:revision>
  <dc:subject/>
  <dc:title>PowerPoint Presentation</dc:title>
</cp:coreProperties>
</file>