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0981-FE03-4BE7-9A9A-FF24A7CD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120-F665-4916-986C-6486F4A4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B9FE-1C2C-4F83-B70C-6F21888F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2CC0-08F1-47CE-BCE9-F14CE7C9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D48-5F7D-443E-846E-0B354ACB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E89B-160F-44C8-90FF-121FED66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428-2ABC-42B9-ADC8-8B7B47C4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E90-1AA5-47E4-8A64-F31F1818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711C-4AF9-456A-92B8-9B9AC9A0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7DE-0B53-44C5-8C5B-3689A169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8F9-9FC4-47B1-82B1-CACF3B98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D335-422E-4C4D-B334-253D78AD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7863-8053-4D86-9F3F-0B898FBC7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ou Satisfy the Hungr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54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 satisfy the hungry he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ith gift of finest wh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e, give to us, O saving Lord,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bread of life to 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7 Archdiocese of Philadelph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Omer Westendorf, 1977 (Jn. 6:34; 10:1-5; 1 Cor. 10:16-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You give yoursel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us, O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selfless let us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erve each o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your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ruth and cha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173240"/>
            <a:ext cx="9144000" cy="380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 satisfy the hungry he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ith gift of finest wh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e, give to us, O saving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bread of life to 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hen the shephe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lls his sh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know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ed his vo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when you c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family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follow and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73240"/>
            <a:ext cx="9144000" cy="384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 satisfy the hungry he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ith gift of finest wh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e, give to us, O saving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bread of life to 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joyful lip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ing to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praise and gratitu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that you should cou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worthy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hare this heavenly f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73240"/>
            <a:ext cx="9144000" cy="380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 satisfy the hungry he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ith gift of finest wh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e, give to us, O saving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bread of life to 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not the cu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bless and sh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lood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outpoured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 not one cu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loaf, decl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oneness in the Lor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73240"/>
            <a:ext cx="9144000" cy="380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 satisfy the hungry he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ith gift of finest wh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e, give to us, O saving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bread of life to 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ystery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presence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mortal tongue can tel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m 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not cont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s in our hearts to dw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173240"/>
            <a:ext cx="9144000" cy="380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 satisfy the hungry he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ith gift of finest wh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e, give to us, O saving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bread of life to 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36:00Z</dcterms:modified>
  <cp:revision>130</cp:revision>
  <dc:subject/>
  <dc:title>PowerPoint Presentation</dc:title>
</cp:coreProperties>
</file>