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924E-DF24-43DF-8A06-AA3475E65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BE41-D7F0-4DB8-A047-C8719A0F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E973-5F4A-4365-960D-08E42C769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3CFD-E589-4D2C-A29C-305BF1B81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E02E-0481-4C2F-86AA-6DB70ADB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F77F-6990-49FB-85C5-9192E0C7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2BF0-9C4C-4260-8EE7-0CE585DB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5399-89F3-4F12-825D-79782A75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9126-780D-4BB0-BC7A-10BF4945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C052-DA55-485F-A7D9-AD6B3097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B212-7EB3-4D62-B18F-19C10279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F350-DFA1-4C80-82BC-3A8CA1C9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87C0-F9CD-42E8-8261-C232FAD8F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or Holiness of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2438280"/>
            <a:ext cx="8610480" cy="363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ord, I want to b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more holy in my heart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y permission of Anne Thur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Holiness of He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7360" y="1066680"/>
            <a:ext cx="368892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Howard Thurman, USA, 20th cent.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1552680"/>
            <a:ext cx="876312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ere is the citadel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of all my desiring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where my hopes are born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and the deep resolution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of my spirit take wing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n this center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my fears are nourishe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and all my hate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are nurtu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ere my loves are cherishe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and all the deep hunger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of my spirit are honore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without quivering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and without shoc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88092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n my heart, above all else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let love and integrity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envelope m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until my love is perfecte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and the last vestig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of my desiring is no longer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in conflict with thy Spir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101680"/>
            <a:ext cx="8686800" cy="26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ord, I want to b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more holy in my hear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1T19:33:30Z</dcterms:modified>
  <cp:revision>23</cp:revision>
  <dc:subject/>
  <dc:title>PowerPoint Presentation</dc:title>
</cp:coreProperties>
</file>