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AA2-BB71-46C2-A871-729364E7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24B-9362-4EBE-BF94-F4CBD19C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C12-E665-4295-B605-871A6EE7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B97-19EB-4F09-A324-073CBDE6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CB1-8B96-4B16-935B-86729B28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B47-61FB-4EB5-B656-73043A9B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CDF-B711-4761-B05F-3C9804D9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331-7E2B-4210-9C2F-C561AF00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B20-5587-45EF-9A94-A04A3C89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A74-F1EE-4759-8B28-E4994E7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01B-521F-4024-9B00-B0F0D7FF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D28-982D-4244-B2BC-F67919F7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0669-6E9F-4667-9D4B-6607AB77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ou Hidden Love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90720"/>
            <a:ext cx="7696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Gerhard Tersteegen, 1729; trans. by John Wesley, 1749 (Gal. 2: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ou hidde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, whose he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depth unfath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one know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O Love, thy sovere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id im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save me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w-thoughted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se this self-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its hidd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zes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me thy dute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that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aseless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Abba, Father” c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Each moment dra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earth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wly waits thy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o my inm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and s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 am th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od, thy a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eel thy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r thy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ste th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all my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from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beaute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ly s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repo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is pai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can it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rest, till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s rest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’Tis mercy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has br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mind to see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s peace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while I see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find thee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peac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dering soul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when shall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wanderings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y step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-ward t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s there a 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neath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trives wit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to sh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h, tear it th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ign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ion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hall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arth be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t hath 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ose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39Z</dcterms:modified>
  <cp:revision>139</cp:revision>
  <dc:subject/>
  <dc:title>PowerPoint Presentation</dc:title>
</cp:coreProperties>
</file>