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C0D-3B76-4693-9951-87BA8C61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006-892C-4DAF-B25C-4A90A5F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E49-2A02-442C-83CC-338F0891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F65-B36B-48A3-B311-185837D6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17A-8804-4E32-B16F-DCC6B22F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204-269B-4290-9BB7-466A8C7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F4F-C3BE-4D4B-8BC5-88CBFDD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690-D096-481D-BDDD-A2EA5ED4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C71-4491-44C3-929B-20C5423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69A-FE40-4190-B170-A4D4A8D7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DB7-A393-4B5C-9432-7A93AAF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F9F-830E-493B-A63F-3F4E290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C08-3492-4F36-B7D0-79CB7C7B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Jesus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y Jesus, I lov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know thou art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e all the foll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sin I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0880" y="1015920"/>
            <a:ext cx="4600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R. Featherstone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gracious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art th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lov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 first loved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urcha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Calvary’s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hee for we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horns on thy b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n mansions of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less de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ever ador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aven so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ittering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b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3:51Z</dcterms:modified>
  <cp:revision>35</cp:revision>
  <dc:subject/>
  <dc:title>PowerPoint Presentation</dc:title>
</cp:coreProperties>
</file>