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32F-957E-45AF-AF34-87799870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875-5C8E-43C6-90AC-3B9C3599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720-61BC-4877-A70F-463E90CC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4F0-4E81-4E14-9748-971BD8CD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4DE-BE48-4F29-836A-893D3B84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974-EA81-4618-9C64-677D0256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E95-BD7A-4ACA-96B6-AE781A7B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E88-5B35-4575-A09A-2C92C4F5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3B0-75BE-4FE2-96BC-14453223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5D5-08C2-474E-8725-A0C6F7ED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363-34EE-435A-9053-C5387535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5EA-9B45-42D9-9271-6A05F58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9A72-1F0E-477C-B177-6BC4E5803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Holy Gho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r Hearts Ins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ome, Holy Gho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hearts insp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th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fluence pr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rce of the 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phetic f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untain of life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Come, Holy Gho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(for moved by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rophe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rote and spoke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lock the tru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self the k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seal the sacred boo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Expand thy wing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elestial D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od o’er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ture’s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our disord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s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there now b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God, through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thou within us s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und, with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saints be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depths of lov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4:48:09Z</dcterms:modified>
  <cp:revision>104</cp:revision>
  <dc:subject/>
  <dc:title>PowerPoint Presentation</dc:title>
</cp:coreProperties>
</file>