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B74-8D06-4367-9F14-C1B08F8D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05F0-D09F-4BBD-AE2A-0ECA48AB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528-647D-4A1E-8AC5-D69FDE93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8E6A-31B4-4DF0-9559-6362C99A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6424-64EB-4BE7-98B8-8586D703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E32-1665-4471-9A2C-B0D97E2B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61BB-D6C3-4A17-8328-31E3ECF0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6093-7265-4C42-B391-C530251C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ED2F-4C77-49F0-962D-4C3F5DC1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06D9-9477-4549-A3CC-B301C9F4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0928-881E-41FA-9E6B-1E6AD078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CBC1-9AAF-4896-9558-2A20CD66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E4BC-1598-412A-AF28-55C1F4A99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hrough It 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5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00200"/>
            <a:ext cx="9144000" cy="494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rough it all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rough it all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I’ve learned to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rust in Jesus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I’ve learned to trust in God;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71 Manna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ugh It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Andra</a:t>
            </a:r>
            <a:r>
              <a:rPr b="1" lang="en-US" sz="1600" spc="-1" strike="noStrike">
                <a:solidFill>
                  <a:srgbClr val="99ccff"/>
                </a:solidFill>
                <a:latin typeface="Times New Roman"/>
                <a:ea typeface="Times New Roman"/>
              </a:rPr>
              <a:t>é Crouch, 19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rough it all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rough it all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I’ve learned to depend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upon God’s wor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9:02Z</dcterms:modified>
  <cp:revision>40</cp:revision>
  <dc:subject/>
  <dc:title>PowerPoint Presentation</dc:title>
</cp:coreProperties>
</file>