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190-13BF-4633-BE59-9BA62C33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02A-2ABC-41A0-B724-D18E013D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558-D7B6-4F81-8092-9554F05A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BF6-22A7-4D0A-B01A-8EA796B8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15C-C06B-4555-B083-5327335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22F-2321-465F-8CFF-2ECF84C3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AE2-46B0-4961-B369-7F00233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A47-43F7-4134-93DF-EF68765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A74-0E6C-4A79-B763-8F5649A8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396-370A-4D2F-A3D4-7F5C3C9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FAF-7411-409B-92FD-0362100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8A9-03D7-4A7C-990C-3E0EB82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C1A-A3CA-4699-9DA8-54726C88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is Is the Spirit’s Entry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is is the Spirit’s entry now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water and the wor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cross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n your brow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seal both felt and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omas E. Herbra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Thomas E. Herbranson, 1972 (Rom. 6:3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water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must die each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ise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de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followers of his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newing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our baptismal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hes u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ay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cleanse again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22Z</dcterms:modified>
  <cp:revision>109</cp:revision>
  <dc:subject/>
  <dc:title>PowerPoint Presentation</dc:title>
</cp:coreProperties>
</file>