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7AA4-3C48-47E1-901D-F6CA640C4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4E1F-4E95-493F-BD35-300EE814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AA92-37E0-4C6A-A1CC-F448F15A1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26BD-199C-4496-844E-3D0F115E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5D7F-5553-49F3-9CC2-F063D8FE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9B28-4D6B-4C62-BEA6-CD4D853E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454A-9E0D-415D-B887-CE0952CD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1D5E-0E24-48B8-9AC4-A78130FC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1D50-C4F1-4FB9-8B18-0D9A1E15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F5EE-93C6-4F5D-B21C-72D592FC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E5E8-232A-4F9D-8A34-1744E5C9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3A8E-AD46-4846-8E4F-DF43C3C7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57A5-1C4F-4FBB-BC39-FA801FD27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Zion, Has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7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 Zion, hast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mission high fulfill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ell to all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God is l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Zion, Hast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Mary A. Thomson, 189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Give of thine own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ar the message gloriou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of thy weal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peed th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their 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Zion, Has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our out thy sou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m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yer victoriou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Zion, hast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bring the brighter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ublish glad tiding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dings of peac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dings of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demption and relea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Zion, Has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he who ma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nations is not will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soul should peris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st in shades of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ublish glad tiding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dings of peac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dings of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demption and relea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Zion, Has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Behold how man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sands still are ly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und in the darkso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ison-house of s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Zion, Has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none to tell th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Savior’s dy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r of the l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died for them to w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ublish glad tiding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dings of peac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dings of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demption and relea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Zion, Has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Proclaim to eve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eople, tongue, and na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God, in wh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live and move, is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Zion, Has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ll how he stooped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ve his lost crea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died on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we might live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ublish glad tiding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dings of peac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dings of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demption and relea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Zion, Has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8:18Z</dcterms:modified>
  <cp:revision>79</cp:revision>
  <dc:subject/>
  <dc:title>PowerPoint Presentation</dc:title>
</cp:coreProperties>
</file>