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5BA-6E30-46FF-AA90-578D5937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17E-8AD1-41A6-AC88-A023AB67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5B8-6C8D-4550-9CF6-BACD028D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533-AAE6-4E07-96CD-C372B0A1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3194-BDCD-434F-AFB3-4265D56A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767-4F81-43F7-BE25-86D4B6F8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08F-9635-4201-AE85-0303F878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FF6-3382-4B91-A192-E06A2C8C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1F5-AC98-4743-866C-69DCF02B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C5D-3716-4F0E-93FE-E2317576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CF47-C6B1-45C6-B088-B6F2957C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7174-6873-4842-A230-950A6D4C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7639-4C5E-490C-98D0-BF44B1D48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read of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d of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ercy br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ne of the so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ercy sh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d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Reginald Heber, 1872 (Jn. 6:35-5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whom the wo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life were sp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 whose d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ins are dea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ok on the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sorrow br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ok on the t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sinners sh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d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 thy fe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us the tok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y thy gr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ouls are f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27:07Z</dcterms:modified>
  <cp:revision>125</cp:revision>
  <dc:subject/>
  <dc:title>PowerPoint Presentation</dc:title>
</cp:coreProperties>
</file>