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080B-8332-47B6-BE09-4E314C1A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93E-9D8C-46EE-80E7-39980AC8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D96-CF44-44C9-85EC-BE828703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E35-59D7-4E95-9CEE-FF879B08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1D2-60B3-4FA4-B931-4D467210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B6C-02DE-4D5D-AB55-FE36957B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11C-84D9-48D1-B74F-37D93B20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D38-5C75-4228-B55B-61A98D5E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BE2C-38EE-4985-965E-4675DF7B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83D-76BE-4C53-A604-CF000241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3CC-0FB7-4681-B0C2-51D66F5F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6B5-FF92-481E-8891-5B94A295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8454-3947-4D1C-973F-BB43DFA18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ois la Semilla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You Are the Se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1. Sois la semilla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que ha de crece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estrella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que ha de brill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9 Ediciones Paulinas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esareo Gabara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ín, 1979; trans. by Raquel Gutiérrez-Achon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Skinner Chávez-Melo (Mt. 28:19-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reino nuevo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que empieza a engendrar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justicia, amor y ver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n vosotros estoy.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ois fuego y sabi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vine a tra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is la ol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agita la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levadu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queña de ay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rmenta l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sa del p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Una ciudad no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e puede esconde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ni los montes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e han de ocult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en vuestras obras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que buscan el bien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el mundo al Padre ve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á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n vosotros estoy.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You are the seed that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ow a new sprou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’re a star that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ine in the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levadura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grano de sal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ntorcha que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debe alumbr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are the ye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 small grain of sal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beacon to gl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dar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You are the dawn that will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bring a new day;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you’re the wheat that will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bear golden gr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you are a sting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nd a soft, gentle touch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my witnesses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where’er you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the end of the wor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You are the flame that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en the dar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nding sparkle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pe, faith, and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are the shephe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ead the whol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valley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astures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You are the friends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that I chose for myself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the word that I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want to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You are the new kingdom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built on a rock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where justice and truth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lways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la ma</a:t>
            </a: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ana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vuelve a nace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is espiga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empieza a gra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the end of the wor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You are the life that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urture the plan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’re the wa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a turbulent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sterday’s ye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beginning to r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new loaf of b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will yie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There is no place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for a city to hide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nor a mountain can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cover its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may your good deeds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how a world in despair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 path that will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lead all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the end of the wor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is aguijón y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ricía a la vez.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stigos que voy a envi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n vosotros estoy.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ois una llam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ha de encen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plandores 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 y car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is los pasto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han de llev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mundo p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ndas de paz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los amigos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que quise escoge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palabra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que intento esparc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5:03Z</dcterms:modified>
  <cp:revision>90</cp:revision>
  <dc:subject/>
  <dc:title>PowerPoint Presentation</dc:title>
</cp:coreProperties>
</file>