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B7B-9006-43A1-B2CF-05EC689D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908-7BAC-45EC-84B9-8418FAF8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748-7E19-4413-B489-9B31CC66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F3B7-8064-410D-A8AA-6D0E4BF9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378D-57E6-4AE5-9F4B-DEB2B458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90A2-2006-4799-A61D-62137CCF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340C-42AF-4016-A6DA-9953ED0B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1C10-DFA9-49CD-B590-D7BA5392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ABE4-11C4-4A5E-8CB9-2043A29B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A216-2F65-4C2D-A2B0-64E73573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189-9AC0-45F7-A8D4-8477839F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F5B-06C7-46F1-BB36-030359D5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12C6-633E-4C77-9FD2-B1F444B7F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aising God of Many Na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09680"/>
            <a:ext cx="84582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burning Mountain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chosen Sun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perfect Moon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fathomless We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ing God of Many 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60680" y="1066680"/>
            <a:ext cx="582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echthild of Magdeburg, Germany, 13th cen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859040"/>
            <a:ext cx="84582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unattainable Height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Clearness beyond measur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Wisdom without end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Mercy without limi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859040"/>
            <a:ext cx="85345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Strength beyond resistanc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Crown beyond all majesty: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e humblest thing you created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sings your praise.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3:11Z</dcterms:modified>
  <cp:revision>20</cp:revision>
  <dc:subject/>
  <dc:title>PowerPoint Presentation</dc:title>
</cp:coreProperties>
</file>