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F69-F23C-4E2B-8682-C5F5220E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E7E0-CF6C-45E7-9D18-612C8868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1D39-5E6A-40B4-9DF1-1395B390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047-A56F-4C76-89A9-BE22E7D1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4D8-BA87-45A9-9599-EA2A2D69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3EDF-4337-4593-950E-E5E4CABA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274-772A-4C2D-99DA-C9A516A3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5A7C-0CA1-42A8-A20C-8E28C032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054D-CAC4-4431-8567-6A354D52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96A7-3B84-4013-9203-CAD08760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6CF6-546A-4193-84A4-2030511F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1C77-0A96-481B-8FCA-99DFA650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DF33-3FE7-4186-A5AC-520723269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t Is Well with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Horatio G. Spafford, 18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When peace, like a riv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ttendeth my 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sorro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ike sea billows 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And, Lord, haste the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my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hall be s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clouds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olled back as a sc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trump shall res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the Lord shall desce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ven s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ever my lo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hast ta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 to s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Though Sat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hould buff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trials should 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this bl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ssurance contro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Christ has regard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helpless estat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hath 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is own b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My sin, oh, the bli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is glorious thought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sin, not in p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t the who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s nailed to the cro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I bear it no mo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8:57Z</dcterms:modified>
  <cp:revision>119</cp:revision>
  <dc:subject/>
  <dc:title>PowerPoint Presentation</dc:title>
</cp:coreProperties>
</file>