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A3A-1FA4-42E7-A641-2CC9FC73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347-DC67-4017-94F5-4BDD679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F6B-C7EE-434C-B9EC-0C320081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A2E-6F4A-4628-BCC6-00CD835D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ECD-7738-488D-A219-1DF9E0C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A2C-27DF-4069-A65B-350CEA3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BAC-5C96-4751-A921-829A152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211-3D2D-4817-AC88-B50AF9E4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35F-B49A-421F-A49E-0F51955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89D-9DA7-4A36-84B3-46D14722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76E-031A-487E-978D-E7861B8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22B-B33B-49F5-8448-6695CD8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810-49D5-4239-ABA7-55E51950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Whose Love I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igning o’er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, whose lov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ing o’e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rce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nding tr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 William Boyd G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0040" y="1625760"/>
            <a:ext cx="41828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Boyd Grove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 we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uman ch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s th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our music,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ed i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ises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versal chor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d in joy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you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anci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r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nature br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ingtime gr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utumn g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 strea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children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cean wave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nder bo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creatio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le is t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ly Go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cient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oosing 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man, to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’am’s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rah’s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med a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und to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coven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us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ovenant, 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 in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-child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t us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to 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to teac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love’s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ight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n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avior h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ift we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uman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o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aith would b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46:39Z</dcterms:modified>
  <cp:revision>17</cp:revision>
  <dc:subject/>
  <dc:title>PowerPoint Presentation</dc:title>
</cp:coreProperties>
</file>