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6C3-F292-4015-9759-FBB731F5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E44-0892-483B-93CE-C1088C3B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420-C0A1-456E-AAEF-B54585DF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FBD-4410-460D-B229-0C83D9B8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C70-BF11-4725-99ED-2422AE13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954-D13C-4E9A-8AB8-6CFD51BD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9E9-5F21-4E4D-9939-51023DA9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1F7-5B2E-437A-B701-C6D6E9C6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B7A-E7D0-4F51-8AD1-41D0DC85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731-FA36-44AD-AF15-2AEF036E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D95-EBBC-49E9-831B-E2164E4A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308-649A-42A9-96D9-A49D368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4946-0B74-4281-B5B6-ACE4B0987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Praise to Thee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God, This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praise to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y God, this n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all the blessing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the li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7120" y="1700280"/>
            <a:ext cx="302616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homas Ken, ca. 167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e him abov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e heavenly host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e Father, S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Holy Gh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me, O keep m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ing of king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eneath thine ow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mighty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Forgive me, Lor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thy dear S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ill that I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day have d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with the worl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yself, and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, ere I sleep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peace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Teach me to liv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I may drea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grave as litt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my b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each me to di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so I m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ise glorious a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judgmen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O may my sou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ee repos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with sweet sleep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ine eyelids clo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leep that may 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ore vigorous mak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serve my Go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en I aw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5. Praise God, from who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blessings flow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e him, all creatur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be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57:56Z</dcterms:modified>
  <cp:revision>18</cp:revision>
  <dc:subject/>
  <dc:title>PowerPoint Presentation</dc:title>
</cp:coreProperties>
</file>