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8EF6-8E36-474A-9EF0-622FF2C71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B451-C4C4-4556-B7A2-83D7CA236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0DC2-8312-4C6F-921E-E46354AA0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C37B-ADA1-4CBA-90FD-CDFE826DA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859C-9A7A-4887-9E9E-FB5AE9279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F401-33BF-4A8E-AEA7-A2FFFF392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D80C-4EAC-4B23-8ACC-3725894D4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FF8E-802A-48CE-B6E3-213D11C5F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C102-4895-4EFC-9B0F-E9AEB54C6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332F-9B11-4D54-AEEE-8D880A10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200E-0855-4D76-8196-CE9EE911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E4D8-8AEA-403F-B31D-1481E3ED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C1D02-7266-49A9-A223-DC90ACEFAF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or the Unity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f Christ’s Bod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6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743200"/>
            <a:ext cx="8458200" cy="22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Help each of us, gracious God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to live in such magnanimity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and restrai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Unity of Christ’s Bo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89440" y="1676520"/>
            <a:ext cx="15156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hinese Pr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1003320"/>
            <a:ext cx="8610480" cy="486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hat the Head of the church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may never have cause to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say to any one of us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“This is my body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broken by you.”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4:37:48Z</dcterms:modified>
  <cp:revision>13</cp:revision>
  <dc:subject/>
  <dc:title>PowerPoint Presentation</dc:title>
</cp:coreProperties>
</file>