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931-14A4-4CD1-AC5D-412322E0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69FF-ADF4-49BD-97F1-87E1EF95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970-639D-4B24-9AC1-D3AABECD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D99-776D-4CAF-A735-322E67D4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CD2-32F6-4D0F-A64D-DE39235A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088D-4BD2-4AC0-9567-0F122F77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F678-D531-4228-9FCB-795D260B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56F5-7C02-4ABC-87AD-BCF059FB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507D-D169-4014-A05F-8F18B54A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AC8D-BC7A-4526-B56B-D0D65C4D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8FE-9A5F-48C0-829B-816BEC3B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8D45-2BF2-47BB-ADFE-232438EC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19C8-6CD8-4FA5-9905-483B54D6B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946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e, Divine Interpreter</a:t>
            </a:r>
            <a:br>
              <a:rPr sz="40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arles Wesley, 17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7524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me, divine Interpreter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ring me eye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y book to rea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ars the mystic words to hear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ords which di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from thee proce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Divine Interpr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919160"/>
            <a:ext cx="84582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ords that endles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bliss impar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kept in a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bedient hea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ll who rea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r hear, are blesse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f thy plain commands we do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f thy kingdom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here possesse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e we shall in glory 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919160"/>
            <a:ext cx="84582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en thou comes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n earth to abid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eign triumphan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t thy si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7T15:40:10Z</dcterms:modified>
  <cp:revision>12</cp:revision>
  <dc:subject/>
  <dc:title>PowerPoint Presentation</dc:title>
</cp:coreProperties>
</file>