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A76-2799-4D3E-9DD2-DA1EC515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EC7-A186-42B5-9087-B6867C91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2B1-829E-4AAC-9770-D70F2D6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651-E87B-4200-BFCE-45A54C04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2E4-10F9-451F-9769-9291263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CD6-E668-4F1B-915A-D5A51E9B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7D9-1660-437D-8F33-CB1E9698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D65-3992-4FC5-976B-EA003FF6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A95-E86A-4CA8-A6DB-905023B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CE6-0380-43AB-A230-8F51CF0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EBA-1A5E-4507-936C-03A2014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6F9-AC8D-4025-9371-D5236B1E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F4B-991A-427B-8E32-9F3649D20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alm 24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, All Saint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oly, holy, hol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aven and earth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3720" y="1547640"/>
            <a:ext cx="70747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24; Response 1, Isaiah 6:3; Response 2, Psalm 24:3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4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a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9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895480"/>
            <a:ext cx="8610480" cy="286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99ff66"/>
                </a:solidFill>
                <a:latin typeface="Times New Roman"/>
              </a:rPr>
              <a:t>10 </a:t>
            </a: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Who is this King of glor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Lord of host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 is the King of glory.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8800"/>
            <a:ext cx="8610480" cy="46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99ff66"/>
                </a:solidFill>
                <a:latin typeface="Times New Roman"/>
              </a:rPr>
              <a:t>1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2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514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0574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4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5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644480"/>
            <a:ext cx="8610480" cy="353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7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7Z</dcterms:modified>
  <cp:revision>36</cp:revision>
  <dc:subject/>
  <dc:title>PowerPoint Presentation</dc:title>
</cp:coreProperties>
</file>