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812A-20F8-42EB-8FB9-BAF5509F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CFF-790F-440E-82A6-18AD3423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02F4-EBAC-4112-A3A2-CEA1D359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E0B8-BD1B-4C70-976B-E8EA7E3C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FED3-72C8-4B87-ADF9-ECF63F42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5136-9E95-4A5F-B74C-DB1C5FB2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3186-A26E-43C4-A00B-7CFC004E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EC1D-282C-4015-BCF5-DB55D449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7ACF-86ED-4AE7-B167-6E9A8367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764C-69C2-4BE1-A529-41A18B2D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152C-D5A0-4D99-A5C9-0FE2A86A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1D9D-9290-4C75-9050-3A4CD913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8AD5-B8B6-49E8-8C21-A998C2598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ft Every Voice and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Lift every voice and 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earth and heaven r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ng with the harmon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libert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21 Edward B. Marks Music Company, renew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Every Voice and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James Weldon Johnson, 19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t from the gloomy pa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now we stand at la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the white glea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our bright star is c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God of our weary yea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our silent tea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who hast brought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us far on the way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Every Voice and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who ha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thy m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d us into the l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eep us forev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path,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st our f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ay from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aces, our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we met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st our heart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runk with the wine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wor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forget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dowed benea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h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we forever st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e to our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e to our native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our rejoicing ri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gh as the listening ski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it res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ud as the rolling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g a so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ull of the fa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the dark pa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s taught u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g a so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ull of the hop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the presen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s brought u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cing the rising su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our new day begu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march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victory is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Stony the road we tr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itter the chastening r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lt in the days wh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pe unborn had di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Every Voice and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t with a steady bea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ve not our weary f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 to the pl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which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thers sigh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ave c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ver a w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with tea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s been water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ave c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eading our pa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the bl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slaughter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7:30Z</dcterms:modified>
  <cp:revision>46</cp:revision>
  <dc:subject/>
  <dc:title>PowerPoint Presentation</dc:title>
</cp:coreProperties>
</file>