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686-6125-458F-A97E-15A5D9CC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C4E-D26B-4A91-B1F7-9E21F7C7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D2D-0999-49E1-90C1-A6846DF6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C9E-45FB-4881-976D-3BA35E93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B7D-882B-440F-B64D-3B109D20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3F7-20BD-44EA-8CDD-09DDF455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263-4FF9-497A-AD04-F4888035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0EB-10A9-4629-91C3-41B32643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C14-8C99-49D8-AA99-1E9331F1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A0A-A422-4F7A-B114-6B45843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EC8-653E-43D2-8352-CB73213C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2A6-06B3-423F-BCC4-401A0B12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516F-5671-4EEA-B6B9-216AEEB05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the Lor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 Risen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sley, 173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Christ the Lord i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isen today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arth and heaven i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orus say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e we greet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riumphant now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ail the Resurrecti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o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6. King of glory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oul of bliss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verlasting 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ife is thi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e to know, thy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power to prov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us to s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thus to love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aise your joys an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riumphs high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ing, ye heaven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earth reply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Love’s redeeming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ork is don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ught the fight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battle wo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Death in vai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rbids him ris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has opene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paradise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3. Lives agai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 glorious King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here, O death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s now thy sting?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nce he die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 souls to sav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here’s the victory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boasting grave?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4. Soar we now where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has led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llowing our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xalted Head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Made like him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ike him we ris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s the cros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grave, the ski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5. Hail the Lord of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arth and heaven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Praise to thee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by both be give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44:14Z</dcterms:modified>
  <cp:revision>60</cp:revision>
  <dc:subject/>
  <dc:title>PowerPoint Presentation</dc:title>
</cp:coreProperties>
</file>