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C58-5C0D-42F7-9F45-128E0B20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834-2F0F-418C-9629-D5D8BAF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A59-7811-471E-8D87-5A276E40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FA2-875B-4D8C-A751-7073947F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31F-D2DF-433B-8688-6DB85D0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CD2-2DE6-4677-ADF6-EA1C2A6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112-E6E9-4ECF-A0FF-CA61BF1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C22-B8BE-45BC-A464-928A3DC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920-BE25-4F91-BD79-DAC0F210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1AC-9AE7-48D2-9E04-ADEC107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DF1-B67B-47EE-AE3F-5FCB260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2E9-BFAF-47B4-A87C-BD152BE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B7C-CE92-4CCE-B908-D8E3FD40C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’ll Praise My Mak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ile I’ve Bre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’ll praise my Mak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I’ve brea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my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lost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shall empl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nobler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6600" y="1623960"/>
            <a:ext cx="731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Isaac Watts, 1719; alt. by John Wesley, 1737; alt 1989 (Ps. 1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ays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e’er b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ife, and th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ing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immortality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appy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hopes r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Israel’s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makes the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th and se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ll their t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truth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s sec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aves th’ opp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ds the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ne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omise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Lord pours eyes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bl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suppo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inting m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nds the labo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cienc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elps the str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istr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dow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nts the priso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’ll praise my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ends me brea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my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lost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shall empl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nobler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ays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e’er b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ife, and th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ing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immortality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5:46Z</dcterms:modified>
  <cp:revision>14</cp:revision>
  <dc:subject/>
  <dc:title>PowerPoint Presentation</dc:title>
</cp:coreProperties>
</file>