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8794-6DEE-4592-A751-B97597C4D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A4D3-622E-43DD-A799-56A52EB27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79EC-2A05-43A7-85A8-EB986345D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96A4-224A-4F79-BE5B-AC176D668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7CFE-CEDD-4ECF-A805-420864CAA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E3A4-182A-4350-8330-372FE9F84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6644-6401-41F7-B22E-4CFFEE976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A39E-7D16-4AF2-8D1E-397AF7BF1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6547-C775-4B5F-8D19-C98B5A014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79AA-90F4-4E77-B6A6-B64D7E07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BA94-E22F-47AC-9056-24C68D52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EB70-6A95-4C26-81B3-5E60A439C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6B894-AEB8-47F4-94D3-06227F2AF8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hrist, Mighty Savi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8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1.</a:t>
            </a:r>
            <a:r>
              <a:rPr b="0" i="1" lang="en-US" sz="40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Christ, mighty Savior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Light of all creation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you make the daytim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radiant with the sunligh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66"/>
                </a:solidFill>
                <a:latin typeface="Times New Roman"/>
              </a:rPr>
              <a:t>© 1982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, Mighty Savi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1680" y="1143000"/>
            <a:ext cx="835704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Mozarabic hymn, 10th cent.; trans. by Alan G. McDougall; rev. Anne LeCroy, 1982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in light or darknes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orshiping our Savior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now and forev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nd to the night giv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littering adornment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tars in the heaven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2. Now comes the day’s end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s the sun is setting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mirror of daybreak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pledge of resurrectio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, Mighty Savi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hile in the heaven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choirs of stars appearing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hallow the nightf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3. Therefore we come now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evening rites to offer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joyfully chanting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holy hymns to praise you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, Mighty Savi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ith all creation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joining hearts and voice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inging your glo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4. Give heed, we pray you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o our supplication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at you may grant u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pardon for offense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, Mighty Savi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trength for our weak hearts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rest for aching bodies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oothing the wea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5. Though bodies slumber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hearts shall keep their vigil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forever resting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in the peace of Jesu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, Mighty Savi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18:02:11Z</dcterms:modified>
  <cp:revision>22</cp:revision>
  <dc:subject/>
  <dc:title>PowerPoint Presentation</dc:title>
</cp:coreProperties>
</file>