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AE0-2D7B-4A3F-A955-27023995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D7C-6D14-4C2E-BFBF-E312AB70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DAD-4B0E-4ABD-A00C-6D71E1B9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19E-425D-4230-8C9E-4612E4ED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6B3-B4E2-4E6E-AFD9-5A1BCDEC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DCE-5682-4FB4-96CE-80B39985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E2A-EDBC-4D94-8E5D-43698689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A0F-20F6-49CC-A8C4-F7B8FBD3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646-A33F-4DED-B8A8-12E36A64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7EC-AD86-4C38-AF85-523FB1FC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11E-063E-476B-BB15-5F680C6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D1F-4C33-40B5-A6D7-146C7CD1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DC8-8FEC-44E8-9994-5B5216493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ile Shepherds Watch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ir F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ile shepherds watc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locks b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seated on the 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440" y="1676520"/>
            <a:ext cx="424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Nahum Tate, 1700 (Lk. 2: 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els pra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“All glory b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be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will hence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to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and never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and never cea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came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 shown ar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 shown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“Fear not!” said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ighty d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d seized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oubled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tidi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joy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of humank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To you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vid’s town,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or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vid’s 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avior, who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is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e s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is shall b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“The heavenly ba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there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u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ew displ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anly wrapp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wathing b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a manger l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in a manger lai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us spake the sera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th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eared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ing thro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8:50Z</dcterms:modified>
  <cp:revision>10</cp:revision>
  <dc:subject/>
  <dc:title>PowerPoint Presentation</dc:title>
</cp:coreProperties>
</file>