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CBA-3971-425E-85E5-561B4527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B09-B138-4917-A559-811726A4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8DF-73BB-417A-A1F7-D103771A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6CF-782B-444F-BBC3-A6F0CA16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A35-5927-4577-9331-E33F5C0E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557-12FB-4A7F-B37E-25D13D74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C72-B19F-4E40-BBCE-87D1B298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B28-3F0B-44C6-AE68-75EA1771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5DF-F608-4629-BD67-CF263F84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0FA-3E63-440E-B9CE-B0624575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58D-A121-4D2B-8DD4-57DE1396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74C-B9A4-4A47-BF2E-322A662D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F2DF-57F0-46BE-9E58-2FE339982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s Es Mi Rey Soberano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 Jesus, My King and My Sovereig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254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s es mi Rey soberan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 gozo es cantar su l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ns.  © 1982,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Vicente Mendoza, 1920;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. by Esther Frances, 1982, and George Lockwood, 198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ft all his glory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ome lift my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ash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Jesus, my fri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yea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arkness and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ways n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alks at my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tient, hum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s me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fort and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why I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fully fol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ause he’s my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ompanio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Lord, tell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could I give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your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ness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ld this be enoug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e and lov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itting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e life to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accept my devo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 only now I surrend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R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me ve cual herman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R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me impart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jando su tron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 glor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 vino a sac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 la escor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e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s es m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migo anhel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n sombras 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luz siempre v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aciente y humil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mi l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yuda y consuelo me d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 eso constan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 si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que él es mi R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mi ami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, ¿qué pudie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dar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 tanta bondad para m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¿Me basta servirte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mart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¿Es todo entregar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a t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tonces acept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 vid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 ti so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da rendid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yo soy feliz por 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Jesus, my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Sovereig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joy is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my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king, yet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ats me like fami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king, yet 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es all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21:19Z</dcterms:modified>
  <cp:revision>9</cp:revision>
  <dc:subject/>
  <dc:title>PowerPoint Presentation</dc:title>
</cp:coreProperties>
</file>