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FC0-970E-402B-880A-DFA07374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952-6699-4F37-8B17-D1D15EEA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1B3-8EF1-4B6A-974B-DC81AED3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086-CA19-4C87-B29C-CEF6E158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B53-B70F-49D9-876A-A90059E6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014-0F2D-475D-97E0-B696DBC7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79E-7C56-4A76-A8E8-84A97A58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8C6-5C79-4D7D-9CD5-CBBC9ACD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489-DC00-433E-A4E5-56D96E80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8B3-270D-4D55-A60F-44988B7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E1A-EFC4-4566-9B11-4E81260C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60F-A504-4187-9AA2-1DB7A08F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F336-778C-4347-BFC5-94A8F114C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vior, Like a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epherd Lead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ttr. to Dorothy A. Thrupp, 1836 (Jn. 10:1-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Savior, like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epherd lead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uch we ne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tender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hast merc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reliev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o clean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ower to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 will ear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ur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We will ear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ur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Early le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ek thy fav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ly le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o thy w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essed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nl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y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bosoms f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hast loved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ve u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Thou hast loved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ve u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y pleasa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stures feed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our u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folds prep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hast bought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ne we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hast bought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ne we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We are th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dost befriend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the guardi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our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eep thy flo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sin defend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k us when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 a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r, O hear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Hear, O hear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ou hast promi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receiv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oor and sin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w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8:22Z</dcterms:modified>
  <cp:revision>126</cp:revision>
  <dc:subject/>
  <dc:title>PowerPoint Presentation</dc:title>
</cp:coreProperties>
</file>