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EA7-3B68-4019-BC2F-6FB97CF6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C1F-D566-4FB2-AD1F-FB2B08FB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295-2196-4AC4-8563-967113F8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9E84-25AF-4C03-ADF2-96EB2391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5554-394C-4DC6-908D-54AF7422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5E6-9FA9-4AD9-A385-3C77CEF5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A1D-33AA-4FD1-9228-8ABBD3BF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B50-68B0-490C-9E03-808D136F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BF4-506A-45FD-959B-83392CF2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F8B-5327-4415-B389-C1A620A3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273-0F93-4D9B-A589-9C646168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811-87D4-44D8-833D-57849E37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C937-A6EA-478F-8D01-6C591F17B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the La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La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088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19th cent. campmeeting song;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dapt. by Ellen Jane Lorenz,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77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he Lamb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ving Lamb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amb of Calva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80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amb that was sl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lives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interced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6:53Z</dcterms:modified>
  <cp:revision>57</cp:revision>
  <dc:subject/>
  <dc:title>PowerPoint Presentation</dc:title>
</cp:coreProperties>
</file>