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526-A439-45F6-8799-BCD161F7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D91-4245-4C8B-8B24-F1CC7B91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2C5-CCE1-4F22-BED4-66D75FFD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B3D-F602-4383-B044-D55295BD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325-8B39-4A9D-BD6E-A646558B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7FE-2CBE-46F6-955F-A98D9669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9EA-0351-4D98-84C2-8374D6FC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99E-5CD6-42F1-997A-E2243BEF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E6E-F8AF-4233-919C-A00DB7BC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7BD-8549-48F6-B7EB-C16BA12F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774-D7C8-4212-9B8A-15F8581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4F0-4A1B-4FA8-806C-B4A90C3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57E0-8029-4EC1-9A32-1B0D46A8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own Him wit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y Cr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523880"/>
            <a:ext cx="9088560" cy="33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atthew Bridges, 1851, and Godfrey Thring, 1874 (Rev. 19:1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rown hi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ny crow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mb upon his thron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rk! how the heave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hem drow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usic but it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ke, my soul, and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m who died for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il him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atchless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all eternity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triumphed o’er the gr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rose vict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str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he came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lories now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ied, and rose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ied, et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to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ve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ma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power a scepter s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pole to po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ars may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be prayer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reign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 no 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ound his pierced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r flow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adise ext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fragrance ever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his hands and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ou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t visible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beauty glor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ail, Redeemer, hai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u h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ed for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aise and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not fa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54:01Z</dcterms:modified>
  <cp:revision>87</cp:revision>
  <dc:subject/>
  <dc:title>PowerPoint Presentation</dc:title>
</cp:coreProperties>
</file>