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780-CDEF-415D-B71A-978956F9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381-25F8-47A5-8268-2C91DF0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D70-BE59-4216-9E8A-4B11644A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E39-3602-460E-A80F-478ABAB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5FD-2B78-49FE-B311-9C1A4284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412-B0A0-4C61-990B-C0D73255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484-BD60-4DEE-ABE5-D86950E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E20-8EA2-450B-B46B-4827D7F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F74-F85C-41A7-B699-5E843EB2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585-8EAB-4F11-8775-20E452F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618-1D52-4963-AECC-853AB028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BD7-14C8-4CE2-89C0-6D8F34B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3F21-F9F7-4A54-9319-45740C0FF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vior, Again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Thy Dear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Ellerton, 1866;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Savior, aga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  to thy dear name we ra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parting hymn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uard thou the lip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sin,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from sha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in this hou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ve called upo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on our homeward wa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e bega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e sh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nd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harm and dang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thy children fr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dark and l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re both alik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out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arthly lif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eace to thy churc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err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from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eace to our lan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fruit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uth and lo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eace in each hear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Spirit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Thy peace in lif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balm of every p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eace in deat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pe to ri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n, when thy voi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l bid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nflict cea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all us, O L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ine eternal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12Z</dcterms:modified>
  <cp:revision>154</cp:revision>
  <dc:subject/>
  <dc:title>PowerPoint Presentation</dc:title>
</cp:coreProperties>
</file>