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A3E-9A90-4587-A718-044CBEE7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75C-E221-4175-AF24-F48CC455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598-8505-492F-87D4-E7D0CA48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6BA-9BBC-4C9D-BC0D-BB5B5721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4D7-4C33-47D6-B9F9-C0E91802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16C-F10A-44DF-B4A5-5CB006E6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F9D-C28B-4ED9-9223-6C43F905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F13-7A70-4A1E-A01C-5231C7B4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A10-67D3-4795-A7ED-DA75101F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002-2B8E-4CEA-A647-42EAA15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53B-9ADA-4AEE-80B9-D57272F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CC1-B506-44C1-A108-26E88DB5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6A17-EABF-42A5-BA07-8E96B7B3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Holy Spirit, Truth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Samuel Longfellow, 18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Holy Spirit, Truth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awn upon this soul of mi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d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nward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ke my spirit, clear m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oly Spirit, Love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ow with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heart of mi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indle every high desi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erish 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y pure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Holy Spirit, Power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 and n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will of mi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that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y strongly l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avely bear, and nobly str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oly Spirit, Right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ing with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conscience reig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rmly bound, forever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04:01Z</dcterms:modified>
  <cp:revision>162</cp:revision>
  <dc:subject/>
  <dc:title>PowerPoint Presentation</dc:title>
</cp:coreProperties>
</file>