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25C-2EFC-4806-A41F-D79C5DBE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C93-665D-4035-9D96-5824D3AB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7CD-938F-4FAA-AB32-80FF9A90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304-8FE1-4F14-9E4A-C52B2145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90A-62C5-419A-8E73-6BBBDBF4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5EF-8DDE-49B6-B699-91DA7A1A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EA6-4113-44DF-B888-DAE16DEF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ECA-ABC8-439D-B1F6-345A6A56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28B-E780-4595-9EB8-92150DD3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416-1980-481E-822B-DB30F4D9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615-B5D1-42CF-9EB3-DB07E2A5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901-138C-4D74-A51D-E845AF21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8F4E-FE69-42BC-B2E0-5BB86074C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ticle of God’s Glor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Gloria in Excels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be to God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earth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od will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God’s Gl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1600200"/>
            <a:ext cx="5105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Luke 2:14; John 1: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bless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orship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lorify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ive thanks to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great glor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migh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only begotten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mb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the 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akest a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ins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mercy upon 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that takest a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ins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ceive our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that sitt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right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mercy upon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858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ou only art hol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only art the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only, O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t most high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of God the Fath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9:44:32Z</dcterms:modified>
  <cp:revision>29</cp:revision>
  <dc:subject/>
  <dc:title>PowerPoint Presentation</dc:title>
</cp:coreProperties>
</file>