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99C-2D22-4F78-B1B8-AFC4A8FD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0966-16EC-4820-9CC6-054385FE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77B-6088-4F8D-AB15-768D33B4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079-15BB-4524-A2FC-AEF56442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D7A-5062-4A67-9B41-6AC5B2C7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EE0C-9F35-42BE-8633-D78CA5B8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4A0-6B2E-4C00-816C-45471952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76A-4922-40FC-A6A5-DA3D5ACA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8BF-C59B-441A-8BD4-13791A06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E62-2199-47EB-B62E-8FB24F9C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54F-9644-48EB-897D-04A610F2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6EC-D0CC-4974-A6EE-8075FF1C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D9AC-25A3-4C2F-96C1-EFAD235A6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 Is Born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Il Est 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94920" y="1585800"/>
            <a:ext cx="4757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Trad. 19th cent. French carol; trans. an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Jesus,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all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ing as 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among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all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ant to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y heavenl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divin Enf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uez hautbo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sonnez musett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divin Enfan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antons tous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v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nemen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Through long ag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p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phets have foret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com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long ag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p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the ti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 come at l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O how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p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this perfec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of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p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acious gif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humank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20:49:52Z</dcterms:modified>
  <cp:revision>74</cp:revision>
  <dc:subject/>
  <dc:title>PowerPoint Presentation</dc:title>
</cp:coreProperties>
</file>