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DD0-08CC-473D-93E6-613B87CA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04A-2486-4961-9054-945CB73E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5CF-D9FE-4DE9-9A65-B173D9B5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D49-1639-4031-A98D-61FB8EF0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81F-C8D9-476A-BB96-8D9C4C49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8F3-4C8F-4252-8656-6F790F07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159-2CB3-45E4-8C8C-C618A02A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7E3-73EC-40F6-B137-FF2458F5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D98-A74C-4238-A232-C55CB0C0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87A-E8DE-4B21-AD03-25647E0F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6D0-1298-431E-8E33-57D81C77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059-49A0-4DAF-96FA-13387755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7850-7964-4ACA-8472-88B9938A9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Thou Who Thi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sterious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Thou who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sterious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dst in Emmaus break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5 (Lk. 24:13-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turn, here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ouls to f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llowers spea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Unseal the volu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y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pply the gospel w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pen our ey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e thy f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to know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f thee communing st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mourn till thou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eil remo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lk with us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shall bu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flames of ferven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Enkindle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ze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ke thy mercy kn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 our pardo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s to fe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God and love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7:13Z</dcterms:modified>
  <cp:revision>115</cp:revision>
  <dc:subject/>
  <dc:title>PowerPoint Presentation</dc:title>
</cp:coreProperties>
</file>