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643-E28F-4C84-9560-FEC8513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DE7-4301-42DE-A0B9-EB66B385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B21-0AD1-46DE-99A8-4F3B08F4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C1A-681B-493F-9D29-C7FCA1A8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245-2ABA-4C8F-846E-69F7C537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13E-D486-46AF-BAC6-D605F9AE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2A9-DB5A-49E2-A589-A4A71627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B93-515E-41E9-9888-C136F69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059-DE50-491A-B893-CEC62F46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DEC-6110-4EEA-B6A8-932E553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197-7C46-4C14-8496-E951451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519-27F5-421D-A77A-DDC0089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6589-1059-414B-B6D5-61B28FC5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 Me Not, O Gentle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anny J. Crosby, 1868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entl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11Z</dcterms:modified>
  <cp:revision>109</cp:revision>
  <dc:subject/>
  <dc:title>PowerPoint Presentation</dc:title>
</cp:coreProperties>
</file>