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FBA-690D-4A70-B040-D945CE7D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938-BC3E-454B-B320-668E654F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3A0-9216-44F2-B2C6-E9C48996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AE4-2CE1-4EE0-8785-9B2222CF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C23-7544-40DB-A600-2C7B5342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B0B-851A-4765-8636-2592C4AD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1E6-A1ED-4E10-881B-AEA9A5AA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C6B-EF2B-4FE4-A040-3C064FC5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75B-E076-4F3A-A5C8-EFD91314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53D-5F7E-419B-86E3-3B61CC5E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810-690A-408D-A421-1C9A1EA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9C4-8B73-4878-BCE0-A6C54FF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7A19-7AE3-4A82-A655-5FBC51674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alm 24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King James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Advent, All Saints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oly, holy, hol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eaven and earth a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</a:rPr>
              <a:t>Response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3720" y="1547640"/>
            <a:ext cx="707472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salm 24; Response 1, Isaiah 6:3; Response 2, Psalm 24:3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b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4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a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59092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Lord, mighty in batt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9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even lift them up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895480"/>
            <a:ext cx="8610480" cy="286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99ff66"/>
                </a:solidFill>
                <a:latin typeface="Times New Roman"/>
              </a:rPr>
              <a:t>10 </a:t>
            </a:r>
            <a:r>
              <a:rPr b="0" lang="en-US" sz="5000" spc="-1" strike="noStrike">
                <a:solidFill>
                  <a:srgbClr val="99ff66"/>
                </a:solidFill>
                <a:latin typeface="Times New Roman"/>
              </a:rPr>
              <a:t>Who is this King of glor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e Lord of host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e is the King of glory.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28800"/>
            <a:ext cx="8610480" cy="46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99ff66"/>
                </a:solidFill>
                <a:latin typeface="Times New Roman"/>
              </a:rPr>
              <a:t>1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earth is the Lord’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  and the fullness thereof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e world, and the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   that dwell there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66688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2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or he hath founded it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upon the flo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5146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Who shall ascend into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r who shall stand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in hi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05740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4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He that hath clean hand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a pur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ho hath not lifted up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his soul unto vanity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nor sworn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5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He shall receive the blessing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righteousnes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from the God of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his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644480"/>
            <a:ext cx="8610480" cy="3539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6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is is the generation of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m that seek h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at seek thy face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 Jacob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7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be ye lifted up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27Z</dcterms:modified>
  <cp:revision>36</cp:revision>
  <dc:subject/>
  <dc:title>PowerPoint Presentation</dc:title>
</cp:coreProperties>
</file>