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5A0-C824-409B-8A5A-0225515E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8AC-CD09-4EA0-B7D1-8E418B7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36A-D99A-4464-ACFD-F0242AA8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5C8-6A3E-422B-91FE-ED828BE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4D8-D982-41A4-BE6E-9FE02988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BA8-8A09-4D2C-A9DB-4C693F6C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85E-CB0C-463C-9E66-59EDA01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06D-35CC-4116-A049-D8DC1C3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813-F5E6-4C29-A57A-D70F897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71F-B9B0-4364-8B5C-3839286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174-0F12-469C-8510-88BE4FE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8BD-8862-4BF7-89F8-8A0C01B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FC8A-2D20-4850-8531-A68B72E5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Thou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Whos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Th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hos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takes de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hom in affliction I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seph Swain, 1791 (Ps. 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peaks! and eter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his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-echoes the p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omfort b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in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lvation, my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re dost th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Shephe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ort with thy sh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eed them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ures of l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, why in the vall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eath should I w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alone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r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why should I wa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lien from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cry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ert for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foes will rej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sorrows they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mile at the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ave 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Restore,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ght of thy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oul-che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for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e sweet toke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ardoning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ing joy to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olat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He look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n thous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s rej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riads wa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23Z</dcterms:modified>
  <cp:revision>44</cp:revision>
  <dc:subject/>
  <dc:title>PowerPoint Presentation</dc:title>
</cp:coreProperties>
</file>