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9D9-820B-4AD5-80E1-8C2DDB44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82B-6503-4C68-B94A-5043104F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436-2EFA-4BB6-BE8B-4D53E210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385-D9AE-4933-83FF-B043A540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E20-DFA5-4261-A920-4B1EFF8D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DE8-3C55-4930-A948-1600760F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1C3-2178-47FC-82DC-C7540F84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031-D672-40E0-948B-76A774BD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3D0-6FA5-4B7C-A3DC-09172F1A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B3A-3F3E-496A-AAE0-20511E2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C44-0420-4F61-A5A3-397D1E4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F12-80DD-441D-8DE2-CBFA8BB8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E1C3-867E-417A-A4E5-6A022834E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is So Sweet to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rust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Louisa M. R. Stead, 18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’Tis so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rust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o take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t his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from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mply ta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and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’er and o’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him 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I’m so gl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learned to trust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ecious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,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ou art with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t be with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’er and o’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him 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to r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pon his prom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o know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“Thus saith the L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’er and o’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him 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 how sweet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ust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to tr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cleans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simple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lung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th the hea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ing flo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’er and o’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him 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es, ’tis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rust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from s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elf to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45Z</dcterms:modified>
  <cp:revision>157</cp:revision>
  <dc:subject/>
  <dc:title>PowerPoint Presentation</dc:title>
</cp:coreProperties>
</file>