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118-364D-4379-AEA0-89AE1C05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EDB-D6FF-4D32-89F6-16961D1F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A11-3E12-4E0A-B791-CFF50C67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E4E-4A7E-4E11-9F7D-D07DDB13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08B-AAAC-4086-BCFE-A54091E4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27B-C4D5-474E-A982-AA7A08FC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723-72A8-4620-978A-4C9B8716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FFF-3AA3-4D14-AB68-3C472614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339-0C4E-4142-8FF1-90700DE2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2EC-96A0-41F3-944F-CFB04FD2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EE1-5992-49E3-8F45-DEEE5CB0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932-040B-4BAB-9903-D7F04BC4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B157-448F-4C8E-8323-B84D7BFE4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ck of Ages, Cleft fo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Rock of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self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6160" y="1139760"/>
            <a:ext cx="3451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ugustus M. Toplady, 17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hile I draw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leeting brea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mine ey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close in d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 so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orlds unkn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 thee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judgment thr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ck of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self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 wa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bl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y woun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de which flow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of si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uble cu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ve from wra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ke me p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Not the la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my h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 fulf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law’s dem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uld my ze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respite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uld my te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ver f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for s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uld not ato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must sa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ou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Nothing in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nd I b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mply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ross I cl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ked, 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e for dres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less, loo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e fo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ul, I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ountain fl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h me,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7:10Z</dcterms:modified>
  <cp:revision>10</cp:revision>
  <dc:subject/>
  <dc:title>PowerPoint Presentation</dc:title>
</cp:coreProperties>
</file>