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6D0-225C-4105-8173-2699ACBF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C07-D9DB-4516-A3FE-58BD85CB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C95-2D93-40DC-8ED7-37CD6B21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D57-CBBC-42F7-8190-CC287DBD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8C7-7412-47DA-A67E-85CC4CC2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C63-9C0E-4B05-BF7A-C17B9BB2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AF3-0390-44BD-B0E3-14F863A3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1DF-7585-4AC4-8386-235D6C7C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908-5825-4746-92B9-9C2FEAC0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579-5FF9-4A34-AB2C-BBE5C495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2BB-AA9C-49E8-8729-D03BA58E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BD6-9BF7-49CA-BA96-5EBD0B33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56A9-13D2-46B4-AFAA-366C1D543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mina, Pueblo de Dios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Walk On, O People of G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esareo Gabara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n; trans. by George Lockwood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9144000" cy="318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© 1987 Ediciones Paulinas; 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3. Cielo y tierra se abraza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uestra alma halla el perd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Vuelven a abrirse los cielo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para el hombre peca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Israel peregrino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vive y canta tu reden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Hay nuevos mundos abierto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9051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1. Look o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lvary’s summit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re towers a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death that give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birth to new living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new peopl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new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rist has brought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us salvatio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ith his death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 rising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4038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verything come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 new birthing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creation is re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2. Christ take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into his body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our si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nslavement, and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s he destroys them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he brings u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life’s abundanc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life’s new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rist bring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reconciliatio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 all thing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 peopl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3962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ature bursts into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ew flowering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creation is re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9051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3. Heaven and earth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re embracing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 our soul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ind pardon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1. Mira all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á en el Calvario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en la roca hay una cruz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muerte que egendra la vida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nuevos hombres, nueva lu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ow heaven’s 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gates are reopened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 the sinner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3886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Israel walks a journey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ow we liv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salvation’s our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rist’s resurrectio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has freed us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re are new world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 expl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9051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risto nos ha salvado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on su muerte y resurrec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Todas las cosas renace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2. Cristo toma en su cuerpo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l pecado, la esclavitud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 destruirlos, nos trae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una nueva plenit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Pone en paz a los hombre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las cosas y al Creador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do renace a la vida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80988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37:45Z</dcterms:modified>
  <cp:revision>64</cp:revision>
  <dc:subject/>
  <dc:title>PowerPoint Presentation</dc:title>
</cp:coreProperties>
</file>