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467-D58A-4B30-83CE-2D2AFE0C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192-74EA-433D-93B1-310EF6F0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76E-E41C-47FD-9075-B3FE2292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F67-AA19-44D5-919D-A1AEEEF8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6E4-C267-482F-A802-82FF2F07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CA9-71BB-44FA-8362-E0792DB8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07C-2CC7-4B9E-87F0-A6D7492A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0F5-8A28-4986-AA43-09E50E50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0BB-15D1-4F7D-9D73-92058E48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E2B-2352-4B56-B7EF-D00E7AFE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FFE-E374-4876-B7C1-F1DD1290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E0A-112D-46C3-B4F2-C686C901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3D9B-AB5A-4FE3-B732-8557DA8B9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m I a Soldi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the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Am I a soldi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foll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La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39400" y="1600200"/>
            <a:ext cx="50698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Isaac  Watts,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rmons,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1721-24 (1 Cor. 16:13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e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iumph from af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faith th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ng i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When that illust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y shall r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mies sh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robes of vic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lory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hall I f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wn his cau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blu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peak his na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Must I be carri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sk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flow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d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others f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in the priz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ailed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y sea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re there no fo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me to fac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ust I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em the flo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this vil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friend to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elp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o G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ure I must f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I would reig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crease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urag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bear the to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dure the p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pported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hy saints in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glorious w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conqu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 they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5:55:56Z</dcterms:modified>
  <cp:revision>9</cp:revision>
  <dc:subject/>
  <dc:title>PowerPoint Presentation</dc:title>
</cp:coreProperties>
</file>