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306-9C2C-4B50-9548-0DC646BE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9D9-B303-4AAA-9A77-D19056D4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D5F-D0AE-42C1-884C-E5AA0372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454-8670-47F1-A667-67825394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912-D362-49E0-A537-D6DAD3AD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BEC-62B0-4514-84C4-9BBCE132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678-FA12-4CC8-BD80-776BCA66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2CB-E7E9-469E-840B-67307AE5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D26-EB83-4D1C-B167-A3692736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36E-C4B8-42A2-BEE2-6CBA60EA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111-A9CA-4C86-92A1-E7A0D90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782-F704-476C-859B-68AB265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7E9D-831D-42D1-9257-6ABC3EFCA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afresh on m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38, renewal © 1963 Birdwing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the Living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6680" y="990720"/>
            <a:ext cx="4004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aniel Iverson, 1926 (Acts 11:1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lt me, mol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me, use m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45Z</dcterms:modified>
  <cp:revision>15</cp:revision>
  <dc:subject/>
  <dc:title>PowerPoint Presentation</dc:title>
</cp:coreProperties>
</file>