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D9B-A7B3-41C6-9E9E-3C6A032A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986-D0CD-4F1A-A22C-6414D5B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86F-CB53-4C25-A48A-4EC50339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503-CA0E-425F-9178-31EDCAA4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114-714A-4D94-BC9C-08B42506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CDE-2868-494D-86C1-AC6485B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3E7-712D-47DD-A728-018762F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3C2-C8D5-4508-9475-246425D9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980-8B0E-440A-AF25-4D965B1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324-DFC6-4BFE-8292-8872F4A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B18-89E8-4BC0-B736-6164EE85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552-1B27-4C39-BDB0-0810BD8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4B5E-0556-4F3E-AEBC-8955025B2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ive Me the Fait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ich Can Re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ive me the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can rem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k the mou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 p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0640" y="1600200"/>
            <a:ext cx="432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9 (Mk. 11:20-25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large, inf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ll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bou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rit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hall I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trength exe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the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zeal like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ad them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open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eep for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epherd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me the child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ing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longs to bu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u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, let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o’er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y sim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devou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would the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rede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nger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nd an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pent for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ve not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y on the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mission pr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ly breat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reathe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talents, gif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ces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thy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s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me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each thy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lory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every sac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ment sp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ublis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ner’s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12:44Z</dcterms:modified>
  <cp:revision>9</cp:revision>
  <dc:subject/>
  <dc:title>PowerPoint Presentation</dc:title>
</cp:coreProperties>
</file>