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5B03-05A3-4F88-AB05-6A9F2C45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FB74-E1FE-4EB9-B9A0-E6C6FE75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E827-2E11-4D30-B9BC-7C617FE7D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EE50-A0AD-44F2-91EB-D2A40CE6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0D56-F4C1-4716-A944-3585F734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17FD-9DBE-4F46-AFCD-1995AD70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7DB4-5D3E-48B7-9D0C-ED3286AC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9BE8-D964-4B08-A0CE-DF8783C2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D84F-9EC4-4A80-A387-1FF86C0B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9FA4-0FD8-4817-A9FD-34FDD984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3798-B9A5-4835-B0A7-F8F91DB5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35F9-C384-4430-89ED-CE9FF071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C108-8A2C-4BEC-9A57-2868A050A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 of Faith, Come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Faith, Come Dow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Spirit of faith, come dow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reveal the things of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make to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Godhead know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witness with the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s thine the blood to app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ive us eyes to s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did for eve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ner di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th surely died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Faith, Come D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No one can truly s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Jesus is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unless thou tak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veil aw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breath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iving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, only then, we fee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interest in his blo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ry w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oy unspeakab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“Thou art my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God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Faith, Come D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O that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orld might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all-atoning Lamb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pirit of fai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escend and sh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virtue of his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grace whi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may fi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aving power, impar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estify to humanki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peak in ever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Faith, Come D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Inspire the living fa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(which whosoe’er recei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witness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mselves they ha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consciously believe)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faith that conquers 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doth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untain m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aves whoe’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Jesus c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erfects them in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6:16Z</dcterms:modified>
  <cp:revision>87</cp:revision>
  <dc:subject/>
  <dc:title>PowerPoint Presentation</dc:title>
</cp:coreProperties>
</file>