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299-9F74-4C3B-A72D-745AA6A3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DBC-99BD-405B-84B0-873EC59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B0A-EECF-453C-8B52-EC283E7C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FA2-B2EE-457D-B967-BEB247FF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978-2A8F-48E7-94FA-2CFCF22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AD3-82AE-4FC7-A4F3-5D47FB0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064-25A3-48FD-9DF4-F80B1E8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5B2-D901-426D-B1C7-EA84038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24A-3574-4A9F-AA5E-0C1AD33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25C-59A5-487D-AE84-8D824B5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A3B-3984-4865-9579-C01E06D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F8E-DD8B-43D5-9312-0CCFF0E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78AF-6505-445B-AF9A-34EB78B83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ne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Edmond L. Budry, 1904; trans. by R. Birch Hoyle, 19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Trans. by permission of The World Student Christ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gels in bright raimen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kept the folded grave-cloth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re thy body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Lo! Jesus meets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 from the tomb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ingly he greets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catters fear and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the church with glad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ymns of triumph s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 our Lord now liveth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hath lost its 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No more we doubt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lorious Prince of life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is naugh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thout the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id us in ou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ke us mo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n conquero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rough thy deathless lo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ring us safe through Jorda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thy hom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09Z</dcterms:modified>
  <cp:revision>64</cp:revision>
  <dc:subject/>
  <dc:title>PowerPoint Presentation</dc:title>
</cp:coreProperties>
</file>