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948-CDD7-415C-BC56-C9FDBF58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2F0-82E9-412E-8379-8819042D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CC7-4E1E-4E12-8B3F-E93F7844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BAA-B2FC-407A-8A85-7888C3E7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C7A-8F19-44E0-92EE-04BB5AF1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5829-C0E2-4779-AA25-817EC38E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AD0-FD6D-42CF-A5DB-56AD8971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4B1-B605-457F-9D0A-AF3EC272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68B6-EC4F-4EB9-9497-5CB9A18A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2DF-C460-4F61-A940-526F6A38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9271-C5C0-42B2-88EA-48125C73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C4D-E565-4861-9014-081AC887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D8AD-251D-4F85-8552-04DD76614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re’s a Song in the 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ere’s a song in the air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’s a star in the sk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’s a mothe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p pray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baby’s low c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160" y="1116000"/>
            <a:ext cx="3512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osiah G. Holland, 18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star rains 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re while t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iful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mang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ethle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adles a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re’s a tumult of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the wonderful bi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virgin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eet b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the Lord of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y! the star rains 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re while t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iful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mang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ethle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adles a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n the light of that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e the ages impearl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at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f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 swept over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earth is afl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beautiful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home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ations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is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e rejoice in the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 echo the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comes d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the n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heavenly th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y! we shout 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ly evangel they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 gr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cradle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or and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6:09Z</dcterms:modified>
  <cp:revision>8</cp:revision>
  <dc:subject/>
  <dc:title>PowerPoint Presentation</dc:title>
</cp:coreProperties>
</file>