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3752-3E18-4B8F-9774-0C4EE087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01BB-F4B5-47B1-B88A-B7302717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04B3-FB72-486B-8BFC-BCDFD3B0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44E7-B021-4B72-ACD2-06FCD861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3B9C-E8A2-4E85-A1C0-BFD41931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669D-646F-4781-AF76-3C83F01A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3E64-979E-40EF-829F-802349B2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679C-C088-44A1-8825-4A850EA4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2761-4F0A-48E6-9276-A831A2B4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E800-A61C-4A7E-A25B-F126B27D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9AD-140B-49F6-A4EB-8F4AC406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208C-1AB0-43D9-BEB5-576832EB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9474-2663-421F-9DE7-0D73C761C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ith of Our Fath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Faith of our fath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ving sti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spite of dunge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re, and sw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25640" y="1143000"/>
            <a:ext cx="329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Frederick W. Faber, 18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how our hea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t high with j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e’er we h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glorious w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362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th of our fath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 fait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ill be tr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 till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Faith of our fath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ill str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in all natio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to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rough the tru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comes from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ll shall th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ruly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514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th of our fath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 fait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ill be tr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 till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Faith of our fath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ill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th friend and fo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all our str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reach thee, to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love knows h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kindly wor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virtuous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4382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th of our fath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 fait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ill be tr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 till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20:12:44Z</dcterms:modified>
  <cp:revision>53</cp:revision>
  <dc:subject/>
  <dc:title>PowerPoint Presentation</dc:title>
</cp:coreProperties>
</file>