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5AE-B2E9-4ED3-A5AE-0B3BC9C9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522-4FB9-485A-8EDC-EE617683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706-C317-42BD-A3CE-8DC1D34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C3A-6E01-4D3D-80F3-234A68DC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D8B-8175-4466-9FE2-D09C551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EF2-3C9D-4A46-BCB5-E2BE1BB5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BE3-F831-4A51-942C-20689EC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155-B42E-4A0F-8A55-A3B2191A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24B-D1BD-4200-9B12-74A63C8F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ACF-F193-4507-95B5-719FB9FE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9E7-9433-4230-AFF2-1CD1417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7F6-C97E-4ECD-89EF-AAA68A22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BAD-2C8C-48E6-B74F-30ED3821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Love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burning hou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Gerald H. Kennedy, ca. 193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 wor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hou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ing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it’s thy w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ing fre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to ask the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of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ing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irits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are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irst to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ished by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s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trump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nging cl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l our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ong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ur final loyal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aves ar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e’er we sh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devotion an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4:56:04Z</dcterms:modified>
  <cp:revision>83</cp:revision>
  <dc:subject/>
  <dc:title>PowerPoint Presentation</dc:title>
</cp:coreProperties>
</file>