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F56-2D6E-4D5C-B583-C23220E9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A6C-E3FE-41FE-A998-84434733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A80-56BF-455C-B940-2CFE7E43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F2C-75C7-448A-824D-3BF52FEF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AEE-6114-40FD-9EBE-6166CE43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685-4855-4AC3-BC36-51D61096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09F-44CE-402F-9DB9-A751A450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FC5-DD04-41A1-A241-9001C774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BE2-40D6-4C90-87F9-4DA72E71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6FB-4641-4C31-A414-6C2C1337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A82-5276-4549-B69B-BB9695A1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783-22E5-4CE5-94C5-4E714D9A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E2B7-6B17-46B9-8D9F-241BD54D8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Firm a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How firm a found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 saints of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laid for your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is excellent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“K” in Rippon’s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lection of Hymn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1787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2 Tim. 2:19; Heb. 13:5; Is. 43:1-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soul, though all he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uld endeavor to shak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never, no, nev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, never forsak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more can he s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n to you he hath sai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you who for refug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Jesus have fl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“Fear not, I am with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be not dismay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I am thy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ill still give thee ai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strength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lp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ause thee to 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pheld by my righteo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mnipoten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“When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deep wat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all thee to g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rivers of wo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no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e overf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I will be with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troubles to bl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anctify to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deepest distr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“When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ery tria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pathways shall li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-suffici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be thy suppl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flame sh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hurt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only desig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dross to consu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y gold to ref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“The soul that on Jes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leans for repo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ill not, I will no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sert to its fo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5:01:18Z</dcterms:modified>
  <cp:revision>55</cp:revision>
  <dc:subject/>
  <dc:title>PowerPoint Presentation</dc:title>
</cp:coreProperties>
</file>