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E7C5-BE70-4347-8A59-F8C50654B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B6B3-90C0-4324-A07C-A7C9505FE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942B-773B-4C23-8B3F-0A6017F5D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3864-1B5E-461B-A359-8C45A8C49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EED6-50B7-4AFD-9AA3-A66E04A3B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F400-57CB-4F4B-8691-B4D092E97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AC66-F492-4E03-9304-336A535B8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9117-8B26-4AC6-9B33-2BC9CF5F8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4A71-352F-4B81-9B04-A21C0079E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F869-6853-46E8-B7D5-1C318374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4F5F-B65F-4E4A-AAA6-54131E86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15D2-CFF3-487B-BA67-5F96B5BB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4AD75-40D1-406C-81DF-A4E00BE925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25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anticle of Mary</a:t>
            </a:r>
            <a:br>
              <a:rPr sz="40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(Magnifica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19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42199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SPONSE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(Advent &amp; Gener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</a:rPr>
              <a:t>The glory of the Lord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</a:rPr>
              <a:t>shall be revealed;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</a:rPr>
              <a:t>all flesh shall see it togeth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Times New Roman"/>
              </a:rPr>
              <a:t>Response © 1989 The United Methodist Publishing 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Ma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6560" y="1600200"/>
            <a:ext cx="82108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Luke 1:46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-55, ICET, rev. ELLE; Response, Isaiah 40:5, adap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774720"/>
            <a:ext cx="8610480" cy="5776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6000"/>
            </a:b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My soul proclaims the</a:t>
            </a:r>
            <a:br>
              <a:rPr sz="4800"/>
            </a:b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   greatness of the Lor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my spirit rejoices in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  God my Savior,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  who has looked with favor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  on me, a lowly servan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1003320"/>
            <a:ext cx="8610480" cy="4861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From this day all generations</a:t>
            </a:r>
            <a:br>
              <a:rPr sz="4800"/>
            </a:b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   shall call me blessed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the Almighty has done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  great things for me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  and holy is the name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  of the Lor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289548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whose mercy is on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  those who fear God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  from generation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  to genera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1447920"/>
            <a:ext cx="8610480" cy="4861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The arm of the Lord is strong,</a:t>
            </a:r>
            <a:br>
              <a:rPr sz="4800"/>
            </a:b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   and has scattered the</a:t>
            </a:r>
            <a:br>
              <a:rPr sz="4800"/>
            </a:b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   proud in their conce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God has cast down the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  mighty from their thrones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  and lifted up the lowl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638280"/>
            <a:ext cx="8610480" cy="55929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God has filled the hungry</a:t>
            </a:r>
            <a:br>
              <a:rPr sz="4800"/>
            </a:b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   with good things</a:t>
            </a:r>
            <a:br>
              <a:rPr sz="4800"/>
            </a:b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   and sent the rich</a:t>
            </a:r>
            <a:br>
              <a:rPr sz="4800"/>
            </a:b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   empty aw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God has come to the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  aid of Israel,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  the chosen servant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1828800"/>
            <a:ext cx="8610480" cy="457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remembering the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  promise of mercy,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  the promise made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  to our forebears,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  to Abraham and his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  children for ever.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3T14:57:13Z</dcterms:modified>
  <cp:revision>30</cp:revision>
  <dc:subject/>
  <dc:title>PowerPoint Presentation</dc:title>
</cp:coreProperties>
</file>