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BDE2-FAE0-4402-BF64-77746565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5D7D-4826-49E5-A0AD-E57ED83B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F0F8-6AF6-4E8D-B5DB-55FDEBB1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C25E-FD16-44A6-A087-D404CAE2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33B6-825F-418D-9413-0EA6BBA9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06A4-0571-47AD-B2A9-20320D67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E804-B90F-43BA-9702-2321144A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CC92-56A9-4D10-B293-05750705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C3F1-5D3A-41D1-99B3-E9B9C60B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8B10-7BE4-4D23-B722-8C1A4B87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FF3B-2FFD-4DEE-89E8-F7367DFF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4432-E18B-47C0-8EA3-BBA1AE3A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F58B-3FE2-4726-8AC1-DB10C23E3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Hear Us, O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86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r us, 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00"/>
                </a:solidFill>
                <a:latin typeface="Times New Roman"/>
              </a:rPr>
              <a:t>o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hear our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r Us, O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7:15:29Z</dcterms:modified>
  <cp:revision>34</cp:revision>
  <dc:subject/>
  <dc:title>PowerPoint Presentation</dc:title>
</cp:coreProperties>
</file>