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212-DCC2-4016-BD20-1FD77661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64E-33E9-4A47-81E8-77801A9C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C10-81FC-4DBD-B503-F3F26892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1AE-B607-4EBC-950B-87B8D50E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746-5F59-4BA8-8147-D0C7694F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883-CA74-49E6-8C6E-BEE64835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D3C-7C8E-4FE4-BA83-F5DBD533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94C-60B6-4335-A810-170288CD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238-9C2E-4A35-A215-A412F5A2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722-43E6-4650-BF2C-4B1683D9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FA4-FAFC-4F92-B89E-E0619B1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71A-54A2-4DF2-8299-2FA839A8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8FC9-B845-444B-8B7D-682C0C14E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, Who Stretched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angled Heav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0400"/>
            <a:ext cx="9144000" cy="3260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God, who stretch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pangled heave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finite in time and pl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67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0960" y="1776240"/>
            <a:ext cx="3701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Catherine Cameron, 19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known the ecstas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wing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untrave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alms of sp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bed the secre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at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iel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imagined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cing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life’s destruc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 our m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riumphant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As each f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rizon beck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y it challen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s ane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re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eative purpo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rving o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noring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y our drea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ve rich with prom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ach endeav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ll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Creat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us guid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our goa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yours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lung the suns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rning radia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the sil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elds of sp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your childr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your like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re invent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wers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Creator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ill creat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w us w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yet may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Proudly rise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odern cit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ately build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w on r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t their wind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ank, unfee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are on canyo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reets be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the lone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ift unnotic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city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bb and f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st to purp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mea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carcely ca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they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We have ventu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lds undreamed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ce the childh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8:10:06Z</dcterms:modified>
  <cp:revision>13</cp:revision>
  <dc:subject/>
  <dc:title>PowerPoint Presentation</dc:title>
</cp:coreProperties>
</file>