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D2B-19C8-4D1E-8C0D-21FD4F0B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434-4582-4595-B7EA-211DB8B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61C-5D96-474C-A7BF-C4C19826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E5B-A612-4F66-B1F8-9DA0A6F8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EC8-550C-4B98-BD0C-A95D4E9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E02-6A39-4E75-B10E-49AFEE41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FFB-F04C-43DD-83F6-6C61FFBE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6A0-4E39-4FCA-9F01-4FC382E8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124-C494-4F3C-986C-5A76365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DD7-1BED-4826-9635-BDB8093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3E8-6857-4299-B6DA-3D5108F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F02-2F6D-456C-81D9-87EFF85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326-5E3F-4CD9-8A8A-19FDB2F8C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Ye Sinner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or and Ne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oseph Hart, 1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ye sinn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or and need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ak and wou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ck and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f you tar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you’re bet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ill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t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Let not consci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ke you li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of fit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ndly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he fit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require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to feel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eed of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rea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s to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ull of p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,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63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ome, ye thirs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and wel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d’s free bounty glor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e belief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e repent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y grac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ngs you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 y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vy la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st and rui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th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5:09Z</dcterms:modified>
  <cp:revision>97</cp:revision>
  <dc:subject/>
  <dc:title>PowerPoint Presentation</dc:title>
</cp:coreProperties>
</file>