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490-7943-4FD7-9188-74E7F74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22B-E221-4977-8400-AA34A0F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3E2-B96A-4CA6-96A6-DBF137C3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EC9-B36B-4182-A127-74097C41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EE0-0F58-4D4E-BF5F-E064B44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E11-2256-4AE8-85A4-993E924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226-1EB3-44D4-B51C-3408EFB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87D-0113-4B6F-992E-173BF33F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D0B-1A00-41F1-8DD3-8EDD352D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618-F555-49B9-9F48-DDB4007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5B5-6462-44EE-8C9C-7612E3B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078-F6AC-4860-A357-B1623E2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A42-D0EA-48B8-BAAE-8A87ADF43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ak Thou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ad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93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reak thou the bread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Lord,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 the lo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side the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y A. Lathbury, 18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sacred pa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k thee,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pirit pants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ving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less thou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, dear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 the br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alil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shall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ndage ceas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tters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d my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7:18Z</dcterms:modified>
  <cp:revision>101</cp:revision>
  <dc:subject/>
  <dc:title>PowerPoint Presentation</dc:title>
</cp:coreProperties>
</file>