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16E-B3EF-4EC9-90F5-AEDFA09C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2AA-C2F2-4412-B81E-D5779F3E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9F4-4FAE-4F16-97BC-FC2724CC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2AA-4987-446C-BDD9-ED9D70C6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462-4C91-4668-A43F-7DBEF81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A4A-AF6B-41B6-A788-4782CCB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0EC-1D77-41E8-8BF8-CDFE1216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30E-1FE6-4BD5-9EF0-977C8260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6D2-E1FA-471A-885E-5132165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A48-E55A-44C3-B74F-DD87BEC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041-1CC7-4F95-8B20-0CF86840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947-FBC8-4209-9557-96D827D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3FA0-B3BD-4682-A607-713B54256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1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Lent, Christ the King,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8640" y="1600200"/>
            <a:ext cx="800028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Response 1, Psalm 23:1, Grail version; Response 2, John 10:10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sponse 1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1963 The Grail, by permission of GIA Publicati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sponse 2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4634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Easter, Funerals and Memorial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it abundant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25600"/>
            <a:ext cx="8610480" cy="5975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Lord is my shepherd;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I sha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 maketh me to l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down in green pasture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he leadeth me bes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the still wa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8108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e restoreth my soul: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he leadeth me in the path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of righteousness for hi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name’s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a, though I walk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valley of the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adow of death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I will fear no evil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for thou art with m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thy rod and thy staf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they comfort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990720"/>
            <a:ext cx="861048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ou preparest a tabl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before m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in the presenc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of mine enemies: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thou anointest m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head with oil;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my cup runneth o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676520"/>
            <a:ext cx="86868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i="1" lang="en-US" sz="5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ely goodnes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mercy shall follow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all the days of my lif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and I will dwell in the hous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of the Lord for ever.</a:t>
            </a:r>
            <a:r>
              <a:rPr b="1" lang="en-US" sz="5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20Z</dcterms:modified>
  <cp:revision>58</cp:revision>
  <dc:subject/>
  <dc:title>PowerPoint Presentation</dc:title>
</cp:coreProperties>
</file>