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F82-1002-454E-94EC-7BFCA873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95A-1D26-4DE2-9B94-1FAA0B27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FD7-1B0A-4CDA-9388-B13299EA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70E-947B-4DD0-9345-A70DCE72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CDC-D348-4CD5-AFC9-A3488D0F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F9D-02B9-42E0-8AD8-8162BCF5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A62-0EAC-487A-A4D9-83ED1E48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FE4-EB91-459C-8E3A-CF7531C0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47B-E617-48A3-B2A9-2D9D6BA5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AF6-17DE-4543-8148-73411978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3BB-154E-4F82-ADE4-6F12616E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9F0-AB74-4625-A41C-9D7C90A0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95CA-9218-43BD-8758-E62869739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ictory i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I heard an old, old story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how a Savior came from glory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how he gave his lif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n Calvary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o save a wretch like m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39 Eugene M. Bartlett, renewed 1967 Mrs. Eugene M. Bartlett,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y permission of Albert E. Brumley &amp; S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5240" y="1052640"/>
            <a:ext cx="3233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Eugene M. Bartlett, 19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ut the angels sing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demption st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ome sweet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sing up t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ong of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victory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avior forev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sough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ough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is redeem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loved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re I knew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heard about his groa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his prec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’s ato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I repented of my si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on the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victory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avior forev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sough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ough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is redeem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loved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re I knew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 heard about his hea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his clean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ower revea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he made the l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alk ag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aused the blind to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n I cried, “Dear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 and he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broken spirit,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omehow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me and br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e the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victory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avior forev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sough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ough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is redeem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loved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re I knew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I heard about a man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has buil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me in gl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 heard abou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treets of g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yond the crystal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4:04Z</dcterms:modified>
  <cp:revision>20</cp:revision>
  <dc:subject/>
  <dc:title>PowerPoint Presentation</dc:title>
</cp:coreProperties>
</file>