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BC1-1CE5-4FB3-85A8-089D9E6A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988-6075-499B-B5D5-9468F17F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A1B-0C04-4CD6-8B5D-91968DB0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31F-13A2-4AEB-B7B4-B728E10B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B05-26DA-4A52-B7E5-EA09314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CD8-EA23-41A9-A8C1-FD817A0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EF5-7D46-4C8E-A96B-D0935EE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24F-08AC-4EDF-A73B-3E95626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96F-5416-46B5-9A8D-260D0ED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1C6-8359-468D-9EC7-7EC1668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990-EB8B-406C-857C-AA198B7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433-19B9-4D29-B433-09BFF01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81F6-AA88-44C8-8929-45AAF0C13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God’s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od’s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Howard Thurman, US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73080"/>
            <a:ext cx="84200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Holy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unto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light for my darknes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courage for my fea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ope for my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77800"/>
            <a:ext cx="86868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loving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wisdom for my confusi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forgiveness for my sin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love for my h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77800"/>
            <a:ext cx="87631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God of pea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peace for my turmoil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joy for my sorro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strength for my weak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668600"/>
            <a:ext cx="83818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generous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my hear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to receive all your gif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4:57Z</dcterms:modified>
  <cp:revision>157</cp:revision>
  <dc:subject/>
  <dc:title>PowerPoint Presentation</dc:title>
</cp:coreProperties>
</file>