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3BD-4B22-4436-ACD2-A82D799C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9FC-77D3-4FB3-9618-D651F374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1E5-1523-40C7-8A43-84FF1229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477-B05D-48D6-8B96-D1985BB4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A73-E47D-4B4A-875D-ED5E6B0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664-BB9B-4E9A-8AA6-3743D06C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F19-5D56-42CA-A984-E0FD3D8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84D-7FBF-45C3-A8E4-C8655B7C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F4C-D33F-4770-A8AA-3D139B14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E50-1951-49E1-A657-A892C59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3E5-CE44-4582-AB27-CA4F08C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29B-9B7D-462C-B9BC-C0A63F5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AB4-8185-4F72-A616-D8E8801D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re is a place of quiet r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 place where si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annot mol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5680" y="1128600"/>
            <a:ext cx="321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leland B. McAfee, 19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is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omfort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lace where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 m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is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full rel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lace wher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joy and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17Z</dcterms:modified>
  <cp:revision>11</cp:revision>
  <dc:subject/>
  <dc:title>PowerPoint Presentation</dc:title>
</cp:coreProperties>
</file>