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CB0-8BD4-4342-A8B6-6A1B874C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D38-737C-46E0-A401-F19BD282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A6B-59A0-4EF1-BC17-2D193CE1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B83C-F77E-4497-92FD-C9048BDB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6D4-2956-4D09-8E79-C41C2474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C46-2B0D-4C7E-97F1-915BCF5E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7E4-38E0-4C79-9FFF-621A5A9C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A63-04C5-4D3A-92A5-5A55E0AC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CF4-A19F-463C-8D46-668007C8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FDD5-2438-4487-A790-BFF6D7E1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22F-0FD2-452A-BE60-5DA67994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792D-21A2-4464-A8D0-5BEBF3B1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E6C7-024B-41D1-843F-34CBAF0F7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 R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African American spirit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1. They crucified my Savio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nailed him to the tre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they crucified my Savio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nailed him to the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Sister Mar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she came runn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-looking for my Lor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ll bea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28800"/>
            <a:ext cx="9144000" cy="472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124080"/>
            <a:ext cx="9144000" cy="3246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4. An angel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e from heav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rolled the stone awa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an angel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e from heav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rolled the stone a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 angel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e from heav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rolled the stone awa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ll bea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28800"/>
            <a:ext cx="9144000" cy="472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124080"/>
            <a:ext cx="9144000" cy="3246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y crucified my Savio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nailed him to the tre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ll bea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752480"/>
            <a:ext cx="9144000" cy="472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246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2. Then Josep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egged his bod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laid it in the tomb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then Josep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egged his bod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laid it in the tomb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n Josep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egged his bod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laid it in the tomb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472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246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3. Sister Mar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she came runn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-looking for my Lor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Sister Mar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she came runn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-looking for my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28:12Z</dcterms:modified>
  <cp:revision>73</cp:revision>
  <dc:subject/>
  <dc:title>PowerPoint Presentation</dc:title>
</cp:coreProperties>
</file>