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A8C-C2DA-4CD7-97B4-7245BCE3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7F1-7128-45C9-AED3-042C09DD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623-1B1B-4570-A520-D8944F06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D81-1749-4ABA-95D2-AB40CF71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AB9-39A5-42C0-8466-3C813199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D36-8A0A-41C9-96F6-E0DD82D3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F6E-D4B2-49D9-A868-A10687C6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432-AB20-4920-98B9-5C6F6583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E794-2E79-46BA-AA8B-5D01A62D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891-F438-4FA6-BE92-5C7105FA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4DA-2586-4D08-9437-C9EAA2F0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C4A-4220-465D-B3E9-DA9E0737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AF41-1B96-4270-9C46-759FCD7D1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e How Great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Flame Aspi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See how great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 flame aspires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kindled by a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park of grac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1520" y="1676520"/>
            <a:ext cx="53744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9 (Lk. 12:49; 1 Kg. 18:44-45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hath gi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d of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’ w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glorifi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migh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redee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alon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k hath wrou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thy is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k of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m who spa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world from nau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Saw ye no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loud ari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ttle as 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uman ha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it sprea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ong the ski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ngs o’er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thirsty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! the promi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a sh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rops alread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ab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l shortly p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’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ations fir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ts the kingdo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a blaz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ring fire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 he c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indled in s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ts it i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that all m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tch the fl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partak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lorious blis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hen he fir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k begu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mall and feeb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s his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the Word do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wiftly ru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it win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s widening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and mo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spreads and grow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 migh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prevai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’s stronghol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now o’erthrow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kes the tremb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ates of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Saints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Savior prai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the do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th opened w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8:32Z</dcterms:modified>
  <cp:revision>13</cp:revision>
  <dc:subject/>
  <dc:title>PowerPoint Presentation</dc:title>
</cp:coreProperties>
</file>