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ADD-61B3-4FE5-8D54-4991B3F5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685-645B-4672-88FF-25D7CD4D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8CC-D368-43CB-A23C-2EB0D80F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710-8801-4F71-8952-785F1568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345-2506-4367-9688-BBEBBA7C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3A6-C7CE-4E2D-9EFB-857C1C2F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83A-7958-43E9-BFE7-50354177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CCC-F17B-4746-A53C-86E12D0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C8C-0C03-4DBC-811F-3FCD1E90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199-B3F3-4247-8171-39EBA6FF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349-5C8A-489D-AA95-2FC072B2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400-C10D-4F85-ABFC-34099A49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7999-42B4-4520-B829-32D219AD0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essed Jesu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 Thy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y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gath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o hea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obias Clausnitzer, 1663; trans. by Catherine Winkworth, 18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uls be stir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to seek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and fear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y teac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and ho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awn from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 thee sole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ll our knowled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se, and s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e in deep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shroud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th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ks our n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beam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th unclou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alon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canst win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must work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od within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lor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self impart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God proceed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th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ears and he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by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’s plea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the c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people raise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, and b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prayers and p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43:20Z</dcterms:modified>
  <cp:revision>97</cp:revision>
  <dc:subject/>
  <dc:title>PowerPoint Presentation</dc:title>
</cp:coreProperties>
</file>