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B9B-E17C-4C48-9429-DFD3F593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FDD-FD2B-499E-A3EF-0CBF804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2CD-198F-4EE6-A562-1B3D6039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8A7-BE33-4DA7-87A4-2DA90A36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DA7-F7E7-4919-9D75-017470CD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50D-6F97-4BFE-A15B-7D4DAEED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D99-8C66-43F5-BCCA-7EFFB383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C81-C696-4D73-9430-FADAABD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956-D3EB-4B2F-B1F1-0FF11643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312-A631-465D-B93A-F59C399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644-80B7-415B-93A0-8B10A4C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C6A-E3D4-4998-8E46-E06F18D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A83C-2F6E-449E-9179-F8DE34CD3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id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vereign di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groa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i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3:19Z</dcterms:modified>
  <cp:revision>49</cp:revision>
  <dc:subject/>
  <dc:title>PowerPoint Presentation</dc:title>
</cp:coreProperties>
</file>