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963-0904-4133-B9A9-3772BDA2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67D-03CD-44D9-829C-C02EF6DD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45C-7298-4BFF-8B61-DB6B5F74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2BD-DF28-4549-9943-D8EAF4F0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716-22F4-48FC-A31A-862BD26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D5E-DF92-4990-B440-9C7E0F28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DB3-5D77-4340-B6F2-8DD79570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0F7-5ACF-4310-AC3C-4C080500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DA1-D412-412C-9215-7CCD04A2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2C6-E4BC-4CDF-A59C-4B7E55DE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6FC-6765-46CC-8886-2E972E01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DD1-07C2-4BB9-9105-E3B9FC1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416-B35B-4265-83FE-1E1549273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n the bul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a flow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ee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apple t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7200" y="114300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doub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belie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lif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esurrec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last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victo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revealed unti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hing Go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oco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idden promis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terflies wil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be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now of 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its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revealed unti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hing Go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re’s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sil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ing wor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lod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da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dar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ing hop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 an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p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come the futu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it ho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yste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revealed unti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hing Go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the 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our begin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tim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i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07:03Z</dcterms:modified>
  <cp:revision>52</cp:revision>
  <dc:subject/>
  <dc:title>PowerPoint Presentation</dc:title>
</cp:coreProperties>
</file>