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EF1-9A95-4F48-95F1-E8E4E945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3FC-C6D0-4346-A427-C3E54A05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405-8852-4425-B515-7FE92931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C36-1EAA-43C7-98B3-8F6ABF8C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F8A-59F1-48B9-AB15-AF127846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EF1-E5D7-4D4F-8E28-C645B32F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1E4-7E14-4493-A03D-A26AA918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DE3-0A75-4A25-9AD6-B872B50D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216-C27D-4E80-BB1D-07113C6B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621-F75A-4445-988C-0590618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466-1725-4DA8-954A-D19E9AF8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737-4A99-4692-A251-70C713CD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E3F9-6A5D-4E35-A2A1-494AAE943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, Lord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Do, Lord, do,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do Lord, remember me;</a:t>
            </a:r>
            <a:br>
              <a:rPr sz="49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do, Lord, do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do Lord, remember me;</a:t>
            </a:r>
            <a:br>
              <a:rPr sz="49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 (Lk. 23: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got a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glory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took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I am d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4:58:20Z</dcterms:modified>
  <cp:revision>54</cp:revision>
  <dc:subject/>
  <dc:title>PowerPoint Presentation</dc:title>
</cp:coreProperties>
</file>