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E859-3983-421F-9711-D3515B902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89C0-F438-44D3-875B-9A4EE6576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8192-2146-4C6C-8AAF-9DB4E3535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AD0B-EA5F-4C26-ABAA-A95D72628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FE5E-5DC2-4C13-8A85-058E78B2A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89D6-27F1-4E92-8BAC-00B27BCD8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BDE9-7528-4E65-A3F5-0135EBB46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30AF-F1BC-47A4-99DB-A03844307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AC38-0067-46BC-B066-6D1888868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67E7-307C-41A4-BE20-B9969DBB6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EF3A-FE1C-4E34-B35C-6E80F9ED8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600C-B935-4B77-8332-9D1F594B2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6B275-FEEF-4157-A5D2-D8DB03321C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25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Una Espiga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(Sheaves of Summer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63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86000"/>
            <a:ext cx="9144000" cy="425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Una espiga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orada por el so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l racimo qu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orta el vi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ñado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© 1973 Ediciones Musical PAX; trans. © 1989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a Espig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60020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ORDS: Cesareo Gabara</a:t>
            </a:r>
            <a:r>
              <a:rPr b="1" lang="en-U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ín, 1973; trans. by George Lockwo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re converted into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read and win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God’s lov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the bod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bloo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our dear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are shar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same communion mea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are wheat b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same grea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ower sow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heaves of Summ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ike a millston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ife grinds u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own with sorrow and pai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ut God makes u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ew people bound by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ike the grains whic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come one sam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ole loaf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ike the notes tha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re woven into song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heaves of Summ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ike the droplets of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ater that ar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lended in the sea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, as Christian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ne body shall beco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</a:t>
            </a: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t God’s tabl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gether we shall sit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s God’s childre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hrist’s bod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will sha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heaves of Summ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ne same hope w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ll sing togeth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s we walk along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rothers, sister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life, in love, we’ll b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e convierten ahora e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an y vino de amo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n el cuerpo 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a sangre del Se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ño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ompartimo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a misma comuni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ó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mos trigo de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smo sembrado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a Espiga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un molino a la vida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s tritura con dolo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ios hace pueblo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uevo en el amo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omo granos que ha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cho el mismo pa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omo notas qu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ejen un canta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a Espiga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omo gotas de agua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que se funden en el ma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s cristiano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un cuerpo formará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</a:t>
            </a: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n la mesa d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ios se sentar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á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o hijos su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n compartirán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a Espiga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una misma esperanza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aminando cantará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n la vida como hermano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e amará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heaves of summ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urned golden by the su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rapes in bunche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ut down whe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ripe and re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heaves of Summ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9:03:40Z</dcterms:modified>
  <cp:revision>140</cp:revision>
  <dc:subject/>
  <dc:title>PowerPoint Presentation</dc:title>
</cp:coreProperties>
</file>