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6AE-2D55-49A5-9266-98FE3073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3DF-57F4-47D4-A708-D3427BBC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F2C-19EA-43D6-8847-43BCCF34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F50-DF8E-4769-9988-38D1D2C8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303-04E9-4B32-84CF-ADEC9DB5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A98-8586-4F7A-9269-775689B2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498-D13F-4364-ABEE-8A2F35C1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0D0-80B4-4117-87CF-0BC4D257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D7E-F90B-48C2-AB2A-8A3805F3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DAA-8A36-4D24-A053-93D29E1E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74A-3E08-49C3-9B9A-A9148CF8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20D-63A6-4AA5-B9A0-82E43A8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8C6B-77E6-4F72-B1D9-0FADE7121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alk On, O People of God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Camina, Pueblo de D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; trans.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42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!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98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3840" y="3352680"/>
            <a:ext cx="5380560" cy="3080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as he destroys them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he brings us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life’s abundance,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life’s new jo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1240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1000" y="3352680"/>
            <a:ext cx="59734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160" y="4114800"/>
            <a:ext cx="600696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90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812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1040" y="3276720"/>
            <a:ext cx="56548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81440" y="3276720"/>
            <a:ext cx="526464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0880" y="4114800"/>
            <a:ext cx="641376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5680" y="3352680"/>
            <a:ext cx="60922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590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96252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8620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4290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0384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3623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038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8680" y="3048120"/>
            <a:ext cx="57736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4290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4290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962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96252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2240" y="3200400"/>
            <a:ext cx="53380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5400" y="3276720"/>
            <a:ext cx="5226840" cy="3080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Christ has brought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us salvation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with his death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and rising again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6320" y="4038480"/>
            <a:ext cx="5877360" cy="2333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Everything comes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to new birthing,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362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7000" y="3352680"/>
            <a:ext cx="6313320" cy="3080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2. Christ takes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into his body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all our sin,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enslavement, and pai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19Z</dcterms:modified>
  <cp:revision>65</cp:revision>
  <dc:subject/>
  <dc:title>PowerPoint Presentation</dc:title>
</cp:coreProperties>
</file>