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ED1-FCD9-420D-B71C-2BB74F9C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EFC-D7AE-4962-9D33-A70F693B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52D-E8A0-41DC-9509-2F49BDBF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651-4B94-47EA-A93A-C45620D0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D7E-FB47-45F9-BF15-A985CEE7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BD7-EE6F-40D7-98CE-F5B30CF0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957-9DF8-4DAF-88D7-40F5F749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4BD-DCDD-4702-ABA6-426A926A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829-9B12-4DFA-AB67-86F1E210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69E-C0A8-4DBE-B359-0468827B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1C7-B6A1-4CB8-ABE4-284D8F5A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CB1-D7EE-42A3-B5AF-0DFF36D8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A847-A09F-49AD-A34F-52838D222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Divin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Loves Exc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Love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loves exce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oy of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earth come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ddenly retur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vermore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mples le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 we would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ways bl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rve thee 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host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 and prais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cea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ry in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Finish, th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new creatio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ure and spot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u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see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 salv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ly resto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nged from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in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take our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e cast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owns before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t in wo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x in us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umble dwell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y faith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rcies crow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thou 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compa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re, unboun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thou 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isit us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salvatio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ter e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embling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Breathe, O brea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loving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to e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oubled bre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e inheri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find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cond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a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bent to sinn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pha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mega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d of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ts begin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ome, Almigh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deli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life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7:07Z</dcterms:modified>
  <cp:revision>131</cp:revision>
  <dc:subject/>
  <dc:title>PowerPoint Presentation</dc:title>
</cp:coreProperties>
</file>