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A45-5346-4C33-BF36-D7F915CD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A15-7C54-49DB-9922-C411494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EE0-ADD8-4ED6-A8E5-CE598984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A77-7043-4148-9E20-FDAF7B01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A02-5F1C-4CBB-83E7-2304326A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50A-2DB1-435A-A866-C4A051C1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846-1C93-45D0-A1C0-6797259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76C-BD06-4A0A-885D-B1181E4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59F-4EED-4C1C-AFAF-3593AC1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53A-2098-4742-9183-8D237B4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A13-0D16-49D7-9E46-438E3AF4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21A-82F4-49CE-BFA9-CEA0DDA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40A-DD9B-4F8C-A89E-DF53FEFB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ide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st falls the event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rkness deepe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ith 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0480" y="1166760"/>
            <a:ext cx="38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Henry F. Lyte, 1847 (Lk. 24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morning brea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’s v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dows fl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death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other help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 and comforts f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of the help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to its c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bbs out life’s little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joys grow d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glories pas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ge and dec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around I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ou who changest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y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passing hou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but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foil the tempter’s pow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, like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uide and stay can b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n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ear no fo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at hand to bl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lls have no w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ars no bitt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is death’s sting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, grave, thy victory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triumph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thou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my closing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through the gl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int me to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9:55:49Z</dcterms:modified>
  <cp:revision>44</cp:revision>
  <dc:subject/>
  <dc:title>PowerPoint Presentation</dc:title>
</cp:coreProperties>
</file>