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38D7-0B30-404F-8AF3-57171805B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52E2-520D-484C-A034-4FA199CE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39CF-6358-46D2-85A3-FD9EB4A25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5AD1-E07E-46EB-BA03-581F4DA48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981B-CE7F-46BA-A350-70E0F7BC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3A23-B693-461E-90AB-082A400B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0E36-084D-4B16-A753-5470F294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3186-10E1-4FEF-B972-C6EEEE06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F091-5C7E-4EB5-86B2-936F3914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26D6-AE9A-447A-98EA-54FFD2FA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6FB4-F049-4E58-82F1-938CB4C4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0980-22C6-4145-A750-B7A38F3B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66C6-C7CE-4515-B93B-56390DB4A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Dear Jesus, inWhose Life I 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924680" y="304920"/>
            <a:ext cx="121932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6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Dear Jesus, in who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fe I s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at I woul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fail to b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Jesus in Whose Life I S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8760" y="1066680"/>
            <a:ext cx="26816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John Hunter, 18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thy clear l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ever shi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shame and gui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life of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Though what I drea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hat I d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my weak day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always two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Jesus in Whose Lif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lp me, oppress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things und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thou whose dee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dreams were 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2T16:09:15Z</dcterms:modified>
  <cp:revision>8</cp:revision>
  <dc:subject/>
  <dc:title>PowerPoint Presentation</dc:title>
</cp:coreProperties>
</file>