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08F-CF8A-4DED-B17D-7346137E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2BE2-27A4-4802-8893-1BC50BCA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6015-2A40-435A-99CB-FD0C11B5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95A-B952-44A6-85A0-5E754857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D6AC-AD13-41B4-9957-0DDE6BA2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356-A823-4B10-929D-731184EF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567-AA1F-4EEB-A403-95B1CA18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7E6E-077D-4237-8D6B-243E3E9B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2FFF-B52A-47D8-BC6B-E2930011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83F3-3209-4800-8118-26D52AD6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A4D0-F458-4E5A-8B48-AD9447F1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062-382E-4FBF-BC28-AD491C05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868E-38F2-4713-A869-68E03CC73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e Present a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ur Table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present 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table,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here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where ador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Present at Our Table,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ohn Cennick, 1741, al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129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creatures bl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rant that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feast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radise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22:05Z</dcterms:modified>
  <cp:revision>122</cp:revision>
  <dc:subject/>
  <dc:title>PowerPoint Presentation</dc:title>
</cp:coreProperties>
</file>