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E47-E035-4B5D-B593-3DCEC4A0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A95-59D7-435F-B166-3D5B9CBA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919-D958-45CD-BB84-C3F2C45B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083-3F95-41D0-9D6F-9C202E0D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152-48B2-442D-92C1-CC3061B6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A63-8EA2-4704-B10B-5488320D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CEC-A294-45F1-9439-3FBA998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5BA-8225-43A1-8A44-728CB275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A37-0034-42D3-B4A0-70F2E1BA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AB6-7B01-4E65-ABD1-E50A3B15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ECB-062D-43D0-8E58-91355910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D6D-5001-40C8-8D42-62F9158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956-CBD4-46C9-A9F6-9B5C5A3B1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pe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Chris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com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o our fear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by conflict r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54, renewed 1982 The Hymn Society of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0920" y="1066680"/>
            <a:ext cx="4330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Georgia Harkness, 195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uld be faith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gospel glorio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our Lor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us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consuming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our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se hop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ims are sp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ift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st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ing to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the bread of l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let thy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us be 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l earth’s w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nd all bitte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foot on dusty high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ing to wa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the path of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thou besid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the tempting by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ure us away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to endless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thy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sa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eat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desp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in and gu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nder back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hy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v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thou our l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se them as thou w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hrist o’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this sign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quer grief and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05:23Z</dcterms:modified>
  <cp:revision>9</cp:revision>
  <dc:subject/>
  <dc:title>PowerPoint Presentation</dc:title>
</cp:coreProperties>
</file>