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392-853D-4A62-9C5A-85214DB6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FD9-C893-43EC-B2E4-3E240097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68C-D85F-4117-8192-3CABE7D0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8D5-6432-4AF2-9658-8D715278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B77-AB62-4B96-92E1-CCFAC050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217-AD12-44A5-8269-6D0CD3A3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3F1-52CC-4D39-A54E-6DF7BB6D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B6E-092F-47CB-8687-866BD228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62F-E3F5-4F46-95CA-CBDEA569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398-6955-4539-B4E3-C8B3B91E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4F4-3CF4-491B-BC59-3B971B3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7B0-9F66-4641-BDB5-844912D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F1A0-0405-4EA1-BE9F-4AFA68E02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Loves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 loves the chu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race beyo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easu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bear his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the world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Brian Wren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not l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go or let us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chooses ear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ssels for his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hrist bears the chu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rrupted or conform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bsessed with trifl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ing greed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love outwits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nning gold from stra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ophe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ing and refor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hrist feeds the chu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lls us with a vi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eac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e and broken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haring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ing what they’ve s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’s respec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opposi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hrist needs the chu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nd tell his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aise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rvel at his tru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, bathed in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kened from the d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alk with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ive in grac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33:07Z</dcterms:modified>
  <cp:revision>94</cp:revision>
  <dc:subject/>
  <dc:title>PowerPoint Presentation</dc:title>
</cp:coreProperties>
</file>