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3D5A-960C-41C3-8975-1132EDC0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73F8-1DC6-4FA7-87B7-736ABA46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CA5C-7DA6-4E64-A5E4-F3BCF2682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CC33-BBE9-4391-BE65-8A765350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5678-1E95-472A-B1FB-F788B06A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93A6-AAE9-4839-A485-AADBA869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7F36-103C-4F3F-94EE-561CDD0D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33AC-8F91-4750-BCFA-42548358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6EFE-7044-4CE2-9FBB-FDF9B0E7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E0CC-624D-43AC-B119-6D2758AD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714C-CF70-4E6D-9B22-843EE187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5B71-F92D-4A4A-9C1F-936AF6C1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C4FF-0F2B-4AAE-AA7F-AB99E7B02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153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e, Christians, Join to 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1. Come, Christians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join to sing: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 Amen!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loud praise to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our King: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 Amen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Christians, Join to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89520" y="863640"/>
            <a:ext cx="4764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Christian Henry Bateman, 18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t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heart and voi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efore his throne rejoic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is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racious choic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Come, lift y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arts on high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 Amen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t prais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ill the sky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Christians, Join to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our gui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frien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us he’ll condescen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s love shall never end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Praise y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again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 Amen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fe shall no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nd the strain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Christians, Join to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 heaven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lissful sh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s goodness we’ll ado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inging forevermore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9:59:20Z</dcterms:modified>
  <cp:revision>20</cp:revision>
  <dc:subject/>
  <dc:title>PowerPoint Presentation</dc:title>
</cp:coreProperties>
</file>