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C509-0AE2-4BEC-8CA3-AFBA61E17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0B8E-A641-4103-9158-153BDFD39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C8BE-CE74-4296-ACC2-6022AF894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AD54-AADB-42D8-8D7B-66F8EDE13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C960-34CA-4D74-8816-AC3076C20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3E94-72AC-437D-88A0-6BBB6E909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5742-C343-400E-905A-0FEF942B4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8D60-C8E7-4B6F-A8B1-B8F262ED4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6158-6B3D-4C3F-BD63-C421492F7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03AA-7A40-4540-9221-4353A491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6FAC-6F24-4B89-9A29-B61A292A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173B-DF1C-42AC-AD94-54E8CF0C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D230-05E2-4BDD-835C-6970E9AB5C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534520" cy="119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reat Spirit, Now I Pr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Daw-Kee, Aim Daw-Tsi-Taw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33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at Spirit, Now I Pr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523880"/>
            <a:ext cx="908856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WORDS: Kiowa Prayer, para. by Libby Littlechief, 1981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133720"/>
            <a:ext cx="9144000" cy="406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reat Spiri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ow I pray to you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pray now to you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reat Spirit, hear me;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© 1982 The United Methodist Publishing 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84560"/>
            <a:ext cx="9144000" cy="823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33720" y="1981080"/>
            <a:ext cx="48412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y soul is wear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ow I pra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at your spiri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ill dwell in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14400" y="2057400"/>
            <a:ext cx="7328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DAW-KEE, AIM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DAW-TSI-TAW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TO-AW-BAY TAW HA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w-Kee, Aim Daw-Tsi-Taw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14400" y="2133720"/>
            <a:ext cx="7328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DAW-KEE, AIM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DAW-TSI-TAW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TO-AW-BAY TAW HA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480" y="1676520"/>
            <a:ext cx="7598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PBAY-GYA KEE AAL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AI DAHM GYA DAW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DAW-KEAH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PBAY-GYA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YAH TSAHN-DAY-TOAW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4:55:42Z</dcterms:modified>
  <cp:revision>91</cp:revision>
  <dc:subject/>
  <dc:title>PowerPoint Presentation</dc:title>
</cp:coreProperties>
</file>