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6527-39D8-4C35-8EEA-F03C84A00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602D-C135-4949-B63D-11B5A126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F450-2376-406B-8E71-046901357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8904-FF4C-4B3C-B6DB-36FAB34D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1C45-CEA8-4251-89F9-15600E6C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CCE2-A15C-4828-94BA-35C1277C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4E00-9C8B-4E95-8450-A18AC063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4D65-5E13-4D3D-B971-C7D3D50B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EC71-F38D-4DAA-AA51-35293DD3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3F81-7594-48A6-AE06-B1FD7C7E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F9B2-AEF2-4588-B3AE-E8151683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3A38-E0F1-4665-952A-8E5DC7E0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D7FD-D6B2-4EF5-B010-2D9E7EB9A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When Our Confidence</a:t>
            </a:r>
            <a:br>
              <a:rPr sz="4000"/>
            </a:b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Is Sha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5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98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When our confiden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shak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beliefs w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ght secu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71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Our Confidence is Sha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55320" y="1600200"/>
            <a:ext cx="3078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Fred Pratt Green, 19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5240" y="1096920"/>
            <a:ext cx="791352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he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its sick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eks but cannot find a cu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is acti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 tension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a faith not yet mat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Solar system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void of mean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eeze the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to st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Our Confidence is Sha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68040" y="1096920"/>
            <a:ext cx="720792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ways our research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d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ultimate unknown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ith must die, 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e full circ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its source in God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In the discipli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pray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it’s harde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belie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Our Confidence is Sha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93960" y="1101600"/>
            <a:ext cx="715608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 drudgery of car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it’s no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nough to griev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ith, matur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rns acceptan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insights we rece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God is l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us redeems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 Chri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crucif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Our Confidence is Sha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53920" y="1096920"/>
            <a:ext cx="743652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God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ternal answ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world’s eternal why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we in th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ith matur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content to live and di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6:08Z</dcterms:modified>
  <cp:revision>37</cp:revision>
  <dc:subject/>
  <dc:title>PowerPoint Presentation</dc:title>
</cp:coreProperties>
</file>