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1158-4AC7-4E2D-BE95-CF1D6276E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39F9-BA3C-45A3-B755-0A18746A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27F4-9E73-463D-927B-567BE92A4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CCA5-9AF9-4B87-A0C4-84642412F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D19C-756A-4BC0-9862-FD28D125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0387-56B9-4B39-97F8-0581978F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1A7F-9062-4796-A033-DBD3BC26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EB49-069A-43D7-A118-D8DBE110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445D-1B44-4207-A31E-232BAF8B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809C-B33C-4F1A-BA29-23BEC6A5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2F72-9DAD-4DB7-B40A-1175E6AD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1EF3-A8B2-47D1-B96D-74785777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DD2C-DD67-4564-BFBC-6BB19E86E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et There Be L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Let there be l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there be understand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all nations gath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them be face to f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There Be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51160" y="1077840"/>
            <a:ext cx="265716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Frances W. Davis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Open our lip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pen our minds to pond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pen the door of conco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pening into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There B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Perish the sw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erish the angry judgmen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erish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ombs and hung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erish the fight for 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There B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Hallow our l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llow the deaths of martyr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llow their holy freedo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llowed be your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There B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Your kingdom co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Spirit turn to languag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people speak togeth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Spirit never fa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There B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6. Let there be l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pen our hearts to wond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erish the way of terr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llow the worl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ma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There B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6:52:26Z</dcterms:modified>
  <cp:revision>10</cp:revision>
  <dc:subject/>
  <dc:title>PowerPoint Presentation</dc:title>
</cp:coreProperties>
</file>