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187-C4E1-4DA9-A0D4-991A40BC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806-A142-4CAC-9B79-D13D6D48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4B7-F3D0-45D5-B28F-AAFCBA52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FCE-58D7-444C-B0A1-873C1BC2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9D5-0E93-43D7-8505-B9946F5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38F-CAAE-4E18-8348-22DE0C7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6BF-4B38-4BCD-AC7E-8C43293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E1E-9524-429E-A8C0-2D421E37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4B6-DEE3-410B-82D0-78D911AA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5CA-6D30-43CD-B3BA-C3E544E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267-5BFC-4EE9-A98A-C7428AE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CBB-9886-4064-A47B-6FC5176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F963-0BE1-4078-8F8B-CA2D23C5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a Maid Engaged to Jose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5081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 a mai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ngaged to Josep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 Gabriel came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 “Fear not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 told h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I come to bring good ne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© 198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9080" y="990720"/>
            <a:ext cx="53244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Gracia Grindal, 1983 (Lk. 1:26-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come up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shortl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child wi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God’s chi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6. As Mar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ard the ang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wondered at his words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Behold, I a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handmaid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said unto he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be it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am read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ccording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od news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come to tell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od ne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say, good ne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or you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ghly favor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y God the Lord of al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even 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with you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on ea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most bles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chose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bles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But Mary w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troubled to hea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’s wor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at was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gel saying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troubled her to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hear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gel’s messag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troub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 to h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“Fear no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God is with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you shall bear a chil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called Jes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offspr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h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ign forev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ever reign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5. “How shall this be?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aid Mar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I am not yet a wife.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swered quickly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The power of the Most Hig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21Z</dcterms:modified>
  <cp:revision>60</cp:revision>
  <dc:subject/>
  <dc:title>PowerPoint Presentation</dc:title>
</cp:coreProperties>
</file>