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05B-DCD4-4390-AE0F-ECD7D668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07E-2B22-4BF9-8B01-3E199E3B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E02-98DC-4590-8E01-4CAD27ED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6CB-1278-4564-8AD0-A4430768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341-DF15-465C-B87F-44CC3637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427-2FC9-42E9-B669-2BBEC2E0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2E5-E4DD-4645-AE44-70F13B7D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67F-8498-4150-B7DB-CFC0E279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7E2-21F1-414D-881E-25118E07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643-D9BA-4B43-8EFD-6BFA1F8E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6C2-BB1A-4B27-84D5-440E5C23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010-FA3B-46DD-ABCB-B8E16A4A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1BC8-4501-4F85-836B-165FDB96B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Thou Foun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f Every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ome, thou Fou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every bles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ne my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ing thy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5480" y="1673280"/>
            <a:ext cx="4249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Robert Robinson, 1758 (1 Sam. 7: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y goo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a fet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ind my wande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ne to wa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 feel 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ne to leav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’s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ake and seal 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al it for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urt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ams of merc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ver cea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l for song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udest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ach me s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lodious sonn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ng by flam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ngue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mount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fixed upon 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unt of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ing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ere I 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ne Ebenez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ther by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 I’m c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 hope, b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good plea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fely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rive a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sought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a strang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ndering from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ld of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, to resc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 from dang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erposed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eciou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to g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a debt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ily I’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strained to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19:32:04Z</dcterms:modified>
  <cp:revision>21</cp:revision>
  <dc:subject/>
  <dc:title>PowerPoint Presentation</dc:title>
</cp:coreProperties>
</file>