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13AD-9ACF-4C89-9CD2-6EB5E21F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D1FE-F54A-430E-A2D4-1B1FAB82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0ADE-CA4D-4918-8946-18AA8B3E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3758-708E-461B-9F8B-08EF75D7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4F20-D3A1-47C2-95B2-022ACEAA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C8F6-715F-4789-B3C2-D7C3C93E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279A-CF2F-4EF8-B597-7443762D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C122-B8BE-4624-845D-4C967117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24BB-C0F7-41BF-B729-9B5DEA23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5CE1-54B4-4AA0-B337-B6870371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6C48-1BFB-491A-A437-F2669EC9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6AE6-27C1-497C-BA06-AFF8239A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9139-EF9E-4BB8-BD0F-A469CF880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e Are Climbing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acob’s Lad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4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e are climb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acob’s ladder;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climb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acob’s ladder;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20480" y="1600200"/>
            <a:ext cx="48092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frican American spiritual (Gen. 28:10-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climb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gher, higher;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ldiers of the cros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climb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acob’s ladd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ldiers of the cros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68600"/>
            <a:ext cx="9144000" cy="34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Every round go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gher, higher;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round go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gher, higher;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round go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gher, high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ldiers of the cros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68600"/>
            <a:ext cx="9144000" cy="34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Sinner, do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my Jesus?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ner, do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my Jesus?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ner, do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my Jesus?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ldiers of the cros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668600"/>
            <a:ext cx="9144000" cy="34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If you love him, w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serve him?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you love him, w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serve him?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you love him, w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serve him?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ldiers of the cros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668600"/>
            <a:ext cx="9144000" cy="34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We are climb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gher, higher;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climb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gher, higher;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1:36Z</dcterms:modified>
  <cp:revision>9</cp:revision>
  <dc:subject/>
  <dc:title>PowerPoint Presentation</dc:title>
</cp:coreProperties>
</file>