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BB8-2C1B-4518-8118-52A6E2FC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3A9-548D-4F12-A11F-DB857DB3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0BE-0B3B-493A-9965-050C2325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28C-7985-4170-9716-BB806B91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877-CD7C-4651-BBB5-0929866E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977-08A7-47F3-8E67-5B52AEE9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ABB-96FA-47FB-8D25-8B817C70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02C-6064-4395-9B15-0678A182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983-87F0-4124-832D-B84CBE74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252-5604-46CE-9694-19FC3715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6B3-9645-48FE-9FD9-4C9EDE4D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6F4-1A56-4D5E-A771-56E169EE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D753-7D3C-423F-9467-1D84E9D3C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ove, O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s Called U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ussell Schultz-Widmar, 19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87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alled us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love f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ource in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Russell Schulz-Wid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rfec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sts out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ever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gracious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onsec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is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, and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ose who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esence wa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love re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your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we d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every hus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w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utual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6:25Z</dcterms:modified>
  <cp:revision>150</cp:revision>
  <dc:subject/>
  <dc:title>PowerPoint Presentation</dc:title>
</cp:coreProperties>
</file>