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698-4FE9-4424-9E3A-2653F54D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7E36-2EB9-4450-A8C2-4EFA5975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0022-1E43-4310-8C7F-EB9F80EA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938D-943E-4DC4-803F-4450E0C8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BFDD-A4D4-40A4-B3ED-1DCA7635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8143-9582-4BF1-B7F9-D7AA226F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48C-6173-4BDA-8F1D-68D41AAF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51B1-5DCB-42BD-9D0B-3F6D0F50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BEBA-34C1-4D82-B93F-449DFD83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9FB0-F72B-450C-94A4-999CCA53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7E91-E500-44DB-88E4-FFE20ADD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C06-21F8-4F6E-B1F8-5F283048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B985-A516-4A20-80D2-1D094806C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Come, All Ye Faith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come all ye faith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ful and triumph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come y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come ye, to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240" y="1116000"/>
            <a:ext cx="79988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ohn F. Wade, ca. 1743; trans. by Frederick Oakeley 1841, and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See how the shepher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mmoned to his crad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ving their flock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aw nigh to gaz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too will thi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nd our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ful footstep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523880"/>
            <a:ext cx="9144000" cy="369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rist the Lo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Child, for us sinn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or and in the mang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ould embrace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love and aw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would not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ing u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dearl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371600"/>
            <a:ext cx="9144000" cy="369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rist the Lo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Yea, Lord, we greet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this happy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, to thee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 of the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in flesh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ppeari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94000"/>
            <a:ext cx="9144000" cy="369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rist the Lo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Adeste, fidel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eti triumphant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enite, veni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este, Fideles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hold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 of angel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90720"/>
            <a:ext cx="9144000" cy="467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atum vide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Regem angeloru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Venite adoremu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venite adoremu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venite adoremus, Dominu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47920"/>
            <a:ext cx="9144000" cy="369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rist the Lo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rue God of true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 from Light Etern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, he shuns n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irgin’s womb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 of the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gotten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creat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95280"/>
            <a:ext cx="9144000" cy="369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rist the Lo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ing, choirs of angel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in exultatio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ing, all ye citize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heaven ab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t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 in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igh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295280"/>
            <a:ext cx="9144000" cy="369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rist the Lo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8:37Z</dcterms:modified>
  <cp:revision>9</cp:revision>
  <dc:subject/>
  <dc:title>PowerPoint Presentation</dc:title>
</cp:coreProperties>
</file>