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3AA-C5DC-4985-B856-D7AD34C0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B7C-C617-426A-B168-2CA9261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2B7-2EBB-40DA-8ED7-B3D74C84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BA9-72C6-4AC3-A549-851D1BFA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543-F3AF-4E95-96EC-630021E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11C-41BB-47EE-997F-6929281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62E-2606-4314-8E15-3B7EE058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497-96AC-4835-B9A3-772FB92E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5B5-D660-46CD-A65C-75261F65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629-0229-4C70-A22D-E7C6870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619-399F-4A58-BB1E-7FC2531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9DB-0D46-4C91-986D-9217C49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2623-E4FA-418C-9D67-B39DD33D7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lead f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0 (Eph. 2:8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et us p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faith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ith which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works is sh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justif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ly fa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a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Activ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lives with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nquers h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death and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s whom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st made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ms the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Let us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faith cont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re salv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the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 alrea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lasting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Only l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s persev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we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Lord app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ock re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d by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works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3:10Z</dcterms:modified>
  <cp:revision>132</cp:revision>
  <dc:subject/>
  <dc:title>PowerPoint Presentation</dc:title>
</cp:coreProperties>
</file>