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9DA-B77A-4FB6-9A28-C8FDB314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456-4EAA-434D-A39B-4BFCD09A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A9E-6178-42CF-B8AB-FDCFA465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C59-BFCA-4980-A11E-0CEF0169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BB4-D29B-4455-A0D4-E99DD006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F37-5C43-470F-9A3E-E163BDD2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0E0-31E4-475D-96BF-CFF0E151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A87-1280-43BD-8B6F-8CD8CCA0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ABD-31EC-4447-BAF8-4FF6967A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55C-1FAC-4EC3-BFC7-402A51BB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4A0-E9AB-49E5-B7CC-7983B957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8CB-105A-4220-A7EB-8B465A6F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45C6-67C4-4022-AD80-91F29C325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ay of Pente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28800"/>
            <a:ext cx="883908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od of grac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you sent the promised gif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f the Holy Spiri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upon the apostles a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wom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of Pente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360" y="1139760"/>
            <a:ext cx="4458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Laurence Hull Stookey, USA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upon Mary the moth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f Jesus and upo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his brother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ill your church with power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kindle flaming heart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ithin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cause us to proclai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your mighty work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in every tongu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at all may call on you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be save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25:47Z</dcterms:modified>
  <cp:revision>11</cp:revision>
  <dc:subject/>
  <dc:title>PowerPoint Presentation</dc:title>
</cp:coreProperties>
</file>