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C08-B85E-4069-96B6-D7C623B9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443-D1ED-488B-8620-83C8BC76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381-BDCD-4BE8-A121-274EA453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7D9-9C52-412C-8F4F-55BD72FE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9D9-1C4F-4AA3-9BE5-FDABFC9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C94-5D19-4BF6-9A11-A8A19F4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77A-9371-4528-8FFB-164DB8C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AD6-80DC-4F9C-8422-2265144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A86-9996-4BDF-9141-8CBF2067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CA5-63DA-47BB-AAF9-05A1066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7DA-31F8-48C5-A2B4-BAB3D2A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A7B-B299-4BB1-9781-26DE547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5EF-187B-483B-82F2-F220EB9DF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bine Baring-Gould, 186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06Z</dcterms:modified>
  <cp:revision>80</cp:revision>
  <dc:subject/>
  <dc:title>PowerPoint Presentation</dc:title>
</cp:coreProperties>
</file>