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A0A-2B75-46AF-941D-1627684E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43B-17CD-4512-8D42-4034071D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809-40FD-437F-AA8F-E2535DBF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137-2234-4DEA-A912-E56D2CB1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DBF-2117-4360-9045-0FF1765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11A-001A-429A-B261-13A03236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5D4-C44D-499A-9D20-FCC0F86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BCA-7E29-450E-BFF1-60B2950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20C-F6B6-420F-8EB7-E671B2C0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F78-61D1-4721-B969-A9BC2CF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2AD-B58D-499C-917E-B6C1C9E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C90-2D20-4730-8309-5544808B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22DB-2924-4662-88B7-FA7435196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gather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sk the Lord’s bles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hastens and hast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ill to mak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800" y="1143000"/>
            <a:ext cx="82594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1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01Z</dcterms:modified>
  <cp:revision>50</cp:revision>
  <dc:subject/>
  <dc:title>PowerPoint Presentation</dc:title>
</cp:coreProperties>
</file>