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AD2-613E-4C7E-918D-31F7F2BF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E5A4-2479-47F5-B6BC-7F5D707A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9FD-5274-45A7-9E8D-52EE19CB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734-8BE7-4FA2-B993-F30E3FE7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4F1-2E86-4DA3-8487-B467663F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B3D-D6F4-417A-A88B-4852294B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AC2-280B-4568-9C06-81DA8CB7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3FA-988A-48F1-BD1B-89EB4097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D17-3EE7-4C55-BBC5-0AEEB31C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297-FB77-4997-A78F-5B46F522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A51-5698-41CD-A912-974D83AB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398-3665-4DBE-88F9-98B2C0F9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A495-A67D-488B-8A8D-A73A0951C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nd Up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nd Up for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Stand up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tand up for Jesus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ye soldiers of the cross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ift high his royal banner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t must not suffer los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95000" y="1523880"/>
            <a:ext cx="4646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George Duffield, Jr., 1858 (Eph. 6:10-17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victory unto vic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army shall he l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every fo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vanquish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hrist is Lord in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177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2. Stand up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tand up for Jesus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trumpet call obey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forth to the mighty conflict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n this his glorious da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 that are br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serve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gainst unnumbered foe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courage rise with dang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rength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ength oppo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3. Stand up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tand up for Jesus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tand in his strength alon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arm of flesh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ill fail you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ye dare not trust your ow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ut on the gospel arm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piece pu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with praye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duty ca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dang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never wanting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Stand u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and up for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trife will not be l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day the noise of batt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ext the victor’s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ose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anquish evi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crown of life shall b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with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ing of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reign eterna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8:17Z</dcterms:modified>
  <cp:revision>12</cp:revision>
  <dc:subject/>
  <dc:title>PowerPoint Presentation</dc:title>
</cp:coreProperties>
</file>