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B59-95FF-4D57-9431-8B641D98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7CD-2796-470F-956F-1730B8EB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B76-D652-48B9-8332-DBC0EC30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6F3-13F7-49AF-A311-01692558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9F1-1F0E-4859-B5F1-EC7AB778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78F-1ED7-4447-9A9D-810EB52B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37C-6433-4F29-90DB-83FB7D1A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7C5-1BF4-4558-9840-B299CDC4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668-EA90-4244-A23A-EEF98081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9D1-8DF0-40E2-89F6-D46AAD23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93E-F211-4D63-AFB4-A480F951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789-5802-4EE8-82F5-0E85871E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5359-E165-4E5E-A4DA-DEB6915C1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Things Come of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e, O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f thine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ve we give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Come of Th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1 Chronicles 29:1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5:28:27Z</dcterms:modified>
  <cp:revision>95</cp:revision>
  <dc:subject/>
  <dc:title>PowerPoint Presentation</dc:title>
</cp:coreProperties>
</file>