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E4D-AECF-426A-BD41-595E5BD8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6BB-7B3F-43FA-95DC-3ABFEF2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FC1-E5F2-48F3-9464-5F04BFC7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121-7F95-4C52-AE30-875704AC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89A-A332-4092-94FA-21DE662A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96D-6632-4CCC-B9CE-37EEFD8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54B-D6BC-4D9C-8419-E8760B2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67D-6969-48DF-AB01-62E5768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695-BA67-4ABA-B34F-812AD0BB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B79-27B5-42D3-A15F-3D22EE79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CF4-A51F-4D50-B97E-98746A4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7EE-323F-46A3-B038-9C64275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1215-66B4-49B2-BE2D-1E74C96E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ry of All Trump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eary of all trumpe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ry of all ki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ry of all songs that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mise, non-fulfi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 by permission of Inter-Lutheran Commission on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0400" y="1077840"/>
            <a:ext cx="33246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Martin Franzmann, 1971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uld ra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hrist, one so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uld join in sing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reat mus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 and str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with heaven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aptain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wl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ant King, your dy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ade us shea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oolish s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ade us cease den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mpet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pirit’s br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each he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your self-giving d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 us all to fol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o the triump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mmon all the liv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mmon us to live by l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ining all by giv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ffering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ay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iumph in surrend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ing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ay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tners in your splen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04Z</dcterms:modified>
  <cp:revision>11</cp:revision>
  <dc:subject/>
  <dc:title>PowerPoint Presentation</dc:title>
</cp:coreProperties>
</file>