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340-E1B4-409B-9C7B-16CF3546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D2E-D88E-4D36-8D1F-ED0D02E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88F-1FF6-4AA2-852A-6BF587C2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851-A969-4CE7-A819-574DBC9D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21F-93AE-4541-A80D-AE8BD61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794-E6AD-4B46-B3D0-972597D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919-61B0-4C1F-9FB3-6136291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1E9-35D3-4B2B-8B02-4E2C375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B19-A138-44D2-9976-4A153D46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907-1C20-4E0D-9AA3-D2AAE42E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240-1C2F-455F-82C3-BE1A7D3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6DA-FA35-4086-A0B3-826BD7B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097-E845-4D97-9A62-937CF9C4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a Spirit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213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re’s a Spirit 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92200" y="109224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May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our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ide our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ange our way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7. There’s a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ose your shy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nd your tongu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God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en believ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eak the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til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ads the f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ing w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tting r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en a strang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hom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nd a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20Z</dcterms:modified>
  <cp:revision>44</cp:revision>
  <dc:subject/>
  <dc:title>PowerPoint Presentation</dc:title>
</cp:coreProperties>
</file>