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2CA7-B4D9-4645-973A-1F9F30C6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C850-EE05-4718-9B83-45A2B419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0AFD-B9F5-4F61-AAEE-B95BFBA8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1B43-CD9C-477E-8EB5-24E15A64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AFED-B747-4C47-90C4-B01EA73F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E557-2A98-49FB-959C-9469F306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1D33-411C-4C1F-8DAB-F0CEF2EE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6045-0692-49B3-902B-A4421C7F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E1BB-6EF1-406B-80AD-4AED9231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6C00-3BAD-4B14-9CBA-2DB6DB24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44C-49F2-46B4-8849-177F24B3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DE68-05F4-416B-B1A2-50FA677D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0F7B-7DBF-4299-935E-A02F6766F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ail Thee, Festival Day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East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000" y="152388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Venantius Honorius Fortunatus; trans. from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The English Hymnal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, 1906, al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1952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3. God the Almighty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 Lor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 Ruler of eart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the heaven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guard us from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arm without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cleanse us from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evil withi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12408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4. Jesus, the healt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f the worl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enlighten our mind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great Redeem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Son of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Father suprem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nly begotte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f Go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20040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5. Spirit of lif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of powe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now flow in u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fount of our be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ight tha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enlightens us all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ife that i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 may abid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12408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6. Praise to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giver of good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 lover an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uthor of conc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pour out your balm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n our days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rder our way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in your peac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12408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1. All the fai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eauty of earth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from the deat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f winter aris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Every goo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gift of the yea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now with it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Master returns: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97180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2. Rise from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grave now, O Lor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 author of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ife and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reading the pathwa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f death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new life you giv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o us all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97180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6:42:39Z</dcterms:modified>
  <cp:revision>81</cp:revision>
  <dc:subject/>
  <dc:title>PowerPoint Presentation</dc:title>
</cp:coreProperties>
</file>