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891-3876-4513-BA2F-E1FDE9B4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663-54DE-4105-A392-40F595D9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4E8-FD2A-4466-BEF1-7E2D590E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E3D-7949-4DA9-95E2-EBD74265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73A-C276-4D88-BAC1-A39F47D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BC0-0328-41B2-8220-68B45CE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B86-EECE-4610-A67E-61CC42C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317-F0ED-477B-8C70-EAD287BF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2CD-9259-44B4-9EB9-6D77E6D8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D3C-6B41-4802-BD2C-471E9FE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47F-6607-45CE-AEC0-A5853AC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8B4-4F36-45BB-86F9-80995C8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F30-F66C-4387-BE0C-E41D6DEC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 Who Mak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Winds That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ind who makes al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nds that blow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gusts that b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sapling 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3 Thomas H. Troeger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7000" y="1749600"/>
            <a:ext cx="4050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homas H. Troeger, 1983 (Acts 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altar py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le them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own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the and b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that blaz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our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deeds, and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 that tongu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every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your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under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les that he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ea in wa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rrings 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nd’s deep cave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im your br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teady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day,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ise, renew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we’ve l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ire who fue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ires that b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ns around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nets 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cons mar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efs and shoa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ing truth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our soul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us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ce you ca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st in tongu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acred fl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and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ght and Streng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breadth and l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ol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d and fl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within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tal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9:35Z</dcterms:modified>
  <cp:revision>11</cp:revision>
  <dc:subject/>
  <dc:title>PowerPoint Presentation</dc:title>
</cp:coreProperties>
</file>