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882-A5D3-4248-9527-2269B5BE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098-4538-4D94-A6E8-E3B178C5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AD5-D0B2-4E1D-9522-02E7B98D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027-201D-4674-ACC8-00956250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02D-9C85-4EF2-8308-1BEA2E77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871-8FE2-424A-8C6C-B1577087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142-D582-4708-B061-E392F98D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C03-1B24-46D8-A477-03A21B38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202-9BEB-4B77-BDFB-B3A3D7B5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823-8435-4E79-AFC2-6E1EBAA1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D72-1D3A-42E4-B6A2-3508DBFF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255-10EF-4975-BF75-20EEEA11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D8CA-478E-4BD8-910C-02445AB7C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hing Betw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Albert Tindley, ca. 19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Nothing between my so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aught of this worl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lusive dre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it may co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 much tribul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am resolv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betwee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Nothing betwe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’en many hard trial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the whole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gainst me conve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tching with pray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much self-denia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triumph at la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betwee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have renounc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sinful pleasu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is m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betwee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Nothing betwe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ke worldly pleasu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bits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harm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y se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ust not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him ever se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is my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betwee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Nothing betwe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ke pride or statio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lf or fri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ll not interve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6:39Z</dcterms:modified>
  <cp:revision>114</cp:revision>
  <dc:subject/>
  <dc:title>PowerPoint Presentation</dc:title>
</cp:coreProperties>
</file>