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B14B-9369-4473-94AB-BE319360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D5F-2DE6-469D-A0A4-5F56A549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BE3-EC5C-4973-A440-97BFA96D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1A0-A92C-4142-BFCF-3BBC471F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F35-6164-4BC1-99C3-F8AEB923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8F4-60D4-4CCA-98C1-14EB3063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0C6-588B-4A81-92B0-41BF0D91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6A5-2ED1-45AF-951A-4F133832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EE4-FDB2-45D4-833D-45597801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9F0-A67E-44DD-9526-02682150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5AD-ED31-4978-B694-8ED1152F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EF3-8B65-4E4D-8D9B-4D4F1861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F534-673D-4E32-97B9-818A55191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ise to Greet the S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ise to greet the su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eddening in the sk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arrior-like and stro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omely as a gro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Trans. 1965 © Bliss Wi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to Greet the Su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4480" y="1066680"/>
            <a:ext cx="748980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Tzu-ch’en, Chao, 1931; trans. by Mildred A. Wiant and Bliss Wiant, 1946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42240" y="22860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irds pass high in fl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ragrant flowers now bloom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gracious ligh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 my toil resu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Father, I implor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afely keep this chil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ke my conduct go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ctions calm and mil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to Greet the Su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venerating ag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umbly teaching youth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ways serving the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ring thy rich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May this day be blest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rusting Jesus’ lov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y heart’s freed from ill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air blue sky’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to Greet the Su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lad for cotton coa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lain food satisfies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my countless need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kind hand suppl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6:38Z</dcterms:modified>
  <cp:revision>14</cp:revision>
  <dc:subject/>
  <dc:title>PowerPoint Presentation</dc:title>
</cp:coreProperties>
</file>