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BF2E-F674-46B1-88F3-C6DE740F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FAD1-7082-4C57-BDCD-D8E3B58D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1284-8773-4B35-9319-E47B7702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1848-31BA-429D-B162-F2A325FC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2F2-2D60-4EB7-B50D-03D6A6F7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D480-1B9A-4957-9D54-AFDBABCE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6A3-B195-4851-9A94-6E8EC890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5B9F-A0E1-4328-928C-01BACBD0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DED9-FD91-44F6-A8D9-3912BF01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0F5-6142-4E26-9E20-C6B300A9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EDD-693D-4C00-8FAB-8DF9CEAB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3E1-46CC-4AB2-ACC0-D6FF2054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D0A0-EF59-47FC-83FF-2603CFEF0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Jesus, Lover of My So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Jesus, lover of my sou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e to thy bosom f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the near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ters ro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the tempest still is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ver of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21440" y="990720"/>
            <a:ext cx="408528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Charles Wesley, 1740 (Wis. 11:26)</a:t>
            </a:r>
            <a:r>
              <a:rPr b="1" lang="en-US" sz="2100" spc="-1" strike="noStrike">
                <a:solidFill>
                  <a:srgbClr val="99cc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de me, 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avior, h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the stor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life is pas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fe into the haven guid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receive my soul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Other refuge have I n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ngs my help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ul on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, ah! leave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 al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support and comfor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ver of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my trust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e is stay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my help from thee I bring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ver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fenseless he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 shadow of thy w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ou, O Chri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t all I wa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e than all in thee I fin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aise the fallen, cheer the fai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l the sic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ad the bl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ver of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 and holy is thy n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am all unrighteousnes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lse and full of sin I am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art full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th and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Plenteous grace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e is f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o cover all my si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the hea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eams ab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ke and keep me pure with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ver of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of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fountain 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eely let me take of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ring thou u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in my hear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se to all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7:02:20Z</dcterms:modified>
  <cp:revision>21</cp:revision>
  <dc:subject/>
  <dc:title>PowerPoint Presentation</dc:title>
</cp:coreProperties>
</file>