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246-6B4B-4BA3-9864-94857407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3653-FEB1-4671-8395-85C7DC56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80B0-DB86-400F-8DC6-4D332E70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7636-0F1C-49C8-8E75-32DEF6EC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2480-3043-4C85-9AC9-AD2F954C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E1C-CC35-4764-BE03-400CED71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A275-B7D3-4C02-B890-D4588E65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BE1-3947-4F78-84FC-60514662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CB8E-4812-4A52-987E-B084C806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1F61-AF6E-4C5F-8BCC-195502D9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DCB-BAE7-4340-AEAB-5561B958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E40-B082-4EA9-A52A-3BDED483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9CD0-DC4D-4C39-A5F6-A236069C5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 Touched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Shackled by 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vy burd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th a load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uilt and sh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63 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2440" y="1066680"/>
            <a:ext cx="5751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William J. Gaither, 1963 (Mt. 8:3; Mk. 1:41; Lk. 5: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the hand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tou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longer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tou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e tou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 the jo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floods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thing happen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ow I k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touched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ade m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Since I m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blessed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ce he clean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ade me who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ill never cea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praise him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’ll shout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eternity roll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tou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e tou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 the jo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floods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thing happen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ow I k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touched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ade m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8:53:59Z</dcterms:modified>
  <cp:revision>15</cp:revision>
  <dc:subject/>
  <dc:title>PowerPoint Presentation</dc:title>
</cp:coreProperties>
</file>