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014-27DC-4BDD-9ACA-8ECFCB15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4DC-1866-4A85-BC88-0653553A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53D-42BA-4C8A-88B8-447ADEC9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9D2-0159-4930-B782-6E0F3961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E8C-15D5-4A8E-B320-7A78FCB1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787-33D4-418C-A367-882F86CB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159-F2BB-4F26-B945-E037A520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F1B-A704-439A-BA1F-2E0B576C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E31-9642-42E0-8051-5BBECA5E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224-51D7-456A-B6D5-EE4DF657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AB0-0713-44EA-A442-2EEE6A77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1FF-20B4-40A5-88E7-A4110EDB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3064-0688-4C2F-8CCD-F19BFAD8F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re Shall M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ndering Soul Be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89154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1. Where shall my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    wondering soul begin?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 How shall I all to heaven aspire?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 A slave redeemed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    from death and sin,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 a brand plucked from eternal fire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69160" y="1447920"/>
            <a:ext cx="262512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arles Wesley, 17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 calls you now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nvites you home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me, O my guilt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rethren, c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9270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6. For you the purpl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current flow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n pardon fro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his wounded sid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languished for y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the eternal Go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for you the Prince of Glory d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elieve, and al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your guilt’s forgive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nly believe–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yours is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97964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ow shall I equa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riumphs rais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sing my great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deliverer’s prai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2. O how shall I the goodness tel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Father, which th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o me hast showed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hat I, a child of wrath and hel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 should be call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a child of Go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hould know, should fee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y sins forgive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lest with thi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tepast of hea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3. And shall I slight m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Father’s l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or basely fear his gifts to own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Unmindful of his favors pr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shall I, the hallow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cross to shu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efuse his righteousnes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imp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y hiding i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ithin my hear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278000"/>
            <a:ext cx="883944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4. Outcast of men, to you I cal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arlots and publica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and thieve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e spreads his arm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to embrace you al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sinners alone his grace rece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 need of hi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righteous hav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 came the los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seek and sa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9270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5. Come, O my guilt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brethren, co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groaning beneat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your load of sin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is bleeding hear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shall make you room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is open side shall take you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8:22Z</dcterms:modified>
  <cp:revision>26</cp:revision>
  <dc:subject/>
  <dc:title>PowerPoint Presentation</dc:title>
</cp:coreProperties>
</file>