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0B3-AD9B-4220-9582-66DD5398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7A0-6116-4117-BE16-F2D7DE4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389-960F-4E51-B0FE-F761CD84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8E6-10CA-46FA-BE66-1BC91E28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B07-71C4-4B29-BCD2-A8820FA9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E37-75AB-4975-943A-6958833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70D-A9AA-4418-BFEE-EE6D779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611-71D5-482E-AD78-2BEADA3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D2A-A819-4C3C-AF84-FE4EBCF6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412-65B5-4612-86B1-45399FB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BDC-98CE-4B14-88C2-0789E8A7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A1B-4EA8-4156-8AA6-C0CBC96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FE0E-09A2-4282-89A4-70F5340E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Rememb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ighteous live for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5320" y="990720"/>
            <a:ext cx="69184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sdom of Solomon 3:1-9, adapt.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sponse 1, Wisdom of Solomon 3:1-9, adapt.; Response 2, Psalm 28:7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will govern natio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rule over people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 Lord will reig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ver them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se who trust in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ll understand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 faithf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ll abide in l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97180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cause grace and merc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re upon the elec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God watched ov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ly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give thanks and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rd is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438280"/>
            <a:ext cx="8610480" cy="387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ouls of the righteous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the hand of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no torment will ev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uch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9718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the eyes of the foolis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y seem to have di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ir departure wa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ought to be an affli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73392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ir going from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be their destruction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ut they are at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81952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though in our sigh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y were punish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ir hope is fu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immortalit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ing been disciplined a littl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y will receive great go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ecause God tested th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found them worth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4382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ke gold in the furna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God tried the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like a sacrificia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urnt offer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God accept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time of their visit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y will shine for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will run like spark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rough the stub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08:32Z</dcterms:modified>
  <cp:revision>34</cp:revision>
  <dc:subject/>
  <dc:title>PowerPoint Presentation</dc:title>
</cp:coreProperties>
</file>