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6C18-984B-45A2-9AFF-F9342B115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B23D-C236-4581-8789-021ED862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AD7D-9BE2-44D8-B8BE-8299C779F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A6F1-D80D-4B70-9870-D402290C4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0528-BABF-4B2C-8ACB-A7B5E147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D3A5-98AA-45AB-B0CE-31B4E550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7F8E-CD3F-4C3E-87AB-047B9363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B63C-3EFE-47C3-9361-36E9C3A8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EE8B-BF31-44CA-BBB2-E5A7CD18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78C2-D9A8-4219-AC14-A78ACB54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BD60-5C31-4906-9C68-E174FEA8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7A52-ED10-408F-A6D5-32D63B4C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DB95-EC31-4D00-BDD8-58AC95500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od Be with You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ill We Meet Ag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7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1. God be with you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by his counsels guide, 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uphold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88280" y="1676520"/>
            <a:ext cx="3378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Jeremiah E. Rankin, 1880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ith his sheep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ecurely fold you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2. God be with you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neath his wing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ecurely hide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daily manna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till provide you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3. God be with you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hen life’s peril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ick confound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put his arm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unfailing round you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4. God be with you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keep love’s banner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loating o’er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mite death’s threatening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ave before you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4:50:36Z</dcterms:modified>
  <cp:revision>12</cp:revision>
  <dc:subject/>
  <dc:title>PowerPoint Presentation</dc:title>
</cp:coreProperties>
</file>