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F10-780B-4CFC-81CE-9EC75A82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B24-C401-4768-9206-8BA45927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B5F-6DCF-4D2A-AE13-628D89D0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91F-69CD-4C82-993B-34E709CB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FF6-41F9-4C36-922A-AB944CF9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379-1AF7-4529-B302-32E617A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766-EFC9-439B-80C0-8B60DC09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6EB-E1B3-4CA2-B754-12176480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76A-E721-45FE-8F81-661D64E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476-BF12-4CF5-A0A4-055A4108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F62-89C0-48B8-900C-0E0F0B4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18F-95C7-4E60-9C63-A0F506A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9BA1-8337-407C-91BC-2103C0B2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a Peaceful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09680"/>
            <a:ext cx="8305920" cy="295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O God, you have let me pass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the day in peace;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let me pass the night in peace,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O Lord who has no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Peaceful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5160" y="1114560"/>
            <a:ext cx="3105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d. prayer of the Boran peo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143000"/>
            <a:ext cx="8305920" cy="47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There is no strength but in you.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You alone have no obligation.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Under your hand I pass the night.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You are my Mother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and my Fath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6:25Z</dcterms:modified>
  <cp:revision>19</cp:revision>
  <dc:subject/>
  <dc:title>PowerPoint Presentation</dc:title>
</cp:coreProperties>
</file>