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86E-9019-4501-BA2D-3392F3CC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914-1BC4-450D-986E-1AFA60BF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1B0-26C9-485E-AD32-C6AD86C9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ABF-665E-4599-BFD9-76F18A83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4D1-543B-4FC9-89FF-49E8CA65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3D9-9F37-42D4-831B-F2A0ADD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C2B-FA9C-4CBC-AA48-80D7FF18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2E3-0D3E-4BE5-A048-79CCB0F5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793-FD9F-43E8-B738-7BCDA47B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FC0-16D6-4F78-BCFA-E11B9F94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DB8-13AE-4C50-8105-BB23A41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897-50EA-45CF-93CD-63BCF99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983A-C0C7-4B79-B3AD-9D10D6EE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 in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5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O God in heave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rant to thy children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ercy and bless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ngs never ceas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by permission of Christian Conference of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85720" y="1166760"/>
            <a:ext cx="617292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Elena G. Maquiso 1961; trans. by D. T.  Niles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388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o unit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o redeem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od in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Lord,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esus,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rememb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racious pa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6002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ship we bring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we shall sing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pirit desce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is the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 for th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for the need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aled in our kinshi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e be our worshi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desce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ad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19Z</dcterms:modified>
  <cp:revision>38</cp:revision>
  <dc:subject/>
  <dc:title>PowerPoint Presentation</dc:title>
</cp:coreProperties>
</file>