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82F-851B-4EDD-A21A-DE798B5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C1D-BCDC-4A13-98EB-FF018EF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B24-6EEC-458D-890C-D8397DE7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E01-739E-4C90-96FB-E1AC94C2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656-FAE8-4B62-87BE-85DA38E5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F95-CD8E-4F81-B6F5-C0386A6C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04A-F8D2-4835-9100-55796BE9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7A7-6CE8-43BB-9E60-38EDCC3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2AF-2E36-46AF-A5AE-6FAE2CB6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4C9-69BF-472C-94D2-23CB50C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837-3CDD-4415-AF77-A91A10B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8D3-F0B2-46E3-BDEF-04FF3AA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237-2A76-4302-884B-AD6251090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534520" cy="12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Be to the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esser Doxology, 3r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81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Be to the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87480" y="2743200"/>
            <a:ext cx="717444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2:02Z</dcterms:modified>
  <cp:revision>12</cp:revision>
  <dc:subject/>
  <dc:title>PowerPoint Presentation</dc:title>
</cp:coreProperties>
</file>