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550-996E-4C92-BC77-F19FB44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CCD-7A99-4058-975A-DED9A89F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67B-041E-4DB3-93AC-666F8DFE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D46-7FF3-4A7E-A698-0235183D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BB5-EE3C-4308-9F89-8F0C58FD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5CF-5700-4ABB-9AF9-F106291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7B4-8022-4B2E-9033-91CEF354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768-EEFC-4159-893E-4B5DD178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925-0CAA-4230-BD1D-6D643A4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F58-0933-4B9C-8AB1-EAAB8976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C8F-D247-4D57-B359-72ED107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9C5-C8F3-4A66-8B0B-BEA6634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7EF-7A9C-42C8-A09F-9CBAC6636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a Balm in Gi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 (Jer. 8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ometimes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ink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k’s in vai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then the 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vives my soul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477800"/>
            <a:ext cx="861048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Don’t 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Jesus is your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f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ok for knowled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’ll ne’er refuse to l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477800"/>
            <a:ext cx="861048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f you can’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each like Pe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f you can’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y like Pau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tell the love of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y he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1477800"/>
            <a:ext cx="861048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5:35Z</dcterms:modified>
  <cp:revision>117</cp:revision>
  <dc:subject/>
  <dc:title>PowerPoint Presentation</dc:title>
</cp:coreProperties>
</file>