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E70-C751-4C15-999D-01C2A807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6D6-C799-4BE3-93E5-A5ABB9F6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2A3-CDD0-4498-A5A4-4D3C0A76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15A-CA7A-438D-8ABF-09883FD6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9A2-CCE7-43BB-843A-23D96ED3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EEC-BE00-432E-94C3-01B06563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23A-95DA-48FC-B47F-BA6EC708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92C-9629-4911-93BE-7369B569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D0A-61D6-444A-927C-8D5F566F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3C5-1499-43F1-A653-C186E136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9F2-7857-4B20-AC06-607F06B2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235-FA16-44A2-AC1D-07DBECEC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F191-EBB1-45C8-A354-BDBB2D79B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Sought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99072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ORDS: Anon., ca. 18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I sought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afterward I kne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moved my so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seek him, seeking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was not 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f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Savior tru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, I was found of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Thou didst reach fo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hand and mine enfol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alked and san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orm-vexe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was not so mu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 on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ok h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thou, dear Lord,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 find, I wal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love, but oh, the who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love is b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answer, Lord,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thou wert lo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forehand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ways thou loveds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7:15:01Z</dcterms:modified>
  <cp:revision>98</cp:revision>
  <dc:subject/>
  <dc:title>PowerPoint Presentation</dc:title>
</cp:coreProperties>
</file>