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481-4059-479A-8384-F64F2998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82B-1809-4544-A190-981618D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DD9-0095-4739-B046-438BF379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E6A-E496-42F3-9C4E-3A238BFF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961-4C4A-462B-85C6-5794312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A44-A519-4D63-8EDC-A0E0F403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C4C-B29F-4C54-A814-4A5F17F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3B1-77AF-44D7-8B2C-690121B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14F-B100-489A-B9E2-6679FFEE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134-889B-4096-985E-9477CBC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158-1E1B-4F7C-A6F9-D6BCA6B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03B-E3B6-4116-886A-A153160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26D-84F4-4833-9325-92413DD5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89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will lift you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gle’s w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you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 of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9, 1989 North American Liturg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990720"/>
            <a:ext cx="4740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you to 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d you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lm of God’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41Z</dcterms:modified>
  <cp:revision>37</cp:revision>
  <dc:subject/>
  <dc:title>PowerPoint Presentation</dc:title>
</cp:coreProperties>
</file>