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1A56-DDF2-4296-BFBF-E35A21D43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E343-C54E-46AA-AA02-5244E04AE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C996-0AB8-4CAC-9FB1-040C07167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ECFE-CAB9-4175-BC72-20B24C215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B982-D747-444F-8C8B-17A794F29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25A8-5C9B-4058-8E4E-6CE939C26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E0EE-DE22-4571-9627-470604237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099C-5CA3-4119-8398-3882F6965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295F-3F71-435A-8DEA-D7B7E7E54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09C1-DD6D-4FB8-8362-59ADB946D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DB7E-507F-4CEF-AA0B-37EA60C4E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6DA4-E254-4F35-ABD7-426A35FB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3EF89-46F3-49B6-B8CD-57032D7F71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839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Come Down, O Love Div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848720" y="304920"/>
            <a:ext cx="1295280" cy="76428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47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057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Come down, O love divin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eek thou this soul of min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visit it with thin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wn ardor glow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Down, O Love Divin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990720"/>
            <a:ext cx="71946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Times New Roman"/>
              </a:rPr>
              <a:t>WORDS: Bianco of Siena, 15th cent.; trans. by Richard F. Littledale, 1867, al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Comforter, draw nea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in my heart appea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kindle i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y holy flame bestow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O let it freely bur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ill earthly passions tur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dust and ash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its heat consum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Down, O Love Divi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let thy glorious ligh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hine ever on my sigh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clothe me roun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while my path illumin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And so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earning stro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which the soul will lo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hall far outpass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ower of human tell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Down, O Love Divi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none ca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uess its gra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ill Love create a plac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rein the Hol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pirit makes a dwell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2T16:29:57Z</dcterms:modified>
  <cp:revision>16</cp:revision>
  <dc:subject/>
  <dc:title>PowerPoint Presentation</dc:title>
</cp:coreProperties>
</file>