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D41-C4AF-4EBC-A711-1D8AC79F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36C-57B6-45A3-AB43-CA470787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7C0-5706-45E1-8257-A7761FF7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E56-7F45-4D2F-98E5-7E1AA694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D72-2443-428C-B858-0FD5B6F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385-9F01-4DDC-A61D-C708BE5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912-C4B7-4865-99BE-D414E34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236-5476-4EBA-8485-BFBA7B1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D65-CA42-4F7D-B83A-842C7ED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A83-3C00-4D47-815B-1D4EA6E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954-78CE-4E6B-87B0-BB7706D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6D8-397E-4882-BE09-A961823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8FE-5062-40EB-8B22-04B07B72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Dismiss U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 Th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dismiss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y bless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ll our he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joy 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5640" y="1676520"/>
            <a:ext cx="34923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John Fawcett, 177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ea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love poss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iumph in redeeming grac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refresh us, O refresh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aveling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wild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nks we gi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dor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gospel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e frui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y salv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ives aboun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 faithful, ever faithf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 truth may we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34Z</dcterms:modified>
  <cp:revision>10</cp:revision>
  <dc:subject/>
  <dc:title>PowerPoint Presentation</dc:title>
</cp:coreProperties>
</file>