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4DE-DEA9-4C95-94B2-A5A23813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C3A-52D2-4ED0-9EDD-C275675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BE2-E090-4B41-89F9-9AE81315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501-1AC6-4E90-9054-D3E2F5D3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B57-8C07-403B-AA1A-2F604537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724-7CD1-45EF-89A8-2111698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05D-B710-4E09-8279-16C253D8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2D3-C032-41B4-B48F-BE73058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897-0168-42F5-85C7-64346EB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26C-EEE0-4B8A-B8DE-AC5E93B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543-08E0-4C84-A12B-4DE4203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248-735F-402E-9841-18BC93F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57DA-4173-45BC-9A08-41890BD4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let us sweetly jo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ymns div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we all 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our common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6480" y="99072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and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dear expected Gu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bidd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e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self our hearts prep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sit, and banque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nctif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and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 thy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y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yself within us 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our feast a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6:44Z</dcterms:modified>
  <cp:revision>42</cp:revision>
  <dc:subject/>
  <dc:title>PowerPoint Presentation</dc:title>
</cp:coreProperties>
</file>