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564-2F1A-4D18-B9DB-A44905F2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778-B61C-43B0-85CE-838A3060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FAE-6C53-44FE-87DC-B9F351F6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6C4-C814-4FF3-976C-67B9C904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6C2-8961-4579-AA2C-6ECC7FBF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ABF-FDD0-4005-A70B-D584D466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EA4-C621-463A-BE54-2BA01051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E99-3C95-4ABC-BB79-16F6B2CF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635-3ACD-4E2C-9EB7-8536E5FD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BB5-C3AB-4CDC-892E-D5B27359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05D-6DDB-4FC3-B768-9A4733F3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1AB-6947-474D-91E1-91E93994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95FF-544C-4483-9044-63950D505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My God, I Lov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My God, I love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because I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heaven thereb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yet because, if I love no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must for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1960" y="990720"/>
            <a:ext cx="5313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Latin 17th cent.; trans. by Edward Caswall, 18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ou, O my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dids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on the cross embra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me didst b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ails and sp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nifold dis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n why, O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ld I not love thee well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for the s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winning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of escaping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Not with the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aining au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seeking a rew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as thysel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st lov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everlasting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So would I love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est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thy praise will s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thou 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loving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eternal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2:58Z</dcterms:modified>
  <cp:revision>11</cp:revision>
  <dc:subject/>
  <dc:title>PowerPoint Presentation</dc:title>
</cp:coreProperties>
</file>