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73A-FA1C-4219-8F51-3D919A50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55C-CFBC-4782-8801-23B2AE33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C13-6967-44CD-B873-0FCB0DB0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6F5-11B5-42D1-9AAE-E8259FDF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F4F-B89C-4043-A1D0-6B44377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5D3-13FC-48A3-83D2-1BA17AA8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9B9-D33B-4C98-957E-97A8B2CE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CB9-F36E-49E6-80C4-B91575A1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EE2-8606-465A-B50D-C778DA1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06A-E6F7-40DC-94F1-0B0F1AC6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C9D-2BE8-4116-89BA-CF3E7F9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FDA-24A4-4FF2-B037-DD89AD95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118E-681E-4123-965D-4397E891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Shall Re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 shall re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’er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oes its success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rneys r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6480" y="1092240"/>
            <a:ext cx="408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19 (Ps. 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desc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ongs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arth rep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ud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shore to sh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moons shall wax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wan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o Jesus e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yer be ma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dless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s h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like sw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ume shall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ver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crif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People and real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every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well on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weetest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fant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early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Blessings ab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’er he reig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prisoners lea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ose their cha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y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who su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nt ar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Let every crea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nor peculi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our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5:38Z</dcterms:modified>
  <cp:revision>18</cp:revision>
  <dc:subject/>
  <dc:title>PowerPoint Presentation</dc:title>
</cp:coreProperties>
</file>