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63C-677E-41E0-87E5-8099BD03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E3D-3B9C-494D-AAE5-F18045B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301-F91A-480B-AE08-842D88AF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B28-2A70-490C-8254-E917A65B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0E2-49D3-4942-8C35-308930B6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8CF-F699-4555-A049-97FBB58F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D9B-1C45-4E3E-96DD-82194332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F62-EEDA-4388-8E83-215DA9DF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84A-863F-4313-892C-B7C4CCE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29A-3F87-4CD7-BF56-05D23242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888-4C19-4EE0-B416-B4FBE82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BC4-1AE2-4300-9F1F-32B6A37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600-B46E-4380-86C8-01DB502CB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Is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, 1968, al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Christ is alive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et Christians s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is cross stands empt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75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ill earth and al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reation r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joy, with justi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et streets and hom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praises r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is love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eath shall n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Christ is alive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longer bou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distant year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 Palest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comes to clai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here and n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dwell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ery place and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Not throned afa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emotely hig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ntouched, unmove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y human p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ut daily,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midst of lif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ur Savior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Godhead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In every insul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ift, and wa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re color, scor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r wealth div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suffers still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yet loves the mo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ives, thoug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er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5. Christ is a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comes to br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ood news to t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every a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32:11Z</dcterms:modified>
  <cp:revision>76</cp:revision>
  <dc:subject/>
  <dc:title>PowerPoint Presentation</dc:title>
</cp:coreProperties>
</file>