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F8C-7BD4-4EA8-900B-886EC052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B50-0974-45F5-B1A1-753E24E4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1CE-CEBD-4A31-BA94-FCA4BC26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863-A0A7-4EA5-9C0A-E45A9C43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850-C30A-40BE-8947-E0947FDB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848-893F-4DF7-A048-39179552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6D4-D1D3-4459-869C-42B6A8CB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D9A-F63C-48E8-9449-0BA6D8EC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E2E-23DE-4369-B0C0-AB771775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50B-220F-47CC-B28B-903B200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E2A-AABA-426E-A9F3-2E84830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4F7-4E44-4BC7-921B-168077E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A484-E82C-4660-A733-7D53B1833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Word of God Incar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Word of God incarn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Wisdom from on h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ruth unchang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cha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ight of our dark sk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illiam W. How, 18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you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adiance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hallowed p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antern to our footstep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ines on 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 church from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ceived the gift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ill that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lif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’er all the earth to s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the sac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essel 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ems of truth are stor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-drawn pic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hrist, the 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Scripture is a bann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G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st unfurl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a shining beac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the darkling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the ch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pas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’er life’s surging t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d mists and roc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quicks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, O Christ, will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O make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amp of purest g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ar bef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true light 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each your wande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ilgrims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their path to t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, clouds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end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ee you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50Z</dcterms:modified>
  <cp:revision>99</cp:revision>
  <dc:subject/>
  <dc:title>PowerPoint Presentation</dc:title>
</cp:coreProperties>
</file>