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EA6-A3C1-4E68-9409-A4321C1C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D82-9C39-4B6C-80B1-6FB30E2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E89-E680-4E50-8EFB-E72623C2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7FE-2467-422F-9DA9-2F07FFD2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AB2-3D86-41E2-BA72-6DB0C60B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0CE-BA1C-4145-BCA0-295D818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ABF-5DE0-47F5-90B5-BB60685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3E2-2FD4-4C3B-BDD2-2C69A34D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000-F103-4D8A-B736-A82B6A5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D34-28FB-450E-B14B-D125A63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75E-C2C9-4526-9D66-48E4CA2D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665-8FD4-4E80-8858-7E8901D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D9E-BB9D-4A07-8660-000C9DCC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o the Lord’s Ano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reat David’s greater Son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il in the time appoint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reign on earth beg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0960" y="1028880"/>
            <a:ext cx="4472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mes Montgomery, 1821 (Ps. 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comes to brea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ppressi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et the captive fre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ake away transgressi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rule in equ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He comes wi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uccor speed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ose who suffer wrong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help the po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bid the weak be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give them song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sigh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ir darkness turn to l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se soul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ondemned and dy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precious in h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He shall come dow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ike showe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pon the fruitful earth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joy, and hop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ike flower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pring in his path to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 the mountain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all peace, the herald, go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righteousnes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fountain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hill to valley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To him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ayer unceas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daily vows ascen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kingdo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till increas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kingdom without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tide of tim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all nev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covenant remov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tand foreve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at name to us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2:44Z</dcterms:modified>
  <cp:revision>52</cp:revision>
  <dc:subject/>
  <dc:title>PowerPoint Presentation</dc:title>
</cp:coreProperties>
</file>