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6E62-0B0D-48C0-8D0E-17CB72F52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CD32-D642-4F12-9637-67CE53B11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5B5D-DEB7-4530-92C3-F62007406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B8D2-3548-4028-B773-3990ED8E9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3A40-1848-4DDA-A792-ABF481D2F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9F08-E766-430B-8613-3B78E98DB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4573-7FEA-46F7-830A-CE779875A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E733-76B3-4D31-9E31-B437F7F4A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862C-3A3F-43AD-A843-2C35E4004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DC23-6D06-45B8-A455-4041028D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4CB8-410F-44F0-A074-25203BB5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A75C-27DE-49EB-87C4-F896A3DB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88DF1-0B5D-4C34-B797-3E429AB061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tany for Christian Un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5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1736640"/>
            <a:ext cx="8458200" cy="464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Let us ask the Lord to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strengthen in all Christians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faith in Christ, the Savior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of the worl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Listen to us, O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By permission of The Crossroad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tany for Christian Un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42720" y="1066680"/>
            <a:ext cx="48394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Karol Wojtyla (Pope John Paul II), Poland, 20th c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1735200"/>
            <a:ext cx="8458200" cy="339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Let us ask the Lord to sustain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nd guide Christians with his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gifts along the way to full unit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Listen to us, O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1735200"/>
            <a:ext cx="8458200" cy="339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Let us ask the Lord for the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gift of unity and peace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for the worl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Listen to us, O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455760"/>
            <a:ext cx="8458200" cy="5943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Let us pray. We ask you, O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Lord, for the gifts of your Spirit.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Enable us to penetrate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 the depth of the whole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 truth, and grant that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 we may share with others 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 the goods you have put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 at our dispos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820800"/>
            <a:ext cx="845820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each us to overcome divisions.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Send us your Spirit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to lead to full unity your sons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and daughters in full charity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in obedience to your will;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through Christ our Lord.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6:59:28Z</dcterms:modified>
  <cp:revision>34</cp:revision>
  <dc:subject/>
  <dc:title>PowerPoint Presentation</dc:title>
</cp:coreProperties>
</file>