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F73-F1CA-4C36-9F41-71B35785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BFE3-09C2-4F43-B0BD-5D8A2A25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885-89B7-4BD7-8617-7D1D5F3B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E5F-4270-4FD6-9805-A15219C5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5D0-7D71-41E9-B31E-96E54085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B57-8AC9-4E6F-8304-61F932B0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1714-9012-4D35-AEE9-69B7E11D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67DF-AEE1-49DE-955F-3C84114D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AEC-D5C9-49FD-9CD3-F984C57B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849-921A-47C8-B47F-6A407F0A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74B-A36C-49BF-93B8-D01D64B4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E9D-49EC-454E-A133-6E142591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F8DA-FFFE-4D4B-A452-976EC4274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All the Spirit’s Gifts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Fred Pratt Green, 1979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4285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  <a:ea typeface="Arial"/>
              </a:rPr>
              <a:t>1. Of all the Spirit’s 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  <a:ea typeface="Arial"/>
              </a:rPr>
              <a:t>gifts to m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  <a:ea typeface="Arial"/>
              </a:rPr>
              <a:t>I pray that I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  <a:ea typeface="Arial"/>
              </a:rPr>
              <a:t>may never ceas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clearest purpo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to sh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, joy,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ake and treas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st these thre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, joy,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The Spirit show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ve’s the roo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every gi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nt from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every flo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every fru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God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he Spirit sho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f I poss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 love no evi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an destro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ever gre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my distr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this is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Though what’s ah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s myste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life itsel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s ours on l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day th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s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Go forth in peac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We go in pe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t made aw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, in a need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orld like thi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8:27Z</dcterms:modified>
  <cp:revision>93</cp:revision>
  <dc:subject/>
  <dc:title>PowerPoint Presentation</dc:title>
</cp:coreProperties>
</file>