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3FF-7539-4EB4-A155-6091CADE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896-B595-4DB5-AB35-2AE3ABD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BBF-9DEC-4CEC-B169-3FAA91B0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D6A-645D-4711-9278-8AF22495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9BE-642B-49DB-92EA-3E19CFA9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014-D3A7-4870-AAC6-FC476D4C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60D-CD22-4E18-B456-8DE92418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C4D-11A4-4A35-9934-2A64CD3A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A37-1474-4CAA-9DC2-30CE4C95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F1B-2BF8-4E3A-882F-AD98B515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CE9-1396-4F4A-88B5-9B66B5F3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350-C90F-43BB-92D5-7C525804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D68F-4068-439F-BEEA-9A79CFE1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Head Tha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ce Was Crow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homas Kelly, 1820 (Heb. 2:9-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14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e head that o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s crowned with thor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crowned with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65840" y="4038480"/>
            <a:ext cx="6412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rofi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joy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ystery 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The cross he b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life and heal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sham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ath to h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79080" y="3962520"/>
            <a:ext cx="658764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’s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’s weal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everlasting the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60960" y="3048120"/>
            <a:ext cx="4225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oy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adem ador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ctor’s b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e highest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eaven aff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long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09880" y="3124080"/>
            <a:ext cx="51260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rd of lo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The joy of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well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joy of all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18880" y="3429000"/>
            <a:ext cx="51062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nifests hi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nts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to k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To them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ll its sh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ll it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98080" y="3429000"/>
            <a:ext cx="49478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name 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jo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They suffer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Lord bel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y reign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30Z</dcterms:modified>
  <cp:revision>85</cp:revision>
  <dc:subject/>
  <dc:title>PowerPoint Presentation</dc:title>
</cp:coreProperties>
</file>