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EA6-6FB4-43A8-A1A1-0303E1E6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763-37B4-4685-A2F9-E54A0A86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917-DB8C-4573-8E87-92B3D1B3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008-F945-41CD-AAAD-383CD251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3B2-12B3-4230-8D7A-D9D7F7A1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D8F-B6D8-49CE-9161-27091A41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378-A10D-4664-81C8-FD46E548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846-A2E2-4D50-A2C1-81D89B5F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019-96EB-4AC4-A5D8-8DA0AD77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B6D-0953-4B94-863C-53067428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4B1-DF7D-441E-B6CE-0A67CC8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2D9-5B95-4479-B858-953F835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323C-7C5F-4227-9BCD-90311ABE9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od Fr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ciously behold this your family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whom our Lord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Christ was will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be betrayed into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hands of sinn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Fri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7080" y="914400"/>
            <a:ext cx="41065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Book of Commo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o suffer dea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upon the cros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now lives and reig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ne God, for ever and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1:04:20Z</dcterms:modified>
  <cp:revision>18</cp:revision>
  <dc:subject/>
  <dc:title>PowerPoint Presentation</dc:title>
</cp:coreProperties>
</file>