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C70-56A3-4AC0-9A92-0DC2DA09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CE0-9827-4561-8F0C-83587C8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7CB-CAD6-4AE4-9107-2FAF4722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EDD-3E90-42E7-9A89-2153E98B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4EE-FD14-476D-9700-AC4A3B90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7CC-D5F8-4243-9359-9D2803D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5C-9C07-4D93-A27A-16A3708E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63F-C79D-4753-AFD1-0B182AE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A7-DFB5-4A41-A77D-B9B6E460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A46-439D-45AA-BB26-BFD02A8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B2A-864E-4AE5-8084-3EE7EBB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245-4E36-41A2-ABE0-0E40513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9564-0EB1-4CA6-B7EE-D4773F1CA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ake the na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Jesus with you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ild of sorrow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of wo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8120" y="1066680"/>
            <a:ext cx="3965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is lo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s recei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is so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ongues emplo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t th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b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ing prostr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g of k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eaven we’ll crow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ur journ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1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ake th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shie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y sn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tempt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nd you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e that ho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of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it thr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ouls with j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01Z</dcterms:modified>
  <cp:revision>8</cp:revision>
  <dc:subject/>
  <dc:title>PowerPoint Presentation</dc:title>
</cp:coreProperties>
</file>