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319-7137-4451-B8D6-4D6075EA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DF1-31DF-4DDF-A9AE-78F2DD0D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8F3-D118-4E8B-8177-B1E83AA2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3DA-649F-4505-8736-85FF5C26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78E-9ECA-4637-AA0B-A554D4B9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6DF-EAD3-48F0-9510-9EB3CB62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7EB-5401-4457-8831-155E3590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60F-8713-43E6-9EBC-2297FA53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EB1-3B4D-48AB-BF48-4258C179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012-CFF4-46E0-AA20-EEF8655E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0FF-C2A4-4AED-BCE5-FBAC577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B77-191A-4080-9671-A9F663F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233F-DC4F-4EC4-B639-754295EED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d December Flies Awa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el F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o Inve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129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1. Cold December flies awa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rose red splendor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pril’s crowning glory break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the whole world wond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78 Lutheran Book of Worship; Spanish trans. © 1987 Skinner Chávez-M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5840" y="1676520"/>
            <a:ext cx="608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atalonian carol; trans. by Howard Hawhee, 1978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anish by Skinner Ch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vez-Melo, 1987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En el frío inv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l mes de diciemb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capullo del ros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ota en un pese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nvernal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l calor primaver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ce al mundo despert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qué fragante ol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 tan bella fl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5904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sa anhe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l ja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 d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as tinieblas del 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uyen prontame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 mañana deja 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l resplandecient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nvernal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nocturna oscurid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sca el mundo clarid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qué felicid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ta Navid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z divi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 mundo ilumin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Va el capullo a florec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a blanca y pur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 fragancia va a ofrec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toda criatur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nvernal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e aroma sin igu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va vida da al m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de Dios el d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mo galardó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do ha d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su Hijo ama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holy unseen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bears the flow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blessed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ooms the reddest fl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ooms the r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n love’s own gard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and strong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n the hope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me of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dows deep had falle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y undern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yes were clo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sl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, when all see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st in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me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golden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s unending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s the endless jo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ghest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hope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ght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beloved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Now the bud h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to blo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world awaken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lil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st flower dwe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wondrous fragr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spread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mo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its bi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s beauty liv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flower it li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fl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sprea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its heavenly brigh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weet perfume delightf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6:42Z</dcterms:modified>
  <cp:revision>79</cp:revision>
  <dc:subject/>
  <dc:title>PowerPoint Presentation</dc:title>
</cp:coreProperties>
</file>