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52F-B875-4F0C-8D40-E91CD8AE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0BC-720C-4D56-85DB-C793D3F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4AE-3CA6-416A-AE4E-A6ED6A74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038-4409-4124-B575-0393393B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E26-D133-4627-86B0-BF9049D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5D4-0483-45B1-8448-74FB887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F9C-0ABE-4153-BA8A-7AE9A828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2D3-C075-4B5A-AAB2-7803037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6CC-A196-43DC-AF39-582FEB6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510-42B8-48A8-ADCC-BF07D5B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A4D-4AF0-4765-AAB1-0FD8E57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E07-7160-4C48-9444-F3BC4FF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174-1206-4018-80D6-2AC767C1E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Ex. 3:7-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Israel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Egypt’s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pressed so h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could not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As Israel st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water’s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did div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7. When they had reac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ther sh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a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riumph o’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8. O Moses, the clou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leave the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et my people go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ire by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hade b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9. Your foes sha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you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’ll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r Canaan’s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0. This world’s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of wo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us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anaan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1. O 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bondage fl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193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“Thus saith the Lord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ld Moses s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if not, I’ll sm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firstborn dead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 more shall th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ondage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m come 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gypt’s sp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need not al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ep and mo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ar those sla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ins forlo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Come, Moses,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not get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tch out your r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e a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8:13Z</dcterms:modified>
  <cp:revision>148</cp:revision>
  <dc:subject/>
  <dc:title>PowerPoint Presentation</dc:title>
</cp:coreProperties>
</file>