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437B-843C-4FF5-932F-2724FD05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B00F-EFAB-4FEC-9B97-0B06B705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CA29-DBD4-4274-B217-2B6C058E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19BC-5F40-4012-B882-42C2F465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81D8-FB2F-4371-A06A-EFF46C4C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FD7E-55CB-4151-A222-E08D94E6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DD57-93B5-4263-9F52-6949D4B2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18D2-CD1E-4C98-B970-22EDE39E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25AD-8C18-4A00-8AA2-FE6CD215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E7BD-154B-4A19-AD40-07834416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7902-BEFF-4FBE-9269-291A933C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6254-6ED3-4529-8124-0C9677DC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3F2F-167F-4C52-9C60-1298C791E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r the Healing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 the N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For the heal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nation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we pr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one acc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68 Hope Publishing C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Healing of the N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6320" y="1600200"/>
            <a:ext cx="3984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Fred Kaan, 1965 (Rev. 21:1–22: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ide of stat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ace, or school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gmas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bscure your pl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477800"/>
            <a:ext cx="9144000" cy="375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our comm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quest for justi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we hall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fe’s brief span,</a:t>
            </a:r>
            <a:br>
              <a:rPr sz="5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life’s brief spa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we hall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fe’s brief sp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You, Creator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, have writt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great n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humanki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Healing of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our grow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your like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ing the life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rist to mi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477800"/>
            <a:ext cx="9144000" cy="375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by 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sponse and servi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rth its destin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find,</a:t>
            </a:r>
            <a:br>
              <a:rPr sz="5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may fin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rth its destin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f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a just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qual shar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th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earth affor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298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a life of love in ac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lp us ris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edge our word,</a:t>
            </a:r>
            <a:br>
              <a:rPr sz="5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pledge our wor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lp us ris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edge our word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Lead us forwa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to freedom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despai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world rel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Healing of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, redeem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war and hatr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may co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o in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75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w us how thr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re and goo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ear will die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ope increase,</a:t>
            </a:r>
            <a:br>
              <a:rPr sz="5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hope increas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ear will di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ope incr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All that kil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bundant liv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it from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rth be bann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Healing of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20:40:16Z</dcterms:modified>
  <cp:revision>19</cp:revision>
  <dc:subject/>
  <dc:title>PowerPoint Presentation</dc:title>
</cp:coreProperties>
</file>