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07D-4855-4763-8871-8E41A27D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CE8-1835-43A1-87F5-F52FA150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1AD-2089-4FF2-9697-07361870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4B9-48CD-465C-A4CA-CA3FA92A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85C-1310-487B-B604-C4D4C115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B94-2E16-437B-B353-B2EEE41E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CBC-377E-4800-BBC7-AA754776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351-44B6-448E-AE79-2F756346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9D0-B1D6-41B0-A9F8-CB29463B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53A-423C-4656-B334-5384CAC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E3A-B1B1-460B-9F4B-9AA4FE7E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D68-DECE-4C8F-B6FF-967D3962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D54C-BDDA-4D30-9613-38288980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Little Town of Bethle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O little town of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w still we see thee li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y d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dreamless sl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lent stars go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2440" y="1066680"/>
            <a:ext cx="41446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Phillips Brooks, ca. 18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t in thy d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reets shin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everlasting l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pes and f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y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e met in thee to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or Christ is born of M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athered all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mortals sl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angels k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watch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morning stars toge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claim the holy b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eac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on ear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How silently, how silent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ndrous gift is g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God imp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uman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less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his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ear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 his com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in this world of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meek souls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ceive him, st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dear Christ enters i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O holy Ch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scend to us, we pr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st out our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nter 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 born in u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mas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eat glad tidings t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to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bide wit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Lord Emmanu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3:58Z</dcterms:modified>
  <cp:revision>76</cp:revision>
  <dc:subject/>
  <dc:title>PowerPoint Presentation</dc:title>
</cp:coreProperties>
</file>