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4D63-7D15-48B6-BFB5-4ECBAD5C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2A62-6246-4D9C-9406-FA8E1550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0F1D-441B-4373-B000-C63455EC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C59F-1C0D-4142-B453-D9212B65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5EF-9954-4A55-89B3-D0C67234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E0BB-9CF7-4222-A466-2A3FC558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3DD8-8AE8-4666-BF9A-50AEF650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93F0-E42C-41E3-B16E-87027B89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6131-D499-42E9-9ED7-CF03C26A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AEBE-8C37-4D9E-A0B3-9DE48B05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20A8-4F42-4932-A751-45721D82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C16-A124-4F94-A3F2-B917186B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A6E6-F277-46B7-A5B3-BF0E641A3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d of Grace an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d of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God of g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d of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y peo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ur thy pow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 by permission of Elinor Fosdick D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 Harry Emerson Fosdick, 1930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Save us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ak resign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evils we depl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sear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y salv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our glory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 us wisd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 us courag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rving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m we adore,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 adore)</a:t>
            </a:r>
            <a:br>
              <a:rPr sz="48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rving thee whom we ad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own thine anci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urch’s stor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ng her bu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lorious flow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 us wisd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 us courag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fac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is hour,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of this hour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facing of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Lo! the hos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evil round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corn thy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sail his way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ar and doub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o long have bound 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ee our hearts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k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873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 us wisd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 us courag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li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se days,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of these day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living of these d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Cure thy children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rring ma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nd our pri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y contro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me our want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lfish gla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ch in th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oor in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 us wisd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 us courag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st we miss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dom’s goal,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kingdom’s goal)</a:t>
            </a:r>
            <a:br>
              <a:rPr sz="48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st we miss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dom’s go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7T14:54:40Z</dcterms:modified>
  <cp:revision>84</cp:revision>
  <dc:subject/>
  <dc:title>PowerPoint Presentation</dc:title>
</cp:coreProperties>
</file>