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D41-45FB-4398-8232-DBB03C7C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B1D-6490-4520-BDEA-C53B245B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2B2-57D4-4694-8D2F-38B690C7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9EB-D326-4673-A5BD-F053DC6A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C62-09C1-45EF-B883-8140A9EF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9E5-EF5F-4E33-B5D8-40011B46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7D5-B71C-4247-A4F7-7D433050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6D8-31AA-4ABC-9625-48977E80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808-15C0-4FF6-A3AD-B73A3270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F2F-F08D-47F9-BAED-5DB193DC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DE4-C029-4E2C-9C3A-10275CCB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BA6-BF75-4E81-878E-60566C7E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F657-8A8C-4099-8EA1-DE1DC4DF9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esus, United by Thy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Jesus, united by thy grac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each to each endeare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th confidenc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seek thy fac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know our prayer is hea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elp us to hel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’s cross to bea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ll their friend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id aff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eel each other’s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Up un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living H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in all things gr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thou hast ma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free inde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potless here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ouched by the lodest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y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ll our hearts ag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ver tow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ver move towar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o thee, inseparably joi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ll our spirits clea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may we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ving m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as in thee rece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This is the bo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erfect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spotless charit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et us, s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y, poss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ind that was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09:41Z</dcterms:modified>
  <cp:revision>68</cp:revision>
  <dc:subject/>
  <dc:title>PowerPoint Presentation</dc:title>
</cp:coreProperties>
</file>