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6F9-80F1-4835-9BF2-2685DBB2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58C-EA2D-4801-A78A-70F4635F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E52-EA5A-44AC-9DE7-A25624E0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365-6DB6-40CA-97E0-1A9A5FF5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ED8-1C11-4B78-A331-EBB14E13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1A0-AE21-4BC4-904B-CDE3ED90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805-80C3-4565-BE52-E4E55E44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038-0510-4361-A0AB-6F6368D0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582-DBFA-461F-BCF5-01A4BBEB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409-3133-4E6D-9138-FA39321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3E0-7F67-4F2F-B092-61D90E1B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279-1056-4954-B63B-AB2C9621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560A-8AAA-4071-842E-0C8ABC637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, Sweet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Doris Akers, 1962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596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a sw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Spirit in this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 know that it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Spirit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2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52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are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xpressions on each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y feel th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Holy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heavenly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y right here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ing us with your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7920"/>
            <a:ext cx="2133720" cy="7034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these bles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 lift our hearts in prais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out a doubt we’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we have been reviv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ave this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34Z</dcterms:modified>
  <cp:revision>92</cp:revision>
  <dc:subject/>
  <dc:title>PowerPoint Presentation</dc:title>
</cp:coreProperties>
</file>