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D76F-DB46-4C79-B818-C466D25F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1E9-999E-4323-8E05-DF3042E6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2584-9C45-4222-B33E-0012C19A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2DA-2E13-4490-8EF2-772BAF81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C9F-2D9B-452C-9A7D-8835F2E5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10A-8587-4520-AF8D-94511F82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4AA-9783-4D7F-8AC3-6CED5C29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87B-D651-4F19-8D9A-C0B58982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30F-3914-4865-A65B-3ED94F02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AB59-4B1C-45E2-A961-DF6D39A1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81A5-D0D2-4EE9-A15B-D592D415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9933-FED8-48BA-B2DC-716D992E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D3F5-7273-499C-AE17-D38982FFB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Mighty Fortress Is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A mighty fortr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our God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bulwark never faili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helper he amid the f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mortal ills prevai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7920" y="1066680"/>
            <a:ext cx="7881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Martin Luther, ca. 1529; trans. by Frederick H. Hedge, 1853 (Ps. 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still our ancient fo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th seek to work us wo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craft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ower are grea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rmed with cruel ha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earth is not his equ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193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Did we in our ow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ength conf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triving would be lo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re not the right m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our s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man of Go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wn choo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st ask w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ay be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rist Jesus, it is h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 Sabaoth, his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age to age the s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 mu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n the batt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907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nd though this wor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devils fill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uld threaten to undo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ill not f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God hath will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truth to triump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6668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rince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rkness gr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tremble not for him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rage we can end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lo, his doom is su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ittle w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fell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6668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hat word ab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earthly powe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thanks to them, abideth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pirit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ifts are ou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him w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us sid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goods and kindred g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mortal life als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ody they may kil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truth abideth stil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kingdom is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5:39:12Z</dcterms:modified>
  <cp:revision>27</cp:revision>
  <dc:subject/>
  <dc:title>PowerPoint Presentation</dc:title>
</cp:coreProperties>
</file>