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11B1-7DDB-4939-9BD5-7A392C0B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0B9B-DD91-44DF-9EF9-256E20BF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A6D7-1433-499D-8D09-AFB9D7BA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EE35-2FF4-4945-8680-337CEC28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A65-87C5-43D7-8947-B6D49527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466-5403-40D9-9BCE-DCA148C3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CB1-8DF0-46EB-B458-4454C657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97D-B4C3-48A9-8254-80AD5FBF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EC3-E808-4454-B563-3E68CA1A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2FEF-6909-4BC7-8795-70671AA5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49D-2F92-4054-87D1-AB238123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2F3E-56FB-4111-9C73-FD3D8342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0D96-B61E-481E-A67B-8E93C793A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the Beauty of the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For the beau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glory of the sk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from our bi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ver and around us li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0160" y="1066680"/>
            <a:ext cx="40626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Folliot S. Pierpoint, 1864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we 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our hym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rateful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For thyself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st Gift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world so freely gi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at great,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of t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ace on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joy in heav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we 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our hym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rateful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ommunion 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Christ, our God,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to thee we raise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this our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sacrifice of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union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we 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our hym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rateful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or the beau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each h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day and of the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ll and vale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e and fl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n and moon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s of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we 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our hym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rateful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For the joy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 and ey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ind’s de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mystic harmon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nking sen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ound and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we 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our hym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rateful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For the joy of human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other, sis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rent,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iends on earth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iends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all gentle though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i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we 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our hym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rateful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For thy church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everm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eth holy hands ab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fering up 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sh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 pure sacrifice of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36:34Z</dcterms:modified>
  <cp:revision>9</cp:revision>
  <dc:subject/>
  <dc:title>PowerPoint Presentation</dc:title>
</cp:coreProperties>
</file>