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9D5-3660-45A8-B4DD-ECE84A33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21B-1E1D-4FC3-B144-ED20356D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18F-FFE9-437F-90B7-D1EB709E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A37-91F1-476B-AE2E-A4338EE5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855-0E4E-42AB-8ACE-E22CEA71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FEE-BA8A-4E8C-B101-E0AAB3EA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479-10B2-4249-BB47-E7B8F2E9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111-AE3B-428F-A210-C7BE919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DB1-B8C9-4E28-8420-2B86E1D1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09B-B8EC-4021-86BC-3CF4222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CC8-24D8-4CB2-B789-4559995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599-43D4-4BA2-9257-6CC7B20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C7A8-5157-40EC-B184-27943356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ove Divin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Hast Thou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hast thou do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immortal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die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eternal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e all my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immortal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e hath di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s crucifi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and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ring us reb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ck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ieve, belie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ecord tr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all are b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esus’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don fo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s from his sid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ye that pass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eeding Pri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and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sinn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your Savior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y, “Was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like his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feel with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appli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22Z</dcterms:modified>
  <cp:revision>48</cp:revision>
  <dc:subject/>
  <dc:title>PowerPoint Presentation</dc:title>
</cp:coreProperties>
</file>