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C95-0B21-4874-BCCA-ACFEF982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21B-DF2D-4E18-86FE-EABF40DA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B79-C630-4FDA-97A8-5834F660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04D-3B53-4283-B47A-36E0E69F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DAC-CDE4-4D73-A658-D1DA91EC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911-D062-4823-AD90-EB236F92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D8F-BFAF-4C9D-A07F-E8493028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770-2822-4A2F-8801-9C59299F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E84-D345-4DAA-AB38-BF9E02DA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C79-D8CE-44D0-B282-DC3D9F73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4F5-FB1C-45B1-B066-62467614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9A9-5C3B-43BD-9375-42B1319C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A6E8-DD72-48BB-83F3-C0CAE279A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Day of Resur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ohn of Damascus; trans. by John Mason Neale, 186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1. The day of resurrection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arth, tell it out abroa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 passover of gladnes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 passover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rom death to life eternal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rom earth unto the sky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ur Christ hath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brought us over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ith hymns of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352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2. Our hearts be pure from evil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at we may see aright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 Lord in rays eternal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f resurrection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nd listening to his accent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may hear, so calm and plai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his own “All hail!”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nd, hearing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may raise the victor str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74320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3. Now let the heavens be joyful!</a:t>
            </a:r>
            <a:br>
              <a:rPr sz="4800"/>
            </a:b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Let earth the song begin!</a:t>
            </a:r>
            <a:br>
              <a:rPr sz="4800"/>
            </a:b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Let the round world keep triumph,</a:t>
            </a:r>
            <a:br>
              <a:rPr sz="4800"/>
            </a:b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and all that is there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Let all things seen and unsee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ir notes in gladness blend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or Christ the Lord hath rise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ur joy that hath no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2:20Z</dcterms:modified>
  <cp:revision>60</cp:revision>
  <dc:subject/>
  <dc:title>PowerPoint Presentation</dc:title>
</cp:coreProperties>
</file>