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ECF-7720-4B40-A766-F128739E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991-A4E6-46D3-9253-5CD5B0E1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E27-EC70-4DD2-8609-76198987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97A-5D21-44DC-A694-6A0AA39B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0DB-8913-44AF-A2C3-4DEC9F4B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EC9-067E-4F1C-99A8-D23C7A69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6C6-E51D-4284-B001-6CA5FC0A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104-FAEE-4F1C-8E8D-6F056630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73D-9DC9-4AE9-8209-77F17DE0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AB9-5336-455C-9DE1-D4AD41E1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866-7079-4B06-8A68-A6A8A116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0EE-DD80-4A96-AEC4-92463A2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DB1B-8751-471D-9440-B3715D29B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is Finished! The Messiah 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’Tis finishe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essiah d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ut off for s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0666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Charles Wesley, 1762 (Jn. 19:3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omplished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crif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eat redee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k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veil is ren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 al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ving 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ven is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iddle w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broken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enter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’Tis finishe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y guilt and p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n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crifice be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e, for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 is sl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finishe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just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 reign of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ath is o’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may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in set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tan hath l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mortal pow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swallowed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9:35Z</dcterms:modified>
  <cp:revision>45</cp:revision>
  <dc:subject/>
  <dc:title>PowerPoint Presentation</dc:title>
</cp:coreProperties>
</file>