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482-65F7-48D7-A781-C2176835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268-7E61-41E2-BC80-321CBEA6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9F8-0E12-4709-8C5D-85F008D1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5F0-82DA-4CA1-8C0A-76F94E51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EA0-469B-4F0D-8DA9-3EDA232F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464C-315C-4193-B28F-2F1F6265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4AB-43AD-4F37-94D4-9A433218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4DAC-DE93-4587-82FD-F876A444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D2D-B722-4195-9DED-8D472792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316F-C43D-466A-8BCB-4B7A1B55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1EA-C86B-4FF4-BD11-95B23374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006-25BE-42E9-BCA6-78C9D22B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8F81-C698-400F-A8EE-E20D14B5B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Lord, Have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ord, have mercy.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ord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Have Mer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73560" y="990720"/>
            <a:ext cx="239508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ncient Greek</a:t>
            </a:r>
            <a:r>
              <a:rPr b="1" lang="en-US" sz="21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743200"/>
            <a:ext cx="86868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Christ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Christ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ord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ord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146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Kyri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Kyri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68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Christ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Christ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668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Kyri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Kyri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0:45Z</dcterms:modified>
  <cp:revision>25</cp:revision>
  <dc:subject/>
  <dc:title>PowerPoint Presentation</dc:title>
</cp:coreProperties>
</file>