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5E0-1878-4CAF-8D59-BCAC0200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A3B-DE42-42D7-B40F-245818D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E14-9468-4097-972A-F06C35CE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49B-B1D2-4E53-BEEE-F157C79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62B-ED77-4089-AB43-1173C03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6C3-C57C-4667-A986-B9762F92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357-1A86-4170-AAFF-B771034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853-0E4C-41DF-BD13-5B831BE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0ED-94D3-42E6-AA8D-5D975FD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A2D-E33B-4077-A241-B4ADA68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D20-7174-4BA0-A3BB-5CF9DCC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241-A864-4F9E-8157-4B5E35C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7329-3D6C-49DC-AA97-4D257ABE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Stand Amaze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 stand amaz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the Nazar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4280" y="1600200"/>
            <a:ext cx="4501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H. Gabriel, 1905 (Lk. 22:41-4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omfort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orr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re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that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e took my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r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ade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very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 to Calv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uff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ie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hen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nsomed in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t last shall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will b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through the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der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ould lov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inn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demned, unc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or me it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ga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rayed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Not my will, but thin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d no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is own grief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sweat-dro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bloo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p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beheld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m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of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1:58Z</dcterms:modified>
  <cp:revision>21</cp:revision>
  <dc:subject/>
  <dc:title>PowerPoint Presentation</dc:title>
</cp:coreProperties>
</file>