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62F-CDD6-49BC-8819-C2C32CB2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5DB-0365-4B63-A395-7EA4A3E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BE5-9C6D-46B0-8B05-3D38BCD9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499-DC5A-484D-A42C-5B852AF5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3DC-1A9E-454F-A4C2-A91221DF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7A0-7D04-40B0-85A4-8FB85C09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132-1C79-41F5-B86A-F4724435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A34-3648-4891-8E4F-B636022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22B-ABBB-4D1C-95F5-58FBD41E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2AE-FDE1-4237-ABC6-4D76276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361-614B-444B-BA67-5F3398C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DA5-BE8F-4A73-9B69-6BA485B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F7ED-2B92-4696-B5EB-173EC1DAD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, You Have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Lakeshore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WORDS: Cesareo Gabara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74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Lord, you hav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the lakesh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ooking neithe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for wealthy nor wise on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765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526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6:48Z</dcterms:modified>
  <cp:revision>105</cp:revision>
  <dc:subject/>
  <dc:title>PowerPoint Presentation</dc:title>
</cp:coreProperties>
</file>