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FCFF-BB95-4E45-9D35-86E921A2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C05D-0DE6-4144-9039-B4B74645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D950-70FE-4BA5-8B71-069AD0F8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7BB3-E036-4781-97CE-BD91D140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967A-D9EC-4402-B1A4-F489ECE0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DACF-B76D-40BB-A6F4-CFE92F82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0609-43A6-4CDF-8041-88D5610C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DC69-C153-467C-9C50-AAB75C74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BCAB-7346-4E01-8966-677C6845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9CA8-8CDD-4BD1-9F6B-58A91510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2E4E-A798-4CF0-B60A-631C8D56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DAF3-AD1F-4626-8E2C-442179B3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9F2C-6BCE-467B-8A22-B98880149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wing Low, Sweet Chari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 carry me ho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 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49480" y="1143000"/>
            <a:ext cx="50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 (2 Kg. 2: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75248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 carry me ho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 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he brightest d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I can s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rry 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ins aw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288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 carry me ho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 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I looked over Jord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hat did I 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rry me ho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band of ange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after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288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 carry me ho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 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If you get th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I 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rry 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ll all my frie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coming to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288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 carry me ho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 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I’m sometimes u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sometimes dow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rry 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still my so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els heavenly bou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9:42Z</dcterms:modified>
  <cp:revision>48</cp:revision>
  <dc:subject/>
  <dc:title>PowerPoint Presentation</dc:title>
</cp:coreProperties>
</file>