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2CE-9894-4405-AD88-B18460B4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F77-5F63-4403-BCD3-3898E78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859-ABCD-4477-8CBF-0081C0DF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CB8-B98A-4A63-ADB7-4F61D480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45F-630A-4CB1-9394-735090E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FD6-4FD4-449A-A215-0E653E4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0E0-E3AA-4100-B577-7119197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056-CC77-41B9-998D-7529BED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2FB-A537-4010-BE49-E5D8DECF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A5D-E484-4AAF-81BB-EFFCFDB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26F-0F47-44D8-8C61-77DDF64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C9C-2556-4697-8160-A0DE745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C32-43AC-4D8B-8F29-C3E49BE03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Is the D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ord Hath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Lord hath mad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 calls the hours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the Lord Hath M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14040" y="1600200"/>
            <a:ext cx="3722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Isaac Watts, 1719 (Ps. 118:24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heaven rejoi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earth be gla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praise surrou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04Z</dcterms:modified>
  <cp:revision>14</cp:revision>
  <dc:subject/>
  <dc:title>PowerPoint Presentation</dc:title>
</cp:coreProperties>
</file>