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B6EA-CB9D-4AEB-A18A-687A8134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79A-7A2A-4E14-8554-EB0A4DB5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3BF-662B-481E-A39B-5CC3B10F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FF3-18A4-46DE-895A-330A82C6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B054-9D14-4B83-84F9-97208EFA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81E-293F-46FD-A2B1-8AF2EB57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0732-0836-437D-BCC7-D5FF8C74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C11-7140-456C-9087-73DFEC3C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8451-357F-4DE8-AEA8-869A4D37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FD02-8EBB-4CE3-9603-410709AF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EB3-D3BA-47D0-992B-297CBBBA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78C-E489-4665-B92B-3D33339F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BC26-A8D2-4EAF-A39D-4F22C196D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What Their Jo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Their Glory Must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what their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ir glory must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se endless sabbath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lessed ones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81320" y="1600200"/>
            <a:ext cx="6275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Peter Abelard, 12th cent.; trans. by John Mason Neale, 18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whom, the Fath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n whom, the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whom, the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m ever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own for the vali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eary ones re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shall be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n all ever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ruly, “Jerusalem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me we that sho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ity of peace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ngs joy 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sh and fulfillm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not severed t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do things praye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short of the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re, where no troubl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straction can b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the sweet anthe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Zion shall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for thy grace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voices of p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blessed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ly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Now, in the meanwhi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hearts raised on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for that count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ust yearn and must sig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king Jerusal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ar native l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our long exi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Babylon’s str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Low before him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praises we f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whom, and in wh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rough whom are 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7:32Z</dcterms:modified>
  <cp:revision>57</cp:revision>
  <dc:subject/>
  <dc:title>PowerPoint Presentation</dc:title>
</cp:coreProperties>
</file>