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675-63AB-41DB-88F3-2A3BD769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404-B0A5-4DF3-9B67-A918C279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C2D-252F-4CFD-8382-50005B9C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4FC-110A-4FC8-B26F-6931E021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7B0-6E8A-435A-8CF3-3249D4CE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FEE-AA5A-415F-8F55-986774BE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308-BF92-4144-A3EC-436E519D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AB6-299A-4BFD-9F5A-48DB86E5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E8E-E166-4D4E-8324-71AB150D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DC2-9335-4EDF-B136-15BC5ED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10F-B932-410E-8628-AF1FF4C9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6465-DD15-43B8-92B7-C5583673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1B2D-ABF9-4FA1-BE53-1170B1137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is the Old Ship of Z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African American spiritu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It was g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my dear f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t was g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my dear fa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was good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dear f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666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It will take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to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t will take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to heav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will take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to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It has land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ny a thous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has land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ny a thous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has land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ny a thous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Ain’t no da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wa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ain’t no da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wat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in’t no da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wa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064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It was g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my dear mo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t was g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my dear mo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was good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dear mo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0:12Z</dcterms:modified>
  <cp:revision>102</cp:revision>
  <dc:subject/>
  <dc:title>PowerPoint Presentation</dc:title>
</cp:coreProperties>
</file>