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660-BA33-4103-8C66-7A4C1382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BCA-AB89-462A-8121-49AA82E7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082-C01A-435A-86E3-B3E338AE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BC9-9738-42F9-B33F-775B1377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6D7-BF9E-470A-B8A2-90FA0A4B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ACF-7300-4D86-89FA-FE05E7EE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45F-3DEC-4A3C-9B23-227E0055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2F9-06A3-4FE5-9EB2-936E08C8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594-ADDA-4153-B25F-DFE643B5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D9B-001B-4AD0-969B-9B0ACDA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0CC-85F9-4D62-B676-2FA27A73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0BF-A075-44E5-9FB9-4EEA0E0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9DEE-77AE-4B16-9825-2A076310F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Never Said 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umbalin’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They crucifie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my Lor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is blood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ood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5. He hung hi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ead and die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ung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d and d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rucif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y nail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nail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y pierc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pierc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29:56Z</dcterms:modified>
  <cp:revision>53</cp:revision>
  <dc:subject/>
  <dc:title>PowerPoint Presentation</dc:title>
</cp:coreProperties>
</file>