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C75-DFA8-4325-B3FE-43F28131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895-EB03-419D-8F9A-C1172F40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849-6993-4F80-8CB2-77A6BB8A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A4D-EA58-4F59-9EB4-A9672161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ED8-E526-405C-8E55-B2650D0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D1A-FF53-4E26-BB74-9578894C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C90-A381-4778-9446-045BB27D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EFE-46FB-4096-9B07-8A6C846F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880-907D-4433-845E-8CC13F18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C51-49D1-4A77-9D7E-D943A5B6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7BD-2A5E-443D-9272-AB7B34E2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96C-E1CC-4B3F-8149-6575EE0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C805-1038-434B-BCC1-862C6AEBB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n el F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o Invernal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ld December Flies A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75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78 Lutheran Book of Worship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panish trans. © 1987 Skinner Chávez-M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7480" y="1486080"/>
            <a:ext cx="608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atalonian carol; trans. by Howard Hawhee, 1978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anish by Skinner Ch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ld December flies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rose red splend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pril’s cro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brea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the who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ld wonder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yes were clo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10:44Z</dcterms:modified>
  <cp:revision>78</cp:revision>
  <dc:subject/>
  <dc:title>PowerPoint Presentation</dc:title>
</cp:coreProperties>
</file>