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D24-2143-4BD3-89C3-7DAFCC18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CB7-C858-46A1-B533-7C55AEFA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5FD-2006-430A-8163-91C6ED37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524-035B-4BA6-9BC1-65F18CDD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1C6-30F4-4256-8101-E0FF9A91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4A1-6AEB-41C3-8CAB-CE22C10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BBC-71CB-41F9-8C3B-09170FB7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D78-D5CA-42CA-97C2-2773778B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B3D-B2EC-43AF-AAF5-3562ADFC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A82-C8FF-49A7-94F5-AB433E94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240-99CB-45A3-8790-3C24E53D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266-D17C-4839-BFEB-CE55A197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7BCA-2E83-4EE2-8A6A-7BFE92F58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58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ise, My Soul,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ing of Heaven</a:t>
            </a:r>
            <a:br>
              <a:rPr sz="40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Henry F. Lyte, 1834 (Ps. 1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Praise,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hr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tribute b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, My Soul, the King of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nsomed, hea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ored, forg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praises s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everlasting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Praise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race and fav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istre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, My Soul, the King of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he same as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ow to ch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wift to bles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ous now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faithful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atherlike,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nds and spares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l our fee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ame God know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, My Soul, the King of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therlike,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ntly bears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s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ur fo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dely yet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rcy flo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gel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ights, ado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behol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ce to f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, My Soul, the King of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triumph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do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ed in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rac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with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04Z</dcterms:modified>
  <cp:revision>13</cp:revision>
  <dc:subject/>
  <dc:title>PowerPoint Presentation</dc:title>
</cp:coreProperties>
</file>