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A87-322B-4788-847E-B657C1D6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C31-C678-44B6-9D18-1D419540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D33-D511-4A75-977F-C6952572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717-AA75-46D3-A5CB-51FF4860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EE3-4F28-47FC-A137-FFFF924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C82-ADFA-489E-B27C-8B8B842A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062-BC65-4896-8FF5-403A7223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8C8-1CD6-4436-A4B3-B0D9137D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E44-048F-42A6-9502-135BC8C6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749-7C93-4124-94DF-D0DBBFE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A5F-FBD1-436B-8B57-36278B5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432-CD91-4B34-AC0D-0BE3C8C6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81F3-A122-46E7-8EC9-62CBAA7BD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h, Holy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876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ann Heermann, 1630; trans. by Robert S. Bridges, 1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h, holy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hast thou offe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 to judg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in hate pretend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k on thy p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swer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my deser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foes deri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ine own rejec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ost afflict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o was the guilty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rought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as, my tr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hath undone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as 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it was deni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rucifi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, the Good Shephe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sheep is offer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lave hath sin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on hath suff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atonem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hee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terce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me, kin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thy incarn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ortal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life’s obl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gu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bitter 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refore, kin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ce I can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y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do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ll ever pray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25:10Z</dcterms:modified>
  <cp:revision>49</cp:revision>
  <dc:subject/>
  <dc:title>PowerPoint Presentation</dc:title>
</cp:coreProperties>
</file>