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AF74-B834-4DCA-9C9A-A63D964E6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AF2C-CE53-4334-BD6B-9EE1411F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28ED-18E1-48A3-9E0D-9792613BF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36B5-F5DA-4643-84DF-38597C22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C38E-3B24-4597-BC75-B3919B15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EFA1-074B-451E-B895-53C54618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A366-DC46-4F34-9FB5-5F89A7AC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5A41-577C-4EA6-9232-F2BAB032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D9EE-16B8-41E4-8DC5-16953778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958C-D9AA-4E3A-9227-92C2531C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B287-BE75-4C17-BE48-8CE9ADD6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9649-10D6-47C3-9804-FB4F8D25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D457-AECD-41F2-831B-AC9132F4C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ail Thee, Festival Day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Pentecos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000" y="1523880"/>
            <a:ext cx="9088560" cy="36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Venantius Honorius Fortunatus; trans. from 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The English Hymnal, 1906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, al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19520"/>
            <a:ext cx="9144000" cy="333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ay whe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ly Gho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one in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ull of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God the Almigh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Ruler of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heaven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uard us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rm withou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leanse us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vil withi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971800"/>
            <a:ext cx="9144000" cy="333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ay whe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ly Gho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one in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ull of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Jesus, the heal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nlighten our mi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Redeem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n of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ather supre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ly begott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Go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124080"/>
            <a:ext cx="9144000" cy="333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ay whe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ly Gho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one in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ull of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5. Spirit of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of pow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w flow in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unt of our be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ay whe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ly Gho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one in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ull of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ght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nlightens us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fe that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may abid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048120"/>
            <a:ext cx="9144000" cy="333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ay whe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ly Gho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one in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ull of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6. Praise to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iver of good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lover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uthor of conc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our out your bal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 our day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rder our way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your peac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276720"/>
            <a:ext cx="9144000" cy="333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ay whe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ly Gho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one in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ull of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Bright and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keness of fi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 those wh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wait your appear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whom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rd had foreto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udden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wiftly descende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971800"/>
            <a:ext cx="9144000" cy="333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ay whe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ly Gho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one in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ull of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Forth from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ather you co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sevenfo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stical offer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ouring 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human sou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finite rich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Go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124080"/>
            <a:ext cx="9144000" cy="333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4:57:54Z</dcterms:modified>
  <cp:revision>83</cp:revision>
  <dc:subject/>
  <dc:title>PowerPoint Presentation</dc:title>
</cp:coreProperties>
</file>