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141-DA22-463F-9EAF-71CD2123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B56-044F-4626-90B2-B12CC985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D7B-C822-41A4-A418-BB1D8978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8314-F4C0-44EA-ADE7-A873DE08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1D67-D4BA-4CD9-B726-7F9B78B9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799-264E-4328-9A2B-43EAC4AD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52A1-754A-4122-A725-E3989000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0B05-C04B-4F45-9D01-E52E6E1C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C917-037B-4A1F-B92C-F5EF5803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C5B-0655-4A44-B6D8-9A959333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4D9A-66A8-47E2-B859-D3CE0BEB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8B15-905C-4AF4-BE66-CFDACD01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7601-9F9D-4A8A-8744-3C525A01E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Spirit of the Living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O Spirit of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living God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ou light an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fire divin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30160" y="1066680"/>
            <a:ext cx="38977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Henry H. Tweedy, 1935 (Acts 2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anguage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underst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love speak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ud and cl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every ag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ace and cli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blend thei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eeds in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arth shall for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fami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whom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ll is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So shall we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ower of Chri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came t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ld to s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shall we rai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him to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ch soa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yond the gr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arth shall w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e holin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ch makes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ildren whol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, perfec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thee, we rea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eation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lorious goa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scend upon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once mo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ake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ly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it with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and pow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righteous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e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Christ shall dwe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human heart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in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rrow c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Blow, wind of Go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wisdom bl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il our mi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fre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mists of err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ouds of doub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ch blind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yes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rn, winged fir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spire our lips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laming love and zea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preach to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great good new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glor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monwe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each us to utt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ving wor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ruth whi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may h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6:22Z</dcterms:modified>
  <cp:revision>11</cp:revision>
  <dc:subject/>
  <dc:title>PowerPoint Presentation</dc:title>
</cp:coreProperties>
</file>