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EDB-8785-439F-9DD6-CAB6A195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348-338C-4DF2-8328-0C848F4B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045-ADBB-4CCD-8382-D1CCBDC7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D5A-E770-4BCC-8102-1FAEDABE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D5B-913F-4341-BC23-FFD801C0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CF7-50FE-457F-98E8-723F52EF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725-C60E-4FD8-8429-E458C7B8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92C-B2BC-4471-AF16-C14B5ACC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9C9-F3A9-4B5A-B93D-C8833DC4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DA4-DA7D-4C3E-8B19-E4FBFB85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5B1-ADF1-4D93-BD19-2EDF9A5F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8C0-ED69-4E7A-8E7A-686BE276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BF73-3AFC-451C-A6FD-F5403251D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Jaya Ho</a:t>
            </a:r>
            <a:br>
              <a:rPr sz="4000"/>
            </a:br>
            <a:r>
              <a:rPr b="1" lang="en-US" sz="3200" spc="-1" strike="noStrike">
                <a:solidFill>
                  <a:srgbClr val="99ccff"/>
                </a:solidFill>
                <a:latin typeface="Times New Roman"/>
              </a:rPr>
              <a:t>(Victory Hym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276720"/>
            <a:ext cx="8305920" cy="303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40160" y="1509840"/>
            <a:ext cx="58622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on. Hindi; trans. by Katherine R. Rohrbough, 1958; </a:t>
            </a:r>
            <a:br>
              <a:rPr sz="1600"/>
            </a:b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phonetic transcription from the Hindi by I-to Loh, 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133720"/>
            <a:ext cx="845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21932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 </a:t>
            </a: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1600200"/>
            <a:ext cx="822960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2057400"/>
            <a:ext cx="83818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h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990720"/>
            <a:ext cx="8686800" cy="3780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 come befo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e, O Great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Hol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 Great and Ho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371600"/>
            <a:ext cx="8610480" cy="353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bow our head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thee, Great a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Great and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0666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ow at thy feet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we bow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quiet reverenc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then sing thy prais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evermore repeat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914400"/>
            <a:ext cx="8534520" cy="4480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2438280"/>
            <a:ext cx="822960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066680"/>
            <a:ext cx="8610480" cy="82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981080"/>
            <a:ext cx="845820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 </a:t>
            </a: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133720"/>
            <a:ext cx="8458200" cy="3399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828800"/>
            <a:ext cx="830592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 </a:t>
            </a: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182880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Unison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06668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ord, let us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e, grant us 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rant us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14300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ins and denial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ear Lor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ear Lor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0666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ake us and keep u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in thy stro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rotection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safe in thy refug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we will sing th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rais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143000"/>
            <a:ext cx="8534520" cy="413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51460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990720"/>
            <a:ext cx="8610480" cy="82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182880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209680"/>
            <a:ext cx="8686800" cy="3399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67652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752480"/>
            <a:ext cx="845820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198108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057400"/>
            <a:ext cx="8458200" cy="2729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   1. Tere sana mukh</a:t>
            </a:r>
            <a:br>
              <a:rPr sz="5000"/>
            </a:b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  ham hain 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1. Ham hain ate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05120"/>
            <a:ext cx="8610480" cy="27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  Cha ra no may hain</a:t>
            </a:r>
            <a:br>
              <a:rPr sz="5000"/>
            </a:b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   shisha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   Shisha 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3880"/>
            <a:ext cx="86868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ham hain gate.</a:t>
            </a:r>
            <a:br>
              <a:rPr sz="5000"/>
            </a:b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ham hain g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830592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ho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2666880"/>
            <a:ext cx="830592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219320"/>
            <a:ext cx="8534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20:14Z</dcterms:modified>
  <cp:revision>24</cp:revision>
  <dc:subject/>
  <dc:title>PowerPoint Presentation</dc:title>
</cp:coreProperties>
</file>