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C27A-C339-469A-8A14-921EB4799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C6CB-5B5A-4EEB-BA5F-09D24F0C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EC0F-59D2-4D78-A789-2A9F9B222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62F2-9889-4E0C-B3C4-E55928F39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93C4-D289-45F8-953B-B1E499E4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AE69-0683-4C4E-8B64-471C3265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AA47-23CB-466F-8500-B763F553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F6BF-9CB1-4B7C-BB84-58AB5457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C77C-C2C1-4561-B484-21937A2F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AFEE-0D68-427E-BB6A-DF5D4521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31D1-0038-40D3-A6BA-75001345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0420-0090-4C90-9D91-A6610459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43EE-9754-44C0-95B5-6743CAA0F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10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w Thank We All Our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1. Now thank we all our God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with heart and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hands and voices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who wondrous things has done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in whom this world rejoic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ank We All Our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5760" y="1092240"/>
            <a:ext cx="78724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RDS: Martin Rinkart, 1636; trans. by Catherine Winkworth, 1858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Sir. 50:22-2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666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who from our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mother’s arms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has blessed us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on our way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with countless gifts of love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and still is ours to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144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2. O may this bounteous God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through all our life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be near us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with ever joyful hearts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and blessed peace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to cheer u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ank We All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47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and keep us still in grace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and guide us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when perplexed;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and free us from all ills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in this world and the nex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3. All praise and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thanks to God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the Father now be given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the Son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and him who reigns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with them in highest hea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ank We All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the one eternal God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whom earth and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heaven adore;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for thus it was, is now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and shall be 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7:14Z</dcterms:modified>
  <cp:revision>18</cp:revision>
  <dc:subject/>
  <dc:title>PowerPoint Presentation</dc:title>
</cp:coreProperties>
</file>