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9C1-C10A-46D6-8536-FF9A7272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4078-608C-4772-B1CB-C7AC2AC1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8EB2-A60D-4594-B9E5-1DED970A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ECD-B5A7-456B-B2DC-08405D6F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63D-9532-4961-A75F-93DBC468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881-AB7A-41C4-BB2D-BDCB415D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933-7560-443B-9D42-5D2BC2BC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434-522B-4554-A4AB-662DE316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592F-CB1E-415D-A4F7-65B4D179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7445-CF14-4E17-AAB3-7640CE38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9DE-9816-48D5-BC43-6CAF4D0D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0A5D-F5F0-4E94-9230-10599EAD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F7CD-F30C-44BC-8DC3-B35AAC172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with All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aints in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Sing with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ints in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the resurrection so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5560" y="1500120"/>
            <a:ext cx="4760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William J. Irons, 1873 (1 Cor. 15: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in we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eathless voic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ild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h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triarchs from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stant ag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ints all long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ir heave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895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phets, psalmis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rs, and sag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await the glory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Life eternal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what wond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wd on fai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joy unkn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, amidst earth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sing thund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ints shall st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the thr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004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to en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right port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that glowing firmamen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now, with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God Immort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Jesus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m thou has sent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048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th and sor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’s dark s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former days be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aroun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uds are brea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on the stor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ime shall c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God’s like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, awa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now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what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r exceed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at ey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 yet perceiv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iest hear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ages plea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ver that fu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 conceiv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has promis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prepares 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on hi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welcome wai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humb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irit shares i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has pas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’eternal gat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ife eternal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 rejoices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lives, wh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ce was d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3:22Z</dcterms:modified>
  <cp:revision>47</cp:revision>
  <dc:subject/>
  <dc:title>PowerPoint Presentation</dc:title>
</cp:coreProperties>
</file>