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AF5-722A-4C25-AB59-6693DA5E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319-189E-4E2C-891B-759BB7A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460-57EE-4522-AF90-79B052A2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194-71F6-4548-987A-588A700E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4F0-3945-4F34-B200-9D0442F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85B-FEEF-4490-A5BC-4691E3CD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736-4183-4119-AF52-6E84F81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00C-DE54-4201-A446-F1E9B4B5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EE3-2BC1-462F-869F-EE7EFBA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F9B-8E69-4646-BD05-8CB2D91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B53-EB84-419F-80CD-17B0FC7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5E4-F7FA-4780-A52A-7E6F433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71E-AEB7-45BC-A3DC-FCCA83589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ding Rest in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348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hast made us for thyself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Lord, and our hearts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less until they f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ugustine of Hippo, North Africa, 4th cent. (Mt. 11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Rest in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29528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comparison with this bi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ld, the human heart is on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small thing. Though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ld is so large, it is utter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able to satisfy this tin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57800"/>
            <a:ext cx="502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ndar Singh, Indi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ver-growing soul and it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pacity can be satisfied on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infinite God. As wat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restless until it reaches i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vel, so the soul has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ace until it rests i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16:34Z</dcterms:modified>
  <cp:revision>14</cp:revision>
  <dc:subject/>
  <dc:title>PowerPoint Presentation</dc:title>
</cp:coreProperties>
</file>