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F76-2908-40B7-A654-948B5B7F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384-17DA-4A34-877C-72119F5A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497-E00A-440A-B058-24F2235F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22E-B14C-4E20-8EFE-FA4A0871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755-92F9-4CDD-A833-1605E422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FBE-807C-450A-BCDB-E4791DC4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952-D514-4BD0-AB31-A85ABF97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8D3-D26D-4433-B9AF-0A3267CC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C73E-A4B7-48F2-B7AD-CE944322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0A8-CD82-42F7-AFAC-CB5E503A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6CB-A830-4150-9B7E-ABF48866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AD1-8D45-4773-ABD8-B9BBCB43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263C-0F7E-412F-842A-B0F6C0F55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vior of the Nations,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Savior of th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ations, come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Virgin’s Son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re make thy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5200" y="1181160"/>
            <a:ext cx="7495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Sts. 1, 2  Martin Luther, 1523, trans. by William Reynolds, 1851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t. 3-5 Martin L. Seltz, 19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et no nigh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is light subdu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et our faith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ine ever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arvel now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 heaven and earth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at the Lor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chose such a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Not by huma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lesh and blood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y the Spiri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our Go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as the Wor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God made flesh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oman’s offspring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ure and fres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Wondrous birth!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 wondrous Chil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the Virgi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undefil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uman an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divine in on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ager now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s race to ru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God the Fathe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his sourc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ack to Go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 runs his cour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down to death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hell descend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’s high thron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 reasc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5. Now thy manger’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alo brigh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allows nigh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newborn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8:02Z</dcterms:modified>
  <cp:revision>59</cp:revision>
  <dc:subject/>
  <dc:title>PowerPoint Presentation</dc:title>
</cp:coreProperties>
</file>