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483-70BD-4BEE-A84D-79A38EB7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C9A-F043-4256-ACFB-56794ABD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C0A-1AB8-4F4B-97F2-D753CE05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CC2-BA66-423C-8B43-F0A88CF1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5E0-FE23-4C16-BC42-E3EA2369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7AF-A8DA-4BF0-A79C-B20F90C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7A7-4824-4CEB-8441-1B5693D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B02-11D3-4B98-AED6-49E5E8DF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EFA-DAE8-4B84-9D61-078F76B8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466-2586-45D6-8A70-B275DCF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EC1-8610-4034-8072-6755CE71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E2C-F80E-420B-A08D-CF8D995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852A-9C06-4528-A0F9-85FCD213B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raw Us in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irit’s T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raw u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’s t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hen humb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ercy Dearmer, 1931 (Mt. 18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o or th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met tog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dst of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 w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arment’s 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discip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ed to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 to sup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with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 the cup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now b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riendship u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me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our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aments of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y c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ing, 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ay true disciples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faithfu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40:16Z</dcterms:modified>
  <cp:revision>135</cp:revision>
  <dc:subject/>
  <dc:title>PowerPoint Presentation</dc:title>
</cp:coreProperties>
</file>