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02F3-9A87-4C53-BD34-F413F9B6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C599-CB32-4399-94DE-04B0BEFD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699B-B486-4258-904C-EFAD824C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6466-70AD-41FD-B285-C3563D03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F881-AA52-4970-8E42-3958D47F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6D04-4B3F-44EA-B6C7-F33D3C76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D17-305B-43FA-8D9D-BB399C07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EB90-5B8B-4A06-B79E-502E989B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5C55-B99D-4DF5-A859-29FC732F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4797-8414-4DB8-8403-188C39E0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04F8-A069-4288-9A7C-856380FD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357A-A9DA-4E10-B978-6AF7A0C3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15D9-D075-47DF-BE30-41F6EEB84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ek Ye Fir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523880"/>
            <a:ext cx="9144000" cy="503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Seek ye fir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dom of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is righteous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 these th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be added unto you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2 Maranatha!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 Ye Fir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2840" y="987480"/>
            <a:ext cx="4201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Karen Lafferty, 1972 (Mt. 6:33; 7: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Ask, and it sh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be given unto you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k and ye shall fi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nock, and the door sh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opened unto you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 Ye Fir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62120"/>
            <a:ext cx="9144000" cy="513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l        -        le            -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k ye first th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lu              –             ia,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dom of Go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baseline="-25000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l       –      le         –      lu     –    ia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is righteousn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 Ye Fir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 with 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716040"/>
            <a:ext cx="9144000" cy="577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baseline="-25000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l               -              le        -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 these thing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baseline="-25000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lu                -         ia,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be added unto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baseline="-25000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l    -   le      -    lu  - ia!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9:04Z</dcterms:modified>
  <cp:revision>26</cp:revision>
  <dc:subject/>
  <dc:title>PowerPoint Presentation</dc:title>
</cp:coreProperties>
</file>