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BF1-A4FF-4D79-93E6-9D42DE18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774-6890-49B6-8980-8487B06D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381-C8AE-4693-A1BA-FF13680F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882-3C34-4EA8-AD5F-F34FA805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4AE-0126-4157-92EF-61AD55F5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6F1-FB5B-4AC7-B220-CB799CC5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D8D-6152-428F-AA5A-59A64FCA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353-61AE-45AC-B9F7-07D06DDE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6E8-62DF-47D1-A4B6-57991B83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1E2-2E0B-4A00-BC08-C8F0495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DA9-94CF-47C1-AE29-7DE4A09F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A61-EAEB-46FA-A50B-ED08AEE0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1045-AFF5-470C-BB73-8A610EA24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Love, How D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love, how d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broad, how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fills 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ecstas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4520" y="1066680"/>
            <a:ext cx="646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15th cent. Latin; trans. by Benjamin Webb, 1854; al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e s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pirit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uide, to streng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All gl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rd an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love so d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high, so bro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in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we ad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,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, should t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ortal for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ortals’ sak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us baptiz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e b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oly f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ungered s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tempt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p he kne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the temp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thr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or us he pray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e tau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is dai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s he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ords and sig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ctions th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seeking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self, bu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us to 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 betray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ourged, mock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purple robe arr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bore the shame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 and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gave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For us he r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death ag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e w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high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39Z</dcterms:modified>
  <cp:revision>24</cp:revision>
  <dc:subject/>
  <dc:title>PowerPoint Presentation</dc:title>
</cp:coreProperties>
</file>