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737A-8DBD-4560-9F91-2CCC4CF47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36A7-FF8B-4104-A7A6-CE760505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6FFE-C641-41FE-A7C9-899F8AF3D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6F81-073C-44AB-B920-496BC849C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6972-2B03-40BC-B8C6-C8FD67B4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F5A5-6BCD-464B-B606-F69D3C45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0553-2B4B-4B51-9A3B-DFE74B7D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8C00-8C86-4287-B14F-9723E7F6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22CA-D1CC-4D4F-B077-CCEA3EE9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5E9D-AA00-4D70-B08B-9637BE6F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7436-16A2-4246-A337-519D31DB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A645-EF27-4599-9D17-2541DACA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C6F6-7989-4E15-A60C-D025F9DBF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y Word Is a Lam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67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word is a lamp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nto my fe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a l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nto my p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84 Meadowgreen Music Co. / Bug and Bear Mus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Amy Grant, 1984 (Ps. 119:10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When I feel afrai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nk I’ve lost my w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you’re the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ight beside 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nothing will I fea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long as you are near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lease be near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word is a lamp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nto my fe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a l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nto my p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Now I will not forg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love for me and y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heart forev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wande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, be my guid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hold me to your sid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I will love you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word is a lamp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nto my fe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a l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nto my p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9:22Z</dcterms:modified>
  <cp:revision>102</cp:revision>
  <dc:subject/>
  <dc:title>PowerPoint Presentation</dc:title>
</cp:coreProperties>
</file>