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1AD-842F-46CB-8C13-416C362B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E64-69AE-4435-97BD-19F4AAF7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0D0-7AEE-4928-9984-DF74AF91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195-2CB4-4425-8E8A-942FAF54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184-1B0E-4B6C-8A00-F31E310F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8A8-D5EF-4CE4-9884-07915AE4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26A-CD2C-4A8F-B2E9-5BD01B4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56C-73FF-434C-8E98-3693762B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8A6-33B9-4EFC-816D-D80A600F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3BB-9944-42F3-BDCA-1441B11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4A8-CCA3-4D4A-BF87-1E7565A2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B05-EE08-40FC-BCE2-837FACA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59C3-3019-44CB-90AF-198FD25A4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God, Draw N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auty and in pow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with thy tim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dgment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atch our prese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760" y="116676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. B. Y. Scott, 19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ring to our troubled mi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certain and afr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quiet of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dfast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m of a call obey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Bring justice to our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ll may dwell sec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nely bu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days to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undations that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ring to our world of str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overeign word of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r may hau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no m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solation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at creation’s bi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re b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ain, and s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judgments on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31Z</dcterms:modified>
  <cp:revision>53</cp:revision>
  <dc:subject/>
  <dc:title>PowerPoint Presentation</dc:title>
</cp:coreProperties>
</file>