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149-2B62-4D5C-B8BF-3012E613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E32-335B-48C0-8371-03CA4E4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C88-2179-4DB2-B7C7-3D7B8EE7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E8F-F3AD-42CA-937D-855F912D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ED5-A8ED-444E-94A6-4029B057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814-A5B7-4884-A6DC-CA5E13FD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2A3-3F88-4445-B6AC-CD08981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6ED-9EBB-455E-A192-D51002E6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24B-8F72-445A-9293-1A51CF2C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442-16E3-4849-8C47-D6496CC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2AE-C4EA-412C-89CE-FD45448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688-D7E2-45B5-9736-A08F9B75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E529-E3F6-4020-A14E-884DD6AC9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ake my life, and let it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ecrated, Lord, to th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mome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m f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easeles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9160" y="990720"/>
            <a:ext cx="443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ances R. Havergal, 1873 (Rom. 12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them m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impulse of thy lov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ft and beautifu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ake my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me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, only, for my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lip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with messages from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sil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gol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mite would I withhol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intellect, and u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powe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halt cho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ake my w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it t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hall be no longer mi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thine 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hall be thy royal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I p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y feet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sure-st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self, and I wi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, only, al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18Z</dcterms:modified>
  <cp:revision>20</cp:revision>
  <dc:subject/>
  <dc:title>PowerPoint Presentation</dc:title>
</cp:coreProperties>
</file>