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3F9-89FD-447C-910E-05F7BB0E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821-8C0C-408A-B072-0A921DBE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560-206E-4A85-AB51-B9030D92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6C7-EABC-481A-B018-9630CCDC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1CF-388F-4DB8-881B-B4B64B91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2EF-4481-4E3D-A097-AB3978A6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17A-989B-4B7A-B03C-B58313B7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CA4-4DFF-4D29-A1A4-FCE8C60A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AA8-6892-46BB-BE3C-F9C03671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B0E-628E-418F-9AFC-B4E447C4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AF9-86EB-46AB-BF57-EB1BB0B7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78D-A522-4E26-8569-4BB58F9F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6956-FBED-4538-975E-08AD5D0B0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How I Lov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ere is a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h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sing its wo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 sounds like music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my 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weetest nam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1080" y="1092240"/>
            <a:ext cx="4101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rederick Whitfield, 18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t tells m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Savior’s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ed to set me fr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 tells m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precious bl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inner’s perfect pl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09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It tells of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loving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 feel my deepest wo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in each sorr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ars a p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none can bear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09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1:31Z</dcterms:modified>
  <cp:revision>34</cp:revision>
  <dc:subject/>
  <dc:title>PowerPoint Presentation</dc:title>
</cp:coreProperties>
</file>