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A8F-FF15-43E9-89FD-CF7C415A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77A-3A54-4B7A-B915-32112E6E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EED-E736-4B82-AF61-DCB5C74D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6BC-E2AB-4633-A061-889BBC4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B8D-840D-441F-B99E-CE72A724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AEF-E093-4F5C-A579-65705DB7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30D-D346-41E8-87D3-4F9FD150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AD3-E81A-4657-96CE-C19D894D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B8F-CC03-47C9-B3F5-2289FAD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8FD-0601-435F-BA4C-722F79B4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8F1-0C72-4022-8A18-878BA914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5DB-5474-4B76-9F6B-DFB3398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DF6-FE16-4C5C-8BAE-12B421E9D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Trib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hings he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1 Communiqu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é Mus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0400" y="1168560"/>
            <a:ext cx="36403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ndraé Crouch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is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s saved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i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s raised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hings he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02Z</dcterms:modified>
  <cp:revision>15</cp:revision>
  <dc:subject/>
  <dc:title>PowerPoint Presentation</dc:title>
</cp:coreProperties>
</file>