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BF0-CC02-4FB8-ADBB-1C9EAA01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A64-EC1D-4473-A479-FAC706F3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DCE-E65E-48C6-A4C1-6484CEE8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B28-829F-4760-A28D-32312FF5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529-8BF6-4A2B-9783-FEFC3F91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4E8-2DBD-4001-BFE0-573C1D94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611-90C4-4F29-A6CD-ACF8F617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4042-4EE3-4291-A6CD-E9E661BD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B98-E800-4245-9F8F-85229A05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C89-D58D-4F67-AB87-B8FA6C33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639-6D5F-4A03-967A-9DBAF0B0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955-306F-4DB2-AE3D-0E74D284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BB32-2D27-4786-9F4F-1FA51A358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re I Am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, the Lord of sea and sk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heard my people cry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who dwell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k and si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and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1, 1983, 1989 Daniel L. Schutte and NA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Dan Schutte, 1981 (Is. 6: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nest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ov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ei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satisfie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give my life to the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shall I s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ling in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people 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ho mad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s of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make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kness brigh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will bear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to them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shall I s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ling in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people 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, the Lord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now and r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bor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people’s pai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wept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of the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turn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brea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hearts of st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hem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love alon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speak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to the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shall I s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ling in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people 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,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wind and fl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ten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or and l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set a feast for the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and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38:48Z</dcterms:modified>
  <cp:revision>97</cp:revision>
  <dc:subject/>
  <dc:title>PowerPoint Presentation</dc:title>
</cp:coreProperties>
</file>