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FDD-438E-45A5-9BC2-6E43BFE6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91C-7C9B-4DAF-806E-AA1ED36B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F77-2B12-4285-BE14-2F829F04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ACB-BB9B-4663-9953-D98ACC2D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9EC-7C4C-4C02-A783-6422F7DF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D74-5987-4CEE-868E-EEDCC592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790-BD46-4D79-8BF5-D96A0E74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C9B-F09A-4BEF-9E4A-DADEE499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B53-F51A-4A36-ABA2-B8102020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492-A667-4EF8-9E32-C47BEB93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19D-D675-4AC6-8329-A9AB53E8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DF4-897C-4308-9611-7FBAF698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8B57-4817-4B3D-ACB8-0BFC82F00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oman in the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439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oman in the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nt from giving bi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ard our precious l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is on the ear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3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1640" y="1015920"/>
            <a:ext cx="324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Brian Wren, 19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Women on the ro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comed and resto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avel far and wid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ness to the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Women on the h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 when men have fle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needs loving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your hope is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8. Women in the da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 and spices br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liest to mour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liest to 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oman in the crow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eeping up behi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uching is allow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 and you will f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oman at the we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stion the Messia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nd your friends and te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ink your heart’s des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oman at the f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righteous sta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go in peac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him with your hai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Woman in the hou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rtured to be mee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ve your second pl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sten, think, and speak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0:00Z</dcterms:modified>
  <cp:revision>31</cp:revision>
  <dc:subject/>
  <dc:title>PowerPoint Presentation</dc:title>
</cp:coreProperties>
</file>