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EBD-B99E-4C30-B112-EDABF44F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6BA-34F0-4392-B829-323CC5A3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8AC-1B47-4749-9295-30D09FEA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17F-2A32-4338-BE72-0EA95C36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938-50F6-40C4-AEDD-CE27D2A8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0AA-8925-4ECC-BABF-098F8488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5DD-7B5F-4E7C-8029-7E80F51F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E46-0BB7-4849-B831-9916EA16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781-ABD2-4599-9A0B-A77F3A97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026-F41F-427E-A50A-D250A73E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70A-D394-4C16-A93E-E8056E4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812-8376-4753-83E2-A4F63BD6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2C66-CE54-416C-9A55-F273B06FB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 the D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Michael Peterson, 1984 (Lk. 24:13-3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32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On the day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resurrecti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Emmaus we ret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87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aking brea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blessing, break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is himsel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6. Opened eye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newed conviction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ourney bac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scen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ing al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Christ is rise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is through 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97360" y="3429000"/>
            <a:ext cx="67492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ile confu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mazed, and frighten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comes to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Then this strang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ks a questi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What is t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ich troubles you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42900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eets us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pain and suffering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walks with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In our troubl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ords come from him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rning fi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thin our hear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s to 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scripture’s meaning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speaks to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Then we n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destinatio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n we as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stranger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yield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to our urging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stays with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5. Day of sorr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 forgott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n the gue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comes the 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07Z</dcterms:modified>
  <cp:revision>65</cp:revision>
  <dc:subject/>
  <dc:title>PowerPoint Presentation</dc:title>
</cp:coreProperties>
</file>