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200-2157-4B62-AB16-4B8635A2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8E6-3A2B-4AC1-AE74-12399BE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FA9-8B35-42F4-8D90-762B36C7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FD7-9659-4338-BC27-4BA7F027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36D-E139-49CB-8DDC-AA339C03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61C-379D-417C-84F0-34041A14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6E1-C00F-4806-8CBB-AB59F65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650-E03D-4D16-B50F-DBA288F3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9E3-52FB-414E-9DBC-A31DC0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41F-1153-4E31-83E7-9EA0979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715-CB35-46D5-837C-0FC9754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D72-26D0-4965-A177-DD498C7E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16F-B9D6-4437-8D37-6994B296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77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eople That 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rth Do D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ttr. to William Kethe, 1561 (Ps. 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 peopl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do d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heerful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serve with m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aise forth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ye befor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Know that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God inde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our 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d us m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his fol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oth us f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his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oth us t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enter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ates with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roach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courts unt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, laud, an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his name al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it is seem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wh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ur God is g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ercy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a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s firmly st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 to ag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8:58:47Z</dcterms:modified>
  <cp:revision>24</cp:revision>
  <dc:subject/>
  <dc:title>PowerPoint Presentation</dc:title>
</cp:coreProperties>
</file>