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E2D-D081-471A-B486-D4D6CF2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5BC-B200-4FB2-918A-F0BA5BC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2DB-8153-4315-9E68-9730EDBD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001-3DCB-41F7-8D07-ADC9332D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169-11E8-44F9-9130-D5BB8CB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F1E-1566-4AB4-80DA-495AE69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354-A536-494A-8416-91E9F21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85F-48F4-4F48-B151-D2FC5822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FD4-66D3-4CC5-9FC3-3BD80A9D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82F-6D16-4F49-B0E8-C1A3405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463-8165-4064-8318-38F5B8F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C66-AFF3-4C05-91F4-9D5A87D9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0FD9-4D40-4596-AF89-D1AD7C2B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hing but th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at can wa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way my si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1066680"/>
            <a:ext cx="2806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obert Lowry,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is is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nd peac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ighteousness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can mak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le agai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or my pard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 se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y clean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 plea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hing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n aton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ught for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have don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56Z</dcterms:modified>
  <cp:revision>11</cp:revision>
  <dc:subject/>
  <dc:title>PowerPoint Presentation</dc:title>
</cp:coreProperties>
</file>