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222D-3CF7-4E1F-A920-9B7C43A40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E587-D146-4120-9149-A875FDD4A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317D-93A7-480D-BAED-0BD51768E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2F7A-FA5E-4292-B125-7669356F8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0254-AF14-4BAF-B257-702C80724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CD32-72E1-4104-9FDA-49E28D7A4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6FDA-422D-435D-B644-AE2CFD7E6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5E6E-B92A-4BE4-A939-72CE96ECC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92A3-51FB-40C6-A3A5-E2F95A1D5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1D28-35BE-4AA0-8651-B603119F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866D-7653-4332-9B21-E879DD34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53EA-2A98-4097-8A7F-54D38015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02530-9C78-4BCA-91B7-EB8D1956C3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Rejoice in God’s Sai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70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97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Rejoice in God’s saint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day and all day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world without sain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gets how to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© 1973, 1980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 in God’s Sai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33000" y="1166760"/>
            <a:ext cx="30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WORDS: Fred Pratt Green, 197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ir faith in acquir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habit of pray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ir depth of ador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, help us to sh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Some march with even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urn them God’s way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me need to withdraw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better to pr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 in God’s Sai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514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me carry the gospe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ugh fi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rough floo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world is their parish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ir purpose is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Rejoice in those saint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praised and unknow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bear someone’s cro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r shoulder their 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 in God’s Sai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y shame our complain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comforts, our care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at patience in car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at courage, is their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Rejoice in God’s saint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day and all day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world without sain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gets how to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 in God’s Sai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loving, in liv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y prove it is true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way of self-giv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, leads us to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4:56Z</dcterms:modified>
  <cp:revision>51</cp:revision>
  <dc:subject/>
  <dc:title>PowerPoint Presentation</dc:title>
</cp:coreProperties>
</file>