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8596-268A-44AF-AFC9-8D6D4E1AC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CCFD-176C-4E31-972E-02718FB2F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E722-EBB9-4867-930B-D2A6E2847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CADA-56D5-440C-8CF4-FFDA42019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CF58-BE4D-41BE-991C-9C6B526DF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9ABC-CF72-4345-9739-E242A9474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76C8-5BE3-44CF-B069-74B8AD106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7C24-C118-45E8-99CF-07EFD769B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1F16-771A-4246-B9A6-E7B05906F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307B-9597-4FDB-B1D8-E60C1E953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09A3-A860-4451-B715-FA1E5C701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E7C8-C520-470E-9EA8-4F8B73D6E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A1081-BF8A-443A-9832-F37CE5BDD8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here’s Something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bout That Na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7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90920"/>
            <a:ext cx="9144000" cy="3260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Jesus, Jesus, Jesus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re’s just someth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bout that na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© 1970 William J. Gai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Something About That Na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805760" y="1496880"/>
            <a:ext cx="5532840" cy="368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Gloria Gaither and William J. Gaither, 19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09480" y="1828800"/>
            <a:ext cx="792504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ster, Savior, Jesus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ke the fragran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fter the rain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esus, Jesus, Jesus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all heav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earth proclaim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09480" y="3429000"/>
            <a:ext cx="792504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Kings and kingdom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all all pass awa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ut there’s someth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bout that na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8:56:45Z</dcterms:modified>
  <cp:revision>36</cp:revision>
  <dc:subject/>
  <dc:title>PowerPoint Presentation</dc:title>
</cp:coreProperties>
</file>