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1B8-7A49-43AB-BAED-46DD824D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64F-6BC3-46CA-A71D-342C9FE1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7EF-80A8-4AE3-A791-17F7CE00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E3E-18AE-4217-A2AF-2BA10588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0C6-E14C-443D-AC3A-EE49EDA5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56A-2B10-48FB-8B45-92A724F0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FE0-C2F2-482F-8B2E-29E95301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181-6F12-4666-A9BC-0AF9877B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629-0F8A-41E6-A329-4EF0F9A2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939-F1A9-423B-B98A-953D408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A90-53BD-4714-857A-D3763A7B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938-0A29-487B-8EB4-F6F53A9D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98AC-A55F-4A16-8711-CF2FB13E4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ise, Shine, You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ise, shine, you peopl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Lord has ente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uman sto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 him is cente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4 Augsburg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5520" y="990720"/>
            <a:ext cx="467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Ronald A. Klug, 1973 (Is. 60: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114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comes to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death and sin surrou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race unbo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ee how he se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owers of evil ree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ngs us free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and life and hea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114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en and wo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y guilt are dr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re for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, celebra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banners high unfur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songs and pray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ainst the darkness hur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114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the world go 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ell the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Jesus’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ell how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t his Son to save 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of the Son,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and freedom 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how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s from every n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new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6:54Z</dcterms:modified>
  <cp:revision>39</cp:revision>
  <dc:subject/>
  <dc:title>PowerPoint Presentation</dc:title>
</cp:coreProperties>
</file>