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D6E-5B89-4016-AEBD-F2766996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3BF-0544-4EA7-A32A-83015961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581-C768-436D-8580-74F7C07F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53A-6E63-457E-9419-2D88A040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B6C-5139-4100-AC4D-0297F18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01E-906D-48F3-9B90-C1DD5270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074-BE58-4ED1-BD9E-404C3CA4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98D-C147-465F-8109-A7EDB738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8ED-FF75-4593-98A8-8D6ADA3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478-83DE-437D-A5DF-F5ECADD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AAA-E471-4136-B3B2-0F4F122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90D-A7C0-4DEA-AA15-D0D9471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258-E081-4CE6-A42F-338F1E178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nners, Tur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Will You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your Maker, asks you wh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who did your being g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made you himself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at you might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5640" y="1523880"/>
            <a:ext cx="2625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rles Wesley, 17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62864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on whom he still doth wa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om he would again creat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de by hi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purchased, wh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6. You, who own his record tr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his chosen people, you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 call the Savior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 read his written W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62864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who see the gospel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aim a crown in Jesu’s right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e Christian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the house of Israel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7. Turn, he cries, ye sinners, tu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by his lif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God hath swo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would have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urn and l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would all the world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780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hath brou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all the 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ull salvation by his grac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hath no on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oul passed b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8. Can ye doubt, if God is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f to all his mercies mo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ill ye not his word rece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ill ye not his oath belie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62864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e, the suffering God appears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esus weeps! Believe his tears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ngled with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lood they cr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2864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the fatal cause deman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sks the work of his own hand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thankl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reature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cross his lov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your Savior, asks you wh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 who di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souls retrie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died himself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at you might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780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let him die in vai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rucify your Lord agai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ransom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sli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is grac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the Spirit, asks you wh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, who all you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lives hath st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ooed you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embrace h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780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not his grace rece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still refuse to l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long-sou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grie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God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0948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You, on whom 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favors shower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possess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of nobler power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 of reason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powers poss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ith will and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2864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with finer sense endu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reatures capable of Go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blest of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reatures, wh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5. You, whom he ordained to b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ranscripts of the Trin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m 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in life doth hol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for wh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himself was s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4:12Z</dcterms:modified>
  <cp:revision>28</cp:revision>
  <dc:subject/>
  <dc:title>PowerPoint Presentation</dc:title>
</cp:coreProperties>
</file>