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086-8D79-4409-A9E9-7805521B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188-8005-4BEE-8ECB-9E98FD78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99B-9058-41F2-9BD6-777B0E2F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6E6-C306-41E8-8C53-38AF6D3E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1A1-52C1-41BE-B88F-59F3445B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B62-971D-4C0E-8700-CAA632AD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284-657A-45E4-8D7B-1F31729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761-D6C0-498D-9ECC-84AC3D2D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166-843E-4730-93D3-AB9045B4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F42-AED7-4866-B472-C054B77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3E9-A7DF-4148-8DD9-563B467F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847-9C12-417D-97B0-1E320E93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C104-D9D3-4FEC-B740-D33F06924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2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cerning the Scrip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fte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he Book of Common Pr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981080"/>
            <a:ext cx="83055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Blessed Lord, you have caused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all holy Scriptures to be written for our learning. Grant us so </a:t>
            </a: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to hear them, read, mark, learn,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and inwardly digest them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rning the Scrip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447920"/>
            <a:ext cx="83818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we may embrace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er </a:t>
            </a: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hold fast the blessed hope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of everlasting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life,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ich you have given us in 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avior Jesus Chris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6120" y="1752480"/>
            <a:ext cx="8327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o lives and reigns with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e Holy Spiri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ne God, forever and ever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4:45:40Z</dcterms:modified>
  <cp:revision>14</cp:revision>
  <dc:subject/>
  <dc:title>PowerPoint Presentation</dc:title>
</cp:coreProperties>
</file>