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C9F-3D0C-4F64-86DD-AF6FD088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73B-DE41-4B48-9257-35044948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168-898C-4E91-928B-DF5088B3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E97-C123-4CD0-BA97-D9BBDC62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638-8EA3-4F53-8D5B-720080B4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14F-A954-43FD-9D37-CA5C8903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50E-7D31-4161-AF20-BE2EECDF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336-92CA-4D12-9D9E-634CA07C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BAB-426A-4783-8498-8EBF676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56E-F2E0-4B0B-90CE-BC3C621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CD5-2433-4DD3-B301-EFF88B8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E46-DED1-41A9-AAB2-D310340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6E6-462D-41DB-B2C9-522E82F1B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cause Thou Hast S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Because thou hast sai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Do this for my sake,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ystical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ladly partak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hirst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from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ng to inhe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ullnes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here we look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sp at thy m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here that we hop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image to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eans of bestow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ifts we embr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all things are ow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sus’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44:58Z</dcterms:modified>
  <cp:revision>136</cp:revision>
  <dc:subject/>
  <dc:title>PowerPoint Presentation</dc:title>
</cp:coreProperties>
</file>