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8CD-33D4-4CDC-93F3-4C46BE70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6CB-A6B5-4DE9-A89D-106BC7D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3A5-E7D8-4254-B4C2-0F127E8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7E7-40A4-4C78-8AF0-5254C18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2D7-47C4-43E6-A581-02C4E4D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72B-AFE7-4F3C-87C9-A292403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050-E4E6-4F08-9286-77195DE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152-DDA2-4B43-B5F3-B30036B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934-5734-4C43-90D9-7B29E9B6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246-2C42-455B-B569-3541790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702-585E-467B-B083-2720401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309-79E8-4BEC-B81F-C5E6770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3606-CA9F-45CE-8B3C-CD271722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Apostolic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olic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 Corinthians 13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82296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e grace of the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Lord Jesus Christ,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the love of God,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the communion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of the Holy Spirit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e with you all.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18Z</dcterms:modified>
  <cp:revision>163</cp:revision>
  <dc:subject/>
  <dc:title>PowerPoint Presentation</dc:title>
</cp:coreProperties>
</file>