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0E2-4195-46BB-9E47-570166FA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C55-FC81-4002-B546-09D6F806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50C-DEA8-491D-9DDD-291F18BE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1B9-2F03-42F8-B892-BD509915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C90-3391-4F08-9FC2-070C4626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DA1-7793-4AB7-AE79-B6CEEEE4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C52-61EF-4F86-8AF7-DCF1971D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486-F5E9-4B91-98AE-A8B0E938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403-C8EB-4253-9B8C-BD1DAB04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AF0-7764-4D04-8D6C-5EB8347A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67E-D862-46BA-8157-89EF31AB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B7E-4901-41B6-8801-4A87D9A2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1DCB-08F5-4AAE-8EB1-CFE20A5CF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m Shall I Se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om shall I sen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aker cri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ny, w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hear God’s v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Pratt Green, 1970 (Is. 6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sure where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cation li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many shrin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uch a ch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who can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God so p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claim to sp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uch a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doubt mak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step un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elf confu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ai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623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nd yet, belie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ho ca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ws what we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ill may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ast defea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uture fal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dare to answ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sen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ose who are ca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purif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aily g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strength to be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houghts, our skil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energ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fe itse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is on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9:22Z</dcterms:modified>
  <cp:revision>87</cp:revision>
  <dc:subject/>
  <dc:title>PowerPoint Presentation</dc:title>
</cp:coreProperties>
</file>