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453-332A-4C74-84CE-9D40C421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2FC-DED7-417E-B34F-214AE89A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07A-6FD9-4BA8-98C1-0E433B4D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C2D-EDD5-444E-A9EA-3DB595A0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0CB-697F-4640-BFB9-AF51907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9A6-77E5-4074-A377-F968D78F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117-6FDD-46E8-8D63-3A90A739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89D-B532-4320-AC9A-984A6F29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FAC-EBB2-4B1B-A5DE-2084ABD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2B1-6B23-4F51-959E-3D7DB1A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4F9-C658-42F6-A17B-5819E56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C81-6F28-49B1-87F9-AEBFFA6C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FB7-0F2F-4FF6-96C3-9BB8FD17B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aith, While Trees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Are Still in Bloss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aith, while tr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still in bloss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ns the pic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fru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Ansgar Film &amp; Bokproduktion; trans. © 197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ders Frostenson, 1960; trans. by Fred Haan, 1972 (Heb. 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ccept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, respo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I am wi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send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can fe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hrill of harv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bu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gin to spr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ong befo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wn is bre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nticipat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is ea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day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wo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ust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Long befo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ins were co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ah wen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ild an 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raham,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ely migr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w the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Faith, uplif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med the w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undivided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Hebre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nd the p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de them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Faith believe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faithf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will be w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14:57Z</dcterms:modified>
  <cp:revision>42</cp:revision>
  <dc:subject/>
  <dc:title>PowerPoint Presentation</dc:title>
</cp:coreProperties>
</file>