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399-09F8-49ED-BA2B-3606F946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486-5CF3-49AC-AF7F-C2E619D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54D-B87A-425A-ACB6-780D3C61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EA2-83F6-4435-984A-505F72C8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1CC-02B0-4C18-88E3-D633F8F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8E2-1357-4629-A668-3471713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F65-4DD3-4723-80A7-F3626683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B74-23D7-4D34-B74F-9C559062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31E-1663-48DF-88FF-EDC30691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2B2-0A43-4C1C-970F-6864368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98-AF18-414D-8723-829C1D9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ECC-94B9-4BD5-BEA9-B8A2458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8104-A7CA-4A67-934F-1A50FDF81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 the Lor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ign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s his court be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holy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his greatness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6640" y="1600200"/>
            <a:ext cx="462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3 (Ps.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noble dee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for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tchles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from who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proce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ar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elebrate th’etern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arp and psalte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brels so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ymbals 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high praise ag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neful st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reach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ic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od, in whom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e and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creatur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 g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mage to thei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 be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beneat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ing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49Z</dcterms:modified>
  <cp:revision>14</cp:revision>
  <dc:subject/>
  <dc:title>PowerPoint Presentation</dc:title>
</cp:coreProperties>
</file>