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AF56-74E9-4F5B-8AE1-B895892B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5C3A-723C-4432-8A91-87B15808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360B-ABF9-485C-8B6B-E49F5FDE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9AF1-2D3D-4E7A-A8EE-20146284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93F1-6C4E-4A7E-BCB6-70F66E34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F787-667A-48FE-A557-92162997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F690-0997-4DDB-828E-6986C8FD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892D-E214-42F1-9DC2-63182F39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8C08-A633-4B5C-835A-CC677C6C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E285-F0EE-44E5-84B4-DDA10B99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D2A3-5AB7-4527-9299-00A336CB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4177-9C63-4F1C-BA5C-A1E66E1B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D7EC-C236-43A9-82BB-5BE8CFBE9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Love Thy Kingdom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I love thy kingdom, Lord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e house of thine abode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e church our blest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Redeemer saved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ith his own precious bloo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hy Kingdo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1800" y="1139760"/>
            <a:ext cx="30488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Timothy Dwight, 18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I love thy church, O Go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r wal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fore thee st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ar as the app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ine ey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raven on thy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hy Kingdo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For her my tears shall f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her my prayers asce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her my car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oils be giv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toils and cares shall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Love Thy Kingdom, Lor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Beyond my highest jo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prize her heavenly way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r sweet commun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lemn vow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r hymns of love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hy Kingdo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Sure as thy truth shall last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Zion shall be giv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brightest glori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rth can yie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righter bliss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hy Kingdo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15:22:50Z</dcterms:modified>
  <cp:revision>12</cp:revision>
  <dc:subject/>
  <dc:title>PowerPoint Presentation</dc:title>
</cp:coreProperties>
</file>