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090-C64D-441A-A42F-6BD91D15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BA2-7402-4D12-A58B-01822698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D7F-04B2-4BF0-A177-9923FD21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EA9-0083-4A9B-BBEC-3D28853C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B23-924D-4327-BDA3-216AA8D7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FCF-038B-49AA-8DAB-1102F577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747-E085-4D8C-B3DA-3E08FD3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2AB-360F-4D08-9ED3-1F2C5F10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F7C-E880-4D5B-A6CD-D266219D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72B-25F7-4735-8774-5A8230EC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376-AB82-48A8-BC83-C711AC5F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80E-FFA1-4493-8B3F-41051877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9CA-7FCF-4E75-9F78-BE43878D5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or Courage to Do Ju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Courage to Do 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Alan Paton, South Africa, 20th c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85840"/>
            <a:ext cx="8839440" cy="55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pen my eyes that I ma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see the needs of other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pen my ears that I ma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hear their crie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pen my heart so that the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need not be without succo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8, 1982 Seabury Pres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let me not be afraid to defe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weak because of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ger of the strong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nor afraid to defend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poor because of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ger of the r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Show me where love and hop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faith are need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use me to bring the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o those pla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096920"/>
            <a:ext cx="88390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so open my eye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and my ear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that I may this coming da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be able to do some work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of peac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5:48:36Z</dcterms:modified>
  <cp:revision>151</cp:revision>
  <dc:subject/>
  <dc:title>PowerPoint Presentation</dc:title>
</cp:coreProperties>
</file>