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C7B5-773D-4ECD-AC89-A83E588A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6D79-D0AA-48D8-A926-A9791DE3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15C2-5683-413F-ACAC-73BA21B8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FD1D-EED1-4949-9089-5910EE75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BEF7-EBEA-4F5D-B853-2F4F076F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B1BB-004B-45DD-B411-F7C082B0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F282-70C6-4534-9FFF-569EE0FE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DE3D-0C64-4422-AD31-FA7D24EE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DD35-46B2-4660-9CE3-A742452D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7863-C709-4E8B-A476-7FFA9B40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8A65-453A-45AB-84B2-DF502C1C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E6D5-F3B5-4582-9D2E-F1C63D6C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7F61-8DD9-42B5-9BF7-AB893D0B4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Kyrie Ele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261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yrie elei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yrie elei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yrie elei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yrie Ele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86880" y="1052640"/>
            <a:ext cx="2378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Ancient Gree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7:10:43Z</dcterms:modified>
  <cp:revision>24</cp:revision>
  <dc:subject/>
  <dc:title>PowerPoint Presentation</dc:title>
</cp:coreProperties>
</file>