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FEB-B67D-43D9-A273-1D78B7B2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58D-0145-4568-9669-A981D413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C97-C82B-4A6E-8562-2DA87983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7F0-5DE1-4BB6-9E88-21A90B0E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02A-5A18-4792-8878-88698BE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99C-90DB-4E90-B826-1AC63BAE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35F-8B09-4925-AD63-87C575A4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447-5620-4854-A3BE-FB1B2C7F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C81-4947-4C1A-A228-8C7B71F3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D88-AC40-4F7D-A7DB-A9B18A6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991-C9CD-4E37-9C4F-83FB73A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04F-7048-4AB0-B000-7F8A878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F057-7676-4B01-9049-1071E8D53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ather, we thank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plan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reek, 2nd cent.; trans. by F. Bland Tucker and others, 1939, 1982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48:29Z</dcterms:modified>
  <cp:revision>70</cp:revision>
  <dc:subject/>
  <dc:title>PowerPoint Presentation</dc:title>
</cp:coreProperties>
</file>