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204-27E3-49BA-94EA-9E1B2906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EA7-6DCC-4807-8AD8-80338440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856-64DE-420B-98AF-D9D10924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70F-4D94-4A80-B275-82DD9DCE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E36-DA19-4C20-B6B7-33BB0763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15A-74A4-4EC3-A43F-195CF0AB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E53-90DE-4D44-8374-D7E8DFFA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6B7-667D-4333-83E9-61F300DC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0C8-B231-4CF9-9DAF-71F8556D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EF3-D161-4C5C-B21D-3443617B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385-EDFF-4CB0-BBC0-B1477589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208-5FDC-44B6-808F-4AB0942F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06B1-2EA2-4883-901E-9CC51D163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for a New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9072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 who art over u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 who art one of u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 who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rt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ive me a pure he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I may see th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Markings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© 1962 Alfred A. Knopf, Inc. and Faber &amp; Faber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for a New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2040" y="990720"/>
            <a:ext cx="4414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Dag Hammerskj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öld, Sweden, 20th cent. (Mt. 5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38280"/>
            <a:ext cx="845820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 humble he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I may hear the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 heart of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 heart of faith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I may abide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18Z</dcterms:modified>
  <cp:revision>15</cp:revision>
  <dc:subject/>
  <dc:title>PowerPoint Presentation</dc:title>
</cp:coreProperties>
</file>