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501-2244-4D6A-8D1C-E27827FC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CD9-0752-4815-8512-33E3B5D9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8F9-7CBA-4DE2-BEAB-3C2C7DF3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2A4-48C8-4DDC-9FBF-638A8E4F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CF2-255D-4EF2-A32C-3D8B09D9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F36-CCDE-48A8-AA0A-4ED87E4A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542-E0C0-48AE-AF0B-DBFE780A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C54-E03E-4270-958A-1FE50841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DF2-EC69-4A3B-AB64-A4C4BF23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083-80FC-48E6-82BD-38EB7F85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BA6-7299-44DB-972B-DA80030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334-0F89-40E9-AEE1-A0F17027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EA5F-80AA-4825-8A6B-EDCB81A55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I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is her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we your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eet to off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and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church and kingdom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an ag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change and doub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us faithfu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e gospel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lp us work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r purpose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, in thi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y’s dedic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we have to give, receiv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, who canno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ve without you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adore you! We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we fi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fuller measu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at it is 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we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, as 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world around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our varied skills and ar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ait the com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the Spiri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to open minds and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are symbo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remind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our lifelo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eed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are tabl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nt, and pulpi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the cro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s central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in honest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preach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in silence, as in speec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, in new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renewa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the Spirit comes to ea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our childre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ind a welco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e Shepherd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lock and f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as brea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wine are take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sustains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the servan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the Servan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ek in worship to explo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at it mean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daily l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believe and to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20:50Z</dcterms:modified>
  <cp:revision>152</cp:revision>
  <dc:subject/>
  <dc:title>PowerPoint Presentation</dc:title>
</cp:coreProperties>
</file>