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977-D2F3-4905-A2D6-45DC82A4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B2F-982B-4FB7-9511-1A85332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619-7BC9-4163-B983-2E50566D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9FE-92F5-403E-92A6-A2EAB6E9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36C-DE8A-49EE-A1DC-8D5979F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EAC-F8B2-49E9-BDAF-5A540FE8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184-4024-434A-A35E-59EF2CF9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36A-24A8-4D3A-9CD0-7592763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ABA-AA29-4210-94EB-0ECCA0A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7CF-3823-4877-BF9B-ACC0B4B5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59B-34DA-4BD2-AD1D-25F82CD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A8B-2F38-49D1-9E10-0646FCF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3ED-1649-4EC9-AC06-15AE63D5E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Christ, the Hea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Christ, the heal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ave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 for h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lead for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8080" y="1066680"/>
            <a:ext cx="3457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Pratt Green, 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ness th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riching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reach the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can we fa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resto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reached b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never en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every ail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esh end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bodies clam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fr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in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uld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holeness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epest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w strong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our desir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weak our know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selv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lease in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healing tru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onscious pr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ists or shel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conflict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troy our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cogniz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’s dis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clares our ill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ere no c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hrist, for the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rant that we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one in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ty may f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02Z</dcterms:modified>
  <cp:revision>22</cp:revision>
  <dc:subject/>
  <dc:title>PowerPoint Presentation</dc:title>
</cp:coreProperties>
</file>