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A085-81D5-4BD6-99A0-6DE3BD7AF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2903-7E3B-49C8-AD77-D30CD33C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F1D0-79E0-44A2-BDE0-138E84AAE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6BBC-7BC0-4FF3-8D57-7E6B0BCAF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8D32-1DFB-4200-BCEC-CC1FEDFC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8DD5-8710-4629-882E-26820ABE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F589-BAF3-4B06-BC5D-15E0D85D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20F6-388D-4905-A53B-A04EE264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26DD-46E1-4754-B7A8-FAEC3F0E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28AD-A89C-44A3-94FF-A3F97CAB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664E-9EA9-4984-8556-BAEA16C8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AD48-9B27-4843-B28C-C23A8ECA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FF97-F451-4E22-87A4-0D436948F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Spirit of God,</a:t>
            </a:r>
            <a:br>
              <a:rPr sz="4000"/>
            </a:b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Descend upon My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Spirit of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scend upon my hear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an it from earth; throug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its pulses m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God, Descend upon M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09000" y="1596960"/>
            <a:ext cx="3724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George Croly, 1867 (Gal. 5:2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kindling of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ven-descended D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heart an alt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hy love a fl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oop to my weakne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ighty as thou ar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ake me love th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I ought to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I ask no drea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 prophet ecstasi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 sudden rend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veil of cl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God, Descend upon M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 angel visitan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 opening skie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take the dim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my soul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9400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Hast thou not bid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e thee, God and King?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, all thine own, soul,</a:t>
            </a:r>
            <a:br>
              <a:rPr sz="50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heart and strength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and min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God, Descend upon M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see thy cross; the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each my heart to cling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let me seek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 let me fin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Teach me to feel th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 art always nigh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each me the struggl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soul to b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God, Descend upon M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check the ris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oubt, the rebel sig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each me the patien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unanswered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Teach me to love th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thine angels l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holy pass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ing all my fr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God, Descend upon M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6:39Z</dcterms:modified>
  <cp:revision>12</cp:revision>
  <dc:subject/>
  <dc:title>PowerPoint Presentation</dc:title>
</cp:coreProperties>
</file>