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58B-111D-4D2A-A32B-5C75A0B2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776-798E-49B3-AA46-5EBCC6F4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34A-5A28-4724-ACFA-0C6402F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C5D-2302-4EA8-9D88-020A73EC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767-12E3-4AC4-9E8B-0258ABF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C6D-F805-4264-AF88-E2FF7765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ACF-CD1F-41CC-924B-60C00099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FA0-D157-4B3B-91E6-3C7AD584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A97-74C7-4090-B190-DD24373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7C1-8C4E-40FE-834D-DE6BE53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7D5-026C-4273-AF5D-2C1CEF15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237-1973-442A-AD4C-7505F0B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2FF8-0D35-48FA-8AE1-B9038917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 Ye 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“Are ye able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d the Mas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to be crucified with me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arl Marlatt, 1926 (Mk. 10:35-4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liev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triump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ommend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to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spers down eterni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as then in Galil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a,” the stur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amers answe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to the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ollow th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re ye a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ememb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ts up his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 place in paradi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re ye a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had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se around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s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2:59Z</dcterms:modified>
  <cp:revision>57</cp:revision>
  <dc:subject/>
  <dc:title>PowerPoint Presentation</dc:title>
</cp:coreProperties>
</file>