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2A0-6AD8-4AE4-8321-1CDD65C1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DA9-4A22-4C69-9632-DDF80694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124-D010-4BB7-BF73-E2EE9D68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975-DBA1-4E76-AC94-5B72B293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AB2-07F8-4BE5-BADD-5A31D609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73A-1F7B-408C-B206-2FF5DB71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657-CEE3-452E-B1BE-D0BAAC81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A88-C8D0-4B17-A33F-68DA1321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946-5FE1-4E9D-BD35-B42A1E9C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BFE-0F9C-44FD-8E1B-ECB7CFC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75D-ACE1-4DCC-AEFE-ED1D81EC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95F-70A4-41D9-B354-A72CEFE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C206-1F32-4DE2-8AA0-E3C2F8F17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 the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pacious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mber waves of gr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urple mountain majest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fruited pl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1240" y="1143000"/>
            <a:ext cx="3352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Katharine Lee Bates, 19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43828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ed his grace on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own th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rother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ea to shining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oes pr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berating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ore than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ountry 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more than lif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od thy gold ref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success be noble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gain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atriot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es beyond the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lab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ities gl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dimmed by human te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59092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end thine every f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irm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lf-contr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iberty in la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21:15Z</dcterms:modified>
  <cp:revision>34</cp:revision>
  <dc:subject/>
  <dc:title>PowerPoint Presentation</dc:title>
</cp:coreProperties>
</file>