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F4F0-0FEC-4D0B-8AB4-AD6DDAE1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0A9A-8947-413E-AA75-43580B04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681B-B2C8-426F-8EDC-C187A8EA2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CBE6-8E89-4708-AA14-8D8D7455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3F54-3D4B-4682-8594-87B62210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48E9-8FD7-4BF7-A7C8-C5B99CF9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FAFE-CBAA-4A25-BCD7-A0E2B37D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2B4B-4E26-4309-AE53-DD563AC2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FC7D-EC5F-408A-9BEA-C70E9592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2BD6-C7A9-427E-93A8-27360A32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A835-0948-48F6-887B-C1DD1362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C413-3346-46BE-92E1-3B8FB1C6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6E46-5328-430D-A91E-F909AF91A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ur Earth We Now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ament to 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Earth We Now Lament to S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harles Wesley, 17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981080"/>
            <a:ext cx="8686800" cy="432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Times New Roman"/>
                <a:ea typeface="Arial"/>
              </a:rPr>
              <a:t>1. Our earth we now lament to see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Times New Roman"/>
                <a:ea typeface="Arial"/>
              </a:rPr>
              <a:t>    </a:t>
            </a:r>
            <a:r>
              <a:rPr b="0" lang="en-US" sz="4600" spc="-1" strike="noStrike">
                <a:solidFill>
                  <a:srgbClr val="ffff00"/>
                </a:solidFill>
                <a:latin typeface="Times New Roman"/>
                <a:ea typeface="Arial"/>
              </a:rPr>
              <a:t>with floods of wickedness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Times New Roman"/>
                <a:ea typeface="Arial"/>
              </a:rPr>
              <a:t>	</a:t>
            </a:r>
            <a:r>
              <a:rPr b="0" lang="en-US" sz="4600" spc="-1" strike="noStrike">
                <a:solidFill>
                  <a:srgbClr val="ffff00"/>
                </a:solidFill>
                <a:latin typeface="Times New Roman"/>
                <a:ea typeface="Arial"/>
              </a:rPr>
              <a:t>overflowed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Times New Roman"/>
                <a:ea typeface="Arial"/>
              </a:rPr>
              <a:t>    </a:t>
            </a:r>
            <a:r>
              <a:rPr b="0" lang="en-US" sz="4600" spc="-1" strike="noStrike">
                <a:solidFill>
                  <a:srgbClr val="ffff00"/>
                </a:solidFill>
                <a:latin typeface="Times New Roman"/>
              </a:rPr>
              <a:t>with violence, wrong, and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4600" spc="-1" strike="noStrike">
                <a:solidFill>
                  <a:srgbClr val="ffff00"/>
                </a:solidFill>
                <a:latin typeface="Times New Roman"/>
              </a:rPr>
              <a:t>cruelty,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Times New Roman"/>
              </a:rPr>
              <a:t>   one wide-extended field of blood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where men like fiend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each other tear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in all the hellish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rage of w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219320"/>
            <a:ext cx="86868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2. As listed on Abaddon’s sid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they mangle their own flesh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and slay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ophet is moved, and ope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id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its mouth for its enormous prey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1919160"/>
            <a:ext cx="83818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and myriads sink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beneath the grav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and plunge into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the flaming wa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3. O might the  universal Frien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this havoc of his creatures see!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Bid our unnatural discord en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declare us reconciled in the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90512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Write kindness on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our inward part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and chase the murderer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from our heart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914400"/>
            <a:ext cx="868680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4. Who now against each oth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ris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the nations of the ear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constrain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to follow after peace, and priz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the blessings of thy righteo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reig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the joys of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unity to prov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the paradis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of perfect lov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0:27Z</dcterms:modified>
  <cp:revision>150</cp:revision>
  <dc:subject/>
  <dc:title>PowerPoint Presentation</dc:title>
</cp:coreProperties>
</file>