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DA0-B7D5-441E-8D03-C76822F5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229-875A-4C4D-8E59-2C0F50C5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CE5-5829-4238-AC4F-3764C73A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739-0255-4EA2-935F-9F7C65D4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9F2-F295-4000-9BFC-ECA8FB45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762-FBE3-4C1F-AC65-1FA5621B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039-E490-4D50-B73E-7209A21C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67A-B6C9-49A7-9370-C1E9C383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DBB-D7DB-4E7A-ACD6-D25E48F7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8512-56B3-482E-AAA6-51214208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242-4EC3-4CEA-A6E4-188926D0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049-6671-42ED-B549-AF7CEEDD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129D-27F8-4EF0-8D75-0DEC82CB3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Thou Almighty King</a:t>
            </a:r>
            <a:br>
              <a:rPr sz="4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n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9528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Come, thou almighty King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lp us thy name to sing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lp us to prais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ather all gloriou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’er all victoriou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 and reign over u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cient of Day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Almighty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ome, thou incarnate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rd on thy mighty s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prayer atten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and thy people bl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 thy word succe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 of holi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us desce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Almighty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e, holy Comfor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acred witness b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s glad hou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who almighty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rule in ever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ne’er from us dep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 of pow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Almighty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o thee, great One in Th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praises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nce, evermor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overeign majes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we in glory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etern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ad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Almighty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3:45Z</dcterms:modified>
  <cp:revision>9</cp:revision>
  <dc:subject/>
  <dc:title>PowerPoint Presentation</dc:title>
</cp:coreProperties>
</file>