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8BF-530D-435F-A681-E2FC933D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954-B5BB-4283-809D-C2A4F7F8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AA2-E12E-43B5-A42E-D7E232BC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18F-2C77-4CC0-8F50-96D64813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0BE-9B98-484A-9786-C7F028E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9A9-2AB3-4B0B-9440-1060DFE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7FC-CD34-4227-AD1B-AE94EA3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770-CA1D-4563-9690-1F864A8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149-F11E-43DD-B6FD-CB309D1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37A-532A-4116-A003-96A86FB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57F-84AA-4DD8-831D-86B28C1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536-1208-4722-8713-B4CBCE9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9B1-ECE6-4ADA-9038-FC6E3A6AA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natch them in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, 1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49Z</dcterms:modified>
  <cp:revision>95</cp:revision>
  <dc:subject/>
  <dc:title>PowerPoint Presentation</dc:title>
</cp:coreProperties>
</file>