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86C-5450-4E97-B897-1B4BF36A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FFE-6B0E-4687-A860-D710610D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D7D-CB6C-453C-A180-9EF9A6EA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30B-6A04-407F-8141-5AD46B15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2E5-A30F-4A3E-8867-77BD069E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54D-A776-4D9D-9AEB-E0347725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96C-3E76-4B7D-A283-5CD3915C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4C8-008A-42CB-9505-265C5D52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C84-96CE-4E2D-9490-591D2CE1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8CB-238E-4C96-8F1A-E18038E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732-7AD1-4917-B11C-C887C919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AB7-40BD-42B0-829F-D23AC08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7FE5-184B-4411-AC93-DAB4A976F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Ascen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44792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Venantius Honorius Fortunatus; trans. from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English Hymnal,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481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8195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81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He who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ailed to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Ruler and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crea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Dail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liness gr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ned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of bloss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ates unb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inging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crease of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8954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45:42Z</dcterms:modified>
  <cp:revision>82</cp:revision>
  <dc:subject/>
  <dc:title>PowerPoint Presentation</dc:title>
</cp:coreProperties>
</file>