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F35F-5A8E-4A01-A17E-C7B99576A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88C2-DFE8-40D7-90F7-BB49ACF5F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5001-C779-4775-BB19-D61895B40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1C8B-D125-43BF-BF85-46EB5F6AB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A6E3-F397-415D-81A1-647B37773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21B4-8720-40AB-A716-084C57C43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6929-4480-44D3-9A01-3A476A02F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C021-6E37-4F24-8A04-919309A74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FC7B-0BEC-4183-A5E3-FB702FFC0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149E-2192-472E-A88A-55C199577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A5B1-4C0D-4C6C-8B54-E20DE2CA7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088F-BD47-4708-9F0C-2F89D56B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34B36-32F9-4C55-9A43-D695001AD9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8839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ff"/>
                </a:solidFill>
                <a:latin typeface="Times New Roman"/>
              </a:rPr>
              <a:t>Let It Breathe on 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99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Times New Roman"/>
              </a:rPr>
              <a:t>5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382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Let it breathe on me;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let it breathe on me;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let the breath of the Lord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now breathe on me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© 1942, renewed 1969, Martin &amp; Morris Music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It Breathe on 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55480" y="1292400"/>
            <a:ext cx="446004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Times New Roman"/>
              </a:rPr>
              <a:t>WORDS: Magnolia Lewis-Butts, 1942 (Jn. 20:2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9072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Let it breathe on me;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let it breathe on me;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let the breath of the Lord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now breathe on me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6:51:48Z</dcterms:modified>
  <cp:revision>14</cp:revision>
  <dc:subject/>
  <dc:title>PowerPoint Presentation</dc:title>
</cp:coreProperties>
</file>