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BBD5-1EE6-4064-A7A9-C4B2CA5A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821F-4F33-4313-A0B0-024F8EED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0A72-93D4-49AC-A3D1-758BF948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B8E6-4191-4D73-B934-FBABEA8D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68A1-5D3E-428B-AFD8-872F8213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E2F1-5356-405E-BAFB-41FF48B0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AFD8-9FD7-4523-9CB8-4D554DCE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FC11-9E55-4B68-9EFC-CA6D1A29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6C88-EDAC-4CF4-964D-428E1CFE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74CF-FD51-4D03-BD0C-78A60D3A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E177-AE21-446B-A2CE-CBECC59D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3379-ACCB-4906-B14E-C0231566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9E1F-B2A7-4F53-B176-ADC75C845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e, Holy Ghost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ur Souls Insp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Come Holy Gho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ouls inspi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ight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celestial fi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Soul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4560" y="1623960"/>
            <a:ext cx="78372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Attr. to Rhabanus Maurus, 8th-9th cent. trans. by John Cosin, 1627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the anoint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irit 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dost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venfold gifts imp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y blessed unc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ab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comfort, lif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ire of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Soul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able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rpetual 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dullnes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blinded s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oint and che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oiled f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abunda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y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Soul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eep far our foe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peace at ho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thou art gu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ill can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ach us to k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Father,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e, of bo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 but 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Soul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hrough the ag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al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, this may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endless song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o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me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ther,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oly Spirit. 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7:04:21Z</dcterms:modified>
  <cp:revision>10</cp:revision>
  <dc:subject/>
  <dc:title>PowerPoint Presentation</dc:title>
</cp:coreProperties>
</file>