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F6FA-B765-4FE9-BB1A-4A1A9FAC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1BA4-F63E-4120-B95E-391D40A0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7E55-F5C0-49A8-89C1-035E89C2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4CED-603F-4B40-9CCC-89368ECA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DBD-05C3-4B0C-8628-A4396D34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3B97-52A1-4040-ACBC-E5CAD490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2AC8-DBB5-4749-944F-4B93AFB4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266-EB7A-4718-AA72-2CC93A9F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B695-0656-4958-8384-AF083462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33B2-1407-4A3D-A787-B577A99B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2C8-B333-4079-920E-67DF5183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C85B-A0D0-4F29-A2D2-D260A71B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9A52-DA02-4749-9E44-4DCB0BFFD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eople, Look E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630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1. People, look east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time is near of th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crowning of the y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Times New Roman"/>
                <a:ea typeface="Arial"/>
              </a:rPr>
              <a:t>Words by permission of David Higham Assoc. Lt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8560" y="990720"/>
            <a:ext cx="3791160" cy="414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Eleanor Farjeon, 1928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4. Angels announc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 shouts of mirth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im who bring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new life to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et every peak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valley humming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 the wor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Lord is com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593640"/>
            <a:ext cx="9144000" cy="563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eople, look east</a:t>
            </a:r>
            <a:br>
              <a:rPr sz="5000"/>
            </a:b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     </a:t>
            </a:r>
            <a:r>
              <a:rPr b="0" lang="en-US" sz="46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(People, look east:)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sing today:</a:t>
            </a:r>
            <a:br>
              <a:rPr sz="5000"/>
            </a:b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0" lang="en-US" sz="46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(People, look east:)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ove, the Lor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s on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Make your house fai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s you are abl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rim the hearth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set the tab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66680"/>
            <a:ext cx="9144000" cy="563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eople, look east</a:t>
            </a:r>
            <a:br>
              <a:rPr sz="5000"/>
            </a:b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      </a:t>
            </a:r>
            <a:r>
              <a:rPr b="0" lang="en-US" sz="46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(People, look east:)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sing today:</a:t>
            </a:r>
            <a:br>
              <a:rPr sz="5000"/>
            </a:b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   </a:t>
            </a:r>
            <a:r>
              <a:rPr b="0" lang="en-US" sz="46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(People, look east:)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ove, the Guest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s on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Furrows, be glad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ough earth is bar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ne more see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s planted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ive up your strength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seed to nourish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at in cours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flower may flouris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93640"/>
            <a:ext cx="9144000" cy="563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eople, look east</a:t>
            </a:r>
            <a:br>
              <a:rPr sz="5000"/>
            </a:b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      </a:t>
            </a:r>
            <a:r>
              <a:rPr b="0" lang="en-US" sz="46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(People, look east:)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sing today:</a:t>
            </a:r>
            <a:br>
              <a:rPr sz="5000"/>
            </a:b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0" lang="en-US" sz="46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(People, look east:)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ove, the Ros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s on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Stars, keep the watch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hen night is dim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ne more ligh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bowl shall bri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hining beyon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frosty weather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right as su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moon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93640"/>
            <a:ext cx="9144000" cy="563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eople, look east</a:t>
            </a:r>
            <a:br>
              <a:rPr sz="5000"/>
            </a:b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    </a:t>
            </a:r>
            <a:r>
              <a:rPr b="0" lang="en-US" sz="46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(People, look east:)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sing today:</a:t>
            </a:r>
            <a:br>
              <a:rPr sz="5000"/>
            </a:b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0" lang="en-US" sz="46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(People, look east:)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ove, the Star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s on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2:21Z</dcterms:modified>
  <cp:revision>52</cp:revision>
  <dc:subject/>
  <dc:title>PowerPoint Presentation</dc:title>
</cp:coreProperties>
</file>