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0C1-27E0-40D8-B1DF-CEC2CF9A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7BBE-1EF4-41D3-82C2-A98C21C0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DB4A-B2A6-4797-8589-A93834A8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152-8CF3-492F-B6DB-04314650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F1E-4F73-4F3C-A93B-0FE0B37E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B731-B65B-47AE-BB0B-CA761C4D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8136-C98F-422A-B1FE-9CE0E03C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7D2-A1ED-4D04-8D25-1BE5BD2E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0E4-2BF7-43F2-9BCA-ED39A9BD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19CA-C1DD-446D-938E-8A2318DC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DE1E-E61D-4128-8391-8101A2F7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9E84-36AA-46A3-8DE1-DCC4CF84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E0C6-5461-4E61-A944-BCA70235C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give Our Sin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s We Forg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“Forgive our si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we forgive,”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taught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to pr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69, 1983 Rosamond Herklots, by permission of Oxford University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give Our Sins as We Forg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93200" y="1523880"/>
            <a:ext cx="45273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Rosamond E. Herklots, 1966 (Mt. 6:12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you alo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n grant us gr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live the words we s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How can your pard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ach and b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unforgiving he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give Our Sins as We Forg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broods on wro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ill not l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ld bitterness depart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In blazing l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cross revea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truth 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imly kne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give Our Sins as We Forg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 trivial deb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owed to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great our debt to you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Lord, cleanse the depth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in our soul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id resentment c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give Our Sins as We Forg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, bound to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bonds of lo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lives w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read your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40:59Z</dcterms:modified>
  <cp:revision>14</cp:revision>
  <dc:subject/>
  <dc:title>PowerPoint Presentation</dc:title>
</cp:coreProperties>
</file>