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A36-BB44-4EF8-A786-7532D022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492-5735-4B8D-9C2F-BD19EA53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6AC-C9CE-4C67-B808-E8F1FA6F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FA9-3191-401E-AE6C-3810E000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9A4-CE4F-422D-A898-64E2D14C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7A7-C40D-4983-86A4-CFF8459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9A2-0D96-4FDF-AC30-08E9EA8D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FE2-A481-44A3-BFF6-CE51050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5DB-52A8-4DF3-A14C-CC4F65E1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D4B-896A-4024-99CB-4E89999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790-4197-44BF-AADA-57C407B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523-928F-4C59-93EF-174D59A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4448-D0DD-42B3-8B98-2C9EA6BB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Merciful Go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you sent your messenger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e prophet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o preach repentance and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prepare the way for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6600" y="1028880"/>
            <a:ext cx="60206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;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alt. by Laurence Hull Stoo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Give us grace to heed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eir warning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and forsake our sin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at we may celebrat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aright the commemoration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of the nativi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09692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and may await with jo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the coming in glory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Jesus Christ our Redeemer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One God, forever and ever.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59:56Z</dcterms:modified>
  <cp:revision>52</cp:revision>
  <dc:subject/>
  <dc:title>PowerPoint Presentation</dc:title>
</cp:coreProperties>
</file>