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0769-CCEC-48BF-A640-1D83F9C9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0611-3ECC-4362-9227-3D99CE81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D602-4FEF-46B4-86E7-21CE3A85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2316-8E39-4682-9F21-316831E0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F24B-748D-42CE-BB71-17AC98A0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2D41-7323-4574-ACA2-6E7D7960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F3C7-CBC3-4595-8B99-F99912E5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52B5-EB6B-4734-B442-66FB5488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9C41-78EA-4F57-897D-3EA2A1F1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7258-2BF4-4C0B-A5B3-46D9C882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BBBB-F456-46C1-B61B-B0C99436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4AAD-7A43-4C26-8C52-D99E93D0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05F2-FE1D-4D4F-B77D-7F46D95CA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aise God, from Whom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ll Blessings F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9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987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God, from wh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blessings flow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him, all creatur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re bel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God, from Whom All Blessings Fl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ld 100th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58680" y="1600200"/>
            <a:ext cx="36248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WORDS: Thomas Ken, 167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him ab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 heavenly hos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Fa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n, and Holy Ghost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2:42Z</dcterms:modified>
  <cp:revision>11</cp:revision>
  <dc:subject/>
  <dc:title>PowerPoint Presentation</dc:title>
</cp:coreProperties>
</file>