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26C-4E58-4A10-8BA1-1041099D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E78-ADE1-4704-9E14-2915A2D2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44A-F180-4B8F-AD51-7CB3C63F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FB9-42E2-4D94-B81C-17A7AF05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0A0-AC91-4E52-B970-D410B978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783-ECE2-429D-B3E3-5A4D4E85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1A5-8868-401F-AA4F-5FEC2670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1DF-8415-4A4E-80DF-C7BD3FE7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CE3-695C-410E-A88F-BA8BD8CC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AC5-ABD2-4B62-A70F-99C7F99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AFC-0491-4729-9C63-77A0C0DB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C26-AD45-47A9-895D-FAEF08D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8EB7-E337-4775-8105-EAAC36D68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 Let Us fro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Now let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table r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Kaan, 19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ith minds ale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07Z</dcterms:modified>
  <cp:revision>135</cp:revision>
  <dc:subject/>
  <dc:title>PowerPoint Presentation</dc:title>
</cp:coreProperties>
</file>