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082-29D7-4E88-869C-6A02C80F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4E0-603C-4B52-A4FF-B91C975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D71-182D-403A-AFA8-4483B54E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3DB-7DC0-4C6B-AA29-B5F476A2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FDE-FB21-4274-8D98-4EEFDA3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027-3B29-4183-B738-343D925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1C5-C73A-47F9-8181-2C2A6A3F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8D5-5A20-4146-9B59-54E96BF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8DF-083E-4532-8E06-6BE7148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BC8-6A03-496F-8609-3FD7204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8AE-EB9A-42C3-9536-2A568CD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EF7-E53D-453E-96AA-75A1A5D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3CF-9443-4224-8FD5-517F34AE0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ning on the Everlasting 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a fellow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joy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18960" y="106668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Elisha A. Hoffman, 1887 (Dt. 33:27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6668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9:45Z</dcterms:modified>
  <cp:revision>54</cp:revision>
  <dc:subject/>
  <dc:title>PowerPoint Presentation</dc:title>
</cp:coreProperties>
</file>