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58F-4502-40CA-B9EA-B59849B0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DD3-7A5C-469C-AE87-0BBA3BE2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F33-4A6F-41E2-9797-553E2BD2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CD7-3BA4-4E6C-B1EB-C57C4929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CF31-B856-450E-985E-2298AFA1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FF6-7BB1-4B2A-A72D-9A43CEC1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CA8D-D97E-4B2C-9678-AE39D1ED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A2C-D7BE-4149-8389-3D363507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9BC-6D78-4D16-83F4-D60FBD6A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732-98EA-465F-8B77-FF9A5559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11A-98CB-4B1C-BE9E-70912CCD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F64-6B96-4F7D-BD8B-B3595309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4868-F264-4279-9DD3-16A8ED998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 the Garden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I Come to the Garden Alon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. Austin Miles, 1913 (Jn. 20:11-1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1. I come to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garden alon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hile the dew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is still on the ros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ut he bids me go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rough the voice of wo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is voic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me is cal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28600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walks with m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talks with m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tells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am his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e joy we shar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s we tarry ther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ne othe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s ever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e voice I hea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alling on my ea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Son of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od disclos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1460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walks with m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talks with m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tells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am his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e joy we shar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s we tarry ther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ne othe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s ever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He speaks, and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ound of his voic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s so sweet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irds hush their sing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e melod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at he gave to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ithin m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art is ring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66688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walks with m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talks with m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tells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am his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e joy we shar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s we tarry ther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ne othe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s ever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I’d stay in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arden with him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ough the nigh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round me be fa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7:25Z</dcterms:modified>
  <cp:revision>72</cp:revision>
  <dc:subject/>
  <dc:title>PowerPoint Presentation</dc:title>
</cp:coreProperties>
</file>