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683-6D78-4150-B25A-C625813E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BA2-C568-4EFC-803F-D6C8124B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12E-DB26-4120-A866-3FF7C8E4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664-1DE4-4932-AEED-DCB0A81B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308-C5A1-4C9B-BC59-42E4CC22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0AF-A602-449A-AD07-FC7D593D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F15-B053-428E-9A23-3DD17D0D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E0F-6F7C-4110-A097-C3472746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DB1-3211-4CB4-933C-B0864FB5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C5AD-0E14-4154-8831-82A2094D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CAE-1553-4FC2-A57F-9EBB9CE1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043-406D-4234-8D56-A1BCADC8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C011-5CB7-4104-A03D-495439C92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Things Bright and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0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ures 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1000" y="990720"/>
            <a:ext cx="64321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WORDS: Cecil Frances Alexander, 1848 (Gen. 1:3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86000"/>
            <a:ext cx="9144000" cy="310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ures 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God gav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yes to see th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ips that we might te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has ma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w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743200"/>
            <a:ext cx="9144000" cy="310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ures 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Each little fl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ope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ch little bird that s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made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wing colo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de their tiny w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971800"/>
            <a:ext cx="9144000" cy="310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ures 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purple-hea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untai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iver running b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uns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rightens up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590920"/>
            <a:ext cx="9144000" cy="310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ures 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cold w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win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leasant summer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ipe fru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garden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made them every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7:58:28Z</dcterms:modified>
  <cp:revision>8</cp:revision>
  <dc:subject/>
  <dc:title>PowerPoint Presentation</dc:title>
</cp:coreProperties>
</file>