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60C-3D87-4BAA-B64B-E5EA627E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914-C988-47A3-965E-2DC4EB5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6B7-5F4F-4415-99D2-5416BC7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CFE-D3EE-46DC-96B8-C92C2A98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87F-CA62-42F5-9540-E8B285E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D41-F52B-462A-A987-57E93532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3FA-F41C-4451-9B7D-8CF7AF4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FB1-04F8-4A02-B044-A5A28AE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262-86D7-4E4D-A3FA-62E7D780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1A5-B52B-41DE-B025-A2AC574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11C-98FF-4118-A2C2-4E531296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E48-F1AE-40DC-ACEA-280C3C5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E4FD-0E4B-4105-8E55-347B08366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7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lory will be our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ight shall be no more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© 1988 S T Kimbrough, Jr.; 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H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400" y="1066680"/>
            <a:ext cx="70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evelation 21:1-6, 23-24; 22:5, 12, 20, adapt. by S T Kimbrough, Jr.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esponse Revelation 21:23; 22:5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hear On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peak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I mak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ll things n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7432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begi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en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66688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ur Lord testifi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ese th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I am coming soon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 Come, Lord Jesus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7432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see a ne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eaven and ea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the old will pas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9548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shall see a new Jerusal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ly city descend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rom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ity shall ne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 sun or moo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God’s gl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be its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God’s Lamb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 its lamp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by its light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nations shall walk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hear a lou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voice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God’s dwell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s with mort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deed, God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dwell with th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y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 God’s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7432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d shall wipe awa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ll our tear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re shall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 more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ourning, cry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pain shall ceas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or all former thing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ill pass away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1:01:38Z</dcterms:modified>
  <cp:revision>31</cp:revision>
  <dc:subject/>
  <dc:title>PowerPoint Presentation</dc:title>
</cp:coreProperties>
</file>