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6AC-874D-450C-8EF1-FA45FEF3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C23-1E0C-4D7F-8545-E809B28F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29D-9B58-4658-80DC-22FB325A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B49-7203-4217-B489-1DC32558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F56-0F3D-4BB0-B736-E04B9F43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866-E2E3-4BD1-ABA0-F02E155C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B9E-4921-434E-85E3-E36945E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934-1D6C-42C3-8D08-059BBB41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5BD-F115-4D55-9337-9554BA13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7F2-3E92-45D0-AE29-8095F5C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02F-540F-4B95-980B-3CFF3EC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829-F4FC-466F-AD50-6B4EE975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FFAA-1A2F-41BC-B607-3EA3B495B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e the Morning Sun A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e the mor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un ascend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adiant in the eastern sk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 the ange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voices blend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eir praise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0200" y="1066680"/>
            <a:ext cx="4990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Parkin, 1953 (Rev. 5:11-14; 7:11-12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So may w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lowly st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in the choristers abov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inging wi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ing thee f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grea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For th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vingkindness ev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ed upon our earthly wa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thy merc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thy blessing day by d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al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“Wisdom, hono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ower, and blessing!”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 angelic host we cr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ound thy thron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name confess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, we woul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45Z</dcterms:modified>
  <cp:revision>12</cp:revision>
  <dc:subject/>
  <dc:title>PowerPoint Presentation</dc:title>
</cp:coreProperties>
</file>