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E9B-FB61-40FF-96F0-604A5E1F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B2D-DDE4-4288-9986-C3DAF9A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E1E-25A4-4C96-AB28-F43AF2C2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E21-524E-4D65-B121-5BF2ADF0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2EF-E9A9-4D97-8531-81542B2D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B49-E6F0-4E80-85A3-3A93CD66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7E0-FAB4-45A9-B638-5AB451A5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C33-0B99-42C3-B83B-BD7F517F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492-C783-4540-9E44-522F184F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91C-34B0-4179-8265-EBDD6402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FD5-6C0A-4D7C-8B44-72AF9CD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B68-6057-4BD4-A02D-E32440D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63B-1F89-494F-9377-173CEA758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en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828800"/>
            <a:ext cx="8610480" cy="4669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  1. Sen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sen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sen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4 Utry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09080" y="1139760"/>
            <a:ext cx="3541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Trad. South African (Is. 6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287360"/>
            <a:ext cx="8686800" cy="429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ea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287360"/>
            <a:ext cx="8610480" cy="429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ill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14Z</dcterms:modified>
  <cp:revision>9</cp:revision>
  <dc:subject/>
  <dc:title>PowerPoint Presentation</dc:title>
</cp:coreProperties>
</file>