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A0D-2251-43EC-82F0-C004D9C6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31A-1800-4879-8439-FDF58F1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B1E-AD01-4AFF-9C40-34F7A2AD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C86-9756-4694-BE4C-DC41877F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7B0-164E-4869-809C-C8F68992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2EF-2760-4D07-A046-4139968B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3C0-D5E9-4247-8E61-2F7932C1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8F1-51C0-4E3E-91BD-A6967B9A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FBC-F43B-4792-B53F-972C0AB4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6B4-F112-4AD9-9949-D3B75B7F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AD7-DB29-497D-B51D-F130C1A7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C75-E82A-4BA0-816D-D7AB31DA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F2B2-077D-4A9C-B30D-A350CF76D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a New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98108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We give you hearty thanks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for the rest of the past night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and for the gift of a new day,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with its opportunities of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pleasing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New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0040" y="1143000"/>
            <a:ext cx="275040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astern Orthodox Prayer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143000"/>
            <a:ext cx="8763120" cy="486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Grant that we may so pass its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hours in the perfect freedom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of your service,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that at eventide we may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again give thanks un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49:24Z</dcterms:modified>
  <cp:revision>14</cp:revision>
  <dc:subject/>
  <dc:title>PowerPoint Presentation</dc:title>
</cp:coreProperties>
</file>