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26A8-6103-49B0-8F1E-E55F3CFE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EA52-A8F2-494C-AED5-85F4FF23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819D-946A-4D75-8B03-A2D76D2F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280F-2B47-4DCA-B4AF-CFB77008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CB76-BBBF-4261-BFBB-C0671239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7BBC-86F9-46B6-80F6-CE457AD7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DC8-85FA-4ED5-9109-3357B2BA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A112-677D-40C8-A793-8FB7198B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F1DF-5143-4363-BA02-FC576552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303A-7925-4BDD-9669-BD711D02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251D-0857-4B64-9536-BB121436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ACC6-0634-4FE3-AF9E-9C19D009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547C-4CC6-419C-875B-92BCD4F37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reak Forth, 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eauteous Heavenly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19520"/>
            <a:ext cx="9144000" cy="3120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Break forth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beauteous heavenly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usher in the morn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Trans. st. 2, 3 © 198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Forth, O Beauteous Heavenly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5480" y="1600200"/>
            <a:ext cx="62110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Johann Rist, 1641; st. 1 trans. by John Troutbeck, ca. 1885;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ts. 2, 3 by Fred Pratt Green, 1986 (Lk. 2:8-1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is be wh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new life sta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all who see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find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you the hon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nks, and pra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all your gif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is time of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e, conqu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deli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is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us,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shepher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rink not with affr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ut h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angel’s war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is child, 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ak in infanc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ur confid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joy shall 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power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atan brea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ur pe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ma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This night of wond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ght of jo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s born the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ur broth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Forth, O Beauteous Heavenly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com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t mighty to destro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bid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ve each o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w could he qu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kingly stat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such a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greed and hat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at dee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umili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cured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orld’s salvatio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Come, dearest ch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to our hear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leave y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ib behind you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Forth, O Beauteous Heavenly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20:41:46Z</dcterms:modified>
  <cp:revision>69</cp:revision>
  <dc:subject/>
  <dc:title>PowerPoint Presentation</dc:title>
</cp:coreProperties>
</file>