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ADA-AA2F-4974-8B9D-1B6380EA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55D-6929-439C-B078-46137890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EB4-2FA2-497E-8467-102F2EAB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57A-BA37-4927-9045-B909149A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43E-7E61-46DD-845D-A09EE302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11B-3688-4EF4-8C68-2055D962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F1B-C480-4C86-8B45-351506DD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02E-E321-49E0-BAA2-D63FA681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5E4-488E-4801-82D3-B0DC3C0E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F95-B6A5-4D36-B9D5-611B95C3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FC8-4A5B-46C0-88E0-EA76D486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06E-A645-437A-A12B-AA0E47AA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38A5-1B5C-4E27-91C4-1E01D67CD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71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leluyan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Allelui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Trad. Muskogee (Creek) I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eluyan, heleluya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e, heleluya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heleluyan, heleluya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e, heleluy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nscription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eluy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llelui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9:04:06Z</dcterms:modified>
  <cp:revision>26</cp:revision>
  <dc:subject/>
  <dc:title>PowerPoint Presentation</dc:title>
</cp:coreProperties>
</file>