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97B-5144-4084-B710-042A5C65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F27-AC47-41FC-88EB-138E31C5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3D5-F17E-42CA-9172-19C9EABC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9A2-2084-44D4-9E5C-3FB53F7F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759-7427-436E-B142-E1A3C986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BE0-3D94-4BE7-B495-CFEA99BA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112-CC6B-465B-9400-1E359174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5E2-3449-4283-82CE-4C73CF81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167-54A7-40B0-AE38-2FB95A4A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765-BEB1-464E-8613-6CA62A7B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81E-EAD7-4E93-BE31-DB768C08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119-F653-44B5-9BE8-29D9793A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86C9-15E7-4489-B4C1-7DDE25E21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Jesus the Heal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ssed Through Gali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Jesus the heal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sed through Gali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9 Stainer &amp; Bell, L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33200" y="1623960"/>
            <a:ext cx="3195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Peter D. Smith, 19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bent woman straighte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augh and to shou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The twelve w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issio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ent out in tw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ake the sick who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od new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There’s still s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ch sick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uffering toda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ather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aling and pra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af came to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blind came to s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 paralyzed man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down through a roof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ins were forg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walking the proof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death of his daugh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used Jairus to weep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took her h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raised 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leep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hen blind Bartimae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ied out to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aith made him who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sight was restore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 lepers were hea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emons cast ou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5:37Z</dcterms:modified>
  <cp:revision>19</cp:revision>
  <dc:subject/>
  <dc:title>PowerPoint Presentation</dc:title>
</cp:coreProperties>
</file>