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67C-6824-4B9E-B0D1-DD6A8AF1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412-6D78-4C38-B126-7C13B9B0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950-D1C2-4A8C-BC20-9DE7639A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4F6-003D-44A4-98D2-FA5D1750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729-F0AF-4D49-9AE8-0766DCD5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DA3-1C17-455C-8ACE-8E32B5D0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A37-A786-4A90-AAA7-62E1D674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F9F-DB06-4206-8EC5-52DF8E02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4F9-7C93-40F1-9949-0C7B7A7E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0FA-B75F-4FD9-B744-05A51E88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879-35CF-4F56-917E-2FC6DC9A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250-177F-4FF2-90A1-FCB6E7A0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D092-A8E4-4C7B-A80C-B351BFBA4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hurch’s On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The church’s one foundatio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s Jesus Christ our Lord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are his new creatio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by water and the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dapt. 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amuel J. Stone, 1866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. by Laurence Hull Stookey,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happy ones, and hol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give us grace that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eek and low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high m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well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heaven 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me and sough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might ever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living servant peop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his own d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t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Called fo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every n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one o’er all the eart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charter of salvation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holy name profes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t one table f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one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ways pr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Christ’s own Spirit 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ough with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cornful wond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ld se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oppres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schisms rent asu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heresies distr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saints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tch are keep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cry goes up, “How long?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so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ight of weep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the morn of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Mid toil and tribul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umult of our w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ait the consumm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eace 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wi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ision glo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longing eyes are bl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victo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the church a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We now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have un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God the Three in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hare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commun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ose whose rest 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3:27Z</dcterms:modified>
  <cp:revision>18</cp:revision>
  <dc:subject/>
  <dc:title>PowerPoint Presentation</dc:title>
</cp:coreProperties>
</file>