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801-14F8-40AC-9540-C3673DD0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0BB-4207-4052-8AF5-32B0E8DC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A3D-DEAC-4CEA-8E02-A54139A0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28F-1B34-4040-A54D-D7D49948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674-EE40-4581-81A7-C55F8891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DF4-0C6C-491B-A251-4B3B757E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048-3A21-4087-8C0A-53CEF9B0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BE1-971B-4B64-B88A-2D73FCBA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AC1-5692-4C02-AE65-07761F37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277-B786-4D8C-88C7-FB5C5776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B8D-C0CF-49B4-AA99-BBF65B8F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93B-0444-449A-8666-D9896066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6816-7289-47E1-91AB-EFEA298CF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 God, Your Lov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s Called U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ord God, your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called us 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, by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love were ma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Brian Wren,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n take the tow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eak the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umbl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all us frie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ffer and 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all are f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w how grand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intend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ork till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eation s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ill all worl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rown all th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Lord God, in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set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ife to l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joy to sh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s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’s liber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urn from guil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ull desp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ffer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aith can 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love is ma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iving like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we b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marred, dishono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sobey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come, with all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 and mi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call to h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ove to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 come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lf-inflicted pa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roken tru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osen wr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f-free, half-b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inner cha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social force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ept al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powers and syste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confin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seeking hop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rd God, in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call our n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n receiv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your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through some me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ght, or 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by your grac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l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train to glimp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mercy se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nd you knee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0:08Z</dcterms:modified>
  <cp:revision>84</cp:revision>
  <dc:subject/>
  <dc:title>PowerPoint Presentation</dc:title>
</cp:coreProperties>
</file>