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C52F-6181-44DF-AE21-960664C2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856E-71E5-4975-8CA0-5F164B04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14A1-4D0C-4083-8CC4-6C277805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4614-E504-405F-86A6-723099C5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36A3-061A-46AE-87E3-80B29D3D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9442-8F6D-46BD-9ADC-E0260FB8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9BE5-99AD-4469-808C-E6C1F6E0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0C33-A9C7-4F28-A009-1158E543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DF4C-014B-4FFC-899A-E4A22DA0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7466-7AF3-41A1-BF6E-1DBFB3D4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0A47-636D-424B-8DF9-CDA3AF05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26AC-8A03-49CB-8E8B-CD67BF20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A55B-F1FA-4B45-B41E-08E93643B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The Sufficiency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fficiency of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Juliana of Norwich, England, 15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873080"/>
            <a:ext cx="8039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God, of your goodness give me yourself; for you are sufficient for me. I cannot properly ask anything less, to be worthy of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1752480"/>
            <a:ext cx="853452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f I were to ask less, I should always be in want. In you alone do I have a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5:17Z</dcterms:modified>
  <cp:revision>160</cp:revision>
  <dc:subject/>
  <dc:title>PowerPoint Presentation</dc:title>
</cp:coreProperties>
</file>