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50E-73AA-4D7E-877D-F51F95A9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8E0-7505-4629-9EE7-DD7A195F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B09-1CC3-4694-8D45-74843875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885-1D4D-4056-AF73-935A2ECF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31F-DDA0-49D4-B607-B1B6EE01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357-30EB-4FA7-9AAD-1BFCC73A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E3F-4680-4900-A0A8-A73ADAED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159-61F3-4511-B0DA-727E3255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328-F7E1-462B-8212-910CBDDE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A9C-6F4A-4E94-BCD5-9DCADA26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071-0AA0-47D3-88AC-DA0F875C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1A2-9295-4C6F-9921-48BC02E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B59A-8312-4AD8-8B32-3B030F175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t only takes a sp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et a fire go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on all those a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warm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its gl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Kurt Kaiser, 196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how i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d’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spread h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veryo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at a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is sp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all the trees are bud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irds begin to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low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t their bloo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how i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d’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want to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’s fresh like sp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wish for you, my fri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ppi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’ve fou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can depend o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matters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you’re 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shout it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untaintop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my world to kn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come to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03Z</dcterms:modified>
  <cp:revision>78</cp:revision>
  <dc:subject/>
  <dc:title>PowerPoint Presentation</dc:title>
</cp:coreProperties>
</file>