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3B6D-D0FB-4967-81A7-9C5B1EBC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755D-E821-4DF1-8B49-E1E0FA09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E04A-C4C4-4A90-9637-DD880193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8C7F-1E22-49B1-B2B0-A543587D2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A6DE-7898-4179-8367-082340EF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5702-29DD-4075-85B4-54C53EF6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59D3-8967-494C-9AA8-BC2550F9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C0D8-FDBE-4D8E-AED2-4E4B9195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2546-92DF-482E-9BA9-3D8C96C3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EC7D-F44E-49A3-83EF-76993E81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751C-A934-435B-98E5-2B283C90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60F7-D8DD-411C-A3BB-FC358D7E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ECF9-4017-4636-8206-6487DA8AD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less Thou the Gif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8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ss thou the gif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hands have brough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ss thou the wor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hearts have plann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 Thou the Gif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Samuel Longfellow, ca. 18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s is the fai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ill, the though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rest, O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in thy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7T15:27:33Z</dcterms:modified>
  <cp:revision>93</cp:revision>
  <dc:subject/>
  <dc:title>PowerPoint Presentation</dc:title>
</cp:coreProperties>
</file>