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8916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76856-6D2C-4659-A0B4-52492C0A8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45808-7AA1-4FB3-B40B-0E4C012DB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18A2F-9FBB-445D-BC1C-85F8AE08A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4C0F8-3B4F-46E4-B71B-41E3567C9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7655C-6D0E-4109-A8DE-89F5E90C8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76973-69FE-4EA9-B32A-88967E9B2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500DB-C9DF-4F0F-9F61-CDBCA846D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1CECD-D20E-424C-9B8F-3F591BAEC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D77C4-69FA-437C-A0F9-9F7935855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6F05A-4902-4789-8F65-C99F9EAAD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255DF-5B7C-41EA-B48B-710AFB850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D846A-0682-4D08-A13D-E5CD819C8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00E96-71A3-48A2-A84D-E4DFD341EF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45720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Maker, in Whom We Liv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8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2860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1. Maker, in whom we liv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n whom we are and mov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glory, power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praise receiv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or thy creating lo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ker, in Whom We Liv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143000"/>
            <a:ext cx="914400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WORDS: Charles Wesley, 174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et all the angel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rong give thank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God on high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ile earth repeat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joyful song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echoes to the sk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2. Incarnate Deity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et all the ransomed rac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render in thank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ir lives to the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or thy redeeming grac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ker, in Whom We Liv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grace to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inners showe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ye heavenly choirs proclaim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cry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“Salvation to our Go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alvation to the Lamb!”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3. Spirit of Holines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et all thy saints ador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y sacred energy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bless thin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eart-renewing powe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ker, in Whom We Liv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Not angel tongues can tell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y love’s ecstatic heigh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gloriou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joy unspeakabl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beatific sigh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4. Eternal, Triune Go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et all the hosts abov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et all on earth below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record and dwell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upon thy lo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ker, in Whom We Liv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en heaven an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earth are fle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efore thy glorious fac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ing all the saint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y love hath mad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ine everlasting prais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7:08:53Z</dcterms:modified>
  <cp:revision>28</cp:revision>
  <dc:subject/>
  <dc:title>PowerPoint Presentation</dc:title>
</cp:coreProperties>
</file>