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F58-43BA-4A3A-B440-C135D350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31C-6EF5-4AF5-B1C5-2F36389C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9AA-425D-4697-9934-4152E0A0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C30-D763-4F88-9AEB-EDB37835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03F-D3D9-44B0-A21E-91FE5CE3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A6E-F2F4-41BF-B9EC-3DFDC64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305-D654-4CB0-8DA0-2BC0294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8BB-DBC7-4AAF-8DF2-429167D4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DA6-8D55-4AD9-9AD2-4288FC38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D01-9DAF-4F16-B746-E251D9F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BA2-A3A7-4D17-B23C-78AD60F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44A-9A83-46F5-B3CF-4D43E0E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2FE-73C9-4BDF-906B-0D732A735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yful, Joyful, We Ador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oyful, joyful, we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glory, Lord of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unfold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s bef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pening to the sun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Henry Van Dyke, 1907; st. 4 alt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lt the clou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 and sadn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ve the dark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ubt aw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r of immortal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us with the light of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ll thy work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surroun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flect thy r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and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roun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nter of unbroken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eld and fo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ale and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y mead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ashing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nting bir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ing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 us to rejoic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ou art g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blessing, ever bl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spring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of l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cean depth of happy re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ur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r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who liv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re t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 h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each 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s to the joy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ortals,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y chor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beg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divin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ing o’e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nding all within its s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 we onw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ctor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dst of strif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s us sunw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triumph song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22:16Z</dcterms:modified>
  <cp:revision>29</cp:revision>
  <dc:subject/>
  <dc:title>PowerPoint Presentation</dc:title>
</cp:coreProperties>
</file>