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875-11EA-4D2F-BAC9-BFC5CF93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DB0-1B41-4102-A821-3A97308F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4CF-BD6C-48B4-A94F-012AB66F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7BF-5382-4B5B-A2A3-FA5BC4C0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AA0-095E-4A69-BBCB-A48AF46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6BB-9F34-4255-8CFE-C56F42A1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609-AD7B-4A83-ACB3-DBAE8F8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4C7-4CEC-474A-B999-E1007A77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045-523F-4C57-9980-17EE7079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E51-066E-4E98-AA5F-1C4C661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7A5-DF18-46D1-985F-FC4C8CB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C73-C79A-4FC7-B3ED-CB0BEF9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A30-416F-43E1-9763-52DCCFEF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pth of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pth of merc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ther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erve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f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olt de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ep,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rath for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me, the c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ners, sp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have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stood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provok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not hear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c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ieved him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f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my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t prof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hallowed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him to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re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s hi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pread his h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, I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eep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s m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inclin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s la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4:56:33Z</dcterms:modified>
  <cp:revision>112</cp:revision>
  <dc:subject/>
  <dc:title>PowerPoint Presentation</dc:title>
</cp:coreProperties>
</file>