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AC4-6ED0-42B1-9659-444A028B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967-96FF-4016-B401-5A17D9F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035-11D2-4336-BFB6-0CBF8BB7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575-1334-4637-B404-878F4271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498-9A1D-422E-8E5A-8F78F40C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0C2-5D01-4EA8-A1A9-A7E2156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C04-E548-4209-8CA8-93C2B674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170-CBB9-4A7D-8EB0-15362774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B6D-DAEA-4810-8CA4-925FD5D2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CD6-8612-44E7-A037-801D6EC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DC2-0F00-4BC6-A2C0-896849D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C5C-788D-45BF-992E-E9BA6A07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66D-6AD3-4C97-88FA-F0AC79CF9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2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Worship the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obert Grant, 1833 (Ps. 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worship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iou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ratefully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’s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ercies, how t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firm to the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aker, Def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r, and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hield and Def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vilioned in sple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rded with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tell of God’s m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ng of God’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robe is the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anopy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hariots of wr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nderclouds for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ark is God’s p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wings of the sto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earth with its st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onders unt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mighty, thy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founded of 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stablished it f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a changeless dec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ound it hath c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mantle, the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y bountiful c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ongue can recit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breathes in the 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hines in the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treams from the hil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descends to the p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weetly distill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w and the 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rail children of d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ble as fra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 do we tr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find thee to fai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57Z</dcterms:modified>
  <cp:revision>21</cp:revision>
  <dc:subject/>
  <dc:title>PowerPoint Presentation</dc:title>
</cp:coreProperties>
</file>