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BBC-0945-435B-8466-BAC1D4D4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662-FCFB-4CD3-9658-1DA915FA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8A5-D528-42EC-9607-F48FD8BF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49D-7C03-4563-B674-730FF797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054-3BA3-44A8-81BC-19D8CE86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FAB-18FF-49B9-8BF6-CC92E17A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716-399A-40C0-9003-3D98989A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CC8-DCF0-4FB6-8495-FD68CFB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89C-5A0D-4708-A10E-FFA1263E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331-08CB-4BDA-A7FE-FEC24B82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55D-87C8-454C-8A63-9A98642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6AE-7E19-4BE7-9F3A-08656C81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8432-B794-47FA-A0BE-4E110FDD0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380880"/>
            <a:ext cx="93726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of the Sparrow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of the Wh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30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of the spar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wha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swirling star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3 Jaroslav J. Vaj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57520" y="1752480"/>
            <a:ext cx="390708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aroslav J. Vajda, 198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A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P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God of the earthqu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sto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trumpet bl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 W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 S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od of the rainb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empty gr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Thank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God of the hung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si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prodig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C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God of the neighb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f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pruning hoo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Pe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God of the ag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near at h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loving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H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03:54Z</dcterms:modified>
  <cp:revision>41</cp:revision>
  <dc:subject/>
  <dc:title>PowerPoint Presentation</dc:title>
</cp:coreProperties>
</file>