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8C9-44FD-49B7-AE9A-54E7AB9C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748-E2FC-4E32-8A8D-E9460DFC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B01-F303-410C-8894-115DF312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515-6CDB-498B-BCBA-97F625CC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FA5-586F-4384-86D7-057BAF78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5F8-B03D-4C03-B85D-970763B5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368-2645-4972-89B0-075467BE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348-10F3-4016-8EFE-3B44C0E0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2CC-B1D0-4D42-A3AE-3DD44CF3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6C3-673F-423F-A188-9AB8741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6A2-3938-4C90-9FEC-EF8A20A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A42-D72D-4CAC-A952-75408317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8627-30FA-484E-8A5F-F388F35A1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, We Want to 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4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esus, we want to mee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Trans. and versification © 1964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. T. Olajide Olude, 1949; trans. by Biodun Adebesin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versed by Austin C. Lovelace, 19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9144000" cy="400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ive joy of thy victor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144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rough grace alon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re we save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y flock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we be 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049480"/>
            <a:ext cx="9144000" cy="370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the mind of Chris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bide in 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400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Our minds we dedica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400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ts and soul consecra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ly Spiri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ke us whol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less the serm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is pl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905120"/>
            <a:ext cx="9144000" cy="370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as we go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ad us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shall be thin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19320"/>
            <a:ext cx="9144000" cy="38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gather round thy thro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ou art 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venly Frien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 our prayer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they asc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76520"/>
            <a:ext cx="9144000" cy="370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ok into ou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ts and minds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47920"/>
            <a:ext cx="9144000" cy="438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We kneel i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we and f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19320"/>
            <a:ext cx="9144000" cy="44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y God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each us he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ave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cleanse our heart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ad and guid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acts of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370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our faith fro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ed to flower 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371600"/>
            <a:ext cx="9144000" cy="437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Thy bless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, we see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23:52Z</dcterms:modified>
  <cp:revision>129</cp:revision>
  <dc:subject/>
  <dc:title>PowerPoint Presentation</dc:title>
</cp:coreProperties>
</file>