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3FE-88E6-45DC-9FF3-16F67E7B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2EC-0E43-4335-B1E4-98D786C4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438-FF6F-4C22-94C4-136A5597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EAB-D591-4A59-B64E-74468AFA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007-AEC4-4032-92F5-2E27D08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40B-4176-4587-A126-42B980E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78F-7033-4838-A34A-30ACE7B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60D-DE2B-4CE1-AA5E-9DBB06C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25D-5E8D-46CD-BFBD-427CAFAA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A71-6804-4AAD-8BA2-D522DAE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09-DDF4-4947-94C1-D6241CA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FE4-7796-4F3E-8D58-45BAE21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981-5957-4C37-8A75-82941656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ow Ye the Trumpet,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50 (Lev. 25:8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Blow ye the trumpet, blow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ladly solemn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all nations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earth’s remotest bou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The gospel trumpet h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news of heavenly gr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ved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th, ap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fore your Savior’s f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to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Jesus, our great high pri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th full atonement ma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weary spirits,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mournful souls, be gl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Extol the Lamb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all-atoning Lamb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demption in hi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e slaves of sin and h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iberty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fe in Jesus d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blest in Jesus li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Ye who have s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n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heritage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hav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ack unb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ift of Jesus’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17:02Z</dcterms:modified>
  <cp:revision>123</cp:revision>
  <dc:subject/>
  <dc:title>PowerPoint Presentation</dc:title>
</cp:coreProperties>
</file>