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67A-68FD-4720-AE0C-D9EDD6A8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EAC-E91B-4943-A62A-1320D6C0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1D8-86CC-405B-A41C-D23D7D98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8AA-5435-41A7-B671-526EF980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D7B-4C55-402E-B25A-9CCE3C14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256-ADC8-405E-B65C-75554353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CC7-64D7-48A3-9E81-93A29C39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3EA-5152-45D5-BF9C-9C60D6B7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580-5A32-45C2-8174-E807115E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D93-65AC-4BC5-B230-8C5EFA10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E5E-6B5E-49F8-89BC-E9A83C2F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E73-2C2D-4099-81DF-707EDCD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7398-32C6-4A2C-B649-1D8F50BF8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e Bread, On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55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8, 1989 John B. Foley and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n B. Foley, 1978 (1 Cor. 10:16-17; Gal. 3:28; 1 Cor. 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860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entile or Je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ant or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an or 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860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Many the gif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ny the work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in 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860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Grain for the fiel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cattered and gr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ed to one,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9:39Z</dcterms:modified>
  <cp:revision>122</cp:revision>
  <dc:subject/>
  <dc:title>PowerPoint Presentation</dc:title>
</cp:coreProperties>
</file>