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A42-B752-45D6-9C7D-3DB3D866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467-B9CC-4899-9EFC-3C5BE73E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88D-AC8D-46B0-B0F2-8A2EE8E7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CF0-79CA-4A4D-909A-4C38ACB7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E46-B3EF-4A1C-A96F-09DC579C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658-168D-4111-A807-B77C73BF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6B7-59A8-47ED-AEB1-7613C20F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16B-CF85-4427-AB0F-79E85A0D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1F0-0449-4398-9313-7104B5D1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08B-251B-442B-8D98-C78CD85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979-7282-4E85-8121-08D3E5E4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ACA-CAE9-4818-BE75-A5F98D4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B02E-425E-434A-9C8B-71A073D65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ng Praise to Go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Sing praise to Go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o reigns abov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od of all creatio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od of powe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od of lov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od of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760" y="1536840"/>
            <a:ext cx="79304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ORDS: Johann J. Sch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ütz, 1675; trans. by Frances E. Cox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, 1864 (Dt. 32: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ling b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oul is fi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y faith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rmur still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Lord is never far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roug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ief distr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ever pres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and st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eac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and bl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ith a mo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der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gently lea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osen ban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us, all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ilsome way al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ing aloud thy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earth may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teful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wearied 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joyful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,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soul and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 your par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et all who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holy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God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nd gl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who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ower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ud the wondrous s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st each false ido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its thr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Christ is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 alon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3:05Z</dcterms:modified>
  <cp:revision>42</cp:revision>
  <dc:subject/>
  <dc:title>PowerPoint Presentation</dc:title>
</cp:coreProperties>
</file>