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D68-D09E-4D91-A140-E71877C0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53B-5385-4904-880E-737EE791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B55-4EF4-494B-A3B0-ED14A667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C51-D371-413E-BFB7-527F63BD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03A-830E-4490-AFAD-CF11B611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67F-41DF-4F75-A786-4175CCDF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1EA-6266-4F90-AF3E-AB7ACF43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489-5FD6-4682-A748-F4BE9EB2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681-95C4-4508-8AE7-D462B6E3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8EE-A814-41F1-9FE1-DCF291D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2B6-09BF-48FD-B017-A6FB026A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D94-1B53-49FC-B5F1-992AC77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D6DE-7938-4BF9-A98C-72AE1666A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You Gi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Great Com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rd, you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eat commissio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eal the si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each the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effery Rowthorn, 1978 (Lk. 9:2; Mt. 28:19-20; Lk. 23:3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earth’s tru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ily lift life heavenw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ing tha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aroun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ren’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ord, you s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love’s true measur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Father, w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do, forg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we ho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private treas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at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your c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rcy lea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 just soci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ord, you b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ords assur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I am with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en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and hop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ve rest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we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you int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, amid the ca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laim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 in mind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glect its mi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gosp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unhe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020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us wi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renewed integ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ord, you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to your servic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In my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e and teac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trust your prom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abund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ant for ea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fervor, draw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r in commu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, you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ommon hol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This my bo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my bloo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1:24Z</dcterms:modified>
  <cp:revision>90</cp:revision>
  <dc:subject/>
  <dc:title>PowerPoint Presentation</dc:title>
</cp:coreProperties>
</file>