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31A-98B9-441A-974A-3FB6B5CC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DCC-5329-4A19-A415-EAD2543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FE6-6E16-4D7A-88D0-506ECD2B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6D7-E15F-41EF-B046-CE882F3B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A84-BF17-4775-A8DD-190A2E22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64E-43EF-432A-A922-7908284E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B4C-AB4D-4F35-9E50-FF8794A2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5E0-3D81-4815-832E-20F579B6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71C-56DB-486C-B419-F1BE2A4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F7A-245B-45B4-B386-CDEA03E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D57-F873-4CCD-8CEC-E4AACA93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74E-8672-431B-977C-8D41C4C2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0A2-D135-4C78-A0AF-20472337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Church of Chri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Ever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church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et by chan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Spirit-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re for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reser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berat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claim and t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rit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on r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cross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ross the str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im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justice c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helt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read to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ver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the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n let the serv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caring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ongs to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rtner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sacrif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huma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he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blood was 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cure the f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bl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ach us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our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ving mul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have no mi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o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ull obedi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09Z</dcterms:modified>
  <cp:revision>93</cp:revision>
  <dc:subject/>
  <dc:title>PowerPoint Presentation</dc:title>
</cp:coreProperties>
</file>