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86C-2B70-4CC5-9CAF-6D14BC11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1A4-6628-46CD-9BB6-A4DB16EB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EA1-D7FB-4D69-B239-D65C5E91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B2D-E785-40D1-83DE-2B175B6B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F1F-AB2F-4215-AF6C-6D71B545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8D0-4D6F-44AF-9518-1C24A7B2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06A-EBF8-45BB-8C63-1A9B15EF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2F9-29D3-4A31-827E-144E85E5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7A7-BB2D-462B-A1F5-7B5E956B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E27-2171-4F42-B826-1299928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ADE-F9FF-40B2-8B75-9B9A82E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49F-30CF-4961-AD76-405BE7C9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8A5C-552E-4BA5-B9EA-6241E13FB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the on Me, 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Breathe on m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fill me with life ane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2640" y="990720"/>
            <a:ext cx="3690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Edwin Hatch, 1878 (Jn. 20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37960" y="2263680"/>
            <a:ext cx="686952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at I may lov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hat thou dost love, an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do what thou wouldst do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2. Breathe on m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until my heart is pur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12240" y="2263680"/>
            <a:ext cx="551916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until with the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 will one will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o do and to endu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3. Breathe on m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ill I am wholly th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54080" y="2263680"/>
            <a:ext cx="703728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ill all this earthl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part of m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glows with thy fire divin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4. Breathe on m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so shall I never di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93840" y="2263680"/>
            <a:ext cx="47574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ut live with the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perfect lif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f thine eternit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32:22Z</dcterms:modified>
  <cp:revision>11</cp:revision>
  <dc:subject/>
  <dc:title>PowerPoint Presentation</dc:title>
</cp:coreProperties>
</file>