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053-258A-4047-A417-B8DD3959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AF0-E4FF-4CC8-9CB6-140CD8C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074-5BF0-45BE-A042-49CEC697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DCC-5EF1-49B0-906C-2DCCB7D1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057-B376-44D2-9777-5D97F248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E17-39F4-4518-8766-971113D0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20F-6D75-4A25-A288-2C2345E8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C93-7D73-4C21-BA75-F4C99FCA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7AA-2B8A-4CB2-AFF1-A697AD12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C18-07E1-4716-9A4E-3307DF1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493-34B9-42D0-B838-DD5C12F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041-5AF2-4F0D-A6E9-F1A50428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1514-688D-447A-ACBF-F46709C54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Earth Is Waiting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Toda la Ti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2 Alberto Taulè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73560" y="1585800"/>
            <a:ext cx="60253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talonian text by Alberto Taul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è, 1972; English trans. by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743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438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la Tierra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5909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rá “Dios con nosotros.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676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la Tierr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752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2004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la Tierra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6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8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19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9718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895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819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la Tierr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0:53Z</dcterms:modified>
  <cp:revision>58</cp:revision>
  <dc:subject/>
  <dc:title>PowerPoint Presentation</dc:title>
</cp:coreProperties>
</file>