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E76-FB4E-4BEA-949C-FBD5D810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C67-B05F-4B88-8AE8-7E8CDBF5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AB9-E27F-4F33-8E7D-D06E9ED8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4A5-F043-43A4-9E6E-D181EEBF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E03-1299-4911-8E08-EC71E798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96F-1A5E-48A5-8DD4-F3B752D1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F63-2BAE-4C63-A183-6525C53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A51-3C60-48D8-B97B-EBAD1598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EA-7765-4A66-B440-1D80D3D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1C5-5129-47A2-A44E-243D43A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428-8CD6-4FA0-BB1D-DF5E0CF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139-8B5D-4EF9-AE69-F46DED0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402E-CE62-4309-8EDD-15B2FE9DE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lence, Frenzie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clean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Silence, frenz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lean spirit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ied God’s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4 Oxford University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33520" y="1725480"/>
            <a:ext cx="6273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homas H. Troeger, 1984 (Mt. 1:21-28; Lk. 4:31-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your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en we hear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em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de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 our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lm our fee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fractu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ring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, an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e your rant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sh can’t bear 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e a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su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’s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mon tremb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its vict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ly ru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the crow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 assemb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in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unned and hu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the dem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are th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ray c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mi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yrant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rill and dr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isted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rip and b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ubts that st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rt to pan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 distor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son’s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lt that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ving frant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ms that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 with f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len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clean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our he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24Z</dcterms:modified>
  <cp:revision>21</cp:revision>
  <dc:subject/>
  <dc:title>PowerPoint Presentation</dc:title>
</cp:coreProperties>
</file>