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1CCC-2F20-4A5D-A158-F375AD73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097-079C-4B38-927D-2A2C5EE8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1FD4-33E0-4FDF-A3AB-AA4DD21F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B13-AFE4-4F01-9BD7-303238ED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7AA-6732-42C3-B0F6-67E68FB2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E43-6F2D-489D-B8CE-FBB7D75E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37F-B2D9-4DAF-9643-6E8DF160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B18-ECC4-4851-BFB0-E8FC8C97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9F9-B551-467D-BFB6-C3F11D03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9AA-C10A-4752-AA54-DA4E57BB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C6B-6A8A-4D85-98FA-AE88BF48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E67-F1A9-49F9-8701-0C3F2A5A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3830-7D41-4F31-A4B2-31B59B9F4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Lord, May Church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d Home Comb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6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, may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me comb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each thy perfect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3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72600" y="1776240"/>
            <a:ext cx="2997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arlton C. Buck, 19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entle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ove like t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 none shall ever 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unwor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ims dep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mbue us with thy gr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 the h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every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come thy dwelling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ine, Light div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veal thy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darkness else might b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, Love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pl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 fellowship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steadfast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arnest pray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sacred vows secu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ild thou a hallow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welling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e joy and peace end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4:13Z</dcterms:modified>
  <cp:revision>32</cp:revision>
  <dc:subject/>
  <dc:title>PowerPoint Presentation</dc:title>
</cp:coreProperties>
</file>