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94E-FA42-4CAE-86FA-884EB6C1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553-33A3-4ABE-AE00-AB2AEEBC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9A2-230D-46A7-B829-F25692C9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247-37FB-4172-BD6E-EA4FB759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F9F-6CAA-4626-AC22-5C2BA369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A4B-7F6D-4034-8A80-0D9BE2FF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296-7DA9-4E7B-AC90-19C24A25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E1A-BEF9-4631-A906-36156427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298-2161-43F7-956E-08B81940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A3D-124F-4CB9-AE49-FED1E12E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919-2C5C-4CE7-B1C7-D2566D8D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367-8E35-4ECB-BB88-70E9AE91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F268-3C20-4A41-AD05-820AF8E26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ll Out,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83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Tell out, my sou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greatness of the Lord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Unnumber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lessings giv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y spirit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  <a:ea typeface="Arial"/>
              </a:rPr>
              <a:t>© 1962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7000" y="1004760"/>
            <a:ext cx="6058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Timothy Dudley-Smith, 1961 (Lk. 1:46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ender to m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promise of God’s word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n God my Savio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all my heart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Tell out, my sou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greatness of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’s name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ake known God’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ight, who wondrou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deeds has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’s mercy sur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rom age to age the same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’s holy nam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might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Tell out, my sou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greatness of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’s might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owers and dominion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ay their glory b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roud hearts an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tubbor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lls are put to fligh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hungry fe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humble lifted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Tell out, my sou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glorie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God’s word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irm is the promis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God’s mercy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ell out, my sou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greatness of the Lor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children’s childre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forever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1:54Z</dcterms:modified>
  <cp:revision>51</cp:revision>
  <dc:subject/>
  <dc:title>PowerPoint Presentation</dc:title>
</cp:coreProperties>
</file>