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A3D-67BF-4C9D-954D-562AB28E8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EAD-DE5A-4DD6-B040-299C4211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A3B-B4A3-4CED-AE3E-14AAD9F6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420F-BE1E-4518-BA18-D4B5A3CA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070-F80A-440E-960D-F923A8C3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9CA-226D-4A53-B383-4E6FE22A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97A8-5E8F-41F4-8301-055DBB90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A10-009E-4110-B5EC-D300DAA7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8692-E14E-406C-847F-4D7FCBC5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865-5FDD-4E6D-9F40-5AB4B4C0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DE3-5FC8-411F-84B3-B21E156A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3AD-A2A0-4974-8AF1-57DFF248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0294-2AED-4319-AC76-6335170A6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the Bread Which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ou Have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8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For the bread wh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have br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ine wh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have poured,</a:t>
            </a:r>
            <a:br>
              <a:rPr sz="50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honetic transcription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Louis F. Benson, 1924; phonetic transcription from the Taiwanese by I-to Loh, 1988 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(Mt. 26:26-29; Mk. 14:22-25; Lk. 22:15-20; 1 Cor. 11:23-2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Ūi Lí só kóng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oáh-miā ê oē,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Chú goán kám-siā,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sim lâi gî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o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you have sp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we give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By this pled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you do lov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your gif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peace restor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your c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eaven abov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 all our liv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ith our sain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s in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ated a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ly boa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the chu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’s waiting for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 love’s ti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broken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n your serv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defend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 watch and ward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world w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have sent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your king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ffff"/>
                </a:solidFill>
                <a:latin typeface="Times New Roman"/>
              </a:rPr>
              <a:t>1. M</a:t>
            </a:r>
            <a:r>
              <a:rPr b="1" i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í</a:t>
            </a:r>
            <a:r>
              <a:rPr b="1" i="1" lang="en-US" sz="4900" spc="-1" strike="noStrike">
                <a:solidFill>
                  <a:srgbClr val="ffffff"/>
                </a:solidFill>
                <a:latin typeface="Times New Roman"/>
              </a:rPr>
              <a:t>pau Ch</a:t>
            </a:r>
            <a:r>
              <a:rPr b="1" i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ú Lí</a:t>
            </a:r>
            <a:br>
              <a:rPr sz="4900"/>
            </a:br>
            <a:r>
              <a:rPr b="1" i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ūi goán lâi peh,</a:t>
            </a:r>
            <a:br>
              <a:rPr sz="4900"/>
            </a:br>
            <a:r>
              <a:rPr b="1" i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Phû-tô-chiú</a:t>
            </a:r>
            <a:br>
              <a:rPr sz="4900"/>
            </a:br>
            <a:r>
              <a:rPr b="1" i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ūi goán lâi thî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aiwanese Phonetic Transcripti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10:20Z</dcterms:modified>
  <cp:revision>119</cp:revision>
  <dc:subject/>
  <dc:title>PowerPoint Presentation</dc:title>
</cp:coreProperties>
</file>