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4FC-9EAC-491F-8135-64CA7043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045-298E-480A-BDE4-97C7F25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630-B994-4605-946C-EA5A7A2B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2E3-4B59-4CE6-808C-A99822BD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58D-7CE3-4423-9F09-64292136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EE2-5E2E-4B02-A338-17EC287A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835-EF7E-450E-905E-C25729B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5F3-1D6D-46FE-A8C2-A6FDAF4C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DC2-62C8-4FFA-8FBA-836203B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B82-5B5B-4188-8150-6F13AE49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1DE-936C-4D97-9A8D-571CA81C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E0B-2F7E-4194-8D4C-1731BFD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DBD0-8548-4FC1-8000-1062BADD9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y Holy Wings, O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hy holy wings, O Savio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pread gently over m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let me rest securel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good and ill in the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3 Gracia Grindal and LaRhae Knatter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6760" y="1066680"/>
            <a:ext cx="6531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aroline V. Sandell-Berg, 1865; trans. by Gracia Grindal, 1983</a:t>
            </a:r>
            <a:br>
              <a:rPr sz="1600"/>
            </a:b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(Ps. 91:4; 73:26; 119:114; 51:10; 1 Pet. 3:18-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be my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or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ock and hiding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my every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lived within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wash me in the wa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Noah’s cleansing flo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me a willing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heart bo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ake into thy keep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 and sm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ile we sweetly slumb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fold us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13Z</dcterms:modified>
  <cp:revision>13</cp:revision>
  <dc:subject/>
  <dc:title>PowerPoint Presentation</dc:title>
</cp:coreProperties>
</file>