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24F-A4A5-4D72-B054-CD14D8A2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D3B-98D2-42D3-A8D8-6833CAB3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DC4-4B66-4C1E-9658-870AD801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C066-21B4-4DAD-B958-1587B5F6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7ED-831C-4A45-95EF-AA06027A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C78-7CA4-4B82-B84E-5A54CD5A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158-2627-41EC-9172-05F4F690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0B3-6F53-475D-A1F0-E7B292F3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D1D-6C3E-4D8C-85E0-68C4FDA9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5F5-FB5D-40F7-A5D2-79CCC788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093-0BBB-4B63-B7FD-1E3745D2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AA6-EBF5-4B53-A0F8-F6FF21D6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15E1-E1B5-4B49-8B08-2B61138AC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ou Hidden Sourc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f Calm Re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Thou hidden sour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calm repo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ll-suffici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5440" y="1573200"/>
            <a:ext cx="326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harles Wesley, 17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In want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lentiful supp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weak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almighty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bo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perfect liber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light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tan’s darkest hou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grief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y unspeak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life in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ven in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help and refu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y fo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cure I am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f thou art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lo! from s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rief and sh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hide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in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hy mighty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lvation i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keeps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ppy soul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fort it br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power and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joy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lasting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me with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ar name are gi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iness and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Jesus, my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all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rest in toi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ease in p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ealing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broken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war my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loss my 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smile ben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tyrant’s fr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shame my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8:50Z</dcterms:modified>
  <cp:revision>15</cp:revision>
  <dc:subject/>
  <dc:title>PowerPoint Presentation</dc:title>
</cp:coreProperties>
</file>