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AB2-A9B8-480B-B036-162791C7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8C9-CD17-4946-9060-E3B623D8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4B1-6E65-4B09-AAFA-E2A264BD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8BC-CB27-4098-9BF3-82A8E3FF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891-0B79-418B-A3AD-55714621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CF4-C241-4DF0-AD1C-89E662B6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8EF-B4D3-4964-998E-5C10F1D6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0F8-1D75-4D9A-8133-500BFF2D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91A-2810-4694-BE3E-83E8D484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CD7-1C9C-4635-9715-FB336928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EAA-ED8A-4BDB-BD5B-75A6AD4F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D02-44D2-492A-8DAF-6F60CB6F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7871-3E95-4985-B170-FCA749633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ams of Heaven as I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eams of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derness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Albert Tindley, ca. 19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its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treets of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behold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arder y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be the figh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 may oft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ield to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cke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hile may reig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tan’s cau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seem to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is a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rules ab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and of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art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I am r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’ll fight my batt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have peac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Burdens 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crush me d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sappointme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ide my feet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aceful 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urn my midnigh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oubles sp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ournful si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row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tear-stained ey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is a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pleasure reig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mourning so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roam its pl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o that l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eace and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ant to go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n the dar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ould grop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always se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star of hop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on from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’s grief and d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be fre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ftentimes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ky is cl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oy abou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out a t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gh a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bright begu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ouds may h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morrow’s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’ll be a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’s always br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day that n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ields to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6:29:41Z</dcterms:modified>
  <cp:revision>51</cp:revision>
  <dc:subject/>
  <dc:title>PowerPoint Presentation</dc:title>
</cp:coreProperties>
</file>