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5AE6-75B1-42EA-923B-224FCA1E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E044-0C9F-4BD4-9EF4-70220E36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E2C5-97D1-41D5-89D4-C607E709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C7C8-EB97-4473-AA6C-44A5D0F7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4421-553A-4308-A58A-75C71AA9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4B21-BC10-4915-A53E-A76A02C2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0684-9202-46E1-9C44-5E64C069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4564-4134-4AF0-B92F-68599C33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544C-ADEA-49CC-AA06-4164A778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E6C9-2ED4-4B6C-AE4E-92300853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9A00-F68C-4E58-BF28-C210DC04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BE23-E852-4E01-8AE6-2AD5B51A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266D-CD6B-4A74-BDC6-9533A1CEF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Be Thou My 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Ancient Irish; trans. by Mary E. Byrne, 1905;</a:t>
            </a:r>
            <a:br>
              <a:rPr sz="1600"/>
            </a:b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versed by Eleanor H. Hull, 1912, al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Be thou my vis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Lord of my hear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aught be all else to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ave that thou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Al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 my best thou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day or by n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king or sleep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y presence my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Be thou my wisdo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thou my true wor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ever with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thou with me,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 and thou onl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irst in my hear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reat God of heav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treasure thou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Great God of heav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victory w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ay I reach heaven’s joy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bright heaven’s Su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art of my own hear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atever bef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ill be my vis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Ruler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5:40:51Z</dcterms:modified>
  <cp:revision>150</cp:revision>
  <dc:subject/>
  <dc:title>PowerPoint Presentation</dc:title>
</cp:coreProperties>
</file>