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9A4-FB9D-4AAB-B7C3-4FCFF90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E44-FDED-4080-84EB-F1E41AC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9FF-9283-4E13-8597-AB9799E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CEE-8A7B-4A5E-BF92-04EA6268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2DD-A29B-4665-9BA2-47E2E61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4BB-93EA-4C75-87C8-DF215789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43D-5DE7-4F23-8081-BB82B97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DC8-23AF-435B-899E-A872E6F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FDB-F17F-44D8-AF2B-79EE0EA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96A-0762-454E-B756-D27E14A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83D-70D4-4D6D-A69B-9B2C348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48B-1AC1-473E-B8F3-CEEB05E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55D-7335-4C04-A354-F8A0CE97C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Kingdom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kingdom of Go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grain of mustard se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t is s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1090440"/>
            <a:ext cx="6032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racia Grindal, 1985 (Mt. 13:31-32; Mk. 4:30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when it is s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grows in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rgest pl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er than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erb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ows into a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t grows so birds ca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inside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lea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in its sh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y from 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il pr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so we can li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to seed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rger than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r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just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50Z</dcterms:modified>
  <cp:revision>32</cp:revision>
  <dc:subject/>
  <dc:title>PowerPoint Presentation</dc:title>
</cp:coreProperties>
</file>