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2196-6CD8-4728-B5D6-846F84A0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E82C-D5D7-443A-A0A6-B4E8CA69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6A8E-BE7B-4526-ACE9-DF393961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4A75-2E3A-4BF9-95D8-5D3B45A0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FD6B-BC6B-41F9-95CF-046AF8B4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8183-308D-4AA6-B3CD-14A2A0E8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FEEB-680F-4C5D-BFC9-35103B36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BEAD-BD3F-48AA-958F-ECF446BE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8B49-18FC-4C68-9CE1-59A30982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A203-5338-4F75-B5D8-428FBD30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46CF-363B-4424-B64B-83B3338A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7154-0098-4660-876D-D35CADCA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FF5F-FCDE-45CE-A7FA-F1AD4889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E2F4-DC94-44F6-A50D-61605A88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BD4E-C0C7-4575-9C32-174634E9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2063-910F-4514-A691-4ABF5726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E073-7F34-48BE-A503-8388D45C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B478-6FE9-4C02-A1BA-B41C10B5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F036-F8B0-4412-A711-6039AF93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B287-6C96-4D11-B1D6-111DFC3B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8381-919E-40BB-B300-2C7D9492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0C90-020C-424B-82AE-EF5F7821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0258-CBBB-4B8D-8ADC-7C9A2BC5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6F2-D1A2-4CA1-9B0B-0F4A8D81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B979-F880-4A77-A29F-2DFE2D324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A1BB-6AEC-4A44-B7F5-31FE4DE7A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rd of the D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4532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 danced in the mo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the world was begu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 danced in the mo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stars and the su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63 Stainer &amp; Bell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37080" y="990720"/>
            <a:ext cx="3527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Syndey Carter, 19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whipp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y stripp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y hung me hig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y left me t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a cross to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28736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 danced on a Fri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sky turned black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’s hard to da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devi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your back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buried my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y thought I’d g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I am the dan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 still go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28736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They cut me d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 leapt up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the l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’ll never, never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ll live in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you live in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the Lord of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28736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 c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wn from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 danced on the earth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Bethle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ad my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rd of the D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266840"/>
            <a:ext cx="9144000" cy="3238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I danced in the morn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n the world was begu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I danced in the mo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he stars and the sun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© 1963 Stainer &amp; Bell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37080" y="685800"/>
            <a:ext cx="3527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Syndey Carter, 19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c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wn from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danced on the eart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Bethle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d my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0492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danced for the scri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Phari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y would not d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would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low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ance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isher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James and Joh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ame to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dance went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38088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danced on the sabb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cured the 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l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d it was a sh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17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whipp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stripp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hung me hig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left me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a cross to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3049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 danced on a Fri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sky turned black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’s hard to d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dev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your back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buried my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thought I’d g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I am the d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still go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8088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066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ey cut me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leapt up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ll never, never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0508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live in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live in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2860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 danced for the scri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Phari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they would not da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y would no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llow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dance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fisherm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James and Joh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came to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dance went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 danced on the sabb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I cured the l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oly peo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id it was a sh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0-14T22:42:07Z</dcterms:modified>
  <cp:revision>26</cp:revision>
  <dc:subject/>
  <dc:title>PowerPoint Presentation</dc:title>
</cp:coreProperties>
</file>