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C293-CB9D-452B-866A-631C0185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DFD3-AF3F-4B49-9FC7-24D5461D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F949-B2AA-4B3A-8D78-38822D3E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7422-EBDD-40C3-ABD2-BF64F92E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33D6-B1C2-4320-8ECB-73E77956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33B3-49BB-43AC-B70B-B88990DE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16FB-251F-4EDD-9ECA-25B74389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3F54-6E83-44EC-9377-0D571F32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2B19-CC46-4554-84D7-2F468B2D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9890-61CA-405C-AEAB-942E8996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BBC2-D909-4A11-AA27-789F229B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C687-7907-4AB2-A462-465BF1D4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D85C-C8DC-43A4-9BDC-101BFE6D2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’ll Understand It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tter By and B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We are tossed and driven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on the restless sea of time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somber skies and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howling tempests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oft succeed a bright sunshine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Albert Tindley, ca. 1906 (1 Cor. 13: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he guides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his ey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e’ll foll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we di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we’ll underst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better by and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and by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morning com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sain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God are gathered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’ll tell the st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we’ve overc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we’ll understand 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tter by and by.</a:t>
            </a:r>
            <a:r>
              <a:rPr b="0" i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by and b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Temptations, hidden snar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ten take us unawar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ur hear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made to ble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a thoughtl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d or de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e wond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y the t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we t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do our be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we’ll underst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better by and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and by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morning com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sain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God are gathered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’ll tell the st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we’ve overc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we’ll understand 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tter by and by.</a:t>
            </a:r>
            <a:r>
              <a:rPr b="0" i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by and b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at land of perfect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mists ha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olled aw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will underst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better by and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and by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morning com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sain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God are gathered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’ll tell the st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we’ve overc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we’ll understand 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tter by and by.</a:t>
            </a:r>
            <a:r>
              <a:rPr b="0" i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by and b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We are often destitut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th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life deman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nt of f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ant of shelt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rsty hills and barren land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are trust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ccord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God’s w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will underst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better by and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and by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morning com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sain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God are gathered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’ll tell the st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we’ve overc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we’ll understand 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tter by and by.</a:t>
            </a:r>
            <a:r>
              <a:rPr b="0" i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by and b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rials dar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every h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e cannot underst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way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God would lead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at blessed promised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3:16Z</dcterms:modified>
  <cp:revision>52</cp:revision>
  <dc:subject/>
  <dc:title>PowerPoint Presentation</dc:title>
</cp:coreProperties>
</file>