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06E-1762-4E55-8FF0-137B6C39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FC8-E306-4155-8BCF-F67B18E9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ADA-3A0F-44B7-95BF-B3B7D973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9FC-6BB7-4B23-838E-56DD0F6B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0C2-D801-4D3D-8165-8367CA2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8E9-D444-44E5-BDB7-602F37A3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AB7-A316-46C1-9AA4-4D4749C6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89D-7C69-4CCA-8C18-313C5B5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56E-C1CC-4009-82DF-FF464F1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CAF-CAEF-47E9-965F-37364EA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254-8659-41FB-A560-E971D60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3F9-4637-414C-8116-B4CCEC5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43E-5A68-499B-855C-92D45199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e, O My Lord, I Se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re, O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e face to f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would I touc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le things un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Horatius Bonar, 1857 (Rev. 19:6-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sweet foret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festal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’s great brid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of bli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grasp with fir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 eternal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 wear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e 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hou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quet and of s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ble sprea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let me feas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ing, still pro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llowed hou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ere would I f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brea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drink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oyal wine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would I 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ide each earthly l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taste afr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alm of sin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o soon we r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ymbols disapp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east, though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, is past and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ove; but thou art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than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my shield and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east after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comes and passes b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, passing, po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glad feas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6:11Z</dcterms:modified>
  <cp:revision>124</cp:revision>
  <dc:subject/>
  <dc:title>PowerPoint Presentation</dc:title>
</cp:coreProperties>
</file>