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544-0415-48F5-AF19-B8A91534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2D1-50EE-4076-97FA-A44045F9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B36-A9DB-4A8E-9E81-94E9DBC5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6F2-863B-4907-8E09-6F48923C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855-C464-4935-9522-BC7A9FD9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744-DC72-47E4-BE83-564011CA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395-1126-4B47-A547-DA3FE962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999-7521-4D1E-8725-CD18D8D1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E4E-CA03-4783-99C4-BF80A577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44C-4F6A-44E5-964E-64E2C82A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CB6-A01D-4863-828D-4969B661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D78-DCB0-432E-8E26-F91814F1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6019-68A1-4B1B-BF79-6BFCBE63A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 Man and Woma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Were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Brian Wren, 1973 (Gen. 1:27; Jn. 2:1-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41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s man and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er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ove be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beg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spread the 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 the h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eleb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ay is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peace go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ween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be sha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every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gh and make me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ever end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praise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made us tw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wo are on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ild or par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band, w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Jesus li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av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ing ne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celeb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m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ink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offers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the si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ment 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ange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w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esus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, come what m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bring the da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ear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s to wi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ears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us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at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ing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nnot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59:06Z</dcterms:modified>
  <cp:revision>143</cp:revision>
  <dc:subject/>
  <dc:title>PowerPoint Presentation</dc:title>
</cp:coreProperties>
</file>