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7DB-4D96-4C36-8155-0964D77C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D02-634C-453A-BB4F-7C310C8D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267D-D051-44DC-AB76-5BC902EE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B99-57B8-427B-8C4D-06C7574E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2C3A-3EA0-48F2-B168-86EA9F44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5403-03BF-4D81-B7D2-F6BA7CDE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0C1-8CBE-4C7F-B4CD-9ED897E8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ACBF-EFCD-451B-B54D-13498FEC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2B5-DBB6-4C1C-88C1-832C93CE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7378-98CC-48A8-B129-4CDFD68B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27F-24D6-4A24-BE23-6A574A5C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9AB-DE42-48B4-8CC2-ED3BA22D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71F8-E8D1-449E-8378-01DCA0646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’s Within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y Heart a Mel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Luther B. Bridgers, 19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There’s within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art a melod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 whisp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weet and 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Feasting 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iches of his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esting neath 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heltering w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ways looking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smiling f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is why 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ut 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Jesus, Jesus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5. Soon he’s coming bac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welcome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ar beyo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starry sk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 w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flight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lds unknow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 reig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him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Jesus, Jesus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ar not, I am with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ace, be sti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all of life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bb and f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Jesus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All my life was wreck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sin and str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iscord filled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art with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 swept acro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broken string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rred the slumber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ords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Jesus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Though sometim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leads thr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ters deep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rials fall across the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gh sometim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path seem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ough and steep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 his footpri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Jesus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7:00Z</dcterms:modified>
  <cp:revision>124</cp:revision>
  <dc:subject/>
  <dc:title>PowerPoint Presentation</dc:title>
</cp:coreProperties>
</file>