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336-A6C0-41E8-8E06-F2DF0E26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135-3ECF-4A39-986C-12AF75E7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C72-7A20-4C0D-9666-A03976ED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787-EB13-41BD-8134-958303C4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B3E-5F71-45E7-85C1-08967817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DA7-C0FA-4E91-9FDC-A52F5C5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F21-17E4-41EC-BC12-52D4946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6CA-0CC1-4847-9A1E-9024D860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408-EFD3-47CD-B601-CD9C8F8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F3B-B0F2-42FB-91AC-AD1A7BE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B05-3370-4C15-9269-ED0D1889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BC4-3AF8-4337-B75B-4A12DE1E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2D3-A760-47EC-9FD0-A2351BAA8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Canta, Débora, Cant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03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Unisono 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Canta, Débora, cant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Canta, Débora, canta!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© 1975, 1987 The United Methodist Publishing Hou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2600" y="1166760"/>
            <a:ext cx="714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uiza Cruz, 1973; English trans. by Gertrude C. Suppe, 1987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anish trans. by Raquel Guti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rrez-Achon, 1987 (Judges 5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d is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ll strengt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 with m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Unisono 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Canta, Débora, cant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Canta, Débora, cant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We lift up our voi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one toge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ing the triump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glish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d is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s chos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who are hum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d is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ll strengt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 with m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adre de Isra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r de ejércit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ta un himno a tu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que 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l escoge a los humild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que 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 los fortalece con su pod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0574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Unisono 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Canta, Débora, cant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Canta, Débora, cant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odos los que cant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cen hoy sus vo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ten un himno de lo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ta, Debora, Cant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que 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l escoge a los humild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que 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 los fortalece con su pod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1337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Unisono 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Canta, Débora, cant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Canta, Débora, cant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other of Isra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ader of her arm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a hym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ictory to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glish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765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d is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s chos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who are hum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0:28Z</dcterms:modified>
  <cp:revision>29</cp:revision>
  <dc:subject/>
  <dc:title>PowerPoint Presentation</dc:title>
</cp:coreProperties>
</file>