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9A3-1618-4504-803F-54F4A61C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C43-A29C-40FF-A161-39EEDED3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4A4-46B7-4254-A1E0-A737FF6F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4B6-293A-42E7-8A5F-5D936543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D97-2F8B-4C62-B41A-FD5B61F3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6CC-0520-4866-A154-496D1CCF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8A5-C883-4BFB-9717-D984DCB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3C6-D4DA-4A26-8B48-5F463DB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21D-F83A-48C3-9DDA-81A7E4CB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59D-0DC8-4ACB-8C8B-CFE09C72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C18-6B94-47DA-BE0E-1B15844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BAE-7D65-4080-BD76-BF97EF4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3F83-8003-45C3-B876-06D041762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lent Night, Holy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cal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br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4240" y="1116000"/>
            <a:ext cx="704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seph Mohr, 1818, alt.; sts. 1, 2, 3 trans. by John F. Young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st. 4 trans, anon.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63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 das traut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chheilige Pa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er Knabe m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ckigem Haar,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schlaf im himmlischer Ruh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 schlaf im himmlischer Ru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und yon virg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her and chil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i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ender and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 in heavenly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 in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pherds qu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es strea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af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host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’s pur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diant beam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l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da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edeeming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Lord, at thy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Lord, at th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rous s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nd thy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 to our K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tille Nac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ilige Nac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s sch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äf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insam wac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e Nacht, Heilige N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46Z</dcterms:modified>
  <cp:revision>14</cp:revision>
  <dc:subject/>
  <dc:title>PowerPoint Presentation</dc:title>
</cp:coreProperties>
</file>