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D6A-AAF5-4715-8A38-FEE837DD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454-59E7-42C7-8E55-02079E7C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373-9C2C-4790-8AE6-9E373188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89A-92D3-43A7-86E0-C034DE0A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A43-A580-4810-95F1-EB179416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9F5-135B-408B-A4AF-C7D40657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21C-DD10-44C0-B751-3A545045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974-4FBA-45A1-8864-8C2234C8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449-8124-4C17-A686-4BEBDE95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EAE-8806-4457-B644-243DB43D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4F4-FE21-4EF8-85DF-655EE8BE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DE2-CCBC-4722-B204-A92B2211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30CF-071E-405D-BD8C-7D7745E5D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ptism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828800"/>
            <a:ext cx="83059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ther in heave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t the baptism of Jes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the River Jorda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ou proclaimed hi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our beloved 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360" y="1116000"/>
            <a:ext cx="7343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Book of Common Prayer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(Mt. 3:13-17; Mk. 1:9-11; Lk. 3:21-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919160"/>
            <a:ext cx="78105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anointed him wi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Holy Spirit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nt that all who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re baptized into his 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19160"/>
            <a:ext cx="8229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y keep the covenan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at they have mad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boldly confess hi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s Lord and Savi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447920"/>
            <a:ext cx="82296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with yo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the Holy Spiri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lives and reign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ne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glory everlasting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19:42:31Z</dcterms:modified>
  <cp:revision>11</cp:revision>
  <dc:subject/>
  <dc:title>PowerPoint Presentation</dc:title>
</cp:coreProperties>
</file>