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BFA-70F9-4CF4-A01B-3304386A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AFC-B2A1-499E-A908-F2A9DB1D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127-7355-487A-A970-C2FC2CD1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D03-807C-4498-9108-DAF2E8EA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7A2-021B-4E47-BD93-1919874C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47F-5B28-4CAE-B464-747DEE48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0C1-B64B-4DBA-87EF-16530B21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FAC-355F-49FF-8CB5-4F2353B7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BFB-B0F1-45FA-9B03-A1532710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689-A610-4094-B68C-99BE6FFA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177-F1F0-466A-BD1F-892F7B19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A97-312A-4690-8D7E-5F2ACFA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25E4-E485-4586-ACDF-3B8391683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orious Things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e Are Spok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lorious thing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are sp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Zion, city of our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8240" y="1523880"/>
            <a:ext cx="6327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John Newton, 1779 (Ps. 87:3; Is. 33:20-21; Ex. 13: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cove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wing tha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is ne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us der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ban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by 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de b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fe we f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mann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God give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Blest inhabita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Z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ed i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er’s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whom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s rely 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us monarch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ests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, by his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, he 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ulers o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lf to reig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s pries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olemn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r thank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fering b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, whose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not be br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med thee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own abo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ges fou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can sh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ure repo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alvatio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ls surrou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mayst smi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all thy fo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ee, the strea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ving wat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inging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l supply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s and daught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fea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t re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can faint whi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r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 will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rst assuag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which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, the g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 fai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ge to a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Round 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bitation hove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c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re appe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6:47Z</dcterms:modified>
  <cp:revision>54</cp:revision>
  <dc:subject/>
  <dc:title>PowerPoint Presentation</dc:title>
</cp:coreProperties>
</file>