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C28-B6E7-4DC9-A1B7-91412F69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2E7-C67C-4632-8643-AF4615D9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1E2-4D67-494A-96C1-CE977FD0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E04-FE03-4637-AB32-2BF50B85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C13-CCF5-41A7-B854-E1CCC787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E25D-8A6A-4D28-8686-353BD76E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8B7-016F-47FE-9F35-694740F4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F20-DCCB-4602-9F72-2ACE047E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9DD-6D37-4EF6-9894-21ACC93C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6DA-1DA1-46A1-8DF9-050608B4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B73-E2CF-4D69-90AF-A34187F0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2BD-1CF5-4918-9B5C-48EEFF41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1BD2-EA8F-4D35-B4A9-FC91BB9C5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Father’s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is is my Father’s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my listening 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nature s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ound me r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usic of the spher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94440" y="1066680"/>
            <a:ext cx="41630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Maltbie D. Babcock, 190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rest me in the thou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rocks and tre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skies and sea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han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nders wrou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is is my Father’s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irds their carols 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orning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ily whi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clare their maker’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shines in all that’s fai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rustling gra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ear him pas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speak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is is my Father’s world.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et me ne’er forg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hough the wr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ms oft so str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s the ruler y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y should my heart be sad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is K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heavens ring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reign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earth be gl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7:29Z</dcterms:modified>
  <cp:revision>7</cp:revision>
  <dc:subject/>
  <dc:title>PowerPoint Presentation</dc:title>
</cp:coreProperties>
</file>