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285-D5D9-45C8-A7B7-1EAF428F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71F-9FCC-4B13-AB8A-D7D6078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7FC-1B6E-42E2-83A5-25FB6AFD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A7C-FCF8-4AA4-B59C-54FB8E99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3E3-3AC5-4846-8B76-529CC9A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361-9A7B-4B47-8992-5049EF17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047-D2EF-4E20-9AA0-E7E6D5B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4B5-D1C9-4CC8-8539-A9E56FE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CA3-C2C6-448E-8B88-DD2672FF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6AF-D59E-48FB-98E8-1EC4682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335-B383-4313-BA29-6AD999F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244-3EFE-4BC9-A350-E893C4A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1C2-91C7-4584-A8C5-C470C9A58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oft with thy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in him al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 o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3080" y="990720"/>
            <a:ext cx="4857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34Z</dcterms:modified>
  <cp:revision>18</cp:revision>
  <dc:subject/>
  <dc:title>PowerPoint Presentation</dc:title>
</cp:coreProperties>
</file>