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7ED-8C0B-4125-A7C3-2CD35618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630-09EA-4555-89E9-B8C104E1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1D2-6E5C-45BE-964D-B5DA8CBD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18E-9794-4729-A058-672BD83F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29C-6EC5-460D-BCB6-CA15115A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EFA-223F-4BBE-98EE-1BE36AE6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12F-A02D-4563-8D32-850FE97C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D0D-0562-4455-AB44-CF8EFAE6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55D-CE6F-4D31-A55E-C8C5DA9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A93-3165-467D-8643-FC5CF7CF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66F-88ED-4946-B556-D309F7A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99B-AA80-4827-BF53-6D398EDD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C3F4-2BCE-4DFA-A089-0B17BA5AB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You Have Put O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You have put on Christ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n Christ you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have been baptized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9 IC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Have Put On Chri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From the Rite of Baptism for Children, ICEL (Gal. 3: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5:37Z</dcterms:modified>
  <cp:revision>110</cp:revision>
  <dc:subject/>
  <dc:title>PowerPoint Presentation</dc:title>
</cp:coreProperties>
</file>