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B7F-D72F-419E-958F-51A55740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F6C-1830-483C-A6A0-4CB721CA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F36-8F66-477B-A39A-B47ACF22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1F6-EB9B-4AF7-82F3-D2E61C79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721-86A3-4F6C-A8E1-15C53E99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77F-80BA-4B77-B2D7-363C651B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1E4-E464-4ABC-86F1-F00CFFC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B4E-4BBF-471B-968E-2833FF51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140-F297-4D2E-80BC-D12E0CA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242-BA0B-49BE-B9B5-1D70525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635-B5DC-4F82-AE57-8437520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BE3-018F-4E65-BBC9-C7490BF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47D-F4E2-49FA-949B-11A2D8EF7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Master, See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Time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y Master,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ime has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iv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rvant le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by permission of A. P. Watt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6840" y="1638360"/>
            <a:ext cx="24667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2:29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o in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ng waited f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 I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ma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le world s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light whic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Israe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ast enligh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12Z</dcterms:modified>
  <cp:revision>72</cp:revision>
  <dc:subject/>
  <dc:title>PowerPoint Presentation</dc:title>
</cp:coreProperties>
</file>