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429-031E-4F81-9080-A43597F4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E64-E646-485A-91A4-B7DF1406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998-24F0-4AD1-B43C-679ED0DC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FE0-6B51-4B04-BA77-8852939A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91B-52ED-4AF3-87B9-6653A114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59E-7112-4338-902A-E03044E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D50-6278-4423-8557-43229CCC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EC2-2AF4-4BC5-A421-6392497C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81C-6929-4192-BCB5-62E7BB6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51E-162D-4E14-B1FD-DD3E7CB3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8BD-3E92-4B93-95A5-77366411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38E-5D45-457B-8DDA-02A4242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EDE-DE1C-46D4-AD7D-1708ED99C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ando El Pobre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When the Poor 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. A. Olivar and Miguel Manzano; trans. by George Lockwood (Mt. 25:31-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4382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the poor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 have not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re with stra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thirs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er give unto us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47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herman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47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unque el odi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0574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59:57Z</dcterms:modified>
  <cp:revision>145</cp:revision>
  <dc:subject/>
  <dc:title>PowerPoint Presentation</dc:title>
</cp:coreProperties>
</file>