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7ED-8116-45DC-87A5-0525A0E0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A54-EF8D-477C-863D-0889FB96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634-DCA8-4942-8188-D06427FE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045-C572-4C1C-8B52-48765026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B55-F9E2-4264-977C-87E33DA7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CA8-23C2-4AF2-963A-06B66DE2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F3A-35C2-43ED-BA2A-7F63AA14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930-CD56-4DC8-B51D-765FC66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05B-EBBD-404B-82A9-BD15D390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FE4-57DD-43C6-82A7-17BC63B4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BCB-8DD0-47F7-9544-BC759AA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1B1-D5D5-4604-93E7-4EFF7C6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26D3-563E-47AA-BF25-6AD04B1B2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sanna, loud 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ttle children sa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pillared cou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m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ely anthem ra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7040" y="1219320"/>
            <a:ext cx="8270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eanette Threlfall, 1873 (Mt. 21:8-9; Mk. 11:8-10; Jn. 12:12-13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sus, who h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folded to his br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ren sa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mplest and the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rom Olivet they follow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d an exultant crow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or p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anch wa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anting clear and 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de on in lowly sta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scorned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ld on his bidding wa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“Hosanna in the highest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ncient song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Christ is our Redeem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f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y we ever praise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and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his blissful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ly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50:10Z</dcterms:modified>
  <cp:revision>37</cp:revision>
  <dc:subject/>
  <dc:title>PowerPoint Presentation</dc:title>
</cp:coreProperties>
</file>