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4D0-3E19-4C17-B636-F2F90F2E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A3C-9C8E-42C6-90A1-A29B9FAD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A6B-AEE4-4C3C-8E4A-5EFBEB5E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419-4D0D-4F89-8E36-D12147B8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AAE-04E1-44E4-8051-87FC058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AE9-A74A-4A5F-993D-2A5B753D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D44-6A68-4555-9EAC-39638F1D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B47-B9C0-4884-87DA-085D0DD3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39E-5355-4DD6-BECB-00FE7C5B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F67-62F8-419D-845D-212F5426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991-F246-4E84-A2AB-12FA734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AAB-AB11-4EFE-95B4-7D9454A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1E4F-1124-4DC0-B59C-D3F9B3E8B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371600"/>
            <a:ext cx="8305920" cy="522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 God our deliverer, you l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r people of old through th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lderness and brought the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 the promised land. Guid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w the people of your churc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at, following our Savi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, 1989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9560" y="914400"/>
            <a:ext cx="43261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Lutheran Book of Worship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may walk through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lderness of this world, towar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glory of the world to com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he Holy Spirit, One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w and forever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23:49Z</dcterms:modified>
  <cp:revision>15</cp:revision>
  <dc:subject/>
  <dc:title>PowerPoint Presentation</dc:title>
</cp:coreProperties>
</file>