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9774-134F-463D-ACB4-F24F14779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802E-D1BA-4C5C-93A9-7A5CF03F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6CE9-4682-43A3-9BD7-91BAEC49B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F3CE-E6ED-4740-8D9F-1FA8F2D8D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CB03-14C8-4AE4-89D2-4603A7AC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05F5-6F3D-4426-9E6D-F9A2CDA8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3A6D-87BD-4077-A269-964E59E9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6311-68DA-4528-9040-3520FFDA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3204-CF1B-4559-85BD-21C82CAD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2088-C9EF-4AE0-9751-6D28A00E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A515-2B92-4020-95F7-59F4CB4E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2D2F-B3DA-4AC2-A4B6-022678E9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0D84-63C2-469B-99A1-5917EE180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458200" cy="7034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Will Take Care of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1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Be not dismay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e’er betid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will take care of you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neath his wi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love abid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will take care of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66240" y="1066680"/>
            <a:ext cx="3611160" cy="38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99"/>
                </a:solidFill>
                <a:latin typeface="Times New Roman"/>
              </a:rPr>
              <a:t>WORDS: Civilla D. Martin, 190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066680"/>
            <a:ext cx="9144000" cy="4591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66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will take care of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every d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’er all the wa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will take care of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will take care of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3716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hrough days of toi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heart doth fai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will take care of you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dangers fier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path assai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will take care of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066680"/>
            <a:ext cx="9144000" cy="4591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66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will take care of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every d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’er all the wa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will take care of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will take care of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2952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All you may ne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will provid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will take care of you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hing you as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ll be deni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will take care of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066680"/>
            <a:ext cx="9144000" cy="4591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66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will take care of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every d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’er all the wa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will take care of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will take care of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0666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No matter w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be the t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will take care of you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n, weary o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pon his brea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will take care of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143000"/>
            <a:ext cx="9144000" cy="4591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66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will take care of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every d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’er all the wa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will take care of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will take care of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1T16:57:19Z</dcterms:modified>
  <cp:revision>47</cp:revision>
  <dc:subject/>
  <dc:title>PowerPoint Presentation</dc:title>
</cp:coreProperties>
</file>