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02C-E3E5-4238-A1E8-BBF5BB6A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53D-BC1C-4072-9F9B-AE05F2D0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6C2-47B4-48C0-AB6F-00F1EC7A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2F8-3080-47B1-9582-2C69DEE5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C74-4B57-42A4-B820-A2A79307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39E-D92E-46C2-BB07-D008F623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78F8-D502-4FA0-802A-FD53184D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6FE-6805-483E-9890-63C8C2E6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D98-76AD-453E-8DE6-CBA29F4C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59B1-228F-4115-8E01-0362D34F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51F-FFD9-4DCF-9C99-B199BA80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96B8-21D8-4517-A18D-3881F5F6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559B-3938-42A1-91A1-779057033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Times New Roman"/>
              </a:rPr>
              <a:t>Canticle of Light and Dark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12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Adv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The people who walk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in darknes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have seen a grea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66"/>
                </a:solidFill>
                <a:latin typeface="Times New Roman"/>
              </a:rPr>
              <a:t>Adapt., Responses 1 and 2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ight and Dark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7600" y="990720"/>
            <a:ext cx="67064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33"/>
                </a:solidFill>
                <a:latin typeface="Times New Roman"/>
              </a:rPr>
              <a:t>WORDS: Isaiah 9:2; 59:9-10; Psalm 139:11-12; Daniel 2:20, 22; 1 John 1:5,</a:t>
            </a:r>
            <a:br>
              <a:rPr sz="1600"/>
            </a:br>
            <a:r>
              <a:rPr b="1" lang="en-US" sz="1600" spc="-1" strike="noStrike">
                <a:solidFill>
                  <a:srgbClr val="ccff33"/>
                </a:solidFill>
                <a:latin typeface="Times New Roman"/>
              </a:rPr>
              <a:t>adapt. by Alan Luff; Response 1, Isaiah 9:2, adapt.; Response 2, Alan Luff;</a:t>
            </a:r>
            <a:br>
              <a:rPr sz="1600"/>
            </a:br>
            <a:r>
              <a:rPr b="1" lang="en-US" sz="1600" spc="-1" strike="noStrike">
                <a:solidFill>
                  <a:srgbClr val="ccff33"/>
                </a:solidFill>
                <a:latin typeface="Times New Roman"/>
              </a:rPr>
              <a:t>Response 3, trans. by Frederick Oakley and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60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Advent, Christmas &amp; General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You are the ligh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of the world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be light in our darknes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O Chri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ight and Dark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90920"/>
            <a:ext cx="9144000" cy="332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 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Christ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O com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let us adore him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Christ,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ight and Dark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981080"/>
            <a:ext cx="8610480" cy="393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We look for light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but find darkness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for brightness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but walk in gl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743200"/>
            <a:ext cx="8610480" cy="3110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We grope like thos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who have no eyes;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we stumble at noon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s in the twilight.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51460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If I say, “Let only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darkness cover me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nd the light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bout me be night,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295280"/>
            <a:ext cx="8610480" cy="457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even the darknes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is not dark to you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the night is bright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s the day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for darkness i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s light with you.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4382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Blessed be your name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O God, for ever.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You reveal deep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nd mysterious thing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600200"/>
            <a:ext cx="8610480" cy="457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you are light and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in you is no darkness.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Our darkness i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passing away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nd already th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true light is shining.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5:07:23Z</dcterms:modified>
  <cp:revision>32</cp:revision>
  <dc:subject/>
  <dc:title>PowerPoint Presentation</dc:title>
</cp:coreProperties>
</file>