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37E-E716-4A22-9D45-140FF2B9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D27-6A0D-4731-B6F1-CBFB15D3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0E1-64E7-4C52-921A-131DF6F8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9EA-B33C-460A-B793-B4C67FFC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50A-8C3D-4A1A-8E8C-E237A08F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555-9797-4C93-8069-90A8D4F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FE6-3FFB-4C1E-AC5E-7F96762A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8D5-0200-4CA3-A315-928BCC53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5C2-7C4B-4BBE-B330-8FF200C4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19E-E49F-4677-AFBD-FC4C68AE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615-B76C-4304-A425-9EC0E486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A57-C22E-4B06-BCA6-FD0FA9FC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1B74-0FB9-4DC1-A2D1-04DCEC161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Are the Seed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Sois la Sem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You are the seed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ow a new sprou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’re a star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e in the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, 1979; trans. by Raquel Gutiérrez-Achon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Skinner Chávez-Melo (Mt. 28:19-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905120"/>
            <a:ext cx="88390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new kingdom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uilt on a rock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here justice and truth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lways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You are the life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rture the plan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’re the wa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 turbulent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terday’s y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beginning to 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new loaf of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will y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ere is no place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for a city to hide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nor a mountain can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cover its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ay your good deed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how a world in despair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 path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lead all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858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1. Sois la semill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ha de crec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estrell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ha de brill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are the y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small grain of sal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beacon to g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evadur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grano de sal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torcha que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be alumbr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a ma</a:t>
            </a: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an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vuelve a nac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is espig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mpieza a gra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28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is aguijón y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ricía a la vez.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stigos que voy a envi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47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ois una llam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ha de enc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plandores 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is los pasto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han de llev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mundo p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as de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os amigo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quise escog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palabr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intento esparc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752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reino nuevo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empieza a engendrar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justicia, amor y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47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dawn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ring a new day;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’re the wheat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ear 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ois fuego y sabi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vine a tra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is la o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gita la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levadu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queña de 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rmenta 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sa del 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Una ciudad no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e puede escond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ni los monte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e han de ocul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en vuestras obra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buscan el bien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el mundo al Padre ve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a sting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d a soft, gentle touch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y witnesse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58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You are the flame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en the dar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ing sparkl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, faith, and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are the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ead the whol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valley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astures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friend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at I chose for myself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e word that I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ant to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5:26Z</dcterms:modified>
  <cp:revision>92</cp:revision>
  <dc:subject/>
  <dc:title>PowerPoint Presentation</dc:title>
</cp:coreProperties>
</file>