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869-AE5B-46FA-933F-D1E1E945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07E-C14C-4455-A4E6-30F4344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D8B-619E-4824-9AA9-45856230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80A-B862-4665-BEF4-5025114F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807-911A-4ECB-BCDB-FFE07BE1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40F-A185-4A00-9FE0-8352760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D91-B9DD-4D21-9369-5F561A12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669-55D9-4537-B971-B8B5A602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6A6-25E9-49F5-9345-8546C7EE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F47-83B9-47CC-94D7-5C82909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F60-12F7-4FF3-853B-D87F081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996-29C5-43CC-A313-32B64E42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AED1-B48F-4EDA-A82A-1B04DF7FE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9280" y="1066680"/>
            <a:ext cx="3565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Philippians 2:9-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20:33Z</dcterms:modified>
  <cp:revision>40</cp:revision>
  <dc:subject/>
  <dc:title>PowerPoint Presentation</dc:title>
</cp:coreProperties>
</file>