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93A-B806-4F9E-9E77-6E12782F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B5D-91D5-4B93-BE31-46D4FB1C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213-B786-40C8-AD74-E4B3E2C3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270-9EE5-46B8-B955-FA49F5BC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CC3-2395-46DA-AC06-0E51081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DEC-385C-466F-A4B4-487A59D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46A-14BB-4B54-BD1E-C60F63F4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91C-DC07-49F3-9DAA-234A14B0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E69-4EDE-48DF-8055-23AC934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B84-E919-4300-AEAD-E71E9A0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D85-547A-4EE2-BA55-9BB2629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85C-180F-4B5B-A418-ED8DA37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4E9-F045-4DC1-A9ED-FFEF4C4A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Is the Feast of Vi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8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evelation 5:12-13; trans. by John W. Arthur, 19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as sl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gun his reig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350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inal 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thy i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who was s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blood set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peopl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5248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, rich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dom, and streng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nor,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 are 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350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g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eople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join in the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350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,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and m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o God and the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7652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13Z</dcterms:modified>
  <cp:revision>141</cp:revision>
  <dc:subject/>
  <dc:title>PowerPoint Presentation</dc:title>
</cp:coreProperties>
</file>