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154-06F1-416B-BA27-12A95855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F59B-7945-40D5-9869-B9F13753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8DB-6F35-4E59-858D-625F82DB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C52-36C1-4418-9DAD-4DD6B85C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AFA-7EF1-4AEC-B5E7-36C5614F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22B-EA5F-4D6E-B762-ED398075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41F5-4EC2-41D3-A2EE-AAB2D97E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520-63D7-4B10-AD97-EC32B105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1A5-CAE5-44B8-AC06-CA306F8D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98E-DC97-4CAF-9880-5C895CE5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908-B7FC-43E2-94B7-D6BCBF7F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786-0E09-4013-B11B-DEBD6A1F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9414-7F36-457A-A9AA-41A73BB96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Can We Name a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73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How can we name a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akens heart and m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dwelling all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know or thin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do or seek or fi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75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Name a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9120" y="1116000"/>
            <a:ext cx="2926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Brian Wren, 197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in our daily wor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every human f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’s echoes s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od is f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d in the common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f we awoke to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ilt on a rock of c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asked no gre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ward but fir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sured, was simply the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Name a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can, with parents’ nam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scribe, and thus ado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unconfin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father k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mother strong and 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hen people share a tas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reng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kills uni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projects o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new, to mak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do with shared de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Name a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Frie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artner’s w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better understo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all should sha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eate, and ca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know that life is g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So in a hundred nam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day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can m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presence, sen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hown at wor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home, or in the str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Name a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t every name we s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ines in a brighter sun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Christ al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Love full grow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fe and hope beg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5:41:02Z</dcterms:modified>
  <cp:revision>27</cp:revision>
  <dc:subject/>
  <dc:title>PowerPoint Presentation</dc:title>
</cp:coreProperties>
</file>