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A43-7F15-4809-BA84-6079BE0E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2E8-5789-4AB6-B496-9452725E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647-0BF8-4E7A-8728-D85DBAB2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879-8F74-4AD0-B424-D9D44F1A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4DE-C6D8-4070-8227-76651734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403-52D3-4FF3-BAE5-F4395470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F04-6A0C-4F00-9AA0-91A98B9E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8FB-FA16-485A-BD83-7ACB487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7E4-3B34-41B9-877E-E350CEE7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CF3-775A-4D08-8548-600B19C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5DD-AEDE-4D1A-BFE2-A0C1274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367-051B-48FF-B461-564867B2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5B95-8808-4C5C-9888-2F2A97420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r, O Lor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Servants G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68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Here, O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your servants gathe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and we link with han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58 The United Methodist Publishing House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honetic 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okuo Yamaguchi, 1958; trans. by Everett M. Stowe, 1958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honetic transcription from the Japanese by I-to Loh, 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1. Sekai no tomo to</a:t>
            </a:r>
            <a:br>
              <a:rPr sz="4900"/>
            </a:b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te o tsunagi,</a:t>
            </a:r>
            <a:br>
              <a:rPr sz="4900"/>
            </a:b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Jyujika no moto ni</a:t>
            </a:r>
            <a:br>
              <a:rPr sz="4900"/>
            </a:b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tatsu warera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Phonetic Trans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Kami no mikuni o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me a te to shi,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Shu Yesuno michi o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susumi yuk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ing to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avior’s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oined in love we 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see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ealm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unite to pra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de our step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are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Many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ngues we sp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cattered are the l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one in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in love’s dem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’en in dar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app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ling age and youth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teac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are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ature’s secre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w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nges never ceas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, oh w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weary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nd the source of peac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all th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e dist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rn by endless strif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heal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ng your bal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are the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Grant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age renew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deathless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ork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d us from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th and cour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and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eded in our strif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Mas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our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our Truth, 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9:51:49Z</dcterms:modified>
  <cp:revision>57</cp:revision>
  <dc:subject/>
  <dc:title>PowerPoint Presentation</dc:title>
</cp:coreProperties>
</file>