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D67-6CB3-45B8-A713-55F7096D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DE7-4508-49BC-B5EB-104307DF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CA4-86D5-4F30-976C-193A2581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FE6-A5C5-49CA-823A-393E109C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E1F-170D-4EE7-A214-1D062D67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4B9-19A8-46D8-B79A-AE2B5B38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B11-6BEA-4996-87E0-3E309480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9CC-B807-4F8C-9A87-03D31E57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1BB-BA37-4E1E-8C3F-C094517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E76-D567-4164-8806-A83DE9F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B0D-5B33-4E47-A97F-D15E61DC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13C-C6C6-4226-B756-D9D8FB91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7887-22C4-4158-B182-7CA83C8B1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raise to Our Redeeming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55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600200"/>
            <a:ext cx="89154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All praise to ou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deeming Lor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o joins us by his grac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bids us, eac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o each restore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ogether seek his f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8686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e bids us bui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up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and, gathered into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ur high calling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ious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nd in hand go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gift which 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one best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ll delight to pr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ace through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essel fl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urest stream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E’en now we th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peak the s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rdially ag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centered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Jesus’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We all part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joy of 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ommon peace we fee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peace to sensu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nds un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joy unspeaka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And if our fellowship be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 be so sw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height of rap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we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round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ne we mee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2:05Z</dcterms:modified>
  <cp:revision>62</cp:revision>
  <dc:subject/>
  <dc:title>PowerPoint Presentation</dc:title>
</cp:coreProperties>
</file>