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B781-A3E3-428E-9F09-3D779AE8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B082-905A-43C3-84CD-C2B3D3A9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A340-5787-492F-8C63-BC1E1F7D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58BA-AC33-494E-9CD4-00A1A210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075E-491C-402D-BCEC-81CB0E77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3748-21B9-4A56-91D8-6C6C2397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AB4E-8984-434C-9389-D0803FF8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9A01-57BF-4539-9C1D-BC697962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4AB0-FA8F-48A6-A715-5A5B6AE6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157E-E670-439C-A929-F198F409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3DFB-7479-46FA-AE3C-133B71E8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3CD6-C2BA-48BC-8B68-4BBD21C7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7022-7FA9-4555-9E66-F81F5EE51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ift Up Your Heads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e Mighty G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1. Lift up your heads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ye mighty gates;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behold the King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of glory wait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Up Your Heads, Ye Mighty Gat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0360" y="1562040"/>
            <a:ext cx="773532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Georg Weissel, 1642; trans. by Catherine Winkworth, 1855 (Ps. 2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King of king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s drawing near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Savior of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world is he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2. Fling wide the portal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f your heart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make it a templ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et apar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Up Your Heads, Ye Mighty Gat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from earthly us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for heaven’s employ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dorned with prayer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love and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3. Redeemer, com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ith us abide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ur hearts to the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e open w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Up Your Heads, Ye Mighty Gat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let us thy inner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presence feel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y grace and lov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n us reve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4. Thy Holy Spirit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lead us on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until our gloriou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goal is w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Up Your Heads, Ye Mighty Gat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eternal prais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eternal fam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be offered, Savior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o thy na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6:59:01Z</dcterms:modified>
  <cp:revision>57</cp:revision>
  <dc:subject/>
  <dc:title>PowerPoint Presentation</dc:title>
</cp:coreProperties>
</file>