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A6EA-40D9-4FC6-8818-5721BD8DC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BEBD-8DFA-478D-AB42-5A94E03A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6EE7-015E-44F3-B2D7-4B273E19B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195C-26BA-49E2-B1EC-FCA5DEA79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9E2E-484D-41C9-B88D-63C18CEC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7CDA-1A41-407E-BE27-E520E418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4B83-7DDA-4076-8F9C-DCBA4EC5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5EFB-5E36-4C6D-9961-557E964C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182B-1D05-4819-9E2A-97C59810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F5C6-ED25-4CD8-B795-4B637F25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0E01-9E2A-4397-BFFD-40FC3AE0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2B55-5CF3-4913-B72A-393E710F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D216-0F2D-4337-B83A-A5B1B0B8D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e L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iv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088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Alfred H. Ackley, 193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819520"/>
            <a:ext cx="9144000" cy="3558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1. I serve a risen Savior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’s in the world today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I know that he is living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hatever foes may s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© 1933, renewed 1961 The Rodeheaver 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6765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e hope of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ll who seek him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e help of all who find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none other i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so loving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so good and k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525600"/>
            <a:ext cx="9144000" cy="5643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lives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lives)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lives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lives)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hrist Jesus lives today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walks with m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talks with m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long life’s narrow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iv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95360" y="1676520"/>
            <a:ext cx="8153280" cy="4875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lives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lives)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lives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lives)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salvation to impart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You asked me how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I know he lives?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lives within m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80440" y="2514600"/>
            <a:ext cx="678132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I see his hand of mercy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I hear his voice of cheer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just the tim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I need him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’s always n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525600"/>
            <a:ext cx="9144000" cy="564372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lives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lives)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lives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lives)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hrist Jesus lives today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walks with m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talks with m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long life’s narrow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iv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95360" y="1676520"/>
            <a:ext cx="8153280" cy="4875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lives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lives)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lives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lives)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salvation to impart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You asked me how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I know he lives?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lives within m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2. In all th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orld around m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I see his loving car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though my heart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grows weary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I never will despai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iv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I know that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is leading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rough all the stormy blast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e day of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is appearing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ill come at l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525600"/>
            <a:ext cx="9144000" cy="5643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lives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lives)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lives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lives)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hrist Jesus lives today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walks with m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talks with m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long life’s narrow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iv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95360" y="1752480"/>
            <a:ext cx="8153280" cy="4875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lives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lives)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lives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lives)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salvation to impart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You asked me how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I know he lives?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lives within m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3. Rejoice, rejoic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O Christia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ift up your voice and sing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eternal hallelujah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o Jesus Christ the K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iv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9T15:17:30Z</dcterms:modified>
  <cp:revision>66</cp:revision>
  <dc:subject/>
  <dc:title>PowerPoint Presentation</dc:title>
</cp:coreProperties>
</file>