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35BE-B016-4D82-B388-5FCDE80AF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6298-9B88-43D0-ACE1-65EF877E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B49A-2438-43FF-A41E-81A190A16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09B2-FABF-406D-AC45-F8DFF901D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762D-69B2-4F26-BFF0-E99D2679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E73E-9C84-4C65-985D-F7EE357F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EAC4-FDA4-4B9E-9C8C-C53DF551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269E-8CAF-488B-9AE5-AFB00372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3682-CDCB-4FF7-B847-45171970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8D8C-5DFA-433A-A7BA-9D767961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3863-5B0F-4F58-9961-EFF884A5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E738-D424-4E3F-A9EF-CD080671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FBD1-30CE-41FF-B51D-5A494CA5C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Does the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rd Requ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What does the Lord requi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praise and offering?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at sacrifice, desi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r tribute bid you bring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49 Albert F. Bay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the Lord Requi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4120" y="1738440"/>
            <a:ext cx="44143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Albert F. Bayly, 1949; alt. (Mic. 6:6-8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o justly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e mercy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lk humb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your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Rulers of earth, give ear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ould you no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ustice know?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ll God your pleading he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ile cri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cruelty grow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the Lord Requ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o justly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e mercy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lk humb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your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All who ga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alth by trad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whom the worker toil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nk not to win God’s ai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f greed y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mmerce soil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the Lord Requ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o justly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e mercy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lk humb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your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How shall our life fulfi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’s law s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rd and high?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Christ endue our wi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grace to fortif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the Lord Requ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n justl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merc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’ll humb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lk with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4:28Z</dcterms:modified>
  <cp:revision>11</cp:revision>
  <dc:subject/>
  <dc:title>PowerPoint Presentation</dc:title>
</cp:coreProperties>
</file>