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D18-6E44-4B6A-9828-D75A6CEC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D06-0E52-42A6-9607-501A08D8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824-09AE-4C96-A670-E67C40B2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695-BD3D-417D-94B8-9CF102C7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57B-038E-4C92-9F10-B44EA900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890-72C7-408C-8629-6957069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F53-A909-48E7-A5AE-B5E5CBA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1C2-94DA-4E2A-B7CD-93938A3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D12-B372-4434-8874-632ADDE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166-7CA4-4DA7-ADB3-46AF5A2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3E5-DA5B-4B19-9318-B5FA406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C66-2D47-490F-8434-ABA56EA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A330-6C4D-4095-BABB-79F348394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hold a Broken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ehold a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, we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an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r incr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39600" y="1143000"/>
            <a:ext cx="5453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imothy Dudley-Smith, 1985 (Is. 2:1-4; Mic. 4:1-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71200" y="1859040"/>
            <a:ext cx="5601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ose in triump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gra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hold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king d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Bring, Lord, your bet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 to bi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king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’s dom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32280" y="2239920"/>
            <a:ext cx="66776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eace with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ace eterna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41400" y="1859040"/>
            <a:ext cx="54615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is our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anci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am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 dream of swor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ickles b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pears to scy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99800" y="1905120"/>
            <a:ext cx="69760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eapon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warfare sp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of peace re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re every bat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ag is fur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mpet st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19840" y="1859040"/>
            <a:ext cx="6304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ars shall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the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am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o force of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there preva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justice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44080" y="1859040"/>
            <a:ext cx="50558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shall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ftiest visions fa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ream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 Prince of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ost world to red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0:05Z</dcterms:modified>
  <cp:revision>19</cp:revision>
  <dc:subject/>
  <dc:title>PowerPoint Presentation</dc:title>
</cp:coreProperties>
</file>