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74F-949F-4BFC-973D-2D1C8F46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158-0E14-491E-B14F-7CCBC521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EE36-BE03-4214-91C5-9A191638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9362-826E-4342-90B0-294E8511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927E-91A0-4274-9D0A-E089E9C7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FBA-7340-4913-B0E5-3BD7B948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8C5-79DB-41D1-8AF5-5ABD08B8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1A6-702E-4E8D-BECD-D0B1B24B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1EED-F6D2-4237-9352-C1AF915B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651-579A-4D44-BE79-186891D4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F95-D074-4C38-A0DC-45B212FD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CDDB-231D-4CF9-9C9B-6E768929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F908-B42B-4C7B-B99C-C83C0C012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229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lessed Be the God of Isra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320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1. Blessed be th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d of Israe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ho comes to set us fre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ho visits and redeems u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grants us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Times New Roman"/>
                <a:ea typeface="Arial"/>
              </a:rPr>
              <a:t>© 1973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9480" y="1090440"/>
            <a:ext cx="4487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Michael Perry, 1973 (Lk. 1:68-7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prophet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poke of mercy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freedom and release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d shall fulfill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promis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bring our people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Now from th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ouse of Davi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 child of grace is given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 Savior comes among u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raise us up to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efore him goe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heral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orerunner in the way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prophet of salvation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harbinger of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On prisoner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darknes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sun begins to ris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dawning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forgivenes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upon the sinner’s ey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5238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guide the feet of pilgrim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long the paths of peace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 bless our Go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Savio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 songs tha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never cea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5:12:51Z</dcterms:modified>
  <cp:revision>53</cp:revision>
  <dc:subject/>
  <dc:title>PowerPoint Presentation</dc:title>
</cp:coreProperties>
</file>