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EFE-86F4-47FA-95C3-DF320E61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CBA-D67E-473C-900C-1B6EEB6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D66-62B2-4C73-88BB-4CCD8F7B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844-AAFA-42A1-B813-758B75BB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965-555D-476E-9862-2FEA48F6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769-6F3B-4D80-9D84-46DE9774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C14-7EAD-451B-9483-54BD866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BA2-B131-4F56-B52A-9E834CAE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D5E-E728-4627-B1B0-FC18C46B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198-14E6-4BCE-84A3-217ECBE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623-E7C8-4D72-AC3C-6115D0F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76E-FF70-4D99-AABC-F058E43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B563-3DFC-44C8-BAC2-8303975F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yer of Ignatius of Loy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ach us, good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serve you as you deserv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give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count the cost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fight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eed the wou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Ignatius of Loy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24280" y="1063800"/>
            <a:ext cx="3304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gnatius of Loyola, Spain, 16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 toil and not to seek for rest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labor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o ask for any reward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except that of know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that we do your will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33Z</dcterms:modified>
  <cp:revision>13</cp:revision>
  <dc:subject/>
  <dc:title>PowerPoint Presentation</dc:title>
</cp:coreProperties>
</file>