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4A5-71E1-42F7-87D6-A9361C02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10E-9CEA-45C7-AF18-D661FCDC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DA9-85B4-4954-92AA-1B1570E7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681-158C-4C65-8DAA-965C0C12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08C-E6C0-4DB7-B3FE-85EA5E7A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8FE-01E2-4BEF-AF09-58BADF9B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946-C0DA-4FE3-A15F-BC25DA57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3CE-D684-4CB9-9935-92757AAD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9DF-92C8-425F-A5A4-F492B304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24A-E3F5-4F6A-87E0-89EEB824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7AD-58E9-47B4-BC3B-7230C0E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385-583E-4A0B-A308-1F07626F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F623-5887-4427-9457-3CC3DF76C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Jesus’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angels prostrate f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50200" y="1701720"/>
            <a:ext cx="6846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dward Perronet, 1779; alt.  by John Rippon, 17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eet may f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f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g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rrestrial b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tar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0:15Z</dcterms:modified>
  <cp:revision>16</cp:revision>
  <dc:subject/>
  <dc:title>PowerPoint Presentation</dc:title>
</cp:coreProperties>
</file>