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220-072A-473B-96B7-4EC2A062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19A-D311-42BA-B1F8-F82FA5D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7A1-367C-469A-8B8B-6605A949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A7D-361B-4BB5-816A-207B3B62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7FE-5426-4ECB-A2F9-28B2F70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302-A86E-4372-B27B-F243CA41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5FE-03DF-4460-9B0F-185F1C8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93D-8E03-44E3-AE8B-E08312C2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34D-9FF0-41C6-8E67-A4CF2B2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AF-23FB-43DE-B519-ACD8026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77F-199E-486B-A188-506ED2B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DDD-294E-46C7-B0F2-5FD381E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D3A5-4A06-400C-A6F1-1F0494830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lom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to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lsie S. Eslinger, 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to you now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my friends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God’s full merci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you, my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© 1983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ll your li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rough your lo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be your shalom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be your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0:12Z</dcterms:modified>
  <cp:revision>159</cp:revision>
  <dc:subject/>
  <dc:title>PowerPoint Presentation</dc:title>
</cp:coreProperties>
</file>