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106-6658-4E70-AC4C-547B4E67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87B-39A4-4F95-9702-5F5D6348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654-703E-42E6-A60F-1AD227DD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96D-F6A1-42D4-A634-590561C1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610-C59E-4571-89EB-58C7CE34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3FF-C09A-48FC-A8A9-4C769100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C7C-BA2C-4520-A91D-DBD42203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D7C-EBBB-4014-ADE4-9EA82CE1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F60-BD0C-46D2-A9E8-35D07C79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40E-B134-4121-8650-B119908B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524-E0FD-4785-8760-3F24584B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7AD-AEC1-4B9F-ADC5-D1D68265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26FD-4E41-4701-A24A-96777FCB1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e Prayer of Saint Franc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ayer of Saint Franc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Francis of Assisi, Italy, 13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438280"/>
            <a:ext cx="8115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Lord, make me an instrumen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f thy peac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re there is hatr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let me sow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7524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re there is injury, pardon; where there is doubt, faith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re there is despair, hope; where there is darkness, light;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where there is sadness, j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914400"/>
            <a:ext cx="85345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Divine Maste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rant that I may no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o much see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 be consoled as to consol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 be understood, as to understan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 be loved, as to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990720"/>
            <a:ext cx="83818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it is in giv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t we recei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t is in pardon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t we are pardon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it is in dy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t we are born to eternal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37Z</dcterms:modified>
  <cp:revision>156</cp:revision>
  <dc:subject/>
  <dc:title>PowerPoint Presentation</dc:title>
</cp:coreProperties>
</file>