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CD6A-1FB5-4D96-BF59-9D92DC7C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D474-D87F-4CDD-9354-682C9AEE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C7D1-4A16-4535-8968-2149BFCC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371B-E76B-4D70-AEFD-944D2410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8925-32E5-4E92-9617-FD616838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2DB1-E36C-445A-B8EC-4446E371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C6BB-4863-4D24-AD25-7267B32A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F45C-B59D-44BB-A8CD-533395DA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F811-472D-425C-BD40-5A2A671D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7276-E511-4E7C-9558-A8C977EA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9251-60D1-4AE9-B66D-8B5DD66D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0A5D-D5BE-4CB4-9043-C2E8FC84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081A-9711-46A3-BE16-BF48C08A9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O Love That Wilt</a:t>
            </a:r>
            <a:br>
              <a:rPr sz="4000"/>
            </a:b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Not Let Me 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O Love that wilt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 let me go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rest my wea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ul in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That Wilt Not Let Me G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52440" y="1523880"/>
            <a:ext cx="317844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George Matheson, 1882</a:t>
            </a:r>
            <a:r>
              <a:rPr b="1" lang="en-US" sz="2100" spc="-1" strike="noStrike">
                <a:solidFill>
                  <a:srgbClr val="99ccf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82840"/>
            <a:ext cx="89154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give thee bac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life I ow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in thine oce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pths its fl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richer, fuller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O Light that follow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my w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yield my flicker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rch to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That Wilt Not Let Me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heart restor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s borrowed r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in thy sunshine’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aze its 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brighter, fairer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O Joy that seek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e through pa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cannot clo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heart to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That Wilt Not Let Me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016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trace the rainb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the ra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eel the promi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not va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mor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tearless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O Cross that lift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p my hea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dare not as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fly from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That Wilt Not Let Me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1016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lay in du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fe’s glory dea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rom the grou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re blossoms r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fe t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endless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4:30Z</dcterms:modified>
  <cp:revision>23</cp:revision>
  <dc:subject/>
  <dc:title>PowerPoint Presentation</dc:title>
</cp:coreProperties>
</file>