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2CDC-5A4A-48FD-8E8D-99CA786B9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6B72-0699-42AD-8B55-47C0CC3C4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C929-575A-4F66-86BF-31A4156E9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E04B-DCC3-4374-B030-A56733D90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3CEE-2782-485E-9558-FF0417C11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AFEE-AF4E-4F59-9D44-31EC6379F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D041-FCEC-437D-8957-4B5AAA74D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D19F-AA62-403F-9E32-204BE4E05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CA05-724C-42A6-BEAB-5BF6E94F0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B6BB-C08C-45A7-ABA2-FD9010CA4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7746-CC3E-4DB9-9AB1-4D875F8DE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407C-A7B5-4854-A2E9-DC8300D19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03675-B035-4A53-9740-6ECBB67610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305920" cy="119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From a Distant Home</a:t>
            </a:r>
            <a:br>
              <a:rPr sz="40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(De Tierra Lejana Venim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4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4055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Times New Roman"/>
              </a:rPr>
              <a:t>1. From a distant home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Times New Roman"/>
              </a:rPr>
              <a:t>the Savior we come seeking,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Times New Roman"/>
              </a:rPr>
              <a:t>using as our guide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Times New Roman"/>
              </a:rPr>
              <a:t>the star so brightly beaming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rans. © 1963, 1980 Walter Ehret and George K. Evans, by permission of Walton Music Cor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a Distant Ho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4440" y="1600200"/>
            <a:ext cx="75798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Trad. Puerto Rican carol; trans. by George K. Evans (Mt. 2:1-1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a Distant H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9907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Bitter myrrh have I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gi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infant Jes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ken of the pain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he will bea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save 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90648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a Distant H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533520"/>
            <a:ext cx="9144000" cy="5493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ely eastern sta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tells us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’s morn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ven’s wondrous li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never cea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shini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ry in the highe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e Son of Heav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upon the ear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 peace and love to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1523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De tierra lejan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venimos a vert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s sirve de guí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a estrella de Orient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-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 Tierra Lejana Venimos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109692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 Tierra Lejana Venimos </a:t>
            </a:r>
            <a:br>
              <a:rPr sz="32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91440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Estribi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h brilliante estrell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que anuncia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a auror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 nos falte nunc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u luz bienhechor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52560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ria en las altura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 Hijo de Dio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ria en las altura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 en la tierra am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Al reci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én nacid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que es Rey de los reye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ro le regal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ara ornar sus sien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 Tierra Lejana Venimos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147780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 Tierra Lejana Venimos </a:t>
            </a:r>
            <a:br>
              <a:rPr sz="32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91440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Estribi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h brilliante estrell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que anuncia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a auror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 nos falte nunc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u luz bienhechor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52560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ria en las altura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 Hijo de Dio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ria en las altura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 en la tierra am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47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Como es Dios el Ni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ñ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e regalo inciens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erfume con alm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que sub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asta el ciel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 Tierra Lejana Venimos 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0648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a Distant H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09480"/>
            <a:ext cx="9144000" cy="54936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ely eastern sta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tells us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’s morn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ven’s wondrous li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never cea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shini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47780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 Tierra Lejana Venimos </a:t>
            </a:r>
            <a:br>
              <a:rPr sz="32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68580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Estribi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h brilliante estrell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que anuncia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a auror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 nos falte nunc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u luz bienhechor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52560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ria en las altura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 Hijo de Dio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ria en las altura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 en la tierra am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Al Ni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ño del ciel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que bajó a la tierra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e regalo mirr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que inspira tristez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 Tierra Lejana Venimos (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109692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 Tierra Lejana Venimos </a:t>
            </a:r>
            <a:br>
              <a:rPr sz="32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91440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Estribi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h brilliante estrell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que anuncia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a auror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 nos falte nunc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u luz bienhechor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52560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ria en las altura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 Hijo de Dio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ria en las altura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 en la tierra am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523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ry in the highe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e Son of Heav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upon the ear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 peace and love to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a Distant H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2193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Glowing gold I br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newborn bab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 ho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ken of his pow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reign above in glo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90648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a Distant H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533520"/>
            <a:ext cx="9144000" cy="54936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ely eastern sta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tells us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’s morn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ven’s wondrous li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never cea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shini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ry in the highe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e Son of Heav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upon the ear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 peace and love to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47780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a Distant H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523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Frankincense I br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child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’s own choos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ken of our prayer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heaven ever ri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90648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a Distant H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609480"/>
            <a:ext cx="9144000" cy="5493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ely eastern sta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tells us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’s morn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ven’s wondrous li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never cea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shini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ry in the highe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e Son of Heav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upon the ear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 peace and love to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4:45:39Z</dcterms:modified>
  <cp:revision>19</cp:revision>
  <dc:subject/>
  <dc:title>PowerPoint Presentation</dc:title>
</cp:coreProperties>
</file>