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18-8B60-40C6-A802-9C3BB625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4B7-2595-42F9-81F0-F43491B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C5D-2615-4AA6-B1F6-820D49CD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DDF-5F62-43CB-B102-E02EFC32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D79-1079-4FCD-B485-A38BFC1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ADA-F4C8-4846-B600-5C7B9CD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759-90D4-4AE6-9590-C7A0A61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647-53DD-4C14-93FA-C339FDD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EA8-DAC8-4A90-AC98-41454FA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4AB-11D2-4FEB-AE67-7D44C0B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CBA-7487-465F-94E5-280FE87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0BC-6AB7-44F1-842A-D3B759BE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DB68-38E8-4113-8B19-DCDF0B10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Priceless Tr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priceless tr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rce of purest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st friend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ann Franck, 1653; trans. by Catherine Winkworth, 18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 my heart hath pa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t well-nigh fai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rsting aft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I a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potless Lamb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ught to hid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k for n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sid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thine arms I rest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es who would moles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not reach me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 earth be sh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heart be qu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calms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 and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onflict f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ir heavi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rms assail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will not fail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nce, all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dnes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Lord of glad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enters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se who love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 sto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have peac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, whate’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ere must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in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es purest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priceless treas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5:37Z</dcterms:modified>
  <cp:revision>59</cp:revision>
  <dc:subject/>
  <dc:title>PowerPoint Presentation</dc:title>
</cp:coreProperties>
</file>