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801-86A9-4BFB-BD5D-A37E52F0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F5B-7A0C-49ED-A23F-47F87E2D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225-0289-4769-BD67-F0F844A7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85D-DAEA-42DE-B1AE-9858235E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B9B-3C3B-48AE-BA52-67476471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420-0763-47C2-8AD0-2D465787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944-C715-447D-B6D4-2B013F9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474-A837-4393-976C-F80767A0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72C-5381-47E3-B111-38A3D050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373-58A6-4539-A94F-0F2B6D17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D6D-41A5-4A4A-A426-A4C4F1E7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87B-0CEF-4C78-AEBC-A515690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1942-0CF7-4F6A-BA3C-FB35FAC3B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7631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0668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0668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668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9:26Z</dcterms:modified>
  <cp:revision>111</cp:revision>
  <dc:subject/>
  <dc:title>PowerPoint Presentation</dc:title>
</cp:coreProperties>
</file>