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655-EB9C-44D5-90F4-EBC4E681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230-EC5A-46C0-83A9-2F94D33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2B5-F900-44E9-9606-5698799F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B9B-A105-4A2E-8DE2-7BDD6CDC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0A4-DE01-42E5-94A0-08F3B805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F60-48CE-4382-86A7-AB024ADA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6D9-5488-44BA-96BA-87547C53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22A-9F70-4065-B937-C6368A01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B15-F843-414A-956A-7A57552F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DEC-59DD-47D6-ABFA-E745A6E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4B5-25D5-4802-ABBE-9820C75B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3E9-20D6-46A0-B79C-3814E0A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8502-44CF-4049-A700-A5C1B83E0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very Time I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eel th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7720" y="1749600"/>
            <a:ext cx="4764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Rom. 8:15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Up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 spok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t his mou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fire and sm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looks so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 my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all w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ordan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uns right c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ls the bo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in’t but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in on this trac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uns to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ight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11:13Z</dcterms:modified>
  <cp:revision>25</cp:revision>
  <dc:subject/>
  <dc:title>PowerPoint Presentation</dc:title>
</cp:coreProperties>
</file>