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09F8-6245-4061-8ED1-9C63D217C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6DBB-BEC0-4B42-A6C8-B151974C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E845-904F-4DC8-B7F4-65755E2C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8973-CF99-45CB-A66E-5FA6AE1DE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AF11-E593-4E82-9E5D-A635C84C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A799-7479-4A87-A736-3D59238B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7FDA-503E-4094-A2F9-670BB067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F9E9-1653-4620-B183-096773A7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B3A5-513F-41C8-AC74-89693863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518B-7761-4A1C-9154-8C589215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7A4D-0B97-425E-A97D-FEE252A9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F6A3-E986-4CE5-B1C9-5CBDAD65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0F22-C9BD-4E49-9FEC-12540F9DC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las! and Di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y Savior Ble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5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Alas! and di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avior ble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id my Sovereign die?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42640" y="1622520"/>
            <a:ext cx="49842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WORDS: Isaac Watts, 1707; refrain by Ralph E. Hudson, 18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God, the migh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r, d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his own creature’s s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cross, at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I first saw the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lled a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was there by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received my s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w I 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all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us might I h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blushing f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his d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ss appear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ssolve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ankful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elt m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yes to tea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cross, at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I first saw the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lled a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was there by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received my s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w I 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all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But drops of t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ne’er rep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ebt of love I ow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, Lord, I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self a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tis all that I can 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cross, at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I first saw the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lled a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uld he devo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acred h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sinners such as I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was there by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received my s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w I 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all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cross, at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I first saw the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lled a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was there by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received my s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w I 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all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as it for crim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 have d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groaned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the tre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azing pit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unknow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beyond degr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cross, at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I first saw the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lled a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was there by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received my s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w I 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all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ell might the s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darkness h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ut its glories 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0T15:15:00Z</dcterms:modified>
  <cp:revision>9</cp:revision>
  <dc:subject/>
  <dc:title>PowerPoint Presentation</dc:title>
</cp:coreProperties>
</file>