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CB1-492D-4916-9800-47425BA1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707-0C8E-41D7-BBD5-F1F056CA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CE0-02C5-43B0-9B37-CB67344E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7F8-6C26-4AE3-B1DB-1A662CE3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A0AD-BCD2-46CE-A2D1-B86660F8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20E9-41E3-4C0F-8106-36155A53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DE5B-86D0-457D-9F7E-310BF048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FC2F-CAC6-45DF-8F6F-4EDD2E69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E50A-CED0-4F2B-99FD-19487141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0494-A602-44EC-B164-4B9AFB65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2225-124B-407D-A0D8-39161043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B9E-08D9-4D98-8465-ED29CA52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29E8-04A2-42D0-A882-E442A0B1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60B8-894A-4464-A6A9-A1256B40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50A0-21CE-4A3B-B9DD-5D1267DE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FD7B-C3E6-4D72-B709-C64E674C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A866-682C-4B00-913B-6CEA4764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DFD-3A93-4835-A3A4-425C9A50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9B7-16FD-468E-BDEA-82F27819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AA5-4A57-45F9-92D6-54B35556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6CC-3843-46F8-9212-213C548C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449-801D-4F4E-84FF-AA8CDC2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7BC-5C62-4979-A193-27FC3F96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226-68C1-4A43-8317-0C410655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526D-E53B-408D-9C89-E88DDE38F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FC13-FF3D-4FD7-A2AC-9403ECE2E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Morning Gild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lds the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awaking crie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0920" y="1600200"/>
            <a:ext cx="80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atholisches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ca. 1744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s. 1, 2, 4, trans. by Edward Caswall, 1854; st. 3 by Robert S. Bridges, 18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ke at work and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I repai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66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night becomes a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rom the hear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s of darkness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t they hea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43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all the earth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 joyous with the sou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’s eternal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li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 is thi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ut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if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anticle divi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is th’eterna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ges lo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ke at work and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I repai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night becomes a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rom the hear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t they hea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all the earth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 joyous with the sou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li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 is thi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ut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if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anticle divi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ges lo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364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Morning Gilds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hen morn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lds the ski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heart awaking cries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0920" y="746280"/>
            <a:ext cx="80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atholisches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ca. 1744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s. 1, 2, 4, trans. by Edward Caswall, 1854; st. 3 by Robert S. Bridges, 18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8-25T06:58:07Z</dcterms:modified>
  <cp:revision>35</cp:revision>
  <dc:subject/>
  <dc:title>PowerPoint Presentation</dc:title>
</cp:coreProperties>
</file>