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817-06C3-41F5-B261-8F4F6A17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9A8-FB48-47FF-AA95-C7080559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9E0-5347-48DB-94B4-90A868A7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98A-4B15-428A-B77A-3F3F8DBB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495-65AC-4E37-9C3B-160AAD8E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016-4AE7-4270-AB5C-025F5F5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482-AFBD-4E4E-A203-83DE8FCD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9E3-C4CF-4692-8FC0-4C0A248F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2E9-D63B-4AF3-8A08-18EA56D4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068-42E2-4A16-918B-1C6E9B42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727-B305-46F6-A4A6-7006B2D2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3B3-D149-499A-B828-947C095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A8B9-48CF-4B48-AC1B-84A98960C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Love Thy Kingdom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love thy kingdom,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house of thine abod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church our bles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edeemer sav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s own precious blo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9400" y="1066680"/>
            <a:ext cx="365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imothy Dwight, 1801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love thy church, O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as the ap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ne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ven o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her my tears shall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 my prayers asc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r my c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ils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oils and care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eyond my highest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prize her heavenl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sweet commu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emn v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hymns of lov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Sure as thy truth shall las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Zion shall b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ightest glo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can yie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er bliss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04Z</dcterms:modified>
  <cp:revision>12</cp:revision>
  <dc:subject/>
  <dc:title>PowerPoint Presentation</dc:title>
</cp:coreProperties>
</file>