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E03-A8AD-408E-8C20-0DB3478B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2A8-705A-481B-8C18-7BB7E171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490-6C05-44E8-A40D-BB08A4B4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E0E-8917-4096-A84B-38ADBA82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1DEC-6D09-4156-B350-2EE14373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9044-6A02-4444-8713-6D0AD5E6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068B-EB20-4ABB-926D-50B353E6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F0FD-680F-4D0A-B34B-AAAE2E9E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C557-E29E-4322-8A1F-553BF77E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1F54-2A63-4DFC-BC88-079B9F27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360-CDC9-4016-BEE3-09200394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5AE-62A3-4CF9-A009-341ADD45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A592-2031-4B7B-B514-73D580D6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A02D-6122-43E9-A3D3-2F89B7A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9CAB-348B-4E10-A7CC-C8FEFD6A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3B66-B7FF-42B9-BC5D-F77DE3CF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6AF2-F1D6-480E-AB26-DB507169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F98-6E63-4D91-B1FF-80E6F887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A1F-8A24-42C9-8C9F-F5D3D160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B34-998B-4C7A-B99A-B9A19B56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668-2C2F-4663-82E8-54822E9D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802-9D40-4B32-9BC0-FDA72D94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475-5372-487C-BD4A-E0750F53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670-8E46-4EDD-96A7-DDE18218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7BBF-E116-4F8C-8A56-C563911A3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789F-3844-4591-904B-44E540701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Is Thy Faithfu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129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Great is thy faithfulne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God my Father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e is no shad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urning with the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95240" y="762120"/>
            <a:ext cx="5752440" cy="76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O. Chisholm, 1923 (Lam. 3:22-2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3, renewed 195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4280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trength for toda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bright hop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or tomorrow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lessings all min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ith ten thousand besid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4920"/>
            <a:ext cx="9144000" cy="501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825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Is Thy Faithfu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Great is thy faithful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God my Fathe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is no shad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urning with th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5240" y="762120"/>
            <a:ext cx="5752440" cy="76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O. Chisholm, 1923 (Lam. 3:22-2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3, renewed 195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hangest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mpass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ail no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b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forev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mmer and 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ing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r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ourses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with all natur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great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,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4280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changest no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compassion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y fail not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s thou hast been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forever wilt b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ardon for sin an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hat endur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wn dear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er and to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om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s all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n thousand be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Is Thy Faithfu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my Fa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no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urning with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3, renewed 195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27280" y="1066680"/>
            <a:ext cx="568836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O. Chisholm, 1923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hangest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mpass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ail no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b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forev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mmer and 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ing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r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ourses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0120"/>
            <a:ext cx="9144000" cy="501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with all natur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great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,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ardon for sin an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hat endur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wn dear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er and to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om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s all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n thousand be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2056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Summer and wint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springti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harves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un, moon, and st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their courses abov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907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oin with all nature i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anifold witnes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thy great faithfulnes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ercy, and lov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4920"/>
            <a:ext cx="9144000" cy="501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0656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3024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3. Pardon for sin and a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peace that endureth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ine own dear presenc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cheer and to guid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14T00:51:24Z</dcterms:modified>
  <cp:revision>62</cp:revision>
  <dc:subject/>
  <dc:title>PowerPoint Presentation</dc:title>
</cp:coreProperties>
</file>