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32C-8988-4FB8-A6A1-3DC12499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57B-9531-4A0A-B6A3-18BA186C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FAD-CBE0-4530-B40C-377F5A64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921-CEB8-49FA-9512-CA28B702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E61-765A-4CE4-BAA7-68ADAB6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C10-E669-48F7-A5E4-74DB9FE1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E99-5D60-4121-A403-09CE3FD8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357-2FD7-4ECD-A27A-2D8EDB5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AC0-7E00-4E72-A7A2-5542ACE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F21-DE25-4562-B400-37A9E0A8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4A6-5A15-4335-B81C-231A976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A5D-C126-4579-9F95-CC35029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8940-575F-493E-B494-A76AC0388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Ou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deeming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All praise to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ing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joins u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his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096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ids us, ea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ach restor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gether seek his 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bids us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u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gathered into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high calling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nd in hand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gift which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ne best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delight to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through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 f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st stream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’en now we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eak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rdially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centered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all par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 of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mon peace we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eace to sens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joy unspeak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nd if our fellowship be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 be so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eight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oun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we mee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34Z</dcterms:modified>
  <cp:revision>61</cp:revision>
  <dc:subject/>
  <dc:title>PowerPoint Presentation</dc:title>
</cp:coreProperties>
</file>