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26F-0CFB-4B18-8FAE-B9BA4D78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119-2B9A-432A-A9DB-58D9B88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2DF-8CFF-4A2B-8D46-3A440A6C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F45-94FE-4657-8955-1DAEDBA9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C4E-237F-4440-B881-3284B577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E7D-9EDA-447C-94ED-2A6BAC31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E77-10AE-431C-99F0-9D3C01C3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996-07A0-4C58-82B1-F97BDE6E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97D-8425-4519-8215-03839B16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259-0EFD-4C7D-B70F-D05DC88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DD9-B938-45BF-B792-B2F9C58C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CF0-85A8-46B2-B457-D6CE4B48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4E5C-F1DC-4756-B8A9-7052242BD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 of the Nations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,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rgin’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make thy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9400" y="118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, 2 Martin Luther, 1523, trans. by William Reynolds, 1851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3-5 Martin L. Seltz, 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light subd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our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vel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eaven and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ose such a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by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esh and b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man’s off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and fres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ondrous bir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Virg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defil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vin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ger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race to r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his sou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uns his cour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wn to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l desc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high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easc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thy mang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o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ewbor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24Z</dcterms:modified>
  <cp:revision>58</cp:revision>
  <dc:subject/>
  <dc:title>PowerPoint Presentation</dc:title>
</cp:coreProperties>
</file>