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14FD-C3FF-4FFD-8416-E98D833C0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6541-ADA4-4D20-9487-6146E9175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FF4A-7209-41B1-8131-1DA4E997D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8526-1170-4BE3-8EE2-B76895251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A899-4405-4334-AF61-B841A1748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6EA9-A906-401E-9E09-E61F629BA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DA0C-E184-4F90-B639-73C35B248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3B60-158C-425C-996D-F88261C3E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DCA3-DB98-4858-8EE5-DDBF5317E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5F28-BDEC-4633-90B4-CBDD5517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927B-09A0-4E55-AC9F-35FCAC31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AB72-F7DE-4FBF-AD6D-C1FC8132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DAF12-EAD1-4772-9666-E16BC248E8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Nothing Betwe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7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hing Between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6668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Charles Albert Tindley, ca. 190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057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Nothing between my so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my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aught of this world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lusive dream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gh it may co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e much tribul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am resolv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re’s nothing betwe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hing Between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37160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hing betwe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soul and my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 that his bles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ace may be see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hing prevent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east of his favo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keep the way clear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nothing betwe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hing Between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Nothing betwe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’en many hard trial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gh the whol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gainst me conve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tching with pray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much self-denia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’ll triumph at la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re’s nothing betwe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hing Between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37160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hing betwe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soul and my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 that his bles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ace may be see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hing prevent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east of his favo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keep the way clear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nothing betwe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have renounc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sinful pleasu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is m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re’s nothing betwe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hing Between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44792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hing betwe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soul and my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 that his bles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ace may be see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hing prevent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east of his favo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keep the way clear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nothing betwe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hing Between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Nothing betwe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ke worldly pleasu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bits of l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gh harml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y seem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ust not my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him ever s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is my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re’s nothing betwe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hing Between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21932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hing betwe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soul and my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 that his bles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ace may be see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hing prevent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east of his favo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keep the way clear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nothing betwe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hing Between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Nothing betwe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ke pride or statio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lf or frie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not interve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41:22Z</dcterms:modified>
  <cp:revision>114</cp:revision>
  <dc:subject/>
  <dc:title>PowerPoint Presentation</dc:title>
</cp:coreProperties>
</file>