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A2ED-7B59-4AA5-871B-95247E389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2499-0F5E-402B-B47A-0E0859576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F277-EE03-4A40-AEDA-D9EB2C6A3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C673-E1ED-470E-849B-16437D7B0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1EBEB-7421-46CC-9698-41E437254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0FC31-E769-4400-B041-8567EFBD2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38B73-941D-47EE-AEB5-A297C5CF5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902E4-F547-49A5-B9B5-B71BDE80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C5103-61E1-4386-9EDE-7C7F3B11F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BAA96-DDD4-4A54-A85C-CFE135540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7F0ED-2F3B-4447-AB15-1EF542FB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5B44-7101-4EED-87B0-9CF058E5B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0C2B3-C959-497F-B884-408CE00B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5890B-876C-4DF1-BE08-FB5E23E0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760F7-A229-4E8E-9CD5-79BF84013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F309F-EFAC-4E76-9C44-1A3131230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522BB-A48E-4728-9F87-CE48E060A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A9A3-8EEB-47CB-A533-576FAE66D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0251-633C-4E3F-8DBF-2EA2760A2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C2EA-34F1-4AB6-81E0-47AE695E9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C9DE-C6C5-4F54-9715-3B2541BBC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139E-4695-4743-B0CD-FD8AAE2F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B231-D857-4C5B-8BA0-BA8A4AD6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A5F6-7C36-4A25-9FF6-B0BDC545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CF9E6-02AB-4773-A164-CE3985A1FE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46E66-5574-4902-8C9F-FC002DCEB5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80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lorious Things of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e Are Spok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3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286000"/>
            <a:ext cx="9144000" cy="274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1. Glorious things of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e are spoken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Zion, city of our God;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rious Things of Thee Are Spok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82480" y="1676520"/>
            <a:ext cx="610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John Newton, 1779 (Ps. 87:3; Is. 33:20-21; Ex. 13:2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914400"/>
            <a:ext cx="91440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for a glory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a covering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howing that th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Lord is near!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685800"/>
            <a:ext cx="91440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us deriving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from our banner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light by night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shade by day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762120"/>
            <a:ext cx="91440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afe we feed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upon the manna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hich God gives u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hen we pray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76212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4. Blest inhabitant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of Zion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ashed in our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Redeemer’s blood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rious Things of Thee Are Spok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762120"/>
            <a:ext cx="91440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Jesus, whom our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ouls rely on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make us monarch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priests to God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990720"/>
            <a:ext cx="91440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Us, by his great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love, he raise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rulers over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elf to reign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762120"/>
            <a:ext cx="91440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as priest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is solemn praise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e for thankful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offering bring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380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lorious Things of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e Are Spok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3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25750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Glorious thing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e are spok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Zion, city of our Go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rious Things of Thee Are Spok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82480" y="1676520"/>
            <a:ext cx="610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John Newton, 1779 (Ps. 87:3; Is. 33:20-21; Ex. 13:2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, whose w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nnot be brok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med thee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own abo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e Roc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Ages found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can sha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sure repos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790560"/>
            <a:ext cx="914400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God, whose wor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cannot be broken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formed thee for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his own abode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salvation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ls surround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mayst smi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all thy fo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See, the strea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living wat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ringing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ternal lov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rious Things of Thee Are Spok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ll supply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ns and daught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ll fear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nt rem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can faint whi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ch a ri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 will the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rst assuag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e which li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, the gi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ver fai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age to ag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Round ea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bitation hove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 the clou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ire appear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rious Things of Thee Are Spok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a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 cove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owing that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is nea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us deri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our bann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ght by n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hade by d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fe we fe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on the mann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God gives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we pr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Blest inhabita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Z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hed in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deemer’s bloo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rious Things of Thee Are Spok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914400"/>
            <a:ext cx="914400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n the Rock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f Ages founde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hat can shak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y sure repose?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, whom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uls rely 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 us monarch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iests to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s, by his gre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, he rais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ulers o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lf to reig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s pries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solemn prais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for thank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fering br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990720"/>
            <a:ext cx="914400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ith salvation’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alls surrounde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ou mayst smil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t all thy foes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14300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2. See, the stream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f living water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springing from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eternal love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rious Things of Thee Are Spok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762120"/>
            <a:ext cx="914400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ell supply thy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sons and daughter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all fear of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ant remove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91440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ho can faint whil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uch a river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ever will their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irst assuage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99072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Grace which lik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 Lord, the giver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never fail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from age to ag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80964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3. Round each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abitation hovering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ee the cloud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fire appear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rious Things of Thee Are Spok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</cp:lastModifiedBy>
  <dcterms:modified xsi:type="dcterms:W3CDTF">2011-03-25T02:08:42Z</dcterms:modified>
  <cp:revision>54</cp:revision>
  <dc:subject/>
  <dc:title>PowerPoint Presentation</dc:title>
</cp:coreProperties>
</file>