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BF6-FAB1-472F-91B8-A4473549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645-F68F-4464-B7CE-A5E9F99B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240-ABB3-43B5-B762-614FBD57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38D-AE6A-4426-94B6-87C9ACA7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F2C-84DB-449C-B8AD-0993CF9E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9F4-FD5F-4756-B5F3-D926885A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C59-CC04-4208-BEFC-1127487A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4D2-DAE2-483C-8DF7-2285838B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B17-323D-48BE-9BBC-784B93A8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460-E542-41B1-A358-CEAE6FDF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192-C0A6-42D7-9711-6C857F9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818-37BA-4523-8EF4-A0F96FA2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E2DD-7DF4-4698-8329-923F2B423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O Th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aveler Unkn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, 17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O th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raveler unkn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whom still I hol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but cannot s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every sine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unstru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my ar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ou shalt not fl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estling I will not let thee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What though m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shrinking flesh complai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and murmur to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contend so 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rise superior to my pain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am w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n I am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en my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strength shall fai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hall with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-man preva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My strength is gon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my nature die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I sink beneat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hy weighty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nt to revive, and fall to ris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fall, and yet by faith I st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tand and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8. Yield to me now—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for I am w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but confid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in self-despai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eak to my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blessing spea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conquered b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instant pray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eak, or thou n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nce shalt m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ll me if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9. ’Tis Love! ’tis Lov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thou diedst fo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I hear thy whisp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in m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rning brea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hadows fl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re, Universal Love thou art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e, to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mercies move—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0. My prayer hath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with God; the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unspeaka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I now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company before is g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am left alone with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e all n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 mean to st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restle t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reak of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faith I s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e face to f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ee thee face to face and liv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vain I have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pt and strove—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1. I know thee, Sav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who thou 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Jesus, the fee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sinner’s frie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wilt thou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night dep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stay and love me to the en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mercies n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rem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2. The Sun of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on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ath risen with hea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in his w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ered my nature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trength; from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its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uccor bring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lp is all laid up abo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82880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3. Contented now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upon my thig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I halt, till life’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short journey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, O Thou Traveler Unknown (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83808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elplessness, all weakness I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thee alone for streng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pe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have I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om thee to mov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4. Lame as I a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I take the pre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ell, earth, and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with ease overco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eap for jo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ursue my 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a boun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rt fly h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all eternity to pr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hee who I am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my miser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self hast cal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e by my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 on thy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ad it ther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o, I ask thee, who art thou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ll me thy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ell me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n vain thou struggles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o get fre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I never will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unloose my 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 thou the 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died for m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cret of thy love unfo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estling, I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ilt thou not ye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o me reveal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y new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unutterable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ll me, I st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seech thee, te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know it now resolved I a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estling, I will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thee g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’Tis all in vai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o hold thy tongu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or touch the hollow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of my th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1:49Z</dcterms:modified>
  <cp:revision>140</cp:revision>
  <dc:subject/>
  <dc:title>PowerPoint Presentation</dc:title>
</cp:coreProperties>
</file>