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7443-6909-46D3-8F67-2B409E4C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14FC-460E-46B7-AAE1-16332A9A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6D0D-C66A-42BC-8B4C-6F0816B7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461D-71FE-495C-8F42-E0BF03618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F249-67FF-4E59-B208-A2396A79B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F7E9-EA72-446A-AD51-8A04E401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3CB9-5B06-46F9-9C8E-FCDBA1B4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175B-41D7-41F1-BAB4-DEB8186E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0F03-D447-45F3-88AF-19C3AB5B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2E1B-0FCD-4A2A-8230-BC9D49B0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5959-7E21-4695-AD64-7D71B36B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ED30-66DF-4F83-A73D-BC5D693F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AF51-4EE2-433E-BBDA-287DDC54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02A4-456D-45CE-BBE1-856A93D9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99CE-50C6-4EE9-BE54-4943AA4A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3B22-BDCC-498B-9154-A2CDF7B57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EBD9-F211-4158-AC9B-EFE5EF7B3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0741-B17A-4D66-8BD4-6F8DDD05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DA07-E891-44A3-AF39-8B5B633D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7450-AA70-41C0-9913-26750900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ED8F-2624-4221-B376-F1A351AC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6179-A89E-49B6-AA2E-C05AA803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0741-58AE-4D1B-BC05-52C7BF68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BEF0-5264-4CD9-9167-14B44AF4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DE10-E259-434A-82D2-E92874220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51AF-96E6-4CAB-AD3F-4533C3446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ve Came Down at Christ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Love came d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Christm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all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div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Came Down at Christ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16840" y="1092240"/>
            <a:ext cx="400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ristina G. Rossetti, 18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Came Down at Christ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8819" t="0" r="1863" b="2950"/>
          <a:stretch/>
        </p:blipFill>
        <p:spPr>
          <a:xfrm>
            <a:off x="6095880" y="44280"/>
            <a:ext cx="3035520" cy="46040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228600"/>
            <a:ext cx="5715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orship we ou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Jesus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ut wherewith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sacred sig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Came Down at Christ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8819" t="0" r="1863" b="2950"/>
          <a:stretch/>
        </p:blipFill>
        <p:spPr>
          <a:xfrm>
            <a:off x="6095880" y="44280"/>
            <a:ext cx="3035520" cy="4604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52280"/>
            <a:ext cx="5943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ove shall b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ut token;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ove be yours an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ove be min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Came Down at Christ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8819" t="0" r="1863" b="2950"/>
          <a:stretch/>
        </p:blipFill>
        <p:spPr>
          <a:xfrm>
            <a:off x="6095880" y="44280"/>
            <a:ext cx="3035520" cy="4604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228600"/>
            <a:ext cx="5715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ove to Go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d all men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ove for ple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d gift and sig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was b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Christma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 and ange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ve the s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orship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odh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incarna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div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Came Down at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ship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where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acred sign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ove sha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tok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be yours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be m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Came Down at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m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for ple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ift and s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600200" y="0"/>
            <a:ext cx="44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ve Came Down at Christ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3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Came Down at Christ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99360" y="1143000"/>
            <a:ext cx="400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ORDS: Christina G. Rossetti, 18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8819" t="0" r="1863" b="2950"/>
          <a:stretch/>
        </p:blipFill>
        <p:spPr>
          <a:xfrm>
            <a:off x="6095880" y="44280"/>
            <a:ext cx="3035520" cy="46040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676520"/>
            <a:ext cx="5715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ove came dow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t Christmas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ove all lovely,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ove divin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Came Down at Christ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8819" t="0" r="1863" b="2950"/>
          <a:stretch/>
        </p:blipFill>
        <p:spPr>
          <a:xfrm>
            <a:off x="6095880" y="44280"/>
            <a:ext cx="3035520" cy="4604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228600"/>
            <a:ext cx="5715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ove was bor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t Christmas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tar and angels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gave their sig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Came Down at Christ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8819" t="0" r="1863" b="2950"/>
          <a:stretch/>
        </p:blipFill>
        <p:spPr>
          <a:xfrm>
            <a:off x="6095880" y="44280"/>
            <a:ext cx="3035520" cy="4604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52280"/>
            <a:ext cx="5715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orship we t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Godhea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ove incarnate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ove div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1-06T22:53:04Z</dcterms:modified>
  <cp:revision>16</cp:revision>
  <dc:subject/>
  <dc:title>PowerPoint Presentation</dc:title>
</cp:coreProperties>
</file>