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E7A7-F480-4F8A-9962-3B40B5FA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7A11-1E31-4392-85BF-42D238C4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14A6-F705-4D73-B357-501E4A95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DE75-2003-47C3-B526-B275BA40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9338-22F2-458F-97E4-B88A87B8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A0C8-A76A-477F-9EA1-0BC3B0A9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92A3-7D4A-4AEC-A713-3589DB35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6A7B-B677-4F23-B942-A76EABD2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7AC7-061C-462E-A40A-FF18FA68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B949-7D27-4333-A04B-9108602B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7A95-ABB3-44D5-B8D7-0CC5E0DB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3EFD-65C2-4DA5-8F47-C17F7EEB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4508-9CB0-410A-9F76-E0478F2C3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om Shall I Se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3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om shall I send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Maker cri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ny, w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hear God’s voi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m Shall I Se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Fred Pratt Green, 1970 (Is. 6: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sure where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ocation li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many shri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uch a ch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or who can ser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God so p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claim to sp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uch a n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m Shall I Se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doubt mak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step un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lf confu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aim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623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nd yet, belie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ho ca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ws what we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ill may 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m Shall I Se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past defea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uture fal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dare to answ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send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ose who are ca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purif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aily g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strength to be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m Shall I Se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thoughts, our skil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energ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it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is one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42:37Z</dcterms:modified>
  <cp:revision>88</cp:revision>
  <dc:subject/>
  <dc:title>PowerPoint Presentation</dc:title>
</cp:coreProperties>
</file>