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749-A951-48A2-8447-C2429C67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67C-C69C-4DAC-87F3-7A61596B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6B1-2603-4CE1-BAA7-CE228410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903-8BDF-4265-8F27-B85EA339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DEF-DF58-4FAE-8045-F00D2B0A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85CD-2C4A-43D5-940C-7F46A432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1324-7083-44F6-94B1-351148C3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7188-3489-42EA-AA30-13E0D981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4475-4714-4F51-A1B7-83D8D05B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97DB-3259-454A-8F14-9E8AA148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50AA-A44D-4F6F-BAF1-15B3BE0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BC9-A730-4CDD-AE0F-CB04E12C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D86-1617-4758-B121-AB0984A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D28A-11E9-4779-A760-208C3FB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F1D2-7281-49C1-B05A-9B63F634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0CF5-8629-4FD0-8602-903852FC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8657-BEF1-4A55-A1DA-3E83D8E4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654-E2C6-4D48-90FA-954CFC6A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E34-08E5-4A35-9886-0C03C6B8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2DB-1E5D-4012-AC43-7A540E31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C70-B8B9-4789-99AC-E61D0387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F7C-93DB-484D-969D-9935400D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1DE-0B2A-4DD9-B288-C8DA8723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F73-20EC-4D30-B58B-AB86BCF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8969-D9B0-490B-8E3F-4FC772FDC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4B43-D03A-4CD5-884B-70E0B7213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Come, let us u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grace div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ll with one accor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Jer. 50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p ourselve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esus’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name to glorif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sacred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to live and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ovenan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oment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ver kept in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no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fors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ast these words beh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ve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w off the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who hears our v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f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pleased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down and meet u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e,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hearts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nt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ful answer 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ch coven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ood ap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akes our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gi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ames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to that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a perpetu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venant jo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selves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rist the L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92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ive up ourselv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 Jesus’ pow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is name to glorify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promis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is sacred hou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God to live and di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92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The covenant w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s moment mak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ever kept in min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ill no mo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God forsak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r cast these words behin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never wi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w off the fe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God who hears our vow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if thou ar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ll pleased to hea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e down and meet us n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Thee, Father, S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oly Gho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all our hearts receiv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esent with th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elestial ho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peaceful answer give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55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each coven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lood app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ich takes our sins away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regist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names on hi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keep us to that da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let us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ith one ac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Jer. 50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perpet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venant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31T02:34:44Z</dcterms:modified>
  <cp:revision>108</cp:revision>
  <dc:subject/>
  <dc:title>PowerPoint Presentation</dc:title>
</cp:coreProperties>
</file>