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5541-40B1-4595-ACBF-DA5A3DF80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C391-C7CF-42DF-9CBA-1E6131A6E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876E-1957-4ACF-A5F7-4FA1A6049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7F22-6681-4D6E-9620-5FB7D0EDD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D195-770A-44B3-B29D-24FE6F6B6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85E6-CCB2-4376-9BAC-F38D19718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B152-1848-413E-AA7F-B9F560E06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865C-5A61-4ABC-9E53-8DE0D43F9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D182-1EDC-437D-89DE-FA01D5B93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5BFF-570F-48A5-B549-4D158F3A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3AD5-D266-4B7D-8636-01A48398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CB1C-601A-4739-B645-D659E340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6236-CCA9-4C57-B2BA-DBF8CAE142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Ni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ño Lindo</a:t>
            </a:r>
            <a:br>
              <a:rPr sz="4000"/>
            </a:br>
            <a:r>
              <a:rPr b="1" lang="en-US" sz="3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(Child So Lovely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2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425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 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rans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 Lind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5520" y="1523880"/>
            <a:ext cx="601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Trad. Venezuelan; trans. by George Lockwood, 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Adiós, tierno infant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diós, niño, adió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diós, dulce amant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adiós, dulce, amant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adiós, niño, adió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 Lind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287360"/>
            <a:ext cx="9144000" cy="394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 Lind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287360"/>
            <a:ext cx="9144000" cy="394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are Christ my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 So Love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are Christ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are Christ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You ha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ven’s beau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God’s puri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ealing my devo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ealing my affec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ealing all my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 So Love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1287360"/>
            <a:ext cx="9144000" cy="394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are Christ my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 So Love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are Christ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are Christ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All my l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dar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my soul, as wel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is is what I off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fer joyous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alling at your fee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 So Love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1287360"/>
            <a:ext cx="9144000" cy="394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are Christ my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 So Love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are Christ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are Christ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Adiós, tender bab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diós, child, adió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diós, sweet belov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diós, sweet belov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diós, child, adió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 So Love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1287360"/>
            <a:ext cx="9144000" cy="394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are Christ my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 So Love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are Christ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are Christ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Esa tu hermosura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se tu cand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l alma me rob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l alma me rob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e roba el am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 Lind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287360"/>
            <a:ext cx="9144000" cy="394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 Lind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La vida, bien mí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el alma tambié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 ofrezco, gustos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 ofrezco, gustos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ndido a tus pi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 Lind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287360"/>
            <a:ext cx="9144000" cy="394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 Lind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46:52Z</dcterms:modified>
  <cp:revision>69</cp:revision>
  <dc:subject/>
  <dc:title>PowerPoint Presentation</dc:title>
</cp:coreProperties>
</file>