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7C3-EACF-4899-8808-462DB74B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00C-D805-4504-A800-7C6C335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937-F378-48F0-B9DE-236692C0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9F5-EC42-4365-9524-418D3E98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7A29-AD2D-4FB1-984D-3305BD01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A5E-4765-4395-9143-4525F5D5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14C-F6D8-446A-A392-490EDFEB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E78C-F299-43BE-9443-A586B47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E70-45A3-44AA-8867-4F7D433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C17-5E34-462E-BF50-7DB9F2E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73FE-B041-430E-A371-3B63C5C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445-46E4-4C96-8E71-AD315FC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ED2D-F994-4132-A41C-3CEBF26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2FD-1EB8-4251-946F-0DF963AD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022-B9DC-40A7-96C4-AE583659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C84-7E94-494F-8E99-E167254C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14F-51F9-4A65-AE96-D24D3250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4E4-0EEC-4E25-A0E3-97BC0735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5CE-BC37-4532-86BE-48DAFB6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69D-71AB-44C8-B421-60692A1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D76-835C-498C-8945-9763506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7EA-FEE3-4F76-833F-CB3DF81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684-F8F7-4748-9A33-5BA12BD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747-DE6E-406C-9A62-B599721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1A2F-481A-4C1E-BB35-5C381BB6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2E0-550D-4051-BEB6-57AA640B4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mless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61280" y="118116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shin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79200"/>
            <a:ext cx="6019920" cy="5701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643120" y="79200"/>
            <a:ext cx="6500880" cy="4299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61280" y="91440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1T03:51:09Z</dcterms:modified>
  <cp:revision>81</cp:revision>
  <dc:subject/>
  <dc:title>PowerPoint Presentation</dc:title>
</cp:coreProperties>
</file>