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F0C-5FF6-49D3-88B6-E20127A9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C11-C509-4003-954A-0D83388F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B4B-CED5-4921-896B-DBDC927F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737-EB06-409C-A3DB-AC38F4B6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58A-A5A9-4FB6-98E2-22555EF7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6DE-D0C3-4483-9A70-5FB74B7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F9E-6FB9-4959-A397-6AE77F21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9D9-034B-47FB-A0A2-99A5527D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B64-72B5-4F4A-8E23-15F64BB8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885-71AC-405B-9CC0-4BBF6AD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9AD-58A0-4D4D-A6EF-A6DC3105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576-DA36-4AFD-B6DA-6202BC4A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6996-ED92-47F5-91BF-52C4F49F4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fficiency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fficiency of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uliana of Norwich, England, 15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, of your goodness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e yourself; for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for me. I can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roperly ask anything l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worthy of you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05740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were to ask less, I shou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ways be in want. In you al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have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6:54Z</dcterms:modified>
  <cp:revision>158</cp:revision>
  <dc:subject/>
  <dc:title>PowerPoint Presentation</dc:title>
</cp:coreProperties>
</file>