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38B-3618-4145-ACE0-7FA950CD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CF7-3060-4B9F-83B1-F6E5C2A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2FA-DC7E-4326-ADDE-6CAEBC6F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ACE-7C1F-4EBC-BEED-57D5A3C3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3C8F-071B-4908-A77F-B344D64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F0D5-64C5-47BB-860E-9CA5517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7048-47FE-45D5-BD91-C7BE0E9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3C2-92E1-475A-9EAF-879F5B0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BE80-7D3C-44C2-931D-1DC4A54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80B-75EF-47C1-989C-A20491A4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BD0-4D68-483E-ACC6-8C7DB86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6BE-9967-47FF-83B3-75F7EC4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854E-63AC-4D15-9B4D-9D84CF8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8E1-C29A-40CF-9B9F-25D2209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AA27-5D7F-4E68-A926-409110C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27EE-6E25-4EF2-8752-EB9C6386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C624-C432-472B-9B72-927840EF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FF8-0325-4B42-8887-B5CBFB3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AB2-CA18-4F40-AB3C-CBA7CC5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335-6D79-4546-8CFF-C19D811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388-CCDD-4081-AD97-A719CC31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6E8-6C2B-42DD-83D3-0A3DA84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061-0594-479B-A586-5ECA79E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828-C7E7-412B-8B45-5C4FC4B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C62-D1F9-4F0F-B213-63B179B39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7371-DC97-4AC6-A5A1-D45BF7B4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5560" y="11430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God’s likeness we, aw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what glory, far excee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lives, who once was dea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riarchs from the distant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shall stand before the thr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to enter that bright p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w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ha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exce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lives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was dea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riarch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ant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shall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o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Sing with all the saints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560" y="6858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12:19Z</dcterms:modified>
  <cp:revision>47</cp:revision>
  <dc:subject/>
  <dc:title>PowerPoint Presentation</dc:title>
</cp:coreProperties>
</file>