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231-F577-486F-B5F2-CA63BC2B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432-325B-4096-B714-5F0CF3A0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434-42D1-43E5-800D-1A589326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EA5-045D-4E2B-97F6-623B8A8C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DBB-2C90-4360-B8A8-F90AA11B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E13-C32D-440B-8CC3-4FAB055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B90-630C-4243-80CF-A2138649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9C0-F889-4F4F-B681-1F932B3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EFA-80AD-431F-BA17-9AABB6E8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0B6-DCF0-4E66-B7CD-4AC9D10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593-1A03-413C-9A4F-71AD4E31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B14-0B0B-42EA-B82D-BCA250A4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0BF6-8581-4EF7-9ADE-3CAC699AF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eely, Fre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1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forgave my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ve been born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9120" y="1066680"/>
            <a:ext cx="595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arol Owens, 1972 (Mt. 10:8; 28:18-20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l power is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hi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2:40Z</dcterms:modified>
  <cp:revision>12</cp:revision>
  <dc:subject/>
  <dc:title>PowerPoint Presentation</dc:title>
</cp:coreProperties>
</file>