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2D7-C7A0-4B41-9AB4-7EBFA53C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8F4-FC51-4384-83D7-BE651062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1188-6B5A-4AE6-852A-B2A4BF17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617A-3E7E-4838-B60F-87ED1156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67D6-067C-4216-9673-D3713BBD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E2A6-9AA8-41D0-909D-6B6B74A0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C4C2-7924-4ACA-BBD4-F0316A80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08D4-100C-48BD-84E2-35978C25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6AD0-B89A-4DED-8F68-BA1D1B50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E0AC-5278-4A90-9978-8815FAF6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AAA1-9288-433E-AB82-B5BDF1F6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32A-5613-44AC-8BE8-31F9A570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924E-7B11-4B53-A54A-FF346CD9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913E-9952-4D63-9C75-8E39F91F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5D10-2E17-4EEC-A966-9404FC97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F00D-EB29-4F59-94B7-2F04760F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C0AD-4284-417B-A9C7-DC36FE20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B90-2244-47F8-BA9E-456AF7E4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71E-BB72-4F3B-BC8D-ADA0BCEF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EA6-99BE-4001-B3F5-D71FAD18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8E1-A193-4FB1-ADA5-5B87D755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9D4-8DEC-44A5-82F3-61BA46A3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B25-78F2-4826-9216-394580DC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007-E05E-4407-9FFF-C1DDB01C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E8DD-85A6-460D-A6E7-1009A92C9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0F9C-3270-4C69-BF93-308D1C38B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n Eagle’s W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95280"/>
            <a:ext cx="9144000" cy="375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God will lift you up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eagle’s wing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ar you on the breath of dawn, make you to shine like the su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hold you in th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lm of God’s h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Eagle’s W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2120"/>
            <a:ext cx="891540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ichael Joncas, 1979 (Ex. 19:4) 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© 1979, 1989 North American Liturg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n Eagle’s W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will lift you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gle’s w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 you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 of da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, 1989 North American Liturg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Eagle’s W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96440" y="990720"/>
            <a:ext cx="455148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ichael Joncas, 1979 (Ex. 19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you to 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d you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lm of God’s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3-21T18:26:24Z</dcterms:modified>
  <cp:revision>64</cp:revision>
  <dc:subject/>
  <dc:title>PowerPoint Presentation</dc:title>
</cp:coreProperties>
</file>