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974-9AAF-4292-BB5C-DC91C27E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BB6-E902-47B0-86C1-AE656C3D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284-401E-42B6-9684-EA57F5F5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830-34AD-4454-9A8D-929358FE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2A90-86E9-439B-886F-FCECDBFA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C717-C5AF-415A-A7A1-934BBAF0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8E56-388D-4726-9533-89CE312A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32F5-50A3-41EC-B344-6533E6D7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3186-F3FB-4EE5-801A-ADA5CA91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3AE2-84E1-4484-8673-BA229AEF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6DE1-5E28-435F-A750-72F18582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1EA-7593-43A6-BC80-B01C33FB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BF14-3245-43C5-9FF4-5DE934B3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15BF-E5EE-4067-8414-1FFFA07C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0768-C9C0-41F7-8339-CD049F57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8F27-42EB-42CC-A155-A52D4FF8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A8EE-E8DF-4AD3-8E47-0426B2CE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C57-BB9D-4B00-B20B-6798563E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5B0-F13A-4B32-B935-3514C138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D21-27E0-421D-BC58-1D99D85B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235-513E-473E-B8BE-F9B39447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25D-7FC1-4378-BE70-AF153C12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8E6-0D63-463F-8010-8AF841FD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EEC-DC79-4104-AAC8-92EC259F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A31B-DD18-425C-B480-FC2B44EEE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9A10-4A07-4C55-9965-7D398E736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My Life, and Let I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03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ake my life, and let it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ecrated, Lord, to th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mo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m flow in ceaseles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600" y="639720"/>
            <a:ext cx="57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rances R. Havergal, 1873 (Rom. 12: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sil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go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mite would I withhol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intellect, and 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power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halt choo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ake my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it t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shall be no longer mi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ine 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shall be thy royal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, I p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y feet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asure-stor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self, and I wi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, only, all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763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My Life, and Let I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5576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Take my life, and let it b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ecrated, Lord, to thee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ke my moment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my days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 them flow in ceaseless prai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7600" y="639720"/>
            <a:ext cx="57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rances R. Havergal, 1873 (Rom. 12: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hand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et them m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 the impulse of thy lov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fee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et them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wift and beautiful for th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78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Take my voi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et me 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ways, only, for my King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lip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et them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lled with messages from th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silv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y gold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 a mite would I withhold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intellect, and u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 power a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ou shalt choo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808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Take my wil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ake it thin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shall be no longer min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hea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is thine ow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shall be thy royal thr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lov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Lord, I pou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 thy feet i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easure-stor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self, and I will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, only, all for th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my hand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let them mo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t the impulse of thy lov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my fee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let them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wift and beautiful for the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17520"/>
            <a:ext cx="9144000" cy="49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2. Take my voice,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and let me sing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always, only, for my King.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Take my lips,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and let them be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filled with messages from thee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my silv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my gol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not a mite would I withhold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my intellect, and us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ry power a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 shalt choos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36440"/>
            <a:ext cx="9144000" cy="51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3. Take my will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make it thine;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it shall be no longer mine.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Take my heart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it is thine own;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it shall be thy royal throne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my lov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y Lord, I pou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t thy feet 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reasure-stor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myself, and I will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r, only, all for the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My Life, and Let I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9051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Take my life, and let it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secrated, Lord, to the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my momen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y day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m fl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ceaseless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7600" y="990720"/>
            <a:ext cx="57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rances R. Havergal, 1873 (Rom. 12: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them m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impulse of thy lo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them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ft and beautiful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ake my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e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, only, for my K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lip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them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ssages from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3-05T14:04:50Z</dcterms:modified>
  <cp:revision>22</cp:revision>
  <dc:subject/>
  <dc:title>PowerPoint Presentation</dc:title>
</cp:coreProperties>
</file>