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777-846B-4B8D-B0CF-799FCD57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9EB-8169-4ACC-B521-0A9012AA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DF3-7538-43E6-842A-C0B5A055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188-09A6-42C1-BEA5-89F550FB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D86-AF3B-4CAB-B130-BE4C9558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620-B684-4915-80BE-B45AA252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95F-CC7C-4302-BFA9-822C76ED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A6C-5461-47DD-BB68-E7144679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6DF-CD9B-4F79-8D40-03FC89DB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E1D-2A61-4AD5-B853-1CCDE5E2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902-7542-4111-9600-D6DFE1E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D73-0DD2-45BB-AEF5-AD6E813C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65B3-B049-4B95-ACFA-B443A9802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Shall M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ering Soul Be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Where shall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wondering soul begi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ow shall I all to heaven aspir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 slave redee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from death and s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 brand plucked from eternal fir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2360" y="1447920"/>
            <a:ext cx="2536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Charles Wesley, 17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calls you n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vites you hom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O my guil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thren, 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 For you the pur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current flow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pardon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is wounded s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languished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e eternal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or you the Prince of Glory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ieve, and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guilt’s forgi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believe–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yours is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97964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shall I equ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riumphs ra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ng my gre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r’s prai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O how shall I the goodness te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ather, which th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to me hast showed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at I, a child of wrath and he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 should be cal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a child of G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ld know, should fee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sins forgi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t with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tepast of hea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And shall I s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my Father’s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r basely fear his gifts to ow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Unmindful of his favors pr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hall I, the hallow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cross to shu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use his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imp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ding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in my hear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78000"/>
            <a:ext cx="88394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Outcast of men, to you I c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arlots and publica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thiev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spreads his ar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o embrace you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inners alone his grace rece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need of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righteous ha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came the lo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eek and s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 Come, O my guil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brethren,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roaning ben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your load of s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is bleeding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shall make you ro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is open side shall take you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2:43Z</dcterms:modified>
  <cp:revision>26</cp:revision>
  <dc:subject/>
  <dc:title>PowerPoint Presentation</dc:title>
</cp:coreProperties>
</file>