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5731-6312-4C86-B38F-D66218B1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4BD-53B3-462A-A0BC-B046D587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92D2-CC5D-4A0D-9535-47005EC3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C288-63A2-4D64-95C9-2E9E5F6B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1484-63FE-4F53-9CDA-8B80C755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B997-F553-4D47-9319-22884A7E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4F24-7CD8-475A-80A3-C311D35D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8141-DB48-45E8-9987-49DACCC8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CE36-69CE-4A08-A7D7-287A9183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7852-A89B-49B0-AE2C-72D6D407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B9C0-69BE-4F64-9C83-85981E67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7AEA-C08C-41D8-B6BB-DE50FDC4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5FE5-FD0C-4EA9-9D83-4FCEE4FC5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ust Jesus Bea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Cross Al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Must Jesus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oss al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the world go fre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t Jesus Bear the Cross Alo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32120" y="1523880"/>
            <a:ext cx="528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Thomas Shepherd and others, 185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, there’s a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every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re’s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ss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ow happy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ints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once w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rrowing he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t Jesus Bear the Cross Al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now they tas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mingled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without a t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consecra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ss I’ll b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death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t me fr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t Jesus Bear the Cross Al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n go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crown to w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re’s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wn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7:45Z</dcterms:modified>
  <cp:revision>14</cp:revision>
  <dc:subject/>
  <dc:title>PowerPoint Presentation</dc:title>
</cp:coreProperties>
</file>