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F65F-B029-4531-AB3D-656D8035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5C80-BBCE-41E2-84CA-508E76A8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619E-1987-48EE-8792-8DBF9495A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7AB0-E86F-4E10-BB14-0582F4483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BD35-2B54-4BE4-B3BA-2DA04B46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4596-3068-4850-AB9B-E7BB0AEE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5E7F-54DA-4C3F-BF39-2A2A5A0B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29AD-C638-4F2B-992E-F5D91219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09E3-7DB3-462A-81D7-1DC1680A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2D09-246D-449D-ABB4-98D1490C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3225-D216-482D-B512-D37833C9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6964-3CD5-43A4-BA8C-96E68817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B755-9003-4BFF-9127-E93E35272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76520"/>
            <a:ext cx="9144000" cy="490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Antiph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do not know how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y as we ough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the Spirit intercedes for 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sighs too deep for wor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apt. from The Revised Standard Version of the Bible © 1946, 1952, 19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3120" y="1104840"/>
            <a:ext cx="661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Romans 8:26; Luke 11:9-10; adapt by Alan Luff, 1962, alt.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Ask, and it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given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, and you will fi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nock, and it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opened to you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37160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Antiph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do not know how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 as we ou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e Spirit intercedes for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sighs too deep for wor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or all who ask rece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who seek fi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those who kno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will be opene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4792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Antiph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do not know how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 as we ou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e Spirit intercedes for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sighs too deep for wor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59:43Z</dcterms:modified>
  <cp:revision>26</cp:revision>
  <dc:subject/>
  <dc:title>PowerPoint Presentation</dc:title>
</cp:coreProperties>
</file>