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484A-6748-4D7E-A846-88E85B24D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B341-2A29-4ACD-B515-76BC2CF04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B9C0-30B7-40D2-B767-3EDD524DF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B7B0-7DC3-474B-BC38-AB4D4835D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AD98-4132-4A85-AE6D-57E5D2D86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08F6-5A95-4A55-9575-B2ADDF713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432A-A129-4DD3-A30A-C4450AB5A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7E25-2B6B-476E-A5BE-94953D15B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C85B-3269-4C4F-91C5-8098FDD8C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8A58-550B-4F78-9347-ADF732466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2486-1576-459E-8BBF-D78064DC8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D78-E909-4790-B1E9-8D654F1B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623D-82A5-42B5-8A52-539F9B87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E83-88F9-44F3-9D86-70BF4D7C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2247-1DF3-4882-8F14-41737E1F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118-D68A-4906-BF8E-A79E25D2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F3E-9786-4A3D-B27D-2422FB10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3CF2-A04E-454D-ADD5-4872041C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4DA1-0764-4EC4-9267-8A4069AD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C8B3-63D6-458B-A01F-81B4A3FC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E81-B0A6-498D-932B-230F445C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9FA4-112B-47C1-B787-401ABA68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9E20-4540-47F0-96DF-915C4576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B284-7DFA-4BF4-A2EE-5D3D3E395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Sinners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the Gospel Feas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6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25146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Come, sinner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the gospel feas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every soul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Jesus’ guest.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16765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7 (Lk. 14:16-24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the f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 from s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Jesus wa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ake you in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e need not on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e left behin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God hath bi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humankind.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Do not begi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make excus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h! do not you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grace refuse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worldly ca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leasures le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ke what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to giv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Come and partak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gospel feas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e saved from si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Jesus rest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aste the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t his fl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rink his blo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See him set for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efore your eyes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ehold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leeding sacrifice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offere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haste to emb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eely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 by gr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5. Ye who belie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record tru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hall sup with him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 with you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2T21:14:37Z</dcterms:modified>
  <cp:revision>118</cp:revision>
  <dc:subject/>
  <dc:title>PowerPoint Presentation</dc:title>
</cp:coreProperties>
</file>