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6BA-7214-4AFF-BC08-DA31B0A6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DDC-F733-413F-87FB-D449C59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614-16A4-4BFB-9F59-828AD9E5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26A-3FA3-4BD2-BE48-50EDC9A1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864-5599-495C-89A4-C4350104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BCD-0FD2-490E-9647-88F61EAE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570-1C57-468C-8E00-EB93CCC9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428-8E0D-454D-A455-ECF6233E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88B-4F3B-44F4-84DD-C942021D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FE8-122D-4D7F-9A7D-9821094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0C5-B313-4B55-9797-9F88BFBE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8F7-B0EE-4687-9088-E758C6DF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3C7E-BE17-49B1-8B81-4D0796FAE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iled him 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iled him to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ster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-looking for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n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lled the stone a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iled him 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n Jose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id it in the to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en Jose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id it in the to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n Jose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id it in the to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ster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-looking for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Sister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-looking for my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3:27Z</dcterms:modified>
  <cp:revision>72</cp:revision>
  <dc:subject/>
  <dc:title>PowerPoint Presentation</dc:title>
</cp:coreProperties>
</file>