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B37-8382-45E7-936B-55E0A416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A27-A714-4746-9509-B50D4168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480-1696-44C9-9893-82E403DF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0F1-670B-4837-A1E7-11C85E2E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FB3-01E6-43EE-B82A-59A262DA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4D2-0659-4286-8A3B-C8870C05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888-48BA-4E7D-AF84-2139D288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913-0A2A-4E8F-B887-EF160E49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08AF-0723-4E3F-ABEA-18156F06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73F-D737-474D-BDC2-DB6765C0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29B-6335-410D-9F9B-6EC65DDD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45E-C2E5-4804-8C2B-E3548CAA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56D0-8A31-4CED-A207-0657539A5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at Spirit, Now I Pr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Daw-Kee, Aim Daw-Tsi-Ta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Spirit, Now I P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iowa Prayer, para. by Libby Littlechief, 198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562720"/>
            <a:ext cx="914400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pray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pray now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Spirit, hea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6002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is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p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your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well i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3623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w-Kee, Aim Daw-Tsi-Ta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7920" y="2600280"/>
            <a:ext cx="732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760" y="1905120"/>
            <a:ext cx="759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BAY-GYA KEE A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I DAHM GYA D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A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BAY-GY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AH TSAHN-DAY-TOA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5:47Z</dcterms:modified>
  <cp:revision>91</cp:revision>
  <dc:subject/>
  <dc:title>PowerPoint Presentation</dc:title>
</cp:coreProperties>
</file>