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AACC-17C9-4412-AAB0-5566D7E7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3AF0-477B-4A40-B523-E65122B4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A861-2A51-44E6-AC67-8B42FFCBA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1D40-7851-4F9D-A676-20A332CB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82C9-3E0B-4EBC-ABAC-2319F574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8E60-230E-48F4-ABF0-FF170C7C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E49-BE26-4E94-9849-CFDA3909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64FD-B688-460F-B509-91072B1C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E10F-905A-4103-BBB6-0F096120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7492-465B-4437-B010-4AA2E548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1D34-C1AA-4FDC-8E01-3B1FBF53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B289-8712-4F3B-B26D-D1D6DDBA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3613-1E24-4FFA-A636-44D0C34FA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ar Lord, for All in P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for All in P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my W. Carmichael, 193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Dear Lord, for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pain we pray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come and smi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gain thine enem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33 Dohnavur Fellow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for All in P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Give to thy serv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kill to soothe and bl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o the ti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ll give quiet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for All in P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nd, Lord, to those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now pain may not c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near, that e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they may have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9:19Z</dcterms:modified>
  <cp:revision>155</cp:revision>
  <dc:subject/>
  <dc:title>PowerPoint Presentation</dc:title>
</cp:coreProperties>
</file>