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B211-42C1-4C82-8010-F8AE15B2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22A8-D7DB-4E14-BB36-CD19E1C6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452E-6DDF-4573-8D79-072F8FB1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7EB9-C31A-4A9A-A9BF-7D50AE24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95A2-73B3-46BB-AB58-27F25F29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3A7E-BAAA-4520-B910-EEB46E07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3D93-5211-4D50-9026-5BC4BF4B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0A6D-2B4B-4869-B6F9-D1F62F61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5081-BDD8-403B-A55E-338DCAE5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37AD-6D55-4FFA-8B50-56AA4B91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0C22-F262-472F-93A4-B92E007E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A84A-0362-4278-8270-54935125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9620-FA97-46E1-97C8-CA24DAF49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ar Us, O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11440"/>
            <a:ext cx="9144000" cy="470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us, 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hear our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r Us, O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21:09Z</dcterms:modified>
  <cp:revision>34</cp:revision>
  <dc:subject/>
  <dc:title>PowerPoint Presentation</dc:title>
</cp:coreProperties>
</file>