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917B-05FB-4704-ABA6-EA9D2B298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824B-B7F0-4917-A3E6-945B5563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F1AF-9A4A-4197-B369-1E43FA682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77BC-D935-48C1-8481-29424AB44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6962-5877-4A2E-A602-FB043807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ACB0-7DCA-49CD-86D9-E3216243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386F-82E2-40A8-A788-9A7D94D6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2808-3F9A-446A-9FBB-35EA66F8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1EF4-4716-4704-8CA7-E67ECEF5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69A0-9A84-4D1F-A4E6-631B9AA0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5A00-68C6-4E19-BAED-A7708FB3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D87E-D34B-46A7-91A2-317C494C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9722-05C4-4D97-B9D0-BE58443BD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Kingdom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64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e kingdom of God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a grain of mustard see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t is s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the smallest s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7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dom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87440" y="1015920"/>
            <a:ext cx="638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Gracia Grindal, 1985 (Mt. 13:31-32; Mk. 4:30-3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668600"/>
            <a:ext cx="9144000" cy="31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li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dom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myste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dom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or when it is s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grows in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argest pl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er than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herb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ows into a t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dom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668600"/>
            <a:ext cx="9144000" cy="31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li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dom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myste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dom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t grows so birds ca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t inside 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wn of lea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ep in its shad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way from a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il pr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dom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668600"/>
            <a:ext cx="9144000" cy="31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li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dom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myste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dom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And so we can li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to seeds wh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a t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rger than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tre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just the smallest s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dom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668600"/>
            <a:ext cx="9144000" cy="31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li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dom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myste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dom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15:36Z</dcterms:modified>
  <cp:revision>32</cp:revision>
  <dc:subject/>
  <dc:title>PowerPoint Presentation</dc:title>
</cp:coreProperties>
</file>