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40D5-B5B1-4E0D-BE6E-B90DF5A98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2D73-4A86-4E87-BB16-3AF100D67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AB98-11A2-47DC-8B73-DABE131FC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1A48-F393-456A-B1DA-78087F118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634C-A92F-4337-AE4E-D60EC5784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EDA3-9751-4BB8-A700-9468135EB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CF18-CE24-4E28-A56D-FF65E370A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8EA6-2C84-4C34-A7B8-A79A6E3A5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E63B-7587-474F-AEA7-15FE5D1C5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BF79-40FF-4B8D-9A60-15064D50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6D2D-434D-401C-821D-EEF39D74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C238-B8F4-4E49-B382-589E5E68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A022B-6A69-490D-AF05-144FC83488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Serenity Pray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5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erenity Pr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Anonymo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760" y="2514600"/>
            <a:ext cx="8610480" cy="22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God, grant 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the serenity to accep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the things I cannot chang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courage to chang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 things I ca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 wisdom to distinguish   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 one from the other.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09:27Z</dcterms:modified>
  <cp:revision>153</cp:revision>
  <dc:subject/>
  <dc:title>PowerPoint Presentation</dc:title>
</cp:coreProperties>
</file>