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86D-54E5-4CEF-AC4A-AFBA9D80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4CA-C220-4C70-8A14-6EC6D5A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FDC-2A36-4043-AAE8-F74D43F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B1-5EB5-4829-B98B-B9B53031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A2AE-A321-43EB-A8A2-ABCE76B3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F22-C9B8-4752-A639-EC7E15F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B0E-981C-4A11-8CDD-A7810FE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7A87-65EF-4F9A-8CB5-9A7DD8A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897-450C-4502-A706-CC28F58C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5790-BB88-4744-8969-CEE2068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EB2-DC45-431A-A139-51B9634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F9C-5810-4768-B0D4-A9C8F20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A944-EE0C-4BFD-A4E6-BAFF4C3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CEAD-3777-436D-9736-5457FDB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89EE-16A9-4072-8654-9253E2E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D7AF-0831-40E4-97F2-06F3C893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0C4-2AD5-4A79-8548-B622108C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5DA-342A-4261-82C2-F066900F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686-3FA5-4FC6-A2EF-F9A0688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8BB-C351-4CE4-991E-70C1C0E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B25-8CEC-4EDE-A331-629B29F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A98-3CC7-4F5A-8A28-29E18E5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2B4-BF79-4233-A80A-24FF02B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507-A781-4AD3-87E5-519B675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15E4-20A6-4887-9756-07C2DA8E1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060-7DEF-4A7B-8C16-DCCD6024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 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 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144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32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21T00:51:52Z</dcterms:modified>
  <cp:revision>152</cp:revision>
  <dc:subject/>
  <dc:title>PowerPoint Presentation</dc:title>
</cp:coreProperties>
</file>