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1B20-2F12-411D-BF26-6ED2CD9D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E75B-6FF1-40C6-ABA8-5F902114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6643-74F3-4293-9A5C-859185F0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4272-881C-4B66-A751-29ECB87B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012D-70E4-4C45-835F-D0807296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0790-A236-4C2A-8EFB-D29E7E18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72A-90F5-4659-803C-40F35E69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08E8-3BFB-420E-8E39-CF48E074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B9DF-A0AF-468B-A0B7-72F46F5D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28F5-FF91-4675-89AC-DE54E1E9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EA96-A766-4361-86B8-24819654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5639-55BD-4CFC-A93C-FEF8AB9A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379D-B962-4CE5-BFA5-83C842069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ave It T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f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you withh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its silver and its g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you have to 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one with meager fa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Albert Tindley, ca. 19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make a way for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ll lead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fely throu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14400"/>
            <a:ext cx="9144000" cy="468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6002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trust and never doub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surely bring you ou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your youth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s are 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ld age is stealing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your body be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e weight of ca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never leave you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ll go with you to the 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685800"/>
            <a:ext cx="9144000" cy="468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trust and never doub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surely bring you ou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remember in his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he feeds the little bi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ave i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838080"/>
            <a:ext cx="9144000" cy="468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002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trust and never doub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surely bring you ou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f your body suffers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your heal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can’t re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your soul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most sinking in despai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knows the pain you fe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an save and he can he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838080"/>
            <a:ext cx="9144000" cy="468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6765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trust and never doub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surely bring you ou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your enemies assa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your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gins to fa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n’t forget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eaven answers pray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0:14Z</dcterms:modified>
  <cp:revision>48</cp:revision>
  <dc:subject/>
  <dc:title>PowerPoint Presentation</dc:title>
</cp:coreProperties>
</file>