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82F-E70A-4DED-9173-B0F64930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C68-B8D0-46FA-AA0C-CBC2BEBC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4BD-722E-4200-84C3-9FF13451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89A-6B36-4136-BEEF-E607A31F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E27B-7132-4388-B363-E52667CC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20B8-73F6-4440-9265-B7FFFEC5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976B-040E-4648-8AF0-C9F540B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428A-3BAE-40A4-A97D-3D28AFA5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B449-C432-4249-8948-90F5D745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9B14-3A55-4A38-84D3-E28CEA33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9130-721F-4C7E-8E39-BD897C11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3AB-F9C3-49DA-AA39-DBA6C698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3575-1EAD-4F66-A09D-D6131A2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C01C-48FC-48C1-8DA4-1FB7478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1E26-7563-4B7D-93B2-032EAF62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1AE6-CA42-4493-9D2E-5BD08450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9ED0-27B8-4BF5-8206-68F879E6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885-4F12-46AE-9863-B8642F8F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244-CD53-4A76-BE50-9092CF22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43A-30F7-46C3-B29D-102E8314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66B-5A7E-4851-A6ED-6F3D70F7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0A7-F908-4578-94F9-6AC0BE8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C9F-DDA3-4709-BB83-503795BB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024-F620-457E-A486-BC70872D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621F-533F-41E7-973C-F56BB2562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5622-3F92-4DC5-9785-E90D02917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My Shephe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ll Not W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0481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Lord’s my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ot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29720" y="1676520"/>
            <a:ext cx="411120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Scottish Psalter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50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Yea, though I wal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death’s dark val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t will I fear no 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ou art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y rod and staf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 comfort sti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My table thou ha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rnished in prese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my foe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head thou d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oil anoin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y cup overflow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. Goodness and merc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my lif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surely follow 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in God’s hou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vermo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dwelling place shall b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kes me down to l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astures gre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quiet waters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y soul he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or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 to walk doth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pa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for his own name’s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ea, though I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eath’s dark va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ill I fear no 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art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rod and staf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comfort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y table thou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rnished in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fo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d thou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il ano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cup overflo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oodness and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urely follow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God’s ho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welling place sha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My Shephe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ll Not W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4382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Lord’s my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ot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29720" y="1447920"/>
            <a:ext cx="411120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Scottish Psalter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50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kes me down to l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astures gre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quiet waters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My soul he do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tore aga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e to walk doth mak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in the path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’en for his own name’s s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24T23:46:28Z</dcterms:modified>
  <cp:revision>56</cp:revision>
  <dc:subject/>
  <dc:title>PowerPoint Presentation</dc:title>
</cp:coreProperties>
</file>