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B3F-9767-4611-9A9C-21C1C0C2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D4E-D6DD-43B4-A7AC-2A665CBA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0A2-0179-4EAC-907A-671D9C31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4E1-41FD-4F21-B897-C52DD9E5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8D70-72FB-4CD1-85E3-4A7E6325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4EE7-13E3-4FF4-B932-50CD0AC7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7DFA-E343-4104-AE5D-59C4695E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6300-0447-4E47-B785-DBECE3A8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8BCD-2255-4A61-B18F-BD844553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7383-CD45-4C6E-8723-A7944FAE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7F31-D7EC-4AB8-B41C-BB50EE4D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CE5-0156-4A7C-9607-951FFABC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C06C-0AAF-404D-B7EA-4D012DC0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7AFB-71F3-41D8-869F-9FCE746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1438-F4A0-4409-8E8B-BB1AB63F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0E3D-70FA-44B6-815C-16CE723C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6E04-9924-46B0-8084-8519074F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548-94D8-47BF-B044-9C2873BE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B52-B300-4875-88F4-7945C02B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62E-E665-4A1E-BCB7-FA3FFE44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D68-EECB-40D3-B3EF-1EC3DD65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325-596B-4E9C-A866-5BC67366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67A-C41C-4FD3-9B27-86B85C9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91F-D9C8-4210-86FE-CBC28A1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FBC-0689-4220-B916-43936222E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6F23-208D-4E56-8C21-CB503A5C4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129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Rock of Ag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self in the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8840" y="1066680"/>
            <a:ext cx="44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ugustus M. Toplady, 17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While I draw th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leeting brea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mine ey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hall close in death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I soa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worlds unknow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e thee o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judgment thron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ock of Ag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yself in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8840" y="1066680"/>
            <a:ext cx="44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ugustus M. Toplady, 17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y w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de which flow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f s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le 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from wr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p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the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aw’s dem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z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respite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or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at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ust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ou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hing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 I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I c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t the wat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e bloo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thy wound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de which flowe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ked,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dr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,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l, I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untain f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ile I draw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eting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ine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lose in d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so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ld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dgment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28840" y="1066680"/>
            <a:ext cx="44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ugustus M. Toplady, 17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y w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de which flow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f s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le 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from wr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p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the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aw’s dem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z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respite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 of si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ouble cur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ve from wra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ke me pu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or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at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ust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ou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hing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 I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I c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ked,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dr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,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l, I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untain f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ile I draw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eting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ine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lose in d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so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ld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dgment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Not the labo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my han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an fulfi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law’s demands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uld my zea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 respite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uld my te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ever flo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or s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uld not aton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must sav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ou alon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Nothing in m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and I br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mply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cross I cling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aked, co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for dress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lpless, loo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for grac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ul, I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fountain fl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ash me, Savi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r I di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9T00:22:04Z</dcterms:modified>
  <cp:revision>11</cp:revision>
  <dc:subject/>
  <dc:title>PowerPoint Presentation</dc:title>
</cp:coreProperties>
</file>