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F60-4DCC-4B05-9719-8B6B0FA4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1A8-01FD-4DB8-8ECB-A21C6395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22D-6424-4190-B15D-278E23B8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3A6-8856-4379-BBB1-A92E2949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E01-7DD6-4643-A3FE-FF572B38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F53-2B50-4C7D-B9DF-EF6C8EFD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324-5C22-4F42-B9C7-B7E7F8BD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889-2137-4380-A20B-69367F8C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CEB-A03B-44CB-B539-8949928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979-DADA-4476-9381-E80C8571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091-531D-4A65-8544-24477E56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D70-ECDA-43F4-A9C9-BE1448C5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CDC5-6A2D-4EC7-9628-9A55C123B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Thou Hast S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cause thou hast sai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Do this for my sake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ystical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ladly partak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Thou Hast Sa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hirs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from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ng to inhe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ullnes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’Tis here we look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sp at thy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here that w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image to f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Thou Hast Sai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ans of best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ifts we emb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ll things are 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’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44:00Z</dcterms:modified>
  <cp:revision>136</cp:revision>
  <dc:subject/>
  <dc:title>PowerPoint Presentation</dc:title>
</cp:coreProperties>
</file>