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70C-2825-43C5-9821-08A0B55B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E0E-6DC6-4C50-89B0-646C5589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C6A-C54F-40C5-91B4-CC4F7CAA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5DC-8E96-48F9-96CE-9D12BE37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885-F1DF-4358-AEFC-E5B17135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0E9-5BA6-40A2-8164-7A8D42B9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2FB-C389-486A-9D3E-EDEDC368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DAD-A8EA-4D70-82A1-3D9B5DA6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314-43BF-43BD-A440-C81C3A68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82B-5949-4706-ACDF-495175EB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2F4-39F4-4AEA-A0CF-B38AD6C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EC8-5DB6-43A6-BEF7-AAE5D96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B729-5B67-4DF2-A70B-4730416B3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It Breathe o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2, renewed 1969, Martin &amp; Morris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It Breathe on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9520" y="1244520"/>
            <a:ext cx="53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gnolia Lewis-Butts, 1942 (Jn. 20: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9:48Z</dcterms:modified>
  <cp:revision>14</cp:revision>
  <dc:subject/>
  <dc:title>PowerPoint Presentation</dc:title>
</cp:coreProperties>
</file>