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F17-91BD-4420-AC27-7C0AA853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69E-84A2-4016-BC1E-601F1B2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E83-43F4-4C3B-A247-59ECF797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84C-6EDF-46D7-A9BE-9B66FFDC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47D-C52D-467D-808C-74060445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30D-E12F-4E7E-95F3-DC4A778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09BF-2D30-42A2-B97D-606465E8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C691-F209-476C-B2C8-A7257CEC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7ACE-3E5B-4A67-83AD-68C6EDF2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E79A-2DF1-4B2D-A972-6714E6FF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E30D-4AE3-45C1-9E8F-301761F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8AF-AC40-4885-B4FE-8C093895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2850-8869-45C7-A5A2-7020CE3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F38-7A4F-47A0-B41E-7DA0D39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B442-47C8-4A67-A5C5-307B715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7429-2D1B-4FB6-B69E-22FDA43E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91B-ADDC-438A-B9ED-F3A3678D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61A-86DB-41FF-AA6B-06AE71DF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730-22E3-43CC-B44C-68C1B2EE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075-C4F3-49AB-8507-5A3D209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106-0342-4DE9-BDD2-0042996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95F-1185-462C-BA7E-247253E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34F-1351-4F3C-9A90-191BB55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087-4F6A-4B2E-BB89-274971EB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B66-E76D-4541-8F68-31C2DAC65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72D6-350A-4EFF-AFB2-DEEA4194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69640" y="88272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76212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83808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83808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69640" y="114300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69640" y="88272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2T02:17:34Z</dcterms:modified>
  <cp:revision>10</cp:revision>
  <dc:subject/>
  <dc:title>PowerPoint Presentation</dc:title>
</cp:coreProperties>
</file>