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5A3-6DF3-4C44-94E8-7E9C24C6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227-2F93-427F-AE21-EBC1914F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D69-CD66-46DD-B2B9-5296051E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929-0A9E-4D2E-B911-2A54F123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90E5-81C6-461E-9B26-A352D72A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EF71-491C-4AFD-83AC-D2E63673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9841-A608-4137-8B7C-A13B57C1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04FB-96FE-44DC-80D2-84B135F2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CA77-496B-4A55-9A7A-344A3038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6D27-BCCE-4130-94B1-5283EB6F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B343-AE50-4D36-B151-31D30C8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898-0199-4DAC-9A08-87EA1C6C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8484-C83B-4816-A644-3C7E826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74EB-3027-427F-8D6D-08B7246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2989-BA21-45B2-855A-B2CB2A25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D485-B31E-4504-91FD-D3513588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F041-24CE-4C6E-B45E-344B5D23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738-1B2E-4F7C-924C-560D309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8C1-FE05-46BA-9AE6-79462BDE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A5E-77EB-4C30-9371-E3B38889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712-227B-4DB7-B382-17F1F773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CEC-9C1D-423B-8F3F-B5C1B4DC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7D8-64DA-4D69-A4D2-1E188CE8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371-C7C2-4DCF-8391-AED4EBE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4304-FB69-4A0F-BD23-AB7F4532B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B892-4704-4469-972F-DD456A89E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ust as I Am, Without One Pl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otte Elliott, 18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32080"/>
            <a:ext cx="9144000" cy="291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Just as I am, without one ple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at thy blood was shed for me,  and that thou bids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e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iting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id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ne dark bl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 whos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cleanse each sp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ossed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ny a confli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doub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9072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ghtings and f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, wit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, wretched, bl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ght, riches,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6668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all I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e to f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wilt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t welcome,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, r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y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un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broke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rrier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3716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, to b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thine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43000"/>
            <a:ext cx="9144000" cy="236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Just as I am, and waiting no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rid my soul of one dark blot,       to thee whose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n cleanse each spot, 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04920"/>
            <a:ext cx="9144000" cy="383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Just as I am, though tossed ab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ny a conflict, many a doubt, fightings and fears within, without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32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Just as I a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oor, wretched, blin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ght, riches, healing of the mind, yea, all I need in thee to find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Just as I am, thou wilt recei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lt welcome, pard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, relieve;                             because thy promise I believ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0880"/>
            <a:ext cx="9144000" cy="37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Just as I am, thy love un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th broken every barrier down; now, to be thine, yea, thine alon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ust as I Am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out One Pl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otte Elliott, 18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one pl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at thy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shed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thou bid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21T18:47:53Z</dcterms:modified>
  <cp:revision>117</cp:revision>
  <dc:subject/>
  <dc:title>PowerPoint Presentation</dc:title>
</cp:coreProperties>
</file>