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92E-BF71-4FDA-BD19-B9497E1C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5E6-27ED-4E40-8B8B-04816611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CDE-AB3C-47DD-AA70-FB32A27A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63A-9AD0-4858-9BAF-CD4D3F71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95DE-5B81-4174-9425-E9160F51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D14A-971A-4142-AE43-FD4DBD76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2BD4-742C-4337-A663-A4C8D266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B0C4-D2A3-4B9A-BD42-37580FB0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2497-00F2-429F-A5BE-0F671274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249-3602-46F8-B7B1-934046A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A537-85FE-4847-8BFE-2672368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E46-177E-4442-8174-AD8E031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EA0D-79C8-48C2-9378-A83A164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A95-757B-4597-A02E-BDC6E3A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C60E-F0D8-4D74-A80B-D54D9B8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034A-9838-4487-9761-077EDBB0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1327-B41B-4E3E-AC26-855B0E4D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AA6C-8B05-4822-B6B5-B3EF9E8A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4436-EFC0-4EAF-96A5-1BCE6A6E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3C0A-B6C0-43A3-A23F-59E8BB8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1F90-D873-460E-BF18-786FA1E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D31B-3658-4EE0-B2C1-0DB085B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E58-8CA0-4312-B577-03BC78D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884C-CD69-4DB7-9EF4-F518B3D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9888-2AB8-4919-917D-0254B9C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073D-8D05-4CEE-B952-E1B33C9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347F-831C-48C0-A0E7-E84D7B3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5EA2-5857-40DA-9D3E-81E4940D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5098-3B9E-4F78-A5ED-0FCD6E70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E504-02AA-4AED-AD77-146FC32D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BD6-8FB1-4E35-B280-8260CB4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E90-7EE9-4407-98EC-544AD200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992-C382-4258-86ED-83475837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912-ADED-40DC-88A6-36856A8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133-21C4-4BF0-8B1A-C629428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54C-3916-4A45-8AD1-B06F524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D889-A760-47DD-B9B8-4E7541E96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314-0484-4AB3-894A-649CD2AB3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DCA3-32F5-4AF0-9CE9-ED93F94A1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11430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6858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11430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6858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049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5335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25909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lest be the tie that bind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hearts in Christian lov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fellow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kindred mind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like to that above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fore our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our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dent praye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ears, our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ims ar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forts and our care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w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utual burdens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ten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f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ympathizing tea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we asunder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ives us inward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 shall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ined i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to meet ag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12063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8827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12T01:04:21Z</dcterms:modified>
  <cp:revision>68</cp:revision>
  <dc:subject/>
  <dc:title>PowerPoint Presentation</dc:title>
</cp:coreProperties>
</file>