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BE6-07B1-4427-A16B-62AEB40A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02C-1768-42A3-A2F7-C084B6D5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B7C-23F6-45DF-8BF2-9763DF49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74C-3691-4220-BEA0-F90F8948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BE6-E4C8-4561-88D0-7CA60903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E1F-C9C9-4C11-9487-5E21912F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9DB-6ECB-4901-ADEB-023B7AB9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C27-80C5-432B-9540-2469BA33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A84-2DC7-405A-9873-63C3CBE2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24A-BB39-474E-B55B-9D39CCBF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C73-4ABF-43C5-92A7-7AEC17C6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F86-5ED3-49F4-AC44-77E3FED4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4F8C-58CF-4D1A-A0E2-668C81311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nd Your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73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Send your Word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 ra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alling down upon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end your W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e seek your endless gra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7 The Hymnal Committee of the United Church of Christ in Japa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Your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4480" y="109224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Yasushige Imakoma, 1965; trans. by Nobuaki Hanaoka, 19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oul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nger and thir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rrow and agoniz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would 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t in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your guiding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end your Word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 w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owing down upon the eart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your W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eek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ndrou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Your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nes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ects all s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hey persist and cl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plete vic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t us all free in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end your Word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 de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ing gently upon the hill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your W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eek your endles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Your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lif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ffers in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dversities and hu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your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 of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long for your new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9:34Z</dcterms:modified>
  <cp:revision>45</cp:revision>
  <dc:subject/>
  <dc:title>PowerPoint Presentation</dc:title>
</cp:coreProperties>
</file>