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A10-D13F-46AF-8F87-0AFC5B1E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818-07FB-4D31-90A5-F9F1004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9D5-4A77-466A-8E78-AD701D2D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7D7-3FB1-4C48-81F3-1E2F1AD9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30C-175A-45EF-BF60-62B44C8C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4C1-414C-4FA3-8636-BBEAC4F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EDD-1222-4B1C-946B-7E588A9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80F-DE37-4AB4-9333-EB6AA60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FB2-3BAF-419E-986C-00EAAF2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585-7427-4121-99AC-7627328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AAA-AC44-4583-96ED-C55F799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3B8-D3D0-4DEA-B0D8-067FECF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63A5-4F08-45B0-B3F6-7E54A52A5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Who Stretched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angled Hea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0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d, who stret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angled heave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finite in time and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1120" y="160020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therine Cameron,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the ecstas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w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untrave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lms of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bed the secr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at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iel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magined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i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life’s destru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our 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a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s each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rizon beck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t challe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ane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ve pur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ving o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noring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our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e rich with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endeav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gui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our go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rs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ung the sun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rning rad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sil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elds of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your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lik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inven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s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Creat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rea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 us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yet may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Proudly ris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dern cit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tely buil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w on r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their win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ank, unfee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e on cany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lon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ft unnoti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i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 and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to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me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arcely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the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ven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undreame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the child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00Z</dcterms:modified>
  <cp:revision>12</cp:revision>
  <dc:subject/>
  <dc:title>PowerPoint Presentation</dc:title>
</cp:coreProperties>
</file>