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2A6F-27EE-4D8F-9484-3109B943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DEAB-6DE0-4F3D-9392-953DBBB9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257C-9353-4C5E-9484-D8ADB921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2B9A-E17E-4464-B6AF-D42DC623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814E-6D86-45D6-A12E-91B307FF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E945-8C85-4DB6-8578-54C18CDE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1799-CEBC-437D-99AE-412A42EE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E55A-793C-49EA-AE42-F4CBCA7C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870C-7BBA-455F-85A5-6FAAA853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3C08-5ED2-4CC4-8156-8148A39A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D42C-9F3F-4FB1-86FA-3AB50C14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435C-CDF1-45F5-820D-18A52F64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1FD4-0F58-4903-8319-1E0040A87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aranam, Saranam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Refu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65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Savior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, to thee I fl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by permission of Christian Conference of A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rad. Pakistani; trans. by D. T. Niles, 1963 (Ps. 61; Heb. 13: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the R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efuge that’s higher than I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that I my v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may p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at by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ness to me each da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live, and on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my burdens la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Savior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, to thee I fl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the R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efuge that’s higher than I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Yesterday,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’er the s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, the heritag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bear th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ransom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in the Savior cam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990720"/>
            <a:ext cx="914400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Savior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, to thee I fl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the R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efuge that’s higher than I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the R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efuge that’s higher than I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n the midst of f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ry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ends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I may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trength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lessness, O answer m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Savior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, to thee I fl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the R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efuge that’s higher than I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thy tent giv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dwelling pl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neath thy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I find sheltering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ift on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unshine of thy fac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Savior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, to thee I fl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0:39Z</dcterms:modified>
  <cp:revision>49</cp:revision>
  <dc:subject/>
  <dc:title>PowerPoint Presentation</dc:title>
</cp:coreProperties>
</file>