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F07-CFBE-45F2-8BE6-5AE46C28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2CD-642B-4FAB-ABEB-16FE89FE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D58-D5CD-4310-B1C8-19EF2D12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D77-FAB4-4F03-A442-E32A439C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5619-079B-43B9-B0BC-4109C965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6448-F029-45BC-8E9D-2E7AF228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64AF-137D-4F97-A103-A6F68E1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CADD-B0D1-4E5D-A453-C92E907B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4589-ADD8-4B3E-B963-2DCC35BA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8F3A-3BD4-4A6F-87FB-3E58886B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74C-3060-4AED-8C87-40E9BDE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289-736D-4A77-AFD2-E14F553A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AB0B-C488-45A4-9639-EA96059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3B18-C5F7-492B-88EE-8F4E599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115-D403-4D7F-A269-FCE3A5E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954C-84C6-4CA5-B2A5-BA8C6B03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B379-2622-4FA9-A12A-E073D2F9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64F-F8BC-457C-AD8D-27E4C19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043-A708-474D-9D7C-47C6E9BD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A43-2E44-4741-9124-4061409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B0F-A694-4256-BD00-000ED21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DE2-08E8-4D07-9476-A13EF99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D29-01A0-4031-B3F3-1F7046C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ADD-6812-4B59-8BEF-8D7F34B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BBE0-F4CF-4174-95D2-E83CFFCD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E26A-AD42-46B5-A809-1281D302D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rac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ur th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Elinor Fosdick D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Harry Emerson Fosdick, 1930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v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k resig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vils we depl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se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glory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ado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 ador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thee whom we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race and 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288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od of grace, and God of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y peo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ur thy powe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Harry Emerson Fosdick, 19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Elinor Fosdick Downs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own thine ancient church’s stor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ng her bud to glorious flower. Grant us wisdom, 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ac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is hour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of this hour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acing of this hou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Lo! the hosts of evil round 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corn thy Christ, assail his ways! Fear and doub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o long have bound u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ee our hearts to work and prais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se day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ese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Cure thy children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rring m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d our pride to thy control; shame our want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lfish gl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ich in things and poor in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dom’s goal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kingdom’s goal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dom’s goa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ave us fr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k resign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 evils we deplore;                    let the search for thy salv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our glory ever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thine an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’s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her b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lorious fl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rving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m we adore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we adore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rving thee whom we ad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hour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is hou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cing of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! the ho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il rou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 thy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sail his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and doub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o long have boun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se day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ese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ure thy childr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ng m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d our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ontro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our want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ish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or in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’s goal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ngdom’s goal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’s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10T22:31:35Z</dcterms:modified>
  <cp:revision>85</cp:revision>
  <dc:subject/>
  <dc:title>PowerPoint Presentation</dc:title>
</cp:coreProperties>
</file>