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92B-AAC6-48BB-A7AC-DD0F6E8D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F25-0750-4D10-B9FA-02A517B2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CB1-8840-4BF6-989B-63EA6572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358-743B-41A7-9A80-4AD65AC4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215-BBD2-4F4F-9F8F-76CD75B7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45F-4CE1-4600-91AD-4DEA5007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8B4-6420-4693-950D-ED137F52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5E3-F304-48FC-B98E-0E9F32CB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DEE4-8830-4D58-8D8E-D61BFCD8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2C2-BD1A-4638-B865-ECF9CF28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691-83E1-4E6A-9F94-F79863F3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7E5-DFA7-44E6-8C5A-500D1262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B902-F341-49FC-A42E-B6FB4652E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ke Me a Captiv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Make me a captive,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then I shall be free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ce me to rend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p my sw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I shall conqueror b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57320" y="990720"/>
            <a:ext cx="523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eorge Matheson, 1890 (Eph. 3: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k in life’s al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by myself I sta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pris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ine 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ong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My heart is weak and poo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ntil it master fin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has no spr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action su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varies with the win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cannot freely 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ou h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ought its ch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slave it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tchles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athless it shal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My power is faint and low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ill I have learned to serv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lacks the need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re to glow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lacks the breeze to nerv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cannot drive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itself be dr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flag can only be unfur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ou sha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from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My will is not my ow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ill thou hast made it thin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f it would rea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monarch’s thron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must its crown resig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only stands unb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id the clashing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n thy bo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has le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und in thee its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6:52Z</dcterms:modified>
  <cp:revision>11</cp:revision>
  <dc:subject/>
  <dc:title>PowerPoint Presentation</dc:title>
</cp:coreProperties>
</file>