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5B02-9094-49FD-8A3F-49FF28003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A935-4AE4-4794-A675-2B907B463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3097-FFED-4958-9AF1-E061528C7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AA1D-D45A-4454-B729-7DFC19294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C017-20AE-4359-AAE7-6851BB0AA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541F-499A-4AD9-BF24-1955E3A8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7631-C3ED-4C0C-9121-AB908EADF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F854-E089-416B-BD72-AF26F83B8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1721-3C82-4120-B1D3-AA46CC837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C231-C57E-4AAC-A09B-3FF1EC64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901F-A981-4796-93FC-EAEE247C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C588-927E-4869-B266-E533155E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AF3E0-0A21-4839-8D43-BA365B0299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ail the Day That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ees Him R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 Day that Sees Him Ri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00200"/>
            <a:ext cx="908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Charles Welsey, 1739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Hail the day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s him rise,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his thr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bove the skies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19040" y="1859040"/>
            <a:ext cx="8305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, awhil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rtals given,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ascends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ative heaven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ere the glor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iumph waits,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t your hea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ternal gates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 Day that Sees Him R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19040" y="1859040"/>
            <a:ext cx="8305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hath conque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th and sin,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the K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glory in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See! the hea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s Lord receives,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t he loves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th he leaves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 Day that Sees Him R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19040" y="1859040"/>
            <a:ext cx="8305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gh retur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his throne,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he calls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ld his own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See! he lifts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nds above,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! he shows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ints of love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 Day that Sees Him R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19040" y="1859040"/>
            <a:ext cx="8305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rk! his grac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ps bestow,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ssings on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urch below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7:08:06Z</dcterms:modified>
  <cp:revision>67</cp:revision>
  <dc:subject/>
  <dc:title>PowerPoint Presentation</dc:title>
</cp:coreProperties>
</file>