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EBE-1EF6-415D-B1FB-32E8D24C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EAF-C320-4DC2-8AD1-4D080ED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74D-B29D-41DE-B388-D9B08791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BDA-DC0E-403A-8560-1305C7E9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C55-20FE-4F37-953D-C19C993F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D28-1B7F-4B3A-B04B-12F3602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150-693D-41E1-9801-CCF9744F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DEA-9DAE-4A10-8B27-21ABA90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326-4446-424E-BAF3-02D047A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29A-BFB1-49AE-9249-BF012ACA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DCB-EFC2-4E2F-9A0C-82C583F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CFC-4E4E-4B6B-A780-7A9F3050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AA77-B789-4888-95F1-5DABAB7CD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Food to Pilgrims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food to pilgrims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rea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nna from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aintzich Gesangbuch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661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John Athelstan, Laurie Riley, 1906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nger;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l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y de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n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ream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 te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urest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ing from 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’s 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aint with thir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ne abun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e need prov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 bid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re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den in f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ead and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when the ve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beh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untenan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20Z</dcterms:modified>
  <cp:revision>133</cp:revision>
  <dc:subject/>
  <dc:title>PowerPoint Presentation</dc:title>
</cp:coreProperties>
</file>