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B7B-FCB7-4981-9848-D2240901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7D0-9C9E-4515-8F05-1E9B1144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F1B-CAE7-4F23-A6EE-AD42E87D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0CD-EBCB-4AA7-93DF-3188A6C0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1B3-A6F5-4279-A0D4-C56E5C40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6C9-C2CC-4EE0-8567-33A26068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5DB-A66D-425D-9B96-DF520886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524-7708-4A21-BA8D-9043AAB6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C90-8228-4836-B374-B8E2B71C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41B-57BF-4B47-B27C-87429D9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AD8-254F-4721-8C1D-3C9A4B73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1D9-4094-4B21-A5A9-95EFD72D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6F9C-53EC-433F-B016-EB7A5B48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Satisfy the Hungr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510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Archdiocese of Philadelp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Omer Westendorf, 1977 (Jn. 6:34; 10:1-5; 1 Cor. 10:16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give your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, O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elfless let u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th and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hen the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s his sh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know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ed his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hen you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mily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and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ful li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ing t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ise and gratitu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hat you should cou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worthy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this heavenly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t the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ess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oo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utpour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one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af, decl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oneness i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yster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sen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tal tongue can t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con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in our hearts to d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2:58Z</dcterms:modified>
  <cp:revision>130</cp:revision>
  <dc:subject/>
  <dc:title>PowerPoint Presentation</dc:title>
</cp:coreProperties>
</file>