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F8CA-B00E-4501-99A3-49843CB2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E602-78FE-4365-9AC5-7A7FEA31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D4DE-5C71-4124-9626-D6F7DCB0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92D9-AE4F-4896-B5CF-6949928D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024-4817-4682-9E72-ABBCC9AF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A16-F524-4458-8CB8-EAF4BC23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357-5185-490E-8E58-1C090164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532D-C65B-4492-8EBA-96E21292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0E45-D42A-41CE-B509-13DD56BD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6EC-82B7-47C9-9905-A52CDC1C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B486-3C08-4DE2-86C2-27363D7F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DEE-FEE5-4CD0-A051-2F5ED187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B16A-7853-4290-998D-EBF182E54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ar Lord a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ther of Mank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Dear Lord and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ank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iv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olish way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67920" y="1676520"/>
            <a:ext cx="480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Greenleaf Whittier, 1872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sense be du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flesh reti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throug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quake, wind, and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till, small voice of cal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lothe u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rightful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ure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ervice f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ee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rence,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simple tr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irs who he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ide the Syrian se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cious cal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, like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a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 up and follow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sabbath r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Gali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alm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lls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Jesus kne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re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ilence of etern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erpreted by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Drop thy still de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quie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ivings c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from our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ain and str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our ord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es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y of th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Breathe through the hea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des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ool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bal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31:00Z</dcterms:modified>
  <cp:revision>7</cp:revision>
  <dc:subject/>
  <dc:title>PowerPoint Presentation</dc:title>
</cp:coreProperties>
</file>