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D36-AD4C-4219-A70F-5EA1A54A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F8C-4DA7-4AA7-9696-06D691F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DBA-1F9D-4AEC-98F9-AE2B50DA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424-53AC-4D2D-A1ED-A10EB166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976-0356-4CDF-B382-DD2E0182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756-0236-4E27-80A2-46B3EEBA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4F1-7CCF-4F8B-B7E6-617BC4D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710-F3CC-4B14-BB7E-9FF1C0D8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956-1BA3-4567-A1BC-D75522F2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B9A-4E90-4069-86AA-6A1F73A6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CC9-3D55-482A-AD5C-A0C40D0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EB1-D57F-4F1B-B392-AA21488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0F4D-96E5-4F66-A318-E4C7226BE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Loves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love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asu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ear hi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world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not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go or let u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ooses ear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ssels for his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bear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rrupted or confor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bsessed with trifl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 greed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ove outwit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nning gold from str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phe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ing and refor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feed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s us with a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e and broken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aring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what they’ve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respe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opposi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rist need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nd tell his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rvel at his tru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bathed in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ned from the d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alk with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ve in grac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4:26Z</dcterms:modified>
  <cp:revision>93</cp:revision>
  <dc:subject/>
  <dc:title>PowerPoint Presentation</dc:title>
</cp:coreProperties>
</file>