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E81-01AD-4219-A1AC-E9F4F006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A00-AF59-4854-A7BD-B140730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5D2-608F-4AA4-8B68-FA05E541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BAB-AD9B-4834-8321-EC8466B4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C38-56CF-411E-B62E-21CB8F90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5F4-123E-4245-8B44-E24F0961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187-6399-4F70-98AF-F857B3A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661-89ED-401C-BC3F-B63D89C1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EFC-CAE4-4F4A-9F32-B4BABDB4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1AF-3C17-4882-A409-964A91E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51F-B4C5-4D09-AAE2-EF7CDCD9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4A6-D983-4CEF-8E7A-69E8A54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E470-A3F0-478E-93E2-0016A5A09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’s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illed with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’s pow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infant chur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nfessed its risen L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600200"/>
            <a:ext cx="440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R. Peacey, 1969 (Acts 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hurch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ess you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ellowship disp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with the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us on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un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our great des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joy and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faith to hear you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ad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to work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den ou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Spiri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mbr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strong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ose of every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ind and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ife among u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are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Christ’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ians pr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4:18Z</dcterms:modified>
  <cp:revision>10</cp:revision>
  <dc:subject/>
  <dc:title>PowerPoint Presentation</dc:title>
</cp:coreProperties>
</file>