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013-31FA-4F43-BA2C-E1371584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BF-5A41-4D50-A3CD-0782D41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C7D-0F6E-4BBC-B750-38FA21A0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0BE-1FFE-40A8-B264-086595A6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5DC-F9BE-44E6-9BB1-B22306C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060-2AC5-4650-B69D-2FEBA4F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DB0-2045-4187-980E-97E0B2DF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A07-5AB9-4428-86B2-9D8F7F0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653-0695-42D8-9D93-72EC2BBA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4F4-5D9F-4E99-908D-883FA9D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260-4213-4DDB-9AE2-74A6C5F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938-0884-4621-BC91-C87392F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EAAA-B3D3-4D93-A825-AF5EFB5C2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ren of the Heavenly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ildre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som g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25, renewed 1953 Augsburg/For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1560" y="1066680"/>
            <a:ext cx="77702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55; trans. by Ernst W. Olson, 1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stling bird n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r wa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is own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 and nou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they flouris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gs he spares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he bears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ither life 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sha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Lor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se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he show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 know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gh he giv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he tak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i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’er forsak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h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pose sol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serv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15Z</dcterms:modified>
  <cp:revision>60</cp:revision>
  <dc:subject/>
  <dc:title>PowerPoint Presentation</dc:title>
</cp:coreProperties>
</file>