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8A8-0EED-434F-A4B3-0AC08A26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FC3-4042-45AF-B6F3-80053392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012-9942-478C-8248-CE9F7A68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2051-032C-4198-BCBF-BF009420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C51-DD0F-44BA-9BB1-BF88CF1E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0A2-3797-4F34-AC43-770B3B20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C82-0792-4326-A0D8-EC73117E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369A-1151-4218-A8A7-F70DACEE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442-2F59-4436-8A2B-696568B6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1D3-54E4-4331-A566-D4733F45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76D-432D-4B0A-BDAB-A8014D05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0C6-7095-45DD-9979-104002BE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DF7F-8E98-4EA2-851D-554C23F86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o, Lord, Remembe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00200"/>
            <a:ext cx="9144000" cy="46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Do, Lord, do,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49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o, Lord, do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49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 (Lk. 23:4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ot a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glory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outshines the su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40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d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653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took Jesus as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took Jesus as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took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I’m in trou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’m in trou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’m in trou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I am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am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am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653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I got a home in glory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outshines the sun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ot a home in glory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outshines the sun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2:03Z</dcterms:modified>
  <cp:revision>55</cp:revision>
  <dc:subject/>
  <dc:title>PowerPoint Presentation</dc:title>
</cp:coreProperties>
</file>