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B5D-D64D-4AA4-9161-8DE1824F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718-CB16-4CA3-8F8A-87BC3F47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EF3-216B-4E31-969A-D9DE8150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2FD-53C6-4810-A646-8088FD1A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2F6-048F-47FA-8C4F-4179949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491-D022-46CA-B600-10DEAE9C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4A6-04E5-483B-9B20-5775BDA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723-33ED-4E02-9C85-D6863B6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3D9-1E49-46FF-84CB-A91A15F2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14A-71F9-418B-A7A2-92CC84C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F44-09AF-4D0B-9179-11B98E7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449-D368-46E5-A7D0-EC77B643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0D04-F360-438D-8688-26C128CF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race to 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8288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ngs, good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pray f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us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labor f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race to L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0200" y="1066680"/>
            <a:ext cx="41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homas More, England, 16th c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4T20:50:46Z</dcterms:modified>
  <cp:revision>24</cp:revision>
  <dc:subject/>
  <dc:title>PowerPoint Presentation</dc:title>
</cp:coreProperties>
</file>