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366B-BF0E-4578-9E54-6F84D7B9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7AA9-66A7-445C-A95C-8E25478D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658-EBD9-42FC-8185-AA7DFCBF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E7ED-3BEC-4DC5-8BAF-F823DB5B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30EE-0459-4580-803C-94D2AA73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2252-9DF4-4EDE-87AE-6DF83401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67E4-F09C-4059-9B8A-A6F9555D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8CCC-8FC0-4CC0-822F-9FD88B5C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06EB-E515-4017-AC7B-D1AA8457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E0F2-7716-4C4C-9B67-1926C2C7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A67E-2C52-4B3B-8A5A-7B098826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DC67-75D0-4587-B66E-6C5E89FE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EDD4-86F3-4F4C-8708-42E13CA22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ar, O Lor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r Servants G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73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Here, O L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r servants gather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and we link with han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58 The United Methodist Publishing Hous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tic  transcription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Lord, Your Servants G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okuo Yamaguchi, 1958; trans. by Everett M. Stowe, 1958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honetic transcription from the Japanese by I-to Loh, 19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1. Sekai no tomo to</a:t>
            </a:r>
            <a:br>
              <a:rPr sz="4900"/>
            </a:b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te o tsunagi,</a:t>
            </a:r>
            <a:br>
              <a:rPr sz="4900"/>
            </a:b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Jyujika no moto ni</a:t>
            </a:r>
            <a:br>
              <a:rPr sz="4900"/>
            </a:b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tatsu warera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Lord, Your Servants G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apanese Phonetic Trans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Kami no mikuni o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me a te to shi,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Shu Yesuno michi o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susumi yuk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ing tow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avior’s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ed in love we st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see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ealm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unite to pra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our step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you are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Many a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ngues we sp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attered are the l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one in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in love’s dema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Lord, Your Servants G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’en in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app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ing age and yout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teac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well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you are the Tru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ature’s secr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en w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nges never ceas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, oh w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weary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d the source of peac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Lord, Your Servants G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all t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e distr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rn by endless strif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heal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your bal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you are the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rant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 age renew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deathless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us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ork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 us from abov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Lord, Your Servants G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th and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and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eded in our strif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Ma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ur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ur Truth, our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9:05Z</dcterms:modified>
  <cp:revision>59</cp:revision>
  <dc:subject/>
  <dc:title>PowerPoint Presentation</dc:title>
</cp:coreProperties>
</file>