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041-34E8-49E7-AC58-71C1CED5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FAD-D46E-42AB-9A3D-E4CCB8C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DAF-3B56-4A51-8ED7-72FB0EA0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A7B-40DA-4A82-B06A-F39ABBBF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8AC-6B16-45F9-9D0E-A28BED9B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31D-C625-494F-9D0F-D8F5238C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233-D407-4C4C-8214-A69A66B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F5B-0517-4F82-AACB-81EA2F9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F23-35A2-440E-84FB-D2768B81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91A-B0AB-45ED-B7C3-6D3B040B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713-1A7E-4934-9BE4-CF1151E5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74B-90D2-49FB-8CE5-3F2C827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948A-9233-4B88-9F4D-D9EA1A6D4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Wh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ped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05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ped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ear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otic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6520" y="1676520"/>
            <a:ext cx="632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iam W. Reid, Jr. 1987 (Gen. 1:1-3, 26-27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i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some m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our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abou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jo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ing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reasured c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God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nkets tar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their ch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, weari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nd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you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ed 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other-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h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m emb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et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anqu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evea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der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ouc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ke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hea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lai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trip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deful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d of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!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was g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ess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fram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im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nto bi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blesse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foot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re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lendored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od, wit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other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i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ar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end pat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uring, but defi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oo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at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ust incr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orlds you birt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ur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urn way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o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though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 your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3:05Z</dcterms:modified>
  <cp:revision>13</cp:revision>
  <dc:subject/>
  <dc:title>PowerPoint Presentation</dc:title>
</cp:coreProperties>
</file>