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3BB-5E77-4FCB-ACCC-26104CD0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F92-A57F-4DE2-BD0B-7427DAF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924-5DF6-4BC2-878E-1DCE7D1E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2EB-F6A8-4BAE-A809-3AC04AAC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103-6867-456E-80AD-7256F19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6C4-655F-48AB-B302-E6DB822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C0A-08B0-4125-B6F9-28F3EE5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2ED-61B1-40D1-85E9-9544389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B64-D29D-486F-8F41-D47DF07D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C69-14C9-4DB8-8B3C-BDDD0FA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084-63D8-450C-856E-486E685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EB1-E6B7-4017-90CA-E6B2D5E3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B6F-F0D6-4012-A588-EC747502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 the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pacious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mber waves of gr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urple mountain majest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fruited pl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0120" y="106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Katharine Lee Bates, 19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ed his grace on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own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ea to shin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oes pr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berat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ore tha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ountry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ore than lif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 thy gold ref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uccess be nobl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gain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atriot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es beyond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ab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ies gl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mmed by human te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end thine every f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irm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lf-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berty in la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3:54Z</dcterms:modified>
  <cp:revision>34</cp:revision>
  <dc:subject/>
  <dc:title>PowerPoint Presentation</dc:title>
</cp:coreProperties>
</file>