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0B9-A826-4ADD-9896-B911A393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B43-510B-49DA-A941-D9BD3389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BB7-DFF9-4D9D-BDD6-173B0C5F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F70-6288-48A6-9E44-85B28B27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FB2-8638-4CE1-940A-A51655C9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133-206A-4F2F-9F88-25D64390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ECB-E668-40DF-9B46-9E57FBC3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FB0-3B5A-4B1C-92C0-EF77DDFB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C2D-4770-40F4-9C2F-73758C2D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F24-2FFD-46AC-8CBD-CDD2FB0F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F90-F6EC-4623-BF27-256D8470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616-E33A-4244-8145-A58E362C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169D-4C89-4737-BF4E-7CEDA5E85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of John Chrysos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John Chrysos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Book of Common Prayer,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Greek, 5th cent. (Mt. 18:19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91916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give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grace at this ti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ith one accord to make 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common supplication to you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 have promi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ll-beloved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hen two or three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gathered together in his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you will be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midst of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lfill now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esires and peti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may be best for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anting us in this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knowledge of your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in the age to 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life everlasting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1:49Z</dcterms:modified>
  <cp:revision>136</cp:revision>
  <dc:subject/>
  <dc:title>PowerPoint Presentation</dc:title>
</cp:coreProperties>
</file>