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29F-F41C-445D-A2AD-E1BBAD48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ECC-9674-42EA-A12B-98ED0DF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EFE-50CB-486D-88FF-A4F44D9D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E3C-A871-4165-B3A0-D178395A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065-8428-4FAD-8472-94E8B2D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509-0F8E-440E-BBBF-C89D83F7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5CE-CA5E-42EC-BF94-4A331347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498-1CD0-495C-A523-3EADF4A2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F09-FDC9-4FE0-996A-7070752F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993-E909-410A-B2BD-AA77EFCF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EB4-AAF0-4A14-909C-C6AC95E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F84-3C04-4CD3-B864-4858C7C5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2160-BA21-4D59-B25E-F2769C696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from Wh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, from wh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blessings f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erfecting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aints be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0 (1 Cor. 12:4-31; Gal. 3:27-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nd n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le nor fem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ove, like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all destro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dere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inctions vo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and sec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ies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all in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 us, who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y nature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o thy mystic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ody a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in u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pirit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 of t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r mor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fil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ove and actu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ers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ch di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d accor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ork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ver fr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ce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ful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ch besto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r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Many a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an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ho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ut 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7:27Z</dcterms:modified>
  <cp:revision>21</cp:revision>
  <dc:subject/>
  <dc:title>PowerPoint Presentation</dc:title>
</cp:coreProperties>
</file>