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EB19-F390-415B-A045-4C2F3EE4C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66FB-2723-4739-94F0-D7C31C972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D0DD-ED4E-41C4-A2A9-99F689906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55A3-4E1A-40B8-B513-BDEB29DF5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50FB-1B6D-4AD5-B8B5-531B508CC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D734-9598-4828-AB48-FC74F595F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FDEE-A672-418B-BEF4-A1600638C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4E74-BF61-4D00-9C2B-142F56337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F6AE-DB19-4935-BD9C-39C161098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8379-2646-4C0A-8185-545C09760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6144-18CA-46D0-BBD8-2E46027F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EE4C-DF87-4FDB-8D14-B7CAE119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11017-D2CA-4383-BA86-FFF48E4818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Zion, Has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7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O Zion, hast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mission high fulfill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ell to all th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God is ligh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Zion, Hast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143000"/>
            <a:ext cx="9144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Mary A. Thomson, 1894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Give of thine own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ar the message gloriou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e of thy weal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peed th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eir w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Zion, Hast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our out thy so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m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yer victoriou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Zion, hast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ring the brighter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ublish glad tiding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dings of peac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dings of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demption and relea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Zion, Hast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he who ma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nations is not will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soul should peris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st in shades of n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ublish glad tiding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dings of peac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dings of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demption and relea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Zion, Hast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Behold how man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sands still are ly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und in the darks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ison-house of si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Zion, Hast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none to tell th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Savior’s dy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r of the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died for them to w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ublish glad tiding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dings of peac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dings of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demption and relea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Zion, Hast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Proclaim to eve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eople, tongue, and n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God, in wh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live and move, is lo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Zion, Hast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ll how he stooped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ve his lost crea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died on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we might live ab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ublish glad tiding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dings of peac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dings of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demption and relea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Zion, Hast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39:06Z</dcterms:modified>
  <cp:revision>79</cp:revision>
  <dc:subject/>
  <dc:title>PowerPoint Presentation</dc:title>
</cp:coreProperties>
</file>