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303-D97A-4DE6-B30E-BD033570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95E-5AF8-49FF-A8D8-0E53ACB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74B-A4E3-4417-9B89-FDA1F9B6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3AE-FA8F-4984-B8EE-19B921E5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AAE-1995-498A-8C74-D70EB084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512-45B9-48F8-B88F-2C062154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E46D-640B-42E9-A692-0A208E5A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19D-3AF4-4E0A-B5F1-1E99D6D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07D-9EFD-450C-841E-1A8C6FD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AA5-7AFC-422A-8CF4-3CAED84D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4A59-92A5-44E6-8130-2EAC910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B54-7D80-4B35-AB23-856BC87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99A-48CC-4592-88FB-9EC4E2C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BC70-1054-43F1-B6A3-74ADB3AA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66C-362E-407E-BB72-BFF0388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95EC-38E6-4BA2-85ED-3692DCC2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717-5AF7-42C1-8BB1-340DAD40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AE6-6919-4C7D-B3B6-8D44B41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8FB-6E37-4CE7-95BB-5C5E9EC6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E57-30AE-43B8-A2AC-D5084CC4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E75-8313-4A04-A29E-4C015C3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4BE-1A44-4EDE-94DB-16BC78C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3FC-CE4C-47B9-A0E2-81C7FA7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367-2B77-44E7-8689-928E4DA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1FC-4B2D-4E4B-AE8F-273D265E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E6B4-1D84-4242-8C9C-8555325D4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848720" y="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336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79840" y="70020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30240" y="10666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99072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83808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924680" y="-3024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-30240" y="2530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325520"/>
            <a:ext cx="91440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45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98108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447920"/>
            <a:ext cx="914400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52388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0430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15840" y="1371600"/>
            <a:ext cx="9144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54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37304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71604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  sur - round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us surround the throne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, and thus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and      thus           sur - roun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 the thr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e                 thron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 may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9684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066680"/>
            <a:ext cx="91440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6002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716040"/>
            <a:ext cx="914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    the   gold - en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the  golden  streets, t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,     or </a:t>
            </a:r>
            <a:br>
              <a:rPr sz="5000"/>
            </a:b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          th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 the  golden stree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gold        -       e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streets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716040"/>
            <a:ext cx="914400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  -  er    worlds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fair - 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worlds   on high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, to fairer</a:t>
            </a:r>
            <a:br>
              <a:rPr sz="5000"/>
            </a:br>
            <a:r>
              <a:rPr b="0" lang="en-US" sz="5400" spc="-1" strike="noStrike" baseline="16000">
                <a:solidFill>
                  <a:srgbClr val="000000"/>
                </a:solidFill>
                <a:latin typeface="Times New Roman"/>
              </a:rPr>
              <a:t>to      fair    -  er   world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  on   h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88884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066680"/>
            <a:ext cx="9144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4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85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91440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840" y="9144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1-03T13:04:12Z</dcterms:modified>
  <cp:revision>62</cp:revision>
  <dc:subject/>
  <dc:title>PowerPoint Presentation</dc:title>
</cp:coreProperties>
</file>