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31D-5055-478E-B66C-B5D34BBA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C2F-A6DD-47D1-AC60-C119F25D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10B-7E3D-4E34-B17B-6222EFC3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A38-A5B0-4305-A1F2-18E31DCF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4BB1-D54F-468A-A602-A6F50861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38E3-5C32-4BEB-A2DD-207262E5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2A5B-5DC8-451F-B0E3-B8098B6C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164C-5E01-4F9C-BF56-C5868100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240A-7C3B-4E04-9E04-065223A8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555F-00EB-4CAF-B91F-3EDD741E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2100-A9D8-449B-ADED-469CF6AF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0C9-2452-45BC-A5F0-C7313FBD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85E6-024D-4D2F-92CB-D03E6107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9DE4-D04C-4351-AF45-9E0DD4C9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26FE-EB56-4131-8CDC-0602643E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5931-BFE5-4E15-AE4E-75961A6B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AC5D-0FFB-49D9-8C79-77970CC4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5B5-362F-4807-BFE3-B9F1A809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E61-0DE1-4C4F-8651-3437E798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F5F-1017-4C3B-9FE2-42BC1530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FBB-56FE-408F-80B9-7E33F547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6FC-A642-4777-AED2-FAED5468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E75-9EE3-46B4-B682-CB3C99F3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EF6-572D-46E4-88AC-7F404B74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9242-F012-45EC-BA39-E9AE34447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4FD0-25B4-4012-BC23-B1EDF832C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vior, Like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epherd Lead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Dorothy A. Thrupp, 1836 (Jn. 10:1-2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82880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1. Savior, like a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shepherd lead u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much we ne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thy tender car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ou hast merc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relieve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race to clean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power to fr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e will earl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 We will earl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4. Early let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eek thy favo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arly let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do thy will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lessed Lor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only Savio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thy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r bosoms fil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love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ve us stil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 Thou hast love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ve us stil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vior, Like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epherd Lead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Dorothy A. Thrupp, 1836 (Jn. 10:1-2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avior, like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pherd lea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ch we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tender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pleas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ures fe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olds prep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bough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ne we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thy pleasan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astures fee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our u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folds prepar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bough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ne we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e ar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ost befrie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e guard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thy fl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defe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us when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a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, O hea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Hear, O hea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ou hast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ei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 and sin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w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lie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o clean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wer to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will 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e will 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arly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k thy fav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ly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thy w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bought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ne we ar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l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osoms f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lov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u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hou hast lov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u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bought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ne we ar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We are thi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ost befrien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e the guardia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way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keep thy flock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sin defen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ek us when w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o astr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ear, O hear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 Hear, O hear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ou hast promis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eive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poor and sinfu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we b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22T01:56:19Z</dcterms:modified>
  <cp:revision>127</cp:revision>
  <dc:subject/>
  <dc:title>PowerPoint Presentation</dc:title>
</cp:coreProperties>
</file>