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5B9-1B4B-46D9-BB49-58ED521E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6939-B31A-4D51-AB23-28E3B377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7BD2-65F0-4D27-8413-4019FC9D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2A6-401A-490D-9252-311EB702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148B-5B41-4681-97F3-7A077086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90AF-2D10-422C-B264-BBB1C93C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9EFF-1F0D-44A2-8535-6D5299CB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235-8227-428A-AA5B-FA593975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F86A-4179-4EC4-9B04-F4BC8448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038-6EC6-4F2A-A11F-256B1670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C8E4-10CD-4296-808B-6C97DB24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2B4C-1B89-4CD7-A84B-9C6626EC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84DD-9608-4B30-BA0C-B223C0952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very Time I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eel the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tim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676520"/>
            <a:ext cx="63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 (Rom. 8:15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every tim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every tim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Up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rd spok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his mo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fire and smo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looks so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k my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all was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tim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every tim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ordan r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uns right c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ls the bo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the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in’t but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in on this tra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uns to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ight bac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tim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8:51Z</dcterms:modified>
  <cp:revision>23</cp:revision>
  <dc:subject/>
  <dc:title>PowerPoint Presentation</dc:title>
</cp:coreProperties>
</file>