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AC1-5A7D-4AC4-9DC6-44726741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771-9C31-4CEA-B760-0E26749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0DB-E03D-46CF-B69D-F2A9DC95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700-3746-49F2-9555-8A539216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5B1-2A3E-4F42-806E-0F17BA0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903-BC7E-429C-BD95-A18A61C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841-051D-4E54-B865-AE81D115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353-56D3-4865-AF2C-C9867DC1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C8A-6CD8-4151-8E9C-719312C2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28B-AD7D-470C-BEBA-57FCBA1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C49-6C7A-4E44-B7E8-538F69B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90B-A9E4-4B4F-BA46-92688DD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A1DE-A566-48E3-88A6-AEAF1D696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Truth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amuel Longfellow, 186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oly Spirit, Truth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wn upon this sou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war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e my spirit, clear m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ly Spirit,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w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eart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dle every high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ish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pure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ly Spirit, Power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and n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il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strongly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avely bear, and nobly str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oly Spirit, Righ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conscience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ly bound, forever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30Z</dcterms:modified>
  <cp:revision>160</cp:revision>
  <dc:subject/>
  <dc:title>PowerPoint Presentation</dc:title>
</cp:coreProperties>
</file>