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D4D-307B-42FF-893C-2F9B9F05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EBA-B848-4008-A3C4-5044B7E9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469-DFED-402F-85C5-1E5B91D9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CAF-EB52-4D8C-9AC8-51B53733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143-682E-47B1-AD92-88496116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304-027D-4F59-A338-53117560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C63-DE7D-4084-B866-93D55A0F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469-16E5-4F4A-AF3F-67D7184D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5CA-1E90-42A3-9293-DA5F6A8C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1DC-E921-41F9-BCD2-A5CC5E18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B67-B39E-4A9C-A02A-14CFABCB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B69-2076-4561-86EC-A072D0C4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D054-34C6-4AC3-8653-C2215DB2A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a Palabra Del S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 Es 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12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y permission of Juan Luis Gar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ía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5400" y="182880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uan Luis Garc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a; trans. by George Lockwood, 1987 (Ps. 33:4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90520"/>
            <a:ext cx="78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Righteous and Just Is the Word of Our Lor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y th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we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s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from God’s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great breat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ing the star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mo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athered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winesk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ocea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ut the d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ha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ri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God, all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peopl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w dow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ou nation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piec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d and wondr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ang to be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se addic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i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od frustra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God’s judg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’s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firm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ed forev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n su divina palab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eron creados los cie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 aliento de su bo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formaron los lucer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como en odre reco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inquieto mar las agu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abismo h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estanq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ríos las cañad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male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óstrense tod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pueb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bras tan gran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xcels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mandato surgier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ustra 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ign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que en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l se embriaga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ólo sus planes y juic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confirman y procla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8:21Z</dcterms:modified>
  <cp:revision>23</cp:revision>
  <dc:subject/>
  <dc:title>PowerPoint Presentation</dc:title>
</cp:coreProperties>
</file>