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9B6-C08D-45E8-937A-A97BB641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6F5-BCD2-41B4-9A08-091B5CE8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AD8-6A25-47DF-A6C8-CA3EE1B4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79C-8852-4494-A8C7-86B32211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F238-46D5-47EC-86BD-AE4F95A9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D2D6-26B1-4C9A-9A88-DD561E22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E601-365C-4F07-98F4-0B7E68B6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87E0-A6B5-49E9-A081-FCE9E815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89F7-3B54-412A-90DB-DE14BA8F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4BA4-8B30-4CCA-B008-DC425893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9409-69D8-413C-A8AF-1988F5FB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3B3-9E2D-4D3E-9E3B-4D73639F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EF27-0A02-4B75-82F2-74B40BC9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BF4D-469C-4F04-A256-DDC0974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29B2-351E-479D-901E-150135A3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C8E6-18D4-4C76-9088-5943ED63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93FF-B467-4D33-9D7A-1A3A4125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39B-2943-4335-BEB9-F2C4D4DA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907-5189-465E-9D54-EA64C83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7BE-08E7-427B-9AEB-0B968816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EAB-E220-46EA-8691-43081F98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411-355D-4580-9C00-C48C9387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66D-EBB6-48BB-B34B-CCE02D39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A66-9D91-47BB-81C9-99921BD1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3EF9-A04A-44F5-96E7-5911C766B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E675-D934-4425-84A1-B535EFCA5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666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0" y="68580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a. 1529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trans. by Frederick H. Hedge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1853 (Ps. 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an of God’s own choos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must win the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truth to triumph through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little word shall fell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u him who with us sid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763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0666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160" y="68580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a. 1529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trans. by Frederick H. Hedge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1853 (Ps. 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an of God’s own choos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175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must win the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truth to triumph through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little word shall fell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u him who with us sid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04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760" y="1092240"/>
            <a:ext cx="82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ca. 1529; trans. by Frederick H. Hedge, 1853 (Ps. 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n of Go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choo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m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 the batt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to triumph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606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man of God’s own choosing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ittl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fell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him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si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he must win the batt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628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truth to triumph through u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e little word shall fell him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628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ru him who with us sideth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3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666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160" y="68580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a. 1529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trans. by Frederick H. Hedge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1853 (Ps. 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31T13:45:12Z</dcterms:modified>
  <cp:revision>30</cp:revision>
  <dc:subject/>
  <dc:title>PowerPoint Presentation</dc:title>
</cp:coreProperties>
</file>