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741B-354B-49C4-B7D8-F23412E99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9487-02E2-4D0E-8A15-E61A40F0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16CA-CD2C-4236-82FD-82C45989F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BC33-607F-49A8-9BC0-1E864F8D4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06A7-63D9-48B7-8125-CB28F8C3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07B9-DD47-4E11-A147-595E8C5D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8111-239E-4D5D-9414-7A44B895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B910-8202-49D8-BCAF-8573D418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736F-8B34-4263-9EB2-5C8638DD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860F-CD98-473C-A21A-E86D5FA8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67B0-7A5D-410E-BFB8-7A013DFA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CFEC-320E-455A-8960-18F031C4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48C3-C8AC-41A2-B077-0233B29FF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God’s Gif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8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God’s Gif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Howard Thurman, USA, 20th c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760" y="187308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O Holy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open unto 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light for my darknes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courage for my fea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hope for my despai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477800"/>
            <a:ext cx="883908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O loving God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open unto me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   wisdom for my confusion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   forgiveness for my sins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   love for my ha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477800"/>
            <a:ext cx="883908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O God of peace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open unto me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   peace for my turmoil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   joy for my sorrow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   strength for my weakn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668600"/>
            <a:ext cx="8839080" cy="353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O generous God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open my heart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   to receive all your gif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20:59Z</dcterms:modified>
  <cp:revision>157</cp:revision>
  <dc:subject/>
  <dc:title>PowerPoint Presentation</dc:title>
</cp:coreProperties>
</file>