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5F7-6B13-402D-96D7-C6A0A91F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EFF-B1F7-425F-B1BF-1DF8ACD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0F5-BF47-4A0F-B60F-7899C233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71F-ACF6-4BAD-BAD9-B1150C5E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7F87-B5B0-4BCF-9C03-360AA4C5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87ED-ED01-40BE-9D63-4A24C8E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8431-457F-48EF-8054-3B50BAE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0F1-A313-43D3-A3D9-4B0217B8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686-98DA-41E0-9C6D-73A71BA4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04D-0625-4635-B3D6-FFECF89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C09F-2716-41BF-A967-3026EDB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2C8-1B50-471A-BCAE-F7BE10B8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F21-38E8-4313-9A37-0E49F0E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765-8DE6-47EF-9FF2-CBBE15F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2F9-5156-4921-8AE6-FC134FF3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19C8-59A5-4ADB-9439-8F8112A4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E21-709C-496F-9B98-0433E2D3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10D-143E-41DF-9E7C-0296D72A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2C9-B50F-4A1B-A7C7-EDD28588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1EC-2E2B-4B7C-8C1B-4482FC99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6D8-0898-4965-A241-7B0A29C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3FD-E627-4BE1-8917-54E2312C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596-80B8-4AF2-8BB1-2B26E00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588-538F-4DC8-A7A6-D66D631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5186-A1F9-436E-8CD8-A7C5BE51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6BC-234A-47EB-B054-AAE79B21F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40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come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eet 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given, loved and fr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 (1 Cor. 10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s his peopl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e worl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46280"/>
            <a:ext cx="9144000" cy="27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come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eet 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given, loved and fr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92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 (1 Cor. 10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we and wo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rec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716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I come with Christia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and near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find, as all are f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s Christ break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bids us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rou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vision en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 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thus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meet our Lor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prese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ways near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205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in such friend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tter known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 praise him he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ogether me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gether bou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go o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fferent ways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we and wo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rec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4446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s his peopl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e worl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 and speak his prai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I come with Christia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and near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find, as all are f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s Christ break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bids us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rou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vision en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thus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meet our Lor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prese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ways near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in such friend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tter known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ogether me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gether bou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go o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fferent ways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2-03T04:35:03Z</dcterms:modified>
  <cp:revision>120</cp:revision>
  <dc:subject/>
  <dc:title>PowerPoint Presentation</dc:title>
</cp:coreProperties>
</file>