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54A3-104F-4A7C-BAE1-DA434B3F9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4C5C-D23E-4ED1-AB5C-D8D84AE25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9511-4091-4F47-B49E-C2223894A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EE96-8E86-4201-BF68-AD2A2FCBB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84911-A126-4FA1-A6D4-1EF450C00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1F043-DCE7-45EC-92C7-379DC3918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D0926-3835-411D-B833-73E8E3269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2FDAB-7350-4B3A-89B8-126936D77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F7532-0492-4AA7-BE9D-EDAA4F88B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98C26-9347-4610-BB9C-3D70D70BC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0DE31-4CF6-4080-8C9D-ACBEEBA10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733C-86F1-47B4-930C-4B76E93C7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10FFF-FD8D-4707-BB71-5D85E2D91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4C104-87A9-488C-BB66-AD6DB4B7F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C23CF-C4EB-4529-A332-A98FBB537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B9777-044C-4343-8997-1A80A8067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AF8DE-DD63-4869-B090-A845A12E4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917E-97A1-4D74-A65C-F2E487B4C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1C2D-E992-494C-BD5E-5CF613A4F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7438-412C-462A-A486-39DE3252C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802D-63F9-4B32-8EAF-C43778ECA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D50B-CE60-4C80-AB98-AFF235AED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FCCB-FBBD-41B9-8063-44615FEFE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5A96-5C1D-49DB-BD83-87B16989F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1EA81-CD81-4EEC-B4A8-E12F304F87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E1630-A0FB-4E0F-A631-AE3805A3DC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-228600" y="228600"/>
            <a:ext cx="9372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ing Praise to God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ho Reigns Abo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2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133720"/>
            <a:ext cx="914400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. Sing praise to Go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reigns abov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God of all creation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God of power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God of lov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God of our salvati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Praise to God Who Reigns Abov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26560" y="1536840"/>
            <a:ext cx="75096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Times New Roman"/>
              </a:rPr>
              <a:t>WORDS: Johann J. Sch</a:t>
            </a:r>
            <a:r>
              <a:rPr b="0" lang="en-US" sz="19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ütz, 1675; trans. by Frances E. Cox</a:t>
            </a:r>
            <a:r>
              <a:rPr b="0" lang="en-US" sz="1900" spc="-1" strike="noStrike">
                <a:solidFill>
                  <a:srgbClr val="333399"/>
                </a:solidFill>
                <a:latin typeface="Times New Roman"/>
              </a:rPr>
              <a:t>, 1864 (Dt. 32:3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5228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ith healing balm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y soul is fille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every faithles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rmur stilled: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Go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ll praise and glor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15228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. The Lord is never far away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ut through al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rief distressing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 ever present help and stay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ur peace an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joy and blessing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Praise to God Who Reigns Ab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15228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 with a mother’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der hand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od gently lead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chosen band: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Go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ll praise and glor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15552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. Thus, all m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ilsome way along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sing aloud thy praise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at earth may hear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grateful song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y voice unwearied rais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Praise to God Who Reigns Ab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15552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e joyful in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Lord, my heart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oth soul and bod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ear your part: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Go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ll praise and glor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5552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4. Let all who nam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hrist’s holy nam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ive God all praise and glory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t all who own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s power proclaim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loud the wondrous story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Praise to God Who Reigns Ab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15552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ast each false ido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om its thron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or Christ is Lord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Christ alone: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Go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ll praise and glor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healing bal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oul is fill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every faithl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urmur stilled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praise and glo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820800"/>
            <a:ext cx="9144000" cy="521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2. The Lord is never far away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ut through al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rief distressing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 ever presen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lp and stay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ur peace an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oy and blessing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Praise to God Who Reigns Ab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with a mother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nder h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gently lea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hosen band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praise and glo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83808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hus, all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ilsome way al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sing aloud thy prais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earth may h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grateful so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voi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wearied rais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Praise to God Who Reigns Ab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joyful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rd, my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oth soul and bod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ar your part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praise and glo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820800"/>
            <a:ext cx="9144000" cy="521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4. Let all who nam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rist’s holy nam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ive God al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raise and glory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et all who ow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is power proclaim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loud the wondrous story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Praise to God Who Reigns Ab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st each false ido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its thr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Christ is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hrist alone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praise and glo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-228600" y="76320"/>
            <a:ext cx="9372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ing Praise to God 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ho Reigns Abo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848720" y="76320"/>
            <a:ext cx="12952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2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828800"/>
            <a:ext cx="9144000" cy="253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. Sing praise to God who reigns above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God of all creation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God of power,the God of love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God of our salva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Praise to God Who Reigns Abov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26560" y="1371600"/>
            <a:ext cx="75096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Times New Roman"/>
              </a:rPr>
              <a:t>WORDS: Johann J. Sch</a:t>
            </a:r>
            <a:r>
              <a:rPr b="0" lang="en-US" sz="19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ütz, 1675; trans. by Frances E. Cox</a:t>
            </a:r>
            <a:r>
              <a:rPr b="0" lang="en-US" sz="1900" spc="-1" strike="noStrike">
                <a:solidFill>
                  <a:srgbClr val="333399"/>
                </a:solidFill>
                <a:latin typeface="Times New Roman"/>
              </a:rPr>
              <a:t>, 1864 (Dt. 32:3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6-10-07T22:39:51Z</dcterms:modified>
  <cp:revision>41</cp:revision>
  <dc:subject/>
  <dc:title>PowerPoint Presentation</dc:title>
</cp:coreProperties>
</file>