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BDD-A3FE-4CE3-8C92-8E65EFD4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CC5-D7E8-4CF8-A830-64212CFE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066-782C-467E-9D7B-EEE70D05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DC1-89A0-4D16-A3E9-1EF2EE2B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CF97-B487-457B-82C9-BAE061F8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148-AE0F-4234-8CF2-05A61D76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71E-EC60-4C3B-AF8B-8B21F44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11C-0B01-43CA-905C-6C537362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B99-3B86-4155-B54D-CD2DADB5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513F-557A-4605-B457-B10C9CE6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CFC9-C1D6-4DC6-8D5C-5F2DE458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1B9-F1BB-4F86-80C5-0236C1B9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ACD-CF6E-46D0-84B5-4E9E7A0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7086-5DAA-4F50-B662-B50BCBA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E6EE-948E-404F-85A8-6002CE2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296-71C7-4AE0-8909-9C2ADDE6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DF58-298C-432E-88EC-3AE53F89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56D-80FB-409C-A4D7-3C1C944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B21-5585-467A-BB67-4CC0B42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B7B-BD46-4146-9B41-601164C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666-7BBF-48BF-A68E-F8E4B407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1B8-07B1-4057-8B83-7CB6C789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4A1-FBFE-45F8-A63A-C08A22A4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742-3261-40F9-9B92-D242AC5A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46A1-B7D9-44BD-9B74-32B8BD50A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4EC-D0FE-4D3E-8DE8-3F2D5B2E4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ward Throug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ward through the age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t the call div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Lucian Hosmer, 19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ward Through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Forward through the ag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the call divin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Lucian Hosmer, 19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88920" y="762120"/>
            <a:ext cx="7171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 have proclaime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5760" y="746280"/>
            <a:ext cx="7916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by God’s fa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5680" y="1863720"/>
            <a:ext cx="7171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83720" y="1482840"/>
            <a:ext cx="5776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by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6T23:38:05Z</dcterms:modified>
  <cp:revision>64</cp:revision>
  <dc:subject/>
  <dc:title>PowerPoint Presentation</dc:title>
</cp:coreProperties>
</file>