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918-AE77-4EC4-9377-59C9FB09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EB07-33D1-40A0-A29D-6C369080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074-DA92-4EDD-8F1B-D65797D4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A77-EAEC-4931-941F-942454AB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286C-96D2-4745-AA2F-BBA40152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E8C-EBE7-416A-B4DB-5CD80864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2DB-105B-4004-9C37-4AB1576A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26F4-28EB-4D39-A301-C634F3A5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1DB-B066-4575-981B-2F58CCC6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45C-5D97-4216-BEDE-F8FCE71B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007-102D-401D-BD0C-42215C14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8E5-3D06-4562-B3D3-77D377FA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90A0-E952-4F88-A72F-F8A99D1AC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erica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My Country ’Tis of The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ounty, ’tis of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land of liber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e I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4520" y="1676520"/>
            <a:ext cx="32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amuel F. Smith, 18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nd where my fathers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nd of the pilgrim’s pr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mountain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freedom r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y native country,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nd of the nobl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I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love thy rocks and ri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ods and templed hill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pture thri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at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usic swell the breez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ing from all the tr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freedom’s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ortal tongues aw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at breathe part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rocks their silence br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nd pro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athers’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uthor of liber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we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 may our land be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reedom’s holy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tect us by thy m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God, 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4:32Z</dcterms:modified>
  <cp:revision>36</cp:revision>
  <dc:subject/>
  <dc:title>PowerPoint Presentation</dc:title>
</cp:coreProperties>
</file>