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F94-C15A-401B-8099-410453DA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A8A-35DC-4C8F-B40F-41684396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AB1-5E80-4E06-BBDA-14A6F14D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CF9-8535-46F4-BF8D-F469EBAB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980-74E0-4309-B118-27C3C2C4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6A8-63C4-4247-ABAC-C097C0A1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584-84D6-4CEE-94CD-1C91E465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6C6-68CD-4ADA-A346-56AA9CEB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3B7-30B2-4468-8D19-EDF98A53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C2D-5861-43AF-BC3D-90FB36F7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841-6EEF-49CD-B23B-07BF826D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2BE-9F88-4AC9-A31D-6162336A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BA6B-227A-4E88-AEC7-1EF1C140E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, on L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Sea De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on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a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s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peace pro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1676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amuel Longfellow, 185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s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ens o’e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eternal stars a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ise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’s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ise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in the Spirit’s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ve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 be bl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ve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 be bl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holy calm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as d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set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s of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out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ing sti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cient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eato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ing sti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cient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eato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our w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urdens lea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’s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res for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we fe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we grie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ed b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urdens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we fe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we grie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ed b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urdens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6:31Z</dcterms:modified>
  <cp:revision>23</cp:revision>
  <dc:subject/>
  <dc:title>PowerPoint Presentation</dc:title>
</cp:coreProperties>
</file>