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F5F-334B-40A9-B4BC-74DD0ACF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495-71DB-4F1F-AD84-B17F4463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3DE-E542-4FBC-9E6A-2EC3F7CF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C30-72E7-4CD6-B533-1B446ADD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64F7-DD5D-4A4A-A78D-B99CC033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677F-E5D2-43E9-87EC-46C83F1F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297A-F3CD-4759-93F4-CC73211B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8F65-AE63-42FE-B2CB-9012EDB0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635A-6B45-4A9D-836F-ADF8401F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5303-1BC8-4798-8377-FE1BDAF3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4A5A-5694-4769-AFFA-81D78F44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6A0-CE99-4145-A7E2-2FCE3E70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66D6-FCA7-4EEF-9D5B-3ED53FF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1CA9-1DC1-4FF1-8192-38076B2A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0224-A76B-43C5-A459-8D70991F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51E5-3B9A-48F5-BF39-C9B67138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2E95-812D-44D0-BC1F-D5FA69F2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5D0-D207-40B2-952B-96B5E08F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DC4-15EC-4A1B-BB44-E456F17B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C3E-8CA6-4137-8883-34B02F2C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C2E-BC47-47AF-9D45-4ECF35BC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F24-09D0-42A7-BD3A-B9C70410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D7A-C3AE-43A2-A710-1840D60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1DD-410F-4EC7-A321-37440984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CE63-AF4F-43F7-90C0-4193CA9A5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7DED-2CC8-4E68-9196-BC89BB3D7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 of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hepherd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King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hepherd i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leth n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1752480"/>
            <a:ext cx="378936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Henry W. Baker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43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 Where streams of living water flow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my ransomed sou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e leadeth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where the verdan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astures grow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ith food celestial feede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 Perverse and foolish, oft I straye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ut yet in love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e sought m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on his shoulder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ently laid, and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ome, rejoicing, brought m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. In death’s dark vale I fear no i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ith thee, dear Lor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side m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rod and staff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my comfort sti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cross before to guide m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049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. Thou spreadst a table in my sight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unction grace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stoweth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oh, what transpor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of delight from th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ure chalice floweth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 And so through al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length of day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goodness faileth never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ood Shepherd, may I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ing thy praise within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house forever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othing l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am 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re streams of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 f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ansomed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re the verd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ures g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ood celestial feed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verse and fool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t I s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yet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 his shoul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ntly laid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, rejoicing, brough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death’s dark va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ear no 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, dear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rod and staf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mfort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oss before to guid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ou spreadst a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s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unction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tow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h, what transpo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elight from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chalice flowe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nd so throug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ength of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leth n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Shepherd, may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thy praise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us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 of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hepherd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6524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 King of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hepherd is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se goodness faileth nev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1371600"/>
            <a:ext cx="378936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Henry W. Baker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95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othing l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am 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8-03T00:43:59Z</dcterms:modified>
  <cp:revision>58</cp:revision>
  <dc:subject/>
  <dc:title>PowerPoint Presentation</dc:title>
</cp:coreProperties>
</file>