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1EF-7FA0-4518-B8A6-AA4EA237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E49-E5D6-4A89-80B4-4A87DF92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03E-613D-462A-A1AB-35EC397E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742-95D1-4B51-8687-E14B6698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57B-F4CE-4F97-B27C-A2163181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4D8-7F38-4B14-9AF4-81883539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D3B-051F-4A4E-B16E-AC492FB1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1CA-B2A6-4FF3-9891-169B73B8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3B1-9781-4E3D-90A1-94052EF3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CF4-0DE1-4CF0-B399-A2279DD5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C73-855D-4DD0-BC9D-97F7470C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16F-3756-4B51-9846-338C4C7C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684-8246-4CC8-B88F-31E9366ED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! the Name High over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!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 over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ll or earth or sk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and m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strat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vils fear and f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0840" y="1092240"/>
            <a:ext cx="49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Phil. 2:9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!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inners d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to sinners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catters a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ilty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urns their hell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ha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ght taste and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ches of his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m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ompas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all the world emb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e I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stantly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l opp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bold to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ious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a world of fo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His only righteous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saving truth procla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all my bus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be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cry, “Behold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Happy, if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atest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may but gasp hi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ach him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y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Behold, behold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9:14Z</dcterms:modified>
  <cp:revision>43</cp:revision>
  <dc:subject/>
  <dc:title>PowerPoint Presentation</dc:title>
</cp:coreProperties>
</file>