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5D2-0F47-4089-8525-0213DD85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6905-B067-4EA6-B55D-C4D04797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3D7-7054-4DF9-96CA-320B21F8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28E-C9F4-4514-BC40-BB5E6A62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920-84E5-49B1-9F41-92A5C658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846-7E99-4897-A04F-1F5E02A0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501-AA09-47FD-9841-C95C46E3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060-A864-4B00-8F10-9BCE2067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F8B-D4CF-4710-B760-56B0F8C1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DE2-6FB8-41EF-ACD8-7D219A7C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B1D-511C-46A7-8EFF-696E145B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9F0-EF35-4CE7-9909-000DA37E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87DE-AF6A-4FD9-B949-B79BF84D1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Can It B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I Should 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nd can it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should 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intere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’s blo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35720" y="1676520"/>
            <a:ext cx="527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39 (Acts 16:2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ptied him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ll but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d for Adam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less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mercy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mense and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 my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found out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3640"/>
            <a:ext cx="9144000" cy="50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mercy all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’Tis mercy all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mense and fre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immense and fre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 my God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or O my God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found me ou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ng my impris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st bound in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ature’s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eye diffu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quickening r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ke, the dunge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amed with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hains fell of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was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ose, went fo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llowe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593640"/>
            <a:ext cx="9144000" cy="50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hains fell off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y chains fell off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was fre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y heart was fre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ose, went forth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I rose, went forth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llowe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No condem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 dre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and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m, is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ive i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iving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the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ness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ld I appro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eternal thr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aim the cr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hrist my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ed he for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used his pai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? wh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eath pursu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57200"/>
            <a:ext cx="9144000" cy="50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ld I approach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Bold I approa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eternal thron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h’eternal thron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aim the crown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claim the crown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hrist my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ing lo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it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, my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st die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93640"/>
            <a:ext cx="9144000" cy="494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ing lov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mazing love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it b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ow can it b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, my Go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hat thou, my God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st die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’Tis mystery al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Immortal die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n expl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trange desig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va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stborn seraph t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ound the dep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ov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mercy al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ngel m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quire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3640"/>
            <a:ext cx="9144000" cy="52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mercy all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’Tis mercy all!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adore;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et earth adore;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ngel minds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et angel min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quire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 left his Fa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(so free, so infini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race!)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4:04Z</dcterms:modified>
  <cp:revision>12</cp:revision>
  <dc:subject/>
  <dc:title>PowerPoint Presentation</dc:title>
</cp:coreProperties>
</file>