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AE9-4B5E-4512-AB90-7BB29338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130-E480-4D38-A550-D9E60777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A60-3061-49EB-B1F6-BEC1661A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825-9DF0-4AF9-8CFD-FBA3BCAD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9F5-5223-49CE-AF94-CFE7446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880-2426-4462-A203-2648B12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756-BB38-4A5B-9B3C-13C7077D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131-BE98-4546-BD10-05A25DC1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529-1A0C-4B99-B8F1-AAD7E15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AD3-BDA2-4268-A985-D99E39DC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BB8-CFD0-4ACB-A205-2999DEF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0A1-CB4D-422B-A837-20775F8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FD03-1E8D-4E2D-BFFA-93B324C5C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Disconso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ye discon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e l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ly kne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93040" y="1066680"/>
            <a:ext cx="676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Moore, 1816; alt. by Thomas Hastings, 183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ring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ell your angu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of the de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st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the peni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less and p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speaks the Comfor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ly s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cu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see the bread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ater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ever kn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ven can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45Z</dcterms:modified>
  <cp:revision>7</cp:revision>
  <dc:subject/>
  <dc:title>PowerPoint Presentation</dc:title>
</cp:coreProperties>
</file>