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D4F-AF81-46DA-B7DB-34C0661F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048-5E57-4BCF-9403-53660506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31B-71EA-4103-8DD7-ED7520C2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D39-BB13-4822-BDF0-97900001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008-B538-4338-BC6D-97FE8DE0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2AE-ABCB-42C5-88AB-15534D44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24E-69A9-4C99-81D0-56B9B71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476-A9EA-420A-AA35-F1D9CCB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3D4-9A45-40ED-B867-A5C39C3E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95C-DA3C-4BD7-92BB-769667B9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0A7-211C-46F3-84E2-6AFE206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FD8-43DF-4D10-AB3B-C1CFB18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738-441E-4C26-83EC-8EEF8D881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orning Star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air and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7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Morning Sta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fair and bri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ou beamest for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ruth and ligh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Sovereign meek and lowly!</a:t>
            </a:r>
            <a:br>
              <a:rPr sz="49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 st. 3 ©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6040" y="14968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 Nicolai, 1599; trans. by Catherine Winkworth, 1863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st. 3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Lutheran Book of Worship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oot of Jes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and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 w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to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sole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and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in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 and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poss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 heavenly Bright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eep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now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n alt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joined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falt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ing doth possess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and bless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s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 and heart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gladne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joy to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 i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rst and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n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g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one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loriou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port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pp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all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r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6:41Z</dcterms:modified>
  <cp:revision>13</cp:revision>
  <dc:subject/>
  <dc:title>PowerPoint Presentation</dc:title>
</cp:coreProperties>
</file>