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3E9-E031-4B8E-B543-C165F720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8F8-3540-4C69-B2D9-3EB752A0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04D-564E-4263-9E21-222DA0B6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FF6-2AF1-4AB3-B504-7D1F2F65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304-8594-4E52-9C4C-7594A679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407-5D16-457D-9B8C-BBAC94B2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221-640F-42DF-81C0-23583249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850-CD15-4654-B172-A3BB139A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106-5992-4C2A-98AF-F8F934E9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F740-F03B-4554-9FF7-27DF8FD9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276-B194-43BF-A99C-F9F065E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5D7-C977-4DC4-9D8C-E325142E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9E69-DDA5-4298-A0DC-B799E9894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Shall They Hea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d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 Perry, 1982 (Rom. 10:14-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ess the truth is tol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sinful be set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rrowful conso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art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y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for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ess they have believ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iven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soner repriev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ose wh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ind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oclai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inners may repen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eac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heralds are not se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end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ife 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15Z</dcterms:modified>
  <cp:revision>151</cp:revision>
  <dc:subject/>
  <dc:title>PowerPoint Presentation</dc:title>
</cp:coreProperties>
</file>