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669-7DF5-40AC-A644-BAF1F706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705-9665-48BB-AF70-676728B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F3F-005A-4C8B-B34B-4496F00C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A29-3DD4-45C5-9824-0BC61B31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97B-8C08-408C-804C-2D3CDD4B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26A4-CC5D-4FEC-AEC2-FE94CCE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2FA0-F89C-4B6F-B9E9-816D196E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68BA-61E6-4500-8AA6-92E363B4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C420-8D18-45C6-8DE1-654CFD9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D2F0-E2DA-4C39-AD71-5596E48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66A-C29F-4301-9643-FB4F814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7B5-0951-495F-8144-500079C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EA9-7E51-49F4-8BE3-35E0093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93C0-A885-42B4-B8E0-37B50FEB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6D83-B9EA-4D44-8A9C-72B67AE0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59E-C107-4CC2-AC29-B72A86CD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ACC-C463-4E13-89BF-BD800477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9E9-C361-45BD-B86B-AB661FA1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794-5C91-4AFE-A4E6-4AF1D75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AE0-D392-41B7-AFBF-DC2963A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B62-F128-4804-AA2E-C9109F5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24B-9DA2-4CC6-B5FC-A68117D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732-2643-4853-AA40-EC64456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384-73AD-4FF4-BE88-480F498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C3F-D728-44F1-8BAF-69107257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CDCF-4EBA-4A3D-AE58-58654B80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41:24Z</dcterms:modified>
  <cp:revision>159</cp:revision>
  <dc:subject/>
  <dc:title>PowerPoint Presentation</dc:title>
</cp:coreProperties>
</file>