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20D-3D65-4041-98D0-3B029FCA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643-6F00-4B88-9AB6-089F347E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970-6370-4912-B431-A8AA7E6D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579-4E06-41F3-BA14-E594B3C2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9CB-31C7-443C-8D40-E019482B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FCC-5AD9-4006-8050-FE0A0DA8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BCC-7227-40B4-BC0C-FC1291FC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706-A009-4C34-81DE-0C39FC20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AE0-3F42-4E28-BBA0-A673B958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5F1-7385-4A56-AADF-A87EE32C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ED4-A0FC-4698-81B4-03ADA60C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C33-9C60-48C3-BF8D-3CB96335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1189-AF9C-4105-B5ED-E39DE31BA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and Ju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and 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Rubem Alves, Brazil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1440"/>
            <a:ext cx="8915400" cy="51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O God, just as the disciples heard Christ’s words of promis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and began to eat the brea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 and drink the wine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uffering of a long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remembrance and in the joy of hope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 in the Resurrection of the Body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6 Fortre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grant that we may hear you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ords, spoken in each thing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veryday affairs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Coffee, on our tabl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in the morning;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the simple gesture of opening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a door to go out, free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houts of childr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park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 familiar s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ung by an unfamiliar fa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 friendly tree that h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not yet been cut dow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simple things speak to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of your mercy, and tell us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life can be good. And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ese sacramental gifts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remember those who do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receive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ve their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cut every d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bread abs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rom the tab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n the door of the hospita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prison, the welfare h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at does not ope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ad childr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eet without sho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eyes without hop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n war hymns that glorify dea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n deserts where o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re was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as also sacrific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y we learn that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ticipate in the sa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crifice of Christ when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ticipate in the suffering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little ones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45Z</dcterms:modified>
  <cp:revision>138</cp:revision>
  <dc:subject/>
  <dc:title>PowerPoint Presentation</dc:title>
</cp:coreProperties>
</file>