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603-C4B2-44A3-A6B2-015B6417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D95-7189-4F10-A178-1E2B3CF0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A21-EE68-4371-841A-CC55379F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90B-9ACF-4874-B25F-C0C889B3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E12-65E4-4637-8F65-6D64535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303-AFDA-4E24-A9EE-56028D3B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6D3-92E3-48F1-85D3-6B6DEAD4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A3C-AEE8-4DF4-BD21-04C4E57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4B6-DE31-4288-83B7-6E2741C8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4DB-D370-4FED-AF7F-1465A342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4C6-B7DF-4C95-BBB7-9B02E181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E33-6A72-4C2C-9BA1-8D0C018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810-925B-400C-872D-FFC2F97A1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hat Their Jo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heir Glory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hat their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glory must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endless sabb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ssed ones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6880" y="167652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eter Abelard, 12th cent.; trans. by John Mason Neale, 18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hom, the Fa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whom, 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whom,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m ever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for the vali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eary ones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be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all 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uly, “Jerusalem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we that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y of pea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jo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h and fulfill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not sev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do things pray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hort of the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, where no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raction can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e sweet anth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Zion shall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or thy gra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voices of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lessed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, in the meanwhi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s raise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 that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yearn and must s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native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our long ex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abylon’s str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w before hi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ises w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hom, and in wh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whom are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07:15Z</dcterms:modified>
  <cp:revision>57</cp:revision>
  <dc:subject/>
  <dc:title>PowerPoint Presentation</dc:title>
</cp:coreProperties>
</file>