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1474-F99D-4DF0-9155-97E1202F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7EEC-B803-4B38-B3EB-52DB3363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A964-3324-4090-9617-6AF93C0D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7654-FAAC-4159-8AA0-B7584CCF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9390-A6F1-4A1D-BDE2-2034A972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8396-B203-45FD-AFC9-1243BB9A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716E-B220-454F-8950-3AD714B2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F889-73F2-4E1F-A9A2-F2A4F526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6AB5-D848-4888-A1CC-FB61583A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B34D-184E-4CE2-BBD3-BD2EA070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1D02-731C-4C5B-8B50-CAF2B430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513F-7428-4A42-A81E-2D59AED4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3B76-51A8-49B8-B6AE-D92A2F9A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94DE-8AE4-4897-AF83-3DF95610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D751-5B5D-4D10-BB35-AFAFCF78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77B1-ED4C-44C3-B1D2-0606B6BC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C53C-1B02-439E-B149-CE612247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E64E-2996-44EC-8AF7-5E67555F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FB94-7C64-48AE-B4EF-FFB28C28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4B6D-D636-4F58-9B1B-1D284913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F660-E51C-456F-9D96-10E80283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8069-1AF9-47F3-A71C-221D9D25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3839-7297-4B8D-BE26-73632DB0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305C-D42F-4F40-8475-C414602D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93D1-A064-4DA3-B88A-BDFA768FF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8129-2A69-4A9E-9802-1527A41E5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ord, You Have Com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the Lakesh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T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ú Has Venido a la Oril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72400" y="22860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7524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WORDS: Cesareo Gabara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n; trans. by Gertrude C. Suppe, George Lockwood,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nd Raquel Gutiérrez-Achon, 1987 (Mt. 4:18-22; Mk. 1:16-20; Lk. 5:1-1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1911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9 Ediciones Paulinas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224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Lord, you have come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lakeshore looking neith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4. You, who hav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fished other ocean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ever longed for b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ouls who are wait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y loving frien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s thus you call 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87280"/>
            <a:ext cx="914400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0492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457200"/>
            <a:ext cx="86868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ord, You Have Com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the Lakesh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T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ú Has Venido a la Oril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72400" y="22860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7524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WORDS: Cesareo Gabara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n; trans. by Gertrude C. Suppe, George Lockwood,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nd Raquel Gutiérrez-Achon, 1987 (Mt. 4:18-22; Mk. 1:16-20; Lk. 5:1-1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9436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9 Ediciones Paulinas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8195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Lord, you have com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lakesh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oking neithe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wealthy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wise on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only asked m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follow humb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479840" y="260028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6765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You know so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ll my possessio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oat carr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gold and no weapo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will find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nets and lab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44792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wealthy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wise on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only asked m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follow humb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1872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1371600"/>
            <a:ext cx="89154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295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You need my h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of ca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my labo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give others r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onstant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keeps on lov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5238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295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You, who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shed other ocea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 longed for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uls who are wai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loving fri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thus you call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187280"/>
            <a:ext cx="914400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5238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676520"/>
            <a:ext cx="86868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Has Venido a la Orilla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4600" y="1676520"/>
            <a:ext cx="8055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Tú has venido a la orilla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no has buscad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ni a sabios ni a rico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an sólo quieres que yo te sig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21932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Venido a la Orilla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14444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52280"/>
            <a:ext cx="9144000" cy="35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Has Venido a la Orilla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ú sabes bi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 que tengo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mi bar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hay oro ni espada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an sólo red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mi trabaj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60020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Venido a la Orilla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14444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Has Venido a la Orilla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676520"/>
            <a:ext cx="73465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ú necesitas mis man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 cansanci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a otros descan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mor que quie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guir aman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37160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Venido a la Orilla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8907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Has Venido a la Orilla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14444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14300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4. Tú, pescad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e otros mar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sia eterna de alm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que espera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migo bueno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que así me llam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Has Venido a la Orilla 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44792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479840" y="260028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1276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You know so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ell my possessions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y boat carri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no gold and no weapons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you will find ther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y nets and labo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57200"/>
            <a:ext cx="9144000" cy="35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1872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457200"/>
            <a:ext cx="89154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1276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You need my hand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full of car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my labor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give others re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constant lov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at keeps on lovi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5720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7-10T13:56:21Z</dcterms:modified>
  <cp:revision>104</cp:revision>
  <dc:subject/>
  <dc:title>PowerPoint Presentation</dc:title>
</cp:coreProperties>
</file>