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539-D5AD-40AA-BAAA-EA42985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41F-271C-4D02-A516-77984E8D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8A8-7523-4B0B-A99B-BB6693BA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E11-C6FE-45DE-A534-ABCA3E2A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FBE-AF8A-4D76-A7A3-71483A65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D71-EA90-455D-A330-1B4063E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45E-A9AA-40D5-890F-2478BD0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28A-3EAB-4BB7-AF27-B9A2DECE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82A-D470-4192-874C-055FE7F4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B03-9443-47E2-90FE-F5FE922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D12-5044-479D-97C3-C649B74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4B5-1BF4-4519-A212-2FA8F39B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127-E8CA-4D98-8798-14C106D21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e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Clouds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, he comes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desce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ce for favo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ners sl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0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a, Amen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adore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n 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tak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and glor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 the kingdom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ne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God, come d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sand,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t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ll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appear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to re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 ey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b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dful majes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set 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ught and sold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rced and nailed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 tru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iah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dear toke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assio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is dazzl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dy b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use of end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is ranso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ze we on tho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sc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01:34Z</dcterms:modified>
  <cp:revision>56</cp:revision>
  <dc:subject/>
  <dc:title>PowerPoint Presentation</dc:title>
</cp:coreProperties>
</file>