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96E-E878-4862-9642-BF51C5BE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7CB-DE67-4DCF-A2CB-C67990A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38F-1970-46F2-9CAB-86FBC7E7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ACB-3616-40E1-9C16-FE458E29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5DE-0456-43C0-89BD-2473B6B4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B8D-105F-4C95-BE62-751615C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C90-DFF6-4F91-A7D7-43D82227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0C5-4869-4D7C-9CAF-1BD526E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149-3833-4E44-A3C1-B430F139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7D9-53AF-4300-A463-F49A827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F07-6AC4-457C-936A-45754FA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D61-07F6-49F9-9FCB-8B6C341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369-1393-4A74-B2D2-5DBD7E82A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080" y="1066680"/>
            <a:ext cx="32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Matthew 6:9-13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as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espa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espass agains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 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lory 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44Z</dcterms:modified>
  <cp:revision>24</cp:revision>
  <dc:subject/>
  <dc:title>PowerPoint Presentation</dc:title>
</cp:coreProperties>
</file>