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C578-27DB-4250-9349-DA5DEF1D2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FE2D-6AFE-41B4-9935-2D85B80F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6EBA-B4F3-48A8-9389-461C05E9F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E0C5-35AA-4E94-88F5-734CBB3B1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D699-BABB-41F5-B9C7-0A099F409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EFDE-7BD6-4B73-9921-6EA0A3BC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AFE8-AA00-48C0-961B-B7AD913A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A44D-334D-4ACA-90F9-C716DEC3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ACBC-D84B-42EA-9D32-5DA2B77E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1AC9-9F5B-41F8-AA27-12D98355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8F03-2DEE-4F4C-9741-256EF1A6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6EE8-88D5-4D08-9623-8B531969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2BF50-AB67-4E43-89A1-A7013003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CD77-3864-42E2-8770-4240475F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6628-D7C9-4462-AEC9-C779AF91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9050-D240-4E71-ADA3-9FF98CA3B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4C11-1B23-4932-925D-8B73AB5FB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9757-74F0-492D-896B-63589AFC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4689-899E-4F5D-8561-DB98499D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F1DB-0DC9-4E03-9791-DFE0B783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0633-3DB8-41EC-8E8A-21C0F21E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1F4F-0811-4210-A83C-B3A7E3E4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C295-7E8E-4481-9123-344C7DC8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4679-5940-4D74-A0C3-B744868F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611B-B1B8-4B0D-A816-1C393DC0B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F3EC-E75F-49E6-B7A8-FE3A4F6E0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lessed Assur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43800" y="15228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447920"/>
            <a:ext cx="9144000" cy="405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1. Blessed assurance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Jesus is mine!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O what a foretaste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of glory divine!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8800" y="838080"/>
            <a:ext cx="354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anny J. Crosby, 18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14400"/>
            <a:ext cx="9144000" cy="405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watching and waiting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looking above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filled with his goodness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lost in his love.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304920"/>
            <a:ext cx="9144000" cy="52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5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all the day long;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405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all the day long.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lessed Assur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543800" y="15228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47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Blessed assur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min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what a foretas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lory divi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8800" y="838080"/>
            <a:ext cx="354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anny J. Crosby, 18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ir of salv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rchase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of his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hed in his b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3049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day l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day 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Perfect submis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rfect de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isions of rap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burst on my s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gels descen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 from ab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choes of merc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spers of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38088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day l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762120"/>
            <a:ext cx="9144000" cy="405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Heir of salvation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purchase of God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born of his Spirit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washed in his blood.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day 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Perfect submis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is at re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in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 happy and bles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tching and wai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oking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his goo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t in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3049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day l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day 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lessed Assur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Blessed assur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min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what a foretas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lory divi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8800" y="1168560"/>
            <a:ext cx="354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anny J. Crosby, 18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ir of salv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rchase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of his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hed in his b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day l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day 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Perfect submis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rfect de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isions of rap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burst on my s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04920"/>
            <a:ext cx="9144000" cy="52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5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all the day long;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gels descen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 from ab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choes of merc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spers of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day l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day 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Perfect submis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is at re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in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 happy and bles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tching and wai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oking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his goo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t in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day l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day 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050840"/>
            <a:ext cx="9144000" cy="405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all the day long.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914400"/>
            <a:ext cx="9144000" cy="405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2. Perfect submission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perfect delight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visions of rapture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now burst on my sight;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914400"/>
            <a:ext cx="9144000" cy="405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angels descending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bring from above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echoes of mercy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whispers of love.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28600"/>
            <a:ext cx="9144000" cy="52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5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all the day long;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914400"/>
            <a:ext cx="9144000" cy="405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all the day long.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974880"/>
            <a:ext cx="9144000" cy="405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3. Perfect submission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all is at rest;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I in my Savior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am happy and blest,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6-18T01:13:45Z</dcterms:modified>
  <cp:revision>20</cp:revision>
  <dc:subject/>
  <dc:title>PowerPoint Presentation</dc:title>
</cp:coreProperties>
</file>