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962-4630-44B5-BA6F-C6900552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1A0-A397-4AA4-A1E1-3B28AB36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B7F-AC92-4F0F-93B1-3CA579E4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E0F-42CB-4197-96C5-DAA01460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6988-D83A-4C14-8F7B-64839E76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DD52-665F-4176-86F6-63A22277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7BCC-9422-46BC-9BED-37D7D8FB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2F41-EFB3-440D-BE90-A1857F36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9D09-2283-417A-B7AD-EC0699EB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5D23-9902-4656-9E37-8DE391C2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47C0-B161-48A6-A2CC-E4EF6C71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EF8-9CF5-44AA-AA82-D8BC6685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6B9C-F008-4B49-8EF3-E2D99EB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E4A1-F070-4857-84F8-3AADA468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A764-00F0-453E-BD73-BE56DB04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A4B1-D968-459A-BAFA-E2A9FFB8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C192-F0EF-4CA3-941D-FB9A8CFC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842-65EF-423A-9839-3343E26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5CF-5533-4D1E-B021-505E4DD2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E2D-0BC2-4674-AC16-0224C9C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5A8-91FF-4BEF-AF10-C20F8095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557-CA9D-4E3E-A7DE-A8D81FE1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083-3610-482F-A01E-0FE0865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BD3-03BB-47C6-A698-2A56F24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FB5C-51A3-4616-B130-1B9849A4C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E637-7EC2-4572-B62F-DC0FFE154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the World’s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is the world’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in our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became our br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99000" y="109224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43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we have see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seen 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 is the world’s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ne can ser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spise anoth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else un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in God the Father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hrist is the world’s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d once for sil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rdered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, who redeem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with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, Son, and F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ro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we have see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seen 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 is the world’s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ne can ser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spise an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else un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in God the Father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hrist is the world’s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d once for sil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rdered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, who redeem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with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, Son, and F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ro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the World’s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2404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is the world’s ligh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orn in our dark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 became our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9000" y="762120"/>
            <a:ext cx="3574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24T23:32:20Z</dcterms:modified>
  <cp:revision>43</cp:revision>
  <dc:subject/>
  <dc:title>PowerPoint Presentation</dc:title>
</cp:coreProperties>
</file>