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E96-1701-4801-96CE-1A060657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86F-7AAB-4D3B-8EAD-18F282F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A4D-A882-487B-A663-2AEB5FF0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B14-B3EF-4683-97B4-3710F6C1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CCC-A72F-43E6-A43F-163E03AB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1AF-85CF-440E-A243-AF49600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12A-A928-42F9-8A56-20A2450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8EE-C8D2-4B45-82B4-76F706E7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906-2824-47FB-89AC-790563E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4D1-FE23-4ABD-888A-3887023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34C-38BF-4500-B873-D08785D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D80-2B4A-40ED-ACF9-BD9BF9B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8F26-B24D-4481-A616-EB7770118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t’s Sing unto the Lord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antemos al Se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6836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glad rejoic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ew da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Resource Publications, Inc.; 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2520" y="1625760"/>
            <a:ext cx="741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95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anunciando su bellez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3716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68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666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egrí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nacer el nuevo dí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7:39Z</dcterms:modified>
  <cp:revision>11</cp:revision>
  <dc:subject/>
  <dc:title>PowerPoint Presentation</dc:title>
</cp:coreProperties>
</file>