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1C8-0F32-40CD-8FA5-B9143192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E90-0427-4899-98DF-E93CA41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B98-2CD2-4101-AD8E-E6BDCCA2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871-54B6-4A48-A048-9EE404B9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3CE-F5A8-45E0-A8E5-7DEFBD30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45F7-3259-4599-AF0F-DC73B353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1FF7-5352-4A28-91E5-C34B12CD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AAD2-FD28-4832-9028-0525E0C5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7A0-419B-45F4-B841-EC6D06E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0A5D-80D3-4290-AB6A-57D5B82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7954-2FC7-496C-A9E6-8B990498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97B-FC00-4E2A-B0FA-DDADC4A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C17-2671-46F0-A6D3-0CB14E2F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2B5-3D9D-48F1-ADD6-CB09EFC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277-861A-4CFE-8BFD-CD40B4B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007-E9D9-4888-98EC-A015E85B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1C68-EB23-48E6-B8D6-FB5D75EF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91B-F4DC-4190-BA32-FA4DEE4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49-96E6-443A-AD96-99F81EA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FFC-A6F1-4486-8B18-7FA4FC4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E61-CDA9-4BA0-9FCF-B1BC574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361-E2C9-4B33-B4B5-E100A52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7B8-1758-4AC6-A958-0103F3F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1DD-AF9F-4ACF-8FBF-6726DA9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DAB-DB57-4F07-859D-252545758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3281-2C1C-4A57-BB33-ADEAC170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cp:lastPrinted>2001-10-29T20:41:57Z</cp:lastPrinted>
  <dcterms:modified xsi:type="dcterms:W3CDTF">2007-09-15T01:34:51Z</dcterms:modified>
  <cp:revision>112</cp:revision>
  <dc:subject/>
  <dc:title>PowerPoint Presentation</dc:title>
</cp:coreProperties>
</file>