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527-1788-4DBF-9F41-BB249AAD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A2C-5999-4EBC-909C-0FC321CD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0EA-DFB4-48B7-8B4C-E01BDA21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1F2-91E3-4C49-B4FF-460C6E91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991-B74A-40CB-8EDF-4A1D95A0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94F-ED51-4796-830C-584AB363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801-ACA2-4E6A-9481-1123AB94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1BB-086B-4AA8-8821-79D1B245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CAB-FB49-4241-B1F9-C0B3AF35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E5D-60E4-491D-94C1-1D372F23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FF7-1CDC-4F19-8603-51EA0DF9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A31-3BEC-46D0-9C3B-8B37BDC4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F095-934C-48D1-BBBB-1D773881C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 How Gre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Flame Aspi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See how grea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flame aspire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indled by a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ark of g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4320" y="1676520"/>
            <a:ext cx="64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Lk. 12:49; 1 Kg. 18:44-45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glor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d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alon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hath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thy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of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who sp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from na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aw ye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loud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 ha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t spr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gs o’e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irst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sh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ops al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shortly p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fi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s the kingdo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bla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fir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e c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led in 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it i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at all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tch the 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rt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bli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he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all and fee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his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Word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ly r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t w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widening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spreads and g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vai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’s strongh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now o’erth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kes the tremb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avior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e d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opened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18Z</dcterms:modified>
  <cp:revision>14</cp:revision>
  <dc:subject/>
  <dc:title>PowerPoint Presentation</dc:title>
</cp:coreProperties>
</file>