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E39-8399-4C64-8B82-D905D4C1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0BD-110A-4E5C-9EBC-E0BAB94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0BE-A097-4423-9A4C-65441B4C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A95-8446-4E79-972E-FFFC70F3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9D9-98FA-4439-BC06-0EA6B8FB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326-718B-4434-999B-2B6D2884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811-140D-4B40-8D3A-C21264E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9BC-ED75-4774-8429-5DF026E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2F0-517C-44B8-9A43-972FBAE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599-DE3C-4A91-8E61-43C7264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869-DE3B-486C-A528-69B1CC1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6C6-4EED-4F25-8E2E-8EEB77E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D0F2-20C0-433C-A139-F97221B7B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in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O God in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to thy child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y and bl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ngs never ceas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Christian Conferen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16880" y="1143000"/>
            <a:ext cx="65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na G. Maquiso 1961; trans. by D. T. Niles, 19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unit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redeem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,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ious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we br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e shall 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pirit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is the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for the nee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ed in our kin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our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ad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2:46Z</dcterms:modified>
  <cp:revision>37</cp:revision>
  <dc:subject/>
  <dc:title>PowerPoint Presentation</dc:title>
</cp:coreProperties>
</file>