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BAA-6315-4A74-A011-2AB4A407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637-6C52-4A99-BA46-EAB33D98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A71-37A5-4B9B-BEE5-6511F771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2C7-0B87-429C-83B1-B1FF6DCF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746-B4AB-4276-88CB-F3FAB388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41B-7BA9-4D56-82DC-A50E1436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880-BE58-4162-8D8B-C5DCDAC5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CEE-8494-428D-B276-A092EDFD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766-854E-48D6-AE98-BC8AD65B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AEB-B0F9-4CC3-B3FD-BD8F10E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C15-6283-41EA-8918-FB9D0281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CBB-FC51-4FE0-BE48-89E08526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1BE3-6AC3-4CC7-BD5D-8BE39326B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lmighty and everlasting Go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t is your will to restor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ll things to Christ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hom you have anointe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priest forever an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uler of creatio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23516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rant that all the peopl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f the earth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now divided by the power of si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may be united under th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glorious and gentl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ule of Jesus Christ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128680"/>
            <a:ext cx="8686800" cy="261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ho lives and reign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for ever and ev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0:31Z</dcterms:modified>
  <cp:revision>22</cp:revision>
  <dc:subject/>
  <dc:title>PowerPoint Presentation</dc:title>
</cp:coreProperties>
</file>