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158-095A-474A-9D60-4105A13C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2F1-6770-426C-A93D-B66E53CB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80C-131E-4889-AAD2-87C1D190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552-DFD6-49D9-A205-7B6D3B19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C2D-CDB3-4119-A5B3-145F8A8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015-AD21-4E0F-9637-1F61A87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666-CAC5-4F2E-8FA6-008E4C9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CC3-217B-4051-BEA6-A66BDBDE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2DF1-74E1-4ADD-A19C-91E9F67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91B0-7A5B-4879-AAA8-129C652D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3EE-3494-4E82-A1AE-396EB5B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E2B-23DF-4B2E-873A-D5E0596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07A-3B5E-42F8-BD3D-5C0A16E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DCDC-2514-4845-81DD-B0D7909C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252-3EC7-459C-BB8F-2678272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48E-2BFA-4302-A2BC-A42ADC2E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917D-2C59-4226-A666-6DF67B64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675-E702-407E-AB31-D7032AAB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7CA-233C-475E-BC88-E674A4A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A44-5FFB-4B91-9DC5-D018BEA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C94-5D97-402C-886B-9EA60B55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0EF-CF46-4337-8CDA-74B219C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CBF-9798-4EA2-B612-E545452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14A-BB06-46AE-A289-3DA53E8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326-0C35-4280-ACCF-3CDE69CDA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798-BDDA-4432-A758-BD827FCE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477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477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096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968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46:53Z</dcterms:modified>
  <cp:revision>56</cp:revision>
  <dc:subject/>
  <dc:title>PowerPoint Presentation</dc:title>
</cp:coreProperties>
</file>