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5DB-47AA-4A24-AD73-2D61FE99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710-D1D9-493C-85D8-70F4AC51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5D0-C697-426B-B4AB-5288EE1D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620-4674-4728-A653-A335174B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B95-46CF-4590-952B-F67032DE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002-BF4F-4E51-AEBF-9407BB2E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199-6242-4FEA-9F4D-497A9C13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86C-8651-4742-953F-6F5CBC9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9D3-CF92-49D0-8541-868E6757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4A4-A75A-4D3C-AA7C-3F6011D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B44-B059-4DD3-8014-7E1F2DE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1FE-E9EC-4CB7-A3BD-F152FB4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02F3-501D-4B40-80FF-6A3FF94C0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e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terson, 1984 (Lk. 24:13-3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 the d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mmaus we ret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ing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ing,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pened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convic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urney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cen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throug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97360" y="1879560"/>
            <a:ext cx="674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confu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ed, and fright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ome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n this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s a ques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What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roubles you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5904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ets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in and suffe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alks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our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come from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ing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hear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s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cripture’s mean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peak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we n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stinat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nger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our urg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tays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Day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or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gu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s the 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59Z</dcterms:modified>
  <cp:revision>64</cp:revision>
  <dc:subject/>
  <dc:title>PowerPoint Presentation</dc:title>
</cp:coreProperties>
</file>