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1FAC-623E-42BB-9DAE-D5ACA2A2D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CD0E-A105-40AE-BD41-DAEBBD13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2C47-43A5-4E15-9C4D-DBC32603C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0BDC-5E54-4566-9E7C-83E604E70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4F17-3A39-4267-AE46-EEFC441E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AA8F-C589-4C8E-9C0B-63E86F53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E641-C537-4ED6-BA4A-D647C530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65F4-A5F9-4A3C-899A-784CDC6C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8F0D-CD91-46C1-A7A2-148B8A4F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E3EE-5A3A-41A9-A626-5D3EA670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E73A-8857-49CC-92A1-C1CA6B71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C26E-D4B4-40CA-8ECA-CF70BF3D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C6D4-EEE2-4A59-A938-51BE3B25F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raise to the Lord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Almigh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3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95480"/>
            <a:ext cx="9144000" cy="349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Praise to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lmigh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 of creatio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sts. 2 and 4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to the Lord, the Almigh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7520" y="1600200"/>
            <a:ext cx="788472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oachim Neander, 1680; sts. 1, 3, 5 trans. by Catherine Winkworth, 1863;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st. 2 by S. Paul Schilling, 1986; st. 4 by Rupert E. Davies, 1983 (Ps. 103:1-6; 15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Praise to the Lor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et all tha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e adore him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at hath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now with pra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him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to the Lord, the Almigh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 am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nd from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ople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adly forever adore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y soul, prais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he is thy heal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alvatio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ye who h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o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mple draw nea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in me in glad adoratio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Praise to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o’er all t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wondrously reig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rs thee on eagle’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ngs, e’er in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ing maintai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to the Lord, the Almigh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care enfol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, whose tr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od he uphold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t thou not kn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sustaining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76212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Praise to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doth prosp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wor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efend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rely his goo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ercy here dai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tend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to the Lord, the Almigh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nder ane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the Almighty can 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with hi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th befriend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Praise to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doth nourish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and restore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tting thee we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tasks that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 before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to the Lord, the Almigh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to thy ne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as a m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th spe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eading the w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race o’er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59:36Z</dcterms:modified>
  <cp:revision>58</cp:revision>
  <dc:subject/>
  <dc:title>PowerPoint Presentation</dc:title>
</cp:coreProperties>
</file>