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83D-5BF0-4134-ADD8-E20D6A71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EC1-0AA5-43D5-ACAA-49396667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BA6-D1E0-4486-A232-6501FC7F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3C4-D61C-4CA1-8BC0-E77B41F9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D64E-4FB9-49AA-999B-E4DAF12D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C89-D549-44EB-9997-173FB8F7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5A5-93B2-4668-B118-C4591265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A3C-78FA-47AC-832D-61357F3A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4F3-A058-4777-AFF6-41EB3209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7DC-A6CA-4B74-B437-8DE8EDEA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824-0750-43A4-A0D7-8AA6D9A3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A30-74F3-492B-86F7-53C7A380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1592-6EAA-44AD-88A4-0825C7001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 New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98108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give you hearty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rest of the past n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r the gift of a new d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its opportunitie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leasing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 New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97520" y="1219320"/>
            <a:ext cx="27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astern Orthodox Prayer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003320"/>
            <a:ext cx="876312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we may so pass i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urs in the perfect free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your serv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at eventide we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gain give thanks unto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9:27Z</dcterms:modified>
  <cp:revision>14</cp:revision>
  <dc:subject/>
  <dc:title>PowerPoint Presentation</dc:title>
</cp:coreProperties>
</file>