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53A-2915-44FB-85C0-4F3BC7F0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B0EB-7766-48C7-8F40-17A49838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2FC-1916-4D2F-9DD7-EA57F33D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5F5-C86B-44F2-BC80-DFEA509B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A6C5-C8E3-4EBE-B589-D4E8CFA9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099F-59AF-4617-8369-56B4F4D4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A54F-D180-4071-8797-4819CD58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D1EF-EE14-454A-A3AC-F53DDA86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5E3C-9B2F-4674-A901-25EA95A8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A1EE-4CD4-4C6E-B4D0-5DF81C9C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90AC-F932-4F9C-8CCB-217A1E06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8DB-6DBB-4056-ACB1-35803B43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5341-ABC7-4527-8670-D3E81E6A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ACA4-4D00-481A-A8D3-3C51DB5C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A81D-F5E2-4FEE-A2F3-0140D9A2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E165-F5E4-4617-86CA-382BECD3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FC71-A9D8-443A-9AA0-F7A4DD37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8B6-43DF-4A0E-A83E-C828F124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47FE-B7CD-48A3-A7B8-5E719D9D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0341-523D-4925-88BA-67A38011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3577-D4B0-4E32-951D-18CFCAC0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5CD-738B-45FC-A9CD-F5E827A5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848-14BB-4AA6-8773-BE9E44EB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8B85-BB69-4A60-A699-908DD5C6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8769-1C41-4EDA-A6E3-0707FD58A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5E74-DC66-4DBD-9CCA-A676852FB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sed Be the God of Isra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193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Blessed be the God of Israe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o comes to set us fr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o visits and redeems 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ants us libert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0840" y="654120"/>
            <a:ext cx="49860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Michael Perry, 1973 (Lk. 1:68-7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m g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era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erunner in the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phet of salv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arbinger of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n prison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begins to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daw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forgiv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on the sinner’s ey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uide the feet of pilgri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ong the paths of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bless our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ong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ver cea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phet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poke of merc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freedom and releas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od shall fulfi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mis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bring our people peac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33520"/>
            <a:ext cx="9144000" cy="481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2. Now from th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house of David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a child of grace is given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a Savior comes among u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to raise us up to heaven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3352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m goe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heral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forerunner in the wa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phet of salvati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harbinger of day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. On prisoners of darknes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begins to ris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dawn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forgivenes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upon the sinner’s eyes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1276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guide the feet of pilgrim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long the paths of peac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bless our Go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vio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ongs that never ceas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sed Be the God of Isra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00200"/>
            <a:ext cx="9144000" cy="473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Blessed b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of Isra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comes to set us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visits and redeem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ants us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0840" y="1143000"/>
            <a:ext cx="4986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Michael Perry, 1973 (Lk. 1:68-7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ph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oke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freedom and rel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shall fulf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bring our peopl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w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use of Dav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child of grace is gi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avior comes among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aise us up to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27T01:24:58Z</dcterms:modified>
  <cp:revision>53</cp:revision>
  <dc:subject/>
  <dc:title>PowerPoint Presentation</dc:title>
</cp:coreProperties>
</file>