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252-CA54-4921-BC82-DCB66AD8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E78-B261-4FA4-BEB4-FFF58F05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B54-1352-4B2F-AC3E-555DB9FC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3DE-54A3-447E-B7BB-9230EE6A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FA9-985F-4FDD-A4DC-8A7A6714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BB8-D963-49B7-B14A-E8AEE659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692-4BE5-475D-AD2D-BE897155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93A-15FA-4EB1-9D74-65A359E6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317-E188-4D17-ABBD-76E76A24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25A-CBAC-41C9-9026-0E3B9FAB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02B-53F8-49A7-A881-CC266272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57B-459E-4E95-8D21-B1D3A929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B793-0EBF-4F41-8035-E45DAD64A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86868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you have knit together your elect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in one communion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and fellowship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in the mystical body of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r Son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S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8640" y="1066680"/>
            <a:ext cx="37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92280"/>
            <a:ext cx="868680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Grant us grac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so to follow your holy saints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in all virtuous and godly living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that we may come to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those unspeakable joys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771560"/>
            <a:ext cx="8686800" cy="333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hich you have prepared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for those who sincerely love you;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56:29Z</dcterms:modified>
  <cp:revision>21</cp:revision>
  <dc:subject/>
  <dc:title>PowerPoint Presentation</dc:title>
</cp:coreProperties>
</file>