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B9B-D3A3-45BA-A7EC-F9DE5E1C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0AA0-22EC-45C9-8D39-395E9E14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8EA-9BBC-460F-85F6-FCC4C324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230-B5D1-45D9-A5C5-15AFB9C0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3CFE-C373-4621-BDDA-4C09B51A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196-4ECD-4524-A06C-BEF49885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CACB-B0B9-48CA-B401-C069D50A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895-AC2B-4A3D-A76B-FA5A0340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ED2-DDD5-42AC-901E-3E702A69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EE3-C617-42A3-BB78-882604E4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B3E-85D6-4AEF-B992-D0333D30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372-B46E-45ED-815C-7BB33801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7DEF-B759-4EF1-96E7-888E028A9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228600"/>
            <a:ext cx="93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l Shadd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l Shaddai, El Shaddai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l Elyon na Adonai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e to ag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’re still the s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e power of the n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Whole Armor Pub. Co.; administered by LITA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Shadd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39960" y="1066680"/>
            <a:ext cx="54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ichael Card and John Thompson, 198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55268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l Shaddai, El Shaddai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rkahmka na Adonai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prai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lift you hig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l Shadda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4:02Z</dcterms:modified>
  <cp:revision>40</cp:revision>
  <dc:subject/>
  <dc:title>PowerPoint Presentation</dc:title>
</cp:coreProperties>
</file>