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DB1-4F0B-406F-8A39-5A2CC866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FA6-64F3-47C6-B775-17FD875C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AE7-6864-42B1-993D-DC8B046D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6DD-F032-4523-9FF0-C2DDB6CF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E49-CDD0-4076-B863-4686BB99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6F2-9C15-483F-AAAF-C95C7313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9D3-C5AA-4660-B5FB-A29562B6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DE8-3B88-43F1-B973-A4B15DBA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0FD-C835-40B6-BD46-6378753A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DCC-B8E4-449F-BA2A-37A914D6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F93-5904-4956-A126-6164853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D32-761B-4449-9B6A-CD0CC8E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B689-6E73-407F-A102-56DEB89FA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Love Is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Wren, 1978 (Gen. 1:27; Jn. 2:1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love is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comes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nd be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wo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love be f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eath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roke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explo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s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aker’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has flow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and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both each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may d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ach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’s warmth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and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ruth and 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is t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d ones chan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still to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all seems stran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se retur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grow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listening 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pened ey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is t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be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strength 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orments f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r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core of w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r through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Easter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 or yo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sband, w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7:36Z</dcterms:modified>
  <cp:revision>145</cp:revision>
  <dc:subject/>
  <dc:title>PowerPoint Presentation</dc:title>
</cp:coreProperties>
</file>