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3FC-A0E5-491C-8250-486F2B2D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C95-7821-44C9-B5D1-F77F2601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02A-A6EA-4D4A-9F18-6C37E931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314-DB93-4494-8B89-55DFB855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265-A43A-4152-B133-D999CDE5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FDB-6813-4AD2-8D8A-0D8A1C1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799-46CB-46B6-B5EE-B9780E0B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309-54FD-493F-BCCC-34C3AE87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567-419B-4C1B-B09C-A9B0134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3CA-9299-4500-A1BD-4EB748B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5A2-8EA2-4BF3-87E1-2AEF244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32A-1504-40CF-A316-9B90950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781-DCB3-4227-B448-0B7EC5F76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ope Is Buil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hope is b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nothing 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Jesus’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ghteousnes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953080" y="116856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Mote, 183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he sha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mpet 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I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be found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ssed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ness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ultless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thron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re not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est fr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lly l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esus’ na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darkness ve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ovel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o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g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ormy g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nchor 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vei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6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oath, his coven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ort m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elming flo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gives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hen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and st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0:55:49Z</dcterms:modified>
  <cp:revision>21</cp:revision>
  <dc:subject/>
  <dc:title>PowerPoint Presentation</dc:title>
</cp:coreProperties>
</file>