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70C-6773-42DA-B62F-81E3BE06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39B7-FEEB-4DA7-874D-F2D8B985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F3F-3FF1-4409-AD0C-A8EB04DC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CE37-0B05-43E9-8745-7CA5B0C6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C3F5-61F6-4464-AFF0-0E83618E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6557-7278-41A7-91A8-8764E3BE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7E70-3474-4A2B-BC99-A864CF6E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6431-9D52-4B5F-AA14-A4C2A8C8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B793-8B6C-4F54-A56B-221BAB9A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6F88-4BD5-46C9-95EF-7144CAE9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8D07-7D46-40AB-BA39-34D3BE8B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7100-7FFA-4169-B640-09375F44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0DC5-35AC-4592-BC6A-C3972FD1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6279-6E6C-4431-83CD-710BC7EE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5EAF-CA02-40E7-AFC3-707A77BD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0E27-0629-40B6-AFFA-DA7862FA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BE5A-A297-46E0-BC5E-5E9B4BF3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D606-09D6-468C-B081-547237B0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5F7-16F7-4F48-B3E3-9692D5E7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F9C-8DE7-4A90-89ED-62A8D315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5C07-34FB-46EC-B4D9-92A54E06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3FA1-BB76-4059-9A64-AA8CB2E9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F5EE-D9C5-432C-A7CB-075E48B1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F3C-2EB7-4C6F-82AF-32FC0F08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2109-D85C-4540-B8E2-54971EEA7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E1C7-178E-4313-B4A8-B22C3DCE6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at Wondrous Love I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907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USA folk hym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hat wondro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ve is thi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my soul, O my sou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at wondro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ve is thi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my soul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37160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And when from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eath I’m fr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ll sing on, I’ll sing 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when from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eath I’m fr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ll sing o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en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I’m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i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through eternit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ll sing on, I’ll sing 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through eternit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ll sing 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at Wondrous Love I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907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USA folk hym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3716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hat wondrous love is thi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my soul, O my sou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at wondrous love is thi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my soul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wondrous love is th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caused the Lord of bliss      to bear the dreadful curs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my soul, for my sou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bear the dreadful curs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my sou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at wondrous love is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y soul, O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wondrous love is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wondrous love is th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caused the Lord of life              to lay aside his cro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my soul, for my sou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to lay aside his crown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my sou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858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To God and to the Lamb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will sing, I will si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God and to the Lamb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will sing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God and to the Lamb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 is the great I AM,                while millions join the the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will sing, I will s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ile millions join the the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will s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7333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And when from death I’m fr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ll sing on, I’ll sing 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when from death I’m fr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ll sing o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at wondro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ve is th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caused the Lor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blis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when from death I’m fr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ll sing and joyful be,                    and through eternit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ll sing on, I’ll sing 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rough eternit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ll sing on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ar the dreadful cur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soul, for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ar the dreadful cur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51776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at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y soul, O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ause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of lif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ay aside his cr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soul, for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lay aside his crow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To God and to the Lamb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will sing, I will si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God and to the Lamb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will sing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e La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 A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mill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the the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sing, I will 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mill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the the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4-04T00:52:12Z</dcterms:modified>
  <cp:revision>53</cp:revision>
  <dc:subject/>
  <dc:title>PowerPoint Presentation</dc:title>
</cp:coreProperties>
</file>