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B7F-D988-4D76-8B35-95D5047E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91C-1BE3-416B-9B53-648952D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4AE-5C95-4BEE-A9CA-C71D837B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F16-8EC4-43F3-92D7-AE313C41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EC1-ECE8-4B71-AC3C-9556143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150-60C2-433B-9B72-2297F62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B47-7F09-4FB0-8BF7-4187AE7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213-161A-4E0F-97E3-75F98B8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CE3-0D91-4CB8-B082-A9C82411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C1B-23BA-40C3-9099-FFFE4D1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951-4733-4C53-A9F6-362FD35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A00-4FCC-47F7-B985-BA02EE5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4D9-1728-4080-B656-80BCA5675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pe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ri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our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by conflict r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1066680"/>
            <a:ext cx="378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ia Harkness, 195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b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ospel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, thy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nsuming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ims are sp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if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st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to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bread of l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u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l earth’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all bitte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oot on dusty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o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path of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thou bes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tempting by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re us awa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endless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gu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nder back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y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ou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se them as thou w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is sign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grief and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57Z</dcterms:modified>
  <cp:revision>10</cp:revision>
  <dc:subject/>
  <dc:title>PowerPoint Presentation</dc:title>
</cp:coreProperties>
</file>