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3C5-3A57-4D9F-A4D9-C94CFF15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A9D-AE9A-4D49-B147-2AAA72FC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248-956F-484F-88C3-9C8E34DA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013-2CF2-4287-A91B-CB6172CF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EB1-2822-4018-9B8F-E98DE877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917-05CD-4E22-AFAA-CD414474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DF7-DFB2-419B-813B-FC468C90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BEF-6149-4DF3-9081-68682A52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F18-154B-4F9F-9E34-2845354A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BEA-E7BE-4AB1-980E-46752A93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946-B839-4474-960D-510C644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37E-0CE6-495E-8765-874287D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806A-AD74-4BD6-9D10-8DB415485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a Maid Engaged to Jose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To a mai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ngaged to Josep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 Gabriel cam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“Fear not,”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 told 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“I come to bring good ne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2640" y="990720"/>
            <a:ext cx="5059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Gracia Grindal, 1983 (Lk. 1:26-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come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shor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child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God’s chi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As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d the ang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wondered at his wor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Behold,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handmaid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said unto he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be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ccord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w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new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 to tell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ne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ay, good ne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you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ly favo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God the 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even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with you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most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chos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blest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38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ut Mary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troub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the angel’s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wa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 say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roubled her to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’s mess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roub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 to h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“Fear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od is with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 shall bear a chi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call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off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shal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ever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gh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“How shall this be?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id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am not yet a wife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swered quickly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The power of the Most Hig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7:43Z</dcterms:modified>
  <cp:revision>59</cp:revision>
  <dc:subject/>
  <dc:title>PowerPoint Presentation</dc:title>
</cp:coreProperties>
</file>