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3E8-3449-4827-A7C8-9063DF37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D41-C636-4380-82AA-541A01B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49D-FA92-4064-90FF-B639BA06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06A-6557-4E2C-9A5E-8C5D95D9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ED7-41B7-4B18-9AEA-C22A77C8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A04-DCB3-4931-8E03-1493483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821-FC9F-47AB-9F91-6672B8E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F7E-7BF7-4BB8-B870-8326741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51F-32AE-4971-91C1-8AACD8D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196-6BCF-4933-AD5E-CE64765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48E-62B5-49E6-9927-5BD9B55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439-70F7-4DAD-B6E3-70EDA0F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16F-0A07-4EDA-9831-486F72F0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 and Dwell i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nd dwell i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power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, fear, and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1680" y="1066680"/>
            <a:ext cx="728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2 Cor. 3:17; 5:17; Heb. 11: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sten the joyful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all my sins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ld thing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ings new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ant the wit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I do 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rding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-pleasing in th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ask no higher st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ulge me but in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or l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ransl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bl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05Z</dcterms:modified>
  <cp:revision>7</cp:revision>
  <dc:subject/>
  <dc:title>PowerPoint Presentation</dc:title>
</cp:coreProperties>
</file>