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B90-A4CE-4845-A7D1-DF391588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D84-25BE-4840-A9BB-F9E9FC1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8F6-B002-41DD-A6E4-F00DA2BD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69C-5AE5-4685-8C09-9335DA24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B50E-1BBD-4FD6-B965-A9EACE6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728-012C-4184-BCFA-46E43F5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86A-D033-41C2-9984-6678C237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E393-3CD8-4994-834E-4C95F46F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1BF5-7E6E-42BC-BD80-D88E60B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C13-3E06-4F34-AC06-66451A84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FF36-8586-471E-B8B0-1C8AFC9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30E-0C4B-4A60-B09E-0999811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222-4148-43F6-8A1C-5E7D151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D9C-D173-4135-B486-B3882C4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11B-C6B4-433F-88C2-91C4314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731-EC14-4BB0-AA1E-F01746BB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DCD6-5A86-4F48-98F9-A681D31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15D-761A-4A8F-9095-3CF6B8E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7DA-4AB9-4AFD-BE67-D2D73EEF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5FA-2228-4343-8432-CEEFF08A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671-3725-4BB4-9B0A-A6DC3519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DEF-4B28-4C06-936B-B2D5D9F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043-715E-4664-ACED-78758C1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89C-FE0F-4F18-864A-A178B4B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7C8C-299A-489A-938C-DC77FC995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EBE8-29C3-45CA-A29A-515781DD6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k Ye What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Ask ye what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delights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240" y="1371600"/>
            <a:ext cx="63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C. Schwedler, 1741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enjamin H. Kennedy, 1863 (1 Cor. 2:2; 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ward I w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lory 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o def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fiercest fo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nso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addest w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vive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idden smar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 to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 will b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on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oun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s of ligh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is is that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deligh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who triump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gra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at the hig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reward I win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se the nam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I glory in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Who defea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fiercest foes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nsol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saddest woes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revives m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ainting hear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aling 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its hidden smart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 to me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o the de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 will be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will plac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e on his righ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ith the countles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osts of light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is is that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delights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: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aith in him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im who triumph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’er the grave: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k Ye What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sk ye what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deligh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240" y="1778040"/>
            <a:ext cx="63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C. Schwedler, 1741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enjamin H. Kennedy, 1863 (1 Cor. 2:2; 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2T01:36:16Z</dcterms:modified>
  <cp:revision>25</cp:revision>
  <dc:subject/>
  <dc:title>PowerPoint Presentation</dc:title>
</cp:coreProperties>
</file>