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6FF-A255-424C-8FCC-68314644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981-8A78-487A-B55E-9F555F8C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5C7-CF3E-439D-865B-C083D867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A93-0F9F-44A4-861A-C8858340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F89-F5F5-4B61-B2E2-AFBAA7BB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752-9C1F-410F-B5BF-32B09A0A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4BD-2AE3-4F84-B935-E781BB07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23C-49E6-49A6-A761-88C5CD4E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7E0-ABAE-44B7-8E17-099ED033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1EB-2524-4A8E-8451-544CE8A9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041-E861-423A-99C9-02A0D7A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380-B5B0-45A3-8E2F-DAF3CB56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B36-A381-4580-84EB-2D99F84BB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re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Pues Si Vivim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. 1, anon., trans. by Elise S. Eslinger, 1983; sts. 2, 3, 4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berto Escamilla, 1983, trans. by George Lockwood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1987 (Rom. 14: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9116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we are liv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Christ Jes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 we’re dy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oth in our liv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our d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9051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440" y="1295280"/>
            <a:ext cx="5600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n est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utos hemos de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s bue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para ofren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sea que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reciba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9051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n la trist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bell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sufr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goc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524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este mu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mos de encont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nte que ll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in consol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ayu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aliment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90720"/>
            <a:ext cx="91440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89120"/>
            <a:ext cx="184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524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2360" y="1371600"/>
            <a:ext cx="70005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rough all 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ur fruits must gi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orks of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or offe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are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receiv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4920" y="1447920"/>
            <a:ext cx="6517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’Mid times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ime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ensing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in love’s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we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g rejoic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524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7200" y="1295280"/>
            <a:ext cx="71348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cross this wid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alway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ar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o peace of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when we help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we feed th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14400"/>
            <a:ext cx="91440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Pues si vivimo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para Él vivimos y si morimo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 para Él morimos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vivamos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muramo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0:14Z</dcterms:modified>
  <cp:revision>114</cp:revision>
  <dc:subject/>
  <dc:title>PowerPoint Presentation</dc:title>
</cp:coreProperties>
</file>