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D28-138B-483D-ACC1-6B6F8C95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38F-AF68-4B6A-A7BB-3BFBEF29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A68-8626-43E4-8BD4-B6303261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528-42F1-4A8C-8F81-DB08BDE6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E21-3326-4113-9CA4-79CE59B4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9AF-5ED9-4889-83CF-9A3DE2D7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495-398C-43BE-9A50-626E147C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E11-B065-44EB-B435-B89454EA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86A-EEA8-4AEC-ABE1-B809D599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A96-91A1-4440-B7BA-4C1D0A4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2E9-AA10-460C-9697-5C8BE1C5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37C-880B-4C2A-B86E-68CC8B73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AF04-73B6-4E1E-A2D9-86FB8BA9E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Utter Our 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ed Kaan, 19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e utter our cr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peace may prev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earth will surv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aith must 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tch all our state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fty resol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eing, unre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ction invol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Whatever the 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pressure we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hearten and h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insight and gra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nk and mak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ach heartb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ose Christ before Caes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before dea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 with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ld in ou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eople dimini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oubt and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cry from the f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daily sc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trength to say “No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that is mea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igns bearing cha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tinction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energy was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eapons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lift up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children unbo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isdom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may hand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lenished and t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good planet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rving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 of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reato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share out, we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pirit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ing the W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eaders confer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ables for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from b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le be relea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ome with us, Lord;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protest and ma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p us to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ssion your chur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7:43Z</dcterms:modified>
  <cp:revision>150</cp:revision>
  <dc:subject/>
  <dc:title>PowerPoint Presentation</dc:title>
</cp:coreProperties>
</file>