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E7F5-1524-476D-AD9A-D9EFA611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64E8-4002-48E1-A20B-25BF9EF3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5E4B-2CC2-4BB6-8DFF-57FBB3927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6B55-B289-4BA7-9A3D-3A4C1C63E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6313-F7D5-43A4-A146-411483A77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F7D1-0D2A-4C9E-9DDA-F1D1A70E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9168-E9B2-4200-A779-51B33D80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1958-34C9-4E7C-A124-B0117B99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8BB0-6A9C-4CF3-A308-2EBD1439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7343-0786-428A-81E8-7E055DA6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3A5D-BA5F-4BC4-A7C8-E88E945C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3C9E-623F-4E52-B6AC-3E74AF45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CA40-39F9-47A6-BC66-923D8918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753A-BE4F-4801-9C10-DBDE4ECF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BBD7-EC48-4558-9948-1515A653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F411-410D-41C7-AB8E-4D9EE5DF9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155B-BAFD-4F42-A3E2-1C58DD990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AB4C-CD48-473F-93B4-AD6900BB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2FD8-7EBA-4F82-A7C9-18A6C60E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758D-12ED-46DE-A7AC-BA62A20D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CFC9-2201-4F39-974E-30F61ED0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B3CA-2962-4E09-8FD9-5ADC5C23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BE23-EFF0-4990-973D-1E188626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308D-223C-42CF-AB31-0325BB8C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2736-DE3A-4A98-A191-C946EBB67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0C59-8633-492E-B508-1035F8E28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ay Is Dying in the W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8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90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y is dying in the we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is touc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with re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09680" y="1143000"/>
            <a:ext cx="45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Mary A. Lathbury, 1878 (Is. 6: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st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veil thy f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earts asc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477800"/>
            <a:ext cx="9144000" cy="403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, holy,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God of Host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full of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66760" y="2239920"/>
            <a:ext cx="8610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praising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 most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hen for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our s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ss the sta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ay, the n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of ange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our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eternal morning r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dows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477800"/>
            <a:ext cx="9144000" cy="403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, holy,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God of Host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full of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66760" y="2239920"/>
            <a:ext cx="8610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praising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 most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ay Is Dying in the W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8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8288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y is dying in the we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is touc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with re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09680" y="1143000"/>
            <a:ext cx="45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Mary A. Lathbury, 1878 (Is. 6: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4920" y="228600"/>
            <a:ext cx="86104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it and worshi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the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ts the eve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mps a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all the sk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304920"/>
            <a:ext cx="9144000" cy="403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, holy,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God of Host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full of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66760" y="1477800"/>
            <a:ext cx="86104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it and worshi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the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ts the eve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mps a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all the sk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8600" y="990720"/>
            <a:ext cx="8610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praising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 most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974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ord of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the d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univer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ho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her us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k thy f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f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y emb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ou art n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304920"/>
            <a:ext cx="9144000" cy="403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, holy,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God of Host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full of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52280" y="1295280"/>
            <a:ext cx="86108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praising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 most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ile the deepe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dows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folding 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st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veil thy f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earts asc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457200"/>
            <a:ext cx="9144000" cy="403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, holy,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God of Host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full of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8600" y="1219320"/>
            <a:ext cx="8610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praising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 most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hen for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our s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ss the sta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ay, the n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477800"/>
            <a:ext cx="9144000" cy="403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, holy,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God of Host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full of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of ange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our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eternal morning r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dows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228600"/>
            <a:ext cx="9144000" cy="403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, holy,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God of Host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full of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04920" y="1143000"/>
            <a:ext cx="8610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praising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 most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66760" y="2239920"/>
            <a:ext cx="8610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praising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 most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ord of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the d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univer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ho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her us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k thy f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f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y emb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ou art n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477800"/>
            <a:ext cx="9144000" cy="403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, holy,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God of Host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full of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66760" y="2239920"/>
            <a:ext cx="8610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praising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 most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ile the deepe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dows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folding 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9-15T02:19:44Z</dcterms:modified>
  <cp:revision>26</cp:revision>
  <dc:subject/>
  <dc:title>PowerPoint Presentation</dc:title>
</cp:coreProperties>
</file>