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249-EC07-436D-8FA3-E4F70938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06B-F023-472A-ABA9-71F813F2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5AE-6DC4-4723-8B9F-7E9ED9DD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D97-FF66-47DB-9011-E91FDB61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A983-D9CC-459D-88E9-A8624AB9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AB68-CBCE-4058-A846-3E7FC824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35D3-2999-4D8D-8FFE-B0444DCC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03C1-9171-48FB-BF2E-510A61C9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096E-A085-4301-B301-2F3EF10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277F-9E39-4F45-BC66-AFBD2219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4CDC-D4E6-444F-84DB-7774246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71E-9C8F-46DA-A4BA-1BAB705D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4073-A763-48C4-9BD5-F05173A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7BFC-F6F3-4933-8831-1A66FE9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0B59-DB54-43D8-9C17-0351D574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8959-D342-4295-9E0F-9E90F6D7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4B3-A2EC-4240-8316-840BF8BD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BE0-3B15-44F7-A0A6-BB0E8620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A00-580F-4999-BE2D-623C7538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8C0-B070-4C26-AF18-552211CB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B7E-B157-43BF-9765-E9BDCB8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DB8-9468-410E-97A5-17C3723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D2B-3B7D-4F63-8193-8F90C8E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3CB-3E85-450F-AA67-31A6AF58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40F3-C0AC-4DF0-BFC3-0E16A14F9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80F5-E4B7-4B6A-9CE1-BA05EC833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rd, May Chur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Home Comb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6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me comb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each thy perfect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3600" y="175248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ton C. Buck, 19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steadfast fai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earnest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eep sacred vows sec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ild thou a hallow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welling w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ue joy and peace endu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entl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lik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 none shall ever 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un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ms de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bue us with thy g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hy dwelling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, Light div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arkness else might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,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teadfast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nest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sacred vows se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thou a ha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joy and peace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rd, May Chur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Home Comb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Lord, may chur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ome comb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each thy perfect way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07880" y="144792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ORDS: Carlton C. Buck, 1961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© 1973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9907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entl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lik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 none shall ever 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all unwor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ims dep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mbue us with thy gra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in the h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come thy dwelling pl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ine, Light divin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veal thy f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darkness else might b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, Love div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pl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ad fellowship with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14T15:12:16Z</dcterms:modified>
  <cp:revision>33</cp:revision>
  <dc:subject/>
  <dc:title>PowerPoint Presentation</dc:title>
</cp:coreProperties>
</file>