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D4E-59C4-46AE-A7B1-095D0F4F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5DB-0A42-42E7-A68C-3E0A5239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6FB-1914-4C8D-8897-1D12C40B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656-F74F-4084-90C9-9E088EE3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1D44-A1F8-4F01-92BA-B6B4AC6B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932D-115A-4DC2-B7D6-A2263180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92D0-EAA0-4BB6-9D21-B236A0A8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3690-B2D5-4174-9E5C-9DD03998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4A7F-F2D2-446A-B512-71254F8A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89E7-A6CC-47CD-A64C-A6D8E1C0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A7DA-C673-4AC7-87FF-9CDB95D6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2D4-754F-47E2-8897-C8FBBD1A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BBEF-9981-4EA9-9453-5011E587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AB52-553C-4FA3-9032-216D9E90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BE02-4857-4C1B-A307-78B703C2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E707-4C89-404F-A1CE-92F0759B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3FB6-DB06-4199-BBC1-C212DCB0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C80-8852-4AEF-B4A0-B74B71F3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91F-AE0D-499C-8526-AAB0EE07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76D-1C72-40C4-B2FC-D6CC307B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B0D-6339-41D7-A7A4-7B74BE93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ABA-119A-496A-BD45-A77509D1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CF7-4D76-4D47-A79A-A470F9CA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824-93C6-4170-A166-2526D054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E68B-2A1A-4843-8266-151FA6881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6ED4-53DF-4926-AA32-654C8B53A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Wideness in God’s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15228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There’s a wide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God’s merc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ke the wideness of the sea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0600" y="66996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. Faber, 1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is wel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ore gr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healing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the lov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broa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he m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m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ost wonderfully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f our love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more sim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God’s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be illum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resence of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794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re’s a kind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God’s justi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is more than liberty.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748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There is welco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the sinn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ore grac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the good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508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re is merc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the Savior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re is healing in his bloo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160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For the love of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d is broad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n the measu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our min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987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e hear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Eterna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s most wonderfully kin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160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If our love we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more simpl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should res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pon God’s wor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ur liv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ould be illumin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e presence of our Lor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Widenes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God’s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There’s a wid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the wideness of the sea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’s a kind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od’s justi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is more than liberty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40600" y="144792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. Faber, 1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27T01:43:43Z</dcterms:modified>
  <cp:revision>38</cp:revision>
  <dc:subject/>
  <dc:title>PowerPoint Presentation</dc:title>
</cp:coreProperties>
</file>