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BC9-53A8-4FA2-9AB8-D6DD9A7C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609-060E-422F-9580-01160DAA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F9D-AA40-4C6E-B20A-D5275480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670-97C2-4875-B6A9-B48962EB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FC5-B4B3-4898-B0C6-EB296C36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A323-F560-4E0E-916C-D25E6C4B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CB6E-43C6-4A9D-8D16-2F1EDD1E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5B6C-2FE9-4FB8-BAF7-43AB3D6E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5D92-05BF-4A87-BEAE-6071EB3A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F0DE-E473-4F1C-BB2A-67B28827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3E91-BCA7-4A3F-83C7-7E1A716F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B16-D873-4227-9C65-E0DE3283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2E66-627F-4210-BCA5-136B5A6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D603-6B6A-41F3-A244-FFEF7F31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1283-E502-433F-BE74-3103F6B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7EE1-4AC4-4401-AB9C-AE8F2540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1BEF-42A1-48C7-BB78-418A2E3B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22E-71EF-4926-A1DF-6DAD0BF8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12D-B563-4901-8A85-4F65755A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24C-ADD4-437D-B812-0CCE1D81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165-E9F3-48FF-AFC9-E9A3B798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634-10F0-4F5C-9409-A6792790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DC8-9AF7-4DB1-9CB5-1459376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B17-56CF-4AFD-94B8-A98E5B5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9E46-7ED2-4433-B566-660CE4C0E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18B6-15B4-4186-8592-5EF5F0976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Let Us fr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let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able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Kaan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inds al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Let Us from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371600"/>
            <a:ext cx="9144000" cy="31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let us from this table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Kaan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inds al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inds al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Let Us from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1600"/>
            <a:ext cx="9144000" cy="31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let us from this table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Kaan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4-05T15:35:03Z</dcterms:modified>
  <cp:revision>137</cp:revision>
  <dc:subject/>
  <dc:title>PowerPoint Presentation</dc:title>
</cp:coreProperties>
</file>