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479-02B3-46C3-BD16-B89AD2B7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4D4-CEF2-48D7-9628-39E96DB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B07-7CC1-4130-A4B6-036B681C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86B-6B17-48E5-AE9F-F005D101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1D9-76AD-4950-B03B-B79C5D50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702-9D77-4CB0-ACEE-0DADA1BC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12E-D0D5-491C-AFB3-CCB87427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A62-2BDD-485C-BB0B-4354DF0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E89-A4E7-4B64-8025-6B7AA1C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D66-DF67-45E2-82A6-379A2D0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202-ABFD-4E6D-BAB1-9F127566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ADB-A661-497E-82F3-E6C034A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1F8A-4531-4B1A-B55D-2EC82CA2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nding Rest in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349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made us for thy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and our heart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less until they f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 in thee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ine of Hippo, North Africa, 4th cent. (Mt. 11: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Rest in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43000"/>
            <a:ext cx="8610480" cy="422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omparison with this bi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, the human heart is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mall thing. Thoug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 is so large, it is utter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able to satisfy this tin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ndar Singh, India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ver-growing soul and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pacity can be satisfied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infinite God. As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restless until it reaches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vel, so the soul has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ace until it rests in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7:27Z</dcterms:modified>
  <cp:revision>13</cp:revision>
  <dc:subject/>
  <dc:title>PowerPoint Presentation</dc:title>
</cp:coreProperties>
</file>