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F42-4158-443E-AD80-C3FA6738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F4A-227B-408E-BC75-4653F92B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F76-A2B6-44A7-93DE-BE02C8B3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573-8E9D-4FB4-B065-4256CCE2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BA1-1445-4E46-9DA5-555F6CE7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2EE-FD3F-4BD0-8F9B-162235F7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199-38D6-4D97-B375-959FB07B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977-69F5-4EE4-8D31-FD32269D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7D3-335E-43B0-8506-93386C0B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481-7ECB-4A9D-9CF5-178D3E48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7EA-1AFA-4672-8197-F799EA4D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296-AFB8-465B-98D3-310CDD52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43AD-51AA-46F7-A564-FCB0F6F96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Things Come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, O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we give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Come of Th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1 Chronicles 29:14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7:11:24Z</dcterms:modified>
  <cp:revision>94</cp:revision>
  <dc:subject/>
  <dc:title>PowerPoint Presentation</dc:title>
</cp:coreProperties>
</file>