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1FE-B0C3-40BC-A7B9-9B10C5E1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92E-6E90-410E-9300-33EFDCD8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5A3-48D7-40EB-892C-F70F6B10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25B-543E-4BE7-ABC8-16BCA66A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71C-80CA-4A88-B348-B7F35E36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588-2B1F-4E65-83B7-70525567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102-33CA-490F-8586-D7012F3D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200-6B3D-41D4-AD69-D7FCEFA9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BFF-99F4-4EAE-8E0E-CEDAB3A6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052-FB69-4649-9AE7-98745FEF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013-C024-43B0-9D8B-55755483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FF5-DBAD-4A4B-AAAA-C6A2895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D88E-15F0-44C9-B765-CD58988C9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Prayer of Saint Franc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ayer of Saint Franc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rancis of Assisi, Italy, 13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209680"/>
            <a:ext cx="8229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make me an instru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thy peac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hatr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me sow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288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injury, pard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doubt, fai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despair, hop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darkness, ligh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ere there is sadness, j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71604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Divine Mast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I may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much see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consoled as to conso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understo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o underst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loved, as to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t is in g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rece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in pardon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are pardon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is in dy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are b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26Z</dcterms:modified>
  <cp:revision>156</cp:revision>
  <dc:subject/>
  <dc:title>PowerPoint Presentation</dc:title>
</cp:coreProperties>
</file>