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800-83E1-4E4E-AA94-7560577C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61C-FAE8-40F1-A197-71E85EF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9FB-6102-483C-A4FA-F70A1BA6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F87-DCE2-4C60-BB0D-35711789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F490-FB3A-4024-B9DD-479876F3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3E70-3FBF-4214-AAB0-1351F634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A414-B141-4DC1-B206-84B6D6CC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03F0-1EC2-4855-920D-5FA91AE0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4AB1-F880-458E-83AE-7CD438F0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A155-9A59-411F-AE58-B7AF4C55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397-13D7-45E7-8F57-53110D6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D74-5A70-42B4-90A8-E4DA731C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9EA6-58A4-4AD7-BB15-9EC6F30C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4EA8-FE1D-408F-B861-DFB909DA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03F3-93C1-495D-A78A-51B8D10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A6BE-0839-42DD-A22A-AE562355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9B27-AE8F-4D5F-985B-01ACA47B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4F1-774B-4A21-A869-5539C870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7C3-64EB-449C-80E5-AC8814BC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42F-6788-452C-AAD6-7A98B18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3C4-3199-4024-925A-4814F9B8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C55-6458-4CE6-ACE9-715C4F4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6B8-D8FE-4321-AE92-2D7887E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311-9A8E-4A1F-A95C-AD5BA0EC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3174-45C7-4B8E-8E8C-80B138E83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156E-E2F3-4DAF-9B15-F78BAA72B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431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s reliev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07440" y="2239920"/>
            <a:ext cx="6729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precious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ap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63680" y="1859040"/>
            <a:ext cx="6415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grace hath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secur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36040" y="2239920"/>
            <a:ext cx="6272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c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62680" y="2239920"/>
            <a:ext cx="6220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poss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ve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e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88120" y="1859040"/>
            <a:ext cx="5566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first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1840" y="895320"/>
            <a:ext cx="86832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85800"/>
            <a:ext cx="9144000" cy="54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OH NAY THLA N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EE OO WAY GEE.’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HAY 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erokee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4840" y="1882800"/>
            <a:ext cx="675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W GWOO JOE S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YOU LOW S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AH HO NA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avaj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6680"/>
            <a:ext cx="9144000" cy="479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NAV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Z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ÍGO JOOBA´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TS´ A´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SDÁSHÍÍTÍNÍGÍ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avajo phonetic transcription by Albert Ts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6368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H YÓÓÍÍYÁ, K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ÉNÁHOOSDZ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O EESH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ÍÍ DA Ń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É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ow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3520"/>
            <a:ext cx="9144000" cy="590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KIO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TSAHY 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SOW’H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TSAHY 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iowa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4778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Y DAWTSAHY T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AW AYM 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H T’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W K’EE DA 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WTSAHY H’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re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50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R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O YA FEK CHA 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LT AH T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H NON AH CHA PA K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reek phonetic tran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 FEE K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UNN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K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M E HA TA LA Y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octa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066680"/>
            <a:ext cx="9144000" cy="533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OCT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ILOMB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OLITOPA MA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SHMMINTI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ULLA CH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octaw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39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TAK ILBUS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A 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PI YUKPALASH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 fears relieved;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precious did that grace appea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54880" y="1066680"/>
            <a:ext cx="683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 fears relieved;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ecious did that grace appe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tis grace hath brou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grace will lead me ho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 hope secures;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682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 life shall cease,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hall possess, within the vei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 as the sun,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 when we’d first begun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                       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’tis grace hath brou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grace will lead me home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 hope secures;   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 life shall cease,      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possess, within the vei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7000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 as the sun,           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an when we’d first begun.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4880" y="2239920"/>
            <a:ext cx="683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9T00:34:56Z</dcterms:modified>
  <cp:revision>125</cp:revision>
  <dc:subject/>
  <dc:title>PowerPoint Presentation</dc:title>
</cp:coreProperties>
</file>