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1B8-61CE-4233-A4AE-6C1E76AB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FFA-5CCC-4E77-AB23-5FA1FDAB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8D5-973D-482D-A6A5-E159C187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4CF-85B7-4638-8065-C5B63DC7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AC43-A287-49A3-84B8-B5762793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9BBD-75D9-47E4-83C2-CA744D83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957D-C49B-4C67-96A1-018583C2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748C-1DDE-4A37-993C-A0E26C61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00BF-65F8-41F3-83D7-C0BCC82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38D0-7192-4996-89DE-8C17B767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DD6A-0669-4066-A0ED-2F795F72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2BA-214B-4433-9C55-1E112EDA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CD52-1506-4A47-8573-F6CB1B1A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3119-C168-44A2-B931-06AB92B6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80A2-A3D5-46E0-89EB-F2501EDE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3D84-BAC9-4F12-A5C4-13E0C9B4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0707-FEE4-496D-A1B5-FE2DC5F3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2F9-3127-47C3-9CEB-DD5894D0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EED-F346-4A26-BB11-93CF4791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26C-3220-4603-8FE3-E0A8BC43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BC9-0CE2-4664-AA56-1B6D6DC1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B84-F07B-4425-8746-B9FB9795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94F-3015-4291-9432-8BD46C1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BAC-07C2-46F4-A7F9-420EC6F9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9973-1BAE-4288-87B8-D4B38E0A4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1715-8A2F-40A8-A10C-CA018A710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We That Love the L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surround 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93200" y="76212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peak their joys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9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alk the golden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airer worlds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We That Love the L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surround 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3200" y="106668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peak their joys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alk the golden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airer worlds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2-26T01:35:25Z</dcterms:modified>
  <cp:revision>55</cp:revision>
  <dc:subject/>
  <dc:title>PowerPoint Presentation</dc:title>
</cp:coreProperties>
</file>