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CDF-E864-49BC-A557-8E3341E5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FD3-36E9-450F-856C-52F90936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748-51C3-47E6-B524-A3470865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EA2-73CA-49B2-9101-65DEABA8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FB9-159F-4D73-988F-37DB83CA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0C9-671A-415E-B349-85AA49B9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EEC-9856-4DE8-BD0C-4C41C7D3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3EF-121B-4F62-9DDB-E2549855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516-312D-485A-A784-7B634B46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22C-FF5C-47F7-81D6-7FD2E81A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3B4-FC42-4560-B162-45DE9F4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35F-7129-4C78-BA86-F52E8D4C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65DE-333F-4B30-AB91-9A5C781C7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ou Hidden Source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Calm Re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ou hidden sour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alm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ll-suffici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4480" y="167652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want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entiful supp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almighty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bo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perfect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igh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tan’s darkes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rief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ife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ven in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 and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my fo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cure I am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thou art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! from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ief and sh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id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i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y might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keep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ppy soul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fort it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ower and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joy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e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r name ar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iness and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my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thou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rest in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ease in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al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roke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war m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loss my 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mile ben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yrant’s f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hame my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8:30Z</dcterms:modified>
  <cp:revision>14</cp:revision>
  <dc:subject/>
  <dc:title>PowerPoint Presentation</dc:title>
</cp:coreProperties>
</file>