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9E3-7EA1-476F-A7EB-DA61D58D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7F9-33DB-4BD6-B691-159E080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6CF-6E16-4090-A2E6-D6F03D2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67E-0997-4D29-ABA7-7E55B747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ED3-5CBB-4674-88FF-B3ABA6AA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B7E-0E5D-4793-9D8E-76688F2D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520-D1AD-406C-88B4-F07B155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D6C-921E-4029-95D7-0794BAA4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F74-15AB-468B-9C00-6116BC9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B7B-3CD6-442F-A005-1753CF77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5BC-887C-4EF4-9346-3C1F34B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261-55EC-4326-82E8-E474427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0A00-14AE-4AE6-ACB2-6DEEE126E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Ascen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e who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iled to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Ruler an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cre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i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iness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bloss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s unb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nging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of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6:26Z</dcterms:modified>
  <cp:revision>82</cp:revision>
  <dc:subject/>
  <dc:title>PowerPoint Presentation</dc:title>
</cp:coreProperties>
</file>