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4DD-B255-43BE-8DFA-92DF57A7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B60-8939-4E0C-8356-9EDC7CCB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476-2BAF-4D6C-9962-E9556A91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3B7-1336-49D7-B4C7-E281C61E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7ED-105A-4E44-87BE-AB071E9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54D-8089-4C8E-9EE4-7B5EEE25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4BE-BF19-4D51-9C9C-FB8EE4E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A39-99C0-41B8-B157-19CDFA1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0CF-910C-4036-9159-D116141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614-CDBE-4398-B0B8-7F29192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C03-DA61-48FC-A7D1-B72558F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644-E864-4810-AE36-887D7B5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5BE4-3B89-47AE-9093-1B7BFFB99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ndrous Sight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Vision F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ndrous s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sion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shall sh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9520" y="154944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rum Breviary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495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in joy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ymn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hrist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he glow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le decl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disciples t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olds conve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nd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have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chosen witn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s his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a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ith shin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ar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eign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 that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glory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ir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oy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faith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raise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’s myste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19Z</dcterms:modified>
  <cp:revision>15</cp:revision>
  <dc:subject/>
  <dc:title>PowerPoint Presentation</dc:title>
</cp:coreProperties>
</file>