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B34-0DB6-4C8C-95CC-A6224176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7B7-ADA3-49B8-AFC5-0D9FC12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CBC-B1EB-4216-A5F3-AC3B8D80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C7B-3150-4816-8264-872D86E9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55B-A781-48DD-931F-4A02470C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C48-42C2-41DC-9AA6-6E08595A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5A0-EAEC-4233-9C66-89B9A781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573-ABAF-4C41-9884-626CFE71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942-CB7D-4C4A-8BBF-770FB0C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53A-CA75-4477-8EA4-DCBD253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27C-0F78-488E-BC12-50FAF8E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70B-3E80-4FBF-BA1A-B231FE2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703-87B8-42A4-9338-6347B2BA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Peaceful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8686800" cy="29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God, you have let me pas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e day in peac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let me pass the night in peace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 Lord who has no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Peaceful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160" y="106668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 prayer of the Boran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055520"/>
            <a:ext cx="8686800" cy="47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re is no strength but in you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lone have no obligation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Under your hand I pass the nigh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re my Mother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my Fath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2:16Z</dcterms:modified>
  <cp:revision>19</cp:revision>
  <dc:subject/>
  <dc:title>PowerPoint Presentation</dc:title>
</cp:coreProperties>
</file>