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D88-DD1B-401A-9023-A9B0CDD6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E0C-3B08-4B4A-931B-CD743234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720-629B-40E6-A81D-BE725E2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D11-660B-4EC2-8FA2-C3696A78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484A-98C4-4763-8B59-AE7847B8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61C5-120A-4E0E-A48A-A3AA917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9BA-25BA-4688-A11E-F15D5603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50A-9138-4113-ACBC-B3039F1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039-444C-494F-826E-8802E57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3F9-38BE-4A25-93D2-9491DB5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947-4A7A-4BDA-9CCE-65A39BA6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0E1-CBC3-4CF2-B207-AA57332A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347F-13C7-489D-A3CE-62DDB4B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9156-2698-4C7B-8DFE-8A1E3F9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25B-8B17-429D-A746-D02B3F17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870A-8D55-4C46-946B-29B5106B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66E-B5B5-4B24-8B76-00F16A2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0B2-5248-4219-B52B-56377556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EE2-B953-429F-A4CA-C5FEDEA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9D7-DA5E-4AA8-8EAF-62FE4A24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144-6BB6-49EC-A854-2C46B49B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4DA-BD01-453A-BCDC-752434CF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731-B7E2-4EDD-ABA9-41B27A8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813-D9BD-4F7A-A17E-F74357D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CC52-C05B-422A-A2C2-20FD03EA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3F1-1386-4A03-B8C4-3304EDEF1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9520" y="1676520"/>
            <a:ext cx="44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 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76320"/>
            <a:ext cx="12189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9280" y="39466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11:56Z</dcterms:modified>
  <cp:revision>21</cp:revision>
  <dc:subject/>
  <dc:title>PowerPoint Presentation</dc:title>
</cp:coreProperties>
</file>