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AD3-355C-40E8-BAA7-F41E2D9E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82A-D10E-4E88-817E-C8B9062D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CAD-09D8-4330-9B3F-6AB634DD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0C8-35DF-4B87-AAC8-FA18D5B8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A81-3800-49C9-BC1D-36829714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6BC-D793-4804-AD7B-839969FC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670-DC72-4B08-B6DC-55C2C583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0CC-68EB-46C2-8FC1-8641C13B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EB9-9B88-408A-883A-92F2FD7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431-0976-41EC-902E-EA3D8FA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AE9-8218-4B10-8033-31DF3D2C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11C-7D3F-4366-8839-4E7ECA8A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8AEC-DF57-4217-9E1B-518F513B4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Down, O Lov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 down, O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ou this soul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isit it with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ardor glow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7560" y="108108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ianco of Siena, 15th cent.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Richard F. Littledale, 1867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forter, draw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 heart 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indl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ly flame best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et it freely b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rthly passions t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ust and as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heat consu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y gloriou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ever on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the me 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my path illum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s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rning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ich the soul will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far outpas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of human tel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ne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ess it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Love create a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in th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makes a dwel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5:22Z</dcterms:modified>
  <cp:revision>14</cp:revision>
  <dc:subject/>
  <dc:title>PowerPoint Presentation</dc:title>
</cp:coreProperties>
</file>