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AA2-5880-4DC4-919A-99A3D78A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2BF-70A5-4EF7-BE1C-2D244545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3D9-7256-4748-8137-A4581F2D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EA2-4E1F-4391-8D81-95CA0648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B01-B6E3-4E73-807F-BDBAC0FE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92F-E34A-478C-9B2C-D1FE4A83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CFD-F904-43D6-8403-72F8485C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52E-EE64-4648-8E15-D8FDA91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3F2-432F-449D-ABB5-BBF65346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4D3-AA46-4132-9651-2448A62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4F9-B3D2-42C6-82AB-C8B874E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834-ECDA-4273-A56A-A40BCC0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B37E-9A4C-44B7-8AF6-783F1EE03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Heart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luence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ic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ain of life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e, 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(for moved by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te and spok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ock the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the 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eal the sacred boo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xpand thy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od o’er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dis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re now b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, through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within us s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und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aints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pths 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34Z</dcterms:modified>
  <cp:revision>103</cp:revision>
  <dc:subject/>
  <dc:title>PowerPoint Presentation</dc:title>
</cp:coreProperties>
</file>