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67B-7C79-4EBC-BA4D-20E26D7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731-2081-4BAC-9616-5C8455B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193-C6C7-455B-909B-4B5658B7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BF1-5BE7-4235-AB2D-C98311FE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C140-B855-423D-B2F3-9A0BA6F8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E721-B06A-4789-8177-C6F1079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CB04-CF5C-4374-85D2-02E2333A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FB45-FD60-4E8D-9811-09BB8324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6E89-5580-4067-8B3B-06519FAF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CECB-74FB-4C52-9E4E-22CE1275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8B43-2F73-44E7-B935-27C83BD4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ACD-E866-47DA-BA91-4FC57850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BA64-3A50-4C90-9812-80AC4E5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BA62-70FD-4482-82D9-939DD1B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2734-3A04-4473-9814-DEAB396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9375-F7DA-413F-BF8A-6B470A19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5767-AB22-4374-9D59-B6752DF0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DE8B-3CA2-470D-8B7E-9EB63294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F5DF-66CA-403E-BE04-181E9AFF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226A-30AB-46E8-B3F5-12FF86F1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F3A8-078B-4613-8A38-8B14EB1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8FA2-4D9A-45D0-970F-81F6C095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BAA-63AC-4842-92C2-D4D45A42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FE78-A46B-40CC-8828-136CDFB4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00DA-D1BA-4E99-A8BF-2EED2B0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078C-9589-421A-9F6E-4F3F55D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4751-2D88-4CF0-8E5C-5B8C1CF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D0D3-C87E-49F0-A095-BF824585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35A3-27FC-48BB-A672-368DF380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D810-74F9-4296-B5EC-08CB7BE6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4C3-1D1C-439B-B3BF-C21C843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861-4DD3-4E53-8998-3043F9CB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5E6-10A3-4D11-8733-E7E0E9AD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843-B7AC-4B4F-B23F-6F236C8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0D2-233B-41A2-9FA8-D34338E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917-6F85-4672-8265-9F23A27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DA3-763B-46A2-8A7E-74F54AD19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CB87-859B-44BD-9E1E-D82933555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3BE4-BE21-4B2B-847A-6A8D87578A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O come all ye faith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oyful and triumphan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 y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 ye, to Bethleh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92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Child, for us sinne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oor and in the mang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would embrac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love and awe.         Who would not love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ving us  so dearl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. Yea, Lord, we greet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orn this happy morn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, to thee b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glory given.              Word of the Fath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w in flesh appearing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295280"/>
            <a:ext cx="54864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90720"/>
            <a:ext cx="5943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480"/>
            <a:ext cx="586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15884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me 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hold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orn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ing of angels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04920"/>
            <a:ext cx="57913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ther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295280"/>
            <a:ext cx="54864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990720"/>
            <a:ext cx="5943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09480"/>
            <a:ext cx="586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320" y="152280"/>
            <a:ext cx="579096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2. True God of true God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Light from Light Eternal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lo, he shuns not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the Virgin’s womb;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20348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0492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15884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457200"/>
            <a:ext cx="5791320" cy="36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4. See how the shepherds summoned to His cra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Leave their flocks draw night to gaz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oo will thither, bend our joyful footstep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0492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5. Child, for us sinner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oor and in the manger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e would embrace the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ith love and aw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would no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ve thee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ving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 dear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04920"/>
            <a:ext cx="57913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True God of true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ght from Light Eterna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, he shuns no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Virgin’s womb; Son of the Father,                   begotten, not create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ther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ome all ye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and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 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 ye, to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092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ue God of tru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Light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e shun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rgin’s wo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otte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1368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g, choirs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in exul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ing, all ye citiz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ven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368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 how the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ed to his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their floc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nigh to g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oo will th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d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footste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Child, for us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and in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embrac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uld no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l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Yea, Lord, we gree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is happ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o the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n fles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ea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Sing, choirs of angel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 in exultatio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sing, all ye citizen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heaven above!                  Glory to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glory in the highes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deste, fidel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eti triumphant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te, ve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ste, Fidele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533520"/>
            <a:ext cx="9144000" cy="56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tum vide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gem angelor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min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See how the shepher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ummoned to his cradl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aving their flock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raw nigh to gaze;           we too will thi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nd our joyful footsteps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9T02:03:06Z</dcterms:modified>
  <cp:revision>12</cp:revision>
  <dc:subject/>
  <dc:title>PowerPoint Presentation</dc:title>
</cp:coreProperties>
</file>