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6F4-9513-4104-8403-04713FC4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DAF-F83E-4CE1-A6A6-F113B60E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6BF-5EC0-4C60-BF88-89A09B01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35F-1A75-499E-9051-3EEE725F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C41-0E62-4358-99E9-C81D1300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541-B53A-4B97-A4AF-DF62B365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A61-A9EB-4CD6-A5CB-D7B4A046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D88-C63F-4058-A38A-1D63C23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A31-4ECC-4659-95AF-5021E10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E19-016C-4977-A2B8-B27E8AF1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5FE-0FD4-4CF8-A08D-909F59B3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DD3-3B7C-4EB4-B220-40DF107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00E6-FB75-4F6D-A92B-54962A6A4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H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on, let me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ired, I am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orn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 Hill &amp; Range Songs, Inc., renewed Unichappell Music,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852640" y="163836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A. Dorsey, 19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tor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on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ght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0" y="160020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my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dr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 linger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almost gone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my c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my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y hand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I fall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75248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app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night draws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y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 and gone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y hand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6"/>
          <p:cNvSpPr/>
          <p:nvPr/>
        </p:nvSpPr>
        <p:spPr>
          <a:xfrm>
            <a:off x="0" y="152388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21:21Z</dcterms:modified>
  <cp:revision>18</cp:revision>
  <dc:subject/>
  <dc:title>PowerPoint Presentation</dc:title>
</cp:coreProperties>
</file>