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5E8-F024-44C6-A32A-81921B40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AFA-DBC1-42E0-A9B9-CC1B9815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74E-6004-4056-A5B7-C2D1EE8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0B1-876E-4C42-BE1E-E585CC28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E33-0218-417A-A61A-E544326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B1F-F22C-4179-9303-382D394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D65-449A-4D34-8BCC-0DBDEB60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F5F-4610-42E6-906F-EA8471C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99F-6133-430A-8128-E6B90FB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E09-03BF-48F6-A7AA-3813B3D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CDC-D896-4035-87CE-88C36BBE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F6F-1153-4BDE-B299-6709701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8B6-84DB-4DB1-94F9-EFE80C6BC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y Gracious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gracious p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onderfully shelt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nfidently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ietrich Bonhoeffer, 19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 Pratt Gree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that Go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night and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f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reet us each new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et is this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its old foe torme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evil days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s hard to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ghtened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re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a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when this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is filled to brim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itter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 to underst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it thank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out tremb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so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 beloved a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t when again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me world you g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 we h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ghtness of your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d throu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whol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n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5:31:55Z</dcterms:modified>
  <cp:revision>43</cp:revision>
  <dc:subject/>
  <dc:title>PowerPoint Presentation</dc:title>
</cp:coreProperties>
</file>