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7D2-D6BC-4753-B8C3-1B268DE3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A08-A940-415E-A394-459BABCA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4C8-1737-463D-A488-37C0954C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E86-98D4-498E-B523-9D63518E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A67-CCB8-4043-BDA1-3C4A2B2F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440-76A3-4A08-8AE9-8E29FCE2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9C7-00A3-4E23-AADB-8BCDDE61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DD9-BF72-428E-AA6A-CBFC83D0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BD7-AD1B-41C2-BC7A-841C43D1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180-7CB7-4BC9-9462-E4421145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C06-CD30-4D58-836F-0840C600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7FD-B3FE-41CA-9D99-81CC6ED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A60E-3EB5-451B-B0E3-5B6028A51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34Z</dcterms:modified>
  <cp:revision>28</cp:revision>
  <dc:subject/>
  <dc:title>PowerPoint Presentation</dc:title>
</cp:coreProperties>
</file>