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FAF-E077-46A9-B57A-6565AD5E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783-91E4-4FC0-912E-5BD1A3D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415-19B2-4920-AFDC-621FD757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2E-3C57-468B-BE1A-3DD4EE42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F4D-5BDE-498F-A013-E561AED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5C3-1E94-4CCF-8E3D-E0ADAA6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DBC-2852-410F-9923-82259A8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A8B-CC52-47BE-8487-F65B8658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775-22F2-4605-B3FD-16826EB0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3BB8-EEE6-48F1-B76C-31ADE20B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C06-CB66-44BB-ACFC-AD28E38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B94-009B-498B-83CC-06BC6AE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2A3-5977-4394-B8ED-E51DB11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B9B-0BCB-4338-AB95-7975A75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0BB-399C-4E60-B6B9-67277A7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57A7-E2F7-460D-86D2-92DC9783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0BC-681C-4E8E-AEF3-24D7C2E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BAE-8581-42BA-95F9-766BC03E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3D6-9C55-49CE-97E7-0A1FDE7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30B-F8C7-4F9C-B4FD-0FE43FC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E00-3922-4F04-826E-F455FBA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B4B-FE5E-4584-A30E-F8F47FD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C6D-1724-4AA1-9C7D-D902FD1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6DF-8694-4C12-BE03-D41BF78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471-7F14-4C13-8ADA-36E97EBD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78A-BD8E-4660-B035-33F56B76A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765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3-25T21:20:26Z</dcterms:modified>
  <cp:revision>51</cp:revision>
  <dc:subject/>
  <dc:title>PowerPoint Presentation</dc:title>
</cp:coreProperties>
</file>