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95E-E4D4-42F4-ABF6-DB9D703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A6F-6A1E-4390-83E2-32250AC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01B-0C42-4AC6-A9B5-35E3FA3A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F29-388B-41FB-A557-F26D3C9B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A42-B155-479D-BFBF-EFA5DD1E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554-8EF6-477F-BD0D-D54AF6D5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618-7D33-4964-BD6C-67412EE7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E8C-0DC1-4F4F-8102-6DDB39B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EE0-4658-4B63-80D1-F8F0EF1F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7B7-8CA1-42EE-98FD-F943FE1C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074-C0CA-4633-BCA9-F5797DE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72F-C488-44CD-8FF4-306A592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CE1-A7A2-4BD5-90C8-F094A6F0A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52480"/>
            <a:ext cx="91076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hurch of God,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common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one messag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s in glad acc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9144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ever goes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upward 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rdered ranks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liant le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me from far and n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han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onf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aise one li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c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depen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saving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cr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ngues may di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ne people b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leness of 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to al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redeeming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y thy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 ans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all b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God’s blessed Son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a single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hwa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pe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 the one true l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ever goes before u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day by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tro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footstep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upward way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-31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every l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rdered ranks app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valiant lead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me from far and n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hant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e conf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praise one living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ace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re depend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saving w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cr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ngues may diff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p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Christ, of th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 loving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one people b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y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ful servi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leness of a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redeeming nam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May thy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answer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all be 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, God’s blessed Son: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54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a single witnes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pathway bright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ouls whi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ope in darknes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the one true light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church of God, uni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erve one common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oclaim to all one messag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earts in glad acco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7-14T15:57:13Z</dcterms:modified>
  <cp:revision>19</cp:revision>
  <dc:subject/>
  <dc:title>PowerPoint Presentation</dc:title>
</cp:coreProperties>
</file>