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3C9-1D32-4992-9370-9DCD9F12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F96-EF64-4673-9B79-D28433D9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E73-85F0-412C-9316-37062AF3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F89-35F2-4D13-A4C0-7B64E576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C5C7-3A2B-4F3E-8611-51F8B23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46F-8575-4B0F-BF96-BF42560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7C8-F442-4AAE-9299-4433E305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36C-A42C-484A-A1E6-6C20B578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7576-097A-4BAD-A0E3-129830B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B95E-7AB3-4639-BC5F-38ECC09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A96F-19CA-40A7-AEB0-4799AAE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82E-0F8C-4720-A082-0EBF54F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F5AD-1982-4DCD-8242-B708FA1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6D2E-E69A-4956-A624-4E27125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9892-1975-4BD9-AF8C-D5B27BBF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EC0-7885-47D6-97CF-9E18D217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BEB-F782-443D-AF30-42CC76CA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C9C-C7EF-4DF9-9B88-2CA59C65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9BA-82DC-466E-B0F0-CFE521A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630-757B-42E0-8999-2B285CB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5D8-0640-4066-8276-46A4E14E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200-EFAC-4B75-8856-469CE67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FF6-80CF-49E0-9853-628816C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E00-66E7-4881-B32E-7964091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682-E931-48DF-A3E0-54D2FE261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FA9-4598-4E79-84C8-B04865CEB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8120" y="1092240"/>
            <a:ext cx="32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ck Hayford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3644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8088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21:53Z</dcterms:modified>
  <cp:revision>43</cp:revision>
  <dc:subject/>
  <dc:title>PowerPoint Presentation</dc:title>
</cp:coreProperties>
</file>