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EF8D-A62E-4C49-AFF6-039249D0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53DD-5509-4E33-AD87-EBF3FEFF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5EB6-E0F9-4E10-B9E0-EC77D572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59A-1C80-47AD-91DD-D5182B38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683-FDBC-4AE5-8545-D0C8CE20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38E-480C-4E6E-A2B0-27C33BB5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2B84-B6E5-4BF5-8D62-55C16506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EB72-6C49-4D3D-AF15-E688AF9F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E02C-10ED-4AF1-B3AC-89124100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128-83A0-41F9-8915-F15A117C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E7CA-5C84-48F6-8703-7170FB90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DB5-01E3-4BD1-853D-93E062A5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4B6F-3C1A-42BB-A0F0-6242F08BC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Kum Ba Yah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Come By He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Kum ba yah,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,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98320" y="1676520"/>
            <a:ext cx="434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55160" y="2239920"/>
            <a:ext cx="7032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one’s sing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Let us prais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praise the Lord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03920" y="2239920"/>
            <a:ext cx="6534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praise the Lord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74120" y="2239920"/>
            <a:ext cx="63957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,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omeone’s pray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one’s pray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67320" y="2239920"/>
            <a:ext cx="7209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one’s pray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omeone’s cry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one’s cry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62440" y="2239920"/>
            <a:ext cx="68191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one’s cry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omeone needs you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one needs you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4120" y="2239920"/>
            <a:ext cx="72961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one needs you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Someone’s sing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one’s sing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6:46Z</dcterms:modified>
  <cp:revision>37</cp:revision>
  <dc:subject/>
  <dc:title>PowerPoint Presentation</dc:title>
</cp:coreProperties>
</file>