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22A-2476-44D9-BC12-85A992AE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292-7FB3-476E-B3B4-C332CAE5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C6C-FAD9-44E3-A2B4-ADB31101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FE1-7E68-4BD1-A256-A0EF5125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3DE-FC31-4AB6-96C1-0AFED5B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AF3-FC2F-4919-BE8F-E5D78370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F86-ACD1-4484-9EC9-A4C2B7B6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B77-61DA-408F-9EE7-AF9C44FA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3A7-89A7-49CD-B9AF-72123CAB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E30-6E05-40BD-9642-97B4B2B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345-C8FC-4379-AE07-161A1AFD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E67-1639-4D3A-8BFB-C3D7637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F7D-61AA-4B76-965F-8E8695B42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Jesus, at Thy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o hea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Tobias Clausnitzer, 166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uls be stir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o see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fear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teac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and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from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e sole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l our knowled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se, and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in deep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shroud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s our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ea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unclou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lon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canst win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work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thin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lor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God proceed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ars and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plea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e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 rais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,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s and p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02Z</dcterms:modified>
  <cp:revision>97</cp:revision>
  <dc:subject/>
  <dc:title>PowerPoint Presentation</dc:title>
</cp:coreProperties>
</file>