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AB6-AAA9-4041-8FFE-C46D1725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AEBA-CE0F-4590-98B2-2368BE49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8EDB-E877-4DC9-9F5C-F8AFDD5B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746-2271-41A1-A8B4-720FDEAA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6B3-49D3-42DB-94FA-16F09355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96C-868C-42BF-BEEB-0B40A0A3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288-E3A9-457C-B870-93F97FA4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4B0-D9DB-46B1-910D-C3071E93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48A-9965-4BA8-BA60-BD1FD651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DC1-41B8-4A18-BFF8-E3BE59AD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9201-2578-4722-BD8B-1ECC4F03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BDBD-203E-463E-AA13-A00A64B3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B5DB-954F-428A-B00E-CF8910CDB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You Giv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Great Comm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rd, you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eat commissio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eal the si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each the wor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Give the Great Commis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 Jeffery Rowthorn, 1978 (Lk. 9:2; Mt. 28:19-20; Lk. 23:3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earth’s tru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lift life heavenwa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king tha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aroun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r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ren’s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00200"/>
            <a:ext cx="914400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you s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love’s true measur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Father, w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do, forg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ord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Give the Great Commission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we ho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private treas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freely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your c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rcy lea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 just socie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676520"/>
            <a:ext cx="914400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Lord, you b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ords assuri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I am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en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ord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Give the Great Commission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and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resto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s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you inte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, amid the ca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laim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in mind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the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glect its mi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osp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unhea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676520"/>
            <a:ext cx="914400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wi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pur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renewed integ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523880"/>
            <a:ext cx="914400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rd, you 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to your servic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In my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ptize and teach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Give the Great Commission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rust your prom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abund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ant for eac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fervor, draw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r in commu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23880"/>
            <a:ext cx="914400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rd, you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mmon hol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This my bo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my bloo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Give the Great Commission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2:35Z</dcterms:modified>
  <cp:revision>89</cp:revision>
  <dc:subject/>
  <dc:title>PowerPoint Presentation</dc:title>
</cp:coreProperties>
</file>