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F75-0918-4CB6-8D6B-0A70413E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8F3-C683-48D6-BE45-E0D3F41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F56-800C-4156-864F-1A3DB1E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810-0603-48FE-A4E9-BCEB877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DC4-16FB-49F7-89AC-429C939B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6F8-F404-494D-AD97-482FC4D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CFB4-20FF-4FDC-96C2-F885D4C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110-EE0D-46FF-A243-A75E1B5A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8BD2-0142-4EF7-AAF3-D46AEEB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DEC-9829-4234-9337-B1F7A0B6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2A95-5D5D-4FF1-8C85-99F3038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9F4-E2A7-4DCF-933F-384BCFB7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DB23-27EF-450E-82ED-606B121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65F-0651-4840-9767-DAD2833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BBA-9282-4576-B209-F6034B6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AC41-AF1B-4916-A0C9-8DC7CF67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FBD-814E-47B6-97D2-DC44F92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1B2-8B07-4623-9F45-7BA6D878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749-443D-447F-B9F2-79E0E1D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AFA-AD96-49A6-B597-275FD6D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A4C-163F-4BBD-81EC-21A4F40B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DD3-5616-4419-981A-C856F70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E95-800E-4B5F-A439-3F88196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36B-3B34-46AE-94E8-EBE91B48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7442-2015-41CC-B851-4407095C2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3A4-2CC8-4890-96A0-0697FA9E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475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5800"/>
            <a:ext cx="914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28:31Z</dcterms:modified>
  <cp:revision>104</cp:revision>
  <dc:subject/>
  <dc:title>PowerPoint Presentation</dc:title>
</cp:coreProperties>
</file>