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A256-9844-40F1-9E0C-A7B532050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3F00-6976-4F61-A2C3-7282663C6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CAF2-C5C7-4922-AEC1-692AB3A0D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C240-3C6E-49D7-8F53-447883F3D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FCD1-78A8-4DA0-92BC-A6DCABDE1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682C-86B4-499F-A2E4-072CFB822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E1A7-24E9-45DA-B422-5F6398FAC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4576-B5A5-435E-83D7-E97E38C49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5D4F-0030-4A23-AD92-0AA575FE4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B7BA-9C76-4E7C-9D2D-C6284425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586B-FD85-4E32-91C8-F51C683D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14BB-3E51-45BE-A43C-F1C02470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3AC7D-7A6D-4343-8C8C-DA4CDE97B2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assion/Palm Sund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8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981080"/>
            <a:ext cx="8839080" cy="412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mighty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sent your Son,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ur Savior Jesus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suffer death on the cros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8, 1989 Augsburg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ion/Palm Sun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49760" y="1066680"/>
            <a:ext cx="70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The Lutheran Book of Worship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; alt by Laurence Hull Stookey 198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rant that we may share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his obedience to your wil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in the glorious victor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his resurrection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370160"/>
            <a:ext cx="8839080" cy="413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Jesus Christ our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ho lives and reign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ith you and the Holy Spiri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ne God, now and ever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49:50Z</dcterms:modified>
  <cp:revision>15</cp:revision>
  <dc:subject/>
  <dc:title>PowerPoint Presentation</dc:title>
</cp:coreProperties>
</file>