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F7B-4F1E-4174-839C-030ED4BF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F00-B327-4204-B29B-A92A980C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1FCC-8FFF-4905-9A44-F43F9C99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B36-EED2-49B8-9D5A-5DCD5EAE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76A-8855-4FE7-9082-376CE76F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80F-7352-42D9-AAAE-E1EA2859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6CC-57BE-4147-AAAC-7F7BE6DE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85F-B023-4442-B795-F458027D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032-9647-41E7-AC85-065B00CE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4D6-74A4-4B98-9B2C-C203E275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A1D-4268-4417-B253-3200375F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DC6-3075-4371-ABF0-1B0BCF37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DF22-ADAF-4EAF-B809-78DC87E0C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hee, Festival Day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Pentecos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Venantius Honorius Fortunatus; trans. from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English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06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od the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uler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heave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uard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m with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il withi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7652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esus, the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 our mi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Redeem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ther supre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begot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4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Spirit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flow i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our be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s u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ha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y ab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33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Prais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r of go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ve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 of con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ur out your b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der our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pe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3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Bright an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ness of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ose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wait your appea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h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had foret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dden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iftly descend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652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th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ther you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evenf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stical offe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uring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human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finite ri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524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8:09:06Z</dcterms:modified>
  <cp:revision>83</cp:revision>
  <dc:subject/>
  <dc:title>PowerPoint Presentation</dc:title>
</cp:coreProperties>
</file>