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8B9-5CCD-48CE-85F6-4C132614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6EA-12F8-446B-9090-D2585001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D8A-9192-445B-A437-4740A343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BCD-BF79-4E96-8B00-8B359F5D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06E-B136-4F38-B205-FB83E625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CAC-3AB4-410A-A675-EC361107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F94-AF9D-49B9-A7C4-1AE36CCB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82C-18CA-47A2-B30B-F2787C7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F46-350B-47E9-B2F7-DAE36BF8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FCE-C06C-4773-9E39-0D6CE54C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CE3-EE23-429A-BC89-1E476FE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8B6-24EC-4B45-8C2B-2EE4329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D571-9861-468E-B40A-3F1753AA7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Lord, What a Mo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0240" y="106668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; Rev. 6:12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’ll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mpet 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ou’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nner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ou’ll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ian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08:55Z</dcterms:modified>
  <cp:revision>56</cp:revision>
  <dc:subject/>
  <dc:title>PowerPoint Presentation</dc:title>
</cp:coreProperties>
</file>