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29C-9890-466D-97FF-8AACC0DF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A6B-184C-4F10-BA33-6C6B0B87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553-A82C-44F8-9921-BADEC8FB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EF1-14E2-44B2-B3EE-05D35179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2DF-2AEB-44F3-8321-CB69445C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2FF-D843-47DA-B37B-726BFC0F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AB9-61E5-46A5-AB12-5FFFEBCE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9F8-BCCD-4603-BC7A-00FEF545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345-4AFD-4E13-90BA-7BE4E60D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D8F-C979-4AFE-A658-B1E970BA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F48-8FAA-47F1-AB90-1B15014F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F98-FC06-4474-AD3B-D88B40D3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79A7-57F8-4646-AE46-4B3A1CD96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uando El Pobre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When the Poor 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. A. Olivar and Miguel Manzano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George Lockwood (Mt. 25:31-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uando el po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da tiene y aun repa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el hom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sa sed y agua nos d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1 Ediciones Paulinas; trans. © 1980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uando abun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bie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llena los hoga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un hom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nde hay gue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ne paz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0968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“hermano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 llamamos al extra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the poor 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have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re with strang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thirs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give unto us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cripp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wea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en othe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hen at last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their comfo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y hope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n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ms hopeles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love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e at t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ms all around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en our joy f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c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overfl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our lips can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words other than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146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el 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b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u hermano fortale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know tha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mple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tt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our home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ed with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abund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learn how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peace instead of w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each str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called a neighb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219320"/>
            <a:ext cx="9144000" cy="40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uando sufre 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mbre y log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 consuel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espera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se cansa de esper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amam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unque el odio nos rod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uando cre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alegría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s inun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dicen nuestr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bios la verd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1337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amamos 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ir de los sencillo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13:02Z</dcterms:modified>
  <cp:revision>145</cp:revision>
  <dc:subject/>
  <dc:title>PowerPoint Presentation</dc:title>
</cp:coreProperties>
</file>