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F3C-7934-46BC-91A2-7A6B6568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DC1-25A5-4297-BCA6-F87FC70A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2D1-D00F-498C-9CC5-F2D9AFDC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BDB-88FB-4329-AAAE-483855B0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857-DF07-4E69-9FD7-73CBF04E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848-D605-43FC-ACBA-1BABF1BF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B8C-3413-43CE-9740-247DA16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310-122A-47DA-9DC8-9C33081E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90F-0534-4DBA-A885-5C01AC4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907-300F-48F7-B673-D8CED26B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4BA-C9ED-428F-9F6D-AD7B1F1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C51-2D51-4539-9A1B-F1BFAB29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587B-21CA-4D94-9474-61FD0F834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Can We Name a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can we name a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kens heart and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dwelling al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know or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do or seek or fi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6040" y="10922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our daily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human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echoes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is f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 in the common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we awoke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t on a rock of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sked no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ward but fir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sured, was simply t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, with parents’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ribe, and thus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unconf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ather 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other strong and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people share a tas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ills un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rojects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new,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do with shared de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tner’s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tter underst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should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e, and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that life is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 in a hundred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da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an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resence, sen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n at wo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ome, or in the str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every name we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s in a brighter su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Love full g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and hope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9:31Z</dcterms:modified>
  <cp:revision>27</cp:revision>
  <dc:subject/>
  <dc:title>PowerPoint Presentation</dc:title>
</cp:coreProperties>
</file>