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774-6706-46E8-B373-063CD114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CEC-7414-46A0-885B-6CECA7BE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BDF-8D21-4BC6-969E-B795DFFC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E24-659F-4373-8126-2C8F7840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F9E-A773-4773-ABCA-3549D2EE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8E7-41C0-4973-B252-13CC8BEB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061-4E35-4F4A-96CF-0B8C65E6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9C6-3C02-46C4-83BC-F3D37684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5BB-F129-4E1A-ABA0-98C5FF4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45D-FB99-41FF-AEAE-A13A09BC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AE7-C11E-400B-A49A-3DDB88A4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26D-939C-4388-9514-FB7593EF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731F-A230-4AB9-B593-F97F08C16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Blest Are The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Trust i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blest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ust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nd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ove must 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2920" y="1600200"/>
            <a:ext cx="36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yield them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 they m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do not 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from our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ripened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harvest reap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gone from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th or pri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they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leased fro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nds of t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, who tas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fo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ise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natural grief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nes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ricken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ngth and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l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05:49Z</dcterms:modified>
  <cp:revision>12</cp:revision>
  <dc:subject/>
  <dc:title>PowerPoint Presentation</dc:title>
</cp:coreProperties>
</file>