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E36-695C-4D0F-8E5B-C5E2B908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44E-AADB-4DF9-9011-0F622686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9F0-7CDD-46DB-9B28-4E6D2630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B89-F4C5-433E-9417-B279D475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919D-646D-481F-B929-1CE6BEF1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07AD-5351-420A-8788-DCFEDA2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A674-24FC-48DF-AEC7-926B3D8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719E-F8B4-41A8-A14E-194F2643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ADC-4923-4C06-BA9B-1526F535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AB4-142B-45E5-B77D-4EF57B2D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38A-27A9-4568-903B-C669380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D77-8FF5-41E3-A24C-2DC7572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2EDE-98B7-4937-8549-064B7B3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C98-E81B-4442-A039-157BEA0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6E18-3A08-4BC6-8238-0B960643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6BD-6009-49E8-94BE-A59E8CF9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938-59D7-4BBC-A03D-0E1AC39C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385-30CE-4D94-A115-6915C7F6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78A-2544-4B8F-80C2-05940F9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E21-3247-49AD-BCB4-8DC83E2E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D82-D784-457A-BD35-704D6AE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EB2-251C-4211-B9ED-A438CC0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8CA-1BDF-4458-8C65-C5D2E01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8AC-F956-44A7-B384-EE4097C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A4C-E5D4-4199-A19C-51DC978A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8255-499A-45C3-8BB5-D34CB748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62680" y="9907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9320"/>
            <a:ext cx="9144000" cy="31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2680" y="7621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3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inner, do you love my Jesus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                             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f you love him, why not serve him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We are climbing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71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03T21:29:07Z</dcterms:modified>
  <cp:revision>10</cp:revision>
  <dc:subject/>
  <dc:title>PowerPoint Presentation</dc:title>
</cp:coreProperties>
</file>