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8C9-1DEA-42A3-A8FF-30FF828C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0D4-2753-4891-ACF1-AC27369F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A2B-CDA3-444B-BC13-D4630ABA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7E8-04A8-43C0-B9DD-FEFFC4A8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4E2-C033-42DA-B49A-46F8C112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F8C-F26B-4358-BECB-14A719B2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EB0-344F-4E00-832D-189EFB0D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B4C-61CB-4027-9702-6064CD72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534-3DCB-4FE1-80C3-5A757C99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779-61C9-492E-A4E9-DBCAE81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2DA-5806-47B6-BD47-2D90572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2B6-1BE6-4580-AE32-C75CD25D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8B2F-99E7-46A9-AE5E-B86704E56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Faithful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aise the S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of Damascus; trans. by John Mason Neale, 1859 (Ex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 ye faith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the str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triumphant glad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 hath brought forth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to joy from sa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” with th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ather p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Alleluia!” yet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pirit ra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sed from Pharao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tter yo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d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moistened f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Red Seas wa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’Tis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ouls to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th burst his pri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ree days’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i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sun hath ris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inter of our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and dark, is fl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i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we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praise und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the que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sons,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ay of splend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roy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of fea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its joy to rend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o glad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th true aff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come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wearied str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either migh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tomb’s dark p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watc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s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thee as a m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day am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wel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idst stand, best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eth human kn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Alleluia!” now we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King im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,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st the b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tomb’s dark p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2:31Z</dcterms:modified>
  <cp:revision>73</cp:revision>
  <dc:subject/>
  <dc:title>PowerPoint Presentation</dc:title>
</cp:coreProperties>
</file>