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DF5-2A09-4B23-A85F-301D3847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211-AB5E-45C2-83C9-DE706149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3D8-8769-4025-AA94-0818582F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ADD-1B46-4ABA-ACD9-821F7FA3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3A5-5AC9-448D-B121-DC12F5E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16E-D75E-4A09-991A-046F753B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CF9-2252-4A06-AF27-AAD0EC4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CBF-0907-494B-873A-86870225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81A-24F2-40A9-A212-A80C13A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8FD-E1C2-471F-B0AF-4C5D663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F5D-FB79-4FA7-B708-ED6F1090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4E1-880A-40D3-93BF-06018585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954A-D4A0-464D-98DD-31C83F14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the Sun Doth Daily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un doth daily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en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o thee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we up our heart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160" y="1066680"/>
            <a:ext cx="79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atin hymn; trans. by J. Masters; adapt. by Horatio Nelson, 186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vide us f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ll things g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unto our souls aff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 our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in and str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 leader of our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ay ab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our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Quicken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holy will to t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thy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true impar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we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 Son, and Holy Gh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ould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magnify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9:05Z</dcterms:modified>
  <cp:revision>13</cp:revision>
  <dc:subject/>
  <dc:title>PowerPoint Presentation</dc:title>
</cp:coreProperties>
</file>