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518-7BD3-417E-A583-A796BEFA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C5A-7653-41E8-B530-3399155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5E0-4BF0-49FC-A4DC-17924D20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783-0123-4812-BD7E-81D551E9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53C-CBF0-4101-81DD-2C173E5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344-4B76-40A0-B28F-9F91CB6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626-771A-482A-A75C-421D2C0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32D-7EB5-4A10-8790-B04E75A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050-A0DE-47D4-82CE-AEE09E8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061-A14E-499E-920C-C0D17B2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9ED-D558-423D-9996-03A0406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A52-5B9D-4E25-8E99-B75D394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F68-4866-4B83-86D7-3A4F221E5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, O My Lord, I Se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O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e face to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touc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le things un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oratius Bonar, 1857 (Rev. 19:6-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sweet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est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’s great brid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bli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grasp with fir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eternal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wear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 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the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and of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ble sprea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let me fea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ing, still pro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owed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would I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brea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drin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yal wine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ide each earthly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aste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of sin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o soon we 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bols dis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ast, though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, is past and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; but thou ar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han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y shield and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east after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comes and passes 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, passing, po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lad feas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33Z</dcterms:modified>
  <cp:revision>124</cp:revision>
  <dc:subject/>
  <dc:title>PowerPoint Presentation</dc:title>
</cp:coreProperties>
</file>