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892-000F-44CB-8D69-F669957E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652-E4F3-440F-AE70-E46ABD4F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17E-4CCE-47E4-B599-4291B2EB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F1D-37FC-45B7-84CE-41BD5AA7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461-3861-4C42-A1A8-9D41353B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698-1A3D-4B0D-BE0C-CFBCEBCD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B8D-9728-42AC-B9A0-91F07A2A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39F-FCEC-4398-81B0-6908297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F99-1036-49E5-82A6-543D293F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D4F-93B8-4755-AA17-CE241C14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F21-1527-4105-B4D8-84D89490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586-3978-4850-B3CF-3966CA32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10F2-CC68-4ABB-BCEF-1A224D940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Eas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English Hymna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he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y of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winter ari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ft of the y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with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ster returns: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89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Rise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ve now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uth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and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eading the path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 life you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288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7:44Z</dcterms:modified>
  <cp:revision>81</cp:revision>
  <dc:subject/>
  <dc:title>PowerPoint Presentation</dc:title>
</cp:coreProperties>
</file>