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FF8-F1D3-4BDC-BB12-7F4007FC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A5E-5D9A-4BBD-8C38-1B2EECB4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880-602D-486B-8A08-6B8BF037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CD0-2170-4E3A-A6A5-480F1859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D06-A321-48A4-87A3-34883A7E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D9C-40B8-4476-9174-0BA70D12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A61-3D78-4F08-BEF7-F6175541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5DB-28F9-4E82-91D2-E28897D0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070-BF82-4D37-A0BE-1606264F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ADF-5566-40D3-8D34-9A47E140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57B-FDDB-46B0-89E2-349EBB08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AA6-6F05-4CF4-9955-74B22B55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0D84-82A6-4A5C-A605-9A7C8C67B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6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4</a:t>
            </a:r>
            <a:br>
              <a:rPr sz="44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King James Ver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ORDS: Psalm 24; Response 1, Isaiah 6:3; Response 2, Psalm 24:3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b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4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dvent, All Saints &amp; 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722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Who is this King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ong and 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 mighty in batt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lift them up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009880"/>
            <a:ext cx="8610480" cy="263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s this King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of hos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 is the King of glor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hall stan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holy plac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with clean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pure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506600"/>
            <a:ext cx="8610480" cy="40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 is the Lord’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 fullness thereof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ld, and the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at dwell there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066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he hath founded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se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stablished 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floo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hall ascend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ill of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who shall st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his holy pl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37016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that hath clean ha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 pure hear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hath not lifted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soul unto vani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sworn deceit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37016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shall receive the bles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God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644480"/>
            <a:ext cx="8610480" cy="336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the generation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m that seek hi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seek thy f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Jacob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 ye lifted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6:54Z</dcterms:modified>
  <cp:revision>34</cp:revision>
  <dc:subject/>
  <dc:title>PowerPoint Presentation</dc:title>
</cp:coreProperties>
</file>