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458-297C-4C8D-BB95-AB876C0A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EC0-9260-4BA0-9F8B-FA96B4BF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F6E-E223-4815-BB67-9D9B631E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D9D-80C2-4D84-AB0D-1974344C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E55-BF1C-4A4D-B05F-4235D76B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070-8C1A-46FF-9EA3-A909235F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8EF-29EC-4050-A05E-7080048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94D-6762-4B13-889A-DDCB808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474-CF36-470A-A480-BD90D292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351-4A44-473D-AD35-5D9BA05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64A-C919-4887-B0E9-6F473FC3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F90-276A-4884-A562-F81DCBB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DC01-43DB-41B9-A2CA-9AA7C223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67652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 di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3:23Z</dcterms:modified>
  <cp:revision>50</cp:revision>
  <dc:subject/>
  <dc:title>PowerPoint Presentation</dc:title>
</cp:coreProperties>
</file>