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9C30-C832-4BF4-81B2-EFCB58CC9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06BF-A1BF-48DA-8000-014ABCE21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79F5-A0D9-49AC-B84B-916EDA9FB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11DC-4BB6-4133-B91D-8357C642D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6FA8-0E77-44DB-A252-A73DC23D0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BE77-14BD-49EF-ACFF-F0697EFC5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D7F6-89B4-4B32-9245-3529F44D4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036D-126F-46B2-B571-02D719A82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83A1-C720-4EB5-AAE9-7A91C996B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322D-341B-452D-A5DC-37EFE99F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939B-24CC-4949-BBBA-0B669A6B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22E3-8843-418C-B85C-0F03CE56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E150C-F5C4-48FE-8297-F81CB6F9EF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 Those Who Mour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6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ose Who Mo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666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Laurence Hull Stookey, USA, 20th cent. (Jn. 11:35; Mt. 5: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760" y="1905120"/>
            <a:ext cx="8610480" cy="45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Gracious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as your Son wept with Mar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and Martha at the tom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of Lazaru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820800"/>
            <a:ext cx="883908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look with compassion 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those who griev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[especially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Name(s)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]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Grant them the assuranc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of your presence now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and faith in you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eternal goodnes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003320"/>
            <a:ext cx="8839080" cy="486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that in them may be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fulfilled the promi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that those who mour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shall be comforte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through Jesus Christ our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09:51Z</dcterms:modified>
  <cp:revision>153</cp:revision>
  <dc:subject/>
  <dc:title>PowerPoint Presentation</dc:title>
</cp:coreProperties>
</file>