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6AC-704F-4CFB-B38F-919BACD9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A66-F127-4CB8-B29A-12282A94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643-F1ED-43A9-A97F-A543F79F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996-01E2-4D8E-8DDB-FB1F840C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1D67-2FB7-4D50-8966-E078739E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F3AF-D4A0-4DC5-950B-160A0834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CDE2-7C0F-4540-A32F-8DE43D0E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876A-4774-4793-B7E4-112A9C07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7440-ADE3-4658-8DAA-6B9A74D6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8CA1-3269-4808-9CB9-525EF57B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DFD0-2E7B-43D4-899D-1C775F8D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C25-714D-4B03-854F-C6DE8124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9ECA-6640-4DEE-92A0-37E68A50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F86D-D95C-497B-AAC3-77424346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9832-3312-4751-B11A-EFF890D2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F5A8-9084-4122-8883-B90611C4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AF56-FF61-4314-B979-17AF1EE5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C89-9E88-4472-BF11-E6ADEDB9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0FA-78C3-4601-BB1F-15C043FD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E29-88EC-48C5-BC28-3B554CAB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5A8-69C8-4CCB-AB18-F7421C70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053-034A-4413-8C8C-6326183B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B9F-A265-4F8B-BFE3-72FA7C34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7E5-C828-4413-8AEF-15780F92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9C67-7274-42F6-960B-D05F964F0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E3F0-416D-4FF4-872B-08BDA606E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sh, O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Sons and Daugh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ash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ns and daugh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your clean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s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uth Duck, 1987 (Jn. 3:3-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glory, hon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rship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your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-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irit-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ves we off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reat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, transform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sh, O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Sons and Daugh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606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Wash, O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sons and daughter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your cleans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ters flow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uth Duck, 1987 (Jn. 3:3-8)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mber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your peopl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as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long a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ave them garmen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ight and sparkl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mpass them with love and light. Fill, anoint them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nd your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ly dove and heart’s de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We who bring t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ng for nurtu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your milk may we be fed.         Let us jo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feast, partak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up of blessing, living brea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, renew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uide our footstep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ee from sin and all its snares,     one with Chri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living, dy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your Spirit, children, heir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O how deep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holy wisdo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imagined, all your ways!            To your na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 glory, hono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our lives we worship, prais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your peop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and before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ter-washed and Spirit-born. By your gr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lives we offer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create us; God, transform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mber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your peopl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as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long a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ve them gar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nd spark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pass the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, anoint the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your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dov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’s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who bring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for nurt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mi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be f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j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east, part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p of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, renew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our footstep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its snar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ith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ving,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, hei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how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oly wisdo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magined, all your way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24T01:22:11Z</dcterms:modified>
  <cp:revision>107</cp:revision>
  <dc:subject/>
  <dc:title>PowerPoint Presentation</dc:title>
</cp:coreProperties>
</file>