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3AD-0246-4FE0-9B54-85BAE3D1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217-3F08-49E0-A029-0A68BDC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9BE-C4F6-4EE8-B92D-C5045059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4CB-AE04-415E-91A3-3CCE6A15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FBB-127A-467D-931D-1CD27FE7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A81-80E9-4017-B57F-07047F3D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598-CB21-44B6-A571-240A7D6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90E-1B82-4451-AB69-175650E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9F7-B588-41DC-8426-4E732D6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A66-C7C5-4EBC-BB73-BEC2F5D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C0F-8ED9-4FA9-93EA-C501334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746-13C0-4EE8-BAA2-1B538DF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F6B-124A-472E-AAB5-A99AB011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Sinners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sinners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on earth forgive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m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show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scribed in heave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8520" y="10666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e have felt and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fidence we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gns infalli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ho in Christ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for us hath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his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his blood appl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by his Spirit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ngs which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on us best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meek and lowl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Savior w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at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ns us with his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ur nature’s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ormed in all its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es are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of God with 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30Z</dcterms:modified>
  <cp:revision>23</cp:revision>
  <dc:subject/>
  <dc:title>PowerPoint Presentation</dc:title>
</cp:coreProperties>
</file>