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CC2D-BAEB-4B77-B57F-188DAB46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A680-5993-41AC-B487-6B260CD6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6FA6-966A-4643-9F5F-EF833EAA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A138-79BE-4D51-831D-5B368815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80EA-FA5E-4029-9401-8444F3E1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250D-DF43-4035-8729-830281D9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16F5-0BEE-4F34-81EE-02D9F425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BD65-77E4-496C-93CA-FAA43CDA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0804-DF19-465B-90D5-C6BFFA56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051A-54B3-464E-A47E-C7EF5402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7584-BD2B-4117-B2F1-AF0775EF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47BE-351E-470D-93FA-DCD7D2FF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4BB0-8897-4243-B048-5B3819D5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1645-0E6C-4E29-BF6B-6261473F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2D75-73E2-45B8-A878-25484B76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3A34-F43D-466F-8D65-E7DFFEBF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473B-4E8C-433A-A51E-16EFA8A5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00D6-8517-4126-B362-3B39766E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0534-8BAD-431E-983B-6C0CBD10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6A1D-4458-4A15-9783-6280A65E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85FF-8C92-4B93-9ED9-8B043BEC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54B3-2EAB-4F2C-8E03-F10B1A0B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8E5E-1277-48E5-A87D-0BF7075D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E2DA-4E4D-4635-9540-E20FDA6A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DA0E-FD72-442C-835F-500FBC662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30AC-60E3-46A2-857D-A364A0696E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Are Ye Ab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53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1295280"/>
            <a:ext cx="9144000" cy="51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“Are ye able,”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aid the Maste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“to be crucified with me?”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Yea,” the sturd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dreamers answer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“to the deat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e follow thee.”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762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Earl Marlatt, 1926 (Mk. 10:35-40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a,” the stur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eamers answe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to the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llow thee.”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0" y="12952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we are a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pirits are thin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old them, mak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e, divin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uiding radi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us sha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eacon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ove, and loyalty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re ye a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rememb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a thie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s up his eyes,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is pardo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is wor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 place in paradise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13716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we are a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pirits are thin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old them, mak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e, divin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uiding radi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us sha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eacon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ove, and loyalty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re ye a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shad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 around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sod,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lieve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 triump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ommend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to God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14479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we are a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pirits are thin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old them, mak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e, divin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0" y="76320"/>
            <a:ext cx="9144000" cy="644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we are abl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spirits are thin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mold them, make 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ike thee, divine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y guiding radianc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us shall b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 beacon to Go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o love, and loyalty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uiding radi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us sha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eacon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ove, and loyalty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re ye abl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the Mas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spers down eternity,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roic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s ans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as then in Galile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12952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we are a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pirits are thin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old them, mak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e, divin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uiding radi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us sha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eacon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ove, and loyalty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Are Ye Ab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53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0" y="1600200"/>
            <a:ext cx="9144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1. “Are ye able,”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aid the Mast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“to be crucified with me?”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Earl Marlatt, 1926 (Mk. 10:35-40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83808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Yea,” the sturd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dreamers answere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“to the death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e follow thee.”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0" y="76320"/>
            <a:ext cx="9144000" cy="448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we are able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ur spirits are thine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Remold them, make 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ike thee, divine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0" y="68580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y guiding radianc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us shall b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 beacon to Go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love, and loyalty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0" y="68580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2. Are ye abl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rememb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hen a thief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ifts up his eyes,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746280"/>
            <a:ext cx="9144000" cy="506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Are ye able to rememb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a thie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ts up his eyes,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his pardo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ul is wor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a place in paradise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990720"/>
            <a:ext cx="9144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at his pardon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oul is worth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f a place in paradise?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0" y="152280"/>
            <a:ext cx="9144000" cy="448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we are able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ur spirits are thine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Remold them, make 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ike thee, divine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0" y="60948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y guiding radianc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us shall b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 beacon to Go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love, and loyalty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60948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3. Are ye abl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hadow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close around you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the sod,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0" y="60948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believe tha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triumph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commend you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oul to God?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0" y="76320"/>
            <a:ext cx="9144000" cy="448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we are able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ur spirits are thine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Remold them, make 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ike thee, divine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5335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y guiding radianc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us shall b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 beacon to Go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love, and loyalty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990720"/>
            <a:ext cx="9144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4. Are ye able?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till the Maste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hispers down eternity,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0" y="1295280"/>
            <a:ext cx="9144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roic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s answ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now as then in Galilee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152280"/>
            <a:ext cx="9144000" cy="448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we are able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ur spirits are thine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Remold them, make 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ike thee, divine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76320"/>
            <a:ext cx="9144000" cy="644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we are abl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spirits are thin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mold them, make 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ike thee, divine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y guiding radianc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us shall b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 beacon to Go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o love, and loyalty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0" y="45720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y guiding radianc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us shall b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 beacon to Go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love, and loyalty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1170000"/>
            <a:ext cx="914400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3. Are ye able when the shadow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close around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the sod,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o believe that spirit triumph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o commend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soul to God?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76320"/>
            <a:ext cx="9144000" cy="644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we are abl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spirits are thin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mold them, make 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ike thee, divine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y guiding radianc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us shall b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 beacon to Go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o love, and loyalty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1050840"/>
            <a:ext cx="9144000" cy="506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re ye abl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ill the Mas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spers down eternity,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roic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s ans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as then in Galile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0" y="0"/>
            <a:ext cx="9144000" cy="644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we are abl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spirits are thin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mold them, make 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ike thee, divine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y guiding radianc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us shall b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 beacon to Go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o love, and loyalty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re Ye Ab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“Are ye able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id the Ma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to be crucified with me?”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arl Marlatt, 1926 (Mk. 10:35-40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3-24T20:56:16Z</dcterms:modified>
  <cp:revision>60</cp:revision>
  <dc:subject/>
  <dc:title>PowerPoint Presentation</dc:title>
</cp:coreProperties>
</file>