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444-5AAB-46FA-A698-A67FCDDB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5DC-2E8F-4409-BE8B-33810770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020-0814-4220-BF26-100C74D7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5A1-AEBF-4134-8402-760F2C38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822-1F7B-4F32-A1EF-AD83F59A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3D8-14EE-418F-997B-FEB67359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B7D-FCE8-40EB-828D-A5CB1F48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0FE-C12F-45A3-A7BC-774BC0D1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D2E-78DC-4C9C-B893-7954F3BC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C86-EE2D-4B99-A902-263606C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598-E896-4612-97A5-2913358A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765-0559-40D2-9E69-EAF7704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33F4-1689-4E0B-9D08-8356ADFE6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Thur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Anointed One, o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ight before he suffer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stituted the sacra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s body and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Thur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41160" y="928800"/>
            <a:ext cx="61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Mt. 26:26-29; Mk. 14:22-25; Lk. 17-20; 1 Cor. 11:23-2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rcifully grant that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receive it thank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n these holy myster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s us a pledg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eternal life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0:10Z</dcterms:modified>
  <cp:revision>16</cp:revision>
  <dc:subject/>
  <dc:title>PowerPoint Presentation</dc:title>
</cp:coreProperties>
</file>