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2EA-D60D-4019-9E37-962F1AC7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975-18E1-421D-8DA0-FB14426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79E-400A-4F43-8337-2A3366A2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765-4750-43F6-BC5B-61F29E6D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AA9-B621-49D2-8560-7D82DF97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E2A-8FF6-48D6-94CF-530E9CC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7DA-62DD-4246-B245-A5726741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52A-A1FE-4D6C-AAC5-ED13A2A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DB0-0A9F-4C03-81F5-7EAAE379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A8B-7A1B-48E7-BA8B-33DDF90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E67-F41A-438B-86C7-D67B7CA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1C5-D311-4202-9837-E825C4E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0966-FD30-4F51-942A-21E645C95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Know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know that Christ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aised and dies no mor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mbraced by deat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oke its fearful h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John Brownlow Ge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Brownlow Geyer, 1969 (Rom. 6:3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our despai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turned to blazing jo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We share by wat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his saving death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born, we shar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m an Easter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living memb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a living Christ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mes to life and gr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’s new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akes on flesh and bloo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universe restor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ole will sing: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15Z</dcterms:modified>
  <cp:revision>110</cp:revision>
  <dc:subject/>
  <dc:title>PowerPoint Presentation</dc:title>
</cp:coreProperties>
</file>