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522-139B-4665-B798-72D531F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C63-873E-40A3-BDA8-A67F7E74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D68-9571-4971-8227-F851D7AC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D2E-C26C-4D14-94DA-DF6937DC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A43-3F43-4C2F-BA6C-74D130B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FDF-F6C6-4B65-BD7F-D1E4AA1B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941-D30C-4079-B2C8-2513454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CC1-C491-4FEF-BF91-EAB7BE9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E03-DDC4-4DDE-B8FB-BE37778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B1C-0DC9-4D8E-90ED-A36A597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47E-C10E-4E4E-9889-52C2F3AD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C15-4EC1-4A6B-9E19-B4D9B0D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8AB7-17D4-4819-8243-D8DF130F4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vercoming Ad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pr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ranquill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r that our tribul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ceas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vercoming Ad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6920" y="100476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irolamo Savonarola, Italy, 15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for t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irit and thy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ou grant us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ace to overcome advers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01Z</dcterms:modified>
  <cp:revision>21</cp:revision>
  <dc:subject/>
  <dc:title>PowerPoint Presentation</dc:title>
</cp:coreProperties>
</file>