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E17A-0C9E-4613-A3C2-DC2FD1C9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ADAB-7535-4730-B153-931CA410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996F-EC67-43EB-981B-3BDF87B1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183A-264E-4C11-91DB-D3F56DB0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2031-592A-41B8-9F02-2F76E28DE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9C50-90B1-44B0-8F74-8CF5939F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2281-428F-497A-B668-D56B3AFC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CBFD-AE94-4001-9D30-5B119F5C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44E6-3F0D-4CFD-A966-F8FB7D6F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FBF8-DB77-46A6-841E-737BE559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2270-CB9C-42AE-AB7E-25968C41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B539-CFFF-4891-81EF-C8C86187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7B0B-2A5E-4CFF-9F40-EF464EF1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3A42-E5FD-4326-A855-ED9A4A94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53CA-002D-45FB-BFE4-3F93FFB8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7E0E-1B66-4AD0-AD1A-D19E2DC9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6259-333A-48D3-BB85-1C3DEEF6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4B64-0A8F-4DA2-A777-8E33DF07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D524-9258-40BA-B78B-5B45A963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B943-9B63-4940-8B7C-EF11D080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D181-02BA-44B1-ADE9-F4A8489A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2CA3-45B8-4A3F-BD46-52662839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3F91-65C3-4B75-B6D8-745B0DCA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100F-1E95-4CF5-80ED-C69392B6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025B-E80F-41C9-B79C-1684433B5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EB4A-1B00-4475-B79F-808616723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 Calls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35576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1. Jesus calls u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’er the tumul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f our life’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ild, restless sea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2320" y="762120"/>
            <a:ext cx="638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ecil Frances Alexander, 1863 (Mt. 4:18-2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give our hearts to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ine obedienc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erve and love the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est of all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 Calls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us call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the tumul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lif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d, restless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2320" y="990720"/>
            <a:ext cx="638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ecil Frances Alexander, 1863 (Mt. 4:18-2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y by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weet voice sounde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ing, “Christi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llow m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s of 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postles heard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Galilean lak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rned from h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il and kind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ing all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’ sa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Jesus call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worshi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v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’s golden sto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each ido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ould keep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ing, “Christi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me mor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n our jo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our sorr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ys of to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urs of ea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he calls,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s and pleasur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Christian, lov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than thes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Jesus calls 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y merc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or, m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ear thy c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8380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day by da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is sweet voice soundeth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aying, “Christian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ollow me!”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our heart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obedi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e and lov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st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 Calls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19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us call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the tumul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lif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d, restless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72320" y="762120"/>
            <a:ext cx="638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ecil Frances Alexander, 1863 (Mt. 4:18-2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y by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weet voice sounde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ing, “Christi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llow m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3716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s of 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postles heard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Galilean lak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rned from h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il and kind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ing all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’ sa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Jesus call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worshi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v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’s golden sto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746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each ido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ould keep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ing, “Christi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me mor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n our jo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our sorr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ys of to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urs of ea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he calls,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s and pleasur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Christian, lov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than thes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Jesus calls 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y merc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or, m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ear thy c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666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2. As of ol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 apostles heard i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y the Galilean lake,           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our heart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obedi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e and lov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st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858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urned from hom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toil and kindred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eaving all for Jesus’ sak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7333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3. Jesus calls u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rom the worship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f the vain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orld’s golden stor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8096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rom each idol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at would keep 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aying, “Christian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ove me more!”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88596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4. In our joy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in our sorrow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days of toil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hours of eas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88596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till he calls, in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ares and pleasure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“Christian, love m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more than these!”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5. Jesus calls us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y thy mercie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avior, ma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e hear thy call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11-06T15:24:47Z</dcterms:modified>
  <cp:revision>22</cp:revision>
  <dc:subject/>
  <dc:title>PowerPoint Presentation</dc:title>
</cp:coreProperties>
</file>