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501-F0D6-4A51-A601-A50BDD0F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710-8446-436C-A6D1-BDFC2E51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3C3-CBE9-4D7F-8B7C-C0D26BA2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9D8-C2CE-4221-8910-27C9FC7E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B57-493A-47A2-8161-7E25F9D7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693-F302-4D44-BF20-335EED32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119-EC9F-4942-AB96-BCF760BD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531-83D0-49C1-BDB6-35CC244D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BCA-618C-4E46-8FD4-334687AE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8E0-7244-4D4A-A964-F1B9E66F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C23-903E-4DE9-9764-31212AD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A0D-1FD1-4311-B722-EEA3653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3495-E025-457F-BA1D-2D378D37E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Friendly Be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, our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ong and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humbly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 stable ru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9360" y="1066680"/>
            <a:ext cx="53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12th cent. French carol; trans. anon.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cooed him to sl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mate and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rafter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Thus all the bea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some good sp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table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re glad to te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gifts they g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s they g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friendly bea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ound him st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ur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ong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ggy and b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carried his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hill an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rried his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ethlehem t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ggy and b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“I,” said the c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ite and 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ger for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gave him h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illow his h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c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ite and 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“I,” said the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curly h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ol for his blanket w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ore my co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hristmas mo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curly h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“I,” said the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rafters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cooed him to sl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e should not c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8:00Z</dcterms:modified>
  <cp:revision>74</cp:revision>
  <dc:subject/>
  <dc:title>PowerPoint Presentation</dc:title>
</cp:coreProperties>
</file>