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C11-25C9-4B5A-AF64-E2213197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090-F375-401E-A239-D376CA0C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22E-BBF4-4FC0-8250-CA65D033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33D-DCB4-4330-949A-44D95AEB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620-3FA8-42FC-9C8B-DE0B6121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33E-CA89-4902-B8AB-757B3079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463-8783-43A1-BD65-65E120BA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EA4-0126-4FD6-B189-4A9C2819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79A-9503-4BC8-B780-BD723D9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36A-B93C-4EE9-9CEC-EFF42B5A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757-7FCB-4E30-A582-5C1910D3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D1F-B931-4490-8A6F-C32AE248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9A22-F33C-4707-801F-EE59D09AD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Feast of Vi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9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evelation 5:12-13; trans. by John W. Arthur,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as s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gun his reig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3716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thy i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who was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blood set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peopl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rich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, and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nor,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 are hi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in in the hym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,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and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o God and the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36Z</dcterms:modified>
  <cp:revision>142</cp:revision>
  <dc:subject/>
  <dc:title>PowerPoint Presentation</dc:title>
</cp:coreProperties>
</file>