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C449-77E6-428F-8316-DDCCC233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159-34F1-403C-9165-6EE483B2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FCF-7A84-4FBA-9838-1C2F0C7E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A3E-F364-4E5B-8897-29A24D5A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A4B-6C4B-4BEB-8842-24748A75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C0B6-78DD-4AE0-993F-554132C0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B7E-7894-492B-AD30-D0341F3F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3D1-9E04-4BBC-B36A-DF1C03D6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7BED-C7F3-4A0D-8460-614DF5D0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635-AAC5-4CB6-8CE4-EA83B766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FD7E-09DC-4DE5-B89D-AF2E5BDF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53E-9CAF-470B-89A7-30E3700B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6EEC-86BD-47D6-A97F-DD1A658B3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2600" y="3808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epare the Way of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2286000"/>
            <a:ext cx="61722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e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e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pare the Way of the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0360" y="1143000"/>
            <a:ext cx="3219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Isaiah 40:3; 52: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3733920"/>
            <a:ext cx="1143000" cy="1143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2209680"/>
            <a:ext cx="1067040" cy="1067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95480" y="1523880"/>
            <a:ext cx="541044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see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160020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350532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2:39Z</dcterms:modified>
  <cp:revision>53</cp:revision>
  <dc:subject/>
  <dc:title>PowerPoint Presentation</dc:title>
</cp:coreProperties>
</file>