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C23-9AFB-448C-8D9D-626DFEF6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398-3F59-4167-8CA0-5F960636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049-71F4-42D3-AB81-5AD98B00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D52-B77A-4E6B-A7E2-B9DA26F4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BE0-D501-452E-9D5C-6CFCD61E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0E4-0777-4CBC-8ED6-0524E104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DDE-6214-43FB-B1E3-B73F3C63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56B-5FBB-4807-98A1-5FDE52E9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93B-8FE2-4A99-BB14-2CECEAA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D24-2E01-4F02-AB10-A2198BA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F24-BB2A-4E6C-AA86-D34F85C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D92-BE15-4679-844A-72359FD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12DA-B4DB-4786-A793-D876E22D8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 Thou the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u th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ands have br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u the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have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 Thou the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Longfellow, ca. 18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is th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ll, the th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st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3:22Z</dcterms:modified>
  <cp:revision>92</cp:revision>
  <dc:subject/>
  <dc:title>PowerPoint Presentation</dc:title>
</cp:coreProperties>
</file>