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FC2-CC76-4EBD-AA7B-56FCC4C5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206-E26A-4076-ADA7-B5DE7FDD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CB0-5E4A-43EA-AB79-4523BB21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EF4-5871-4A50-9ECD-4E0BB350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2F2-1BB2-4A76-B891-5BCF6260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00A-6C90-4825-8A75-3C81C41A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62F-816C-4F8D-9908-287BB8D6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353-B665-44EE-9BF8-9A3FEEAC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2C9-82E0-42BB-B51A-EBA236FD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589-212B-4DFA-8ED5-5F3BE4FB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05F-B941-4B47-9267-7DD2F67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010-25B8-4CE5-B2D7-60C4BB70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73AE-C43B-4072-A075-27EB2A1BA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yrie Ele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yrie Ele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78800" y="1004760"/>
            <a:ext cx="27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cient Gre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9:46Z</dcterms:modified>
  <cp:revision>23</cp:revision>
  <dc:subject/>
  <dc:title>PowerPoint Presentation</dc:title>
</cp:coreProperties>
</file>