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CCCD-ED84-464E-9CD3-3E5D26AEB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7496-3670-483A-B7D4-CE6C9CA3B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EA8C-41D0-4568-BB32-4D8D33C4C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31E8-1ED1-448F-AC2D-5714E3245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001E-AA1A-4846-A52D-39E8A8620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FF78-9353-4CCE-8989-431E0615A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F362-3ACC-46F1-B6B0-2E4B48C6E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A2A7-26DB-4DB4-8AF1-5BDF7EEDA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13D9-7F58-459F-A010-35F3334C3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1117-3473-4FE7-BB2E-7AC07612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F92A-D531-4BEE-B7C2-17B9410C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B261-D5EA-4B93-A5F9-A8D27935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BCC6C-BF81-45E9-8078-9CB00217DB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ove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7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0512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ve me, move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ve me to do thy will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ve me, move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ve me to do thy wi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8 Richard Alan Hender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 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64400" y="1066680"/>
            <a:ext cx="46141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Richard Alan Henderson, 197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14:03Z</dcterms:modified>
  <cp:revision>12</cp:revision>
  <dc:subject/>
  <dc:title>PowerPoint Presentation</dc:title>
</cp:coreProperties>
</file>