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4046-2F1F-4E52-AE9C-0F03E9AE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0D73-E3A1-4785-8B63-938015FD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721-7A31-4BB5-8442-2BB6F9CA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E71-25DE-418E-8607-ADA1C3D0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0ED-927E-442D-94CE-3E68C0CD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6B55-F83E-49CF-824C-7ED5C663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0C3-A5D5-4023-88E0-71AB78B5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C84B-CAD3-44DF-8C87-24747362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E0B-3CE2-43A8-A643-7AC9550A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3B7-9004-4A29-98B1-CF36CA61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C9F7-1968-4A77-B181-E11387CC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0857-FE79-4A83-B264-87637654A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209C-29E4-4CDF-9498-15AD36B2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54A4-8225-4BDE-9977-7F3A1A3E2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CB5-E9D0-418F-9680-FAA72315C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51B-60FE-4683-A599-2C17CB44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4305-6503-43D7-923B-C80E5991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783-B148-4527-B90A-96FD983E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4D0-9965-47E4-9C87-3FE4524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007-083A-4613-A241-31B6AAFD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F1E-A3FE-4E25-909C-2B301AB8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5BAF-1A6F-4A41-9C8A-3437EE22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0F0B-39C5-4D9A-9C60-F52E52E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1D4-275A-425A-B15A-15D16E03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1E50-274B-4036-987F-C69786C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CFD6-2104-4B30-A8B8-A941209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E87-0E1E-43D2-BD27-68CF31A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0E6F-7A64-44CE-BE9B-E27A4D0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CE3-760A-4260-BC99-00B7BA84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CC7F-6D65-453C-AD3F-039A5FB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D04-B66A-46B9-AFB5-75F5A28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70D8-B90A-4626-9AF2-7BCA68C7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8CAA-9A4C-4664-8032-35837D73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BC9-DAE8-4C83-84DC-21670BA2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BE3-436B-439D-9E51-9D7CEF47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C4C-BCB8-4434-8FAF-E5B15BC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86A-50BC-4853-8048-D881C3D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594-241C-409F-9DB3-BC81DBE2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136-89B1-490D-8E64-4528F56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AEC-E9BE-42A5-A2F7-399278F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986-D4A2-4A7C-9660-FF4EB05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5270-DD42-41EF-8B79-32B4D4AB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395-8CC6-43BC-B5D0-05A43FD79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t Forth b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205740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ort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ue faith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dwelling take le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rvice is end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now be exten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uits of our worship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who believ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of the t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eceptive souls r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lossom in a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and for 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ace did invite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shall unite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work f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kingd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 the c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ever li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sk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day life we will fa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457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ith ever sh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ve ever c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mbracing God’s childr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each tribe and rac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 feed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light now lea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e us as one in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we shar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n may all the l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onor to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we bear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rvice i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ow be ext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s of our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ho belie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ed of the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ptive souls 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ossom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and for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did inv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shall unit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swer the c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eve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 will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ith ever sh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ever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ing God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ch tribe and 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light now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as 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 we sha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may all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honor to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ea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ent Forth by 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685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orth 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bl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ur true faith conf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of Go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is dwelling take leav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2:05:04Z</dcterms:modified>
  <cp:revision>157</cp:revision>
  <dc:subject/>
  <dc:title>PowerPoint Presentation</dc:title>
</cp:coreProperties>
</file>