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F5F-3067-480A-B1BA-A6759F8E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338-570D-420C-9EE4-F20BDD3A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6E7-2486-4F0B-9EBB-6F4BED9B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7FD-B6E4-4FA7-B99E-74BBE80E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CC0-FE3B-4D45-AD12-F4E46700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FE4-513E-419C-831A-A8296BF9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BD8-DD10-44F6-A379-CC48B3B2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1D0-BA33-45D0-A527-CCE3B263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3A0-98E9-4A02-8DB3-022F871C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C0F-A066-4E82-B758-0BCF1194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9BC-5826-4045-80B5-F63D9F0A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200-28AD-4BFF-84DE-8ED244DB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CA4E-8A3F-4BD4-BEE4-122750EF6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eator of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rth and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Earth and S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Donald Hughes, 1964, 1969 a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reator of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whom all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ower bel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By permission of The Methodist Publishing House, Eng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us your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us w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us your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us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Earth and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e have not known you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monu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folly so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our self-w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se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made us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selves the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Earth and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have not loved you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r and w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reckag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hatred sprea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ils w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uman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oil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repentant hea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ator of the Earth and Sk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e long to 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worldwide strif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shall we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w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eak to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words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our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urn to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6:59Z</dcterms:modified>
  <cp:revision>149</cp:revision>
  <dc:subject/>
  <dc:title>PowerPoint Presentation</dc:title>
</cp:coreProperties>
</file>