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6D8-7AEF-4067-9216-49B9C8BA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AB4-EC26-4D8E-AC23-2CF35079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C79-7BCF-4BC4-923F-CB32A79B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D19-AAD6-4F6D-AE16-0C213252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68F-A76F-4528-8F91-C4206F2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6E0-1E93-473A-878D-1D90723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612-50C5-4DC1-A215-325EAFDF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19F-5802-4233-A43C-2CF26427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7EA-D5DE-4399-9553-8C717FAD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AD8-E752-48E1-B903-302BDD2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9EE-0A6F-407E-B15A-D5F974B7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3F8-352D-421A-AEB3-696A91B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56B5-940C-459B-A2A3-33939617B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tany for Christian 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36640"/>
            <a:ext cx="883908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 in all Christia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th in Christ, the Savi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The Crossroad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any for Christian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2400" y="114300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arol Wojtyla (Pope John Paul II), Poland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to sus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uide Christians with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fts along the way to full 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ft of unity and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576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 We ask you, 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for the gifts of your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Enable us to penet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e depth of the who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ruth, and gran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e may share with oth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e goods you have p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t our dispo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us to overcome division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Send us your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lead to full unity your 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daughters in full cha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obedience to your wil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54Z</dcterms:modified>
  <cp:revision>33</cp:revision>
  <dc:subject/>
  <dc:title>PowerPoint Presentation</dc:title>
</cp:coreProperties>
</file>