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26E6-D00E-4A58-BBB1-CA6904EE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163-52DB-426A-AEFB-D0424296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68B-0808-4D0C-B495-D037F43B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9C0-F14F-4D6C-85FA-98552BEA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D70-95CB-4CF7-9AF6-11C25F19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DDBE-0909-49DA-B8ED-016E0DBD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0E1C-18CF-4AAF-BC1D-194BDFD1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CB1C-9E34-443B-9DD1-BF3DE9D2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83D-D220-49E9-911A-377427E2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43C-B6C9-485F-B0DC-C847084A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38D5-5A3E-454C-A842-3197A486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C81C-4B33-4C09-941F-55185ED1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E55D-0843-45F6-BDA2-2AAADDA51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Us Pray to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752480"/>
            <a:ext cx="88390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Let us pray to the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ray to the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1880" y="1295280"/>
            <a:ext cx="8682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Let us pray to th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Christ, have merc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752480"/>
            <a:ext cx="8763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Let us pray to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0:24Z</dcterms:modified>
  <cp:revision>27</cp:revision>
  <dc:subject/>
  <dc:title>PowerPoint Presentation</dc:title>
</cp:coreProperties>
</file>