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3B5-91BD-4E02-9C30-22C75AFF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FDB-9654-4B58-8FCE-A409AE05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4E6-3B64-4039-8C21-8921E9A2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579-00C6-474A-AAC4-777C2E27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072-26E4-463C-A0A6-A2913F0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33F-1FEF-482E-ABE4-8A943E4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7AE-289A-4874-BC59-E2319448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9D8-E41F-4D68-A3C3-BC5809E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842-6751-44DE-AB7B-F13E3CCC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17F-26AE-4B69-9599-AC04CE4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22A-6C3D-4B6D-9822-1BCC02E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E1E-467A-4F56-BCAC-7A2B572F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9427-17DF-4459-A696-C5DD896B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Master, See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ime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Master,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ha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ant le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A. P. Watt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6520" y="16383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waited f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I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a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e world s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ght whi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Isra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ast enligh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43Z</dcterms:modified>
  <cp:revision>71</cp:revision>
  <dc:subject/>
  <dc:title>PowerPoint Presentation</dc:title>
</cp:coreProperties>
</file>