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B60-E142-4B18-AB2D-6B00049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ACE-F706-4894-A472-DFDE929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248-8E65-4602-9D5A-E9C02193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264-63C1-488E-B6B9-F29FD306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08F3-B1E2-4F52-B41F-47DFE8F7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75B3-E726-4964-A813-9C0C9F28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29D-455F-45D5-937D-2C4F977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976-BEFB-4FC8-A3D3-3305DF3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EF42-095D-40FE-914A-32349C10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B3B-14EF-407A-8F9E-1FF7F83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675F-21E6-4543-AA54-E6E675E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689-D50C-4CBE-B11E-75C45AD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6E9-2AB9-4C66-A791-107569E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C6E-0BED-4848-8102-26DEBCD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7B4-21A6-4BC6-A64E-DB255F9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8767-FB8D-4567-9FB2-7C346072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AAE9-1E9D-49C5-8E03-FC2C4368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3AE-A540-47CB-81F8-8147B9A2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AD8-C1D8-4E6A-99FE-EA0F18D9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BA6-BCFC-411F-AD84-E893A5A6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726-50F1-4BA4-AA8B-A816EAB5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DC8-C095-4781-A4CE-B5E3F18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144-5F9B-44E9-A808-71D2329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6E-5E1C-489A-9579-862BBBB1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943-3CD2-4403-A899-6D0C8492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127-420C-4BD1-98C9-AC12A89B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15:25Z</dcterms:modified>
  <cp:revision>81</cp:revision>
  <dc:subject/>
  <dc:title>PowerPoint Presentation</dc:title>
</cp:coreProperties>
</file>