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A57-F0B7-4015-B184-80C448E0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449-FDC2-40E8-98FC-33CE1A4F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32A-AAEF-4011-974E-0341A250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CA8-DA0C-4857-B6A7-B010515E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863B-B99C-4559-8005-D976E170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63DA-57E7-446C-AC5E-DC12107E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19DB-25D3-4708-868A-77A028F9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1ED3-DBBA-49C0-A82E-1DEE3685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6FF6-50E5-4019-AB16-4950B0B0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1DD4-6FDA-4DCA-9363-0F4334C4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2432-D5D2-4DAF-AA65-DC11D790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7F2-6463-4AFC-9D46-D402C180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AB1D-626E-4FDE-B9C2-BEFBE9E5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A3F3-55D0-4275-A7AB-D0085FCA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79A6-04C0-40B0-9BA2-CA4AD8D7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9855-B218-4C26-8563-A106F739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DE68-C0B3-4A18-A6DA-A14B40E3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D97-C8BE-42E4-BA38-9E51AC9C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8CD-AA00-4755-94D5-6452C2DB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6B7-B8C1-4659-912C-9B1D7BD9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C14-ABF3-42EB-870C-2BAEAEEC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2CD-4BBA-4D80-8011-51CB7DD1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222-C0FC-4202-90D4-17B978AD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645-681B-4724-A1A7-D8FC9A27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59A8-B5AF-4DAC-8BA8-8F2D11CDC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12A1-821E-49DB-88CE-92AC198DF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rest Lor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Fairest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uler of all na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ou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n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60" y="109224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nster Gesangbuch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1677; trans. by Joseph August Seiss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e will I ch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e will I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, my sou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joy, and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air are the mead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rer still the woodl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bed in the blo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rb of spr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fai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pu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makes the wo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to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Fair is the sun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rer still the moon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the twink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rry ho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shines brigh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shines pur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all the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can bo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Beautiful Savio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 the nation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Go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Ma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, ador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and for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e will I ch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e will I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, my sou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joy, and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air are the mead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rer still the woodl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bed in the blo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rb of spr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fai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pu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makes the wo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to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Fair is the sun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rer still the moon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the twink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rry ho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shines brigh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shines pur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all the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can bo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Beautiful Savio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 the nation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Go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Ma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, ador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and for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12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rest Lor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Fairest Lord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uler of all natu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thou of G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n the Son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0160" y="97488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nster Gesangbuch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1677; trans. by Joseph August Seiss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1-12T23:09:24Z</dcterms:modified>
  <cp:revision>41</cp:revision>
  <dc:subject/>
  <dc:title>PowerPoint Presentation</dc:title>
</cp:coreProperties>
</file>