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DC9-C363-4D6D-BD1E-8859365E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930-86AE-4495-88D6-42445A4A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4B9-D7E3-4C58-BACF-5EA89503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7E3-117B-4F3B-B8BF-BC18E49C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934-BAE1-4729-98F9-EA8EDDE9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D3A-A3DF-4518-A85A-D63FD009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592-D74C-4BFD-B508-AF2C693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B10-48E1-427A-AC3E-33F94D93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C10-E997-4257-B112-A07A7D3F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C0D-A6DF-44CE-A99B-435F10F4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4D6-FD24-42DD-996C-07BF5989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D2F-F857-4475-89F1-77B8119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1592-978A-4F6C-B2B8-8BF713047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Illu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534160" cy="44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pen wide the window of our spirits, O Lord, and fill us full of light; open wide the door of our hearts, that we may receive and entertain thee with all our powers of adoration and lov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Illu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4320" y="990720"/>
            <a:ext cx="463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Christina G. Rossetti, England, 19th cent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5:45Z</dcterms:modified>
  <cp:revision>19</cp:revision>
  <dc:subject/>
  <dc:title>PowerPoint Presentation</dc:title>
</cp:coreProperties>
</file>