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4BD-2DBF-4EA6-8F1F-BFEF79A7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B2B-BDA8-404F-AF13-15774AC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AE6-996A-4B3E-A5A8-BB8A7293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DF0-0724-401B-8354-A19DFEB8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F1B-A7DE-4083-A075-B0BA42F0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806-3F96-401E-B6BD-CC491A93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60F-758A-4AF9-B995-0C77F27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A3B-D776-43EB-9647-099F7C1C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E78-6017-404A-9FCB-2553513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F4D-7191-4371-91CA-5C6A811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D54-6309-4BAC-BA0B-A549A8E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4DA-AB32-430F-9B1F-48B05722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0B05-BD39-4ED8-BA33-4F8DBDD01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k Thou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93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reak thou the brea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lo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y A. Lathbury, 18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sacred p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k thee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pirit pants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ving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less thou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, dea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ndage ceas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tters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35Z</dcterms:modified>
  <cp:revision>100</cp:revision>
  <dc:subject/>
  <dc:title>PowerPoint Presentation</dc:title>
</cp:coreProperties>
</file>