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664-76DC-4548-89F4-D58613B8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589-AAC6-41D0-81B7-268AFC27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19D-DF87-4BDE-B0D6-12AADD7B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323-35DF-4CD3-AA05-67856434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5358-911A-4B41-8E21-E6961442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BC2-7F5F-4FAE-B356-D90D82F2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B5E-C32B-4B03-ABF4-FE023388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432-DA6C-484F-BDFE-16BCD898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895-51D6-4169-8AFE-B61E721D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B9C-C7B5-4AE7-9FB6-5BC13416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89A-FB85-4F8A-AE29-3AB4888F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0FC-8424-4C8B-8DA9-CB4CB66C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06D6-E99E-4FF6-AC43-AB7FB5C60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s the Old Ship of Z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t was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dear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t was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dear fa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was goo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ear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064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It will tak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t will tak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eav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will tak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t has la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a thous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has la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a thous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has la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a thous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064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in’t no d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in’t no d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at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in’t no d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66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t was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dear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t was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dear mo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was goo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ear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17:07Z</dcterms:modified>
  <cp:revision>101</cp:revision>
  <dc:subject/>
  <dc:title>PowerPoint Presentation</dc:title>
</cp:coreProperties>
</file>