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9AE3-4C96-49D3-ACC7-35CA2D88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C8F6-6C35-4917-B166-463D3337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6B3C-D64D-4A73-8791-A6868DB4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0A36-3C7A-421E-95E0-7BEE55EF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2F31-CAA6-44DF-8409-EDE639A5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A671-6BFB-49A8-AEAD-4E4B78F4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4915-B0F9-4173-82AD-91B14979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E5E7-8D14-4F5F-AB81-7107C88D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8423-3098-4991-8CA1-13822FEC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32FB-25C3-4078-9688-277DE94C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11DE-1B0F-40C7-9403-57D2C116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ABC3-E539-47BE-96E7-FFB30E49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0216-7409-4583-8EF5-A1AEFCDA3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Meet You, O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e meet you, O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any a gui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image we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imple and w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8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Meet You, O Chri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14000" y="1092240"/>
            <a:ext cx="294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Kaan,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live in a pal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xist in a shack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ee you, the garden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tree on your bac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millions a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way and abroa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volved in our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live down the ro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Meet You, O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mprisoned in system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long to be fr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ee you,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bearing your t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 hear you, O m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gony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freedom you ma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riots you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Meet You, O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face in the pap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read and we se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ee must be plan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uman dec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You choose to be ma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one with the ear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ark of the g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pares for your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Meet You, O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dea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ri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eative your w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ee springs to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hope is resto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09:59Z</dcterms:modified>
  <cp:revision>13</cp:revision>
  <dc:subject/>
  <dc:title>PowerPoint Presentation</dc:title>
</cp:coreProperties>
</file>