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900-8B76-40B5-B957-1718AA25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D72-5377-4FC5-8D64-644ECF9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52F-17E4-4560-A06D-2E74FAEE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F78-DF36-49A4-97FE-FC769453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11CD-F9E1-40D5-90D0-4C75FB39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31FC-CD3B-4F2B-BD27-AE9C319E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69DB-BBAE-4648-8E92-9A5E468C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34BB-1BDE-4DF1-B731-3531192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61FC-5E7E-4D85-9F73-EFC6FB5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BA8-803A-477B-8098-FA91560E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972-EE2F-4B47-9AEA-434D1F8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ACC-67BD-4D19-BB85-3A9C90A6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FCF-D243-4147-9593-B307594B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84E4-8DF8-4EFF-993E-288FF1A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F66-5702-4DF2-8DAB-E8E6EFA5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D186-006B-42EF-807D-3A00D46E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F5EF-AF6F-4A72-8A41-E0767A75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923-727B-4F04-B20C-B829426A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49D-33C6-44C9-A613-9F7A064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224-977B-44D1-B7AB-8DB3490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596-CBCF-4F6B-A4E2-514C5A5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456-9558-41D2-9042-565B94E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F1A-E17D-4347-9E44-130362EF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096-8B94-465C-936C-6F00B89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4B7-4636-405B-B27F-A783C200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75D-DE9F-47F3-9A06-2392886A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own Him with 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609480"/>
            <a:ext cx="75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tthew Bridges, 1851, and Godfrey Thring, 1874 (Rev. 19: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14400"/>
            <a:ext cx="91440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1. Crown him with many crown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upon his thron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how the heavenl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anthem drowns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all music but its ow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my soul,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died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il hi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atchless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eternity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riumphed o’er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se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he came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ies now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, and ros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,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o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ma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power a scepter s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ole to p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ars may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be prayer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eign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no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und his pierced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fl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 ext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ragrance ever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s hands and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visibl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eauty glor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ail, Redeemer, hai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d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ot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wake, my soul,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him who died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ail him 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matchless 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eternity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Crown him the Lord of lif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 triumphed o’er the gra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se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r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he came to sa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glories now we 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died, and rose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died, eternal life to br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ives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ath may d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82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Crown him the Lord of pea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power a scepter s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ole to pol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ars may cea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be prayer and pra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eign shall know no e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round his pierced f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ir flowers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dise exte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fragrance ever swe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rown him the Lord of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s hands and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oun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t visible ab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beauty glorifi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hail, Redeemer, hail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ou hast died for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raise and glo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not fai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out etern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own Him wit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tthew Bridges, 1851, and Godfrey Thring, 1874 (Rev. 19: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rown hi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any crow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upon his thron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how the heave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them drow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ll music but its 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25T23:34:13Z</dcterms:modified>
  <cp:revision>88</cp:revision>
  <dc:subject/>
  <dc:title>PowerPoint Presentation</dc:title>
</cp:coreProperties>
</file>