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06A-4373-440D-91CB-478532CA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237-E00A-4319-9FCA-ED2C1D43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BA4-1FE6-4EA2-88C3-D3EA47FD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1CE-E0F4-4E3D-951B-0F777501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72F-B3BA-4AB1-9086-2E4CA09B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108-FA8A-437B-86E6-0AE2F73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05D-4F62-409B-8A57-917F2871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E58-5C4E-43A7-BE31-5FA84774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C67-0218-4FAE-A638-7D0D54EA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186-9DF5-453F-BED3-5AFEEAA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C36-792A-4EF5-AFFC-FE28E520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266-7815-427B-A5C0-7520AA24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412D-432C-44CA-B3B0-76628CE62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412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birth of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you  gave yoursel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5080" y="102888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Book of Hymns,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1966; alt. by Laurence Hull Stoo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hat, being b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our hear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he may sav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all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restore with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image and like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our Creat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whom be everlast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praise and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orld without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0:35Z</dcterms:modified>
  <cp:revision>78</cp:revision>
  <dc:subject/>
  <dc:title>PowerPoint Presentation</dc:title>
</cp:coreProperties>
</file>