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DC47-A4D1-472C-BCC1-D0C28F66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DD9E-C639-42FF-82C6-A89D88A9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0D27-5CC5-4C56-8FD4-6F9A4452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582D-A488-4C97-A232-A98064E13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936C-C1D7-462A-BB6F-7A349234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D681-0F2A-438F-B2A1-D7843D88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15EB-FFD5-49C1-A879-B5E3019F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FE91-B0E5-43BA-8251-9A448694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3F90-FFA9-42F0-9BE7-48A7693A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EA33-D1A9-4C74-A0E6-8404A73C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012B-94E1-4584-A4CF-05371DA3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6223-0A26-495F-8C85-99571C34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CD0E-25B8-4F6B-BEEA-31BCD7AB6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al Us, Emmanuel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ar Our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Heal us, Emmanu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 our pray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ait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feel thy touc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Us, Emmanuel, Hear Our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92960" y="1573200"/>
            <a:ext cx="51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illiam Cowper, 1779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(Mk. 9:14-27; Mt. 9:20-22; Mk. 5:25-34; Lk. 8:43-4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end us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spairing ho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d n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healed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ep-wounded sou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repai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suc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ur faith is fee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conf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aint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thy w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Us, Emmanuel, Hear Our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wilt thou p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the less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at f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e,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Remember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once appl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remb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relief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Us, Emmanuel, Hear Our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believe,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ears he cri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O hel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unbelief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he, too, who touc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in the pr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a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rtue stol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Us, Emmanuel, Hear Our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answe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Daughter, go in peac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faith h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thee whol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Like her, with hop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ears we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ouch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we m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Us, Emmanuel, Hear Our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12:50Z</dcterms:modified>
  <cp:revision>22</cp:revision>
  <dc:subject/>
  <dc:title>PowerPoint Presentation</dc:title>
</cp:coreProperties>
</file>