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4E0-1660-493F-9361-FC2BC80A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7C0-BBB6-491D-A4D5-C90289AC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1ED-BB06-449C-B51A-F9DEEE6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88D-793B-47A0-A050-87E6C7D0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473-0210-424D-9F03-2BD5C46F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98A-A1BD-4B4B-A99D-2234B2DC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B00-7DBD-4051-9E23-F6C565A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9C7-C61B-4BCD-8C0D-ADE0A2DE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128-31CC-4484-A290-F5CFEE93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E01-CD0C-4374-BE9C-B4E374C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815-F381-4BF1-947F-CE0A697C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63B-15E9-4123-9507-329B743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CC74-B08F-4AFA-AD02-928C59F5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for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soldiers of the cros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t high his royal bann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must not suffer los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5600" y="1600200"/>
            <a:ext cx="5568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Duffield, Jr., 1858 (Eph. 6:10-17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victory un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army shall he l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very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vanqui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is Lor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umpet call obey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th to the mighty conflic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is his glorious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that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unnumbered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ourage rise with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opp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in his strength alon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arm of fles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ll fail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dare not trust your ow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on the gospel ar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piece p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ith pray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uty c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never wanting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tan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ife will not b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 the noise of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xt the victor’s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quish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rown of life shall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ign 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7:59Z</dcterms:modified>
  <cp:revision>12</cp:revision>
  <dc:subject/>
  <dc:title>PowerPoint Presentation</dc:title>
</cp:coreProperties>
</file>