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45E-4FBA-46BD-8CD4-A06396B4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BD3-95E7-4366-98B4-05C5E06E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7B6-EC14-47C0-BA9B-ADA7D748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214-B775-43E2-9164-181C6200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2CC3-E673-4332-9902-17FFC2AD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F60F-89DC-462F-A48A-2A822653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97E9-BE7F-4FAB-8532-8B30F1B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32BA-5FDD-4BCD-9238-6594BA4F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C24D-1FE9-4CA3-93DC-D8215EC0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5E92-CDFB-4D52-AD11-B9CD4B6C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8AF9-502F-400E-A9BA-1B5DACEA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BE4-511C-46CE-B5DF-9A36F344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FB77-CA8D-44E1-8D80-0A8C3143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DC47-5203-4762-A898-0973CA5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A3D6-BF61-4150-B5C1-348295DC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C24F-E035-4D04-AA67-A6A73A18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307F-6A92-4091-9362-9BE6C273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E4F-32CD-4248-BE94-624D74FC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C8D-6593-4D6D-8B20-A353F49C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0CF-B86F-4397-93E6-B41FC86A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091-8770-4679-9991-4F5ADF92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EEE-3174-4086-A44E-CC4E80E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757-C86F-4BEB-8AAE-5EDDACA7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A77-7D15-4FEF-A24A-2B5D5C7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5BD-40F6-4997-BE7B-B2D89B4B2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8C79-D1C4-427C-ACE9-FCC46BD63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the Lor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s Risen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765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3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the Lor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 today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us say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ant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rrection,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King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of bli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to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ower to p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hrist the Lord Is Risen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380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ORDS: Charles Wesley, 173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hrist the Lord is risen today, 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arth and heaven in chorus say, 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094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aise your joys and triumphs hig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g, ye heavens and earth rep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Love’s redeeming work is d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ught the fight, the battle w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699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ath in vain forbids him r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rist has opened parad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Lives again our glorious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, O death, is now thy sting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ce he died our souls to sa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’s the victory, boasting grave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Soar we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Christ has l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llowing our exalted H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jo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iumphs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y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rep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de like him, like him we r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s the cross, the grave, the ski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Hail the Lord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arth and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 to thee by both be gi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094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e we greet triumphant 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il the Resurrection, th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6. King of glory, soul of bli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lasting life is thi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890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e to k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power to pr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us to sing, and thus to l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ve’s redee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i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ght the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attle w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in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bids him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d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ves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lorious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, O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w thy st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he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s the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asting grav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ar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rist has 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alted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lik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him we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ve,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ail the Lor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both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07T21:03:24Z</dcterms:modified>
  <cp:revision>59</cp:revision>
  <dc:subject/>
  <dc:title>PowerPoint Presentation</dc:title>
</cp:coreProperties>
</file>