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E62A-8FCA-42B3-8DA0-EABB51DB8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BE37-2A94-430A-AB0F-DDF27CA0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D1D6-599F-4A81-853D-D311FC10E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5650-7C9F-44EF-B171-B905B36E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10C7-DBD6-40A4-89B4-23F8DDC3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86EF-6DC8-4F4D-B7AF-97FFAB00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14B5-199C-4D29-B957-1119AD7C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A378-1672-4252-A7A7-055F4F96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64FB-9CC2-4017-82AA-700134B6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7468-4D90-4CF0-962C-F8290333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AA97-DFFD-4480-A64A-C235EEA0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5959-B385-4404-B3BF-503AB23E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EFC6-B7AB-4790-85A3-7D21EEE95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ejoice in God’s Sa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29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Rejoice in God’s sain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day and all day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world without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gets how to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3, 1980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 in God’s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58480" y="1143000"/>
            <a:ext cx="32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Fred Pratt Green, 197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faith in acqui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abit of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depth of ado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help us to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ome march with eve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urn them God’s 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 need to withdr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tter to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 in God’s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 carry the gosp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fi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rough flo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world is their paris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purpose is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Rejoice in those sain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praised and unkn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bear someone’s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shoulder their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 in God’s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shame our complai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comforts, our car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patience in ca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courage, is their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Rejoice in God’s sain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day and all day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world without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gets how to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 in God’s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oving, in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prove it is tru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ay of self-g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leads us to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53:05Z</dcterms:modified>
  <cp:revision>51</cp:revision>
  <dc:subject/>
  <dc:title>PowerPoint Presentation</dc:title>
</cp:coreProperties>
</file>