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386-880C-443B-8962-E1CE9254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532-C22B-4567-850E-DA78D1F7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14F-7244-412B-90CB-E269BFDA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CD3-899F-4F87-951D-6DA4BEF2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D4E-B4F7-461D-BFE3-D4EC9F0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197-FE64-49DB-8E97-F127D086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D8A-092D-4DCD-985F-C59A61ED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40E-08BC-416C-A23D-A57F17B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9C7-3FE6-4A95-9069-D342C95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234-CD22-4446-AB16-1E35BBD2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181-BA27-4005-AEA3-551BC1EE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745-A7FB-4B49-BEEB-20AF3E87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D1C1-9674-4621-9538-2610FDC4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for a New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6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art ove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art one of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me a pure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see th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arking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© 1962 Alfred A. Knopf, Inc. and Faber &amp; Faber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for a New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3920" y="990720"/>
            <a:ext cx="572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Dag Hammerskj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öld, Sweden, 20th cent. (Mt. 5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3828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humble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hear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heart of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heart of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abide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4:53Z</dcterms:modified>
  <cp:revision>14</cp:revision>
  <dc:subject/>
  <dc:title>PowerPoint Presentation</dc:title>
</cp:coreProperties>
</file>