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BFE-B317-41C3-9254-1777C944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A8C-CC26-4B52-A8F7-A427E65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7F3-F430-4077-80F0-3E33B27C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166-6DD2-434D-B169-D033C3DA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B69-68E5-4993-89D4-1A1B472C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CBE0-FFB6-469B-BEAE-98F2FFE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539C-7787-466B-89D0-0B0F471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9058-ED18-4AC5-A6CA-9E73636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EF4-17AD-4BFD-A387-EAC0D7B8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098-1F66-4C38-861D-A13007EE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3E8D-C41C-4C2C-8BC2-2D6FEF4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899-5B62-4BF5-93A9-B9135041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BAC-E8C6-4182-ACC3-2EEAD03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5329-11B9-43A4-B8B4-4C49D91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E483-CB64-4050-B1A6-CEBEB9C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43F5-B997-478D-934F-E1073C0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DBC-5685-458A-8D5D-ACC1327F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EAB-F4D7-4527-B121-145E911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03D-B7C4-4997-B96D-74554D8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FD8-84A6-4314-A07E-FBDC124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1E0-FF36-494F-AB5B-D7A9775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0B5-2E55-459A-BAAE-2A7FB080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74E-9250-4C6F-87F4-B7CE6B6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D86-F1A9-451C-BDAD-19399A3B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65D8-5838-4CEC-B4DD-9A2B45129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0655-9261-49E8-80AE-6E49176A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that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8108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that in the dark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65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grave had lain;                  quick from the d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 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8288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75248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ve had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438280"/>
            <a:ext cx="8305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60020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14T01:35:40Z</dcterms:modified>
  <cp:revision>68</cp:revision>
  <dc:subject/>
  <dc:title>PowerPoint Presentation</dc:title>
</cp:coreProperties>
</file>