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F0D-D1FC-4AF3-A868-96415B2B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173-EA00-4B3C-B98F-88540DAE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6C4-0BD7-46C9-BB9D-AF66B66D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0F0-862C-4033-97A0-8D613D2B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430-AE1E-48B8-8806-9741258D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20B-C452-4613-B629-E8FD9C93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ACA-48D1-4CD3-970E-D8403612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E57-C23D-4221-AF22-EB710FA6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274-0D4E-4B71-8D7B-1DEE06F4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098-00BF-4C87-BDA0-850A8EA1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EF1-5F9B-444A-B784-CE460E6E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800-D9C4-4A5E-B3C2-727A88D6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8833-DE31-4DA7-A24D-C70AA4DD0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First One 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6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 first one ever,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h, ever to know of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irth of Jes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as the Maid Mar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as Mary the Maid of Galile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0, 1983 Linda Wilberger E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015920"/>
            <a:ext cx="5715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inda Wilberger Egan, 1980, al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Lk. 1:26-38, 45; Jn. 4:7-26; Lk. 24:1-11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e who belie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lieves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was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id of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e who 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first one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ever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essiah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 am he,” wa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maritan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rew from the we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e who percei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perceive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perce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as the Samaritan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rew from the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e who perce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first ones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ever to know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ing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lory to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Mary, Joann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gdale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are th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y wh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a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e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a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ere Mary, Joann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gdale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are th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y wh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38:36Z</dcterms:modified>
  <cp:revision>32</cp:revision>
  <dc:subject/>
  <dc:title>PowerPoint Presentation</dc:title>
</cp:coreProperties>
</file>