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B6A-32B5-4C3D-84A1-3F590632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3D0-4BE4-4608-B001-C7B938EF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5F6-7356-489B-8E21-D8BFC682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306-9122-435D-8C42-62265170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E4B-742C-4EEF-9BC7-E5AD5F82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348-E71E-421A-BC9B-D8616AAE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28A-4B71-43A6-8A88-C6752A44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D6D-7B30-40DD-BE01-95A4FAFF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00C-68DA-4AF9-B6B1-687723C6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236-F22F-4993-BC30-C883C7B6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5C9-02C7-4455-B419-C9127AD3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BA2-7FEE-4644-B55D-8AA33F2B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97C7-6EDD-454F-AE44-A885945D7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Whose Lo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rough Humble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rd, whos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umble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e the we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uman ne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1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lbert F. Bayly, 1961, al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he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pth and grea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wns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quickened s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ing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eds and burd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ds us b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rring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reless str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abund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alled by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serv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th in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name we g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outh, the ag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n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ds to sh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heal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will and comfo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sel, 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ace we gi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r serva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n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your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,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upo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sa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fered merc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de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, your serva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the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of voice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ecra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 im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till you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der homel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he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for br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he capt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for freedo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in gr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mourn our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deep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ed the si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eed the sou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pirit kind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o s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us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s we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r lov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ing l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2:24Z</dcterms:modified>
  <cp:revision>86</cp:revision>
  <dc:subject/>
  <dc:title>PowerPoint Presentation</dc:title>
</cp:coreProperties>
</file>