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B81-90E4-4145-A4AF-6EE367C8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325-3104-4B43-B60D-DE44BC0C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D44-3C05-4733-97F0-2F0EB342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686-1696-48E9-93CF-E5D079B1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BFC-2638-4246-9420-E03F8E0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60A1-B672-46A6-BA8C-6284E157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F83-2166-42E7-B8C0-71D35109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2CCF-3BAA-491F-A8F4-CBF2E28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64F-6E1D-4275-A669-3C061A51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AD71-ECD8-417A-B704-12156185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923-6083-4AEA-9FD5-26ECABE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0CF-A604-4453-AE2F-8339CF1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DE3-8D28-41A3-8F63-CD77FB3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8CDB-E2E3-413B-AA0C-77F73DE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8031-9E85-41AA-B259-A9A1FE02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773-F4EC-405E-AE2F-1FA65C2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F46-68D0-43F8-A377-F3A8FCB7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059-678C-4412-B032-1DB5F86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06-A8D0-4651-8D9C-349197A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17E-8573-48CB-BD84-C34F12D9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D2C-E791-4D8E-BAA4-0E3B396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13D-899E-4D82-854E-1DB7A79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3A9-510C-40A1-AAA1-5ED90C8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80E-82FA-4693-95CA-AEDAA53B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F9E-FAA0-44D6-81E4-6A8301AD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5CF6-2DEF-4925-A36C-523279DCA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head and cornerst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95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y faithful loving kin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ud and honor to the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the h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orners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0:27:00Z</dcterms:modified>
  <cp:revision>65</cp:revision>
  <dc:subject/>
  <dc:title>PowerPoint Presentation</dc:title>
</cp:coreProperties>
</file>