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B0F-70D4-4F19-AA52-858A4401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022-D90E-4159-BBB1-9E7542F5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765-BB06-443E-BD6F-B8E7E05D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4F6-4253-4227-B436-77232F45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A73-1DAF-44F4-A78A-6006572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589-9F55-47CE-A791-209A3D6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BDE-1356-4EBC-B842-AC130FB4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359-93B3-4A52-85A1-37CDDA8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516-8DDA-4D6C-9FF3-E1E02372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B6E-BD51-4A51-88D8-D77090F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C93-C8D8-4985-B7C6-7AB17B5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9D6-92BB-403E-ADCE-8E36E3F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9E6-49B9-4188-B3A2-6A4FDB1D5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765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11Z</dcterms:modified>
  <cp:revision>23</cp:revision>
  <dc:subject/>
  <dc:title>PowerPoint Presentation</dc:title>
</cp:coreProperties>
</file>