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E711-FBE7-4D10-9E9C-F92BE247F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1BE8-0F3F-441C-B29C-5FBDBAE7D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1E1D-0C1D-41E9-B216-0F3F877E9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8E6C-DBD2-47DE-9EAA-9BF26E3F2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9870-9836-4756-80CC-D25A2D05C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B215-F5D6-4F88-9F06-7A3908B6A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9211-3C3D-4905-A6C4-D71B8BF38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18A7-F26C-4F15-B673-EA1AB8BAF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F5BA-9CB8-44BF-BBF5-0BCDB2F61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0E17-1CFB-4D62-BF86-EBA9A16A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54B1-4E66-4144-AEAD-0EE59A19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49B9-1784-4472-814E-078B23AB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61B31-DD1F-4AA3-BD22-7B38599358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ee the Morning Sun Ascen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7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75248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ee the morn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un ascending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adiant in the eastern sky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ar the ange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voices blend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ir praise to God on high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 the Morning Sun Ascend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44480" y="990720"/>
            <a:ext cx="594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harles Parkin, 1953 (Rev. 5:11-14; 7:11-12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y b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n hig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So may w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lowly st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in the choristers abo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ing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hole cre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ing thee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great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 the Morning Sun Ascend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y b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abov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For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ingkindness 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ed upon our earthly w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y merc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easing n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y blessing day by day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 the Morning Sun Ascend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y b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alw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“Wisdom, hon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ower, and blessing!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angelic host we cr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ound thy thr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name confes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we wou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e draw ni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 the Morning Sun Ascend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y b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n hig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28:32Z</dcterms:modified>
  <cp:revision>12</cp:revision>
  <dc:subject/>
  <dc:title>PowerPoint Presentation</dc:title>
</cp:coreProperties>
</file>