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909-F77E-4F64-A662-3CE9A973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DDF-7FD9-4C25-B5B9-27527EC9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026-FE70-4F85-BA17-116A816C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B86-61A6-4780-8AB0-E873996A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FFFC-1E42-4B41-A71A-1EBB8851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C8F-77AB-4E39-A858-8218C39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242C-E2BE-4077-83EF-22CC1737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F18E-9D13-4A90-A127-4680A74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5D09-3D95-4561-BE7C-3071695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E7EB-7D8A-4FFC-974A-A5EF18A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DE2-8822-40D5-A57C-FE6E20C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1CF-D0FC-46DA-8CAE-C3969CC1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ED92-8480-49FC-9B3A-BA1C294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6FC-1489-4BC6-9798-267D8BC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2FD-022C-4C28-957F-CBDB776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B5AD-FAFE-4584-968B-A3B0D47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CDD-B7EA-4F3B-9AD3-4B9C24FC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10F-502B-4DAA-81E6-F9CCF762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017-391B-4818-9B5D-9540A252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6EF-D92B-4BA7-B9A9-E31B671E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9D8-CA2A-4FC5-84DA-473BF026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51E-6C51-42FA-8D25-F5CDB3F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BC6-B46B-44F6-BD87-A6757EE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CA3-0440-495B-ADCE-CCC3D08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43E-9A85-4237-B0EB-C91B5DA0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3E7-5CF8-43A8-B8D2-0D61B119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this da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rth shall 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the so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ren s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shall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366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 song children 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176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His the doom, ours the mirth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he came down to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thlehem saw his birth;                        ox and ass beside hi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the cold would hid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God’s bright star, o’er his hea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se Men three to him le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neel they low by his bed,                      lay their gifts before him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 him and ador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335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On this day angels 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ir song earth shall r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ing Christ, heaven’s King,          born on earth to save u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ace and love he gav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the d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m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to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his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id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430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’s bright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Men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eel they 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thei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666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41:55Z</dcterms:modified>
  <cp:revision>13</cp:revision>
  <dc:subject/>
  <dc:title>PowerPoint Presentation</dc:title>
</cp:coreProperties>
</file>