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FCD-5F0F-4E87-960F-D6666BAE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ACBF-AA29-4C97-81AF-5F9140D2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91D-71C2-4E57-A165-5E70A1A1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B14-9A6F-4F35-86C2-E6198B32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A03-EB20-4B8D-A83B-861F396F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5A0-37D7-4A2C-9AAA-DA2DDE91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723-9593-4832-A3ED-E5DE8EDB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BD1-4175-41E6-9114-3A4D57C5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0D5-3AB6-4724-8AB8-19443002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7FC-5B6B-4CA0-AEFC-BCE4FBC7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9F8A-B618-4303-B735-D2F4CCA0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A5BA-2A94-4D90-9DCC-3755EC40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3281-940C-4610-9312-3D7921050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Jesus, I Have Promi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Jesus, I have prom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thee to the 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forever nea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Master and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I Have Prom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10600" y="1143000"/>
            <a:ext cx="512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E. Bode, ca. 1866 (Lk. 9:5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not fear the bat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thou art by my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a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path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thou wilt be my gu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let me feel thee near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is ever n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the sights that dazz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empting sounds I h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I Have Promis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oes are ever nea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ound me and with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Jesus, draw thou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ield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from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O let me hear thee speaking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accents clear and stil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bove the storms of passi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murmurs of self-will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I Have Promis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peak to reassur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asten or contro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peak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me list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guardian of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44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O Jesus, thou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ast promis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all who follow the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where thou ar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glor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re shall thy servant b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I Have Promis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esus, I have prom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thee to the 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ive me grace to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Master and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5:57Z</dcterms:modified>
  <cp:revision>18</cp:revision>
  <dc:subject/>
  <dc:title>PowerPoint Presentation</dc:title>
</cp:coreProperties>
</file>