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117-298A-4EB1-921F-EF2E1EA3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458-86BB-483A-9B33-156DF652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660-7AC9-401F-B045-961EEA79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549-8D8F-498F-B294-6ED1248C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C5DD-067E-4EEB-9A13-168081D5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540-21D5-4AEE-AAEE-C279F2D2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556-4210-496D-BE07-E09F4D18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7DF-0628-48C3-BD51-9F6856B5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A3E-4EFC-4206-AC29-82F057D0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44E-9627-4D7C-9BE1-2CC98CBA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1C8C-8A45-47F5-8F73-638D85E2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0C2B-8085-4B85-8805-8151B271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E36C-5B3B-4CD8-B75F-D255C933C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Boy-Child of 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71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65360" y="1092240"/>
            <a:ext cx="40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om Colvin, 1969 (Lk. 2: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ne with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s ou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-sent hel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Gladly we prais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ourselves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at shall we call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 of the manger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name is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is name is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ever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given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ow can he sa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an he help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here among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ift of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uman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s him our br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8:15Z</dcterms:modified>
  <cp:revision>16</cp:revision>
  <dc:subject/>
  <dc:title>PowerPoint Presentation</dc:title>
</cp:coreProperties>
</file>