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CC4-15D6-4FEB-8DCF-3EA01F97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167-06BA-4E26-BE1C-8696FEFC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BBA-4FA6-4C3A-9FD4-05F3BDC1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E3A-B3C3-481D-AEA2-E612AB78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088-D7A2-4BB6-90CA-96168A0C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0E4-1DD8-4006-BE84-0D2A28F0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0E7-116A-4C05-86C8-9B5BEFE3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1B7-9D40-4F79-B7C3-F96EA724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0C7-27EA-411B-BF65-AA83B6E4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3B4-28F8-48A8-84BE-93C831C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6A4-B3F3-459B-BA33-333A3BF8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ABC-C92D-4E4E-874B-CE96FE1D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FA86-D8DE-4784-AFDA-6B4C8DD89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ons and Daught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an Tisserand, 15th cent.; trans. by John Mason Neale, 1851, alt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s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oriou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95280"/>
            <a:ext cx="9144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bile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hen Thomas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iding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y had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sen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19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oubt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ciples’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“My pierced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mas,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s,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ow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faithless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ieving b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No longer Tho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den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w the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nds, the 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7160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,” he cr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. How blest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not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et whos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constant be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19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y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shall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death and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triump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at Easter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break of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thful wo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nt their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 angel c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hite the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sat and sp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the th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 doth g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alil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t night the apo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t in f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st them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Lord most d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d, “M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 all he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n this most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of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and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4:42Z</dcterms:modified>
  <cp:revision>74</cp:revision>
  <dc:subject/>
  <dc:title>PowerPoint Presentation</dc:title>
</cp:coreProperties>
</file>