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2F5-7387-4ABB-A74C-C333EF24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190-984D-4DA1-855C-4F15B5DC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06B-5E96-457E-B4E6-DD67AEB1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DC4-3FB6-41A5-B957-51CDA85F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ADB-1E93-446A-BB05-BB1A340D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25F-B49E-440D-AC6F-9375B9B1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576D-7DD0-4A7C-AD36-2B175C2B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815-31F2-4A6C-9DFA-1E8E0CA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D65E-A4C1-46B2-802F-15A3E88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B59F-B9F8-47D7-ADBB-36E7D636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1263-D8D6-4A68-974F-F4614EB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A2F-EA7A-450F-A4A7-E5D6F785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A41C-27EA-40F9-82BD-8A1182A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4E9A-F135-441B-A2F9-0E00C48A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D991-1CC3-4B7B-AECE-EB583240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1D78-6F43-425C-99A8-39A6BAA4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C975-A685-4B7E-992D-7A222CE6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FE8-3450-4A7C-AD55-0AB4367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F0A-3094-4A60-A549-527951C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229-EB3F-4393-8830-060764E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ECE-6546-4239-A4ED-019B82E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AB3-4237-4CD7-9E29-64E663AE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9A1-A1C1-49A7-85B3-8144ADB1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64C-5731-4494-8AB1-13374D7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87DE-86C9-4DEE-88D9-61D7AC708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140C-B9C8-433E-95CF-667909E7E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2057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09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232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3644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028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46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8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4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6-25T13:42:42Z</dcterms:modified>
  <cp:revision>20</cp:revision>
  <dc:subject/>
  <dc:title>PowerPoint Presentation</dc:title>
</cp:coreProperties>
</file>