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D78-13EC-415B-BDD0-66923C48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1EA-20F7-4B85-BE86-696F0B1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E3C-E399-469D-824C-DB0AAC3A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437-233A-4230-9DC9-3B279FFF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06A-38D4-49E2-BC3C-1F4AC49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8B7-3AE0-4B87-AA1C-30A7E5C2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12C-68E4-42B5-A4CF-B6FEBFD2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66B-8A41-40B7-BBEC-63277D67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2A8-8CA9-495C-855C-BF6DB1F8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E2A-0FB7-4BC6-B38B-8D5CDB0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B44-8065-4F60-A127-8EBE0DB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AEC-D512-4389-9EB4-E852A4F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0F16-12F5-4C23-8A34-B8081060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emos a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et’s Sing unto the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nacer el nuevo dí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Resource Publications, Inc.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7600" y="1473120"/>
            <a:ext cx="74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¡Aleluya!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686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3:54Z</dcterms:modified>
  <cp:revision>13</cp:revision>
  <dc:subject/>
  <dc:title>PowerPoint Presentation</dc:title>
</cp:coreProperties>
</file>