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EC192-DEBD-4E5E-9E1D-D12D7DD7E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CB1AD-C793-4245-AEA7-5D706F953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D7103-2D55-43C9-AF24-A24587452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1248A-C49A-4074-A521-DC94DB23F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49E2C-CB19-4D20-89A4-40E64A6F9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D45F1-C20F-41B2-B387-46984826A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D4909-F5DD-4707-8EAF-FBFBFA4BF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5F978-75FD-4D2C-AF34-3EE5442CF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9A4FE-0407-4B7D-9967-72FC3C2A6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D0712-6BA5-414E-B7B4-68A4470A1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B94CD-7088-4B9C-94E1-D2279BA68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1C056-0E8E-4D5A-9315-75F696EFD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06E26-146B-4EDE-9BD9-972AB7A92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5AF14-46B6-4BAC-9378-DFCAE7F9B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4A0C1-CB88-4015-806B-4388597EE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80277-7FCE-4470-A044-41C0EF736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82D0D-59B5-459C-8D27-CF0B60160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132AE-E0EC-4F77-9E6C-A59A9E1B1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14A92-07E7-42A8-97CA-81CF8025E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04B81-33EA-4805-B03D-31F0F872A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79B23-665F-42DD-983B-E7CBEF6DF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5B370-CD70-4EA2-AD54-939DF45C5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58903-88E8-4615-A1B3-590FB6070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DACEF-971B-45E2-9B55-6FFBA014C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B40F6-0198-4BD0-A5BE-E3101CBA01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AF344-A968-4ED9-86F3-FCB86BB2E1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136440"/>
            <a:ext cx="8915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Hymn of Promi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70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1143000"/>
            <a:ext cx="9144000" cy="4715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5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700" spc="-1" strike="noStrike">
                <a:solidFill>
                  <a:srgbClr val="000000"/>
                </a:solidFill>
                <a:latin typeface="Times New Roman"/>
              </a:rPr>
              <a:t>1. In the bulb there is a flower; in the seed, an apple tree; in cocoons, a hidden promise:</a:t>
            </a:r>
            <a:br>
              <a:rPr sz="5700"/>
            </a:br>
            <a:r>
              <a:rPr b="1" lang="en-US" sz="5700" spc="-1" strike="noStrike">
                <a:solidFill>
                  <a:srgbClr val="000000"/>
                </a:solidFill>
                <a:latin typeface="Times New Roman"/>
              </a:rPr>
              <a:t>butterflies will soon be free!</a:t>
            </a:r>
            <a:endParaRPr b="0" lang="en-US" sz="5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© 1986 Hope Publishing C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ymn of Promis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75120" y="609480"/>
            <a:ext cx="299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Natalie Sleeth, 198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6019920"/>
            <a:ext cx="9144000" cy="838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rom the pas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ll come the futur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at it hold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 myster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unrevealed until its seaso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mething God alone can se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In the e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s our beginning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our time, infinity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our doub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re is believing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our life, eternit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ymn of Promis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our death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 resurrection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t the last, a victor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unrevealed until its seaso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mething God alone can se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0" y="136440"/>
            <a:ext cx="8915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Hymn of Promi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70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1295280"/>
            <a:ext cx="9144000" cy="3207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1. In the bulb there is a flower;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in the seed, an apple tree;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in cocoons, a hidden promise: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butterflies will soon be free!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© 1986 Hope Publishing C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ymn of Promis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075120" y="685800"/>
            <a:ext cx="299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Natalie Sleeth, 198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457200"/>
            <a:ext cx="9144000" cy="3522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In the cold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and snow of winter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there’s a spring that waits to be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unrevealed until its season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something God alone can see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593640"/>
            <a:ext cx="9144000" cy="3522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2. There’s a song in every silence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seeking word and melody;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there’s a dawn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in every darkness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bringing hope to you and me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ymn of Promis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457200"/>
            <a:ext cx="9144000" cy="3522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From the past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will come the future;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what it holds, a mystery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unrevealed until its season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something God alone can see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457200"/>
            <a:ext cx="9144000" cy="3522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3. In the end is our beginning;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in our time, infinity;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in our doubt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there is believing;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in our life, eternity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ymn of Promis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457200"/>
            <a:ext cx="9144000" cy="3522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In our death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a resurrection;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at the last, a victory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unrevealed until its season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something God alone can see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212760"/>
            <a:ext cx="9144000" cy="558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In the cold and snow of winter,    there’s a spring that waits to be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unrevealed until its season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something God alone can see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5943600"/>
            <a:ext cx="9144000" cy="914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152280"/>
            <a:ext cx="9144000" cy="5396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2. There’s a song in every silence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seeking word and melody;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there’s a dawn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in every darkness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bringing hope to you &amp; me.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ymn of Promis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5943600"/>
            <a:ext cx="9144000" cy="914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228600"/>
            <a:ext cx="9144000" cy="558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From the past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will come the future;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what it holds, a mystery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unrevealed until its season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something God alone can see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5943600"/>
            <a:ext cx="9144000" cy="914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152280"/>
            <a:ext cx="9144000" cy="558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3. In the end is our beginning;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in our time, infinity;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in our doubt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there is believing;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in our life, eternity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ymn of Promis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0" y="6019920"/>
            <a:ext cx="9144000" cy="838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212760"/>
            <a:ext cx="9144000" cy="558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In our death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a resurrection;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at the last, a victory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unrevealed until its season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something God alone can see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5943600"/>
            <a:ext cx="9144000" cy="914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380880"/>
            <a:ext cx="8915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Hymn of Promi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70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1523880"/>
            <a:ext cx="9144000" cy="503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In the bulb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re is a flower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the seed, an apple tre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cocoon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 hidden promise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utterflies will soon be fre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© 1986 Hope Publishing C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ymn of Promis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075120" y="1143000"/>
            <a:ext cx="299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Natalie Sleeth, 198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the col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snow of wint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re’s a spr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waits to b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unrevealed until its seaso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mething God alone can se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There’s a so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every silenc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eeking word and melody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re’s a daw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every darknes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ringing hope to you and 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ymn of Promis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nnifer McCay</cp:lastModifiedBy>
  <dcterms:modified xsi:type="dcterms:W3CDTF">2010-06-05T23:47:33Z</dcterms:modified>
  <cp:revision>53</cp:revision>
  <dc:subject/>
  <dc:title>PowerPoint Presentation</dc:title>
</cp:coreProperties>
</file>