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F5D-A928-4A5B-B4A7-FCFBA2B0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E56-9952-41BE-ADC7-0CABBEB8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E58-387F-4667-846D-5560757C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C58-5470-47C9-BBD6-D9D7D2E4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85B-58A2-4C74-BFE7-FCD1A2A8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4E2-6A32-4ADD-8516-ECD187B4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B11-DA76-4B00-807C-1D31A8A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638-29CB-47DC-865A-9F52EC9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849-EA85-4354-9311-52422C87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48E-505F-4F24-A3B5-9D5A28EC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890-1DB5-4A4C-8A3F-6161B48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FC0-0CC9-4A95-BF79-BF37AD93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EEEA-A7A8-43CA-89CD-607C119AA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0204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, Kyrie,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800" y="990720"/>
            <a:ext cx="291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12Z</dcterms:modified>
  <cp:revision>24</cp:revision>
  <dc:subject/>
  <dc:title>PowerPoint Presentation</dc:title>
</cp:coreProperties>
</file>