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E6E-8684-4095-B37A-AAEAD27D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9F3-C267-4B83-9697-9FF93E4C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CA0-3915-4D21-9205-381AADA9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EE7-00EE-4DCC-9D25-3AD1BDC4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5D8D-983E-4883-B713-1242450D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3E4-C3BF-4D3C-9B08-D0AA935E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4E4-DE4A-44FD-B14D-A2751ACD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A2C-ECE3-48FF-997B-9AF9DA64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DA3-6E64-47AF-9CFE-8123BCBA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6A2-D44C-4C3B-B180-6A74FCEC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447-A92F-4F59-987C-6D1EF831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D05-1038-4644-A318-4E9DABC5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86B9-5B07-4F24-BA31-749118573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trife Is O’er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ttle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7652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on. Latin, trans. by Francis Pott, 1861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strife is o’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attle d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y of life is w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ng of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gu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powers of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done their wor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rist their leg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dispers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shouts of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outburs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three sad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quickly sp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ises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risen Hea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by the strip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ound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th’s dread 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ervants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ay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 to the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5:39Z</dcterms:modified>
  <cp:revision>62</cp:revision>
  <dc:subject/>
  <dc:title>PowerPoint Presentation</dc:title>
</cp:coreProperties>
</file>