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22C-EABB-4102-976F-6CA6CAD0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A08-1A71-44E1-8185-8FD6F969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42A-BC1A-4570-8ED2-932D115C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355-055C-40A1-A052-30F7C0D8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08F9-2E30-4E53-8B52-316D0288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C099-D232-487B-B457-1F511031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2D98-7C2E-4C1C-878B-F400E5F4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BB98-CBB0-4069-8E20-881D69DA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640-BFEB-4BED-9040-3C19B199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9DC9-DDE1-499B-B103-C3EB0155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BCDC-D39A-496A-A4F3-1CB62A6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76D-855C-4924-9268-7B869119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4709-A877-493D-BB5F-1ADD77E5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ADD8-E761-4E4A-BF9E-E9F4B44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2451-2A7B-44B4-8940-28402BBA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DD04-FF0B-4371-B559-BAC14C7B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BFDB-DA31-4AD6-8359-E182A102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9BF-2FF1-4982-96AE-EDAB493C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288-E572-444F-B9E4-E0659474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50F-3E42-452D-98DF-EF94EB65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F9A-C446-4B28-A126-B66A952E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984-C6F5-47CB-8796-D7A51334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419-0829-4C56-8BE6-C10F0FF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2F1-8239-4169-9D41-A0CF5EC3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50B1-A849-47BC-8182-62B21FE92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0C8A-AD3C-48C9-8083-D50E40C55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child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aid to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ary’s lap is sleep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869480" y="11811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9652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child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aid to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ary’s lap is sleep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869480" y="11811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858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lies he in such mean estat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x and ass are feeding?    Good Christians, f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nners 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Word is pleading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22860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bring him incen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ld, and myrr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peasant, king, to own him;   the King of k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loving hearts enthrone him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22860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3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1676520"/>
            <a:ext cx="5943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1. What child is this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who, laid to rest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on Mary’s lap is sleeping?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99520" y="99072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000840" y="22860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762120"/>
            <a:ext cx="5791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52280"/>
            <a:ext cx="6095880" cy="41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2. Why lies he in such mean estate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ox and ass are feeding?   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Good Christians, fear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for sinners here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lent Word is pleading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228600"/>
            <a:ext cx="5867280" cy="41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3. So bring him incense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gold, and myrrh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peasant, king, to own him;   the King of kings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brings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let loving hearts enthrone him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lies h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mean est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x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 are feed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Christians,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nners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d is pleading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bring him ince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ld, and myrr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peas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, to own him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enthrone him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1-12-21T17:51:13Z</dcterms:modified>
  <cp:revision>71</cp:revision>
  <dc:subject/>
  <dc:title>PowerPoint Presentation</dc:title>
</cp:coreProperties>
</file>