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DE7-C31E-41B4-98C6-FA720C62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167-B2E2-45B1-80C2-40CCAEFA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F42-F94E-4E97-B9A7-6DAD60D5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CF6-408D-4EEA-833E-8F6D0E12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A6F-EBE3-4672-90C8-6EE5ABF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297-A332-4F40-BEB8-FE0B9D4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B42-7C6D-49D5-93FE-51ED2A1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607-7832-4E17-8E0E-A8F031A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25C-BB02-4C25-BACF-D10971D9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4C4-C61C-4993-B4A8-0A608B80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377-B895-4363-BC64-65F00229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CCE-47C2-40A5-8F01-9F15D70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7E0A-99B4-42E1-A9E8-FB52E2F7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42Z</dcterms:modified>
  <cp:revision>54</cp:revision>
  <dc:subject/>
  <dc:title>PowerPoint Presentation</dc:title>
</cp:coreProperties>
</file>