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26-75F8-4E80-82CD-41CFD4D2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522-023B-46D0-8B4E-26154C0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BF6-3948-4BDD-BDB9-5FA01473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082-5B69-4DC9-8ED9-9E5B40D9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050-9681-460B-8C3F-08E20084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0FC-F537-449E-9F60-C7108D2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9C0-8BA2-4C37-B03D-6B29B2D0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D9D-1853-4412-9288-BD0235F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0DA-C9CD-46C0-94ED-2E0522D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41B-68E4-47D9-8400-D9F5F3C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98D-4698-4AF0-B593-0CBDAA4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516-C61D-4B08-9B44-6B9FA3A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34E-97FE-4BB4-936B-3DD5F0C8F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Bor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Il Est N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35Z</dcterms:modified>
  <cp:revision>76</cp:revision>
  <dc:subject/>
  <dc:title>PowerPoint Presentation</dc:title>
</cp:coreProperties>
</file>