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C78-7879-4128-998A-B35CD26D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687-E9C2-43E6-9282-5710A9C0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10F-4B83-413F-9102-AA6820A3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9024-B744-4A6D-8FD5-3B5306E5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5D3-110E-485A-8B28-F50DE09C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D7D-AB0E-429C-88A9-52BD5091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076-162C-4BAE-9320-FB30A953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4C5-1AE4-4FE3-BEFF-CE2BF42E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283-47CC-4AD4-B8FF-FDDCE12C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ACA-0E8D-4EA1-BE00-99AB3E56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68C-0B99-4EA3-874F-2757EA0E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69F-DA7E-4CB1-9793-443C2D8B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97F5-A337-49B8-BA07-567483D8E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Si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S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The Book of Common Prayer;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lt. by Laurence Hull Stoo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676520"/>
            <a:ext cx="8191440" cy="453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od of compass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source of life and health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trengthen and relie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your servant(s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ame(s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05740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give your power of heal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those who minis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need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60020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ose for who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ur prayers are offer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may find help in weaknes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av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your loving car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him wh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healed the si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is the physici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our sou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even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06Z</dcterms:modified>
  <cp:revision>151</cp:revision>
  <dc:subject/>
  <dc:title>PowerPoint Presentation</dc:title>
</cp:coreProperties>
</file>