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BCA-3115-495A-BFAC-E20DA897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C37-1F3A-4724-80F9-BA4F8527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4A9-3772-4B98-B2DC-19246ACF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58F-0DBA-448B-8B0F-C8B34D3E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2A9-2A17-4444-B380-F72EE62F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4FB-1A08-496B-8D95-62C1923E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CFB-EA1A-4ED9-85F5-784B48B4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8B8-27BF-44E5-AD59-D4E1DFCA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424-42B1-40C4-8ABC-0E42F12C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DAB-AE85-4FBE-B0B0-8487748A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988-6F4A-4531-B22E-0756F0B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F40-FDD6-4302-A755-BCB89BDF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A8F0-EDA7-4ECC-94B3-5A34AD19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Is 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47920"/>
            <a:ext cx="8839080" cy="508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s someone here moving  towar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e twilight of life and fearful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at which we call dea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be afraid? God is a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63 Martin Luther King, J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5560" y="914400"/>
            <a:ext cx="441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rtin Luther King, Jr., US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73240"/>
            <a:ext cx="849636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s someone here on the brin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of despair because of the dea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f a loved one, the breaking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of a marriage, or th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waywardness of a child?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81080"/>
            <a:ext cx="87631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despair? God is abl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give us the power to end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that which cannot be chang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608040"/>
            <a:ext cx="876312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s someone here anx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because of bad heal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Why be anxious? Come wha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, God is a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ll: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God is a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3T14:53:19Z</dcterms:modified>
  <cp:revision>22</cp:revision>
  <dc:subject/>
  <dc:title>PowerPoint Presentation</dc:title>
</cp:coreProperties>
</file>