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EA0-8BD3-467F-AF8A-5F0A2747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83E-00B4-427E-8846-BAB55E94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F9A-4D59-4A2A-BA97-EB7BEBCF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244-BAB5-4BE0-A59E-4E66B0AC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1D53-6D4E-4104-AC42-71CD73CB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6DB-FC3F-41CC-B66D-530F2BB1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1F05-C7C5-4B03-BCCE-DC551199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7E05-B164-43B3-9DAE-0E0017E4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B51F-3EA7-457E-86CC-27468BDB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046F-FB50-44E6-9599-9CCBA8D1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8A8A-D7FC-40C4-B723-201EA14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598-CA4F-450B-9A2F-A6CAF91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DAAA-6CCE-403E-864E-0503CE52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DF4-DBBE-4496-9942-77C1445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706C-2B86-4A72-A035-8539E59C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4248-707B-4CAB-B455-0FB7A34F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F8AA-306F-4506-A99B-5C691EBC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391-3C12-42F1-80DF-E0CEFD4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C83-B19A-4E0A-80F4-ADF89BA2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417-5BA9-4995-B44B-51F83D1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504-2C66-4D58-9AEF-26033C5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EF1-F6B1-4BCE-A295-96B73AF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8DB-63A4-4979-8A41-88250DF8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C82-C46E-47C0-B229-D3A6A2F5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541-CDF7-4493-B8F7-D75CA3AE9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C6E7-3CCB-4383-B67E-A52FAF078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55760"/>
            <a:ext cx="9144000" cy="29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O Thou who thi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ysterious brea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didst in Emmaus break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5 (Lk. 24:13-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nkindl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z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y mercy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our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o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and love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eturn, here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souls to fe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o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llowers speak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15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Unseal the volu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y gra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pply the gospel wor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pen our eyes to see thy f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arts to know the Lord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36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Of thee communing sti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mourn till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the veil remov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lk with us,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arts shall bur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flames of fervent l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Enkindle n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eavenly zea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ake thy mercy know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give our pard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ouls to fee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God and love are o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Thou who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steriou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dst in Emmaus break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5 (Lk. 24:13-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here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o f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ers sp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seal the volu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ly the gospel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to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f thee commun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ourn ti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veil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k with u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shall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lames of ferven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0T01:05:30Z</dcterms:modified>
  <cp:revision>115</cp:revision>
  <dc:subject/>
  <dc:title>PowerPoint Presentation</dc:title>
</cp:coreProperties>
</file>