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9F8-B8AF-4D15-90D9-0EEA7BD2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289-F205-4DD6-A108-0FC2B79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97-5AE7-4B4C-92C8-25AB1CA4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2DC-2A44-4A14-A68D-EA01B0D0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40F-E660-4B6A-ADBA-1C9FA89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5E7-266E-4F4C-9665-211618A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DD7-3C10-4531-92FC-44DC62E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BFF-FEFD-46A7-80B7-8F8053F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416-011C-42A1-96AB-F34D503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A0D-4A16-4D4F-B937-2208ACB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3CA-6CDC-4E2C-BFB9-96C0281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5EA-E99E-46BB-9F19-417715CD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7B1D-0DE7-44D8-AF2A-B809DE50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, How D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, how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oad, how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ills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cstas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8160" y="116856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5th cent. Latin; trans. by Benjamin Webb, 1854; a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piri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, to streng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ll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so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igh, so bro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i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should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ortal’s sak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us baptiz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f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ed s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emp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p he kn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he temp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thr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us he pray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ta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is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he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ords an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 th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eek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self, bu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us t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urged, mock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ple robe arr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 sham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gave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eath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03Z</dcterms:modified>
  <cp:revision>23</cp:revision>
  <dc:subject/>
  <dc:title>PowerPoint Presentation</dc:title>
</cp:coreProperties>
</file>