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011-00F4-454C-BA54-6DCB1134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DEF-EF41-43D0-9187-12F6E615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7DB-709F-4237-A504-E564CAB0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AE5-8510-4617-8D6E-A4D9DB90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C5A7-2F8D-4056-9202-9173D175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EABF-70E4-4C2F-B5F3-1A844100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A218-8035-4D99-938F-55975C97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190A-3096-45EC-82E7-D452BF28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9114-4D5C-4832-B20C-39BC3CE5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0ECA-4ACA-4196-BE21-ECF6728D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8D19-3185-489D-989C-CC1C00D7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F7E-7443-4CB4-A39A-8413E06C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D81B-996A-4A2D-BA14-3FE2052A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CC10-F116-4DC4-AA02-72A9741A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3B53-4059-409E-9252-FB3329C7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5000-BF4D-43E2-80A0-8F491FA6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F05A-2C5F-46B8-8D55-5D2F9B0A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A27-F5DD-497C-9FB3-4770943D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891-0A5B-477C-9639-CD00A2E6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621-3D9E-4E2C-BDF1-389E4978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149-618F-40B3-8EEF-6904241A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2DD-FA49-4E48-9DFF-6C27DBE7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D88-1FE8-4969-B959-A0811F14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0FF-0481-4EAF-97D6-7B18166C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BAD0-93F0-4036-9B2C-4D4B72AC9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3EB2-5848-4FD5-B7A5-34717408A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mething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4792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thing beautif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thing goo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my confus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understoo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Beauti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56360" y="838080"/>
            <a:ext cx="58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loria Gaither, 1971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d to offe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roken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 made some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of my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mething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1337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thing beautif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thing goo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my confus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understoo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Beauti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080" y="1015920"/>
            <a:ext cx="34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loria Gaither, 197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d to offe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roken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 made some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of my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25T01:14:55Z</dcterms:modified>
  <cp:revision>16</cp:revision>
  <dc:subject/>
  <dc:title>PowerPoint Presentation</dc:title>
</cp:coreProperties>
</file>