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C33-5BE1-4965-AC7B-ED231EC7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1D5-851E-4D0A-AFEE-2167BAEF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25A-B78A-43F5-AD70-821354C6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80E-7D7C-492A-8F14-ACC11134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D07-5646-4C00-BD96-F31E2D9F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0D2-067A-42B0-8303-F8D25DD8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B30-4D77-400D-85D7-2511A502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420-0B29-4395-88AD-738E45F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C7F-BC00-46B9-8DFF-AC2F3A27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CF9-596F-4B82-911F-6646F37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E39-317C-4A48-A520-29C3DB4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C56-5440-4A9C-86BE-1C38FE8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3523-888C-4369-B552-1B5C990D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Now in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Now in Pe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76 (Lk. 2: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600200"/>
            <a:ext cx="655344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now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now in peac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lov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urround you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Hinshaw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106668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002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2209680"/>
            <a:ext cx="7391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,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ma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1337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8:08Z</dcterms:modified>
  <cp:revision>158</cp:revision>
  <dc:subject/>
  <dc:title>PowerPoint Presentation</dc:title>
</cp:coreProperties>
</file>