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80C-7257-428A-95EA-27467898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401-D2EF-40D7-BAA1-9543B814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C9E-8519-4E0F-BE77-898D0470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398-D023-4E36-9240-32A222E0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94C-8504-4EF3-994F-5FAA8DFF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608-BE7C-4997-BAF2-7C7510F8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2A7-14DC-4097-872A-BF65B3DC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D1C-8558-4912-B578-9F02CB4A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F45-8076-46E3-9D53-C22A7275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5DF-A146-464C-9731-1E760E28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109-EEA6-4456-B873-FFF23DB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3FA-6CCB-4785-8240-50CB4FD1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0BFB-EE95-4929-B267-485F89884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 Hath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s the hours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the Lord Hath M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6002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118:2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eaven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be gl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sur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0:37Z</dcterms:modified>
  <cp:revision>14</cp:revision>
  <dc:subject/>
  <dc:title>PowerPoint Presentation</dc:title>
</cp:coreProperties>
</file>