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233-3719-4F52-AFED-BE083B86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37A-8326-46A8-A247-9A5E0673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3D4-005B-41B0-868B-C1C1AD8E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C9B-F4CC-4F8F-B986-773493A9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2C9-A77E-4BB5-AFC4-355CEF04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AB5-27EA-43E4-B42D-94B18500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EBC-AE1A-4F33-8A5C-76D2C592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B36-44CA-4B43-B686-B2494B0A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014-3B95-443F-866D-D60E4B4C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E4E-0A6A-4B37-A8F7-ABFD9F4D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8DD-96B2-4E05-A11A-486F5E78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208-4E02-4E2B-9433-3F74E9D7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7AFA-EA97-4B14-A84A-F33D994E4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urn Your Eyes upo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n Your Eyes upon Je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len H. Lemmel, 1922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445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full 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nderful face,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onderful fac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22, renewed 1950 Singspiration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thing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grow strangely d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light of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and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9:33Z</dcterms:modified>
  <cp:revision>105</cp:revision>
  <dc:subject/>
  <dc:title>PowerPoint Presentation</dc:title>
</cp:coreProperties>
</file>