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43C-05C3-4666-9BE8-20302040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55B-87F1-4CF1-BC15-4E4D8BE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196-7AB1-457D-B6F0-BD4058A0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9BC-3C11-40AA-8883-C6AC408A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466-C224-473C-B6ED-92CA073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3E5-C00E-4CED-B8E8-F827025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AFE-43BF-4620-93C8-C7040AD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028-BCBD-4DD4-909F-5F2ECBB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D4A-E23D-46AB-A23A-29B09FF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456-A877-4922-8262-3EA6CF7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4166-7BF7-474A-AA8F-F1EB792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1C7-F51A-4A3E-AEEF-35A0F7E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D63-0DF5-4890-9887-B7A7B1D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2128-A673-4FE2-B3E3-E54136A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A351-8042-41E2-85CD-94C0D1A8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73D-C72C-49AF-84ED-C5C53E74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E57B-528B-40DE-A8BA-CBF83C20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F55-0153-49DC-B0F1-371FF454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8CB-A2B6-4D72-B682-02A2E36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C4D-AB1E-4069-A32B-377A2B0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08A-A827-43D9-8E5F-7899777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B77-F6FE-45B9-B2E0-CFB4504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E6C-E49B-4726-9EE4-A94C3B1C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14C-BA0D-4F18-BA37-05A9854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FC08-0F6B-4085-9665-91E8BD0E9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341D-EAB2-4F6E-BA68-0B9237BD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064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7640" y="93996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51040"/>
            <a:ext cx="9144000" cy="290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Jesus’ hands were kind hand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7640" y="7621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432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03T23:54:54Z</dcterms:modified>
  <cp:revision>30</cp:revision>
  <dc:subject/>
  <dc:title>PowerPoint Presentation</dc:title>
</cp:coreProperties>
</file>