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CBC-0D32-4A58-A32F-116C9962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B4D-AFC7-4F4F-BFA4-982384A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AC3-626D-4A77-89A0-A582E365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517-7B27-4CC1-9BE4-8049C6C5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EED-B037-4FFA-A530-8C10DFF1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6ED-71F4-440B-A1B8-463C8311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C6D-A381-4773-ABDA-30AC08C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3B0-4C13-4908-8757-312FDB82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F29-A21B-4557-BCB8-F7EB74AE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3DE-7877-434E-8EAB-10512CA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3C3-4767-470A-A624-36EA5EC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F2C-D1CD-46BB-91BB-6DA2397D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46A-4EA6-4BD0-B15E-58B09ADC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ladsom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ladsome light, 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Creator’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ternal splendor wea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8720" y="1143000"/>
            <a:ext cx="62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cient Greek hymn; trans.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, holy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in your appea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fades the day’s last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the lamp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outpou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might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, the incarnat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 blest ado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016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f right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of holy so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on of God, lifeg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, theref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ost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does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exalt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7:08Z</dcterms:modified>
  <cp:revision>23</cp:revision>
  <dc:subject/>
  <dc:title>PowerPoint Presentation</dc:title>
</cp:coreProperties>
</file>