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B80-9C98-4818-ADE1-220416A2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BD1-6660-4B20-97A5-39A56BC4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199-E894-4FF9-9D26-22AA10A2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D71-F342-4CFA-AA7F-E4265149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65BB-649B-4BA1-937B-1B4FBB78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42BF-1474-416C-80A8-22DFCE88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51FE-CECF-41CD-A8EC-E32433E5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24EE-F4F7-455B-B8BE-6A03D639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9E3F-2BC1-41B2-A24A-01A02310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388E-A885-4690-80C9-F8DC8D03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190D-4EAE-43D3-AF3B-E59AD6F0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83B-1974-4F3F-8D8D-5906D910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115B-28E3-49F4-9768-4327F143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7CB3-BE91-447F-808D-8DCEC1FC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7CF6-0415-4B65-8FFF-CDF0726D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77A0-81C8-4133-8235-43B05E4C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DE91-DFBA-40EF-A121-982A626E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61D-78B9-4EC8-BAEF-AE71F1CC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AB1-3988-412B-8A2D-1EFD49E1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FE6-3F29-4ACB-BF99-B60A1CE8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D06-18BB-4EC4-A65D-6E5951D8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B8B-9245-4705-B7D6-29060CB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458-F43A-4375-88CF-FBC07054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469-4AC2-453E-B7C3-C79821FF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D38F-A843-4591-9BA4-58117A1E4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0429-57B7-4D8E-9FBD-D65E9F096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Leadeth Me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Blessed Thou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1296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1. He leadeth me: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 blessed thought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 words with heavenly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comfort fraught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5200" y="1295280"/>
            <a:ext cx="446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seph H. Gilmore, 1862 (Ps. 23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ntent, whatev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t I s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ince ’tis my Go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01760"/>
            <a:ext cx="91440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914400"/>
            <a:ext cx="8153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9748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And when my task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n earth is don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by thy grac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victory’s w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3352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e’en death’s cold wa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ill not fl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ince God through Jorda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01760"/>
            <a:ext cx="91440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838080"/>
            <a:ext cx="8153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Leadeth Me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Blessed Thou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e leadeth m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ed thou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ords with heave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fort frau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5200" y="1676520"/>
            <a:ext cx="446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seph H. Gilmore, 1862 (Ps. 23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’er I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I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’tis God’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1456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ate’er I do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re’er I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ill ’tis God’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185904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Sometimes mid sce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deepest gloo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times whe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den’s bowers bloo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aters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roubled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’tis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185904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I would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and in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ever murm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re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ent, what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t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’tis m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185904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when my t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rth is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by th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y’s w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01760"/>
            <a:ext cx="91440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n death’s cold w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ot f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God through Jord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185904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Leadeth Me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Blessed Thou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5526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He leadeth m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blessed thought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words with heaven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fort frau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5200" y="1295280"/>
            <a:ext cx="446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seph H. Gilmore, 1862 (Ps. 23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’er I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I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’tis God’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838080"/>
            <a:ext cx="8153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1440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Sometimes mid sce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deepest gloo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times whe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den’s bowers bloo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aters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roubled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’tis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838080"/>
            <a:ext cx="81532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76212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I would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and in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ever murm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re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ent, what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t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’tis m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91440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when my t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rth is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by th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y’s w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n death’s cold w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ot f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God through Jord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83808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Sometimes mid scen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deepest gloom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metimes wher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Eden’s bowers bloom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waters still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’er troubled sea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ill ’tis hi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7720"/>
            <a:ext cx="91440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762120"/>
            <a:ext cx="8153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Lord, I would plac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y hand in thin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or ever murmu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or repi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0-02T02:01:29Z</dcterms:modified>
  <cp:revision>47</cp:revision>
  <dc:subject/>
  <dc:title>PowerPoint Presentation</dc:title>
</cp:coreProperties>
</file>