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DE52-87E7-429D-B7C1-F7BC046C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EAA-41B4-4761-A3E5-92647A8C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E56-B454-40DE-A0C5-13E2007E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C1E-C6EC-47A7-B1B3-56932017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F40E-F42B-4AB1-B25D-B91D6F89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015-F1B6-4180-A3C3-A1EF8778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2B5-95AE-40B3-B169-DD06C67A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1F9-A220-4C29-85D1-74C22865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6FF-AA68-483B-B318-0FAB2317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915-1176-4CEE-B100-F97D074F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A2C2-47E6-437E-8897-ED1C20E4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D9AF-84FC-4F95-846E-D9D99F89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D06D-F92D-429A-A412-95A46D56B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Ris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9907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Brian Wren, 1984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456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Christ is risen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hout Hosanna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elebrate th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ay of day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k the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new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worl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till in p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its gr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monic choru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Christ is ris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et you gon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Fir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ast is with 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Hosanna every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 is risen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ush in wonder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creation is amaze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ese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surrou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, a sprea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e has g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ing le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race abou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a tast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hrist is ris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your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caver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desp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gla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morn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what love c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and d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nk the w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esurrec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serv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a fri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ong companio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and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never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74880"/>
            <a:ext cx="914400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hrist is ris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heaven</a:t>
            </a:r>
            <a:br>
              <a:rPr sz="50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evermore shal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e the sa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06:01Z</dcterms:modified>
  <cp:revision>62</cp:revision>
  <dc:subject/>
  <dc:title>PowerPoint Presentation</dc:title>
</cp:coreProperties>
</file>