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2F8-D373-4C07-9B45-AECD03E1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F7A-5463-4337-9B3E-7311820D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889-B0BF-437D-ADD8-D9487916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339-7963-4C9F-9149-7CBF6D0D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68E-C796-47E4-843F-6D5A71EE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64B-F269-4446-A75D-B35B2DAF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C12-D7FF-4754-A8C1-E6A20BA0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F03-8897-4420-802C-BE112340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69B-7002-435A-968D-8918D076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09E-39E1-4DB2-A959-2F59569A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D8B-7665-4A37-B6B7-424D43A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864-6DE3-460A-8AB4-6280B8F6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450-DF98-4C55-A63F-717675849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Our Confid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s Sh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our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a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liefs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 secu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3160" y="16257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5240" y="1096920"/>
            <a:ext cx="7913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sic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s but cannot find a 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ac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ten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faith not yet mat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lar syst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d of me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ze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68040" y="1096920"/>
            <a:ext cx="72079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our resear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ultimate unknow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must die, 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full circ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its source in Go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discip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’s hard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3960" y="1101600"/>
            <a:ext cx="7156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rudgery of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’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ough to grie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, matu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s acceptan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insights we rece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redeem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rucif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53920" y="1096920"/>
            <a:ext cx="7436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ans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world’s eternal wh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matu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ontent to live and di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5:20Z</dcterms:modified>
  <cp:revision>38</cp:revision>
  <dc:subject/>
  <dc:title>PowerPoint Presentation</dc:title>
</cp:coreProperties>
</file>