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355-723E-41EF-A831-ADC8252E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980-198A-4713-96C7-611A35D9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8FA-892A-469A-9A8A-20AC152E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E34-9E9C-4305-AEA8-D1074E10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C95-5E74-4F31-8767-EE86D94E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CA1-920D-445F-940A-2C0BB284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A29-115A-4659-B638-0E713DA2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CE2-0022-41E6-A0E6-663AD612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5E5-F9DD-49DD-8507-63FB614C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EE8-E184-44DF-A51E-284743F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EEA-9803-490A-B7FE-60C73D13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792-B9DA-4D98-AD24-C8954555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9389-D1E7-4EA1-85B9-758A5BCD0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ace Greater than Our S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rvelous gr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oving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exc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in and our guil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73800" y="1143000"/>
            <a:ext cx="540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ulia H. Johnston, 1911 (Rom. 5: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! There is fl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crimson t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er than s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b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arvelous, infin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tchles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 best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who belie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ing to see hi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you this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race recei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nder on Calvar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 outpou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whe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b was sp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 and despair, li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 waves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aten the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nfinite l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 gre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grace unt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int to the refu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ark is the s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cannot hid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an av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sh it a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6:02Z</dcterms:modified>
  <cp:revision>14</cp:revision>
  <dc:subject/>
  <dc:title>PowerPoint Presentation</dc:title>
</cp:coreProperties>
</file>