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26B-2F8C-47DE-B0CE-7B0EE9EF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5CF-2E31-4A9D-A757-6A79F1C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CDA-D77F-41F7-8A27-6D87E8B9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F64-A58F-45C4-8B4A-7ECC3FB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467-8095-49FB-AA24-AA28FB26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65D-3967-452D-9A04-A5FA1F0B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CF4-ADCD-494F-B298-7EA3260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9A6-654D-4DC7-B234-88AD446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7EF-4706-4D35-B1CB-032EE161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730-BF6E-4BBE-A0BD-0E78C23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8D0-FAA3-44C0-9AD3-FB1B11E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6DC-C9C4-49F2-A2E8-7C282425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676-CE9D-4D96-898D-49CD8BD91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, While Tre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e Still in Bloss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ith, whil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till in bloss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s the pic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ru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Ansgar Film &amp; Bokproduktion, trans. © 197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ers Frostenson, 1960; trans. by Fred Haan, 1972 (Heb.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ccept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, respo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w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send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can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ill of harv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b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to spr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ng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wn is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ticipa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is ea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y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ust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ng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ns were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ah wen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an 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aham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ely migr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w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aith, uplif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med the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divided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ebr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de them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aith believ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faith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be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6:17Z</dcterms:modified>
  <cp:revision>42</cp:revision>
  <dc:subject/>
  <dc:title>PowerPoint Presentation</dc:title>
</cp:coreProperties>
</file>