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5CC-46C6-494F-A611-E312A849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3D2-3BB0-4B74-90DE-975241FE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10A-74F2-4F81-A665-48576BD5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50B-0E5E-4F10-AEFE-88AA825B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F4B9-0D43-40BD-BD9C-50AE5DAB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974A-862D-4F80-A725-98947923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4D06-CF38-4076-AB5C-186C6D14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7968-A1A9-4235-B585-9E9F3BB5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0A70-DD36-40A0-A36A-FFDABECD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55E5-E1F2-4A02-B9B7-1EF561B0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B9CF-956A-4266-A916-6B6DB59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F73-FB18-4CEC-AF05-351F6231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3650-DAC2-42D3-BBA0-AC2242AB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34D7-FC21-4690-9753-E8E0286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464B-272E-429A-A711-F6A2B4C3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DA09-92F3-44B2-89B5-95ED21A7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991D-08CC-4789-A94B-78AADD85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A0A-4240-45AF-AA43-2C2EA3E7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83C-2B92-4C95-8DD1-8918BD51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553-008E-4449-934F-90FDC376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0BD-0A1F-41CD-83A5-7A74B586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450-DBA2-47CC-BF4C-26E27AFB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3E5-7E5D-4DE6-8664-6A75C19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090-B1B2-441F-AE92-B2555646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DBB3-6B11-48DB-8AEA-DEF691B24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BBC7-870A-4601-A18E-BDEF2A20A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30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join to sing: Alleluia! Amen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 Christ our King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5120" y="83808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ag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d the str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issful 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join to s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 Christ our K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55120" y="83808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 gracious choi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 fill the sk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 and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413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 the Lord ag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 end the str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 blissful 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2952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join to s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 Christ our K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55120" y="83808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 gracious choice.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 gracious choi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 fill the sk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 and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413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 the Lord ag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 end the str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 blissful 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2056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 fill the sky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 and frien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96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 the Lord again: Alleluia! Amen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 end the strain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9688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 blissful sho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join to s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our K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5120" y="99072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choi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the sk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9T12:30:51Z</dcterms:modified>
  <cp:revision>23</cp:revision>
  <dc:subject/>
  <dc:title>PowerPoint Presentation</dc:title>
</cp:coreProperties>
</file>