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903-4F7D-46E0-AB98-FAD7619F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731B-0759-4577-BD01-003AA7D2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2FB0-B939-4CD8-9F21-B8DE531D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55C6-F377-4509-B1DD-F33D54BA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229E-7593-4647-A1D9-2BAD863A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CFCE-16ED-467F-9DA6-00286650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79F5-9E86-4F42-8DE5-FCA37E74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3F3D-7253-4B02-BD28-AA043E57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35ED-364C-485F-BD51-E2ABE61C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1B2C-D3B9-4E2A-A75A-F0A95D13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613-F73C-4F44-8CFE-A52A8391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E1AD-456B-4794-84F1-41A99B19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2EF5-0FBD-4F22-9B41-DA3213340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ift Every Voice and S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20574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ift every voice and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earth and heaven 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ng with the harmon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berty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21 Edward B. Marks Music Company, renew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Every Voice and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ames Weldon Johnson, 192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t from the gloomy p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now we stand at l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e white gl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bright star is cast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 of our weary y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our silent t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who hast brough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far on the way; 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Every Voice and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who h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y m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d us into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us 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path, we pra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t our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ay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aces, ou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we met thee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t our heart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unk with the win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rget thee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dowed ben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we forever st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e to ou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e to our native land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our rejoicing r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as the listening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res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ud as the rolling sea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ll of the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dark p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taught u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26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ll of the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pres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brought u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cing the rising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new day beg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march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victory is won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tony the road we t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tter the chastening 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lt in the days w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unborn had died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Every Voice and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with a steady be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not our weary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 the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hich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hers sighed?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ave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 a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ith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been watered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ave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ading our p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u the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laughtered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2-03T23:53:43Z</dcterms:modified>
  <cp:revision>47</cp:revision>
  <dc:subject/>
  <dc:title>PowerPoint Presentation</dc:title>
</cp:coreProperties>
</file>