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2A4-5ADA-4F96-9715-34C098BF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AA5-2628-4EC0-96BE-4941D1B1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AC2-1069-4999-BACA-EEC9CE40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272-47D5-4AF6-AFA1-45744561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872-0972-4489-A371-F828E5DB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537A-6C0B-41A0-B8A3-5AA49ACE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8BF4-BD7A-40ED-9988-EB1A6E1E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0333-5752-480B-BC6D-B75E6ED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83F3-0033-44C3-89A3-1913D2BF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1AD1-6A88-431D-BF2D-7FCB99A4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70AC-4FD6-4292-879F-452CF7A1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978-A559-46BF-AC0C-19773811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AABC-A90E-4E95-8D5F-4D7036E9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3161-ED09-4E99-BA79-F587CBF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EDE7-2775-4F27-A564-4DBA359E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72AE-2F01-41FA-8045-A9ABA9CF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93A2-FC07-42A5-A6D9-97BD3F66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143-4858-4D08-845F-CE850582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CBF-97C0-4809-A1F9-6DEF93D2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847-CA64-4972-B982-FF0CEF10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2F4-5A21-4730-99E0-D6C29333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4B9-8ECD-4A08-B673-FC25022B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157-1744-4470-9B41-66BD01E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D0E-87C7-4F72-83CC-CEC82722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42FA-BFAE-4DDC-AFFA-494A5A19F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98C4-743A-4D4F-8ACB-DD98DA32B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, Make of All Dis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458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“Go, make of all disciples.”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ear the call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comes from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y eternal W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eon M. Adkins, 1955, alt. (Mt. 28:19-2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ways of lea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arn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vent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dail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the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Go, make of all disciple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ing 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ather, Son, and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ll each new disci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llow the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soul and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t thy feet would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each life’s voc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nts thy 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ultivate the 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lants in ever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in our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ster teacher’s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lcome thy comman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alway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thy guiding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ask loom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rge before 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follow without fea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heaven and earth thy po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ring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ingdom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ways of lea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arn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vent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dail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the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Go, make of all disciple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ing 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ather, Son, and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ll each new disci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llow the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soul and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t thy feet would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each life’s voc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nts thy 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ultivate the 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lants in ever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in our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ster teacher’s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lcome thy comman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alway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thy guiding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sk loo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rge befor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without f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 and earth th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ring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, Make of All Dis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“Go, make of all disciples.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hear the call, O L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comes from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F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y eternal W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eon M. Adkins, 1955, alt. (Mt. 28:19-20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4 Abingdon Pres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16T00:15:40Z</dcterms:modified>
  <cp:revision>78</cp:revision>
  <dc:subject/>
  <dc:title>PowerPoint Presentation</dc:title>
</cp:coreProperties>
</file>