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2A59-3D8A-472B-A402-7811DB731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177B-BD79-4C2B-94EF-BC06370E9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B417-56C3-40AA-99CF-1822C9E19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EE7E-2C97-4CDC-89D8-69B88EBB3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7EA7-9F7C-4EFE-8CDB-EFEAD2A6C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4DD4-2164-4B63-A8BF-83918D5F9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5B58-A47C-450E-8B95-03368753B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36FC-2399-4E7A-B5F5-AE45C64AF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244B-C286-4116-85F0-8647DCD74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C4AE-6BBA-42B8-8524-D118A2F30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8341-CD10-4424-8A70-53A0D8633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9FCB-1202-48A7-A47C-099201B96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6379-BD0A-49D4-A52C-177008640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2454-45F7-48AD-A4AF-157E87559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0ABD-0BFC-4D17-9FCB-4029ECB74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6ED4-E005-4B05-A52D-61520707E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BF69-BB27-4B9A-967D-9D2BFED56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F751-5A29-495E-9229-035116A7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E32A-E68E-4CD4-8721-0AD24BF4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0D9F-1837-4B6C-A405-DC46E710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765D-BE0F-4C42-B1A0-E5BC0049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1BE7-7953-4DE5-8ECF-ECF81BED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035C-CF45-44F6-8200-3D8BDA5C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07B2-3624-435E-B28C-7F011BF7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A5BE-8EAE-4A62-9012-C06790E7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181D-4457-4EFC-9DEE-21BD8DFC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10BB-55F0-4790-954B-3661C99B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7C34-7310-4D4B-B08A-C9B29166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6D67-2824-41CB-92CC-5B5C41EE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162E-C6F1-401F-B74F-B642C865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7434-6B0C-4304-979F-1A7C37F1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E1FC-835E-4AA7-BE61-17B185D1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B574-4B30-490D-A8DF-35BA7F57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41C3-7E67-4AF1-AC96-038FB92B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B80E-7159-426A-979F-274FA3F2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F24C-4BAE-4EE2-A65C-942FDF82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9D22-DACB-4BB2-ABD6-22AC76D1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9CF2-06BC-4F4D-ABEB-D2B7990D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E4E3-33C3-4BFE-AA0B-51610934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605F-EB4D-48A6-BFB3-7E57E8E1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4CEA-4659-4A61-A0AF-7B881F08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DE9C-48D5-4407-8812-311B5319D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04F3-7BA4-46CB-8658-950DBD7B4B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Us Break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ead Togeth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0" y="2286000"/>
            <a:ext cx="9144000" cy="34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et us break bread together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knees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our knee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break bread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knees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our knee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1600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 (Acts 2:4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7632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I fall on my kne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fa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rising su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have merc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n me.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on me)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163440"/>
            <a:ext cx="9144000" cy="49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2. Let us drink wine together on our knees,      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(on our knees)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drink wine togethe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n our knees.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(on our knees)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9216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I fall on my kne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fa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rising su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have merc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n me.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on me)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76320"/>
            <a:ext cx="9144000" cy="49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3. Let us praise God together on our knees,      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(on our knees)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praise God togethe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n our knees.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(on our knees)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7632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I fall on my kne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fa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rising su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have merc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n me.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on me)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76320"/>
            <a:ext cx="9144000" cy="49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4. Let us praise God together on our knees,       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(on our knees)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praise God togethe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n our knees.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(on our knees)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7632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hen I fall on my knee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fa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rising su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have merc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please.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(if you please)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026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fall on my kn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y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rising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have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me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0" y="1668600"/>
            <a:ext cx="9144000" cy="34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t us drink wine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knees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our knee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drink wine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knees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our knee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fall on my kn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y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rising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have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me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1668600"/>
            <a:ext cx="9144000" cy="34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t us praise God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knees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our knee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praise God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knees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our knee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fall on my kn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y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rising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have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me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1668600"/>
            <a:ext cx="9144000" cy="34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et us praise God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knees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our knee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praise God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knees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our knee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fall on my kn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y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rising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have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pleas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f you please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Let Us Break Bread Togeth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61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0" y="1219320"/>
            <a:ext cx="9144000" cy="455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1. Let us break bread together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n our knees,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(on our knees)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break bread together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n our knees,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(on our knees)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838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African American spiritual (Acts 2:4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2-22T01:57:08Z</dcterms:modified>
  <cp:revision>124</cp:revision>
  <dc:subject/>
  <dc:title>PowerPoint Presentation</dc:title>
</cp:coreProperties>
</file>