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DD8-4760-4E2E-822A-5DFB740F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106-B9C1-40B9-909E-5AAB58B9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963-AE36-4DC2-A6C2-8EAA5DDD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C18-E4D4-4A5C-8157-AEC2C506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A541-D4C3-4411-A503-D64D19EF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BD6-B33F-4E98-99E0-9FE088C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13F-B0C6-4495-A0F8-1A7EABAA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7651-3ACD-4227-80F4-3C8241F7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14CA-3C79-4690-B534-0A7A4546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29B-4008-4D36-AB55-6F92103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B68B-1DB6-41CB-AEA4-502605F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9DD-DD4D-4BE0-A33D-A0E7A24D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9E29-F5A6-4D66-877F-414EBC8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5097-4D7F-4EAF-95CA-1C2DC05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A6C5-8BDC-41C9-A75E-BAFEE1F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E494-BD5D-4259-A53A-1C7A6C44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A78-8EA0-4B94-A03C-294813CC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2D3-62C2-4697-9F79-61587AE1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CF8-D2BD-45DD-8508-02E9832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A2D-4521-4E79-B8B0-C068640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15B-10CF-43F0-BED2-98A4221D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064-0163-430D-9A91-8C2E2F3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BA3-CC6A-4BC1-AFEF-4E50437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1BF-FD18-4CFC-BA77-1D2EFC0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2B6B-D02C-41AB-836B-1133AA8F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CE9A-5122-4CEE-9684-159FE8FD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 garden al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rds hush their sing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melody that he gave to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my heart is ring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33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I’d stay in the garden with h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ound me be falling,                      but he bids me g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voice to me is ca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den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6668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ds hush their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794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el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gav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14300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’d sta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rden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 be f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bids m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is ca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21932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rds hush their singing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the melody that he gave to m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within my heart is ringing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I’d stay in the garden with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ound me be falling,                      but he bids me go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 voice to me is call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 garden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2T22:48:38Z</dcterms:modified>
  <cp:revision>73</cp:revision>
  <dc:subject/>
  <dc:title>PowerPoint Presentation</dc:title>
</cp:coreProperties>
</file>