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361-F82D-447A-8990-8C17562B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4C0-707D-4127-AEC1-B74A3A30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23D-EF3B-4A8E-BA36-EA831CCF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524-EBD6-4F0E-8407-FC601716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6757-2E32-4D55-BC5C-485847C8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BFC5-7B1D-47EF-9B6D-983ADBD5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478F-9E80-45FD-A63C-3F848069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FA41-937E-4BD3-A42E-679A0888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F757-75AD-4069-B0AA-6308C62B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DEAA-7E4E-4B40-89FB-897CEBCC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DB2F-4C40-4EF6-B107-86469098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1A7-EC41-4C67-9FE7-E09C0B54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D911-C211-403D-ADE9-72E88FA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71FB-5896-4A7A-840F-0C93098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6206-8254-4408-8246-A63B6B1E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CC5A-A8C1-4FEE-AA6B-B66D9B0D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0C88-55AB-4ADA-BC42-A2755459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976-C73F-424C-AFEE-27D257E6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D9C-5751-4DD6-9BCB-477E95B9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214-89F0-4890-90D2-29A1EE80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E23-9BCB-41EC-B3F6-5BD3122A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331-C618-4CF8-B50D-7DA5B70A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751-410D-4D4D-A58C-BD6F341E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040-6F69-45D1-9A58-AF3D27F7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E856-CA9E-42AA-8970-275810C5D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00C1-2F8B-481B-8374-75A88E321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ust and Ob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w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ight of hi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glory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s on our 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36880" y="1066680"/>
            <a:ext cx="50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ammis, 1887 (1 Jn. 1: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in fellowship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it 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e’ll walk by his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6560" y="1863720"/>
            <a:ext cx="732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e says we will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e sends we will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ear,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ust and Ob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hen we walk with the L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light of his w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glory 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eds on our wa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066680"/>
            <a:ext cx="50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ammis, 1887 (1 Jn. 1: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do his good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abides with u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all who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Not a burden we b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 a sorrow we sha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our toil he doth richly repay; not a grief or a lo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 a frown or a cro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is blest if we trust and obe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But we never can pr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lights of his l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il all on the altar we lay;            for the favor he show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e joy he bestow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for them who will trust and ob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do his good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abides with u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all who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Then in fellowship swee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will sit at his fee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r we’ll walk by his side in the way; what he says we will d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he sends we will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ever fear, only trust and obe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a burden we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orrow we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ur toil he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ly rep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4320" y="1863720"/>
            <a:ext cx="625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grief or a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frown or a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s blest if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ut we never can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lights of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all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tar we 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05800" y="1863720"/>
            <a:ext cx="6342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favor he sh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joy he best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or them who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10T22:20:52Z</dcterms:modified>
  <cp:revision>8</cp:revision>
  <dc:subject/>
  <dc:title>PowerPoint Presentation</dc:title>
</cp:coreProperties>
</file>