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5B9-0AE1-4322-AE56-64131BED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131-2130-4E16-8E5F-AB681921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35F-42C5-471B-A78A-40F44E9A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72C-7537-4730-9D7D-B83F07AA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9094-CAC0-4EDB-AD2B-59018C65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7083-C6A6-45EC-9EDE-559BCBC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0B54-A3BE-4A73-BDFD-27C95FD9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371D-843C-473C-9637-EF3BC0E7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DF4-FBA5-45AA-9DDE-79E2BFFA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31BE-5E38-4E92-899B-114F3CB7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EDFC-4F4B-4E44-9221-8CEF9C05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60F-FBBF-47D2-A193-CEB1DB56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021B-9453-46CA-A95A-2F2C72E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3D69-CF8B-451F-A7FD-91904754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1E05-AC9C-4162-B385-80AFB489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7160-766E-4BD7-BCDE-08960AB0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4F42-4863-447B-8B53-F64B7C9C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78D-C852-4BD2-8EE2-D9A09EE0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135-1351-4C6B-9893-E51112DA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ABA-139D-4683-B775-2DE45B10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7C0-4C2C-45E9-AD99-572E7C9D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E8A-6FDA-42D4-B404-ED31A642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0A3-4C5F-4809-8FAD-70E36E7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4EE-7A7B-4C92-870E-D0254297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6380-0355-4C2A-BAC8-C8889084C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CE41-E526-4B32-BE06-35F69EA40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 Is a Founta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re is a foun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vei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owper, ca. 1771 (Zech. 1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n in a nob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er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ing thy power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 Is a Founta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0512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re is a founta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lled with bl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rawn from Emmanuel’s veins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owper, ca. 1771 (Zech. 1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066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e dying thie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ed to s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fountain in his d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Dear dying Lamb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precious bl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never lose its pow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E’er since, by fai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saw the strea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flowing wounds supp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s been my the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my th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Then in a nobl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er so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thy power to sa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dying t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d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ountain in his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ear dying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eciou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ever lose it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’er since, by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w the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lowing wounds supp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my the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my th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6-02T20:26:52Z</dcterms:modified>
  <cp:revision>124</cp:revision>
  <dc:subject/>
  <dc:title>PowerPoint Presentation</dc:title>
</cp:coreProperties>
</file>