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0C4F-FEF1-4056-AB2A-AED172D9B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356E-FBC6-46F8-BE8B-EC44B5AB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C011-2E14-4EF2-8172-9A5E8F540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B2A6-EF12-465C-91B0-5BDDDAFA6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9D64-ED26-474A-87D4-7892635E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AB0C-D21D-4C63-BB81-E4DB8017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1B08-BABD-4107-9872-99B1261A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9881-BD8D-4316-8F37-61ACB7FD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2FC6-D971-42A4-8FC9-837C3C19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9933-50F5-4ACF-ACAD-1EA01BA9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D256-B6E0-42AB-A741-E18E5C26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D4BA-3C5E-4B2C-BEA5-373B693F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4712-5838-4595-811C-DE7B1069A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Care the Eagl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ives Her You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The care the eagl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s her you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afe in her lofty ne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like the tender love of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us made manif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are the Eagle Gives Her You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62880" y="1600200"/>
            <a:ext cx="48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R. Deane Postlethwaite (Dt. 32: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s when the t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venture com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 stirs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t to f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we are pr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oldly t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trive for daring he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are the Eagle Gives Her You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nd if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utter helpless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fledgling eagles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us li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mighty w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ar us, one and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are the Eagle Gives Her You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52:28Z</dcterms:modified>
  <cp:revision>33</cp:revision>
  <dc:subject/>
  <dc:title>PowerPoint Presentation</dc:title>
</cp:coreProperties>
</file>