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9DD-CB3E-4B54-A325-6C209D65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0F5-6E22-4781-80F3-FC8F77A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34C-DAE2-43AE-A252-8C003F98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E8D-823E-418D-AED8-BDCC48B1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0F0-4090-4683-9D4E-8DA2F6F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A61-3FB5-41B4-9985-4C772CD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9D5-44AD-4739-BDE3-0ED65A3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EE1-E900-4091-974F-D7F101C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D2A-1463-4D2A-8DF1-CE91700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63B-E02A-4B5E-965D-D06942E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96A-788E-4CB0-829C-AE8AAB2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E49-209F-4AFD-88AD-A721BA2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BE5-3970-415A-856A-AF5D3F4D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ing Low, Sweet Char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1143000"/>
            <a:ext cx="50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2 Kg. 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brightes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looked over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did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d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aft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 get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all my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coming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m sometimes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’m sometimes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till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s heavenly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9:30Z</dcterms:modified>
  <cp:revision>48</cp:revision>
  <dc:subject/>
  <dc:title>PowerPoint Presentation</dc:title>
</cp:coreProperties>
</file>