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85E-74EE-4DA5-A36D-8B45AA79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25B-8126-4E6E-80AA-1D2B521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57D-CDB5-4958-B2A5-88A5D1A0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6F1-C07F-4E8C-8C16-89624A65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317-82CE-4903-BABB-4906C250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B44-9B89-49C2-A993-A17E8F8F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8D59-5C81-40BB-9391-F33E5BA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98B-AE48-40CF-9AFB-5BBC5802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CA6-29E7-4549-8A2A-77F201B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03D0-07B8-43AD-BA35-CBFBE87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6305-445B-43B7-B876-7A8CA388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4F6-3C05-45D6-B932-5066DE4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2DC3-9257-4031-A347-4F97227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99B2-C9C0-4F46-B51E-47BB632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76A-901F-4B28-8186-3650CCF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BC3-DFBE-45C5-985B-1F38E465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DC5-6E04-4FCD-BB10-CFF95F1C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375-7B93-49DF-985F-0AF2F03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C23-250D-48FA-B5B3-1E66E39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C97-A7CA-4BAA-B633-43C6675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A3F-F6D6-4D4B-AA7E-F9E3081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FDC-FFCC-4AEA-A37C-CB08A4E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8B5-B0B1-48B4-955D-B460243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9F8-6787-4CC9-9CEC-1CBD734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7D55-FAD7-4330-B26C-36B93E80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902-9B6C-4157-8B05-27A2E3AC8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ste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 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n trouble move the fas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rou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716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0574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Easter people, raise your voi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2:04:11Z</dcterms:modified>
  <cp:revision>61</cp:revision>
  <dc:subject/>
  <dc:title>PowerPoint Presentation</dc:title>
</cp:coreProperties>
</file>