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B5B-D2B7-4DDC-ADA0-BBC03842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8ED-7C7D-4B7A-96D5-29C7C125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81B-E930-4599-8C38-936CFAEF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88C-8AA7-4A35-A576-E422D1D9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ECC-DC8C-4AE9-996F-1D87D3A2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4A5-ECCB-4457-A0D0-D8AF864E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272-F0ED-4EE2-8C04-FE9CC122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867-A314-446E-A19A-593FBF6B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3D6-33E6-4A49-96E7-7BA0D8FC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750-42DC-4E43-9896-02BC093A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5DC-C234-454A-BF29-09E591AD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F7B-C11F-4DFD-9046-7FD96BD8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A3D5-A11B-40B3-9F03-E357966B7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ive Me the Fait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ich Can Rem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ive me th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can re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k the moun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p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8640" y="1600200"/>
            <a:ext cx="51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Mk. 11:20-2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large, in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ou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it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l I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rength ex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zeal like t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 them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open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eep for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epherd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me the child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ing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longs to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u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, let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o’er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si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devou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would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red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nger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nd an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pent for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ve not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y on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mission p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ly breat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eathe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talents,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thy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ach thy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lory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every sac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ment sp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blis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nner’s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9:28Z</dcterms:modified>
  <cp:revision>9</cp:revision>
  <dc:subject/>
  <dc:title>PowerPoint Presentation</dc:title>
</cp:coreProperties>
</file>