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331-FF5C-4E34-94C6-623C405A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95C-8310-4171-9C7D-D8D2365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06E-CBCB-4203-9F41-FDD36D10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6EF-9D4F-4578-834E-334808C8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CEA-4BE8-4021-9591-4033E0B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D86-6FDF-474B-8E43-B14685C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D87-FBE5-46F5-AB82-2B8C5B1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91C-376F-43BF-9FC8-15D6B1C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F40-ED6E-40DC-ACEC-0B081B9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3DD-6CEF-4428-99E6-3DC6304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416-AA11-4B60-ACB4-C4A6D169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E45-A70B-4F01-BEBA-186297B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03B-C627-4833-8B46-C8983AEA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lead f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 (Eph. 2:8-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p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faith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whic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works is sh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ust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fa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cti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ve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quers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and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s whom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mad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s the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faith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nly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persev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app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ck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d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rks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41Z</dcterms:modified>
  <cp:revision>133</cp:revision>
  <dc:subject/>
  <dc:title>PowerPoint Presentation</dc:title>
</cp:coreProperties>
</file>