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D7C-26B0-434F-8B5F-5B0383FB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2A8-7FD4-4DB1-AAA7-7C32A8F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728-85D5-416B-BFDE-8E66DCB6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18C-5E2B-4B7A-A8EB-14E2745C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A99-DA1A-4AEC-AEC4-15BC39EB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289-6BC7-4166-B16C-BB3CFC70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EE5-90C1-4CB8-9E7F-BC49B651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CEA-515D-4EF7-B3D5-4450A9E2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16F-09E9-4B25-8FDA-4BBDB20B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380-E3C0-4065-AF73-9F2F9B24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22D-0C8C-438C-9541-9B27EEFF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00F-AA5E-4C60-959D-EE037A88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E06E-7F83-4B8E-8D0C-F0A1478B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d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ercifu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ou sent your messeng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prophe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preach repentanc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prepare the way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14440" y="1004760"/>
            <a:ext cx="63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lt. by Laurence Hull Stoo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09692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grace to he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ir warn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orsake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we may celeb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right the commemo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the nativi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y await with jo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the coming in glory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Jesus Christ our Redeem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One God, forever and ever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59Z</dcterms:modified>
  <cp:revision>52</cp:revision>
  <dc:subject/>
  <dc:title>PowerPoint Presentation</dc:title>
</cp:coreProperties>
</file>