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194-12F7-41EB-964A-D23F0E6D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EA4-AC5A-4103-A4FC-243408BD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D7F-3883-4B4E-95BD-F3DA0DF4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F56-AD4D-4BA5-B9B0-00EB3A3B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13C2-34AA-4B79-ABD0-2337AC5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146D-5725-4D49-91C8-BEB86C57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A35-9C47-49A0-90F1-07F18F58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6F9-3BB9-4317-87A9-BB59268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C4FF-421A-4261-8094-A471C67E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0DD-A174-4B6D-8DDD-5C2DD9F1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52E4-E8DD-4F7F-8C3E-7D8623B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0FF-29E4-48EA-A797-5DC767D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E66-DA1D-43A9-B277-39C4F24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8D67-325C-4161-A3DD-5902288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AFD-AF39-4990-9086-A6E85E2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AD0-989F-4FA8-8DE9-80CD7A80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20BD-D088-46FB-96BA-6F02E3C2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A17-8945-4A56-BF5A-B8283EA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CB9-68CE-4A4A-B492-4FAF5EE6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8AF-A170-4E46-A23A-E03AF72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F5E-CA4E-4D41-B9B1-1C974D76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DE3-E675-480A-B757-52C20BB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18B-273E-4B37-A25A-EC2B240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729-B4A5-4C13-9CC5-2FEE097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17B-0FEE-4F37-93BD-64725DA6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44DE-AB3B-4B96-BFE0-9BFF846F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3440" y="11430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3111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98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13T23:43:47Z</dcterms:modified>
  <cp:revision>55</cp:revision>
  <dc:subject/>
  <dc:title>PowerPoint Presentation</dc:title>
</cp:coreProperties>
</file>