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368-1D83-4B3A-B6BE-3402C702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5CC-2235-4618-80C8-E4065370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30B-FD7B-49F0-A133-29052FA8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C75-150E-47E8-98EF-F41AAEA8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16F8-F461-4D1C-9D8E-4AEDB51F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94F4-37C6-4BB8-810F-FE0DBCB0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4E37-8B1B-4C1B-9E79-D0DCAF84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581A-D029-4B29-B7C9-08E6B212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5482-0114-4943-B7CB-A86A76C7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BFE3-C621-4C26-B532-BB0DC78A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9A7B-3479-454D-A05F-DE35492F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269-E81C-4A6F-9345-9E0982E7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C42F-C5EF-4DA4-B4E4-A9B967CD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A3D4-F1E7-4E3C-9AEC-09172463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71F4-9F87-45EE-A7CB-3FB41823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628A-E694-440D-BAE1-DD1A3F91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71C3-2EB4-4057-AE7D-867ACBC6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B87-56E8-49F3-8A00-3B040D53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154-6F71-46AC-A1D2-5B7B44B9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580-A599-4070-B500-CE2C04E7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176-40D1-448B-82ED-31C8453E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4B1-C3C6-49A6-878E-CB479699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173-A222-4F28-99D2-431776E1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0FB-6B75-4D7D-973D-B7D8361D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BC9F-70FD-4667-A8FD-886232FE0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B100-5FA8-40F3-9D40-D7BD685E2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ly Trust H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21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. Stockton, 187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193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every sou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y sin oppress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mercy with the Lord;         and he will surely give you res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y trusting in his Wo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will sur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you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rusting in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Jesus 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precious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ch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best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unge now in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imson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shes bright as s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Jesus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ruth,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leads you into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e i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de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 are fully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2120"/>
            <a:ext cx="9144000" cy="527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ome then and jo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holy b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n to glory g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well in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stial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oys immortal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522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858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Jesus shed his precious blo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ich blessings to bestow;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unge now in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rimson flo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washes bright as sn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522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Jesus 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truth, the wa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leads you into rest;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lieve in hi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out del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you are fully bl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22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Come then and jo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holy b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on to glory go,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dwell in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elestial l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re joys immortal fl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522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ly Trust H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. Stockton, 187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2096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every sou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y sin oppresse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merc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L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5-02T02:09:34Z</dcterms:modified>
  <cp:revision>94</cp:revision>
  <dc:subject/>
  <dc:title>PowerPoint Presentation</dc:title>
</cp:coreProperties>
</file>