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C125-3FC5-4A23-9DFF-CF6E964CD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03C9-21E1-4ECE-8B5A-87B89F34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7084-1A1C-464F-BFE1-38BDA6E92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0E48-E3EC-4F28-8215-E810A0B6F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EA39-B5F5-4C56-BA9F-E74B252C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603A-86D6-40F2-8912-39B122E5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C3B9-C230-405F-BDA2-C08A05D3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16FA-7EC7-4BF0-887B-079631DC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162A-F806-43A8-9206-0DF2D057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9195-EE90-4AA0-9123-243F26E3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8003-59C5-477D-ABCF-C8D95372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279F-BCC6-4969-874C-01A8F50F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2AC1-E51E-4CBE-8428-632FA8FDF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28600" y="228600"/>
            <a:ext cx="937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of the Sparrow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of the Wha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53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God of the sparro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 of the whal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 of the swirling sta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© 1983 Jaroslav J. Vaj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Sparrow God of the Wha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36720" y="1447920"/>
            <a:ext cx="367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aroslav J. Vajda, 1983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59520" y="1924200"/>
            <a:ext cx="6023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w does the creatu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ay Aw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w does the creatu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ay Prai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77616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God of the earthqu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the stor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the trumpet bl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does the crea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y Wo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does the crea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y Sav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Sparrow God of the Wha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77616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God of the rainb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the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the empty gr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does the crea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y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does the crea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y Thank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Sparrow God of the Wha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77616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God of the hung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the si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the prodig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does the crea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y C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does the crea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y Lif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Sparrow God of the Wha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77616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God of the neighb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the fo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the pruning hoo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does the crea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y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does the crea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y Peac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Sparrow God of the Wha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77616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God of the ag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near at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the loving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do your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y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do your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y Hom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Sparrow God of the Wha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53:48Z</dcterms:modified>
  <cp:revision>39</cp:revision>
  <dc:subject/>
  <dc:title>PowerPoint Presentation</dc:title>
</cp:coreProperties>
</file>