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98E-E0D3-4C29-9948-3F46CC1D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8F7-98B6-46F9-8AFA-5B1E62AC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C74-0057-44EB-867C-77A8B2DB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500-E6E5-4AF6-874A-EF7C30DC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CD1-52A7-475E-8938-E2D0ACDE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21E-84B8-4E3E-B88D-42EBECEF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4AA-0252-4F0C-9650-92E7E310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0F1-376A-45F0-8526-845E7D98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958-1D82-4224-8D79-A4C8150B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86BC-3F20-4F60-BCA1-A879CE0F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BD3-31FF-4B56-85C2-3BC33258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F0E-52CD-46BD-ADF9-FD1CDC66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1465-EE1C-4E06-8EDA-7FA60BB16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Redemption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De Profund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38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distr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ry to the Lor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 me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Redem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08080" y="162396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salm 130; response, Psalm 120:1-2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22360"/>
            <a:ext cx="8610480" cy="583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 of the deep have I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alled to thee, O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ord, hear my vo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let thine ears consid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well the voic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of my complaint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979560"/>
            <a:ext cx="8839080" cy="491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thou, Lord, wilt be extre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mark what is done ami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 Lord, who may abide 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there is mercy with the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therefore shalt th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be feare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606600"/>
            <a:ext cx="8839080" cy="566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look for the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soul doth wait for him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his word is my tru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My soul fleeth unto the Lord  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before the morning watch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I say befo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morning watch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901800"/>
            <a:ext cx="8839080" cy="506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Israel, trust in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with the Lord there is merc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th him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lenteous redemp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 shall redeem Israe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from all their sins.  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8:25Z</dcterms:modified>
  <cp:revision>30</cp:revision>
  <dc:subject/>
  <dc:title>PowerPoint Presentation</dc:title>
</cp:coreProperties>
</file>