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427D-E81C-44FE-8687-7E191686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EBC6-0BCD-4C11-ABA2-11F11E31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3DFA-CEA4-4152-B761-F9611D4F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2EBE-8E8D-4E2C-8EF5-0E288F68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D148-B4DA-4168-96C8-C261E5C1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C7D5-EF20-4C6B-AC2E-5C828B96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1BDF-E897-4CF7-A77E-E3D06E06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DD8E-D212-4216-937E-99151AE5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3D9B-25F5-476F-BE25-890AC0AF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A7A9-033A-4E8A-BC12-147095FE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29CF-8C52-4BE1-8E0B-92225A2D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FA56-11DA-4D34-8451-5FF13A24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D46E-C2EE-4BE5-8AAB-7BB67EF78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Help for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thcoming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743200"/>
            <a:ext cx="83818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and everlasting God, you have safely brought us to the beginning of this day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Help for the Forthcoming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2440" y="1600200"/>
            <a:ext cx="735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; alt. Laurence Hull Stookey, 198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94360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54120" y="1752480"/>
            <a:ext cx="848988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fend us 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with your mighty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power, and gran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at this da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fall into no sin, neither ru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o any kind of danger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676520"/>
            <a:ext cx="8534520" cy="405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that all our doings, ordered b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governance, may be alway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ighteous in your sight; throug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esus Christ our Lord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3:22Z</dcterms:modified>
  <cp:revision>16</cp:revision>
  <dc:subject/>
  <dc:title>PowerPoint Presentation</dc:title>
</cp:coreProperties>
</file>