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D44-A0BB-4229-887A-F66B2EEB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9EA-0253-46F8-8278-A30BC79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2D9-ECEC-4024-A7E0-81997582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404-8DDD-4FFE-A9A2-01D70E39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C61-66ED-4E8D-A0E3-A2C21C8D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2C3-64D4-4F5B-9D60-FC30EEE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A36-B22E-4039-9ECE-37280CC7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BCB-30B8-4F44-AA80-95EB553C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915-479F-4DB6-A228-58C8FED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6EB-425D-4E74-AE94-8EDCD37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B36-CA51-44E5-84F8-6972EC4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699-D4EF-4B65-92FB-F206187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6A2-DC04-49DA-A6F0-043732F37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in Royal David’s Cit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0098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nce in royal David’s cit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ood a lowly cattle sh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re a moth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id her bab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a manger for his bed;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59760" y="6094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Lk. 2:7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,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ittle chil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ca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rth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God and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hel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cradle was a stal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corned, the low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d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hol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hood’s patte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, like us he gre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s li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k, and help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rs and smile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us he knew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feel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sha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gladnes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shall se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at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 and gentle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in heaven abov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l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children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is gon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80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ry, lov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ther mil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r little child.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604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He came dow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arth from heav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God and Lord of a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his shelter was a stab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his cradle was a stall.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33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the po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corned, the low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d on ea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Savior holy.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Jesus is 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ildhood’s patter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y by day, like us he grew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was litt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ak, and helpless,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rs and smile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ike us he knew; 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 feele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our sad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 share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our gladness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557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And our ey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t last shall se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ough his ow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deeming love;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240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that chil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o dear and gentle is 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Lord in heaven above;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leads his children o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the place where he is gone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in Royal David’s Cit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ce in royal David’s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a lowly cattle 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er ba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manger for his be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859760" y="10666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Lk. 2:7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2-18T01:38:24Z</dcterms:modified>
  <cp:revision>9</cp:revision>
  <dc:subject/>
  <dc:title>PowerPoint Presentation</dc:title>
</cp:coreProperties>
</file>