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594-6586-41C9-986B-FC5298AD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EA4-3EDC-4E2A-B350-20158DB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085-85D6-4395-ABCA-CB7381E9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7CA-7A4A-4752-942A-C9198396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42A-7ACF-4904-BD33-C872C9E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00B-2F8E-4039-ABC7-74C6774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058-0CFF-4DEF-A08F-E62D3D4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064-E2E3-4810-86DD-5AC45FC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589-C8BC-402F-A935-08B7969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0AA-CF23-4189-BE9B-9DB4FD7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40D-DD90-4C87-9035-15DEB95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CF1-291E-454B-92CB-502A23D5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5363-20F6-4F82-877F-A5C32D4FC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before my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M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0440" y="1066680"/>
            <a:ext cx="283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Psalm 5:8; 4: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is 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t me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af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38Z</dcterms:modified>
  <cp:revision>12</cp:revision>
  <dc:subject/>
  <dc:title>PowerPoint Presentation</dc:title>
</cp:coreProperties>
</file>