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125-1AF7-4A3C-A323-FF2000F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976-5633-4C84-992F-34EB1E9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CCF-1095-40ED-B0D6-4721D034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FBE-1A97-412D-B27C-BA92B697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963-D647-4279-BEA8-3C02303C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2C5-AB62-4F79-B463-7AF16680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1DA-3EF4-4D89-953F-AF308F5D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5FA-3EB4-45DA-853C-043C977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289-FFD2-4640-A2EF-803880C7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6C4-F211-4E76-9D28-76F2A78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00D-4D5B-4B9E-8BDA-CD5354B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B6C-15B3-43DC-AFA6-C6EF852F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A575-F405-4FB5-AD8D-DF77A04F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ke, O Slee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Awake, O sleep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ise from deat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ive you ligh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. Bland Tucker, 1980 (Rom. 13:11-14; Eph. 4:4-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in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you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arn h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length and bread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ful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, and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us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y b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is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pir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baptis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walk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Christ has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ight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kind and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forg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or us Christ l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nqu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7:40Z</dcterms:modified>
  <cp:revision>22</cp:revision>
  <dc:subject/>
  <dc:title>PowerPoint Presentation</dc:title>
</cp:coreProperties>
</file>