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F81-E6C9-42C8-A428-B8CCACB4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A1A-5DC6-4A6E-ABFE-CA44183C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53A-AB71-414E-91A0-89D0E89B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FF4-CF1C-4C9E-BF5A-059FC609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ACE-648C-47FC-B8D4-4DE52847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E7D-9CD5-4A2C-BE71-3488128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EAA-4CEC-4D50-9542-1309C969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A3F-1C40-4C39-8C79-8A39185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5D9-46EB-414B-B609-50AE02C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CF6-99FA-46DE-8C14-8825013D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36C-70C6-4D8D-A59D-759D762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8F7-0AD0-44AE-B486-2E5B2C1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5C8-0704-4FFF-B2E8-C0BE60A02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Forth fo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good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ed with heavenly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Mildred Peac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7080" y="109224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R. Peacey, 197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good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to incr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the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face to f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the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courage to the we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e afflict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ly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love suppli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nd power we seek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streng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fast the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rgent for the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der to no one ev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at l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darkness with his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str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j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God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 and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rving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 gift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pirit’s p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3:28Z</dcterms:modified>
  <cp:revision>10</cp:revision>
  <dc:subject/>
  <dc:title>PowerPoint Presentation</dc:title>
</cp:coreProperties>
</file>