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12FE-3D31-48DA-A677-DF9E57F9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E404-124F-4E15-8368-F28CE3CC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DBE4-ECC9-483D-BB25-0E2E153D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A881-A4B7-4166-98C7-1C240041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868B-880B-4351-8C2C-A1B634FA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DA1C-D55A-4B08-8BF7-2B3FB4E8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691-A781-441A-8E7E-29DD8F35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C45-AA9F-4A6B-BE07-373E667D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97B-BA1E-448A-AB35-77F36B6E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3BC2-43E1-408F-B7DA-CADD5870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0FBC-44C9-4A17-BA9B-DAEDF3AF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1D9D-0FC2-433C-8E5B-E8DF935C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13EB-F3DC-40A4-829B-64DEC182C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the Sil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sil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emp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ds uplifte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Si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aroslav J. Vajda, 19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knee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ple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Fath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ms in welcom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he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vess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mmed for pour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joyful celebra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wed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s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iven leap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Spirit’s visit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Son’s epiph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Father’s bl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Now Now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0:31Z</dcterms:modified>
  <cp:revision>121</cp:revision>
  <dc:subject/>
  <dc:title>PowerPoint Presentation</dc:title>
</cp:coreProperties>
</file>