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FBDC-06D1-43B8-AA34-E93F92F0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BF2-5016-4FF2-B3C7-99FF8B19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F195-5F39-4D58-A061-ED9AD95A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FD76-F579-49C0-BAAD-C6FC2C26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8BD2-4C38-4234-BA56-9244068F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EED3-3BAB-446B-900B-2902EB14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E4E5-968E-4C77-9F68-7606E10B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7584-CB91-42AD-918E-4C63BAFF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69B-7277-42CA-B629-02378F38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3DE9-516F-49DD-A5B6-EF20E719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EB59-5911-484C-B14D-A07B8602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0D52-AA07-4160-820E-3E76EFA8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3F1A-34F0-448F-B29F-F1E23A7A4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e Is Glad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n thee is gl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mid all s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suns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e Is Glad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3440" y="1092240"/>
            <a:ext cx="77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ann Lindemann, 1598; trans. by Catherine Winkworth, 18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e are 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ifts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er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uls thou mak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bonds thou break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rusts thee sure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built secur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ands forev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are pi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y shi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ying or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are cleav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ught can us sev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f God be ou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fear no pow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sin or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e Is Glad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sees and bles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orst distres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n chan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m in a br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fore the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of God’s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 and voic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heaven rejoic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forev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out for gl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 o’er s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 and prai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oices still rai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 hymns forev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7:59Z</dcterms:modified>
  <cp:revision>31</cp:revision>
  <dc:subject/>
  <dc:title>PowerPoint Presentation</dc:title>
</cp:coreProperties>
</file>