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347-97D0-4393-BAB6-B9BFE2D7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257-CD86-4C17-9180-1749A174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02E-131A-42FC-97BC-9AA7959D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3B1-EC14-4B4A-8D77-7A405DC5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0E9-D141-4C97-B635-0BD4193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6DA-BF5C-4F1B-AF3F-924A29BF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78B-4574-460B-AA4A-8379328B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084-6FD2-440E-8CD7-8B9BF572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185-2292-49DA-A8FF-D35E1BE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D20-E1F3-4AAB-90F0-2DCF0EFA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668-A0C4-4A0F-BBEC-5FE9303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A85-3930-4A43-ADE9-DE57F0E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5634-2683-4756-975C-3038BE9D2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Jesus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Jesus,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 thou art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e all the foll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 I re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85360" y="1015920"/>
            <a:ext cx="43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illiam R. Featherstone, 18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gracious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avior art th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 first lov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urcha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alvary’s t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 for w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orns on thy b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mansions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dless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ever ad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aven so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sing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ttering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y b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43Z</dcterms:modified>
  <cp:revision>34</cp:revision>
  <dc:subject/>
  <dc:title>PowerPoint Presentation</dc:title>
</cp:coreProperties>
</file>