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965-4535-4366-AF17-F1115002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6720-7686-478D-B78D-B12103A0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81FE-C213-425A-815F-1617A283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1944-24B3-4C1D-BD4D-FA2897D6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5E6-2AF1-4C2C-90C2-7FC3AC4E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625-7863-440C-A7FB-84FD71C5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F1A7-342F-4674-B055-8FE16766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E016-09E1-4A94-8E26-9B0240E5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B1DA-E1BB-43BA-A948-959E2E02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3BC-DBEE-4904-AF5E-3FD0661E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B425-5053-493A-BC50-6F610C37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C862-1457-4B5C-BA61-A34B9A4C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7314-9006-4DB7-9E52-29AA72C54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Lord, We Look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Jesus, Lord, w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ok to the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us in thy name agre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how thyself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rince of Peac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id our strife forever ceas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Charles Wesley, 174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y thy reconciling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stumbling block rem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to 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te, end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and sp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banner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Make us of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and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entle, courteous, and k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wly, mee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ought and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together like 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et us for each other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the other’s burdens b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attern g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 how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lievers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Free from 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pr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thus in God ab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ep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ove expr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heights of holi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Let us then with joy rem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family ab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gels f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 how true believers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36:36Z</dcterms:modified>
  <cp:revision>67</cp:revision>
  <dc:subject/>
  <dc:title>PowerPoint Presentation</dc:title>
</cp:coreProperties>
</file>