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E17F-0784-491A-ADE2-6C5ECF883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9CA0-40CC-49F6-BFA6-8AD4C2B0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9938-CB9E-4CF5-9D15-B96F6AD99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D525-AF16-46E9-9E23-0D012FBA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FC2B-D60E-4F48-A0B6-A21FBA67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22D6-4E5E-439D-ACDE-4425CE16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5F8E-D445-40B9-9221-3EFA9EC4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89ED-C134-4BEF-A3E4-F4DED3EE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0E0B-E316-4331-9832-88889D81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5E5F-8B83-4953-88B8-B5F64CAE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1403-0A47-4291-8C8A-7A7B3167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2253-0D40-4694-994E-E885B244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8EC0-D92B-4215-B9FA-60E55D2FD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Want a Principle With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 want a principle with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watchful, godly f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ensibility of s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pain to feel it n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a Principle With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83440" y="1066680"/>
            <a:ext cx="37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he first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pproach to fe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ride or wrong des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atch the wand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w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quench the kindling fi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rom thee that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e may st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e thy goodness grie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me the filial aw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pray, the ten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science g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a Principle With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ick as the ap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n ey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od, my conscience mak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wake my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sin is n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keep it still awa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lmighty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ruth and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e thy power imp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ountain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oul rem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ardness from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a Principle With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y the least omission p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eawakened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rive 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lood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make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unded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1:01Z</dcterms:modified>
  <cp:revision>24</cp:revision>
  <dc:subject/>
  <dc:title>PowerPoint Presentation</dc:title>
</cp:coreProperties>
</file>