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7E4-7F2E-4392-8CDF-1BAB4D10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13D-2B9F-4F4B-96AC-E74FCEBC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DB1-2019-4D19-A6AD-F4D05A5F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107-F149-409C-8A57-CFB96BC7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E0E-B7A1-4AF8-AA4A-74B55FE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20C-D420-43A1-BBED-B125078F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066-C586-4434-B961-E30EEE2B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CE1-50F0-4B01-977A-5A0A79E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798-61CB-443D-9D24-E8DED4D7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AC4-F8EA-4EB4-832F-0F959A8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0B0-2E24-4A0F-A15B-68FC55E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D76-2575-4B4D-955E-6E3E4B4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CA5-7E25-4F2E-B6F5-723F6BDBA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to Dark Gethsem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0, 1825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 to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thsem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that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er’s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arly has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y l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reathless c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solitu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o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ta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eets our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o to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Redeem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with him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tter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no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ief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 him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udgment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en,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led, arraign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al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pa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oul sustain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un not suff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, or l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alvary’s mourn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cli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ado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k that mirac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finished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him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19Z</dcterms:modified>
  <cp:revision>49</cp:revision>
  <dc:subject/>
  <dc:title>PowerPoint Presentation</dc:title>
</cp:coreProperties>
</file>