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637C-D43A-4960-A242-C6965FFC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6A51-F25B-4BF8-BEC6-E01F657E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6F7B-51D0-4671-A211-0C58692A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6C3E-9A95-4279-8923-15A7365A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5CBD-0B4E-4145-B537-DC742FEF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B652-A699-47E7-89E9-9FCC23CC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1BEB-D028-4CF1-A07B-864B07B4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F3EA-4C87-4149-ADC0-DC3B400D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1B37-1D31-49DA-B35F-AF7E2946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5F16-01ED-4886-8A50-9CF077E9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D1C6-D159-4A1F-879B-D678957B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2FA1-D727-4DCA-9863-0FAA3499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41C8-4412-41B6-8E12-C5225019C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Christma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orn Is Daw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53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When Christmas m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daw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sh that I could b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78 Lutheran Book of Worshi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Christmas Morn is Daw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1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ttr. to Elisabeth Ehrenborg-Posse, 1856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trans. by Joel W. Lundeen, 1978 (Lk. 2: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by the manger crad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Son, newborn to se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There by the manger crad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Son, newborn to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How kind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us to come to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Christmas Morn is Dawn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may we not by sin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spise your lowly birt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O may we not by sin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spise your lowly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3623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e need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our dearest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Christmas Morn is Dawn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love will gu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uid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keep us to life’s en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Your love will gu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uid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keep us to life’s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50:47Z</dcterms:modified>
  <cp:revision>77</cp:revision>
  <dc:subject/>
  <dc:title>PowerPoint Presentation</dc:title>
</cp:coreProperties>
</file>