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ECE-30FA-4AD8-98C1-1FE04C0A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83B-A9D8-4DDD-9ED5-90A32C8E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D4B-613C-40B5-B051-7FFE2068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DDF-9ADF-4155-BB39-9C0D1546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BA4A-1A19-4893-9BE6-4D10D5EE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30D2-C4DB-4DAC-A3B5-B884F610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1FF1-0AF9-41B2-8609-92A2867D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16C7-6B11-46EB-94C1-69DFB359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AA6E-85A3-4FA4-91C9-158282B8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B161-43E9-465A-B9E8-5D1105B7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0542-59B2-4774-A4F4-EB8229F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7FA-8D01-4070-97C8-EFCDF7E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7A96-69BF-4D4D-8149-1E7C78EC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3F2D-D8CB-48E6-8FDF-0757BBB1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C6CB-1082-4D56-9E48-B59D3EA9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0558-2CEF-4621-8202-D19E1F9A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C806-28FA-45F2-9374-78E6A079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EB9-0E1A-453B-976A-38F45A6F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826-42CA-4BAF-B460-AA3B35B9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F79-D39B-47A0-AE4E-D7248852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30E-A05D-4895-8093-C5FCC141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A92-7126-4C6A-8986-196F20D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33F-7722-4CBB-987A-DCA0E93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90C-EB3F-4E62-A15E-C6531868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DC4C-6755-448E-A45F-3EA3E0D5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A9EF-A6F2-4EA6-99C8-3A9479C3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On, O King E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ead on, O King eterna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ay of march has co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nceforth in fields of conque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tents shall be our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Ernest W. Shurtleff, 18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ords loud cla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oll of stirring drum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eds of love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dom co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, not with f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ladness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face app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is lifted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urney in it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n a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qu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on, O God of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ays of prepa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e ha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st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battle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sin’s fier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iness shall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ame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ords loud cla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oll of stirring drum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eds of love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dom co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, not with f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ladness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face app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is lifted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urney in it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n a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qu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on, O God of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On, O King E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Lead on, O King eterna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day of march has co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nceforth in fields of conqu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tents shall be our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Ernest W. Shurtleff, 18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ays of prepa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e ha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st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battle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sin’s fier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iness shall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ame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03T19:59:34Z</dcterms:modified>
  <cp:revision>86</cp:revision>
  <dc:subject/>
  <dc:title>PowerPoint Presentation</dc:title>
</cp:coreProperties>
</file>