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5088-2E97-4A7F-9246-C1A61D8D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C29D-D5DF-4AAE-9639-3676C7D2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725E-E414-4620-B623-9F80E5CC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2EEE-4DE2-4EA8-B2F2-1BC6B055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35F3-A589-4BC6-A48A-DEFFBF08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D5AF-0CD6-46D5-BA0B-B462518A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C3E3-5086-4AFC-9DE6-D3F82192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E4FC-B3ED-4ADC-A19B-B2D1FAEE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4237-B670-43B7-B131-87BDF76C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F737-6C70-4824-A6C6-D26ADD46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7151-04CE-49FE-BD15-C9DE3E6F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3B15-BC41-486F-B0EF-68290B77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A635-E788-4F93-85B6-0E2D938C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4D28-EF7B-47E2-A931-029FCBD7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5225-A225-4583-BCAF-1C871903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FE6B-A53F-401B-99D6-DB95E63C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8385-D1CF-420E-9C54-A72C1DDA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5ABB-05C1-4DD8-BA18-DC9F6A87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A4EB-2904-475E-9852-5D2DCEAC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5DD5-D305-4958-8998-E19D8B11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2C99-F6BF-4517-89C2-11A48110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7B2-2E25-425D-BAB8-EB903644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0700-3F2D-4084-AAEC-AA98A50B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8DA4-51C2-4504-B68F-B12D0A69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6837-2E01-47A4-A23B-0CF43022C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05B2-6AE2-4A78-A62E-F2C9A85DB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the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81080"/>
            <a:ext cx="9144000" cy="413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All</a:t>
            </a:r>
            <a:r>
              <a:rPr b="0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7, 1980 Scripture in S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Da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62920" y="1066680"/>
            <a:ext cx="56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salm 118:24; adapt. by Les Garrett, 196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glad in 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990720"/>
            <a:ext cx="9144000" cy="245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685800"/>
            <a:ext cx="9144000" cy="329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                                  that the Lord hath ma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Da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669960"/>
            <a:ext cx="9144000" cy="329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                             and be glad in i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glad in 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glad in 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990720"/>
            <a:ext cx="9144000" cy="245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371600"/>
            <a:ext cx="9144000" cy="36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r>
              <a:rPr b="0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All</a:t>
            </a:r>
            <a:r>
              <a:rPr b="0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47920"/>
            <a:ext cx="9144000" cy="369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r>
              <a:rPr b="0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All</a:t>
            </a:r>
            <a:r>
              <a:rPr b="0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600200"/>
            <a:ext cx="9144000" cy="36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r>
              <a:rPr b="0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glad in i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All</a:t>
            </a:r>
            <a:r>
              <a:rPr b="0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glad in 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glad in 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990720"/>
            <a:ext cx="9144000" cy="445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r>
              <a:rPr b="0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All</a:t>
            </a:r>
            <a:r>
              <a:rPr b="0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the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828800"/>
            <a:ext cx="9144000" cy="244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7, 1980 Scripture in S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Da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62920" y="838080"/>
            <a:ext cx="56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salm 118:24; adapt. by Les Garrett, 196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371600"/>
            <a:ext cx="9144000" cy="16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.    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69960"/>
            <a:ext cx="9144000" cy="329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                             and be glad in i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glad in 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9-04T23:01:08Z</dcterms:modified>
  <cp:revision>16</cp:revision>
  <dc:subject/>
  <dc:title>PowerPoint Presentation</dc:title>
</cp:coreProperties>
</file>