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F38-8B9D-482A-9E0D-03898FFA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145-7694-4573-9880-BCAFDBE7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25D-E285-47CD-B624-D2B75C45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451-3C7B-4ED9-8A87-876334D0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932-0D27-47C5-8376-8805ECC2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B53-B97B-4C9E-A58D-5308BB97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8EA-A81E-4A45-A72E-E55F5CB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2FC-B603-4058-B8BC-AD701618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8D8-0F94-4938-8D2B-223D7E53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85F-7879-4007-8A83-3183157D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986-23B5-4C88-BD30-CFC0A70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0C6-CCDB-49A4-A261-BFD39003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D747-C62F-41B2-999C-089927AF6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eal Away to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40040" y="1143000"/>
            <a:ext cx="52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y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 me by the thu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reen trees a-b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a-tremb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y Lord he call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light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02:43Z</dcterms:modified>
  <cp:revision>48</cp:revision>
  <dc:subject/>
  <dc:title>PowerPoint Presentation</dc:title>
</cp:coreProperties>
</file>