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CA0-89E3-4ED2-A684-891EA769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46D-3107-447A-8E2C-51E05E0F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2A99-015F-4D9C-8EC4-8DDF3F1D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D49-2F29-42F0-9EE6-F1A25292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895E-A61C-4159-ADE3-ADF661FD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3C6A-2207-43AD-8D9C-CA7B51D1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6EC-4EAF-402C-8291-E3AED199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4DD-36B6-45CC-8774-B47B3BF4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1D0E-753D-40C3-838E-CF3360B2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BDC4-9413-44C4-86FF-93CC3BDF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2521-7CC2-449F-A64B-5BEFC080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08C7-C2CD-4D35-A6F6-EDEA6DD9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43B2-88B4-45BA-A1DA-10CC58300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Divine Interpreter</a:t>
            </a:r>
            <a:br>
              <a:rPr sz="4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harles Wesley, 17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7524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, divine Interpret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ing me ey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book to 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ars the mystic words to hea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ds which di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rom thee proce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Divine Interpr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ds that endl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liss imp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ept in 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bedient hea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who 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r hear, are bless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thy plain commands we do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y kingd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re possess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e we shall in glory 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ou come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earth to abi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ign triumph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t thy si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5:29Z</dcterms:modified>
  <cp:revision>11</cp:revision>
  <dc:subject/>
  <dc:title>PowerPoint Presentation</dc:title>
</cp:coreProperties>
</file>