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B54-9757-4417-94EB-CFAF8DAA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C1E-F7CC-45B0-AA92-28DE7157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228-829B-436B-AE82-370F493E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173-3A36-4EF9-B26E-688A641C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6C6-7D24-44D9-94E2-6527A83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DB4-CC66-4DB4-98CB-0B79CF18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13C-0A43-428F-9ADA-0EEACD93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9E9-6FE4-45BD-B1E4-19FD7611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D44-7A99-4E68-90E0-5806CD69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F19-E6F0-499D-B0F1-B3249CE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882-2842-428C-9CDE-BA3482B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ADC-2017-462B-B49C-D7452F68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9BD-8FD4-43C2-8A53-BACC79854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 Who Cames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om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Thou who cam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ure celesti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 to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4480" y="1828800"/>
            <a:ext cx="53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62 (Lev. 6: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le a f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mean al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let i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lory b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nextinguishable bla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embl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ource ret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mble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rven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, confi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’s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k and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nk fo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t me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stir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ift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ady fo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rfect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acts of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epea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eath thy e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ies s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9:18Z</dcterms:modified>
  <cp:revision>12</cp:revision>
  <dc:subject/>
  <dc:title>PowerPoint Presentation</dc:title>
</cp:coreProperties>
</file>