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8B5-F3C8-4733-AC5A-282D564D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031-980E-4958-BE7A-30473EB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0EF-E479-4616-8EE3-2A95504F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EF7-2901-4EEE-94EF-3C389321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EC89-C319-4F48-94A5-A51FF199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9B1D-13C6-4ADC-96B3-2ADF101A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D6E7-2A63-4836-9560-13650E1A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6500-AAA9-4446-BBFE-4B50EEC1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189F-4A63-4E2C-A1A0-F2EB0D7B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49B6-B001-4726-AA3A-98E63609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FA21-1970-4FCE-A248-A236973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6CE-CC00-4F3A-9A55-4114EAD1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C6CA-8670-487B-9C89-A1C8B43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FE0B-5FCF-4ADB-B7B6-D4355B6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F60C-4C9B-4BEE-8040-F54A48C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65C-A25E-4D46-92D1-0226ECBD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D04-1FFB-450B-BF14-A5291966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FE2-1B81-45AB-9E59-C8C1D044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9EC-6B96-4B7A-852A-7ABF3F4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531-458B-4812-A218-BA0CE29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F5E-503F-4D7D-871E-BBC9F1B8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CDE-DD1F-4D4F-8EE6-72F0FE1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45E-2A3C-4419-AB87-9D5DE30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C76-5C6D-43A1-A123-2F533DB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FF7-F694-42FA-B9FC-B8FF80B4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EB2-6C37-42BD-91A2-B6CFEE03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6960" y="114300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6960" y="76212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1:50:44Z</dcterms:modified>
  <cp:revision>53</cp:revision>
  <dc:subject/>
  <dc:title>PowerPoint Presentation</dc:title>
</cp:coreProperties>
</file>