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D9A-2DF0-486E-8D44-90865651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76E-999A-4497-8D38-86754037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667-B84C-464A-9112-0AE38975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A67-2B01-4B45-8FB3-112770D9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C16-AC27-4B6B-9F02-8F6D14E6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B7D-90EB-439B-B7FF-7430B207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CD3-41F5-4281-B898-0C4765F1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763-7BAA-4FC5-8558-B9D2D317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805-818D-47BA-952A-2F5CDE1F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C5C-FDCC-4B66-BFBE-3E9E4694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BA2-9FD3-4E58-814A-55213A0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A80-6F6A-4DB6-9F2C-82F3186F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0EBD-EE2A-438E-B525-E5905E289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neath the Cross of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izabeth C. Clephane, 187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nea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ain would take my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adow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ighty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a weary land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ome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est upon the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burn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oontide h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 of the d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pon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eye at times can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ery 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 of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uffered there for m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my stric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with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o wonders I confe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unworthines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take, O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abiding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sk no other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he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fac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ent to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go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now no gain nor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ful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only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lory all the cros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24T22:53:51Z</dcterms:modified>
  <cp:revision>53</cp:revision>
  <dc:subject/>
  <dc:title>PowerPoint Presentation</dc:title>
</cp:coreProperties>
</file>