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2CDE-1F25-4A39-8D0F-48A8A2515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6207-13FC-43FC-8CAB-6B41077A1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04A3-6293-426F-9399-C54A4D41C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0419-083E-4BC1-8029-DE7E008C8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92C7-3CA1-4958-9C43-AD4BEB81A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24EC-4172-477B-8810-35B1A07EA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AF25-54A5-49ED-907E-8E5A9404D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BE4E-C91A-4E09-A614-33A070E60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AACD-9352-4446-8EB0-B3F1DB573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5561-E32B-4AB8-8056-DBE086F40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5D37-0FC9-428C-A792-023AF3D28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1725-9107-4B60-AB16-21E38E480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DB493-8347-4681-A444-6BCB0EC12B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Heralds of Chri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6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9810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Heralds of Chri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bear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King’s command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mmortal tiding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your mortal hands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ralds of Chris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143000"/>
            <a:ext cx="91440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Times New Roman"/>
              </a:rPr>
              <a:t>WORDS: Laura S. Copenhaver, 1915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ass on and car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wift the news you bring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ke stra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ke stra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highway of the K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Through desert way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ark fen, and deep mora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ugh jungles, sluggis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as, and mountain pass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ralds of Chris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ild now the roa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falter not, nor sta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epare acro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earth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King’s highw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Lord, give us fai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treng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road to buil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see the promi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e day fulfille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ralds of Chris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war shall b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 more,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trife shall cea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pon the highw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e Prince of Pe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6:37:19Z</dcterms:modified>
  <cp:revision>72</cp:revision>
  <dc:subject/>
  <dc:title>PowerPoint Presentation</dc:title>
</cp:coreProperties>
</file>