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18D5-CFCF-44FB-B91B-9AB9FECBC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8D63-45F0-4C83-A5D2-29B2BD7B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E61B-0C19-453B-AB6D-1246DAE2C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DBE0-3544-492D-9109-74ED11EF1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AD58-B993-46EB-A696-4BE4E171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8F4E-067F-4F7D-BEB1-3F98781B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E972-EFF0-4A74-8C9C-B78AA1B9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CB62-9B15-4A6E-9542-9AB34B8B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D9FF-1511-48FC-9C95-775D192D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A8B6-4A42-4628-8907-FD733F66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52AF-298F-4BB4-AA3F-C630BA8F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454F-25D1-4D9B-A9A0-162C8DAA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26EE-E188-4539-815A-F88B4672D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 Jesus Lay i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eath’s Strong Ba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Jesus Lay in Death’s Strong Band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Martin Luther, 1524; trans. by Richard Massie, 185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66688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1. Christ Jesus la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in death’s strong band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for our offenses given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Jesus Lay in Death’s Strong Bands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Then let us fe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Easter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tr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ead of heav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Word of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th purged a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ol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cked l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al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souls will fe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our m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drink inde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ith lives up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other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now at Go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ight hand he st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bring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e from heav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fore let us joyful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 to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ight thankful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ud songs of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Jesus Lay in Death’s Strong Band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t was a stran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dreadful str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lif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ath contend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vic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mained with lif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reign of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s end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ripped of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more it reig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 empty for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one remain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ath’s sting is lost foreve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Jesus Lay in Death’s Strong Band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So let us k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festiv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to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vites u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himsel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joy of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un that wa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ights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his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doth imp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ternal sunsh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he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ight of s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ended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7:15:52Z</dcterms:modified>
  <cp:revision>78</cp:revision>
  <dc:subject/>
  <dc:title>PowerPoint Presentation</dc:title>
</cp:coreProperties>
</file>