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C31-E71D-4911-BE58-A5D4A4CB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1AB-7267-4A99-A933-B9BCF5A3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547-5DD4-4FB3-9288-EE39D9A1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1F9-B276-4EC1-B862-3B3EA726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9D1-32BC-44F1-BF32-40D33841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28C-6B41-47A1-9A4F-2C590740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1C6-E284-4FD9-A7ED-8214EDD3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969-DDBD-4BD9-A9A0-961F55FA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D7A-4107-47A0-9FFD-C6B56AC2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D5A-5D9C-4492-8867-89AB03B9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DDD-4EF8-43E5-85EF-589F8B5C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E56-FF64-4C22-A4D2-4E0D0BB9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A6CE-4E1D-46B5-81C7-EA2EC0AA6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, My Tongu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lorious Bat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enantius Honorius Fortunatus, 6th cent.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Percy Dearmer, 19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, my tong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 ba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the 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f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aithful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ign of triump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oblest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in foli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in bloss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in fru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er may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ymbol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redemp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ung on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Unto Go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glor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’eternal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nor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igh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un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es r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bove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oph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 the 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ant l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how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’s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vict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ell how,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ength the full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’appoin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was c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of wo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ft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eavenly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ed us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made perfec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ne as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id the glo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us, with thir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rs accomplish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nt he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Nazare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tined, dedica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ing, w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work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t his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la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umbly yiel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dying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4:00Z</dcterms:modified>
  <cp:revision>51</cp:revision>
  <dc:subject/>
  <dc:title>PowerPoint Presentation</dc:title>
</cp:coreProperties>
</file>