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64B-024B-4E1C-864D-7EE69B19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1BF-2496-495E-95BA-A3C805DF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591-FBC4-4AD4-AFD6-BBDCAD65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8AC-437B-46BC-B2F2-8CA8664A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4CC-E4C0-4ECB-9A27-0A17794C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F4A-F7BD-4C6E-A03B-39537DC1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008-0CAD-4AF1-8800-BBA55D8F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BC5-ED01-4884-B6B7-9F8386CF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2CF-7911-4CCC-A150-6918AA5D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18F-7E51-4AE9-937F-4ADD66F8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A2F-7078-41E3-95B0-B77EC643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3E0-914E-4E67-89E2-E12CE1D0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70F8-D94D-4A9C-A86B-B52FEFD4F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Mighty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might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all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make the day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diant with the sun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56960" y="990720"/>
            <a:ext cx="52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ozarabic hymn, 10th cent.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Alan G. McDougall; rev. Anne LeCroy, 198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ght or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ing our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nd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night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ittering adorn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in the heave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comes the day’s 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un is set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rror of daybr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dge of resurrec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in th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irs of stars app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 night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fore we co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ing rites to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cha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hymns to prais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ing hearts and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ve heed, we pray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supplic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may gran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for offen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our weak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for aching bod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thing the we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ough bodies slu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shall keep their vig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re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eace of Jes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5:37Z</dcterms:modified>
  <cp:revision>21</cp:revision>
  <dc:subject/>
  <dc:title>PowerPoint Presentation</dc:title>
</cp:coreProperties>
</file>