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83D-A2B3-4DB0-972B-A95A3B8F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E04-FBA1-4AE3-9084-4B2EB05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C8C-E920-4B81-AC0A-81E284AF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6B8-45C5-43D2-89F3-FCF827CA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191-8BC5-456C-945E-A6A8B609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0EB-E134-4617-B14A-EE7ABB57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084-8F93-4A3C-AEF1-719CDCA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D63-A49C-45A3-A9C3-38FB5AD7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1C9-5703-4115-BAF7-4CA95310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000-3D3B-4574-A04D-FF7E2492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BAF-6CC8-4A7B-BB18-9B6B31F6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40F-B8B3-4209-8544-AA267E6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2A6-D80D-4C75-8778-680EBF047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Father’s Love Bego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f the Father’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begott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re the worlds began to b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is Alpha and Omega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the source, the ending 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85800"/>
            <a:ext cx="77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relius Clemins Prudentius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Henry W. Baker, 18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things that 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have be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at futu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ears shall s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 ye height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ven, adore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gel hosts, his praises s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s, domin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ow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xtol our God &amp; King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no tong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be silen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voice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cert 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3. Christ, to the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God the Father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, O Holy Ghost, to the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ymn and chant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high thanksgiving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unwearied praises be: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nor,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domin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ternal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1T03:36:55Z</dcterms:modified>
  <cp:revision>34</cp:revision>
  <dc:subject/>
  <dc:title>PowerPoint Presentation</dc:title>
</cp:coreProperties>
</file>