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949-2421-44C4-AD79-20EC7BF8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E5E-6266-402F-81F7-3E7EC49A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CB8-DD74-41D1-B8F9-D695E38F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D45-9F27-4A2B-8FED-036C7491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E8E-3590-408E-9B1C-D876789B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147-62E9-49FA-865D-356A746D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8F4-ACC8-4E58-87EE-8812248A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1E9-A8CF-44A5-A30D-E9466AF4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8CF-6BF6-4A75-AAD9-B436CD94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FA6-B3D6-4EF0-9E7C-C841CB75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662-52F4-4C58-A84B-6A4743F5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23B-59DA-4F01-B1F5-B73C879F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94D9-D203-4F32-A73C-239FEE508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k Ye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50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eek ye fir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se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added unto you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Maranatha!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8680" y="914400"/>
            <a:ext cx="542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Karen Lafferty, 1972 (Mt. 6:33; 7: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k, and i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be given unto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and ye shall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ck, and the door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pened unto you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577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Al        -        le            -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ye first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lu              –             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 of G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Al       –        le         –         lu     –     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righteou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 with 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77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Al               -              le        -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se thing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lu                -         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added unto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Al   -    le       -      lu  - 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9:11Z</dcterms:modified>
  <cp:revision>24</cp:revision>
  <dc:subject/>
  <dc:title>PowerPoint Presentation</dc:title>
</cp:coreProperties>
</file>