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B7D-6D35-4B51-AC08-C7B57554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AC3-1918-47C8-B18F-175A3E43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3C0-94E8-4FCF-AE26-A8F49A64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6DC-94B0-4139-8016-E9087B73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A1F-66E3-41B3-BC7B-F21BC4B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B46-EE74-4834-A517-1B74661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C1F-3E06-4F9F-B11B-66F0B07F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2BB-F99E-447B-B9F2-73FEEAD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B2A-0EBE-4443-92AB-28262B33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AB4-EE0E-4317-81DC-D8BB777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481-F104-4334-8B94-72A4AE3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A80-A813-498D-8DB7-EE62E39B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F0F4-F53D-4C6A-ACCB-C66191CA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Covenant Prayer 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esleyan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53416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 am no longer my ow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but thine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ut me to what thou wilt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ank me with whom thou wilt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ut me to doing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put me to suffer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venant Prayer in the Wesleyan Tra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be employed by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laid aside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lted for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brought low for the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be full, let me be empt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have all th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have no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45576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reely and heart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ield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y pleasure and disposa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O glor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essed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, Son, and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art mine, and I am thi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 be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I have made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it be ratified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8:36Z</dcterms:modified>
  <cp:revision>14</cp:revision>
  <dc:subject/>
  <dc:title>PowerPoint Presentation</dc:title>
</cp:coreProperties>
</file>