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620-06D7-4ED1-9DB7-FC218E26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5C1-387E-413B-AF84-E7D3DC4E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E65-F917-4E0C-BA7A-55F256CB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59A-89F4-486E-B3C3-FBB1B5E3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DCC0-D36B-492E-8C5A-4BF3B5C4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848E-D673-4206-94D6-C12BE306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4D51-64DF-42F5-ACEF-9B12458A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DEF9-9BF6-4520-88E7-73A38372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025C-88D2-4721-9098-2C742EFC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7E7A-AF37-4350-9311-698A9A7A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E8A9-970A-447E-BA53-85E5C805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AC2-9083-4704-930A-489949A6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CF64-F764-4D3D-B179-87053880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A817-152F-4B1B-8CD9-DBE98F41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4FDF-FE65-4F67-B8E2-B081CB00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2EB7-C4F9-44AC-BFAC-F3E8F142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4358-E18C-4623-BC9F-F4BA877B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A79-7614-4F99-8BFF-1CA84509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21D-C3FC-4A9D-96BF-7EAEAF29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2F10-A8B3-4F71-B2E9-87F47A73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E9D-EE05-4573-AEC4-9E92AF81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90A-7CEE-4F3D-B3B5-D0207252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C26-712A-4699-98FD-72EFCAA7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358-5CDA-4812-B0AB-340D93F1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B421-4CEF-456A-9E85-0E360C8C0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21CE-7D75-42C8-9610-C6529559A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ove That Wil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t Let Me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Love that wilt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let me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st my we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9680" y="16905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Matheson, 188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00560" y="228600"/>
            <a:ext cx="59155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ive thee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fe I ow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thine oce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pths its f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richer, fuller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O Light that followest all my w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yield my flickering torch to thee; my heart restores its borrowed r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in thy sunshine’s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laze its da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y brighter, fairer b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O Joy that seekes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e through p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cannot close my heart to thee;        I trace the rainbow thru the 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feel the promise is not v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morn shall tearless b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O Cross that liftest up my he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dare not ask to fly from thee;         I lay in dust life’s glory de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from the grou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 blossoms r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fe that shall endless b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13160" y="1482840"/>
            <a:ext cx="59155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ive thee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fe I ow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thine oce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pths its f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richer, fuller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Light that follow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yield my flick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rch 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resto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borrowed 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thy sunshine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aze it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brighter, fairer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Joy that seek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through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not cl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36280" y="1101600"/>
            <a:ext cx="5670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trace the rainb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u the 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el the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not v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earles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Cross that lift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my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are not 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ly from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46280" y="1101600"/>
            <a:ext cx="5850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lay in d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glory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blossoms 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endles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ove That Wil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t Let Me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09680"/>
            <a:ext cx="914400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O Love that wilt not let me go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rest my weary soul in the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9680" y="144792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Matheson, 188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23T14:31:26Z</dcterms:modified>
  <cp:revision>22</cp:revision>
  <dc:subject/>
  <dc:title>PowerPoint Presentation</dc:title>
</cp:coreProperties>
</file>