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305D-ADE6-43BB-B758-C458E119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D4F4-C926-46E6-84DE-CB1D3C04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EF15-DCA1-44AB-AE6F-7B15D8E0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8636-A048-4958-9F1C-6A0571B6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20F6-973B-42D4-AADD-DEB74E06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DF71-E067-4731-825C-9D3BDEF1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D1A9-718B-431A-97DF-538233C4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BBB-AC97-426C-8CBC-F8C59F4C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59EC-5E38-4DF7-9197-24784300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2C7B-A276-4900-A0A0-DD8143E1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C8E9-B262-4BE8-9992-171ADE28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6C6-A850-418B-BEB2-3B98310A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42F3-A9A3-4159-ADE8-D07AB1773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Zechariah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Benedictu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246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(Advent &amp; Christma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il to the Lord’s Anoi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David’s greater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Zecharia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2560" y="1600200"/>
            <a:ext cx="778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uke 1:68-79, ICET, rev. ELLC; Response, James Montgom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tender compass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our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dawn from on hig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hall break upon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46196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shine on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dwell in dark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shadow of dea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o guide our fee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to the way of peac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990720"/>
            <a:ext cx="8610480" cy="431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ed be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God of Israe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has come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et the chosen people fr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has rais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p for 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 mighty Savior fr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use of Davi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holy prophe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od promised of o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save us fr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enemi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rom the hand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l who hate u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show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o our forebea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o rememb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covena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73520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was the oath God swo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our father Abraha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set us free from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nds of our enemi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46196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ee to worshi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ithout fea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oly and righteo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Lord’s s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ll the days of our lif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you, chi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hall be called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rophet of the Most Hig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you will g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fore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prepare the wa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give God’s peopl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knowledge of salv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y the forgive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ir s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2:47Z</dcterms:modified>
  <cp:revision>33</cp:revision>
  <dc:subject/>
  <dc:title>PowerPoint Presentation</dc:title>
</cp:coreProperties>
</file>