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5C4F-4181-4663-8D92-A9910D85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F2E7-330C-4493-A1F2-0C9BEF34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F921-B064-4A38-8BD8-0BC1D00C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42D1-AC4C-4C55-B976-B4EB87CE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D224-7DC7-4788-963B-27096C88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36B8-C1AE-4A58-90A6-07AF7E1F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46A4-A252-4A41-9E34-36324C81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B272-5515-4312-BF20-B7D50963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8ED4-DB62-46A0-AE19-088D5753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BF85-9E71-46BC-BA27-A23DD85A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CC9D-3D89-4B9F-BD9F-75428DEE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A46D-5779-47FC-9666-13935E67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6781-793C-43E9-A866-902FEAC4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6355-F08C-48AA-B04F-B348D476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484C-C250-48B3-806D-CC0D9B7C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E37A-93F3-4DE3-8FFC-A2BC5980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E846-AFDB-46EF-BED3-AE085582E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2BB8-E375-4F7F-B96D-32D0D942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9B07-76B0-483B-9FBB-5392A522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7762-05B2-42AB-B97E-5A0A6186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2FD4-D59D-4AEC-B1C1-A32CD0D2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FBDB-3561-4DBC-A84F-ECF0B088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546C-FB9E-40A0-9565-3AF803A9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452D-FDC8-4BC5-88DE-363F8F97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EC11-133D-4E58-AF43-A219C7F8A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98E2-0A35-4278-AEEC-F5395FEFA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Thin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-Victorious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288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Jesus, thin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ll-victorious lo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hed in m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eart abroad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ine All-Victorious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72640" y="1523880"/>
            <a:ext cx="37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shall my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longer r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oted and fixed in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that in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cred f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ght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gin to gl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ine All-Victorious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rn up the d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ase des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untains flow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O that it now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rom heaven might fall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all m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ins consume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ine All-Victorious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Holy Gh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e I c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of burning, co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Refining f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hrough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lluminate my sou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ine All-Victorious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atter th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every 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nctify the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38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n shall my fee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o longer rov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rooted and fixed in Go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1430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. O that in m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sacred fir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ight now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egin to glow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ine All-Victorious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2193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urn up the dros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f base desir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make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ountains flow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0666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O that it now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rom heaven might fall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all m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ins consum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ine All-Victorious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4479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ome, Holy Ghos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or thee I cal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pirit of burning, com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6002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. Refining fir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go through my hear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lluminate my soul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ine All-Victorious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371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catter thy lif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rough every par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sanctify the who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Thin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-Victorious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, t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-victoriou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d in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abroa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ine All-Victorious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2640" y="1676520"/>
            <a:ext cx="37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11-14T16:00:16Z</dcterms:modified>
  <cp:revision>13</cp:revision>
  <dc:subject/>
  <dc:title>PowerPoint Presentation</dc:title>
</cp:coreProperties>
</file>