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5FFD-9151-4E3D-955B-C29F3680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963B-0883-4B0D-8330-A5504365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003-4028-4463-BDA4-3A6162B8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F605-8D9B-40BA-B702-77C11407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132A-19AE-40A0-BA97-B39C0B68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61BC-EA7B-4D98-B4BA-26125E43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1202-6291-4A24-BCE3-5CCDC307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A7DC-26F9-45C2-9285-0006720A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418A-5B21-4C52-BB03-A482699A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67B6-A3D6-4420-999C-4CBA797A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A679-61BA-4857-8066-B68C8245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FB2D-E7F8-4E60-AC87-F9142590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94D3-F009-4C08-91A7-89928DB5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EA84-4A2D-40A1-ADA1-81F36A07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19DF-BB81-4183-93A0-F649F954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B3EB-DE0D-4BCA-9037-936C35CE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6940-D616-4635-AF04-592E5CE2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E944-2542-474E-BA92-156E0B68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4F4-4379-4008-910F-C6AE9AEE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F511-09DE-45C6-BF19-95C7B6D5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1138-6DC2-466D-8A7B-C84F57EA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224-4288-4E29-B52D-A0B3ACCA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8C10-FD86-43E3-8787-BC13A24D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6326-0F71-4E15-A909-0FDA4F09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6213-9F5B-441B-8B3B-167186931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D929-07BE-4DA8-9FB7-B449B5534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sanna, Loud Hosan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06668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1. Hosanna, loud hosanna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little children sang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rough pillared court and templ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lovely anthem rang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800" y="792000"/>
            <a:ext cx="786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anette Threlfall, 1873 (Mt. 21:8-9; Mk. 11:8-10; Jn. 12:12-13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de on in lowly st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scorned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ttle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 on his bidding wa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Hosanna in the highest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ncient song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Christ is our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y we ever praise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and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his blissful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ly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sanna, Loud Hosan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3716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Hosanna, loud hosanna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little children sa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pillared court and templ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lovely anthem ra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800" y="792000"/>
            <a:ext cx="786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anette Threlfall, 1873 (Mt. 21:8-9; Mk. 11:8-10; Jn. 12:12-13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, who had blessed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folded to his br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ildren sa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mplest and the b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rom Olivet they follow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d an exultant crow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 p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anch wa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anting clear and 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earth and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de on in lowly st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scorned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ttle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 on his bidding wa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Hosanna in the highest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ncient song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Christ is our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heaven 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y we ever praise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and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his blissful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ly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9200"/>
            <a:ext cx="91440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o Jesus, who had blessed them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close folded to his breast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children sang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ir praise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simplest and the best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92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2. From Olivet they followed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mid an exultant crowd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victor palm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branch waving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chanting clear and loud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76320"/>
            <a:ext cx="91440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Lord of earth and heaven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rode on in lowly stat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nor scorned that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little children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hould on his bidding wait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45720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“Hosanna in the highest!”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at ancient song we s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Christ is our Redeem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Lord of heaven our King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1096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may we ever praise hi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heart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ife and voic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in his blissful presen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ternally rejoic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sanna, Loud Hosan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osanna, loud hosann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ttle children sa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pillared cou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m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ly anthem ra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280" y="1066680"/>
            <a:ext cx="786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anette Threlfall, 1873 (Mt. 21:8-9; Mk. 11:8-10; Jn. 12:12-13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, who h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folded to his br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ildren sa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mplest and the b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rom Olivet they follow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d an exultant crow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 p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anch wa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anting clear and 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4-16T15:39:38Z</dcterms:modified>
  <cp:revision>37</cp:revision>
  <dc:subject/>
  <dc:title>PowerPoint Presentation</dc:title>
</cp:coreProperties>
</file>