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38A-8C6D-4447-BAE7-9ABE6970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7D1-30CB-4E00-B05C-3DA69D46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B9E-C33D-4A98-99C5-339FF4AD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72B-F18F-49D5-9B74-89B11DDD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8CB-C04A-476D-9A8E-B0E88613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C78-2B5F-4750-A4C9-FB0CBCEC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7B6-E500-4924-A261-2FF7208E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F74-612A-4966-B079-8EDC42D0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6A3-4858-479A-AE4A-D1DBB5A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9D4-38B4-44ED-BE1A-B80A12B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6FA-039D-44A7-83A1-6764DE0A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404-FB23-4028-BEC1-D8E33A83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86CA-1FDA-4D9B-B11D-8FCFD8D80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Have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Have Mer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2200" y="990720"/>
            <a:ext cx="291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cient Greek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, have merc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440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76520"/>
            <a:ext cx="91440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e eleison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38Z</dcterms:modified>
  <cp:revision>24</cp:revision>
  <dc:subject/>
  <dc:title>PowerPoint Presentation</dc:title>
</cp:coreProperties>
</file>