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457-05A3-44D1-AF17-B838B716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D89-E103-43D7-934E-9B591B50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751-33A8-44DD-B35D-06BCB353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959-93C7-4C20-BFDB-53D9686E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CD1-7CFB-43AC-A3DD-9F7F1EB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96E-4E3F-4879-9B7A-4F37569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C0D-CF03-462B-B010-0A2F70EB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530-CBB6-41A7-818D-48E73DE5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5FF-71A1-4C96-A10D-2546FCF8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943-223F-48CB-9EFA-7D052D8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DC3-BA9A-45BF-956C-D83D3FB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9D3-407E-4DD7-861F-4BD6085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8FC-DE65-47C3-A202-8E8BEA670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Man and Wom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er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3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man and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r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b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gu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pread th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the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y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go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ween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be sh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very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 and make me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ade us tw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wo are on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ild or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band, w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Jesus l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av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ing 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offers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the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ge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ring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r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s to wi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ear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not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22Z</dcterms:modified>
  <cp:revision>140</cp:revision>
  <dc:subject/>
  <dc:title>PowerPoint Presentation</dc:title>
</cp:coreProperties>
</file>