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212-7F3A-44FB-B65D-F61CE9AB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B58-500C-40DA-802A-A6CC708D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BE2-432D-4387-B9B9-EC4800EB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693-EA3F-44D4-ACFF-36219136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5A8-7410-408E-BE43-BE21DEC3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A9A-B952-48F1-9F6E-2DEF8BFA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EB6-E1C4-4F55-B405-FFF9280E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569-4AD8-41D7-AB82-AC8C077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506-2856-4142-A340-607903A3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8D3-CAE9-4152-B1DE-94D4570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31F-EA96-4E33-806B-353CAD9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85D-CC95-42A8-B1ED-2CE1B84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6316-C388-435C-9364-F90904970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e and Thanksgiv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ise and 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 God our mak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all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digal creat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. Francis Yard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. Francis Yardley, 1982 (Lk. 3:21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your 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come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our own hol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at we have str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us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have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d and set a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and fav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in visi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pe, and ou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, O Dove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never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ise 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ource of every mer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now re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is water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peac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52Z</dcterms:modified>
  <cp:revision>104</cp:revision>
  <dc:subject/>
  <dc:title>PowerPoint Presentation</dc:title>
</cp:coreProperties>
</file>