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C76-B47D-4B32-8758-0563B911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4E0-0D2E-43C5-8862-F323450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970-4039-47D3-A11B-4C9366D5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1A0-E13E-4AE2-AE35-8BAA82E5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DA1-D5C8-4DEE-9269-E350BD3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9F3-C5C3-408B-8C54-99FABADF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9CE-CBD7-404D-A79B-F79F13DD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897-9C1C-4B27-B75F-0A9D92F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D1F-DBB0-4245-8A5E-7C0BCCC2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CCF-C9DC-4825-9220-4A0B7229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9D8-0D1C-485B-849D-A1D77FD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077-CC4B-458C-9D7B-C5B4363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E0CF-2A09-4CB0-8797-FE2A4B55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Heal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N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362320"/>
            <a:ext cx="9144000" cy="429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heal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nation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we pr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033280" y="1600200"/>
            <a:ext cx="519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ed Kaan, 1965 (Rev. 21:1–22:5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de of stat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ce, or schoo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gma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scure your pla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com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s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brief spa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life’s brief span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brief spa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ou, Creato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have wri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re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umanki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gr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e lif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min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onse and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may find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a jus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qual shar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thing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earth affords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life of love in a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ur wor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pledge our word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ur word.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us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freed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sp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ld release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red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 and hat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in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us how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and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will di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creas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hope increase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will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creas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at k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ndant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be banne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21:46Z</dcterms:modified>
  <cp:revision>21</cp:revision>
  <dc:subject/>
  <dc:title>PowerPoint Presentation</dc:title>
</cp:coreProperties>
</file>