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6A1-EEDF-4F71-8EDF-07A6CECB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68A-65F1-4E92-A1E8-9BEB058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453-0963-4D64-872B-D21D4AC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3DC-F810-4936-8878-1E5A2D26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BD1-5CA0-49C1-B5EF-5DDD2461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A49-793F-4A58-9E24-587ADFA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4AF-9263-4E24-AABE-58C206F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335-BA3A-4FF0-BDE9-285073B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9EF-494F-4FE2-B470-92D7BBF8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DC9-218E-4C2D-B700-DA0223F2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CB8-087E-49C6-A570-3E0F2AD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893-344E-4D81-8D7A-4D66445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0D1C-A7AB-4944-85D9-1393EC17C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e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ond L. Budry, 1904; trans. by R. Birch Hoyle, 19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The World Student Christ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in bright rai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pt the folded grave-clo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y body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Jesus m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from the to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ly he gr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s fear and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church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triumph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 now liv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th lost its 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we doub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Prince of lif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 in ou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conquer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y deat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safe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hom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38Z</dcterms:modified>
  <cp:revision>64</cp:revision>
  <dc:subject/>
  <dc:title>PowerPoint Presentation</dc:title>
</cp:coreProperties>
</file>