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E0B0-21D8-4344-9C1B-5CA52746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6246-25CE-4218-9C6F-3E53E7FF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89B7-2F08-4D0E-8573-1995AD8E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5AAD-6D29-4B1D-9A5E-75320B64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C4D8-DC18-4030-94B9-3A1FD6D8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5EB7-A67D-43F8-B9F1-9265A365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229A-CFE0-4E3C-963F-5EB8CCB1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B556-6554-461C-BEA1-E97AB47B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3C08-6E85-4677-AB54-4752E5D2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38FC-C249-4333-B4E2-AF98784A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89CA-AAD4-44DD-86BF-C8525E2A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FE4F-7180-4D3E-9CD9-BA2337A1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F836-1428-4E3F-8561-AF9230ED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C442-7E4D-4E61-8988-E3276ACE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0AE3-306F-4CDF-B7EA-23D83279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7469-EAF5-4149-90C4-984BF86B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D7F2-9F17-4717-A136-6BA5A58D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0B94-D8FD-44E5-BFA3-AA343896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6F44-B08A-4B7A-B757-F94A608E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04F1-C5A2-4E96-9515-54DD98ED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9832-7394-47FB-8A31-69369ACE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310F-08DF-4938-B601-6C4698C9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5498-682B-423D-A4FF-52667F2F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A234-ED7C-4DD6-85EE-D26D71B1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6E92-3716-42B4-8C95-038A75059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D154-1C26-49DC-9863-947F4390A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Sacred Hea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w Woun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0"/>
            <a:ext cx="914400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O sacred Head, now wound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grief 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ame weighed down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acred Head, Now Wound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440" y="1371600"/>
            <a:ext cx="908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non. Latin; trans. by Paul Gerhardt, 1656,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nd James W. Alexander, 1830 (Mt. 27:27-31; Mk. 15:16-20; Jn. 19:1-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pale thou 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ngu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use and scor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e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sage langu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once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as mor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at thou, 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t suff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all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inners’ 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acred Head, Now Wou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e, mine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ansgre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eadly p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, here I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avio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Tis I deser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l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 on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y fav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ouchsaf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thy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at language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bor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ank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est frie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acred Head, Now Wou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is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ying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out en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k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forev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ould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nting 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le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,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tlive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fo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scornfully surrou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orns, thine only crown:  how pale thou art with angu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ore abuse and scor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e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sage langu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once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as mor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52056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What thou, my Lor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st suffer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all for sinners’ gain;             mine, mine was the transgressio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thine the deadly p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acred Head, Now Wou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144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, here I fall, my Savior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Tis I deserve thy place;                look on me with thy favo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uchsafe to me thy gr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6212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What language shall I borrow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thank thee, dearest friend,          for this thy dying sorrow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y pity without e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acred Head, Now Wou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83808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 make me thine forever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should I fainting be,             Lord, let me never, nev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tlive my love for the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Sacred Hea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w Woun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sacred 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wou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rief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me weighed d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acred Head, Now Wound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440" y="1523880"/>
            <a:ext cx="908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non. Latin; trans. by Paul Gerhardt, 1656,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nd James W. Alexander, 1830 (Mt. 27:27-31; Mk. 15:16-20; Jn. 19:1-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scornful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rrou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or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only crow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4-10T01:19:41Z</dcterms:modified>
  <cp:revision>47</cp:revision>
  <dc:subject/>
  <dc:title>PowerPoint Presentation</dc:title>
</cp:coreProperties>
</file>