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5FA-4901-4EF1-81E7-14493C94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BA9-BD40-46C1-A090-43C24BA0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A0B-7586-4242-996C-C7A33B52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BFC-10C5-4001-B62D-6AA494C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EE14-B7A5-47A4-8D3A-7FB0269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0A5B-70B9-4515-9748-F1B45148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3D6-AC11-4245-99DD-CB8B458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141-B527-49D4-A42B-949E1484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3AE-E622-40B2-B71A-4C064C1B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D1ED-7190-4F1D-855A-BFAD1F8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C931-C02C-476B-9F68-F3ABE9A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ED8-4DF3-4900-B98D-44ED897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93B-E750-445C-B1F5-6ED210D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3F52-37AD-4E9D-94F6-A74704D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384B-7A74-4ED5-A698-9EAFAED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E01-0A01-40BF-B423-E2B1BC11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EBE-E9CD-401B-8BE4-6085058B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A2CA-79EB-4434-BCAB-77AB64F2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75FB-5BDD-4C49-8F16-1FA33916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69D7-398E-4B2B-A4E2-7C8B9A3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A9E0-90A5-47FD-A382-212CD89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9BE8-33C4-4EEE-9659-9184DB8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A66-D26F-4F63-9974-C0BF893B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1C3C-887A-47FD-A607-4A1549A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287B-53F2-42F6-A736-854EC1F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3CC82-3349-4A34-B0EF-2FE9A201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5B1A-2D4C-450E-9AD5-5BC186A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E0A9-2394-436F-9813-AACB7A8E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F4E8-214E-4235-8B1C-6074DD8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27ED-2685-417B-AA77-0381DF77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EFF-F32B-40E9-9600-483CDC2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178-C24D-4C88-ABAF-B8FB0E5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C7C-2EDE-4321-86CB-AE0E2D69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2FA-5483-40E8-A6DA-62386B1D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35B-606D-4B7D-AA50-D4F925AF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95B-D843-4E9F-987D-2D178AD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D91F-557B-428A-B6D3-24D0796F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367-8BD0-4D57-838F-507689D1B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44F-CAFE-485D-9555-2A83C7309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4479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98900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166680"/>
            <a:ext cx="9144000" cy="38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hepher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eared and tremb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o! above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ang out the angel chor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Down in a lowly mang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Christ was b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ent us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bless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m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894800" y="304920"/>
            <a:ext cx="1249200" cy="65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482920" y="1447920"/>
            <a:ext cx="6661080" cy="473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98936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46160" y="1285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1. While shepherds kep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ir watching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’er silent flocks by night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behold throughou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eaven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re shown a holy light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839960" y="906480"/>
            <a:ext cx="730404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68360" y="1096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2. The shepherd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feared and trembled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when lo! above the earth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rang out the angel choru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hail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Savior’s birth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00160" y="906480"/>
            <a:ext cx="7143840" cy="370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k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silent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hown a holy l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946160" y="1477800"/>
            <a:ext cx="7197840" cy="291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3. Down in a lowly manger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umble Christ was bor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God sent us salvation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bless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hristmas m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14720" y="1179360"/>
            <a:ext cx="651816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52280"/>
            <a:ext cx="830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 kep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watch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silent flocks by night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roughout the heave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own a holy light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587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feared and tremble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lo! above the earth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ng out the angel chor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51768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own in a lowly mang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umble Christ was bor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ent us salv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blessed Christmas m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ed and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! above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out the angel chor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a lowly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ble Christ wa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sent us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mas m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5228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326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 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989000" y="7621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ile shepherds kep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silent flocks by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roughout the heave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shown a holy light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12-31T14:34:47Z</dcterms:modified>
  <cp:revision>14</cp:revision>
  <dc:subject/>
  <dc:title>PowerPoint Presentation</dc:title>
</cp:coreProperties>
</file>