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E365-9B76-4CF2-92CF-7F7B1E96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D81-375B-45FB-AF01-0BB237E2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C526-D543-461C-9F8F-F6416517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6A44-DA11-4469-9320-A6BC64D3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EF36-B478-4719-9AF0-7A788FE0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54BD-41AD-4D55-866A-8B17338C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316F-39A2-410C-9A61-87613990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0C61-B3F4-4937-BEA1-D1E0DFFE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177E-5A29-4968-83DE-3B7E4B8C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F730-A425-4C1C-AFD7-086CA232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5526-E6A9-4EA1-AFB4-2F9EBED8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28B-9AD5-48D6-9405-B834BD1F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8D8B-DAB2-416A-A4F6-218EF610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759F-AD75-4BAD-991D-93EBA522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1AAA-75B6-452C-AC15-41516F36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82EB-C0E5-4D4F-BA26-0EE0330D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6112-9F96-4659-8C47-BE0E30B7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A39B-CBF8-402F-86E7-B5322F49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F40E-B7E1-48AE-9354-89238BF7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58DB-EA84-44FE-A339-DD8DE6C8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F1E-B84D-4455-B318-6D30FF8A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1F5-D703-4A07-84E9-C19A9C52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D8E-7395-4469-8F86-FED8DD4F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453-72C5-4AC5-8533-0E17EDFD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68E9-2C88-4FD9-94DA-05F13311A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2BA2-D4C4-4363-94A9-882953494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Be with You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ll We Meet 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counsels guid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hol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06400" y="1676520"/>
            <a:ext cx="39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remiah E. Rankin, 188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t his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failing roun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17324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4778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love’s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ating o’er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mite death’s threat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e befor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17324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778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Be with You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ll We Meet 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752480"/>
            <a:ext cx="9144000" cy="21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by his counsels guide, uphold you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06400" y="1447920"/>
            <a:ext cx="39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remiah E. Rankin, 188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sh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fol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860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sh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fol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4572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th his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hide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man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vid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5228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4572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ife’s per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ck confoun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t his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failing roun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22860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44136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love’s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ating o’er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9072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mite death’s threat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e befor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2860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53352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th his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hide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man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vid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17324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ife’s per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ck confoun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1-04T03:23:38Z</dcterms:modified>
  <cp:revision>12</cp:revision>
  <dc:subject/>
  <dc:title>PowerPoint Presentation</dc:title>
</cp:coreProperties>
</file>