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CEE-96A1-4DE9-8D11-1C437971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3C5-1B10-435E-B7B2-A660F25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0D0-6C40-4660-9307-4AAF8731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5C9-994F-4C27-A9E5-9122855E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4B6-C3E0-4111-B14B-B648623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A34-5BF3-4D1E-A5D4-330125AB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92D-B35F-4F2A-9E8C-0C54176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36B-1161-41F3-B38C-23C78788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203-8B58-438D-A3D1-C6B8545D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516-7695-411F-A774-A5A07B9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CE8-5E86-4929-AB6F-BC2AB04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3C8-982B-48C9-A1BC-B88C520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CF47-2F77-4119-BAB6-81509345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Simeo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unc Dimitt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Christma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shall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Sime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9080" y="162396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2, ICET, rev. ELLC; Response, Psalm 72:11 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now le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ant go in peac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en fulfill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own eyes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en the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ch you have prepa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ll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light to reveal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people Israel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29Z</dcterms:modified>
  <cp:revision>33</cp:revision>
  <dc:subject/>
  <dc:title>PowerPoint Presentation</dc:title>
</cp:coreProperties>
</file>