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A799-A28A-4787-A5C2-19E4CECC7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EC03-C852-4A00-B196-98001249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E375-15B6-4598-9CA0-FE58C6A73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3B8B-0FA7-43E8-9B1A-26BC3C3AB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9296-E115-405F-BFE5-0A1613FC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72A6-F44A-48B3-ACB2-4E5D20CD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76D3-204D-49A7-AA30-F3875BF9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1263-4745-4401-9A61-47707BAB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042A-82EA-45C4-8805-70A411DC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0958-34F0-4B2F-9E71-E8E76734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F6C1-4FBD-4B46-A952-D29D2E9A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1DAF-DEF4-47CD-9EC8-A10FF39E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12D8-B044-41A2-825C-88E4604F7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228600"/>
            <a:ext cx="6400800" cy="10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the Spirit of Tru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rayer from Ken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20968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cowardice th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ares not face new tru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laziness th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s contented with half-trut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Spirit of Tru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1828800"/>
            <a:ext cx="8763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arrogance th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inks it knows all tru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od Lord, deliver me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6:10Z</dcterms:modified>
  <cp:revision>13</cp:revision>
  <dc:subject/>
  <dc:title>PowerPoint Presentation</dc:title>
</cp:coreProperties>
</file>