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0E9-C3F6-474A-BF10-D61B706F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C08-DD63-4BD5-A55C-F7855B3A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8BE-C9F3-4051-ADAB-3B45B9D9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16B-03F7-4D53-A22D-95F666BD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138-ECB1-41E4-8348-553B18A0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F45-29FA-4991-A36C-1FD35C9C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A61-B2DF-471B-9F25-87704C5D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C4F-3A8A-4116-9903-5BC814F9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596-970B-42F3-B8EB-E5C1D8D8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4E1-3DA4-4008-9852-1DC00822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810-EF6D-47BA-B989-8630E08B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E50-A3FF-4562-BD49-B6B52EB2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D3AD-2FB2-44E0-9286-12BDCAC72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ove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Your love, 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broad li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ach and meado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23720" y="114300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ders Frostenson, 1968; trans. by Fred Kaan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judge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your judg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our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reedom’s open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us as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human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eave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k you or reject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give us r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nswer “yes” or “no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long for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our truest be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given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urage to unf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k in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ace and sc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rea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ok fo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ants can g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ut there are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keep us all di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ence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ith hate and w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is the bric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ortar of our pri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ide of 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ison coat we w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3:20Z</dcterms:modified>
  <cp:revision>37</cp:revision>
  <dc:subject/>
  <dc:title>PowerPoint Presentation</dc:title>
</cp:coreProperties>
</file>