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419-C4E8-4E72-BA40-F1AE4F2E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9DB-625D-4E99-86A6-26D4E51D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02A-32FC-4708-956F-5DCB8538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F43-D517-4720-B559-37611876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C5E-DE6C-464E-9FF6-B44B8575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101-3E2D-4DC7-9289-516E424E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5DE-9B2E-4D08-97AF-0766385C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86F-E17B-4004-A3EE-993BEFC4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95F-AA05-4B48-B499-0FE2829E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125-B9E3-4570-99B8-27B76403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864-2D94-4B6F-AF10-13DBA24D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E85-CF0C-4745-BF63-720DAC9B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E0A4-B6EF-415D-9711-252449B51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 Divin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Hast Thou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ast thou do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mmortal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die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eternal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e all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immortal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hath di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s crucifi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an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us reb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,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ecord tr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all are b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esus’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fo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s from his sid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e that pass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eeding Pri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and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your Savior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y, “Was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 like his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feel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ood appli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1:16Z</dcterms:modified>
  <cp:revision>46</cp:revision>
  <dc:subject/>
  <dc:title>PowerPoint Presentation</dc:title>
</cp:coreProperties>
</file>