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C77-787B-4960-AEE6-E52AF52D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665-E853-4C95-B206-84EEEC1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E7F-441C-4AB2-BCAE-A252096C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D92-69F3-4EE5-81B4-0A80F1EF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A5AD-5E60-4DA5-B5C4-0E475609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B001-7544-46CD-B706-CB13B2ED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3C5A-8247-486A-8C81-A9EC13AE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217-9347-443A-9767-AAD677A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F5F6-72B9-4667-AA2E-EA3973B9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3319-5A07-416D-9569-8A6F94DD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23C4-5B42-455E-BB45-F658C22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DF2-2B1D-404F-9DFF-F1ADE0F9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61AA-4D5D-4383-A01B-6D114E11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F30D-5633-431A-81A2-ED79979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ABDF-6C5E-498B-A512-B12C15C5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D5AD-7A9B-4A03-9A0F-D0839951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33D5-B4C1-4F70-B63F-06B3F40F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FA8-A6C2-4862-9C11-7FF296E1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92F-8982-410C-8A88-B8EF9AAA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F14-90D4-4DC4-A361-A5BC8D8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8CB-B4B3-4FD8-8046-A7462A49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89E-BCC6-4C7C-99EB-0FB8CE8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052-8437-4AF6-8DE5-A257A89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ACD-BE82-4994-8CE0-6D9BFD1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9F3A-ABB6-4DA6-AE66-DFD1F64F4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1CD3-A303-464B-9248-601E7C244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ngels we have heard on hi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etly singing o’er the plain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47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French carol; trans.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rown of Jesus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ngels we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ly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French carol; trans.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rown of Jesus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907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this jubil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your joy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pro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glad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nspi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s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lehem and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hose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nded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 hi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l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e choi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, Jose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nd your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Shepherds, why this jubile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your joyous strains prolong? What the gladsome tiding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nspire y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venly s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Come to Bethlehem and s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whose birth the angels sing; come, adore on bended kn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ewborn K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See him in a manger lai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m the choirs of angels praise; Mary, Joseph, lend your ai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 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love we ra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14T01:00:11Z</dcterms:modified>
  <cp:revision>15</cp:revision>
  <dc:subject/>
  <dc:title>PowerPoint Presentation</dc:title>
</cp:coreProperties>
</file>