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1D5A-F43B-4BE8-AF9E-27967AE06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09DE-1377-4B79-BFB4-D012D716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DE78-A6BA-42C6-9723-1086D49D6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6D81-E526-4891-9E13-5B73B16DF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D6D8-9656-4318-8AE9-87A5DD64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B7F8-5920-4E18-B7F6-764BDE59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DE64-4B2C-44F4-9577-E20984B0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C16E-74B7-446D-8FFF-3D0374E5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B56D-0A95-4EA7-AFFD-F293D5AD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24C3-18D2-4133-8F59-797034F3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D837-2430-4045-B18C-BF3A5B54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80BF-BE56-41CD-976D-7DBFFF24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F442-048D-4B62-B3F1-E4B66EB1A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Our Coun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676520"/>
            <a:ext cx="883908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God, keep our country und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protection.  Wipe out s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is land; lift it up fr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depth of sorrow, O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ur shining ligh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50 by Harper &amp; Broth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Our Coun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53760" y="990720"/>
            <a:ext cx="427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Toyohiko Kagawa, Japan, 20th c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18728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ave us from deep grief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isfortune, Lord of all nations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less us with your wisdo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that the poor may not b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ppressed and the rich ma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t be oppresso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1919160"/>
            <a:ext cx="876312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 this a nation having n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uler except God, a na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ving no authority but tha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Love.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09:49Z</dcterms:modified>
  <cp:revision>14</cp:revision>
  <dc:subject/>
  <dc:title>PowerPoint Presentation</dc:title>
</cp:coreProperties>
</file>