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1D1F-BC85-4CC9-A1BA-5180727BC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B9A3-1657-4B28-BE49-0F160EAC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6F61-6699-4CCF-B54E-FB9D81521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43F7-2587-4A84-B37F-2DE266725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0459-C560-47FF-BE32-AACE69AB8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06F5B-2EAE-4A87-AB45-34184E77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256B-91E4-42F9-BD2D-6869F1A1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59E7-15AC-491F-A1D8-B0BE2196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4E01B-C699-4DA2-B57B-BC5964F2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5595-D45D-4FA1-B20D-FAD6CDC2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C139-940A-4243-9E1B-A323FA94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5880-CEFB-4FFF-B4E9-1CD31001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CC85-EB0D-4982-A654-A82C287E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F12D-9ED5-4E68-8600-4D7F11D4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6F85-CA01-4896-945D-B3B8D39F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FD04-4ABA-4677-B20F-DFACCA242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5B71-1590-40D1-8C5E-4374594B3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8989-168C-4A3E-9F43-1B6B1A7D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ACED-B512-456D-BB6F-03DA05B3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936A-5A60-41D1-89EF-FA40575B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B7B8-C1D0-435C-85D1-ECBF234B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E54C-E62C-4B92-8627-65D7FFF1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B583-9916-4FD1-AFBB-B02DFA57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CD99-721B-40CA-8B56-8B774021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A33B-8233-437E-85D3-AC5F1E796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775F-5789-48AF-8F28-3EA6B79F0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808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Will Take Care of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6765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Be not dismay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e’er bet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take care of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his w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love abi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take care of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67040" y="1219320"/>
            <a:ext cx="3448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Civilla D. Martin, 190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04920"/>
            <a:ext cx="914400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will take care of you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rough every da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’er all the way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 will take care of you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will take care of you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6504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Through days of toil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n heart doth fail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will take care of you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n dangers fierc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your path assail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will take care of you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28600"/>
            <a:ext cx="914400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will take care of you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rough every da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’er all the way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 will take care of you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will take care of you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0492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All you may nee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 will provid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will take care of you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nothing you ask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ll be denie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will take care of you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04920"/>
            <a:ext cx="914400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will take care of you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rough every da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’er all the way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 will take care of you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will take care of you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0492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No matter wha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ay be the tes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will take care of you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an, weary on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upon his breas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will take care of you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04920"/>
            <a:ext cx="914400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will take care of you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rough every da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’er all the way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 will take care of you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will take care of you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143000"/>
            <a:ext cx="9144000" cy="47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take care of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ever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all the 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ill take care of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take care of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rough days of to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heart doth fa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take care of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dangers fier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path assa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take care of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143000"/>
            <a:ext cx="9144000" cy="47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take care of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ever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all the 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ill take care of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take care of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ll you may ne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ill prov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take care of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you as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be den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take care of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143000"/>
            <a:ext cx="9144000" cy="47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take care of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ever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all the 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ill take care of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take care of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No matter w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be the t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take care of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, weary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his bre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take care of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143000"/>
            <a:ext cx="9144000" cy="47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take care of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ever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all the 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ill take care of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take care of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522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Will Take Care of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12716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Be not dismaye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ate’er betid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will take care of you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neath his wings of love abid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will take care of you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67040" y="762120"/>
            <a:ext cx="3448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Civilla D. Martin, 190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2-15T00:29:11Z</dcterms:modified>
  <cp:revision>49</cp:revision>
  <dc:subject/>
  <dc:title>PowerPoint Presentation</dc:title>
</cp:coreProperties>
</file>