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F07-FC7F-40EB-99F8-76ABDD6D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E94-7AA6-4CBB-9376-175B67A4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3E2-F127-493C-9884-F2AC3421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4E5-5EFA-49B8-99AB-68A95F14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2797-520E-4D35-831D-6CF6956D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383E-064F-417D-8CB2-0B336808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939B-6FF1-4633-AD1E-B110987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BD7B-8043-41E1-925C-9B90981F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7722-C157-4FFF-BFE1-E2C7E39F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FE77-1298-4B14-B830-B2717476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FEFD-67DD-4458-A881-0112D1A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253-2064-4420-8729-C3BF1D25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BAC2-8530-4017-925A-36B3EF95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13E-8D1E-4DB6-947F-5733FA6E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C238-0957-40AF-B180-605063A1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6685-DF78-4B3F-8452-1F7220F3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C856-4B00-4A23-9707-ADBCDB65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44C-0DB5-403A-B1BA-A26C4E0B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836-67B4-4404-8C7D-6E40A7BA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6FB-DDF5-4147-8B68-1854765C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229-6CDF-40BE-8921-92C80E8E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824-A044-4F01-BA1D-D9187697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FF6-5C74-400D-8421-EADBC49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EF3-4289-4190-846B-54C21EBF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6F6F-2582-4472-963B-E29CFAD82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6087-881A-4BD5-B96D-80DF74C5E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appy D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Fixed My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happy d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fixed my choi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thee, my Savio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my God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42600" y="1549440"/>
            <a:ext cx="60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Doddridge, 1755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frain fro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esleya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acred Harp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854 (2 Chr. 15:1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t’s done: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action’s do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rew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ollowed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med to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w rest,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-divided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ed 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issful center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ave I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obler 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eaven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may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wing heart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s all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igh heaven, that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lemn v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ow rene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ail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test hour I 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 i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ond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appy D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Fixed My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096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 happ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fixed my ch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 thee, my Savior and my Go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42600" y="1279440"/>
            <a:ext cx="60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Doddridge, 1755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frain fro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esleya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acred Harp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854 (2 Chr. 15:1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may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wing heart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s all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happy bo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als my v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its all m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e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hems fill his ho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o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ed shrine I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t’s done: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action’s do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rew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ollowed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med to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w rest,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-divided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ed 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issful center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ave I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obler 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eaven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igh heaven, that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lemn v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ow rene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ail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test hour I 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 i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ond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3808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happy bo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als my v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its all m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e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hems fill his ho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o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ed shrine I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7-28T18:33:46Z</dcterms:modified>
  <cp:revision>15</cp:revision>
  <dc:subject/>
  <dc:title>PowerPoint Presentation</dc:title>
</cp:coreProperties>
</file>