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C78-AE4A-4D2E-9813-317F9DC4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969-ADF3-4C46-8336-AA9DECCD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A2D-1B20-4540-ABF1-B3287990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381-C041-4317-B6E1-3ADDA6B3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3EF9-2F27-4ED3-9B37-B974A1A4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7CDF-036A-4DFC-9720-4C8AB492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3A13-A016-44A0-A510-30B7446B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3E0D-A546-4B78-B093-118B3E80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4702-3770-4555-B4AA-4ED20674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095E-D211-4886-BEAD-1EDE9D78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0AC0-5640-4D37-A70B-6BF77C9E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A01-169F-4A4D-A327-691E1375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8F3D-AC8C-4328-AAF4-244C39C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C6EC-67AF-44AA-9C4F-CE9410F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D905-B754-41A7-ACD3-BE8A48DD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BF67-8998-4516-86C7-08AC32D6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18E5-CEF5-4B19-B1AF-DD30A17A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BA5-DB69-46BB-8479-605E63B0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57C-FFB7-49C7-9997-BC737A0C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124-6AD1-431D-879E-5EE611E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ED0-DB49-4029-AA40-FF663BDC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E36-40F4-455F-A529-D123ADDB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FBF-57FE-45A6-84D0-4ED38E62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1D5-FCAE-4804-A320-E3FC391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764B-F6FB-484C-837D-34D8760CF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D0BD-21AF-4925-8C4C-9B2BA4DD8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ank We All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thank we all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and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ndrous things ha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om this world rejoic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6960" y="1092240"/>
            <a:ext cx="73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Rinkart, 1636; trans. by  Catherine Winkworth, 18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Sir. 50:22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still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rplex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 us from all 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world and the nex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ll praise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s 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Father now be give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im who reig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em in highest heaven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ne eternal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ear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us it was, is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s’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less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untless gift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s our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may this bounteou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nea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 joyful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still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rplex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 us from all 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world and the nex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pra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 now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m who re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m in highest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ne eternal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ear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us it was, is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ank We All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Now thank we all our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eart and hands and voic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ondrous things has d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whom this world rejoice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5360" y="685800"/>
            <a:ext cx="73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Rinkart, 1636; trans. by  Catherine Winkworth, 18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Sir. 50:22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our mothers’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lessed us on ou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untless gift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s our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O may this bounteous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our l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near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 joyful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lessed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cheer u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19T02:26:47Z</dcterms:modified>
  <cp:revision>18</cp:revision>
  <dc:subject/>
  <dc:title>PowerPoint Presentation</dc:title>
</cp:coreProperties>
</file>