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5AD6-17D0-4026-B6AE-55001CC0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4C12-8268-4BC9-A79E-C4232210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A7C8-A6A1-4B4B-A517-81734EA5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7117-E5AC-42CF-A6F9-73AFA5B2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54F2-A7FD-45C9-AD8A-3F1A1A5B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2A65-1107-4751-8D68-F3FBB041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C1E1-88BA-4FF0-AB0A-79E7A414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4075-9D02-4EBF-B272-EDF6FC30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A138-1739-4AAB-B51D-8F6D755A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DE1E-1A22-402F-9D59-41A51D4E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7BD-C08F-4670-8A94-AADDF032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8E05-1278-4DB2-9F81-1ECC6D11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7F02-4881-4F87-A506-9F8311525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come to Us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iving B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ome to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ving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which the Christi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is f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 The Westminster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ome to Us the Living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iriam Drury, 1970 (Jn. 6:35-5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ewed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ly comforte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om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-failing w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pring of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hall inclin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ome to Us the Living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to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venant sig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Christian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ne acc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ite a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cred boar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ome to Us the Living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aise the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, O Lor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3:10Z</dcterms:modified>
  <cp:revision>132</cp:revision>
  <dc:subject/>
  <dc:title>PowerPoint Presentation</dc:title>
</cp:coreProperties>
</file>