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AB7-D115-48D9-A83D-F8407072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0A5-F5C2-4DE2-A4F7-03A00F79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C8D-F88B-47AD-8D95-7B0A2F91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D30-9B92-474D-9895-0F4481B0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0106-B802-4A1E-B023-39B59CC0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3219-197B-464C-AC35-F54C710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76C1-5FC3-4A61-B2A7-2841304B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64B3-7AC5-44F7-AF70-89E7AC1D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2848-7493-4E00-9093-D599BA4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A95C-F786-4FDA-90F2-C7E42D4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A6A-909F-433C-BC04-48E9180C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ADC-FE73-42B7-A8E1-5ED8E47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02F6-87EB-4B70-A319-BD270C3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539B-3D4F-45F7-BEC6-587D7B7D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858E-9DC8-4D4B-B30A-A87FCBE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27CD-0BEA-4D50-A49A-981180B1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C8E-2FC4-401D-B1EE-A0D386C7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0ED-8BC4-4424-BB74-89601BC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650-F946-44CF-9541-3091C595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9A9-46DC-4297-9B59-22454508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350-4C6D-49CC-9A7B-D6BBA0FC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36C-E049-45BE-80C5-0F90C8E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BAB-3A67-4EF9-893F-E12D9AEB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13D-1616-4D2D-AE58-C3359A35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16A-3C3C-476A-AB93-EABED990E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FC56-D7F8-4A13-BB1F-92F85AC93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717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O Spirit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light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re divi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1000" y="1066680"/>
            <a:ext cx="46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Henry H. Tweedy, 1935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anguag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ay underst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love speak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ud and clear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 every age and 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ace and cli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all blend the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reeds in o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arth shall form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e fami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whom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ll is do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So shall we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power of Chris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o came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rld to sa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 shall we rai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him to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so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yond the gra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arth shall w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rue holi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makes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ildren whol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907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, perfect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e, we rea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reation’s glorious goa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Spirit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ou ligh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re div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000" y="1066680"/>
            <a:ext cx="46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Henry H. Tweedy, 1935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 up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nce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ly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it wit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righteous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escend upon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urch once mo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ke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ruly thi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Christ shall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an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low, wind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isdom b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our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mists of 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of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lin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, winged fi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p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ming love and ze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ach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good ne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onw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us to u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uth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nguag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sp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and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very age an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ce and cl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lend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eds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shall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m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shall we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me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to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ll it with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joy and pow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righteous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eac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o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shall w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holi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make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whol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perfe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,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o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goa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 Christ shall dwe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human heart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in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rrow cea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Blow, wind of God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wisdom bl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ntil our min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re fre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mists of err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louds of doub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blind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yes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193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rn, winged fire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spire our lips 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laming love and zea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each to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great good new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’s glorio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mmonwea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Teach us to utt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ving wor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ruth whi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may hea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0T00:47:02Z</dcterms:modified>
  <cp:revision>12</cp:revision>
  <dc:subject/>
  <dc:title>PowerPoint Presentation</dc:title>
</cp:coreProperties>
</file>