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D56-467F-401D-AAD4-9F73DD64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82F-11F4-4BEE-ACD3-0306FB15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894-5357-4F6C-ADFB-4993F29E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B63-2B90-463E-A0E8-0D01254A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4B6-3F4D-4CAE-BE65-7299742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97D-3A78-40E4-9B7B-5C7270C6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8F5-1F56-494C-81F1-1CA8B89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794-4FB5-4F2B-BAC9-4D221491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992-0126-45EF-B870-BC6678C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924-99B9-4E16-9B2B-714627D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367-843F-41FA-8FF0-D481AC24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340-02AD-43E6-9715-4AE7420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87A-BBD5-41DB-8DA3-48B385CF9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8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65680" y="106668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ry Sinclair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57Z</dcterms:modified>
  <cp:revision>39</cp:revision>
  <dc:subject/>
  <dc:title>PowerPoint Presentation</dc:title>
</cp:coreProperties>
</file>