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C2B-55B4-46B8-8BCF-0B1E29BF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F5BE-162E-4BC7-9502-8537DF88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A67-FFF1-47BD-B0BD-9A0C2F06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D15-E7F2-49C4-8C31-C6AB616D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C2B-6AD1-430F-8650-533A5502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9651-7B73-4378-A1C6-3D952367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913C-5C41-4278-917F-B942F342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AA9-9F5D-4E3C-8879-3EA5C3FE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0CB8-7804-4C5F-8422-B95C790B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E0B-A026-4586-8067-EB2BFF6E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C2B-256E-453D-919A-BADAC4EE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542-2509-4B66-9EBA-38EADC13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89CB-B683-4A6B-8815-C7FE9ACC7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ar Lord, Lead M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ay by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ancisca Asuncion, 19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Dear Lord, lea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by 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me steadf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se and str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3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 up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I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nder c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ympath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unt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from m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the set of su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at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in churc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where on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most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o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y dear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unt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from m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the set of su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at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in churc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where on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Dear Lord, lea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by 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me fo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be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ly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s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your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ab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unt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from m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the set of su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at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in churc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where on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w with confid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yous pra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our G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1:37Z</dcterms:modified>
  <cp:revision>136</cp:revision>
  <dc:subject/>
  <dc:title>PowerPoint Presentation</dc:title>
</cp:coreProperties>
</file>