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A6C-1882-4E5C-A503-4414179A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6B1-3BB9-4C25-B222-796A411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B22-5B56-4D77-8546-9F1F4565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1ED-A46A-4B5B-82EC-E659BDD6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67A5-8959-4746-9CCC-01585F10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D16C-45A2-403D-B07E-40CB0882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A34-B49B-4958-B571-776FB3B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D181-8FD5-4F57-855D-399D111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AA2B-6B6E-4980-BC7D-20C879B8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B913-DF65-4AC1-A654-25D9430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D07A-AA2C-4504-B51A-0AF5019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9F9-DE94-47B9-8149-1867928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F75-B5BF-4894-8A6D-C97A3F9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3F4E-7C04-4C04-8226-F95F8E42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B5BA-E589-4394-AE76-205EABC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4B76-8C06-46B8-9084-64E7703F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9320-9CDC-4BA7-A358-E9201E7E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A81-5C33-4213-BAED-2E4397B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069-B408-4313-9B77-4482255A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36A-C9C4-4FB5-A7D4-6E639AF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A18-C9FD-40C7-8809-0291CA3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ED0-2993-4BE2-90BB-A638508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B1E-D446-45ED-ACCB-D88C6F8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C52-7903-43B3-939E-1301677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113C-5B5E-496D-9729-B90E63992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D5F8-346B-428B-8A65-E0CEC32B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7696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9144000" cy="432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5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7696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765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936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985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6996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93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99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9T22:34:23Z</dcterms:modified>
  <cp:revision>149</cp:revision>
  <dc:subject/>
  <dc:title>PowerPoint Presentation</dc:title>
</cp:coreProperties>
</file>