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617-54DC-476E-9AAE-9C02DD26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007-F432-44AD-B507-AC977DA9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B96-C22C-46DD-9CC1-0703F4C0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F0C-91EB-4E1E-9DCC-A70B7479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D22-B722-4CD9-BFFC-26702BBB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731-8ACB-4B83-A084-E428143D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2D0-D4D4-4E83-9BAC-3EB44D03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CB9-9CBC-44E8-9490-183646B6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B97-8112-4200-B0C5-77E5F93D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CD5-E399-4656-A616-617F1A67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1F5-CEC9-48B3-8218-F7F1B06A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687-2D5A-40B4-B4CA-4028EAAC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3E5F-8C74-46E9-A66A-F9FB0E851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t the Birth of a Chi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76520"/>
            <a:ext cx="8763120" cy="42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ail the day on which a child,</a:t>
            </a:r>
            <a:br>
              <a:rPr sz="50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(name)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was born. Rejoice! </a:t>
            </a:r>
            <a:br>
              <a:rPr sz="2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) From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Masai, Herders of East Afric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by Sonia Bleek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3 Sonia Bleeker.  Reprinted by permission of Morrow Junior 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) © 1975 John S.  Mbiti,  by permission of SP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Birth of a Chi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096920"/>
            <a:ext cx="8839080" cy="39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Let us all sing and praise her that gave birth to a 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(son/daughter)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for whom she longed. Greet this day with joy. Our hearts are glad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he Masai people</a:t>
            </a:r>
            <a:br>
              <a:rPr sz="2200"/>
            </a:b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Kenya and Tanzania 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423720"/>
            <a:ext cx="8839080" cy="634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pray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 Creator, who dost all hum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ings create,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hast a great worth on 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fer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y bringing us this little child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Akamba People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enya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Birth of a Chi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1:49Z</dcterms:modified>
  <cp:revision>8</cp:revision>
  <dc:subject/>
  <dc:title>PowerPoint Presentation</dc:title>
</cp:coreProperties>
</file>