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E6E-0A26-4B4C-80CB-D69DD94D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2A2-D2FF-481E-8146-CA7C72D4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28D-6CBE-45BA-AA72-3D0276EE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E89-41B1-4D1E-83F0-C98653D0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AB0-E852-4590-8DA0-4EE20C02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1D2-4F0F-4920-8E86-C11B1A20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D1A-FC49-4048-BD71-1B3913B4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7DE-473C-4C25-BBBA-FE3B0189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236-F95E-44AA-875C-D75264F9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148-C4CD-4F84-988A-3EF299A7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443-CBC1-4D70-8F39-355DFBB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416-DD1F-4146-B925-70481329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03A3-E7FC-4E73-8BBB-7229AE2CC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ou Hidden Love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Gerhard Tersteegen, 1729; trans. by John Wesley, 1749 (Gal. 2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ou hidde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, whose he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depth unfath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one know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Love, thy sove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id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ave m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w-thoughted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se this self-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its hid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zes t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me thy dute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tha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less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Abba, Father” c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Each moment dr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earth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wly waits thy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o my inm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and s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 am th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od, thy all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eel thy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 hear thy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ste th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all my ch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from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eaute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ly s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repo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is pa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can it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rest, till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s rest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’Tis mercy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ou has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mind to see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peace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while I s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find thee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peac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ing soul shall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en shall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wanderings 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st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-ward t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s there a 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neath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trives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o sha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h, tear it th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ign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tion t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hall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rth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t hath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ose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2:28Z</dcterms:modified>
  <cp:revision>139</cp:revision>
  <dc:subject/>
  <dc:title>PowerPoint Presentation</dc:title>
</cp:coreProperties>
</file>