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626-8C9D-4893-8DF7-D1421A91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F9F-49DD-458D-BD4B-56478909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5AF-DB8E-4B5E-87D7-146367B3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1CC-EE5D-4596-9947-A6EBA88D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39D-1672-4C11-B277-F288A82F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FE9-E04B-4897-A442-01B5C351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3D3-FB4E-465E-83FB-A4C6AD1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97C-B79F-450C-81C0-C7E42632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CC9-1331-4C66-9813-15A6A45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2F2-7A70-4D0E-A825-5DB3C5AF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038-251D-427B-93CC-55CDC79F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56B-D744-4A02-A442-80796EE0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8E42-3000-4070-A775-CF69DD14F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My Peopl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k Their Free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6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“Let m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. Herbert O’Driscoll, 1971 (Dt. 8:14-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m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ancient bond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, wan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yield it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vi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we ma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th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the maelst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journe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la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ener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ung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ago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wer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tom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arth’s to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slave p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elt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het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Ni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t of Sina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t was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ed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the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Let m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a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rines and structu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loi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ais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has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torm clo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unfur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’s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be scat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servants in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 we murm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gyptian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3:11Z</dcterms:modified>
  <cp:revision>94</cp:revision>
  <dc:subject/>
  <dc:title>PowerPoint Presentation</dc:title>
</cp:coreProperties>
</file>