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6C2-568F-4A56-9F1D-7AA9F2AD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226-6235-4160-A5EE-6B818D04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A3E-38E0-41DA-BB21-37A86D3A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071-8A56-4261-BF23-6351AC87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0E5-1A29-48B1-AF6E-781A1C3C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AC4-EBBA-4292-BB77-125A7A6C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FB0-95F2-4FF3-AA82-0BD6AF1E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622-4BFB-4431-9BED-91008D1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D6B-06C8-4C75-8720-CA05A87E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856-420C-482B-B22B-16FFE22A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4ED-1182-44C5-BA91-2CCDD092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D7B-5437-4A5F-A9E5-089DA0AD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1AD1-4FB3-4F48-95CB-E059652F1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 God, Your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s Called U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rd God, y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alled us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, b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ove were ma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 Brian Wren, 197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take the tow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eak the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umbl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ll us frie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 and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are f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how grand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ntend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k till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ion s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ill all wor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rown all th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ord God,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et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ife to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joy to sh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’s liber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urn from g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ull desp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fe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aith can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ove is m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iving lik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we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marred, dishono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obey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ome, with all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and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all to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to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co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lf-inflicted p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roken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osen wr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f-free, half-b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inner ch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ocial force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pt al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powers and syst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conf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seeking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 God,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ll our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recei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r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through some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, or 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by your gra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l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train to glimp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mercy s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nd you knee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1:20Z</dcterms:modified>
  <cp:revision>85</cp:revision>
  <dc:subject/>
  <dc:title>PowerPoint Presentation</dc:title>
</cp:coreProperties>
</file>