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2402-0E3B-407A-A6F7-27693F428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4AE7-4B7E-434F-9042-B4D39A67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29D1-BEF1-4B7F-B4B1-583DE3BCB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A8D9-390C-4085-ABD6-18F82A572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BAD9-AE52-43B0-922C-FCBFA74A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233D-E694-4C4B-AF07-C619FE13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9DDB-9565-4480-95F1-395EDC1B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2BB8-8904-4951-BB44-101E9845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4AFB-729B-4C2D-9AE0-6C2FA317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B852-A545-4B28-8E4D-B06D05CE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3C04-28E5-4A50-A7B4-BF179D28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B0A9-8662-4CD1-B187-2AE321A4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520B-5D7D-452A-937F-2048F97F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803F-1F8F-40FA-ABC7-870FDA1F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472A-FC8C-421B-B03E-00D37305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328F-75C6-4E32-8BB1-0DF200574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6457-F299-4834-8ECA-6A23A7FC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B6EA-6E13-4556-AD1A-4DAA060F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227B-E349-4D98-91FB-062BFD29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B10B-1671-437B-A843-AD53AB8A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AF14-0F00-483E-BDD4-B88E9F37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A9EA-FCEF-44C8-9AAB-8652F8A7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50CE-8AE5-4853-8991-0CF39F4A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3B73-7439-4A95-BA16-560F678F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3E55-B4D5-41D9-A2A8-5E814C63C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6EDA-6451-48A7-B420-4E83CF274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 Touched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143000"/>
            <a:ext cx="9144000" cy="412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. Shackled by a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eavy burden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eath a load of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guilt and shame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3  William J. Gai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Touched M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685800"/>
            <a:ext cx="7619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William J. Gaither, 1963 (Mt. 8:3; Mk. 1:41; Lk. 5:1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the hand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tou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 I 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longer the s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2873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ou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e tou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 the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floods my sou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Touched M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thing happe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 I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ouched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de me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ince I m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blessed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ce he clean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de me whol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Touched M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never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aise h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shout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eternity roll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2873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ou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e tou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 the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floods my sou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Touched M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thing happe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 I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ouched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de me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 Touched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143000"/>
            <a:ext cx="9144000" cy="338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Shackled by a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vy burd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eath a load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uilt and sham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3  William J. Gai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Touched M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320" y="685800"/>
            <a:ext cx="7619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William J. Gaither, 1963 (Mt. 8:3; Mk. 1:41; Lk. 5:1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the hand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tou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 I 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longer the s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5228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ou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e tou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 the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floods my sou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Touched M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6858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n the hand of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Jesus touched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now I am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o longer the sam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thing happe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 I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ouched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de me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ince I m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blessed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ce he clean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de me whol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Touched M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never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aise h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shout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eternity roll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9044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ou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e tou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 the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floods my sou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Touched M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thing happe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 I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ouched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de me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52280"/>
            <a:ext cx="9144000" cy="465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e touched m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he touched m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O the jo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at floods my soul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Touched M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876920"/>
            <a:ext cx="9144000" cy="2743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858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omething happened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now I know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touched m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made me whol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858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. Since I me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is blessed Savio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ince he cleanse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made me whole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Touched M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8380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 will never ceas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o praise him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’ll shout i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ile eternity roll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90440"/>
            <a:ext cx="9144000" cy="491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touched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 he touched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O the jo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at floods my soul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Touched M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6858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omething happened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now I know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touched m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made me whol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 Touched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057400"/>
            <a:ext cx="9144000" cy="46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hackled by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y burd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th a load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lt and sha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3  William J. Gai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Touched M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1430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William J. Gaither, 1963 (Mt. 8:3; Mk. 1:41; Lk. 5:1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3-19T01:25:40Z</dcterms:modified>
  <cp:revision>18</cp:revision>
  <dc:subject/>
  <dc:title>PowerPoint Presentation</dc:title>
</cp:coreProperties>
</file>