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1FE-CBA8-43E6-87DA-4D571F6F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52F-41CD-492F-9FBF-918E1BA8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BE3-21F9-4EE3-A242-7C336851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6CA-7A72-45A5-9049-85D26175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A23-AD51-4F02-BD04-1DCC8D67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640-4B9F-43E0-B40B-3D0F6899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4D0-B989-4D1F-B76D-D7223ED9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C0F-840C-49A1-A9C4-A6EF0E8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53F-9D41-4808-959C-AF9A1516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B21-3986-40CB-9FEF-DD0297F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C3C-2507-4726-9761-B5A3153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5E6-C57C-45D8-A316-22B216E5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7495-3135-4874-8320-EC01DE8E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dom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3320"/>
            <a:ext cx="891540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ke me sensit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evide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Believe in the Resurrection of the Body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6 Fortress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dom in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800" y="1066680"/>
            <a:ext cx="377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ubem Alves, Brazil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I, trusting 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ee myself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error of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eel free to l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tensely and happ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ife you have give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2:15Z</dcterms:modified>
  <cp:revision>9</cp:revision>
  <dc:subject/>
  <dc:title>PowerPoint Presentation</dc:title>
</cp:coreProperties>
</file>