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89EC-7BB3-4339-8B8C-5EF6FAC8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FE15-19ED-4438-A0EB-8C9220B8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810D-C16D-48A5-B3DF-BA8A24A4B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0DCC-CE3E-47D3-8C40-00741AA88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9BA2-F3A4-4CAC-9C34-FD4B5C77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8FD1-FFC4-4C14-B8B5-88F1695A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15F5-4037-4DCA-83CA-E49FA947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957B-50B0-4C96-A528-CFC0BAB3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B335-98A7-4841-8F55-31EE1197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8689-F11B-47E8-A73C-5A7E11DC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0332-CB67-4697-BABA-EFE08DE0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119B-B218-4951-A5C8-7BF7FAEE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3814-9768-4C38-92D4-7A7479D69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ord of Go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 Down on Ear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8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320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ord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down on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ving rain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descending;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© 1969 James Qui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f God, Come Down to Ear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82600" y="1625760"/>
            <a:ext cx="3199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ames Quinn, 19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ord that spea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Father’s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with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yond all tell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f God, Come Down to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that send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the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us dwell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of tru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ll truth lead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one Bread feed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uch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ing to bi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and hop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unend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almigh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revere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made fle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long to hear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ord etern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ned on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that br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ife creati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f God, Come Down to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that c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heaven to di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ucifie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alvati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ng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resto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 to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ove outpou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ord that cau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ind eyes to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 and he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mortal blindnes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f God, Come Down to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f we ar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ler b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se our tongue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your kind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our Word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ity spok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our sin brok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26:16Z</dcterms:modified>
  <cp:revision>14</cp:revision>
  <dc:subject/>
  <dc:title>PowerPoint Presentation</dc:title>
</cp:coreProperties>
</file>