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ED2-7AFD-4F0E-814D-B52A2750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8DA-2B5C-4E86-8728-9421DC5C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C5E-11F8-40BE-856D-6A2C71B8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3D1-11DC-4A66-A307-4F3B75FC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45C-9FE8-49AA-99A6-AA6E9CEB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F38-8D76-46A6-99F6-D2669D79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78E-9EFC-407A-A854-C60DDA65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A39-875A-4FD8-9E8C-2EDBAA8F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098-2754-467E-B8AF-BAD39535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861-F595-4027-B3C7-6356F010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E55-194F-4669-86FF-275562F6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B56-37AD-4CD1-9526-21E46B16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D207-52C1-4B5A-BE9A-71D260B18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Is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ul’s Sincere Des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Prayer is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’s sincere des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uttered or expr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tion of a hidden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rembles in the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6920" y="1600200"/>
            <a:ext cx="42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ames Montgomery, 18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Prayer is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den of a s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lling of a t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pward glan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 e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none but God is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rayer is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mplest form of spee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fants lips can t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the sublim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ns that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jesty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Prayer is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trite sinners’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ing from their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angels in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rejoice and cry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Behold, they pra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Prayer is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ians’ vital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ristians’ native ai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watchword 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of dea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enter heaven with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O Thou, by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ome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fe, the Truth, the W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th of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self hast tr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teach us how to pray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5:43Z</dcterms:modified>
  <cp:revision>35</cp:revision>
  <dc:subject/>
  <dc:title>PowerPoint Presentation</dc:title>
</cp:coreProperties>
</file>