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F90-2A1E-47D3-86B4-6E320552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590-9CDE-44FB-B120-A9C4B4B1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FBF-CC99-402C-A088-E3A3694A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533-BCD9-40C0-AD68-9524E796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4A8-FA7D-41FE-840F-A813DD7D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633-384B-4616-A7EC-154EFED8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8F3-615F-4E3A-9B88-570C496E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D01-D47F-40F2-81F5-F63F0768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BDF-91ED-4573-AFA4-D732C131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9CB-85FA-4D24-B8B0-D5085C76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1FD-A468-489F-82EB-EAE2B108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C39-D3B8-45DE-B80F-4FFDED5B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8900-0553-4557-AE60-154768C16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Word of God Incar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Word of God incarn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isdom from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ruth unchang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ha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ight of our dark sk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 William W. How, 18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you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adianc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hallowed p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antern to our footste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s on from age to a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church from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ived the gift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that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earth to s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 sac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ssel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ms of truth are stor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-drawn pic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, the liv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Scripture is a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t unfur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a shining beac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darkling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 ch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s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life’s surging t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 mists and roc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quicks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, O Christ, will gu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make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amp of purest g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bef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true light as of 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each your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grims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heir path to t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cloud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ee you face to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6:23Z</dcterms:modified>
  <cp:revision>99</cp:revision>
  <dc:subject/>
  <dc:title>PowerPoint Presentation</dc:title>
</cp:coreProperties>
</file>