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ED7-73F9-44A0-AB86-D0FBD431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C43-6263-46F1-8848-3B4CB4E0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8EB-71B5-491D-80CD-BA68355A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A4D-6571-48A1-B159-213279B6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92F4-0879-4969-9BA1-E287B48A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445-6414-43D6-B57E-8AC00899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36A-9BE1-4A14-AEE4-36E91528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7B6-CEA6-4FCC-9760-BA586417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F0D-B878-4B66-BBC0-300477EA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A805-A946-4714-827B-C0EA85D8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4B3-A167-4F29-9ABC-01FCDF22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3F7-3D8F-4772-A0EB-FEDB659C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B858-5B37-4EB1-BCDE-962656900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Love, O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s Called Us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, Has Called U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ussell Schultz-Widmar, 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called us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love f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ource in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Russell Schulz-Wid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rfec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asts out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that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s ever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racious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onsec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is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, and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, Has Called U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ose who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resence wa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love re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 our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 your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we d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, Has Called U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every husb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w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utual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8:55:37Z</dcterms:modified>
  <cp:revision>148</cp:revision>
  <dc:subject/>
  <dc:title>PowerPoint Presentation</dc:title>
</cp:coreProperties>
</file>