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6C-BDB5-4B99-A5F1-C55E08B8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166-99AE-442F-908C-2FA31153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18B-7680-472A-BD1B-365ADBB0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314-B00E-48E4-B4BB-69EE878E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B3B-3DC2-4D23-A523-41B93C70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4F9-2DE4-4BFC-98A3-8DCA9A8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3C1-B182-40F4-BFE4-5F02761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2CA-1F5A-40EC-9FC8-4CC47601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7A4-FCCB-43A8-B36B-14A2A064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760-8B83-454C-9777-41BC317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DD9-4A05-4841-A1C6-A775B88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B40-2587-401F-ABFD-AE8D59D8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BA5-EF9F-4C8F-9654-3BA45E64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Someth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out That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7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just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 William J. Ga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Something About Tha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1720" y="147312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 and William J. Gaither,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50840"/>
            <a:ext cx="7925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, Savior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rag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e r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85904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s and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all pas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re’s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29Z</dcterms:modified>
  <cp:revision>34</cp:revision>
  <dc:subject/>
  <dc:title>PowerPoint Presentation</dc:title>
</cp:coreProperties>
</file>