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170-E6FA-40C5-8BE7-F72C8E75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AFF-1AE3-4721-9C67-92DD6AEB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006-9157-44AF-BE64-5C7FCE2D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0A6-BE52-42D2-8740-8DCDCE80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EF7-0D74-468E-8E69-2F039DC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44F-A2B3-487B-AEDA-B1D9B11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410-E332-4F3A-A28B-630CCAE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4D5-8B75-455D-8586-0D5BBFA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4D8-2089-4E3C-97FB-28737DA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65D-F339-4421-BB11-B04CF78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99D-C687-4E6D-A965-0905057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A0-0012-4DB6-9431-62D064C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B806-282A-4F1A-AC25-8F23D49C6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ian Peopl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ian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away all grieving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aint Andrew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olin P. Thompson, 1975 (1 Cor. 15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made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life recei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gif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set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restor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eat rev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pione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t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recogni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eet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wint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5:16Z</dcterms:modified>
  <cp:revision>137</cp:revision>
  <dc:subject/>
  <dc:title>PowerPoint Presentation</dc:title>
</cp:coreProperties>
</file>