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A70-6CC9-44CE-B90C-E3525752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13E-63CE-401A-B631-FF13D6D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6BD-89CF-4992-A283-7EBFBBB5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3D6-3956-4439-BF1A-F66A0BCC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0BF-D2B1-4871-B922-B29038A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891-6910-4891-B025-617D9BA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4BE-224B-41E5-8A10-DD2D57A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A0D-9625-4258-95FC-7D9C342B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045-005F-43CB-85D3-EC49D6A9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B6B-DE7D-4620-9DC7-BD99612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026-3349-4675-BFF9-61F253A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A8D-17EE-4A1C-BC4B-427762B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70D-74C1-460C-974F-27F1FEC5E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ly City, Seen of Joh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holy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of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, doth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5040" y="1066680"/>
            <a:ext cx="53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alter Russell Bowie, 1909 (Rev. 21:1–22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ow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 challen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s that greatly d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bids us se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ild its glory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whose foursqu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ight, nor need, nor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ped from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not weep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rk, how from 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ves are h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ch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merchand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en strugg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for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little children’s cr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wells the sob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plai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ids thy wall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ha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st con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g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treet and sh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e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ing gold from huma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ind despair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hath died in vain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us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ity that hath sto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a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aws are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rown is servanth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ine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for human goo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lread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ity riseth fai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6:29Z</dcterms:modified>
  <cp:revision>56</cp:revision>
  <dc:subject/>
  <dc:title>PowerPoint Presentation</dc:title>
</cp:coreProperties>
</file>