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C83-1F49-4DEF-AD80-AB1A8EEF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75F-591F-4EEF-B195-6AF79A42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DDB-CCE5-4237-B34C-8A4B1795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95E-B9F1-4B13-89F4-AFEDF531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08B-9878-4D53-9669-44931E43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7E7-76B3-4162-9843-2C8F44E0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047-A00C-4857-9736-E309CE3E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761-9170-490D-A139-4D333E95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3C4-CD50-4BC6-92C8-F79472F2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C49-652A-4969-82F9-9C3E8F6D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0D9-BC84-4D9B-AA97-28D7532C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510-A1FF-47E0-BEA8-724A276B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EB0B-6023-4272-A16A-8B193644D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Invitation t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vitation to Chr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Dimitri of Rostov, Russia, 17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523880"/>
            <a:ext cx="86104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my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illumine my darknes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my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revive me from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my Physici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heal my wou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. R. Mowbray &amp; Co.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me, Flame of divine lov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burn up the thorn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my sins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kindling my hear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with the flame of th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06480"/>
            <a:ext cx="8839080" cy="506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me, my King, sit upo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e throne of my hear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reign there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For thou alone art my King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1:41Z</dcterms:modified>
  <cp:revision>155</cp:revision>
  <dc:subject/>
  <dc:title>PowerPoint Presentation</dc:title>
</cp:coreProperties>
</file>