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8CE-B78F-48CE-8DE2-55AEB978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C44-D90C-4673-851D-1256B029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1DF-E1AB-4526-9E3A-B8FD70CE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9E4-9E8A-40D8-BC94-6E560BA3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E88-26F8-4364-BE41-365FA4F1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1D0-8431-4567-9811-A4ECCC46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4EB-3B9C-4616-80EF-82B4BF53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8FB-8215-4CCC-9FCB-E0E3312F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72E-C3F8-48C2-AC76-4C71E414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E56-0686-492A-9DCC-270EA8E4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FBA-E325-4912-803B-474518E1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198-DEA7-4D6E-91DE-B362FF6A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AF9B-3FB6-4FBC-AB60-B42BCCEC2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387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 our deliverer, you 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eople of old through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derness and brought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promised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, 1989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97680" y="914400"/>
            <a:ext cx="4167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3399"/>
                </a:solidFill>
                <a:latin typeface="Times New Roman"/>
              </a:rPr>
              <a:t>The Lutheran Book of Worship</a:t>
            </a: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9907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uide now the peo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, following our Savio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may walk through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derness of this world, towa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lory of the world to co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0512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Holy Spirit, On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ever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3:15Z</dcterms:modified>
  <cp:revision>14</cp:revision>
  <dc:subject/>
  <dc:title>PowerPoint Presentation</dc:title>
</cp:coreProperties>
</file>