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2CA-DA55-49A4-A0BD-0F5B6918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B5F-A06A-42FA-9FCA-6ED39A49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C77-4CD0-4C79-9D02-86E5987B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DC3-38D0-40DF-B2A9-D3FBA915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544-6F82-4502-BC27-46F30FBB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B37-28DA-4A99-BC15-1381956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708E-1470-4066-AC9F-FA612D9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820D-7567-486A-BA40-5523CDC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C5A-D9B2-4F03-B152-3DBB196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FEA-9576-4225-A5F9-E8781D7A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CE24-A580-4B17-90DD-146A176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769-B90B-4520-9654-8FF4EC55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D56F-0A38-4DE2-AEAE-CB4DA3E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9DCB-FC1C-49F9-BBA9-DAC912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F448-FFC2-4E3C-AE00-0AF2973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4FA7-1DDD-4361-B6B7-21621FD0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80AB-9380-48D6-B516-8514479B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524-FA72-426D-BB18-7AE59EF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978-9441-4751-A1C8-7C443FC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1E9-8F2F-4A6B-B980-FC2F340F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2CE-217D-459C-88C7-28B900B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23E-0621-4FB9-A508-BB086DF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2C6-4D47-4E71-B2F6-2E13F24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61B-7463-4826-B4B0-EAA2426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D937-70FD-42E1-B377-C0D25A6A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833-85EE-4C33-ABA9-BA045211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4720" y="10666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43:27Z</dcterms:modified>
  <cp:revision>8</cp:revision>
  <dc:subject/>
  <dc:title>PowerPoint Presentation</dc:title>
</cp:coreProperties>
</file>