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759-23EE-46F1-A8A7-57866A17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C1A-CBF8-4133-8948-4E45BC85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192-46A1-45C9-BA3A-24015EB0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D77-AEE2-43E9-AE08-4DFC8804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FA2F-AC80-4D6B-A910-87590D3B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6FD0-1197-4014-85E5-783E774B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884-B056-41C5-BF8F-585B8090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E957-00FB-4D34-A005-47EB60F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4D94-6C75-41C3-BD6B-65BB99E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37FA-7238-41EA-99B0-14BCF514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2CD3-B32E-451B-91FA-A7D48C1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02E-4506-425D-B1A7-FE27E5FA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5681-CED1-4BE8-92A6-3179B0B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30C-01F7-41B4-9D6A-848A605F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74DF-51CA-46C6-BD04-D9F94C0E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D309-A4D8-49AD-AFB7-A736D240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130D-A260-4FBC-9866-1C91D029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C62-E260-470F-973A-806F978D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A98-0D46-4343-A41B-C25107F2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E64-6804-4380-85E0-ED8BBC03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89B-23B5-4D66-81DC-5A9C65D5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9CA-5E75-410A-BD25-FA284C3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132-86B7-4094-AE74-FC7CD75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34C-364C-471C-8FE6-340627B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C80-C802-490B-9DBE-C8F38292E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702-F269-483C-BA17-EDCAEF20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05596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sw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ons on each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feel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thes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lift our hearts in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a doubt we’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have been rev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ve this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35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395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sw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ons on each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feel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89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these bless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 lift our hearts in prais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a doubt we’ll k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have been reviv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sh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ave this pl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17T01:33:41Z</dcterms:modified>
  <cp:revision>93</cp:revision>
  <dc:subject/>
  <dc:title>PowerPoint Presentation</dc:title>
</cp:coreProperties>
</file>