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8704-35BE-44AB-B476-07FB3AFC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06D-F3C5-4258-B57F-ABBF1424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65EB-0994-4C6A-A17A-D1887B57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4D9D-5350-4FC8-A5AE-8A135C0C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1538-CF24-41F3-9D08-6BABA89C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0FDF-D184-4731-8B66-30046EB3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1CA-7B6A-437B-9CF1-6CD413C7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946-2744-4FDB-9FBA-1FC05C69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9F0A-ECDE-4777-AE77-7A9F64F4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5389-8B82-4E72-9E57-21571482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21E-7547-459B-A140-3559FFA7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8B25-14EB-4F69-B2F0-4EEBA9DD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464B-847C-4D6A-A95F-AE011187E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ntos y Palmas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Filled with Excit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antos y palm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sparciendo, v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 pueblo aleg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 Jerusa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, 1979,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tos y Pal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731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ub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n Ruiz Avila, 1972; trans. by Gertrude C. Suppe, 1979, 1987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Mt. 21:8-9; Mk. 11:8-10; Lk. 19:36-38; Jn. 12:12-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n the dist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begin to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ding on a donk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the Son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06480"/>
            <a:ext cx="9144000" cy="46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very cor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housand voices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s 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omes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great shout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lamation loud triumph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 breaks fort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osanna to the King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osanna to the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in that entr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rusal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ing hosann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hrist, our K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iving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till calls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king us to follow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e and fai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06480"/>
            <a:ext cx="9144000" cy="46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very cor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housand voices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s 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omes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2193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great shout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lamation loud triumph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 breaks fort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osanna to the King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osanna to the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a lo le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 empieza a mir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un pollino 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j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entras mil vo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uenan por doqui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sanna al que vie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el nombre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tos y Pal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 un aliento d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 exclam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rrumpen con voz triunfa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Hosanna al Rey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Hosanna al Rey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omo en la entrad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 Jerusa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dos canta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Jesús el Re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tos y Pal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Cristo viv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nos llama h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a seguirle c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r y 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entras mil vo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uenan por doqui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sanna al que vie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el nombre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tos y Pal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 un aliento d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 exclam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rrumpen con voz triunfa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Hosanna al Rey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Hosanna al Rey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Filled with excite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happy th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ead cloaks and branc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city stree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49:06Z</dcterms:modified>
  <cp:revision>44</cp:revision>
  <dc:subject/>
  <dc:title>PowerPoint Presentation</dc:title>
</cp:coreProperties>
</file>