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5DF-E77B-43F5-B7B3-D44FB859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028-AC25-4F60-9118-230CD58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2FE-D17B-49F7-9F61-171D1896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72E-C330-42F0-B148-7F34F7E2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6928-6B45-41AF-8F0A-4462848F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CAED-4B9B-470D-A9DF-10A19207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9AA6-2C69-4791-A56D-0DA7D036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9070-778A-4EE3-ACB7-C2944F89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8BF6-7167-4DAE-BE29-D375A48A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2BD-C5AC-498F-B8B6-78FFF4F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4E1B-4D97-4CFE-9B85-8796B15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46E-5A4C-476A-837F-E3330A3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9C2-645A-42CD-8462-829FB70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1849-2477-482E-85E9-62E3EAB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5B5-941A-41EE-8231-276E5EC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FA93-55E6-444F-9397-27E5A740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3432-F8CD-4117-BB26-7CFB399C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98C-702B-4D76-8DDA-2CB333CD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80B-F8C1-40C6-9337-4CFECE9D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72D-E305-4D74-878E-8709177F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FDD-F1BD-4CC3-B688-CDA3871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879-609C-4696-A86C-B1CF1ECD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1AC-61BB-425F-B5A4-6D54C052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157-B53D-4CDE-ACC0-BDE4D292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145F-62AE-4A8F-ABD2-899E0B23C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1148-7F2E-4344-96BC-56FF384B4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9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ild of bles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 of prom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aptized wi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pirit’s sig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S. Cole-Turner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413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Child of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love’s express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’s creation, loved indeed!                               Fresh from God, refresh our spiri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to joy and laughter l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96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Child of jo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dearest treas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you are, from God you came. Back to God we humbly give you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 as one who bears Christ’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446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Child of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loving Paren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rn to know whose child you are. Grow to laugh and sing and worship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ust and love God more than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il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ve’s exp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inde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our spi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joy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ter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ild of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arest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you 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God you c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 as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s Christ’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il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ing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child you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to la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lov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96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ild of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ild of prom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aptized with the Spirit’s sig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4792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S. Cole-Turner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17T00:46:25Z</dcterms:modified>
  <cp:revision>112</cp:revision>
  <dc:subject/>
  <dc:title>PowerPoint Presentation</dc:title>
</cp:coreProperties>
</file>