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DCF3-9FA1-4061-809E-F4AB6781A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712D-2D9E-4A90-AECD-B178E7148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5F2E-0253-4F61-AF9F-18A0506CF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1A37-6B6A-4192-A4C1-3D161FFFF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16C5-76EE-4450-AEBE-CF72B9ACA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2EAC-CCE6-4CFE-9466-053CA3B20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61BC-A414-4BD0-8FBD-F122E0A7F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875A-D5F5-4D87-BAB4-EFA943BEC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FFF1-3CF6-4699-BB7D-3EC84A810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D86C-C08C-4FE7-A64E-69E4DE0E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009A-4F3C-4AB6-9707-67453824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6F6E-6D99-49E7-B08D-695F9FAC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6348C-E0B1-485D-A5C2-04F96214F5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ree Things We Pr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9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ee Things We Pr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Richard of Chichester, England, 13th cen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760" y="1873080"/>
            <a:ext cx="86104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Thanks be to thee, O Lord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Christ, for all the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benefits which thou hast given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us; for all the pains and insul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which thou hast borne for u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003320"/>
            <a:ext cx="8839080" cy="486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most merciful Redeemer, frien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brother, may we know the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ore clearly, love thee mor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early, and follow thee mor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early, for thine own sak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35:56Z</dcterms:modified>
  <cp:revision>158</cp:revision>
  <dc:subject/>
  <dc:title>PowerPoint Presentation</dc:title>
</cp:coreProperties>
</file>