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A8DF-BBEF-4EDC-858E-66CDC6AA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B3B9-0DAD-48A8-B774-A935F0AD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90A0-B6A4-450C-95FA-06230DF07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006E-6FFE-4811-AC74-06AE9A7B1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4AFD-D77A-4D1D-99C3-C3CB7B52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78DC-DD50-4C9A-BF00-912291C8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C842-8839-4453-9B10-C9A51735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0841-7E79-4212-8DB0-16555581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CEA0-65E5-4925-A1F7-800A61BE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CA35-C361-439D-87C0-CA10497B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D8A1-2CD7-44D4-AFE8-57D0D6D9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D880-BD66-4066-99FE-E4C20B4A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6B1A-4351-4BC1-B0F7-3F1F61245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ive to the Winds Thy Fe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ive to the winds thy fear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and be undismaye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hears thy sig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ounts thy te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shall lift up thy h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to the Winds Thy Fea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95840" y="1219320"/>
            <a:ext cx="6985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Paul Gerhardt, 1653; trans. by John Wesley, 1739 (Ps. 37:5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rough wave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uds and storm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gently clears thy 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it thou God’s ti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shall this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on end in joyous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to the Winds Thy Fea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eave to Go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vereign s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hoose and to comma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shalt thou, wonde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wn that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strong this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to the Winds Thy Fea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et us in life, in d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teadfast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th decl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ublish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latest br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ov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ardian c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to the Winds Thy Fea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5:54Z</dcterms:modified>
  <cp:revision>45</cp:revision>
  <dc:subject/>
  <dc:title>PowerPoint Presentation</dc:title>
</cp:coreProperties>
</file>