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250-D863-40B5-A123-D0C51376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AE0-D98C-48C8-9F2A-6A7E13CD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B08-7A53-4E57-A3C9-84CE6683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7D2-66C4-4F7A-8976-1B2F6784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265-BCDF-4BA0-B01E-5E89B3E9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12F-89F6-4668-BA00-8AAF2ADB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9FD-F1BC-4587-A822-5F8FBF99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C29-8F6B-4ED3-970B-8727765B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21D-EEE0-4F1D-A1D1-8D884D1A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AEB-559E-4D66-845D-8D6F9FA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C0D-9B87-456B-B7AC-9D76885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E7F-801E-4A4C-BBD5-3C9169DE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9C20-CAF6-4275-92E3-83114B48D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We Want to 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1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we want to mee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and versification 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. T. Olajida Olude, 1949; trans. by Biodun Adebesin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versed by Austin C. Lovelace, 19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43000"/>
            <a:ext cx="9144000" cy="43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jo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victo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7160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grace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e sav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fl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mind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in 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418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ur m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edic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19320"/>
            <a:ext cx="9144000" cy="418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and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ecr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2388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who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serm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0020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s w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be thin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9144000" cy="39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y asc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in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and minds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1932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knee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e and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Go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39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nse 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and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acts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faith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d to flower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9528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y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s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4:39Z</dcterms:modified>
  <cp:revision>128</cp:revision>
  <dc:subject/>
  <dc:title>PowerPoint Presentation</dc:title>
</cp:coreProperties>
</file>