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010-5FDC-4017-BDF2-97E9994D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F05-E40F-466F-B30D-D831B808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6AB-9F46-47A9-BB1A-0E8C20EE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E42-F549-4B12-896F-FF0A8CB7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FF7-C0B9-4DB3-8961-22D64567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091-451B-4CF6-9BF1-82DFDDC1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13A-689D-4B92-B953-FEEC1607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F5B-3785-4401-A08E-FE44397B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8C1-6693-4987-A1D5-948C7D55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E82-17E4-4C19-AF77-4BDA07DF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7DD-51CD-4CBC-98DB-D65AA221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61C-3C5D-43A4-A943-D3EC2B67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CDCF-58CE-4064-8F53-4833F2108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rue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82880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vern all by thy wis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 that my soul may alw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 serving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s thou dost wi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not as I may choo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rue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68240" y="990720"/>
            <a:ext cx="400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eresa of Avila, Spain, 16th cent.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punish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beseech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y granting that wh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wish or as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if it offends thy love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which would alw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live in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die to my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I may serve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me live to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who in thyself art the true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8:11Z</dcterms:modified>
  <cp:revision>22</cp:revision>
  <dc:subject/>
  <dc:title>PowerPoint Presentation</dc:title>
</cp:coreProperties>
</file>