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794A-AF17-42B2-B698-9A4B7B4E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508F-7BF8-43DE-A349-026E025B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8BD9-7917-4DDE-8618-617A8DC9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37B3-D2A1-4923-B9C2-BBD540D8C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773E-006C-4531-B0AE-1E75F912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430B-3A97-4C56-BDE3-6B48B7EE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4115-BF73-4B11-861A-F927E372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957B-FCDB-4343-A857-D1490087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8351-A1CB-47A3-9C83-F7AE9D49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B173-2029-4083-9964-B0A345E2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2045-0F5C-4BA3-8449-72944B85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110A-D61A-4354-85DD-A23E959C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754E-306F-4BF4-9107-47BEF5A3F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lent Night, Holy N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ilent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s cal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s brigh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t Night, Holy N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62520" y="1116000"/>
            <a:ext cx="66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seph Mohr, 1818, alt.; sts. 1, 2, 3 trans. by John F. Young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st. 4  trans, anon. (Lk. 2:6-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90720"/>
            <a:ext cx="914400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r das traut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chheilige Pa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er Knabe m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ckigem Haar,</a:t>
            </a:r>
            <a:br>
              <a:rPr sz="50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chlaf im himmlischer Ruh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schlaf im himmlischer Ruh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und yon virg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ther and chil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inf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tender and m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eep in heavenly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eep in heavenly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ilent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pherds qu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s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t Night, Holy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es stre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heaven af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ly hosts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Savior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Savior is bor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ilent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’s pure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t Night, Holy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diant beam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oly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da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redeeming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Lord, at thy bi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Lord, at thy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ilent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rous st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nd thy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t Night, Holy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ang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 to our K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Savior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Savior is bor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tille Nac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ilige Nac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s sch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äf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insam wach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ille Nacht, Heilege Nac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56:40Z</dcterms:modified>
  <cp:revision>13</cp:revision>
  <dc:subject/>
  <dc:title>PowerPoint Presentation</dc:title>
</cp:coreProperties>
</file>