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2647-7202-4A17-9A54-44BE631BC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E89-731B-4877-AACF-A26E6E9A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B87-B773-4E45-B587-772B783E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36F-8B1E-49A0-8F7C-A739E8FF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063-3115-4EFB-97E6-2B03CF0D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68CF-ED76-4365-82E4-D4EB4565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06B4-BCAF-455C-866C-69832139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865A-3855-4CC6-B279-5D0056FD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9BA8-B444-49E6-AA94-30577B42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56A-2951-40C4-8935-E6F395BE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B71C-6A28-47E2-AD1D-E6B498F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C027-2AED-4092-970D-B01B65C8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E43-4E75-4238-B472-99D3BEAE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4D8B-4A73-47A9-A752-6BA5D6B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E3BA-FD0F-445A-ADE2-4D5B971E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F820-0C60-4003-8EEB-6E32D1C5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8B4A-C5E0-4CCD-95F4-6090DCC3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B241-FE52-44CA-A33D-AB34FD5F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1F9-D06C-4837-B7A8-A29F6EF7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377-A92A-4823-9795-C7E85646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5F0-AF77-41CE-9906-8BD60258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ED2-49A4-407B-A267-D819D68F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A60-9B92-4E80-95BF-F07EAFD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E2B-1964-48E9-93E8-0B2AA36A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ACD-9E73-440A-8F82-2FA22E6F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C9C9-4A34-4C9D-9F07-82E662D1B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F841-700E-467E-8005-C58AFEDE8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Our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e Wise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47920"/>
            <a:ext cx="91440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6 Joe Wise,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he 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y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-filled yet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wait your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’ve brought oursel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st we cou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914400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table you s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t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can’t forg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he 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y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-f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wait your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’ve brought oursel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st we cou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Our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e Wise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2120"/>
            <a:ext cx="91440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 Father, we are yours, we are you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6 Joe Wise,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69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table you s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 eat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can’t forg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05T01:16:12Z</dcterms:modified>
  <cp:revision>138</cp:revision>
  <dc:subject/>
  <dc:title>PowerPoint Presentation</dc:title>
</cp:coreProperties>
</file>