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C6B3-A888-4534-B373-C56FF8724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9AD5-1BE0-4643-86F0-C9865031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A5EB-B8AA-4A8D-A17F-17C9FDFC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7938-8BB5-48F8-89AA-8CA473DC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18ED-9CEA-4A28-87EE-F3DDF5D2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C139-F6E9-42EA-9997-B19DF7C4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3CA6-14C5-4513-A726-73A43527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4AF2-723C-470C-A41E-54B2E4EE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1F02-A6C7-4D88-A8B6-D5269E32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7B43-B4D8-4FB7-BAA5-49B9C338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412E-E291-4F80-A9D3-AD048DDA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EFCC-371D-4EC3-9AB9-E3EDFF82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C03F-0E35-44D2-BF47-43F5E22A9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049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Keep Me Near the Cros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0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10666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Fanny J. Crosby, 1869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us, keep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 the cro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a precious f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e to all, a healing stre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ow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vary’s mountain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0" y="1522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cross, in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my glory 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my raptu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shall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t beyond the river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0" y="763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. Near the cross,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 trembling soul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ove and mercy found me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re the brigh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d morning star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heds its beams around me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0" y="0"/>
            <a:ext cx="9144000" cy="503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the cross, in the cros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e my glory ever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ill my raptured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oul shall find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st beyond the rive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0" y="1522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ear the cro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amb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its scenes before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me wa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ay to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its shadow o’er m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0" y="1522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cross, in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my glory 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my raptu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shall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t beyond the river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0" y="763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. Near the cros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’ll watch and wait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oping, trusting ever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ill I reach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golden strand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just beyond the river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0" y="76320"/>
            <a:ext cx="9144000" cy="505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the cross, in the cros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e my glory ever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ill my raptured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oul shall find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st beyond the river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030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cross, in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my glory 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my raptu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shall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t beyond the river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Near the cros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trembling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and mercy found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the b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orning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ds its bea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ound m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cross, in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my glory 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my raptu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shall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t beyond the river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ear the cro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amb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its scenes before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me wa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ay to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its shadow o’er m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cross, in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my glory 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my raptu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shall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t beyond the river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Near the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watch and wa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ing, trusting 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I r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olden str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beyond the river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cross, in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my glory 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my raptu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shall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t beyond the river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0" y="1522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Keep Me Near the Cros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0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70020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Fanny J. Crosby, 1869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0" y="127944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us, keep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 the cro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a precious f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e to all, a healing stre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ows from Calvary’s mountain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2-03-31T20:15:06Z</dcterms:modified>
  <cp:revision>59</cp:revision>
  <dc:subject/>
  <dc:title>PowerPoint Presentation</dc:title>
</cp:coreProperties>
</file>