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E596-49C2-4777-B999-AFAE43324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99DB-749B-4FB8-8D3C-9533D175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DA57-F45D-447A-B787-7F177244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F855-724B-4C35-9C94-EBA7A56C3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9F07-BACF-471B-9EE2-1077C438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920B-8664-4040-B781-D3138F48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C92F-E6A7-4D39-8E1D-338FACA8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2B6E-08A3-46C2-81E3-80E6C4AF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7A2B-AF1E-4F6D-B455-DC137DAF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C5FD-63FC-4A35-8929-0921C3F8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9279-1777-4BE1-9443-E4F6CE32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37E2-A5A8-43E1-95DB-0E19545F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1DDB-7EC7-476A-9AE9-B1138AE4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7499-EFDE-4AC8-9E1D-9BD620C6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C8EC-E5D6-41F1-AB28-B30FACCF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DD56-5274-413E-9BE6-C4DB5C24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7A3F-371B-4B8A-B017-265816119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356A-667F-43AB-8D3E-02D0EC6B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A854-E93A-465E-8825-2439386C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6257-E8B6-4730-AC65-B84C6837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6E6F-27C1-497F-B54E-BBE54CD9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7996-94E2-44FA-8449-924E9AAE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7889-29AB-44A6-B19D-EF9E957A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7D6B-9613-42D3-BA17-AEB90CCE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4EE3-B5A3-496E-8881-310F2B20B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5868-ABB4-4FBC-B742-1E35864A3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Thou Foun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Every Bles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75248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1. Come, thou Foun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every bless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une my heart to sing thy grace;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Thou Fount of Every Blessing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99280" y="1371600"/>
            <a:ext cx="554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Robert Robinson, 1758 (1 Sam. 7:1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45720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et thy goodnes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ike a fette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ind my wandering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eart to the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53352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Prone to wande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ord, I feel i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prone to leave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God I love;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53352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ere’s my hear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 take and seal i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eal it for th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ourts abov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Thou Foun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Every Bles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ome, thou Fou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every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ne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ing thy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Thou Fount of Every Blessing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99280" y="1600200"/>
            <a:ext cx="554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Robert Robinson, 1758 (1 Sam. 7:1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ams of mer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ver cea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l for song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udest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e s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lodious sonn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g by fla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ngues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the moun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fixed upon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unt of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eming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ere I 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e Ebenez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ther by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I’m c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Thou Fount of Every Blessing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hope,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ood pl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fel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rive a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sough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a strang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ndering from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ld of G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76212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treams of mercy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never ceas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all for songs of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oudest prais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, to resc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from dang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erposed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to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great a debt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ily I’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strained to b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Thou Fount of Every Blessing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y goo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a fet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ind my wand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ne to wa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feel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ne to leav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’s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ake and seal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al it for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rts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Thou Foun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Every Bles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981080"/>
            <a:ext cx="9144000" cy="21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Come, thou Foun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f every bless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une my heart to sing thy grace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Thou Fount of Every Blessing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99280" y="1371600"/>
            <a:ext cx="554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Robert Robinson, 1758 (1 Sam. 7:1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ams of mer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ver cea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l for song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udest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e s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lodious sonn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g by fla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ngues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the moun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fixed upon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unt of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eming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974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ere I raise                        mine Ebenez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ther by thy help I’m come;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Thou Fount of Every Blessing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76212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each me som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melodious sonne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ung by flaming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ngues abov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hope,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ood pl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fel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rive a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sough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a strang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ndering from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ld of G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8222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, to resc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from dang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erposed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to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great a debt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ily I’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strained to b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Thou Fount of Every Blessing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y goo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a fet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ind my wand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ne to wa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feel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ne to leav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’s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ake and seal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al it for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rts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76212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Praise the mount!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’m fixed upon i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mount of th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redeeming lov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8580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2. Here I raise                        mine Ebenezer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ither by thy help I’m come;  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Thou Fount of Every Blessing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3352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I hope, b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y good pleasur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afely to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rrive at hom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45720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Jesus sought m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en a strange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andering from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ld of God;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45720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e, to rescu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me from dange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terposed hi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precious bloo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38088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3. O to grac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ow great a debto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daily I’m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onstrained to be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Thou Fount of Every Blessing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3-25T01:36:37Z</dcterms:modified>
  <cp:revision>24</cp:revision>
  <dc:subject/>
  <dc:title>PowerPoint Presentation</dc:title>
</cp:coreProperties>
</file>