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FC20-FFB1-43C9-A285-F4681FF8D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7A2E-BD77-491B-AEAF-FBA8E122E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8B3F-6BE7-4923-881E-ADB4DD1CA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D67C-E74D-4400-AC8A-BAB9A6410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DE20-F3CC-4842-B992-32E0372DE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A19B-1279-4813-97A3-7B497BEB7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0C09-8C79-4B13-8D1F-F15E0D7CB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7597-6315-42E9-8BAE-FBFE39218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48FF-A06E-4FC2-A33A-9037491FE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8F21-874A-41D5-A8EB-700A2DA0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4C59-2CB1-411F-89C7-1B156B53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3E92-B878-4428-A0D6-129FD260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CC937-3BA9-41BA-A6F0-4C98A1CBC6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ail, Thou Once Despised Jes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772400" y="304920"/>
            <a:ext cx="137160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2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, Thou Once Despised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066680"/>
            <a:ext cx="90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Attr. to John Bakewell, 1757, and Martin Madan, 1760, alt. (Rev. 4:2-11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286000"/>
            <a:ext cx="9144000" cy="233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1. Hail, thou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once despised Jesus!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ail, thou Galilean King!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the heaven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sts adore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ated 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y Father’s si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re for sinn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 art plead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re thou do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ur place prepa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 for sain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rt interced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ill in gl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y appe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, Thou Once Despised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Worship, hon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ower, and bles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rist is wor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recei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udest prais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out cea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ight it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us to gi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lp, ye br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gelic spirit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ring your sweete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blest lay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lp to 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Jesus’ merit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lp to cha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mmanuel’s prais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 didst suff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release u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 didst free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alvation br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il, th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niversal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 hast bor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ur sin and sha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y thy meri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find favo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fe is gi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rough thy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, Thou Once Despised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Pascal Lamb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y God appoint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our si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thee were lai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y almigh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ve anoint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 hast fu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tonement ma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very s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y be forgi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rough the virtu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y bloo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pened is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ate of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conciled 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with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, Thou Once Despised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Jesus, hail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nthroned in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re fore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abid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8:09:48Z</dcterms:modified>
  <cp:revision>84</cp:revision>
  <dc:subject/>
  <dc:title>PowerPoint Presentation</dc:title>
</cp:coreProperties>
</file>