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45F-02A0-47EC-943D-1C5375BB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3AD-7403-424F-944C-66184EE9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BE9-08F6-4FBB-AF85-61D7C0B7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467-980E-4B7E-8A17-FE0F194B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021-564D-4993-9CFA-AC468C5D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4DE-A037-4EBB-AB92-2C56F8E8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9E1-1D1C-443C-841D-812361B9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708-3935-4529-8034-0C682CFC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CA7-B980-4CF3-8906-C99C9921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C08-0976-480A-9A13-89D5C97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53F-6344-4672-AD7C-BCE3C78E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5AC-B273-4A67-A8D8-3B657DC2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B4E7-F238-4B00-8B65-6A080DE5D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read of Lif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I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brea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is brok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drank the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Golgoth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imothy Tingfang Lew, 1936; trans. by Walter Reginald Oxenham Taylor, 1943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honetic transcription from the Chinese by I-to Loh, 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 we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ead with rever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holy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rememb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ly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k thy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dist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people’s gr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ly fac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ined with bitter tea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uman pain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est thou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we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hou amo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en our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ly app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joy un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fe with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bl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Jiu shi zhi shen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wei zhong-sheng bokai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Zai Gu-lou di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tong in ku-bei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i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Meng en xin-zhong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feng ming chang ji-nian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Jing she sheng-yan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zhui-i dang ni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49Z</dcterms:modified>
  <cp:revision>134</cp:revision>
  <dc:subject/>
  <dc:title>PowerPoint Presentation</dc:title>
</cp:coreProperties>
</file>