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225-118A-43B7-BF17-0D6591D0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51B-CE20-43A3-A135-436FA912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658-7E76-4D27-B2E0-B019AD8B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9A5-5694-4001-A52E-2D152700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1D7-AF72-41B6-AACC-54B29B9A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E62-43F8-4EDB-924C-1C610ABE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B01-D97A-4C6F-9BFB-929EF6CF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C0D-AFA5-4916-B44D-46D02256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CA7-E25C-443D-A89E-71F75EDA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D41-0332-494F-A567-66D987A6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296-642A-4F36-84A8-781A199E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D25-9FBC-4C86-B282-5D45DFEE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DAD4-FEAE-4B9F-987A-A025EB72A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Di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68680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Direct us, O Lor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all our doings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with your most gracious favor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further us with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r continual help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Di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8640" y="1066680"/>
            <a:ext cx="37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92280"/>
            <a:ext cx="868680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at in all our works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begun, continue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nd ended in you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we may glorify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r holy name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771560"/>
            <a:ext cx="8686800" cy="333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finally, by your mercy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obtain everlasting life;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0:35Z</dcterms:modified>
  <cp:revision>20</cp:revision>
  <dc:subject/>
  <dc:title>PowerPoint Presentation</dc:title>
</cp:coreProperties>
</file>