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273-3541-4F10-A3F4-8763447B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02A-E829-46E2-B330-F75B1B8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B28-9960-4325-A51E-14812AD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56A-6453-4328-A1DB-2C5FFC1C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0AA-32D1-488A-ADDC-6B2DD2C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885-4EDA-4285-8C7A-B1915092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417-D0F5-44BB-9693-9628C432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FD9-AD15-4D1A-BD59-7B4AAC68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56C-7729-463D-9EA2-FA229E5C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D70-0F28-4268-8EE5-3FF4029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168-C3BA-467A-9436-32EFB18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75A-3ADA-4F6B-8E45-79336B2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28B1-6ED7-4696-9174-58EA08BC5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ing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Fingers Trac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reat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ingers t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ld desig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thest spac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The Hymn Society of America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736000" y="170172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ffery Rowthorn, 197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7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r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lies hid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your m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stain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ands up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mysteries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yet untol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water’s frag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abling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 your car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deem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rms emb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ow desp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reed or rac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,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know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ling lov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dwell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spel clai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mily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illion nam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uched b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prais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e to fac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06-12T10:54:01Z</dcterms:modified>
  <cp:revision>25</cp:revision>
  <dc:subject/>
  <dc:title>PowerPoint Presentation</dc:title>
</cp:coreProperties>
</file>