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674-BB9F-4E4B-9043-3B24B687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46E-608E-4B52-9442-21B0E95B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979-7CE3-4C64-9DB0-C82E8B5F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BC7-95D1-4647-939A-0211BBF6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690-E5A7-46DB-898B-FCD21622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6B8-EB20-4EAB-B068-D51B322E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637-9A54-4353-A5E9-72FBE05F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3B8-AB37-4652-BC91-6E3E4C3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73E-7560-4637-B462-46FF5EB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541-3771-4900-914F-43E6DA2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246-2517-44E0-B971-CD6059D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96C-4E68-4EAB-8342-3BDCBB8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B87-AA3D-4C05-A2C7-DCE33C681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cerning the Scriptures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Blessed Lord, you have caus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ll holy Scriptures to be written for our learning. Grant us so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o hear them, read, mark, learn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inwardly digest them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rning the Scrip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45576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embra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hold fast the blessed hope of everlasti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ife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you have given us in our Savior Jesus Christ, who lives and reigns with you and the Holy Spirit, One God, forever and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16Z</dcterms:modified>
  <cp:revision>14</cp:revision>
  <dc:subject/>
  <dc:title>PowerPoint Presentation</dc:title>
</cp:coreProperties>
</file>