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7FD-5A12-417A-B5FD-9482D898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8B8-DFB8-478E-B81D-3BCA066C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BF2-0DC2-4C1A-848D-EFAE67B8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B5A-769D-4C86-A022-CB12FD8D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88D-D7FD-46AE-A9BA-E1F81D35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3F8-A7BE-4239-9966-7DE350D8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D7A-1A19-4F58-9C65-7DCD742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0F4-246E-4E8E-87AB-657ADF25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491-81E6-4CEC-A66D-42B1E5EB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3C0-E4EB-413B-8779-E668614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B57-EFDC-4AE7-AA1F-E7CEA1EE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2DC-EFB8-41F4-94AC-F53E1D76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FCEC-F997-47AF-A3CA-44F94DF8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hrist, the Hea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hrist, the hea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for h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lead for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2520" y="11685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ness th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richi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ach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we f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resto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reached b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ever end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every ail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sh end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odies clam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fr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in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holenes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epest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w strong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ur desi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ak our know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selv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lease in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healing tru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onscious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ists or shel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conflict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troy our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cogniz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’s dis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s our ill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re no 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for the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rant that we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one in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ty may f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37Z</dcterms:modified>
  <cp:revision>21</cp:revision>
  <dc:subject/>
  <dc:title>PowerPoint Presentation</dc:title>
</cp:coreProperties>
</file>