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B3E-981C-48B0-BD25-2418319E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B73-F684-4B57-8576-E084F4A8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CC7-7271-4B5A-BCFD-1687BCDB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20C-126C-45D4-B4A1-A8B6ABDC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5D9-055B-4FF1-9857-C34F6408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C85-0443-433E-8B99-F5F79E9E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83E-DE22-41CB-9F6A-E3C9C437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17F-7685-44F6-BBFC-A8A3FC32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A05-9B2E-4430-AEAD-E491DC83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916-C6E3-48B3-9E56-47003D7F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B7F-3FEA-4420-A7F1-680BDEE3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291-5A59-4D15-9EBB-1AF573C8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CB66-7B6B-4A99-9C59-DF343BAC5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Mock Your Reign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Dearest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o mock your 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dearest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made a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of thor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67652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72 (Mt. 27:27-31; Mk. 15:16-20; Jn. 19:1-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you with tau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that ro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ne ret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lorious is that cr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rns wou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er upon your b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orrows heal our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mock ac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ra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natche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urple cloa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assion tur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y ca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a soldier’s jo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gh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it b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ill your ro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ercy th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ound our naked sh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 sceptered r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atient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th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your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cted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grim char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its appointed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empires rise and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kingdom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cease to g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love embrace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0:51Z</dcterms:modified>
  <cp:revision>45</cp:revision>
  <dc:subject/>
  <dc:title>PowerPoint Presentation</dc:title>
</cp:coreProperties>
</file>