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24C-13AA-432A-BB57-803899B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466-3CEF-4C55-AD2E-30FA839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ED1-8AA6-48FB-92FE-7734D4FF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61E-3962-45B5-B6E3-FC25ABC0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788-8E0A-41C7-8378-581F94C1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B9A7-0D04-4B54-87BE-083C17F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216D-35FD-42D6-B2C4-E67DAA71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2046-A830-4B00-9EA1-7C97E6BA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C42-6CD2-4A2F-8E70-3957521E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4EB1-B3B1-4AD3-B03B-39C889D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B4FC-4FD5-4CFB-8461-973CD97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12D-AEFD-4924-80FC-63A1029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A84E-F424-4EC2-932A-D8BB1028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6383-3F53-41C4-B7AD-25D989B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2174-B9E1-444D-8D55-ADBE89A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2540-03F5-4923-9D47-6277DC09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7B43-1721-4E08-B995-D33F12D9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885-C648-4E18-8F43-3A417E63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846-CAD6-4903-A128-6EBA1B3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BE4-4B07-4C14-A71C-68A24716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913-B629-45C2-9F94-7DEF44A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47C-4714-4BAB-8AF4-08EF9B9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55A-8AE3-4B9E-800F-161C8C8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446-8344-4361-AED9-C17118E3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802-9A88-45E9-89A1-036C08D08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A2D-D67D-462B-B6AE-107CF2EC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1040" y="1077840"/>
            <a:ext cx="4245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children bl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they may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hold your f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knowing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grow in gr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all our he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uch love increa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every h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is relea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e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welling place of pe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rect all par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ng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entin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s in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ildren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your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ing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row in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love incr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ver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rel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pla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0" y="685800"/>
            <a:ext cx="4932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irect all paren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arding we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constant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sentine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omes in whi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people dwe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0T22:16:09Z</dcterms:modified>
  <cp:revision>16</cp:revision>
  <dc:subject/>
  <dc:title>PowerPoint Presentation</dc:title>
</cp:coreProperties>
</file>