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F76-3095-4784-832D-E269A7F5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1FB-363C-4CB7-8893-D020293F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1D6-4580-4FE3-86B6-DB09BA75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747-CD91-414A-9B26-EC2677E1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0387-9934-4099-AEAA-BD62789C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EF36-76D4-4815-AECB-9EE664AA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6073-1F99-49DF-9DFF-E01D086E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1151-503A-4716-AE50-B725DF87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8463-1B52-4B9A-9D18-06721BDF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6C9D-3B56-4429-B2BF-8B3424BE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7EF3-0809-4DE7-B2F3-3016D680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3DC-1165-4041-B6AC-4E298E9E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EF6A-5577-4E55-A2B3-09AC7346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3ED7-F8E4-4A11-ADC9-1EA31A6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AB84-2C4F-4D3B-AC80-5DE049CF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DC5D-3D8E-4138-B30A-BF792DFE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1BDB-14A2-4838-9DD0-02DF58FA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2F2-8E44-459C-918D-2D4433F6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7BC-E9D5-4617-BFF4-D9136C7C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D2A-D530-4368-8EE6-99F84967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52D-ED2D-40FE-9405-197DDC36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0A0-A9BA-43F8-BE55-51968CA0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1F0-33DD-4478-BF7C-4FAA9AD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6CF-39FE-4352-81BA-191A2AE5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845B-6B27-4E29-9245-3447063BE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0827-2654-49D4-91F7-E362A355E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Serva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e serva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Master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blish abro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onderful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94840" y="990720"/>
            <a:ext cx="49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4 (Rev. 7:9-1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me all-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ext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i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les ov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ruleth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he is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presence we h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iumph shal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cribing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Salvati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its on the throne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cry a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nor the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aise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down on their f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rship the La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us ad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him h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sdom and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onor and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ngel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nks never cea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finit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me all-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ext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i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les ov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ruleth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he is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presence we h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iumph shal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cribing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Salvati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its on the throne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cry a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nor the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aise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down on their f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rship the La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us ad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him h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sdom and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onor and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ngel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nks never cea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finit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Serva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765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Ye servants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Master procla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publish abro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wonderful na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94840" y="990720"/>
            <a:ext cx="49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4 (Rev. 7:9-1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12T23:21:53Z</dcterms:modified>
  <cp:revision>33</cp:revision>
  <dc:subject/>
  <dc:title>PowerPoint Presentation</dc:title>
</cp:coreProperties>
</file>