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C52-2845-482A-9113-671017AE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7CE-FB4B-4241-B884-CDFBB763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4F9-99D0-41E3-AE05-187949C3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B14-EF44-49B2-B62F-211BC417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597-819C-429C-AB0D-F68DF08B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459-BC2B-4CAF-9906-3BC7FC70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1DA-03FD-455E-B2F3-B0C9EF0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88AA-77BE-4707-A2C0-C4C04E4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C494-B340-4507-8C5F-CF1A68FE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330B-EAF3-490D-8594-F85D922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1B1F-7382-443A-B976-789A965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A78-1736-4A11-9B9C-EEC96D94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85D-BFFF-4B46-A8D7-D1C3B58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32DB-9291-4507-8D4F-822C7BD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852D-F26A-4B11-A3AB-74E947B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E67-94A3-4546-A69E-F4364907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BC74-8046-4A90-AA3B-43675C66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30B-7134-446E-A2D9-B163F82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B52-59F5-48CE-B7B2-A01AC3CE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9DD-CA61-4280-8AA6-9B6753B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1FE-F106-4A47-9944-DE8FFC16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7D9-C82C-4893-9291-DA5198D9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549-9FB9-4E34-8670-8D5316A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04D-E6DC-4C54-8641-2697E05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5D5-0FC8-41CB-A7E1-FE79FFD9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0F72-D081-4E49-A8E9-7EF1E293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95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ell m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rie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ings I would as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m to tell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46800" y="10396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st let m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 fan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the lov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1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27:15Z</dcterms:modified>
  <cp:revision>37</cp:revision>
  <dc:subject/>
  <dc:title>PowerPoint Presentation</dc:title>
</cp:coreProperties>
</file>