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19F-264B-4CF5-8012-964A980D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A08-D7B4-4F95-BCDA-918D406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332-DEA1-4D2A-8198-B814111E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D86-689B-402D-BF4A-1165B92A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DBE-E41F-4F94-ABBE-87BDC532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AE8-A592-48CA-A69E-F688DB6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ECD3-05B2-4023-BEBB-A4DE6527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A196-5B3D-4DCB-BC96-820F5CA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E41-D817-48F1-A436-C49301B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DE2D-72B7-49FF-993C-EF88497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BB9-6F9D-4433-AFD1-00B6615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BC4-E92C-4174-A414-1B72141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B15-7D00-4F60-8095-62FEDE4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C84C-0167-4237-AB7F-BC6B5259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37A-361E-4306-AD81-30826B3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C606-E7A0-4AF5-BF9E-100BFF91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5DD-C0CE-4CDD-BD6D-0DE1ADB8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4BC-F931-4F6E-80FB-6A9F670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6FA-7DE1-4A1A-84B9-2AE723E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CD0-B44D-478C-AE24-4E25FC6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C23-A634-4597-9F3F-D3D2832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AC1-482A-48E7-A922-32C15A1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54E-7534-4C41-9F60-0BCD193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7B7-86CE-4B5F-8B5E-44F296A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941A-6BD5-4E2F-9DF9-05382C71F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E3D9-26BC-4827-AF2F-2BE5602C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cheerfully fulfill;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ove thy good and perfect w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 at my right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ffer all my works to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5400"/>
            <a:ext cx="91440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 delightfully emplo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fully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e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my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ghtfully empl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84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19T20:31:13Z</dcterms:modified>
  <cp:revision>149</cp:revision>
  <dc:subject/>
  <dc:title>PowerPoint Presentation</dc:title>
</cp:coreProperties>
</file>