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71C2-1649-4472-985A-1C74C511C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2BAA-047A-48FE-98FB-02E287CEB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EA3E-AF5F-4C52-B6FC-1FA9A862D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1A51-2AC1-4052-A615-65F391C58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642F-5300-4FEA-81EA-4BCCFB447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C364-8896-4883-A2C3-1FA8C04F9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709E-1D70-49F3-8BAF-606C3CB4B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3E2E-55D0-4515-8015-2CA83858C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3ECB-6F93-4425-AFDE-371398B64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5D99-13B6-4E21-92E0-F8F4533C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AA91-5335-481A-B7C1-D25E3E407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5BDE-11A3-44B6-A92F-84011B575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BB5CA-83B5-4061-BE4A-8125F42EC4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me, All of Yo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5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All of You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144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Laotian hymn; trans. by Cher Lue Vang, 1987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(Rev. 22:17; Mt. 11:28; Jn. 14:27; Is. 55:1-2)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905120"/>
            <a:ext cx="9144000" cy="464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Come, all of you,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en and wom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forwa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rink of the wat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ovided for you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rans.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of you who are thirs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to me to drin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the water of lif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ovided by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r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All of You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Come, all of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, bearers of burd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forwa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give you res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on’t wait for lo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of you who are wea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to me, the Chri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the Lord of 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Savior, K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humanki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All of You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Come, all of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, trouble-mind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forwa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give you pe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peaceful mi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of you who are hung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to me, rece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read and the water of lif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ovided by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r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All of You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Come, all of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, hungry and po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forwa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y your milk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ne without mone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for fr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ring no penn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to me, receive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read and the water of lif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ovided by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r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0:19:58Z</dcterms:modified>
  <cp:revision>109</cp:revision>
  <dc:subject/>
  <dc:title>PowerPoint Presentation</dc:title>
</cp:coreProperties>
</file>