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B3D-F06A-47F3-B187-CFB7AA64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9D2-F447-45DA-9C77-ACAA2925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473-27B8-4BD0-90AD-C51AC432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E77-FA94-441C-A875-9E66C8AA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7CDC-1B0C-4259-A60D-FF5247D9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8AF2-1200-4E31-85AA-1854B494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71D1-3F74-4C2A-B9A6-21D563E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919-5DFE-4A50-A4E6-203FFF0D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7300-AD75-4DC9-9744-A5DC621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73D9-53A9-40C5-A3F0-5E5781F4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BDDB-22A0-4F97-84D7-81CDA91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31F-2F2D-44E9-AE14-D799BF1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9013-4347-4D22-A404-3624FA9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EDB-F9B9-451E-8897-AD706424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8656-50AE-4899-BB7F-C7BD7E98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17AB-83D0-4F76-B52A-A6B86C6E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C343-49EC-4850-B0CB-E647C0DC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EC3-5E45-44FF-8ABA-50CCB55C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7FD-E0E8-4888-8C50-BE2CD7CA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8C3-920D-4DAA-AD02-EF8EFCF8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782-1536-4BB3-A1A1-930ED22A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7D7-F4C9-4443-A50B-C6B35E3B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FB6-44F0-4871-92DF-881FCD7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1FF-4A8C-4999-9FF4-0294032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C73-EC4B-4C52-99E2-A79B9475D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FC41-24AF-4869-8A2E-DA168DBFA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firm a found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saints 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aid for your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excellent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“K” in Ripp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lection of Hymn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17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2 Tim. 2:19; Heb. 13:5; Is. 43:1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ow firm a foundat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e saints of the L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laid for your fai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s excellent wor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“K” in Ripp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lection of Hymn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17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2 Tim. 2:19; Heb. 13:5; Is. 43:1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hen through fiery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Whe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ep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ll thee to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vers of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overf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will be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oubles to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nctify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eepest distr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he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ry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20T00:54:35Z</dcterms:modified>
  <cp:revision>56</cp:revision>
  <dc:subject/>
  <dc:title>PowerPoint Presentation</dc:title>
</cp:coreProperties>
</file>