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1B65-4EDB-4FD8-AFC5-BF5EE0FCD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219D-9953-4AFF-98C7-993F157B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1803-A121-442E-81F3-0F90BAC85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FE5A-0C84-460B-95E5-C4D36DCCC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D09C-2AE1-4F9B-89D5-2B233E21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3251-C0B2-4F4F-AA0D-39E7131D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EAE7-1EC4-4C4C-8A9F-4E9E39B7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78FF-D59E-45F2-AED6-B25BDB3B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B8F6-1A9C-4D43-A091-49F2E8CE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7359-FF2C-4897-8D94-C10BA6DF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E1D8-F2C0-42C7-88AD-F345F4E6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2B63-B386-489B-A6A0-DA6E11B4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BA0C-4CED-482F-8C2A-D570A458D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inners, Turn: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y Will You D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2096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 Sinners, turn: why will you die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God, your Maker, asks you why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God, who did your being gi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made you himself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that you might liv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ners, Turn: Why Will You Di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12360" y="1447920"/>
            <a:ext cx="2536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Charles Wesley, 174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62864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, on whom he still doth wa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m he would again creat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de by hi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purchased, wh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 will you forever d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97964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. You, who own his record tru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you, his chosen people,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you, who call the Savior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you, who read his written W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ners, Turn: Why Will You D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62864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, who see the gospel ligh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aim a crown in Jesu’s righ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 will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e Christians, wh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the house of Israel d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12780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. Turn, he cries, ye sinners, turn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by his lif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your God hath sworn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e would have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turn and li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e would all the world receiv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ners, Turn: Why Will You D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12780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hath brou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all the r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ull salvation by his grac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hath no on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oul passed b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 will you resolve to d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197964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8. Can ye doubt, if God is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if to all his mercies move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Will ye not his word receive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Will ye not his oath believ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ners, Turn: Why Will You D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1628640"/>
            <a:ext cx="8839080" cy="359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See, the suffering God appears!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Jesus weeps! Believe his tears!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Mingled with hi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blood they cry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hy will you resolve to die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62864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the fatal cause demand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ks the work of his own hand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, you thankl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reatures, wh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cross his love, and d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2780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 Sinners, turn: why will you die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God, your Savior, asks you why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God who di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your souls retrie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died himself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that you might li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ners, Turn: Why Will You D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2780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let him die in vain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ucify your Lord again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, you ransom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inners, wh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sli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is grace, and d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2780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 Sinners, turn: why will you die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God, the Spirit, asks you wh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e, who all y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lives hath str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wooed you 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embrace his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ners, Turn: Why Will You D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2780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not his grace receive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still refuse to live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, you long-sou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inners, wh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grie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r God, and d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53352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. You, on wh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he favors showe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, possess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of nobler powe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of reason’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powers possess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, with will and memory bl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ners, Turn: Why Will You D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62864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, with finer sense endu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eatures capable of Go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blest of 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reatures, wh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 will you forever d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2780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. You, whom he ordained to b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ranscripts of the Trini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you, whom 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in life doth hol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you, for wh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himself was sol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ners, Turn: Why Will You D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17:44Z</dcterms:modified>
  <cp:revision>27</cp:revision>
  <dc:subject/>
  <dc:title>PowerPoint Presentation</dc:title>
</cp:coreProperties>
</file>