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BB24-B56B-4F4E-934B-00CE47923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E4B6-B426-4A88-BB30-E66B247B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CCBC-7FB2-4CCC-8F49-3902844E1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70EF-8A7A-4BF7-932C-5DB65265B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0BE3-73AB-414B-AAEE-4B5A8E18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D732-CDC2-4120-8458-934E4451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014E-5A06-4E32-A0E9-168D2AAE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477D-7981-4385-90A4-9CA7F16B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2EF2-6248-4B27-99ED-C473DC4F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0893-AD21-4447-BFD3-2037E092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CB5C-362C-4CB7-8311-19F36794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F90B-C99C-467C-AFF8-D2F0160C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39BC-5659-4A80-AB16-23EA6758F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ejoice, Ye Pure in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Rejoice, y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re in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give thank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00600" y="1092240"/>
            <a:ext cx="675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Edward H. Plumptre, 1865 (Ps. 20:4; 147:1; Phil. 4: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Praise God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igns on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rd whom we ad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Father, 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oly Gho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e God for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Rejoice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rejoice,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give thanks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glorious bann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ve on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ross of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Rejoice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rejoice,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give thanks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Your clear hosannas 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alleluias lou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st answering echo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pward floa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ke wreath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cense clou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Rejoice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rejoice,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give thanks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Yes, on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e’s long p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ill chanting as ye go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youth to 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night and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gladness and in wo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Rejoice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rejoice,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give thanks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At las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rch shall e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wearied ones shall re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pilgrims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ir heavenly h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rusalem the bl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Rejoice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rejoice,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give thanks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15:43Z</dcterms:modified>
  <cp:revision>23</cp:revision>
  <dc:subject/>
  <dc:title>PowerPoint Presentation</dc:title>
</cp:coreProperties>
</file>