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F7E-5FC4-470A-92E0-34EA4FFC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023-8987-498B-ABEE-FC36AE5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56B-D198-456A-9EF3-9B3422C9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62C-6225-4307-A853-6E4F6D71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D77-88BE-4333-844A-43BAE0A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F92-E93E-4736-A1BA-4C505506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375-2AF6-4CAE-AC56-E58CAB83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56E-7455-42B5-B949-1B7E9F7D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3F6-6943-43EA-87D7-593EAD4C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AB0-F9FC-45C9-99E0-8850BD3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782-81F1-4BE7-8EDF-33454D0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2D8-CCF7-406C-9FD3-52F3D05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421-1775-455F-9082-E2DA0502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pth of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pth of merc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ther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erve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f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olt de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ep,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rath for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me, the c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ners, sp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have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stood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provok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not hear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c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ieved him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f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my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t prof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hallowed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him to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re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s hi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pread his h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, I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eep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s m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inclin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s la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3:56Z</dcterms:modified>
  <cp:revision>112</cp:revision>
  <dc:subject/>
  <dc:title>PowerPoint Presentation</dc:title>
</cp:coreProperties>
</file>