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61C-5815-4CEE-BCD6-320BDEF2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B18-CFCE-431F-9574-A7371C7D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4EE-5E37-42A1-8697-D79D12C4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ADB-615B-47B5-8E3C-B952048B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713B-AA5E-4873-9816-4BB78530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92A4-5704-4F67-84EF-AC29859C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3898-EF9F-44FE-89DA-070E472B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6785-4C1E-41CC-9134-9BCC83CB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47FC-6920-47C6-9E2F-32FC6D50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3EF3-1AA1-4ABB-8B89-0533F9AD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3017-FCD4-4A24-A08F-67878088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646-7252-469A-A624-7198D4C7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A664-4964-4933-BF6E-5DC99D4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4147-DA7B-4094-B663-8B00CA31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E23C-8EB6-4D73-99F7-5E0B6D2B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5AE5-8C89-4054-9310-2CEE9A0B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191F-4818-413D-BC22-F4AA5891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C08-2D5C-4FB5-B27A-836A1AAE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8AF-30DC-4AF9-9439-B7A724E2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C7B-C13B-499A-B8DE-08551812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228-D19E-420D-8EBB-7BD63046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250-6074-43E6-A483-13E09691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9B4-D8B7-4778-BA1A-E4E63A38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394-2044-4110-BDBD-3EB7ABD9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E217-0DEB-4303-9F81-847D23470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DABB-D485-4233-9517-9047761BF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 to the Heart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40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1. There is a place of quiet rest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 place where sin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cannot molest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49160" y="1066680"/>
            <a:ext cx="4042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leland B. McAfee, 19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 is a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full rel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lace wher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joy and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46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There is a pl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comfort sw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place where w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ur Savior m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2520"/>
            <a:ext cx="9144000" cy="546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There is a pl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full releas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place where 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joy and pe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2520"/>
            <a:ext cx="9144000" cy="546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 to the Heart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051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re is a place of quiet re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place where si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annot mole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49160" y="1066680"/>
            <a:ext cx="4042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leland B. McAfee, 19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 is a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omfort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lace wher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 m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9-25T14:47:12Z</dcterms:modified>
  <cp:revision>12</cp:revision>
  <dc:subject/>
  <dc:title>PowerPoint Presentation</dc:title>
</cp:coreProperties>
</file>