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E5E-91EC-4CE0-977C-4A7AF86D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507-987F-4396-AE39-90F1FAE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A61-A47F-4AAA-9D51-3291B107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99A-30D3-4A38-A20E-0F7FE689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920-6F76-42D3-965D-B1C51C65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77D-FE6F-4029-AE94-CE4C7772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597-4E52-4331-9981-F6B54904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A83-6471-4425-A90A-EEBC2DF3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663-3BA8-413A-BDDC-B75EBDE9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54D-84DC-4BC9-BE95-7D27978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36E-F5C6-4AF9-9A09-1D54BDF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8DF-AF16-487D-A922-CED3DCE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F329-1485-4EF2-859B-214ACC3FB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oses and Miriam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antemus Domin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exal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your streng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oses and Miri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7520" y="1676520"/>
            <a:ext cx="70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Exodus 15:1-6, 11-13, 17-18, 20-21, adapt; Response, Psalm 21:13,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774720"/>
            <a:ext cx="86104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led the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m you have redeemed;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guided them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strength to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abod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ill bring them 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lant them o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wn mount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place, O Lord, whic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ve made for your abo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003320"/>
            <a:ext cx="8610480" cy="409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nctuary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your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ve establish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reig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ever and ever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Miriam, the prophe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ister of Aar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ok a timbrel in her h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wom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nt out after her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imbrels and danc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912960"/>
            <a:ext cx="8610480" cy="483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iriam sang to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 who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rse and its ri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ord has thr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sea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600200"/>
            <a:ext cx="8610480" cy="295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Moses and the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Israel sang this s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Lord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ing to the Lord,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s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rse and its rider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rd has thrown in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y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as be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salv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my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m I will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exalt my father’s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s a mighty warr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se name is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6905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haraoh’s chariot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host the Lord c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sea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his chosen offic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e sunk in the Red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09680"/>
            <a:ext cx="861048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loods cover the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y went down in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pths like a ston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lorious in pow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hatters the enem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like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mong the gods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s like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jestic in holi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errible in glorious dee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ing wonde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191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tretched out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right h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arth swallow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8:45Z</dcterms:modified>
  <cp:revision>32</cp:revision>
  <dc:subject/>
  <dc:title>PowerPoint Presentation</dc:title>
</cp:coreProperties>
</file>