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F77-EEBC-4DAD-A6E0-D7C04DF5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521-F1E2-4B56-B49E-587C0E98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034-DD4F-47B6-89B2-565C7FCB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F49-1382-4C9F-96DC-5850EE0D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064E-3148-4C24-B520-5CB88885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D369-CA2E-416B-B86C-15D3F13C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4BC-49E4-48B4-8BDB-0698F9F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052C-107B-42B5-87DC-C2360EA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B7A-BAFF-4740-BCE1-5704343C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D85A-4D6E-4BD2-9527-3CC856E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98FC-02FC-47E5-AC89-EEC68D2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044-1CD1-4BE3-A7C6-86754F3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62A-A3CB-461C-A875-09AD19D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C27-F080-48C4-96D0-3BEBC5E9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C483-5DA3-4EC8-8A5D-E80DFED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5B2-1520-486C-B2C2-F40E2872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543-8439-4F1D-B580-9180BF48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1CA-D7D6-48C2-B0B1-49CBC4A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CF8-F3A1-48EB-9CE9-FC15D69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FF3-16FA-45D2-B223-D88F377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007-63E0-439D-A6FE-4D9DBAC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19E-A230-4E3F-8974-9D9C3711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B9D-401E-43E7-820A-B83DD03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B59-1F32-457B-86D9-2D0AD4E5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85B8-9EFD-4D03-B243-A26282B6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572B-3F01-4495-BAE1-77592C92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3-07T01:44:54Z</dcterms:modified>
  <cp:revision>51</cp:revision>
  <dc:subject/>
  <dc:title>PowerPoint Presentation</dc:title>
</cp:coreProperties>
</file>