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213-F980-4DB6-B6EB-21EBA804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A2A-D4EE-4602-8705-81D71D3F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6D7-4227-449E-B997-E350BDE7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052-2EF7-4626-8761-44EBC0FD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1B3-B2F2-4AB8-BEA6-47F2AF9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A88-2F77-4597-9F17-B22341AD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003-90F3-4204-84A9-75D56B9A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D20-FB28-400D-BCC2-D81EB877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FEC-A4C0-47A0-9B65-57742553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7B8-3C60-4817-8AAC-B9D873D8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C5C-91D2-458C-91C0-B34EFB99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52B-6F67-421E-B303-0DEB20F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333-73AF-47DF-ABEF-88D19C92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Renewal of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new your church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eople in this lan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cheap wor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lf-decep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your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John de Gru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Renewal of the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48920" y="990720"/>
            <a:ext cx="285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outh Afric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ower of your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nsform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hap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16Z</dcterms:modified>
  <cp:revision>14</cp:revision>
  <dc:subject/>
  <dc:title>PowerPoint Presentation</dc:title>
</cp:coreProperties>
</file>