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3E6-47EF-494C-A472-DC2C43E8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DD6-744A-4E83-B0EB-D078DE9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E34-D992-437A-AC52-F84DC15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359-9E0C-406B-91C6-27C853CC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ADB-6F7E-4FD4-8DAF-F8CC7EB8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77D-61C2-4007-8E10-28B9672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77F-B95B-4606-BC13-9829AE7E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E15-32DF-4035-A159-D8C740B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B3B-7C86-4C2D-9FAA-36823C5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B20-8142-452F-BE80-2F3A8797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8CE-B540-4DA5-AC88-3A5B40D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267-7A28-4B27-A44B-DABB1A6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2049-D48C-4D3C-8C3F-C733C6E8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Ag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y Dear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Ellerton, 1866;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avior,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to thy dear name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rting hymn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thou the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from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s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called upo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our homeward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beg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arm and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thy childr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ark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both alik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th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rr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our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ui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n each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irit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ace in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alm of every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ace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to ri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when thy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i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e eternal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7:00Z</dcterms:modified>
  <cp:revision>154</cp:revision>
  <dc:subject/>
  <dc:title>PowerPoint Presentation</dc:title>
</cp:coreProperties>
</file>