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3C1-9B35-4B29-9AAA-8285A2EF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CB1-871E-4D83-8006-A88C4CB8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E42-F04C-4EC4-9DB0-F8E8E12F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857-D287-402B-A5F8-41CC0B5C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AAB-6578-4CE7-B71B-D1E8D204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628-0EF7-4641-8F57-F6F8A59A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BF7-37A6-4616-AA0C-BF896AEA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955-2DB2-499D-A636-818402ED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475-8D2B-405E-A3E9-2604B3A8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BE5-116A-4FA9-A23D-FDE97FB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8C7-8645-4A2F-B275-13F8F34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1C1-5146-44CB-A88F-3210A3E9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9DE-7711-49CB-9D1C-638A53695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High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5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371600"/>
            <a:ext cx="9144000" cy="41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3240" y="762120"/>
            <a:ext cx="8239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George William Kitchin and Michael Robert Newbolt, 1916, a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© 1974 Hope Publishing 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High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5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1600200"/>
            <a:ext cx="9144000" cy="49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br>
              <a:rPr sz="5000"/>
            </a:b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Hope Publishing C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15880" y="1143000"/>
            <a:ext cx="82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George William Kitchin and Michael Robert Newbolt, 1916, a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triumphant sig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sts of Go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ity combin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ach newborn serv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rucif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on the brow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l of him who die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6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Lord, onc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glorious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raw the world to the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o shall our so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 ever b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ucified for victory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8380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foll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triumphant sign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sts of God 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nity combin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30492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Each newborn serv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rucifi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on the brow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eal of him who die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26"/>
          <p:cNvSpPr/>
          <p:nvPr/>
        </p:nvSpPr>
        <p:spPr>
          <a:xfrm>
            <a:off x="0" y="30492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O Lord, once lif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glorious tre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promis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raw the world to the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0492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So shall our song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 ever be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rucified for victory!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22860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5T15:34:03Z</dcterms:modified>
  <cp:revision>23</cp:revision>
  <dc:subject/>
  <dc:title>PowerPoint Presentation</dc:title>
</cp:coreProperties>
</file>