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E2B-648C-4146-9C95-8FD304B6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2F8-C0D7-4364-83D5-724120B3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4C4-4923-4A26-855E-F1BAE3AC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ABC-2EEB-413C-8A77-20B6C0F4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F13-D384-469A-BB7D-9BC2D953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3BD-58C8-4FCD-9607-7D521D22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A24-B41E-459D-B17C-CF3FF04B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5F2-9C06-495B-9433-928A5A3B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CB5-E3D3-4A88-BBCE-35579049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670-891D-49ED-B3DE-790C1FDB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1EB-194B-4AE4-9DEC-EE0889CC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B2B-5856-413F-8E18-F211212C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061D-4CDA-4CED-9ADE-8A87DD219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Sinn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oor and Need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seph Hart, 1759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ye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nd nee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k and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ck and sore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t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you’re be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t al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7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not consc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you li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of f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ndly dream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f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requir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o feel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him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s to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p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and pow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ye thirst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wel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free bounty glorify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e belief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e repen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grac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you nigh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27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 y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y la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and ru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fall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24T22:44:00Z</dcterms:modified>
  <cp:revision>97</cp:revision>
  <dc:subject/>
  <dc:title>PowerPoint Presentation</dc:title>
</cp:coreProperties>
</file>