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9E3-727B-44E3-B0B1-84FCB14D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44D-8779-4183-BA0D-17A5B11C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9D0-AB99-4E11-A3AC-2E453303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A59-7D31-4C34-8ED9-D7EA5FE4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7FAE-EC55-4ED8-A0B2-E955AF41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979B-B386-4D2E-905B-69F18715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09A5-099B-4872-8DE6-FA84DC83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C80A-640E-429A-96D1-36D265E5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617A-63A7-4BF5-B219-02848BEA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8942-3C06-4293-B921-2FCB2184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19B5-5E6A-4640-8313-9E43BD8A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B67-9DA0-42C3-B9F4-42B2B6AE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2DF7-4618-44A7-ADA6-A3068B57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036A-EB00-472C-83A5-AA4FD4FB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E53E-B6B3-4B33-9E99-B302FEDA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19F6-66FB-4F84-B512-CDC63C18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EF8B-41B2-4AF4-A88C-0C073D4E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42D-0EDD-44E8-A2F0-D95FE304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AE5-B6D6-43D9-8C77-25856DD3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30D-B75B-49C8-B418-55F5A2C4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587-F30F-4E8E-8A30-7B372993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746-827C-4B68-8D67-0058062E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279-FC24-48D3-A38E-A8ED3DCB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165-7E6A-4891-AE0A-A96E144E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422E-88E2-49BC-8154-E76FFC5C1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1AC9-53E8-49D9-A319-42A0412B7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Christ There 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 East or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3623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In Christ there i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east or wes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him no south or north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1600"/>
            <a:ext cx="91440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4, John Oxenham, 1913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. 3, Laurence Hull Stookey, 1987 (Gal. 3: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3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Christ is nei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w nor Gr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ither slave nor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male and fema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rs are m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are kin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Christ now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east and w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m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th and no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hristly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one i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Christ There 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 East or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36232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n Christ there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 east or w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im no south or north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371600"/>
            <a:ext cx="91440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4, John Oxenham, 1913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. 3, Laurence Hull Stookey, 1987 (Gal. 3: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3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n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wid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In Christ shall tru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rts everyw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ir high communion find;            his service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golden c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lose binding humanki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In Christ is neith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w nor Greek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neither slave nor free;          both male and fema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irs are ma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ll are kin to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In Christ now mee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oth east and w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im meet south and north;         all Christly soul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re one in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out the whole wide ear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t one grea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ellowship of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roughout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ole wide eart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3660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2. In Christ shall tru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hearts everywher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their high communion find;            his service is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the golden cord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close binding humankind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In Christ is nei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w nor Greek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neither slave nor free;          both male and femal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irs are mad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all are kin to 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In Christ now mee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oth east and wes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him meet south and north;         all Christly soul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re one in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ughout the whole wide eart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Christ There 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 East or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743200"/>
            <a:ext cx="9144000" cy="363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n Christ there 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 east or we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him no south or north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3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67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4, John Oxenham, 1913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. 3, Laurence Hull Stookey, 1987 (Gal. 3: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n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wid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Christ shall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f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rvic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lden 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binding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08T23:23:25Z</dcterms:modified>
  <cp:revision>21</cp:revision>
  <dc:subject/>
  <dc:title>PowerPoint Presentation</dc:title>
</cp:coreProperties>
</file>