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95FC-C593-4262-BEF4-039A8B693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F166-BFC9-4A5E-BFF3-F3F16698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2883-D496-4223-851E-7CC391059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5023-D601-4554-9502-CEC990700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6C47-9E8C-4D16-BE1C-5758C43A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1BAE-6E77-4210-A537-FBF80A73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C35C-1D8C-4988-B49C-6268A230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DF90-D91E-4AD1-A6B3-61636C30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4B6D-8E0E-4695-85DA-83978951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D950-6090-4986-9922-1DA15CD9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80C4-8F34-4F8F-B86C-88E24A93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1297-A763-4B25-9FB4-6029968A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028D-7CB0-4309-BEE6-93A34F882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ona Nobis Pac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a Nobis Pac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14600" y="990720"/>
            <a:ext cx="3809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WORDS: Trad. Lat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2286000"/>
            <a:ext cx="7086600" cy="26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ona nobis pacem, pa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ona nobis pa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2438280"/>
            <a:ext cx="83808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863720" y="2133720"/>
            <a:ext cx="728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ona nobis pa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ona nobis pa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209680"/>
            <a:ext cx="83844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057400" y="2438280"/>
            <a:ext cx="6858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ona nobis pa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ona nobis pa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2514600"/>
            <a:ext cx="83808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43:00Z</dcterms:modified>
  <cp:revision>117</cp:revision>
  <dc:subject/>
  <dc:title>PowerPoint Presentation</dc:title>
</cp:coreProperties>
</file>