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77C-13B4-4FE9-927A-90A24D4E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B96-6E07-41FF-9D12-1327939E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55B-AAE5-44A4-AC7E-5A7793FE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E4C-76D6-4B49-86B7-6DFE987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C2C-92AC-4F42-8F90-AA258314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802-FC2E-4DDB-B8D0-D0F9C8C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23E-FDC5-4C9D-AB61-E6E6903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EE7-B4C3-4E00-8ED9-0F8A091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940-6488-44C2-9057-67F6A1F7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FAB-3443-44D7-8783-15D82591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45B-BF37-4177-94E5-5581A1A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AB1-7694-413E-9BA1-4F2246F2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91C8-4238-48F2-BE66-45A0D333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tand Amaz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tand amaz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the Nazar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0360" y="162576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H. Gabriel, 1905 (Lk. 22:41-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fort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that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took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d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very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 to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ff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e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hen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somed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t last shall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through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uld lov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inn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demned, unc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me i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ray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Not my will, but thin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d no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grief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weat-dro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oo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behe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of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0:15Z</dcterms:modified>
  <cp:revision>22</cp:revision>
  <dc:subject/>
  <dc:title>PowerPoint Presentation</dc:title>
</cp:coreProperties>
</file>