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20BB-38BD-43EA-9B9E-DFD3AC601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8D7D-9A9B-44B7-BED5-A37F1F76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1B09-ED71-4897-9ECD-3A5A3C6B0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DA98-6042-4A4C-9949-47D2AB98C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89D2-DF11-4D1A-A8B4-AEBB27B0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4F9C-4640-49A3-ADE8-44ED54E1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1552-CF74-4E82-A3B2-5F7CDE43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BBF3-31F7-475D-9A56-6BC5C1B3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3B98-CF57-4336-97D8-76C8AC99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8896-F088-4ACD-B957-EBD47EA3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30AF-A383-4B9F-8F71-CEFE0664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DB13-5391-429F-9E54-B494B212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557E-2AF0-4509-9F2A-6B4F7A2A0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You Have Put On Chr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0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419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You have put on Christ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n Christ you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ave been baptized.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lleluia! Alleluia!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9, IC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Have Put On Chris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om the Rite of Baptism for Children, ICEL (Gal. 3:2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29:01Z</dcterms:modified>
  <cp:revision>109</cp:revision>
  <dc:subject/>
  <dc:title>PowerPoint Presentation</dc:title>
</cp:coreProperties>
</file>