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BAE-48BD-4F1F-9010-C4B2DBD4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034-0FF2-48EB-BA8D-9F46471F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662-B188-4451-9A62-CCC43A3F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D4D-4AD9-465B-A52A-81C6BF8B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01B-75BD-40BB-91D2-2F995D85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22E-448B-4AAC-A1DE-79D5D6D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50-3D75-41E2-AD63-C0EF93ED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684-F05B-4968-890C-6CBE9EA4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D22-C3A2-4B3B-B870-48B95C35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086-F68E-4E01-BD90-67C0A4E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84B-7E0F-421F-89C1-6A2C06B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AD4-B4E4-455A-B0A8-B2BC9B8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EDE6-8BF6-46EB-A8C5-3EFD6CD8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He Lead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. W. Blandy, 1890 (Mk. 8:34; Mt. 8: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e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ake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llow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9:48Z</dcterms:modified>
  <cp:revision>95</cp:revision>
  <dc:subject/>
  <dc:title>PowerPoint Presentation</dc:title>
</cp:coreProperties>
</file>