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39F-8CBA-4553-82B1-8B42093E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556-8521-4F91-90C0-F439AC85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149-0FB1-43F4-9B25-9CC7AFD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B21-CFD1-41DB-8109-1603C193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84C-BE8C-49A5-AE94-8B94AAA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79A-58E0-4302-AEEB-985A8453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F10-E7BE-448C-ACFC-CD9D2DB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D00-8EBD-46F6-97C0-3A4B4FB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531-D047-45BB-8561-FE1FB14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71F-5432-45D8-944E-23BD9EB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759-92A1-452B-82CC-7EE3DD1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B9E-D46D-4F1C-8152-F247D849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BAF4-34F5-4998-8CBD-9FA13ECCD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pirit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04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a Spirit 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6080" y="109224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M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ou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d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nge our way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There’s a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se your shy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your tong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God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believ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i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s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ing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ting r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a str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59Z</dcterms:modified>
  <cp:revision>44</cp:revision>
  <dc:subject/>
  <dc:title>PowerPoint Presentation</dc:title>
</cp:coreProperties>
</file>