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A2F-E0DD-474B-898C-337B1AA0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3D5-D368-40C7-963F-EB8C41D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A6B-EEBF-4CFB-ADB3-2FA6C8F7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D3D-220E-4327-8931-834F10DA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5D4C-69AC-4A8D-86B1-CCC0D8C3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E0C-DC3C-4BC4-8194-F70F247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D7A2-ACAD-41FD-805E-81FEB82E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3C63-D712-4BA2-B30F-FECFF440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09AD-292F-44EA-B786-F77C5E24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2974-63E1-4EBC-9B15-2ECC5D41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731F-E5DD-42BD-BCBF-47F0A11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367-9153-4804-864D-0CE0C59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45C9-A2F3-456B-AF02-E60D957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CD47-07FC-4D5D-BF31-D1D82BA9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116F-505B-4B62-AE7B-74BD9F2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CF3-7C0D-484F-8F6A-1830591F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3F51-EEC8-49C3-9717-0215E847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8BD-8F78-4FA8-B98A-3580A542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C50-2B52-444F-8716-069A46A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C88-5192-4A1B-8351-3FEF1911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1D6-F898-4DC7-B051-339EC412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1CF-EDD1-4AB8-B12F-D1FD171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79B-16A1-41E2-9851-961BA32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499-2368-412B-A46A-8E523D0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D08-F5C8-4F6E-BA1B-801D734BB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1CBD-8CDE-4BC8-9C3A-DD4A10BC4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oice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aynes Holmes, 1913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voice of God i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summons in our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aiah heard in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e now hear God s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tter the fet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strength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ust and ash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years a passing hou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you ca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se our weakn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magnify your pow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, and make us ho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et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eng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st and as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years a passing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ou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ou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gnify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ho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oice of 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9144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aynes Holmes, 1913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606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voice of God is cal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s summons in our d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saiah heard in Z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e now hear God say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20T23:14:50Z</dcterms:modified>
  <cp:revision>146</cp:revision>
  <dc:subject/>
  <dc:title>PowerPoint Presentation</dc:title>
</cp:coreProperties>
</file>