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507-180A-438C-BD87-C047212C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62E-D278-4C6A-9030-BAD0438F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DFF-2EE4-4CA6-9E56-0AE87134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441C-3915-42B8-B399-ADC4BEC2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738F-18F0-4401-B675-FB14EB16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7E98-8A63-4E4D-BCCD-46D4A4CF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3BA2-515C-4ADE-8B51-0DFBCA89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68A7-CDF8-4D28-BABB-9433A275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8A8C-E71E-4BE2-8696-8039E8A4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FB0F-FEC0-45BE-935E-7E390B58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777C-4CED-4C06-A6A1-61FE15A1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587-3644-4873-80CD-7737D8C0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699E-0C06-451D-B752-76DADC0B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21AE-EACB-48B7-B370-3255E709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02A2-7262-4974-A943-A8A1B35D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31C9-D151-4EC5-A6CB-5FA685EB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6D2A-AC6A-4637-94CB-2EAA1E96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F7A-2D19-4A52-B2F5-026AF236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BE6-EB75-4660-A3DA-BCB0FADF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29A-56E6-4D07-AB59-1985E7D8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EE3-4B7A-484B-A019-E39CE745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E0ED-F9FD-4E1B-B77F-2467462C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31F-D9CF-4419-AB8C-2B503280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E53-73B9-4196-9259-5F5E663F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02EE-7A7F-4F09-9216-C548E9764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1448-1A94-4116-BD77-60BED8EB2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Savior, Pilot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lo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estuous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Hopper, 1871 (Mt. 8:23-27; Mk. 4:35-41; Lk. 8:22-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Savior, Pilot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76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lot me over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estuous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Hopper, 1871 (Mt. 8:23-27; Mk. 4:35-41; Lk. 8:22-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nknown waves before me rol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ding rock and treacherous shoal. Chart and compas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ame from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esus, Savior, pilot 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a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s her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anst hu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cean wi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oisterous waves obey thy wil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thou sayes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them, “Be still!”             Wondrous sovereig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the sea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esus, Savior, pilot 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at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ar the sh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fear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kers ro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wixt me and the peaceful r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n, while lean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 thy breast,                                may I hear thee say to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“Fear not, I will pilot thee.”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 w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me ro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ing rock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acherous sh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rt and compa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from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pilo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a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s her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anst hu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cean wi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isterous w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bey thy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ou say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m, “Be still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rous sovere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pilo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at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ar the sh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fear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kers ro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ixt 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aceful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, while lea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y brea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I hear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Fear not,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pilot the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6-21T23:54:07Z</dcterms:modified>
  <cp:revision>43</cp:revision>
  <dc:subject/>
  <dc:title>PowerPoint Presentation</dc:title>
</cp:coreProperties>
</file>