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CA9-C1CB-48C2-BE1B-8AEF98A2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4FF-870D-43C9-9A6B-99419781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93A-507E-4010-84E3-FE507F11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45F-A4BF-41F3-815A-BFF715A7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26E-05AD-4F5A-9EC8-04E5EE1A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2D6B-41E8-4C04-BBD5-F236267D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8056-50DC-4EF4-B6E0-3C05B8B9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531A-599C-4D51-B397-D8307897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361B-A22D-4982-9834-431155C6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A307-566A-4632-90AA-8177BBCC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3EE2-6564-4E90-B075-81986EF1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B88-7DCE-4BC2-8B0B-2C63B62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B0D7-FB83-4294-90EB-1E785A07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559C-FF02-483A-AA1E-A0775F93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6ADB-8FA0-4417-83F4-4C682919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21FF-8052-477B-9F82-39195E2C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0450-06E6-451C-B328-2BE81EFB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068-03C0-4135-B108-1B39CC4C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C48-0974-4153-B9D3-ADB8A640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175-85F7-4E23-A874-24748418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CCD-F963-4962-AAD3-EBF18428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EB9-6CDE-40F8-87A5-2005542D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85C-166B-446B-8652-6A52A00C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B5B-EF8B-43E6-AA7E-D3E4A5BF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C166-58C0-4204-A355-2141FCA79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240-F9FD-4A17-8D36-41430F670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Gather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We gather toge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ask the Lord’s blessing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chastens and hasten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s will to make know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200" y="1219320"/>
            <a:ext cx="789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Nederlandtsch Gedenckclanck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26; trans. by Theodore Baker, 18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the beg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ght we were w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t at 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be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all do exto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leader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fend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cape tribul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be ever prais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make us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Gather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We gather togethe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sk the Lord’s blessing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chastens and haste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s will to make know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200" y="1219320"/>
            <a:ext cx="789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Nederlandtsch Gedenckclanck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26; trans. by Theodore Baker, 18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cked op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stress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s to his n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forgets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side us to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with us joi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daining, mainta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the beg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ght we were w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t at 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be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all do exto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leader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fend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cape tribul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be ever prais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make us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520"/>
            <a:ext cx="9144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wicked oppress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ow ceas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rom distressing.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ing praises to his name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e forgets not his own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Beside us to guide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 God with us join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rdaining, maintain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kingdom divi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57200"/>
            <a:ext cx="9144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o from the begin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fight we were winning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, Lord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ast at our sid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ll glory be thin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1912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3. We all do extol the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leader triumphan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pray that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sti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ur defender wilt b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1440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et thy congregatio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escape tribulation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name be ever praised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Lord, make us fre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Gather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gather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sk the Lord’s bles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hastens and hast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ill to mak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200" y="1219320"/>
            <a:ext cx="789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Nederlandtsch Gedenckclanck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26; trans. by Theodore Baker, 18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cked op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stress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s to his n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forgets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side us to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with us joi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daining, mainta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24T00:35:51Z</dcterms:modified>
  <cp:revision>51</cp:revision>
  <dc:subject/>
  <dc:title>PowerPoint Presentation</dc:title>
</cp:coreProperties>
</file>