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4FD-9338-4FCA-84F8-601E9B42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854-8F1B-4D4F-B3D6-85ED3310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A96-B063-42C3-8152-30853A01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0FC-FFA4-49FD-8A94-0F23B377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403-8D81-46BE-ACA8-B9F385C2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657-B6B0-460A-AD47-359A52B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285-CD21-492B-A45C-6D59859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55C-8756-4E5D-8ED9-F2A7E9BC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0EC-FCCC-402D-8ADC-F81DF7BF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C8B-9658-440E-AADB-F6AB99CE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53C-0F6D-4D14-ACDE-81BC695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A42-6E42-4784-BAD3-5A0725E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90A-A2B1-437D-9A0D-8BEE7C3F8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, a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ali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Christians 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ross stands emp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earth a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on 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oy, with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streets and ho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s 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shall n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ali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longer 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istant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alest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e and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wel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place and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throned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otely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uched, un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uman p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daily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dst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every insu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ft, and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color, sc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ealth div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suff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loves the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ves,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hrist i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mes to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 to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a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13Z</dcterms:modified>
  <cp:revision>76</cp:revision>
  <dc:subject/>
  <dc:title>PowerPoint Presentation</dc:title>
</cp:coreProperties>
</file>