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93E-B3A0-41AF-A92A-F3A53FD5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663-4525-4066-9AB5-1C04DFC1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FDC-06DD-46BF-997E-80CC8105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CA1-F427-41F7-BAF3-BC2AC208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C6F-9848-498C-9A29-6CA0FA5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1BF-31FE-4783-BCEF-71A4302A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8CB-BF06-48FA-9803-9349B1DC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B41-83FC-4698-90BD-01FB199F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4D8-265A-45AF-9CB0-C46AE50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6AC-6F72-4087-BD54-E215EE65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8FA-0229-477E-9E8D-B8748315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6DB-EAC8-4F0A-B0F4-0AA0632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B3BA-569B-4CBF-B954-94585A09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hild So Lovely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Ni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 Lin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920" y="1447920"/>
            <a:ext cx="66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Venezuelan; 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051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ender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 vida, bien mi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So Lovely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So Lovel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5:53Z</dcterms:modified>
  <cp:revision>71</cp:revision>
  <dc:subject/>
  <dc:title>PowerPoint Presentation</dc:title>
</cp:coreProperties>
</file>