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392-E98B-471B-8666-09F9A884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555-AA0E-4D62-8B2C-CF248FF9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A50-5994-4E9C-B669-D7F4E4C8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32A-E022-4047-A9D5-1031ED7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3A0-D481-43FB-8AEF-7E4F165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EDB-25A0-4AFC-BD9B-72334EB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893-E1FF-416D-BC63-E202F56C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A6B-6461-4785-9C0C-B8A7BF3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E2B-2DAF-4BEA-8440-19BEFB9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8FB-841E-4E2C-B2BA-6E897CA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135-6008-4F2A-8D6B-7ADDE35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C91-EA48-4E78-A4AF-3CDFE67D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2BD-2A28-4C35-A2A3-E4D76910D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Hym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Jaya H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3040" y="2209680"/>
            <a:ext cx="88520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27640" y="20048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524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" y="1752480"/>
            <a:ext cx="911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209680"/>
            <a:ext cx="88390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20" y="2133720"/>
            <a:ext cx="873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60020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13372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00" y="1676520"/>
            <a:ext cx="91220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752480"/>
            <a:ext cx="8915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8:47Z</dcterms:modified>
  <cp:revision>21</cp:revision>
  <dc:subject/>
  <dc:title>PowerPoint Presentation</dc:title>
</cp:coreProperties>
</file>