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A24-7592-4E7B-9DCD-7811864D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A7C-3E06-4BCA-A22C-5B1C3789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24A-D114-42BA-9242-9A18650D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7AC-7344-4826-9F88-383C1A95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F8E-21F4-414C-A0A8-F66DA1F0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F36-4092-4B17-AF27-47CFD30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B11-D131-43AB-BC78-7C0D6953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235-8CEF-40E4-BF06-D00142FC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1F1-BC94-4D81-A611-C5D10C3D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2A6-52B4-46C6-A548-6E6F649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0AC-5601-4D2B-8409-09A9CCE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D76-1FF7-43DE-8053-61F5D59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5FCA-923F-459B-A6B2-9185085CB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-a-Bye, My Dear Little B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ock-a-b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ear little b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ittle b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 of wond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essing and j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7 Jaroslav J. Vaj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34400" y="109224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zech carol; trans. by Jaroslav J. Vajda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umber as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ntly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t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enfold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 of God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my arm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o peacefully cur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ittl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ith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born to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rock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ly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 guards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day we shall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love has dest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4:22Z</dcterms:modified>
  <cp:revision>8</cp:revision>
  <dc:subject/>
  <dc:title>PowerPoint Presentation</dc:title>
</cp:coreProperties>
</file>