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939-E8A7-40AB-9EA0-9C0A2CEA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21E-226D-4F83-8002-95B170F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2DF-B904-4BBF-88FE-B81C9A8B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EFC-70FF-448D-8005-B03B652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B91-043E-48A7-B8C4-EA209B7E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AEB6-FD3A-45D3-81C4-FECF7B1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B60-A88C-4AD4-B147-6D819DBA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DA3-996C-4AC7-812E-E70BF29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3389-C393-4A89-A499-5E3AEFE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D19C-AFB4-477D-8965-3CAFDD8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8B7-07E9-49CD-BB91-83E6B0A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0EF-F908-4212-93EB-C2943502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AE1-4E55-4741-87E8-469C67FD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F1B1-330C-4DC7-820C-98524DA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B17-7ECB-4430-82E3-D205BC2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F281-84AE-4525-87C6-8001A6FF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3F64-502D-4889-9655-424F38CF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B2D-E293-46C9-98EC-EB72EEE4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DF5-7E7B-431F-A17F-7B35D808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8D9-4104-4B1E-8131-B021450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1D1-5F58-420E-B6DC-D290805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214-2F28-4ED1-AC86-962A243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C26-2599-494E-9388-81A286D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050-E055-4E08-AF05-6F9F843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FD51-3C86-42C7-9F11-CC25CFC92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9520-F48F-42C8-A957-23720B47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g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se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9144000" cy="244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Each little flower that ope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purple-headed mounta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e cold wind in the win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God gave us eyes to se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3352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ch little f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p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urple-he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ld w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03:34Z</dcterms:modified>
  <cp:revision>9</cp:revision>
  <dc:subject/>
  <dc:title>PowerPoint Presentation</dc:title>
</cp:coreProperties>
</file>