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F8C-3F58-4BCB-A953-902885FB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9AA-836E-461F-8CE4-5F4A273F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627-BC41-47C6-B282-775DA27A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E46-F560-4C98-8254-9CB73C2C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EA60-E0D3-4584-AF27-FFD16CD7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ECE-96F7-49C9-98A3-95AF1B6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B4B4-938D-43E5-9C5E-63B1047C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41D-7636-42F2-A842-A80E5A1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3F10-2F86-4704-9FED-294FD74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22A-33F1-4970-8AAE-52817CF6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8C9F-1F01-49ED-9C5E-4C670E7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824-20FB-428C-971B-7814A1F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11A-99B7-45E2-9BE0-E095BA8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851B-1AC7-40C0-8086-6AB5A9A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DA89-A554-41AE-A2D8-AF90F36D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6952-5783-46A4-9E56-02E9427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A04-7942-4F8E-B12B-A63BC03A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726-FE44-4A12-88BB-E868410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57F-AA5E-4640-9F12-6D4CE68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6F8-894C-413A-8AEE-B83F03A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747-865B-4EDF-A626-A8380AEF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B57-DC54-46BD-93FC-A26FF22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5B6-D4BB-4133-A08B-D393E72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85D-3A40-486B-953D-1DD29CD5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D44-3099-4E05-BC18-75D81B263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A16-5E9F-4736-BEB3-9AAE86910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96080" y="763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066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expected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 and sins releas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32120" y="6858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8088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ol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arth thou art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30492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forev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br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2860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meri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thro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28600"/>
            <a:ext cx="60199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find our rest in the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52280"/>
            <a:ext cx="6172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’s strengt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nsolatio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hope of al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thou art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joy of every longing hear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152280"/>
            <a:ext cx="61722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reign in us forev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y gracio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br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52280"/>
            <a:ext cx="6172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ne al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ufficient meri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us t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ious thro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808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 and consola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 the earth thou 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 to deli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 in us for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 kingdom bring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7621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 eternal spiri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 sufficient meri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 thy glorious thron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ected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s releas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832120" y="10810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o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arth thou 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bring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thro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6002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832120" y="10810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1-27T02:21:06Z</dcterms:modified>
  <cp:revision>51</cp:revision>
  <dc:subject/>
  <dc:title>PowerPoint Presentation</dc:title>
</cp:coreProperties>
</file>