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68C-F4DD-4012-9FFB-0038CD9B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7FB-6EFE-4759-9CD4-401F936E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EB7-7B5B-43A1-9FDE-38316800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50-9FE3-4EB3-A74E-A0DC4A29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484-2F39-4830-A8C1-F1BB9C9C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3CE3-6D3F-43B7-9AF5-71C34A5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B2E-F87A-4BBB-94D2-804F4C0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754A-D0EE-4CDA-8662-CF7A504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6E7-9517-4A70-BFC3-4F7C8FB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E299-E70A-48BF-A61D-CEA3C4ED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D987-843B-4630-B68D-0D28CED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35A-1F2F-4E62-9B9D-3D7636C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216-6684-4C83-93FF-45904A6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3664-64DE-481D-AC98-F683E8D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753-DAE3-446C-949B-BA221B29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CFA-BF88-41AD-97A9-6ACF49F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276C-8EF3-4A80-A0DF-943A9EF5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969-0524-498E-B6A3-EEADC7BA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2B6-0C0C-4B8D-9354-3E9508A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FAE-650D-4CCD-9E8F-478A3854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331-D44A-44AE-AB83-7E96FE6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4E7-7CC0-48D2-A880-B77A742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908-3F96-4F25-812F-DCB631C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A71-8015-4BB2-8C34-691EC15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F9B-4E3C-4EC3-93D5-B3C3A281A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896-ABE9-4371-804D-C5ABBFA71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482120" y="11160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819520" y="1812960"/>
            <a:ext cx="6324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82120" y="9144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2946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8120" y="990720"/>
            <a:ext cx="6095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429000" y="91440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8088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76720" y="106668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352680" y="990720"/>
            <a:ext cx="5791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76720" y="30492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76720" y="609480"/>
            <a:ext cx="58672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429000" y="8380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76720" y="9144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429000" y="10666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29000" y="380880"/>
            <a:ext cx="5715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6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7:29Z</dcterms:modified>
  <cp:revision>17</cp:revision>
  <dc:subject/>
  <dc:title>PowerPoint Presentation</dc:title>
</cp:coreProperties>
</file>