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245-62AE-4113-9A50-A5AA12D8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28B-736C-46BA-BE23-9A14879E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311-4BC5-4951-A75F-6B1D0247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ED5-531D-4590-ACCD-B955719C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A02C-133E-46AF-8A98-9E0E08ED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3904-A4A1-4356-B404-115F8ECE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976B-74D9-44BF-900E-61D3E3C3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B047-408A-4402-8E59-509B635D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1847-EE91-4577-B2E5-4A462D5D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EB7E-D823-4C20-8784-A3F1138E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FCFA-0F26-46FA-801A-2A76B87A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DBD-8E04-4ED2-BB06-8FB6228F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C1F8-A535-4C12-ADEA-88D2B612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D450-32F4-441A-BCDA-7533C440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707E-5BDD-440C-9B71-3CEA5D82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79B7-C2C2-4481-9209-42287CFE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9F04-0A77-48B1-B466-E2A45C38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5D6-9F26-48C6-BBB9-A48179E6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417-E23B-45FC-A131-02107675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509-2F48-4798-81D0-2486F2E8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F8B-70E6-406F-BE77-367D39AB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692-9D2B-4E7C-817C-FDC20070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3BC-7F50-44C2-8E58-0733A0B7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175-5960-43B2-99FC-538932CB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AA73-D108-4200-A022-E6AEFDAEF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01A7-80DE-437B-BCAF-E4304BE4B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fant Holy, Infant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nfant holy, infant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is bed a cattle st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xen lowing, little kn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2040" y="1181160"/>
            <a:ext cx="65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olish carol; trans. by Edith M. G. Reed, 1925 (Lk.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ift are w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els r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dings bring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locks are sl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pherds kee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gil till the morning 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w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d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dings of a gospel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us rejoic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ee from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s voic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et the morr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fant Holy, Infant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Infant holy, infant low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or his bed a cattle stall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xen lowing, little know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is Lord of 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2040" y="685800"/>
            <a:ext cx="65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olish carol; trans. by Edith M. G. Reed, 1925 (Lk.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wift are wing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els ring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idings bring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Flocks are sleep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hepherds keep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vigil till the morning ne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aw the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eard the st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idings of a gospel tru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us rejoic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ree from sorr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s voic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reet the morrow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wa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orn for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23T00:43:22Z</dcterms:modified>
  <cp:revision>76</cp:revision>
  <dc:subject/>
  <dc:title>PowerPoint Presentation</dc:title>
</cp:coreProperties>
</file>