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17C-CB42-4922-A1FB-3ACB5F49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DA9-6457-4F70-BBAA-7A92A604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5DB-1BD9-4CDD-96B3-BF60964E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6BB-26FC-475B-B016-E59244A9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4D0-2E1A-4DFC-AD11-FCB550F5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72B-3C3D-451A-85E5-4A9DA256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8F2-6038-43BA-8705-4B04D0AF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EBC-88FC-49F8-AF2A-3493DDBE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269-E7B0-4281-AC3D-6F6FFFF1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02F-C09F-4839-A85D-1821B499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281-E682-4B09-831E-2A68C7C6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AEE-DEC0-45E1-BE27-06CDC668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7CD7-C9DC-42B9-B158-13BC5DEA7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Are We Yet A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And are we yet aliv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see each other’s face?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ry and thank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Jesus gi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his almighty grace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reserved by power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ull salvation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 in Jesus’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we jo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sight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troub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we s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mighty conflicts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ghtings wit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ars with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we assembled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et out of all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brough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he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elp aff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des our lif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n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our bo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redeeming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av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utterm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can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et us take up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the crown ob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adly reck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l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e may Jesus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9:16Z</dcterms:modified>
  <cp:revision>58</cp:revision>
  <dc:subject/>
  <dc:title>PowerPoint Presentation</dc:title>
</cp:coreProperties>
</file>