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CC6-F9F3-4A8A-AB47-D8B37DFE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93C-172A-4925-8050-049B5874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FE2-E482-4F8C-A42E-73FC56DA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E80-E640-483E-B933-52AB4552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252-61EA-4286-87BA-33A79CBD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723-5326-4806-9B06-FEC0D767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5B0-75A0-40AA-9AA9-21720B06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547-08A0-42BE-A3F7-5D38DDF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8B8-9204-408A-9DA5-57EBFEA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08A-FAAE-4BE3-8514-028099B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D23-C92F-4160-87EB-2C3881ED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07D-1609-41F1-A43A-64E1D5E4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F50-475B-46C8-8767-7F1331697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 there b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understa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nations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be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2000" y="1077840"/>
            <a:ext cx="325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rances W. Davis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pen our li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our minds to p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the door of con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ing into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ish the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 angry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mbs and hu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 fight for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allow ou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 deaths of marty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ir holy free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 be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Your kingdo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 turn to langu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speak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 never f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there b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our hearts to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 way of t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8:01Z</dcterms:modified>
  <cp:revision>10</cp:revision>
  <dc:subject/>
  <dc:title>PowerPoint Presentation</dc:title>
</cp:coreProperties>
</file>