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98C2-72C2-4096-880D-AF1F9993A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AFE1-6FE0-4E55-9597-B592B9D8B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B65D-338E-455C-990A-D9630CADB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1163-E8A7-4EC7-9B19-38392C83A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9147-5C29-49FC-87AB-F92E32ED7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5678-7048-41F6-93B1-4A7CC25D6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6138-49F2-407A-ABD8-DEA115D55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D4D5-F860-407D-BC1B-54B657893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1634-9B25-4B36-9C32-A00C7A4AE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1193-5FDC-487F-9D4F-0295E729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7605-76B7-47E5-B921-1A79957C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8D6E-FDF5-40D8-ACF2-F34EF673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83ECC-019B-4EDC-B3B8-2E244967B0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n Time of Ill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6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ime of Ill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666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Georgia Harkness, USA, 20th c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760" y="1905120"/>
            <a:ext cx="8610480" cy="45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O God, who dost forgi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our iniquities and hea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our diseases, w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cry unto the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43 Whitmore &amp; Stone, renewed 1970 Georgia Hark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187280"/>
            <a:ext cx="88390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Our strength has been brought low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and we know not wha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the future holds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In our bodies, there is pain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in our soul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anxiety and unre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455760"/>
            <a:ext cx="8839080" cy="594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If it may b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restore us to health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We ask no miracl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of deliveranc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and if in the order of natur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our suffering must continu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help us to accept i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without rebell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If it must lead us towa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the valley of the shadow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help us to fear no evil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but to go bravely int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thy nearer presen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370160"/>
            <a:ext cx="8839080" cy="413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In thy good keeping, all is well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Into thy hand, we comme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our bodies and our spirits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Do with us as thou wil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09:42Z</dcterms:modified>
  <cp:revision>154</cp:revision>
  <dc:subject/>
  <dc:title>PowerPoint Presentation</dc:title>
</cp:coreProperties>
</file>