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6196-8470-427D-8474-2B935123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3D5-9E97-4820-9D4B-CBF539FC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EB69-01F6-4108-BC08-BF366C0A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5265-FC39-46CA-9631-B2CED1EC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38E-3EBF-41C5-AA83-0E03207B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C58-8F39-462A-80C2-63BB5912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EF57-0414-46EC-BFF2-B0C9CF87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195C-FF6B-4CAD-AA7D-3C67303C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9DF6-D1DA-487E-B2C5-44214A4B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7B6C-77F3-4BEA-B996-4E63678D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492D-5CA6-4A79-9AE3-2C40774E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B779-76AD-4493-BA24-587A16C5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8727-727F-436D-B3EB-1F094C200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Lover of My So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lover of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to thy bosom f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he near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ers ro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he tempest still is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ver of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78920" y="990720"/>
            <a:ext cx="5126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harles Wesley, 1740 (Wis. 11:26)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de me, 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, h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 sto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is p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 into the haven gu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receive my soul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ther refuge have I n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gs my help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on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, ah! leav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support and comfor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ver of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y trust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is st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y help from thee I br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ver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fenseless h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hadow of thy w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ou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t all I w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than all in thee I f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the fallen, cheer the fai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the si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d the bl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ver of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and holy is th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all unrighteousn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se and full of sin I a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full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 and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Plenteous grac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is f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o cover all my s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ams a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and keep me pure wi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ver of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ountain 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ly let me take of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 thou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 to all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9:02Z</dcterms:modified>
  <cp:revision>19</cp:revision>
  <dc:subject/>
  <dc:title>PowerPoint Presentation</dc:title>
</cp:coreProperties>
</file>