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8FFA-CCC1-4A2C-97B9-6172FEE6E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5C61-0AFB-4D48-9197-503DC2CC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1EF8-A1E9-4550-964A-02A2202A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BF86-21E3-4189-B249-1D11DEF0F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BC47-E058-4B4C-A01E-27EF8704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5825-30C9-4AF4-9F5E-A2F0D1EF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EF19-0082-4638-B20F-344F5F67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9C1C-1609-48E7-83E7-03920558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6A8D-AF61-47D2-BD89-9D3674C9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4147-1535-4CAE-80C5-C9036588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73D4-10D4-4827-BCF3-52CDC5D8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4D9D-5304-46A9-AE97-573E0C25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1622-F319-41B2-8209-C853A915F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ary of All Trumpe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6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eary of all trumpe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ary of all ki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ary of all songs that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mise, non-fulfill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Inter-Lutheran Commission on Wor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ry of All Trumpet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83000" y="1077840"/>
            <a:ext cx="4019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Martin Franzmann, 1971</a:t>
            </a: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ould 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hrist, one so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ould join in sing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great music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re and str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with heaven is ring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aptain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wly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rvant King, your dy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de us shea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oolish s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de us cease deny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ry of All Trumpet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mpet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Spirit’s br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each he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ll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your self-giving d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l us all to foll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o the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your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mmon all the liv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mmon us to live by l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ining all by giv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ry of All Trumpet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ffering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e may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iumph in surrend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ing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e may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rtners in your splend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02:42Z</dcterms:modified>
  <cp:revision>11</cp:revision>
  <dc:subject/>
  <dc:title>PowerPoint Presentation</dc:title>
</cp:coreProperties>
</file>