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FBEC-2D18-4E91-8081-D21EA649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580-1342-4690-836A-E7015DFC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6B2-9D1D-418B-B754-0B5DD52B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E56-A54B-43F0-A6DB-58E6DEFA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54A-333A-465D-957B-8B5E8709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1F7-04C3-436A-A12D-18A3DA5A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6E1-4B9F-4D6D-B50C-2D11CE65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69BF-6747-4121-AD06-1E7CB058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981-C20A-4FEC-88F5-143B52F7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599-238D-491F-B88C-9DF04E1F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F69-74E6-46D8-A35A-097142C9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EDA-6F7F-4391-AF27-9CF9B18C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3E58-BD72-4F59-95D0-5440321D4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hold a Broken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6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ehold a broke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orld, we pra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re want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ar increas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5 Hope Publish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1080" y="1066680"/>
            <a:ext cx="717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imothy Dudley-Smith, 1985 (Is. 2:1-4; Mic. 4:1-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ose in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gr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king dre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Bring, Lord, your bet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to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dom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eace with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ace eterna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41400" y="1859040"/>
            <a:ext cx="5461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ur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ci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m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 dream of s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ickles b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pears to scy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3960" y="2239920"/>
            <a:ext cx="6976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eapon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arfare sp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of peace re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re every ba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ag is fur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mpet stil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19840" y="1859040"/>
            <a:ext cx="63043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wars shall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m fulfil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 force of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here preva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justice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shall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ftiest visions fa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ream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 Prince of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ed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st world to rede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8:29Z</dcterms:modified>
  <cp:revision>17</cp:revision>
  <dc:subject/>
  <dc:title>PowerPoint Presentation</dc:title>
</cp:coreProperties>
</file>