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1678-B83B-4F49-926A-DD58C3C0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4F4-F3DE-4F78-93DD-FED2AEF8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91A-E7E5-4F92-AF2D-EAE46685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A6C-012B-48D6-A37C-7A03F90D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7C2-EC3E-422E-BDD0-A76F2FDE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D0C-6F25-44D5-B497-FCCE47ED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1572-1ED4-4D2B-8E85-C1C92481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67A-7AC1-458B-A94B-6204E2CD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2FC-DAB9-4AE5-B2E6-223980A2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EBC1-94F8-4994-930D-D7718AAE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C51-3F89-4E67-8F16-8738920F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CF8-5B9C-4BE6-921B-26EE316E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213E-AE18-4850-BB38-75A1D3B03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gels from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alms of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ngels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alms of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ng your f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ll the ea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5080" y="1562040"/>
            <a:ext cx="66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ames Montgomery, 1816 (Lk. 2:8-20; Mt. 2:1-12; Mal. 3: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Saints, befo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ar b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ing 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ope and f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ddenl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de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te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appea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who sa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eation’s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ssiah’s birth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hepherds,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eld ab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ing o’er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ocks by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ith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now res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nder shi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infant ligh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ages, le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contempl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er vis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am af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k th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ire of nati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have s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tal sta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9:21Z</dcterms:modified>
  <cp:revision>67</cp:revision>
  <dc:subject/>
  <dc:title>PowerPoint Presentation</dc:title>
</cp:coreProperties>
</file>