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A5EF-EDEB-40C2-BDB6-A7A5E02C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9D56-5500-42F9-B71D-D05943AE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A46A-E7C9-40BA-8515-FE656886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8648-9B62-4EBC-AA1E-E3DE4D04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59C3-B372-4315-A4A5-BF539136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C4B9-307B-488D-95FC-D4CEC271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02DB-D407-4297-B8CF-2BFD54DB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0DD0-D91F-47E8-8817-31AFD420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C45D-A420-42C4-BE5A-31957D4C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8A4A-1E2B-40EC-BA2B-8834468E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AFB8-45C3-4913-A4EF-929EAFF6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DC23-D6E3-4409-B36D-1133212C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A03E-CAF5-44A7-9679-BFA0E6CF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3FEF-D089-40E4-816F-5F90D655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8FEF-5AB0-4407-8711-F7489891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EAF1-466C-437D-A76C-0C091CBA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AC6A-848E-4CE0-80E5-CD12C27F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961D-4D4F-4CB2-A493-B1D5A973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811D-51FD-4D44-802A-77CDC650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76B-0E79-4CEE-BCE0-D2E742ED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2A64-FF77-46B7-872D-5A9FD96B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560-324E-4ACF-98EB-EDA33C7D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A68-A706-482D-A0C9-EC6377C1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9141-E466-4763-A567-EB53AE50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9AA5-0D74-4781-B087-3FFA99CF0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F310-59BD-4F4E-A9DD-7C53871D8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ng of Mary, Pure and Low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ing of M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e and low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iden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e and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of Mary, Pure and Low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9560" y="1092240"/>
            <a:ext cx="39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Roland Ford Palmer, 19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urnful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ll of s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y heart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in was t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ous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rewar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 cr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 ha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e to 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 recor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bl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l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1276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ng of Mary, Pure and Low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371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ing of M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e and low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iden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e and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of Mary, Pure and Low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9560" y="914400"/>
            <a:ext cx="39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Roland Ford Palmer, 19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419720"/>
            <a:ext cx="9144000" cy="2435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89856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of God’s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 most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ecame 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ttle ch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5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8380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airest child of fairest moth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the Lord who came to earth, Word made flesh, our very broth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akes our nature by his birth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419720"/>
            <a:ext cx="9144000" cy="2435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144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Sing of Jesus, son of Ma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the home at Nazareth.              Toil and labor cannot wea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ove enduring unto death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of Mary, Pure and Lowl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9720"/>
            <a:ext cx="9144000" cy="2435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33520"/>
            <a:ext cx="9144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onstant was the love he gave h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ough it drove him from her side, forth to preach, a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al, and suff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ill on Calvary he die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267080"/>
            <a:ext cx="9144000" cy="258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38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Joyful mother, full of gladne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thine arms thy Lord was borne. Mournful mother, full of sadne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 thy heart with pain was torn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of Mary, Pure and Low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267080"/>
            <a:ext cx="9144000" cy="258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8985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lorious mother, now reward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a crown at Jesus hand,          age to age thy name record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hall be blest in every lan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267080"/>
            <a:ext cx="9144000" cy="258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of God’s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 most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ecame 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ttle ch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rest chil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rest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Lord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to ear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made fle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very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s our n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ing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 of M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Nazare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of Mary, Pure and Lowl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il and lab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not we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endu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stant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 he gave 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it dr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from her si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th to preach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, and suff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on Calv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Joyful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ll of gl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ne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ord was bor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of Mary, Pure and Low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5-12T01:39:25Z</dcterms:modified>
  <cp:revision>27</cp:revision>
  <dc:subject/>
  <dc:title>PowerPoint Presentation</dc:title>
</cp:coreProperties>
</file>