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332-156D-4C71-8FE1-53A238FD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81F-6E8B-4A7C-8060-BA84A29B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B25-B5A7-427B-BC0F-CCDE27BD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05E-3220-4D0D-838B-2939FBA7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B8F1-6DCA-4B14-9BEF-A1323579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6B78-5AD5-4734-85DB-EB7FD203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A03B-1F76-4E23-B012-70B1CD70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98E1-68A0-4842-82DC-0ACE88A1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79F7-F806-463D-AE11-853C22AB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FFAF-3BA0-4A34-8E76-AD46FE1B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6B35-5E1A-4B95-B9DE-69F2FFBE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D9F-C6A6-4893-9328-D2EA4380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6D66-7CC8-401E-8C5A-81C1218A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3799-BEDD-4498-8556-217125F3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E4EE-69D4-4AC3-B709-3639E378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6893-8E86-4444-A13C-CBC2CF24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5CF5-48F9-4CBB-81E4-1CFC3594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B6F-EE0A-4184-841F-7CFE2539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195-9B9D-43F6-ADBF-A58F267F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021-37BC-4D3C-B55B-C60E878A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461-C456-4AD1-A7A2-7F06B9C0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421-06AF-4AAD-B4C4-D0F2A47B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B5FF-A951-404F-A84C-2934F359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F0D9-D4F0-494C-9680-02DC136A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1CB9-12DD-4679-933F-761D1D056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4734-5B61-4F94-AB05-91D5E646B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ppy the Hom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God Is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9092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Happy the ho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en God is the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love fills every breast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07920" y="1600200"/>
            <a:ext cx="3727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Henry Ware, Jr., 1846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one their w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their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90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ppy the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Jesus’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weet to every 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children ear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his f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rents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593640"/>
            <a:ext cx="883944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appy the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prayer is he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t to r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parent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ed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 priz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let u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omes ag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o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ill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one their w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their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ppy the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Jesus’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weet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children ear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his f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rents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appy the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prayer is he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t to r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parent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ed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 priz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let u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omes ag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o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ill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ppy the Hom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God Is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82880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Happy the ho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God is the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love fills every breast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07920" y="1447920"/>
            <a:ext cx="3727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Henry Ware, Jr., 1846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5-12T01:16:09Z</dcterms:modified>
  <cp:revision>15</cp:revision>
  <dc:subject/>
  <dc:title>PowerPoint Presentation</dc:title>
</cp:coreProperties>
</file>