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B29-1BB0-4259-B72E-F3E06BEF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339-7330-48F6-A16D-D2E64ED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3EE-502B-4C4E-BB33-14505020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F1F-2290-40FB-B3D9-70284B00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E384-720F-4910-BEA9-EFA3DBA2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B7A-F774-4662-B9CA-65989DF9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389-28B1-435A-8287-7B27B18B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FC3-E375-409D-A010-B4EEC8F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4FB-96AF-4E6F-A30B-0536A72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8079-8F4D-453A-8F55-7CEC10B6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E545-5097-42BA-8D41-56D5422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E63-8ED5-40AA-BC9F-98F3180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DEC-16F2-43FC-A726-AC1B2EA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B978-7172-4B0C-A964-4F1E219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B31F-D7C2-4C52-A0C6-E6C82F7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51E-09BC-4417-A2FD-E0002548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EF4-FC54-4177-B641-2FACCBDC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CCC-D7D0-4251-88F0-9BB52B4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4B8-0272-47D7-9C50-D7DD313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D97-8192-4B09-9ABF-93BFE054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709-B978-4EFF-9EA9-4818FBBC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76C-874F-44B5-85DD-69B4A53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DF6-5473-415D-AFC4-CC9D422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CCC-1021-4B18-85FA-62E6AA1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7A3-CCBD-486D-9789-55C46B0B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DF8-7F05-4AA0-9ADB-EE9B40AD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joy, my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2080" y="160020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c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friend de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’s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I’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tches o’e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and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and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ust him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lee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a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 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life, my joy, my all;                    he is my strength from day to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out him I would f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5960" y="83808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 am sad, to him I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other one can cheer me so;    when I am sad, he makes me gl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friend in trials sore;                     I go to him for blessings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gives them o’er and o’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sunshine and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lden grain;                           sunshine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e to him I’ll be;                     O how could I this friend den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’s so true to me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him I know I’m r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atches o’er me day and night; following him by day and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ant no better friend;                     I trust him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’s fleeting days shall 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with such a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that has no end; eternal life, eternal jo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heer me s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ials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lessing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ive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nd o’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hine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e to him I’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7-11T00:24:14Z</dcterms:modified>
  <cp:revision>9</cp:revision>
  <dc:subject/>
  <dc:title>PowerPoint Presentation</dc:title>
</cp:coreProperties>
</file>