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102-C625-4F6F-AAE0-05B0A22B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61C-D06D-4C3B-88FE-F839211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14D-9EBB-44D7-9159-19D14360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2E3-B538-4B4C-B533-C9EE8CDA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B51-C272-49E9-993C-C0E2341A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691-995B-4E0E-9AF6-DDB5443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F98-45B7-4881-8864-52C1B234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4F6-371D-4C04-A187-47DB2B69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CE9-2AD6-47E9-BEAF-572D1BE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4C5-D5A9-46A6-9567-2FAC22F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4EF-8725-4464-A44F-E40C500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41C-4479-4B75-98E3-6AE3BB5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2EA3-B1FE-4E57-842E-EF457EF9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u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91540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just as we look into a mirr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see any soiled sp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n our f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2 Harper &amp; Row, Publisher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u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066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re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let us look to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order to underst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ings we have done ami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like a reed sha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wi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e are inexpressibly weak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eave us not to oursel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to dwell in out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guide our though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c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6:12Z</dcterms:modified>
  <cp:revision>11</cp:revision>
  <dc:subject/>
  <dc:title>PowerPoint Presentation</dc:title>
</cp:coreProperties>
</file>