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F7BC-7817-4D3A-893A-42B160B5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44DC-E406-437C-A83F-7CBA025E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5A5-3F5A-47EE-A798-28B77D50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E8D8-D69E-4589-8C7B-9E071D6E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5D77-AB9D-4A5E-B6AF-C3569300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6D6-3B62-4F4A-8A9D-480DA245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5F8-4BA6-411B-95E1-3748ABCA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F05-80C1-458C-83E8-CF3B8E48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F820-F900-446B-8526-34E9E1A9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4F6E-FA71-447A-9280-E6C56B35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92E-42FE-446A-97D4-936EAAF0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AD2-9DB7-4662-AEC6-CEE11CE0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5D4E-C4A7-4253-8449-7CE5ED632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Breath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 Breath of Lif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ome sweeping through 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revive your chur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life and power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Breath of Lif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87960" y="1143000"/>
            <a:ext cx="586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essie Porter Head, 1920 (Acts 2; Jn. 20:22)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reath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cleanse, renew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t your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et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Win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bend us, break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humbly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fess our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Breath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in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nderness remak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ive, rest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we pl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Breath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breathe within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ing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ll and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Breath of Lif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love of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fresh to win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ive your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5:40Z</dcterms:modified>
  <cp:revision>14</cp:revision>
  <dc:subject/>
  <dc:title>PowerPoint Presentation</dc:title>
</cp:coreProperties>
</file>