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5A7-F318-4982-AE63-9BF10B51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4BE-FC71-4216-8A2E-74902FA8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C29-9704-4864-8525-6C817331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611-29F8-4839-B940-90EB742B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6615-D3CA-4568-BF41-64059E0E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827A-2EB4-4AC2-AF78-FBFEF475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B967-3895-429B-9A46-8C352F04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F8CD-3EC1-4671-878E-006F104E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3ACB-8589-4861-A119-A7AA79E9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5149-0AC4-42FD-8103-CD0B1EC7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B172-7EEC-4CE9-86E5-DB47E943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686-93F0-433A-9A65-8A2B3C50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320A-565A-410C-9EC0-4AFA6A1F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4784-EE71-49F8-B45B-8EC3E275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F485-85A1-41A1-BD4E-404D749D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4FCC-A38A-439C-99CC-786506D6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D8C3-AE7E-41F0-AEB7-E7084544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F76-0F58-48F6-8084-FB65FA7E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B45-875E-466C-8C2F-1A8F7A85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95D-094F-4A2E-9C71-590B39C4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D51-AD63-4D07-A5C8-826833C6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944-82FB-47B9-A2E9-AE2CFB83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FB9-870C-4D5D-96CF-ABAABA5E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9F7-7A0B-45A1-B472-F4F40335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2658-64B1-481A-988F-F671D49B4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17C4-2056-4BC8-90A8-E33384FA5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3520" y="609480"/>
            <a:ext cx="822960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1. O come, O come, Emmanuel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and ransom captive Israel, that mourns in lowly exile here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until the Son of God appea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28736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820800"/>
            <a:ext cx="8915400" cy="50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WISDOM, who came fo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from the mouth of the Mo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High, reaching from end to en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ordering all things mighti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sweetly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teach u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way of pru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, thou wis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rder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r and n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the path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nowledge s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ause us in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s to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28736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820800"/>
            <a:ext cx="8915400" cy="574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ADONAI and Leader of the 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house of Israel, who appeared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Moses in the flames of the bus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gave him the law on Sinai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 with your outstretched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rm redeem 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come, 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Lord of m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to thy trib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Sinai’s he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ancient times o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ve the l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cloud and majes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28736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870120"/>
            <a:ext cx="8915400" cy="574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ROOT OF JESSE, who stands for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 ensign of the people, bef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whom kings shall keep silence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whom the Gentiles shall mak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ir supplication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deliver us and tarry no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289080"/>
            <a:ext cx="6019560" cy="3141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come, thou Ro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 ensig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people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thee rul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o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rcy c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28736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455760"/>
            <a:ext cx="8915400" cy="574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KEY OF DAVID and Scepter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house of Israel, who open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no one shuts, who shuts and no 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opens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 bring for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from prison the captive who si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in darkness and in the shadow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dea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O come, thou K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avid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pen wid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ly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aptives from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ison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quer death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ep mis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29528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187280"/>
            <a:ext cx="8915400" cy="440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DAYSPRING, Brightness of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light eternal and Sun of justic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 enlighten those wh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sit in darkness and in the shadow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dea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O come, thou Day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che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b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ice 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perse the gloo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ouds of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ath’s dark shad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t to f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6. O come, thou Dayspring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cheer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our spirits by thy justice here; disperse the gloomy clouds of night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and death’s dark shadows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put to f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28736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371600"/>
            <a:ext cx="89154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KING OF THE GENTIL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their Desired One, Cornerst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at makes both one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 us whom you forme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dust of the ear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7. O come, Desir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s b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heart and m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dust thou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 forth to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ly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28736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1178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come, O come, 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ansom captive Israe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, O Come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9th cent. Latin; trans. st. 1, 3, 5ab, 6cd, 7ab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40; st. 2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enry Sloane Coffin, 1916; st. 4, 5cd, 6ab, 7cd, Laurence Hull Stookey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44792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mourns in lowly exile 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the Son of God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5228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52056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, thou wisdo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n hig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order all things far and nigh; to us the path of knowledge s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cause us in her ways to g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30492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289080"/>
            <a:ext cx="6019560" cy="3141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O come, O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Lord of m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 to thy tribes on Sinai’s height  in ancient times once gave the la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n cloud and majesty and aw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38088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8985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O come, thou Root of Jesse’s t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 ensign of thy people be;       before thee rulers silent fall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on thy mercy ca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907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5. O come, thou Key of David,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open wide our heavenly home. The captives from their prison f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quer death’s deep miser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30492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6. O come, thou Dayspr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che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by thy justice here; disperse the gloomy clouds of n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ath’s dark shadow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ut to f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4413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7. O come, Desire of nations bi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in one heart and mind. From dust thou brough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us forth to lif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 us from earthly strif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4920" y="228600"/>
            <a:ext cx="8610480" cy="3522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7. O come, Desire of nations bind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all peoples in one heart and mind. From dust thou brought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us forth to life;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deliver us from earthly strif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21178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come, O come, 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ansom captive Israe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, O Come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9th cent. Latin; trans. st. 1, 3, 5ab, 6cd, 7ab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40; st. 2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enry Sloane Coffin, 1916; st. 4, 5cd, 6ab, 7cd, Laurence Hull Stookey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44792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mourns in lowly exile 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the Son of God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228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52056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, thou wisdo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n hig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order all things far and nigh; to us the path of knowledge s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cause us in her ways to g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30492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O come, O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Lord of m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 to thy tribes on Sinai’s height  in ancient times once gave the la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n cloud and majesty and aw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38088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8985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O come, thou Root of Jesse’s t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 ensign of thy people be;       before thee rulers silent fall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on thy mercy ca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9907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5. O come, thou Key of David,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open wide our heavenly home. The captives from their prison f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quer death’s deep miser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289080"/>
            <a:ext cx="6019560" cy="3141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30492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6. O come, thou Dayspr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che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by thy justice here; disperse the gloomy clouds of n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ath’s dark shadow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ut to f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4413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7. O come, Desire of nations bi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in one heart and mind. From dust thou brough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us forth to lif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 us from earthly strif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, O Come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905120"/>
            <a:ext cx="8915400" cy="466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O EMMANUEL, our King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Lawgiver, the Expected of the 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nations and their Savior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save us, O Lord, our G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s. 1, 3, 5ab, 6cd, 7ab © 1940, 1943, renewed 1981 The Church Pension Fund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sts. 4, 5cd, 6ab, 7cd © 1989 The United Methodist Publish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ouse; antiphons © 1962 Sisters of St. Bened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9th cent. Latin; trans. st. 1, 3, 5ab, 6cd, 7ab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40; st. 2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enry Sloane Coffin, 1916; st. 4, 5cd, 6ab, 7cd, Laurence Hull Stookey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come, 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an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ptive Israe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mourn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wly exile 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the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12-20T01:31:51Z</dcterms:modified>
  <cp:revision>65</cp:revision>
  <dc:subject/>
  <dc:title>PowerPoint Presentation</dc:title>
</cp:coreProperties>
</file>