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7196-AA0B-4706-AFD9-80C107B90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6952-A12F-44DA-9913-9DA854A1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BF11-E0EF-40C0-935C-A7C7430D1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9842-66B3-4376-B252-4C1B236F7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DE1C-0BF9-451B-99B8-C15105E9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5CB6-1E0B-4687-B96A-B22064DB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5895-2ECC-431D-8EB5-53ADC844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77E6-1430-4B8F-98BF-FE8ACD04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2465-36D2-4D3D-9F1E-5A6F2BEF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F312-3D72-46B9-B300-C74A2FBB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97F7-DA52-499F-A5B0-D8846789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ECE5-8EAB-44C7-9062-50E761B4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7BF9-D2D3-4787-8F76-9D06F03E0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old December Flies Away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En el Fr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ío Inver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3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715000"/>
            <a:ext cx="9144000" cy="75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ans. © 1978 Lutheran Book of Worship;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panish trans. © 1987 Skinner Chávez-M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d December Flies Awa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5382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atalonian carol; trans. by Howard Hawhee, 1978;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Spanish by Skinner Ch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ávez-Melo, 1987 (Is. 35:1-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4600" y="2438280"/>
            <a:ext cx="8241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. Cold December flies aw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t the rose red splendor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pril’s crowning glory break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the whole world wond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El F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Invernal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En el frío invern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l mes de diciemb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 capullo del ros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ota en un peseb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el calor primaver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ce al mundo despert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qué fragante ol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 tan bella flo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 esa ro-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 esa ro-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 esa rosa anhel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l jard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 del ciel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El F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Invernal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Las tinieblas del ay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uyen prontamen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a mañana deja 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l resplandecient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nocturna oscurid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sca el mundo clarid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qué felicid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ta Navid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a la lu-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a la lu-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a la luz divin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 mundo ilumin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El F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Invernal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Va el capullo a florec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sa blanca y pur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 fragancia va a ofrec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toda criatur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290600" y="1676520"/>
            <a:ext cx="67705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e aroma sin igu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va vida da al mort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 de Dios el d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mo galardó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al mun-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al mun-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al mundo ha da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 su Hijo ama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46720" y="1295280"/>
            <a:ext cx="1839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040" y="1523880"/>
            <a:ext cx="734652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 the holy unseen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t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ch bears the flowe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blessed t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ooms the reddest flow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341960" y="1523880"/>
            <a:ext cx="1839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t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ooms the r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n love’s own gard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ull and strong in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3200" y="1066680"/>
            <a:ext cx="778716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In the hope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me of s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dows deep had falle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ay undern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yes were closed in sleep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d December Flies Away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6668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, when all see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st in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e the su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se golden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ings unending jo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ings the endless jo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2952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our hop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ghest hop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our hop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ight daw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n beloved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193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Now the bud h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to blo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world awaken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lily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rest flower dwe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wondrous fragran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d December Flies Awa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2193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t spread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e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mom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its bir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ts beauty live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flower it live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fl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t sprea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its heavenly bright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weet perfume delightf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53:08Z</dcterms:modified>
  <cp:revision>81</cp:revision>
  <dc:subject/>
  <dc:title>PowerPoint Presentation</dc:title>
</cp:coreProperties>
</file>