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F93-DE3A-4458-AC6D-DAE15D77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02D-8C11-44DB-B5B1-0848125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C2B-8A01-43A3-9C7A-3DF75BB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07B-FF70-4EFD-8FCA-08EF4D8C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0A1-D0FC-4DE1-9B55-D7A7478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996-5942-489B-8B44-F4846CD6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EEB-A5A0-4C42-8A39-178F6A93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58A-3A54-4F0F-B8A2-EB921CD8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5D9-7915-45FC-9B68-8D16603C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E10-D59D-458C-97A9-37A9394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FFA-AD35-4F42-B77E-E1ACE04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03A-8A43-48D1-BE43-7C733DE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B19-D245-42FE-8E2F-36821925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nely the Bo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nely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ing at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ed on a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y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0666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Kim; trans. by Hae Jong Kim; para. by Linda and Doug Sugano;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Hope Omachi-Kawashima, 1987 (Mt. 8:23-27; Mk. 4:35-41; Lk. 8:22-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Storms in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and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will aris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life’s wil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ful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and is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in contro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calm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comes to my lone soul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eemed so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aves so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ingle 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ed the deep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ght into the ga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e per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gers to all ass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rong winds a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ir 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tiny lone bo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s billow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aflo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elpless w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embling with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for help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ab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lp can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 i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mall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by my s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trust in th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my lif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Pleading fo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a sinner lik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to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Galil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save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a peaceful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erciful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imes of calm and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39Z</dcterms:modified>
  <cp:revision>17</cp:revision>
  <dc:subject/>
  <dc:title>PowerPoint Presentation</dc:title>
</cp:coreProperties>
</file>