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E908-B5A9-4C44-9476-376C808E4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EA62-13EE-46E9-A259-486372AC9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12B8-007E-4495-97B1-DA27D924C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0011-AD5D-4420-8C6C-A3830FF02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5781-65EC-45AD-9FA2-2559432F1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042A-6D50-4851-B729-CA98C6149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B00A-7F98-4D0B-80B5-8B6A7DC75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1603-725D-4112-B4E1-1776656DE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83C9-EAAD-4F13-B9A7-E0E56A4FF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899F-60DE-48A4-A1EF-39CD49831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1B0A-A467-4037-BABF-D4E2D920B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5CEF-5416-400D-B00F-D011EA46F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224AD-1894-411F-934E-A5270E1583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9320" y="228600"/>
            <a:ext cx="6476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ur Earth We Now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ament to S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772400" y="228600"/>
            <a:ext cx="137160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4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r Earth We Now Lament to S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362320" y="1600200"/>
            <a:ext cx="419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Charles Wesley, 175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2514600"/>
            <a:ext cx="89154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Our earth we now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ament to see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   with floods of wickedness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overflowed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1828800"/>
            <a:ext cx="8763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th violence, wrong, and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ruelt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ne wide-extended field of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loo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09480" y="1919160"/>
            <a:ext cx="853452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where men like fiend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 each other tea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in all the hellis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 rage of wa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552680"/>
            <a:ext cx="883908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2. As listed on  Abaddon’s sid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 they mangle their own fles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and slay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phet is moved, and opens wid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ts mouth for its enormous prey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1919160"/>
            <a:ext cx="86104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and myriads sink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beneath the grav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and plunge into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the flaming wav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3. O might the universal Frie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 this havoc of his creatures see!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id our unnatural discord en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declare us reconciled in thee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1919160"/>
            <a:ext cx="86104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Write kindness 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our inward part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and chase the murder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from our hearts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1552680"/>
            <a:ext cx="88390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4. Who now against each oth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ris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 the nations of the earth constrai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 to follow after peace, and priz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 the blessings of thy righteou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reign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1919160"/>
            <a:ext cx="845820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the joys o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unity to prov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the paradis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of perfect love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5:06:39Z</dcterms:modified>
  <cp:revision>148</cp:revision>
  <dc:subject/>
  <dc:title>PowerPoint Presentation</dc:title>
</cp:coreProperties>
</file>