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82D-D34C-4793-AD8A-6D6A03D6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4000-7E46-4B5E-A7DA-2EB61DA1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413-3354-41B4-BDC6-83EB8FF2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4B86-C8F5-42BB-922C-AA13B5E9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BA98-2EAD-404E-A3C5-04247B51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863A-8428-4037-A920-1D901CA5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EBA2-6B77-42E9-9500-1E75D502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3BC0-5252-44A0-8C1D-0F742457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D577-9C0E-414C-AC13-23DFB1D0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4043-A8E4-4ABD-8655-2E9D24EF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25FB-034C-4C30-863E-0342E015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06D-08F0-4655-A597-5D149021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1C99-2F49-4CFA-A697-D218A5FD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58BB-F5AF-4966-B95B-D98BACF3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E4A1-9952-4614-A3AE-97CD5A8B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197B-D635-4AAD-958B-C457340E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CA37-3FD9-480A-B963-0DADFE22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F33B-4ECD-4C35-86A4-974BA59A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CF4-AA67-43CB-BB33-872B28D5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8F0-B4EE-4C97-994B-60C28070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A80-2248-4C34-8AE3-D8E10E97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3AD8-0DDB-43EA-8576-13FFCB48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F03-E634-4FBE-A2C5-18000AD2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A2B-2091-4DFC-B96C-77F0FEFB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E3C7-AD76-4239-8B38-9B4B9D531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59CA-9F8D-4341-B94A-32D57FB0F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Is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38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Lord, he is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risen from the d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is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15720" y="109224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pians 2:9-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knee shall b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ongue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Is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Lord, he is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risen from the d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is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5720" y="109224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pians 2:9-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295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knee shall b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ongue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Lord, he is Lord!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risen from the dead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is Lord!                          Every knee shall bow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ongue confes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Lor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2-07T15:52:58Z</dcterms:modified>
  <cp:revision>41</cp:revision>
  <dc:subject/>
  <dc:title>PowerPoint Presentation</dc:title>
</cp:coreProperties>
</file>