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7CD-3367-4C7D-90B9-6696E504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A62-44C5-4997-AFE5-FB0B32A9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898B-3DF4-4187-B740-9C8A430C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02F-39FD-4174-852A-29170B30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790-DB98-453D-A5EB-AAA21249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616-7E05-4A85-8D6E-66826BA5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4E7-14C5-4EF9-8211-7E8EE73E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C5D-9F9A-45B3-A1C7-E08A8FFA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26A-11C8-4D20-8E4C-0E8182D2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3F2-2496-4C18-9FD8-F19773C3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D02-DE22-42DB-8F63-0C5E9982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595-89D7-4520-86B0-A6D9BF53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712E-1F38-4CD6-9218-18B5E26CF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piph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28800"/>
            <a:ext cx="883908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made of one blood all natio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, by a star in the Ea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vealed to all people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se name is Emmanu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ph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092240"/>
            <a:ext cx="55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urence Hull Stookey, USA, 20th cent. (Mt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able us who k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your presence with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so to proclaim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unsearchable rich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at all may come to his 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bow before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rightness of his rising,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2284560"/>
            <a:ext cx="853452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lives and reigns with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w and for ever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9:32Z</dcterms:modified>
  <cp:revision>12</cp:revision>
  <dc:subject/>
  <dc:title>PowerPoint Presentation</dc:title>
</cp:coreProperties>
</file>