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C1FB-F6CC-4F92-903A-B479130B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538C-1F01-43B7-B1D5-30227484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BA1B-5D1E-4ADE-AD3E-42E46904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5BF2-B9A9-49AF-8A2B-CCC50219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415B-17BC-4C46-8F19-B16EFCBD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A24F-E8A3-4DF2-B95B-4C72C630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F8C3-199F-404C-BF30-C39DEF47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3677-7746-4A76-A701-E3631CC4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933D-356E-4AEF-830D-CA37FD27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0582-E20C-4CDF-8090-3F7B93AA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16EB-DBF9-420A-9AD5-F8C113F2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7428-5691-40D9-A3A5-C20D0074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FD78-001D-4AAB-ACDD-C12BD171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6404-A2F6-48C1-AA89-F58DFAA5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9B5E-B7C7-4813-8FBF-5973AEBC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EBDE-040E-47C6-BB13-9A8464A3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620F-83D7-48A7-AD13-00600B90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36F2-B0D1-4910-9D51-568810CB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53B3-BE5D-463D-B9ED-79A048D3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43D2-3286-4437-AC5A-C3332968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FF2F-B568-4CA5-8415-0ABEBEA5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CAD-E531-43DE-8CD8-439E7038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6C2B-C080-4107-8447-335C7A3A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592B-1E05-47AF-B673-06F2FFC5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8E88-2689-4486-9C4E-6C8527741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0693-33F6-462C-82FA-217064762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urely the Presenc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the Presence of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52388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Lanny Wolfe, 1977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133720"/>
            <a:ext cx="9144000" cy="42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rely the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 is in this pl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an fe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mighty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is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7 Lanny Wolfe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n hear the bru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gels’ w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glory on each f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rely the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ord is in this place.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32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urely the Presence of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the Presence of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3972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Lanny Wolfe, 1977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219320"/>
            <a:ext cx="9144000" cy="351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rely the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 is in this pl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an feel his mighty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is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7 Lanny Wolfe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36504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n hear the bru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gels’ w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glory on each f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rely the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ord is in this place.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2-05T03:13:05Z</dcterms:modified>
  <cp:revision>88</cp:revision>
  <dc:subject/>
  <dc:title>PowerPoint Presentation</dc:title>
</cp:coreProperties>
</file>