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5B80-D489-46C7-96F1-C992EB4D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9CB-0E2B-40F2-9908-DDC546BA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63EF-D9A8-4372-BE96-CAC5A3F7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A3C2-0CE3-4F2B-AAE1-173E108F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F63-1174-4E33-BE72-0DA32A9B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E24-C186-4E96-A468-3F0BA7EC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56E-60B0-424C-9977-010901C3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D42-BCB7-4F63-86D9-9742E406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3CF-46E3-4798-8760-DE49183C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1A8-3B32-41EA-8F0D-37FFDE4E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A3A-6939-4F67-9EA2-0807D111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163-CD14-4D23-AFA5-6C35AB7A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3B7C-CCA4-4B10-800B-8F3F0123A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Jesus Came to Jord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to Jord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baptized by Joh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did not come for pard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as the sinless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0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Came to Jord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0680" y="1092240"/>
            <a:ext cx="76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73 (Mt. 3:13-17; Mk. 1:9-11; Lk. 3:21-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e repent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ll who mourn their s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eak the vital sent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hich good news beg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 ca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e tempt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utmost woe and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and our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ie upon the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Came to Jord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ve desce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him, the Son of 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idden years had 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ge of grace beg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e,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eep the vows we m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very day inva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bondage brea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Came to Jord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s direc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ift we covet most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the resurre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s to Pentec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8:41Z</dcterms:modified>
  <cp:revision>10</cp:revision>
  <dc:subject/>
  <dc:title>PowerPoint Presentation</dc:title>
</cp:coreProperties>
</file>