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D95-90ED-443D-8DE5-B4F875DA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1C2-EBDC-425B-B8FE-486C1F9C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513-2C53-4CBF-9307-7EBE5751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509-C5B6-4657-92F5-78F3AD06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09AD-C860-4A85-9577-2A4C0ECC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56F9-5FDB-4AE8-A33A-DAE5CA1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D2CB-43FB-49BC-BC28-B73CC9A9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ECBC-44A0-43F7-94E9-161A756B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2EC0-2960-4D08-86F2-57FFEDD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E33B-C8B2-4661-B397-1913064E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FB63-EA43-4D14-B1ED-461297D6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265-0712-48F5-88EC-E453249D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ADB0-5B4C-4A0D-96B7-68F3DA9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E87-C3CB-4D25-ABD4-8A72C8F1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393F-5C69-47B5-9B7A-98D191D6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74FD-29A5-4916-9709-1F4D47C1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BF2F-8199-4030-9F86-1619DCAA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9E7-547C-401E-A5B9-4EF2C220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D87-66DB-4F22-99A2-B01A20C8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21C-E51A-46EF-A6A7-A824EFA2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CA8-691E-435D-BE2B-35416AA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79F-3CCF-42D2-BBA7-945A632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160-AAC6-4EBE-B4B7-DDEA801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872-07A4-43F3-A9D2-03F9D03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24F2-3B87-4C57-9E42-562119B3B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EAFA-5187-4798-AD20-9CA709E32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228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lp Us Accept Each O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6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128600"/>
            <a:ext cx="9144000" cy="399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Help us accept each o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Christ accepted u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each us as sister, broth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person to embrac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5 Hope Publishing C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red Kaan, 1974 (Jn. 15: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us t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cross to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frien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aff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each other’s car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Up un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ing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in all things g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ou hast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ee ind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otless here bel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uched by the lode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hearts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 to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 move toward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o thee, inseparably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spirits cle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ing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in thee recei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his is the b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rfec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otless char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us,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,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nd that was in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286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 present,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mong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ing us to belie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are ourselves accep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eant to love and liv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Teach us, O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ess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in our daily lif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struggle to be hum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 for hope and faith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36504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each us to care for peop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, not just for so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 them 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find th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r as they may beco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your accept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we may be mov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situation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do the truth in love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practi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r accepta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we know by hear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able of forgiven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ughter’s healing art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890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Lord,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day’s encount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who are in ne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o hunger for accepta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for righteousness and brea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6504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need ne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yes for see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new hands for holding o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new us with your Spiri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free us, make us one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United by Thy Gr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9810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Jesus, united by thy gra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each to each endear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confiden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k thy fa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know our prayer is heard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26T01:43:18Z</dcterms:modified>
  <cp:revision>67</cp:revision>
  <dc:subject/>
  <dc:title>PowerPoint Presentation</dc:title>
</cp:coreProperties>
</file>