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596-6EE6-4EC9-BFF0-37CD6CEE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BD2-C1B4-4C27-8BE2-FEA761F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6B2-879F-4E7A-A721-62FE2075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2B9-B622-4A60-96FF-9837C22E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2770-2B92-4B84-9E39-6D8CAE2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6E8C-85FA-4D43-8078-27D82AEB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529-2E93-45AF-B4F3-09F86CB5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26C-E41A-47CB-8363-1C6D19CC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2DE0-E907-4383-B1D6-A685622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AEFD-B1F0-43D5-ACDF-ADEEABF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970-521F-41D3-96AF-5A52577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1BB-CE34-4B5A-8551-C1E0C41A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79B-6361-4EF2-B8CF-A8D136BE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FED-AEEB-41FF-9DF8-652879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BA8-A48B-43D0-AC95-81417C2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AAD-0CFD-42CC-90E0-3E0D1C2C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AF1-BAE1-49D9-9260-8C6C45C8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EF7-B58B-4C1B-BFA0-2356AFE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7A3-6F5F-46EA-96C8-198E1DC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4E4-511A-4232-8997-5A0D456E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8CC-45F8-41B2-92B1-494A1A7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30C-319B-4836-B07C-295AE00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CC9-D845-45B6-8376-AE72613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F60-1DFB-45D8-9EC4-2F3F9F2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ECF-5A35-4AE3-A26F-81D424294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19B-DFC3-46F7-AF81-1108853E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9960" y="17146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 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1280" y="8524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 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 before him b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now ye hear of endless blis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 heaven’s do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 now ye need not fear the grav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 and calls you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ndless bli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ea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lls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32:44Z</dcterms:modified>
  <cp:revision>70</cp:revision>
  <dc:subject/>
  <dc:title>PowerPoint Presentation</dc:title>
</cp:coreProperties>
</file>