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B66E-0241-4753-B0E3-DF31E5EB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6257-F302-4906-8EDC-8610E677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B121-CA0C-4CF8-ACE6-9D7E64329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5386-8BB0-4FFD-9184-AB9BBCD2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15D5-2F64-475C-8CE3-4439B8F5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F61E-34B3-4FCA-A103-F9ECD880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9157-33C4-4044-AD6C-CB883B74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8D67-6922-4FB7-B931-257D7130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C0A4-1B3C-49B4-B486-71337D6A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4249-573F-4B49-A0F3-A140818D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5D10-336A-4258-AD3D-C08849B5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505C-CC45-4D62-A78E-84F284A2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696E-C292-4829-94CF-CCDE7F84B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o Is He in Yonder 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o is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yonder st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whose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hepherds fall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32680" y="1092240"/>
            <a:ext cx="39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enjamin R. Hanby, 18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Who is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from the g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s to he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lp and sav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wondrous stor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King of glor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humbly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Who is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from yon thr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ules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light alon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wondrous stor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King of glor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humbly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wondrous stor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King of glor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humbly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Lo, at mid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is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ys in da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hseman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wondrous stor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King of glor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humbly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ho is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Calvary’s thro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ks for bless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his foe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wondrous stor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King of glor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humbly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8:03Z</dcterms:modified>
  <cp:revision>44</cp:revision>
  <dc:subject/>
  <dc:title>PowerPoint Presentation</dc:title>
</cp:coreProperties>
</file>