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81BF-C81D-48CF-A30A-992183AE6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779C-9DEC-4774-AC0C-1CCC031A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F23A-80C8-4B3D-8E96-9C54857CD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EAEB-DAD5-4449-A790-9D02C7DDF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F6D4-588D-4D4F-9B28-DA7E2E51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8A50-5959-4CEF-B186-8E686081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5415-57A0-4225-A0DB-94DD1B9B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9BB2-811A-41F8-9C5A-FE582B74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C167-1B22-4273-9F40-E26AF613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CEB1-DDEB-42C3-8F16-62DD4D46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55C1-35F4-452F-A1CC-83088BC6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7100-75D8-499B-95D1-6A24F094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0758-DC69-4702-8AEF-7417B3D76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nticle of Christ’s Obedi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408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1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(Gene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is mind be in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was als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hrist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apt. and Response 1 © 1989 The United Methodist Publishing Hou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Christ’s Obedie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960" y="990720"/>
            <a:ext cx="688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Philippians 2:5-11, adapt.; Response 1, Philippians 2:5, adapt.;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esponse 2, Caroline M. No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981080"/>
            <a:ext cx="9144000" cy="2623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(Gene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name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knee shall b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Christ’s Obedi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477800"/>
            <a:ext cx="8610480" cy="368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30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rist Jesus, though he wa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the form of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id not count equality with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 thing to be graspe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emptied himself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aking the for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f a servan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eing born in our likenes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1872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eing fou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human for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 humbled himself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ecame obedie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unto dea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even death on a cros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55268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refore God has highl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exalted hi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bestowed on hi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name which i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bove every nam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at the name of Jes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every knee shall bow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heaven and on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under the eart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18273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every tongue conf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Jesus Christ is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o the glor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f God the Father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17:38Z</dcterms:modified>
  <cp:revision>29</cp:revision>
  <dc:subject/>
  <dc:title>PowerPoint Presentation</dc:title>
</cp:coreProperties>
</file>