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45D-AFDE-4632-BE73-A9462820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120-28B5-4B10-BAE7-77924791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9EF-774A-47DC-8C83-22A7871E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ED6-5289-4CD9-984C-DD2165D0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11C-D4BA-4AEE-89FC-1A31DF28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535-4294-420D-98F2-BC68C0A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5D2-8190-4246-B701-C64C62C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EAA-5099-4D5C-9F6B-248BF11C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7BD-BFC3-4959-A2AF-025BCF1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B5F-E973-4F32-8584-318A664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87C-762B-453D-8535-5C9CF789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EB1-3D4C-4BB8-9705-CDEF652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E0B-FEBF-4974-A1C6-D6C32BC74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 F. Benson, 192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your gif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ace resto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08Z</dcterms:modified>
  <cp:revision>118</cp:revision>
  <dc:subject/>
  <dc:title>PowerPoint Presentation</dc:title>
</cp:coreProperties>
</file>