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041-9F32-4F47-8EC3-2C5A85DF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71B-3EF7-456A-8791-2BA5AB8E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DC0-6B50-4039-9702-C7994BD9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4DA-7F99-48FD-95F1-736CC186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4688-DC09-4F83-87D6-C58B499C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1D16-9E98-450D-846C-69145B2D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E908-2826-46FB-BBB9-4D65CD4F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E10F-66C4-4ED4-9AB3-58D8ABBA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97D6-BA2B-494E-8F46-C7C49B9E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054B-B057-4DE9-8752-1C1CB80D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53BC-7A1C-4D09-A491-33CEE60C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021-D58E-44C1-AA07-5C7A50B0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29E1-4B48-4515-9B92-F8768E46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2A1E-8AC1-4D75-AC62-9D3277A2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B35D-2566-48A2-BA39-C06B17B4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DC9B-DC8C-403E-86F4-AD67A853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83DA-B4D9-4690-877A-AD26524C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48F-3778-4CB1-B63E-511EF52F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DF8-9EC8-44BB-A9CD-5DF09C2B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EC9-CAD8-408F-9B3B-8BF5D757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63A-9524-4285-9543-AA66B68C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C19-F895-418C-B03B-24FD0C0F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A50-AF6E-4D63-8CA4-30A3CAB7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E96-053B-43B4-BC57-828A7098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C374-86AD-41FE-873B-12AF0FCE2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608B-36A4-4A49-8E2C-731D0429C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ing Has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683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1. Morning has broke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ike the first morning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lackbird has spoke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ike the first bir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07360" y="838080"/>
            <a:ext cx="51354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31 (Lam. 3:22-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ds by permission of David Higham Associate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swee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wet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ung in complet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is feet pa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ine is the sunli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 is th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the on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den saw pl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with e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every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re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new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ing Has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5843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Morning has brok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ke the first morn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lackbird has spok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ke the first bir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07360" y="838080"/>
            <a:ext cx="51354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31 (Lam. 3:22-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ds by permission of David Higham Associate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sing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morn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m, spr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from the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weet the rain’s new f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lit from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first dewf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first gra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swee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wet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ung in complet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is feet pa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ine is the sunli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 is th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the on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den saw pl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with e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every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re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new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for the singing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for the morning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for them, spring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esh from the Word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8580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2. Sweet the rain’s new fall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unlit from heaven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ike the first dewfall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n the first grass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for the sweetne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the wet garde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prung in completene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re his feet pas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Mine is the sunlight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ine is the morn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orn of the on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Eden saw play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with elati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every morning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od’s recreatio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the new day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ing Has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orning has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first mor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ackbird has sp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first bi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ds by permission of David Higham Associate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7360" y="1092240"/>
            <a:ext cx="51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31 (Lam. 3:22-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sing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morn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m, spr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from the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weet the rain’s new f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lit from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first dewf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first gra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06T23:05:36Z</dcterms:modified>
  <cp:revision>10</cp:revision>
  <dc:subject/>
  <dc:title>PowerPoint Presentation</dc:title>
</cp:coreProperties>
</file>