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725F-0660-44D1-A43B-A9457790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83FB-0107-41BD-B6D5-F64F7281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9ADF-F5C2-434E-B560-91FDF6F9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467-3717-4103-B430-1A91F665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9EE-8869-405C-A071-B17C94FD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FFC-86A5-451C-9440-BD378F7D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FA9-A405-4701-BC04-F8151E29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28F-ADF1-4DB4-B0AF-ABB3BA1B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D3C-7481-4A38-9F65-947EE7FB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D8E1-709E-40EC-A90F-191803FA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097D-EF2E-470E-8529-F92B5511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3393-5CFB-40E8-87C0-5D02212C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524E-80B4-41FF-8F1F-F54344580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w Like a Gentle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ow like a gen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deep with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reins our ferv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sions day by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7960" y="1143000"/>
            <a:ext cx="34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. Eric Lincoln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od 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nsc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yle and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the i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tions we purs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1916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s us strength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llenge and to w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pite the per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chosen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t God be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life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very tongue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ness to the c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umankind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y God’s decr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God be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God be God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like a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gle hovers n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mighty wing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 manif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like a gen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pherd stills our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fort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st a peaceful bre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in our v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tensions we consp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pe God’s im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see our 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k to the v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our base desi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the sculpt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he broken st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rough all our fret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aims of sex and 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univers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of God shines throug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1:23Z</dcterms:modified>
  <cp:revision>33</cp:revision>
  <dc:subject/>
  <dc:title>PowerPoint Presentation</dc:title>
</cp:coreProperties>
</file>