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F4C-9A4B-4E4E-8E1E-F2D3F61C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223-980B-48B0-93AA-EAD2976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449-600F-4BDA-AA0F-5158393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739-BDDA-4306-9E84-FB6B4CD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04D-4FB2-44A5-9CFC-20326709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8950-7809-42D5-AA91-5FCB1BD9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00F-9BC7-4252-BE3E-1121825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1525-9A17-4EC8-A870-2460DB03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51B-F58C-45DB-BE0E-8CCCB556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B9E9-5D63-4326-8792-81590A04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F3D-AFA5-4DDE-A6F6-62D76FF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F59-A4D8-436D-A223-700CE72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CE74-7E82-4C56-85AA-C9C1BF3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875-1128-4EFF-ACE0-4A27348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298A-57D1-41CC-84C2-EA0A0B37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40C-DAA6-4016-BB03-EF2FF896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DB11-CEF8-4F38-876C-DABCB2F9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735-C4BD-49D0-8A40-6E0AF38F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77D-54CF-407C-A580-ED55B165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214-A783-46FF-AA11-B8ECCDC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E83-3228-498D-9312-37CDAC1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CE9-1731-4BAF-B0D2-BC2181D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2A5-0DAF-451B-BAAF-51821CA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AB0-6A16-40AC-B864-09C2881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653-61CE-4B91-A1C6-D3670BF3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7B6D-9DC6-41FF-93FE-7F2DA640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3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794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30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7462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0492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ance contro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2760"/>
            <a:ext cx="86104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28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685800"/>
            <a:ext cx="861048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02:08Z</dcterms:modified>
  <cp:revision>122</cp:revision>
  <dc:subject/>
  <dc:title>PowerPoint Presentation</dc:title>
</cp:coreProperties>
</file>