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363-3512-4516-A7A3-60FC67F3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A05-FE93-4D7C-AB35-8223716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2AE-A823-4A93-BCA3-E2156E0C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36A-60AF-4C18-98C1-3A5D2259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7A5-57DC-4D8C-9A7C-8B4FA83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B01-6F1B-461C-B7C8-E5920BC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013-7E84-412C-B6CB-4C2962C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E65-DFB5-40FE-8104-A3E7BBE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1B1-CC8F-4EA4-9342-F11D9EC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642-D27F-45B1-9D20-6A603BA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089-AA5F-4E7F-9C18-3226E2E6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7EC-976D-459B-AF42-EB58AD9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5C0-1C5D-4872-BB27-1624E265E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Depth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epth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athomable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o us conveys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5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lesh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mits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hi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’s heart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f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isest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ble elements best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ower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explai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rough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tue ca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convey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remain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ward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arthly matter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her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supp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immortal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h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rd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rou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s b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it out,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and r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ner be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me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us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hing 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our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and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28Z</dcterms:modified>
  <cp:revision>129</cp:revision>
  <dc:subject/>
  <dc:title>PowerPoint Presentation</dc:title>
</cp:coreProperties>
</file>