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A31-5E2A-4965-9B00-299A95FA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7CD-2452-4780-B15C-DE8B582A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0D4-2072-43F7-B791-0BF43FF1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162-AD61-42BC-AF2E-A40520A0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7DB-2A80-4B71-8A4F-3629B522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6C6-E469-416B-8901-E4BEE891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403-4D3F-45CB-9E3D-CF6B4F2E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373-EF41-417A-A8CE-463598DF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213-B12D-43DA-8A49-FBED0F17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918-D425-4026-8AF3-D39B2FB2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A35-B439-4A9F-9DD2-39801ADE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02D-8030-441D-89A2-93633ACC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3B19-DE42-4767-8A84-D5A29C6CE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om a Distant Ho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De Tierra Lejana Venim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9132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63, 1980 Walter Ehret and George K. Eva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Walton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8160" y="1523880"/>
            <a:ext cx="78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Puerto Rican carol; trans. by George K. Evans (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1337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rom a distant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 we come see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ing as our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ar so brightly bea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itter myrrh hav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infan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the pai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76212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 Distant Hom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 tierra leja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nimos a ve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s sirve de guí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estrella de Orien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914400"/>
            <a:ext cx="8610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 re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 naci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s Rey de los r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o le rega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a ornar sus sien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o es Dios el 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regalo incien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ume con alm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su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a 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 Distant Hom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9051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6765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l 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 del cie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bajó a la tierr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regalo mi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inspira trist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9144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lowing gold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ba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his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ign above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0948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 Distant Hom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ankincense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choo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our pray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ev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 Distant Hom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4:46Z</dcterms:modified>
  <cp:revision>20</cp:revision>
  <dc:subject/>
  <dc:title>PowerPoint Presentation</dc:title>
</cp:coreProperties>
</file>