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838F-B1B5-4E56-9D97-48419546A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4D2A-5771-4887-80B1-7F8F829B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CF5F-9B07-4C82-B4C5-50A7F106D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A09B-C685-4DF5-9982-96F04E9D5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70D5-1F1C-496F-9141-AAFDC8345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10A5-006F-4B19-A7E7-B341E368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5BCD-427F-4E35-9987-F602063F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93E5-5658-452E-9F04-BBE6D053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B0E6-8056-4CCF-BA48-E59D510B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49A1-1206-4CFF-8E52-A5C3449E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92D1-BDCB-4E12-93A5-B6774812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E7DE-B523-479E-B38A-16DB7BFC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A5AA-CA3F-4D35-857A-4A0B01FD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9756-6105-4186-A81D-2525E3F0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6A4B-B953-42B0-97EB-ADD815E7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639E-0678-44D1-83A4-5238DD48D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F8CF-F9BF-43B7-A1B7-F613B63E6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B038-25A7-47FA-B9A7-058D9A3A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3936-2F4E-4231-A198-1F9273D8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45C8-3E34-4A3A-AF2A-ADFFC76A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E402-D9A8-46EC-945A-78974789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ACD5-0CC7-455D-8D13-812E192F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8C4C-1FD7-4408-A0BA-EA62BBE7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BD1B-AF00-4990-92F8-F71D8882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53D1-4271-448C-92B3-8C58B4384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B044-CC62-4EC3-ABB9-8BD0E0798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ing We Now of Christ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ing we now of Christma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el, sing we her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 our grateful pra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babe so d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47080" y="1092240"/>
            <a:ext cx="566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rad. French carol (Lk. 2:8-20; Mt. 2:1-1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28736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 is born, Noel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of Christma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Noe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049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ing We Now of Christ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73664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Sing we now of Christma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Noel, sing we here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ar our grateful praise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the babe so dea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47080" y="1092240"/>
            <a:ext cx="566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rad. French carol (Lk. 2:8-20; Mt. 2:1-1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30492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 is born, Noel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of Christma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Noe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Angels calle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shepherd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“Leave your flocks at res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journey fort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Bethlehem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ind the child so blest.”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22860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 is born, Noel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of Christma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Noe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n Bethle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found hi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seph and Mary m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ated by the mang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tching the holy chi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26676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 is born, Noel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of Christma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Noe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53352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 From the eastern countr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ame the kings afa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earing gift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Bethlehem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uided by a sta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22860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 is born, Noel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of Christma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Noe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66996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5. Gold and myrr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y took ther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ifts of greatest pric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re was neve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 stable so like paradis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28736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 is born, Noel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of Christma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Noe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30492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 is born, Noel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of Christma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Noe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ngels cal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hepher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Leave your flocks at r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urney fo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thleh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nd the child so blest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28736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 is born, Noel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of Christma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Noe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n Bethle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found hi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seph and Mary m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ated by the mang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tching the holy chi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28736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 is born, Noel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of Christma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Noe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From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stern count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e the kings af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ring gif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thleh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ided by a st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28736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 is born, Noel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of Christma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Noe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Gold and myrr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took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fts of greatest pri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was n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tab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like parad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12-09T03:51:46Z</dcterms:modified>
  <cp:revision>12</cp:revision>
  <dc:subject/>
  <dc:title>PowerPoint Presentation</dc:title>
</cp:coreProperties>
</file>