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E94-0143-47B5-A382-3F3F8CCE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9ED-A65C-4D9B-A210-4E4FC4C8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7B6-0C00-4D6A-9E01-07C0FED9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8ED-9787-44B0-9B0C-6383606C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2F2A-03D8-44C1-BAF0-FCFAC95D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B08-FCE1-47AD-85AA-71630D06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BD5-45BE-4B16-9A43-F729881A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019-9B8E-4164-BD27-7A144B0B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EB4-BAE2-4FE6-A29F-8B5E1F18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0E2-C567-433E-B03F-2095A3F3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39F-9C7E-422F-AE9B-6F5A8550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1DD-25BF-4CB5-91B7-B55FBF62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B38A-EA00-46A2-8496-B7C79424C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llspring of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56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ellspring of Wisdom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ar our cry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way ahead 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arched and dry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eek a source to satisf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Medical Mission S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iriam Therese Winter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29000" y="1863720"/>
            <a:ext cx="7686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hirst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nctifying wa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 for your faith-fi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s and daught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Dawn of a New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to f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erro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uclear nigh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bear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ing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43120" y="1863720"/>
            <a:ext cx="5654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uddle clos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the lamp of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ittle hig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arden of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ifts a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ed sig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all a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holy g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79000" y="1863720"/>
            <a:ext cx="6784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earn, from all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expr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o grow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wing seeds of bles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all to Com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urning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urtu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mpt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veryth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29600" y="1863720"/>
            <a:ext cx="5283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endeav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oclaim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nam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5:36Z</dcterms:modified>
  <cp:revision>39</cp:revision>
  <dc:subject/>
  <dc:title>PowerPoint Presentation</dc:title>
</cp:coreProperties>
</file>