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200-7CF4-4364-BA07-807FBCF3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904-6E1A-4C8F-8987-D3D9A86A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512-E2BA-4952-A317-57CCECB3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8C1-A555-487B-AB82-BA729AB6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A88-F98D-44B8-9F4F-ED1CF2F9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F13-9E37-40BC-8EE9-752A100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B6E-81B3-41C4-A8E8-BAF81B01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15F-4E7D-48DC-9A0A-B5FF7D46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BD4-8D53-4DB5-82F6-CD57E32F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D7C-6A8C-4AF3-BCC1-FAA3E9CF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B20-F891-4B9E-9D46-60ED306B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336-FCD6-4FC8-A470-E3262E8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6144-5053-447E-8000-EE34CC4C0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ans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mount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you revealed our Messia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who by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ould fulfill both the la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the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5600" y="1143000"/>
            <a:ext cx="82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urence Hull Stookey, USA, 20th cent. (Mt. 17:1-18; Mk. 9:2-8; Lk. 9:28-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s transfigur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nlighten our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dare to suff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him in the serv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uman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 share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lasting glory of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 for ever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0:28Z</dcterms:modified>
  <cp:revision>13</cp:revision>
  <dc:subject/>
  <dc:title>PowerPoint Presentation</dc:title>
</cp:coreProperties>
</file>