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9D7-3089-4175-987D-6318114A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89D-E0BB-4D27-A7A2-BFCBA7C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55B-9412-4F6A-8FB2-2BD25AAA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153-D931-43F7-9196-8E99BF8F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D93-238C-441F-A058-7507073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A85-E4BB-446E-B10B-2FE39F03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899-0301-47F1-9680-5B5A041B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D68-A334-41A5-B063-5CA47DB8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B2B-FEBC-47D7-A765-B8710442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AB2-2D13-4D5A-9815-51B069AF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A4A-8ED2-455E-92DF-385BD8C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899-758F-4E12-A74C-780A0A7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55F-BF77-4F10-A610-1715B5146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e of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ginald Heber, 1872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om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wer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whos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s are de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rrow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inners sh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thy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the t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r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1:45Z</dcterms:modified>
  <cp:revision>125</cp:revision>
  <dc:subject/>
  <dc:title>PowerPoint Presentation</dc:title>
</cp:coreProperties>
</file>