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E1F5-59DA-4AB0-807F-AAC1BB711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915F-B949-4B2F-9FAA-6F6B2504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D1C2-1541-496F-84B9-B3DE4ED22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4BFE-8EA3-4825-8D27-86EA1339E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A545-A2DD-4C36-AFD2-5215AAC6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F898-CB86-49F9-8367-B03830BE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A85B-5F08-41CC-8130-CD797795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88AC-00BD-4CA6-866F-4B967213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7A73-CA64-4C8A-935A-F272962C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4FEC-056C-4B36-8903-95117630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6D2D-4356-44EC-B4E3-AECD18C0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60A1-2756-4EB1-B722-306DC838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38F6-9712-4AD8-895B-DCAB330E8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alk On, O People of Go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Camina, Pueblo de Di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lk On, O People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440" y="1447920"/>
            <a:ext cx="908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esareo Gabara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ín;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rans. by George Lockwood, 19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9436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7 Ediciones Paulinas; 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514600"/>
            <a:ext cx="9144000" cy="23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 O people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 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04948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057400"/>
            <a:ext cx="91440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s he destroys them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e brings u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ife’s abundanc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ife’s new joy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85904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br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concili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ll th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eople with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28600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ture bursts in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w flowe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reation is rebor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18908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eople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lk On, O People of God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04948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371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ew la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new alli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reation is rebor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Walk on, O people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 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85904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embrac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ur sou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nd pardon at l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lk On, O People of God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heaven’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es are reope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sinn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us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05740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rael walks a journe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we l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lvation’s our s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8600" y="1676520"/>
            <a:ext cx="89154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’s resurrec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freed u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are new worl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expl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29528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eople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lk On, O People of God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5238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ew la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new alli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reation is rebor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Walk on, O people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 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523880"/>
            <a:ext cx="88390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ew la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new alli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reation is rebor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Walk on, O people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 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2057400"/>
            <a:ext cx="914400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ina, Pueblo de Dios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ueva ley, nueva alianz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la nueva crea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mina, Pueblo de Dio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Mira all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á en el Calvari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a roca hay una cruz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uerte que egendra la vid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vos hombres, nueva luz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isto nos ha salvad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 su muerte y resurrec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das las cosas renac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a nueva creaci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209680"/>
            <a:ext cx="914400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ina, Pueblo de Dios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ueva ley, nueva alianz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la nueva crea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mina, Pueblo de Dio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risto toma en su cuerp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l pecado, la esclavitu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 destruirlos, nos tra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a nueva plenitu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ne en paz a los hombr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las cosas y al Creado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do renace a la vid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la nueva crea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mina, Pueblo de Dios 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133720"/>
            <a:ext cx="914400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Look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vary’s summi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ro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towers a cros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lk On, O People of God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ueva ley, nueva alianz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la nueva crea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Cielo y tierra se abraz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uestra alma halla el perd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uelven a abrirse los ciel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ara el hombre pecad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ina, Pueblo de Dios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rael peregrin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ive y canta tu reden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y nuevos mundos abiert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a nueva creaci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mina, Pueblo de Dios 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905120"/>
            <a:ext cx="914400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ueva ley, nueva alianz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la nueva crea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 that gi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irth to new l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ew peop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ew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828800"/>
            <a:ext cx="91440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hrist has brought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us salvation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ith his death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rising again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04948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05740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Everything come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new birthing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ll creation is reborn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49400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eople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lk On, O People of God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6765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ew la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new alli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reation is rebor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Walk on, O people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 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057400"/>
            <a:ext cx="91440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2. Christ take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to his bod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ll our sin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enslavement, and pain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lk On, O People of God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7:03:53Z</dcterms:modified>
  <cp:revision>65</cp:revision>
  <dc:subject/>
  <dc:title>PowerPoint Presentation</dc:title>
</cp:coreProperties>
</file>