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2D2-1059-4166-BE68-210AB61F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01F-5BE4-4F49-ABB7-FF20B40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78A-92F9-40F7-98B5-9CF9E2F3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C26-84F5-4B2D-99B2-3963E86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A2F-ECA2-4637-BF56-1AFB1ED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BB1-58EF-4845-91E4-01384D7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BAF-9D2D-43F1-AC09-6E1667E7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68D-4DB5-43F1-B07D-C7E2E788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57F-6971-4E1C-B2B5-8CE9E4A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627-3C86-4249-895D-EF7A9284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0C1-DF3F-4A0C-8B2F-55E38FA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887-46DB-4A43-9F9A-7BF1200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06E-9111-4D1A-9935-6168E407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x Me,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5760" y="10666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Rev. 6:11; 7:9-1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ng white ro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rry cr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ying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1:01Z</dcterms:modified>
  <cp:revision>12</cp:revision>
  <dc:subject/>
  <dc:title>PowerPoint Presentation</dc:title>
</cp:coreProperties>
</file>