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8C0-7953-4DE9-884C-9B02CE2D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504-4ADD-45E0-97B1-CB821C9B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69E-A6A1-4474-B210-40D45DA2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9F2-1577-4D9C-A8B5-3F6965F4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764-E979-4963-B075-BE4BF9BD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4A2-5622-4CA8-84D3-8A0D83BC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CB4-800D-46EC-BB67-5F3FD330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61F7-DC4F-4D95-A850-0A66F281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52E-B56B-4EAE-938B-3228D092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AC6-B87F-42A6-9568-CDBFB882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031-120E-4B21-B614-EEA81C86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012-D316-4B8C-BB14-F0A9E7CE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7C85-00D4-4E97-8646-13CE4C9FB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ues Si Vivimos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When We Are Liv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. 1, anon., trans. by Elise S. Eslinger, 1983; sts. 2, 3, 4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oberto Escamilla, 1983, trans. by George Lockwood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1987 (Rom. 14: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1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Pues si vivimo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para Él vivimos y si morimo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 para Él morimos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vivamos,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muramo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rough all ou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our fruits must gi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works of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for offe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are g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receiv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’Mid times of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imes of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ensing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in love’s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ther we su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sing rejoic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cross this wid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alway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are cr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no peace of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when we help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we feed th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38080"/>
            <a:ext cx="9144000" cy="506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C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En esta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utos hemos de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obras buen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para ofren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sea que 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reciba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En la trist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dol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bell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sufra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goc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n este mu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mos de encontr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nte que ll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in consol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ayu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aliment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914400"/>
            <a:ext cx="9144000" cy="506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C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we are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Christ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 we’re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th in our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our dy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25:06Z</dcterms:modified>
  <cp:revision>114</cp:revision>
  <dc:subject/>
  <dc:title>PowerPoint Presentation</dc:title>
</cp:coreProperties>
</file>