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2B730-EA5E-4EA5-B448-FE0CE110E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45A0B-A1EA-48AC-92EB-883B70A17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4581F-0687-4624-AF1B-75DD72102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DA2DF-0FB5-47D8-99EE-9972F78D5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1ABC0-781E-4226-BC0F-19AA4455D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EC4A3-A5E2-4456-B0AD-BCF7BCD7F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57AC1-4F70-446A-B545-63E683CAF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6AD6E-9C36-49B7-BC48-7F0E59B26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F4DDE-288F-48D5-B18C-665EEFE54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E6682-78DF-431C-95AD-AC5F73046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22637-675A-4C4C-A6D4-63B42C694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6D4E3-B4D6-4516-9A32-DDD470EC2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A50E0-56B7-445B-8155-6C4AED5EF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4736E-6E34-4D1B-9ED3-0E3DB2463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7C5B2-E8C0-4855-A09F-1CA5D147E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B6B52-0ED2-43B2-8BAF-D7F3B1143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5BBCD-6DF4-4F51-8078-DACB4BD93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B7A5A-2236-44F8-AC1E-810DD1950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0E5FB-4C5C-47FA-84E0-2721E8E0F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4ED4A-FFF3-4DD9-9DB1-F2ED8BB5A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7D53B-AA60-4EE8-AED2-45C5BFCAC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5D702-5913-45EC-8952-CB4022ADE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BC015-59B8-4730-9665-51B43447A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1F085-BDD4-4154-A010-9A11027E6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53324-58B8-47BA-82DE-70D7549860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721A0-9680-445B-A56B-92F5ADA33A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763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Jesu, Jesu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543800" y="763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43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901800"/>
            <a:ext cx="9144000" cy="4818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Jesu, Jesu,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fill us with your love,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show us how to serve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the neighbors we have from you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, Jesu 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7760" y="609480"/>
            <a:ext cx="7937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WORDS: Tom Colvin, 1969 (Jn. 13:1-17)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© 1969, 1989 Hope Publishing C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5715000"/>
            <a:ext cx="9144000" cy="1143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0" y="152280"/>
            <a:ext cx="9144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5. Kneel at the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feet of our friends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silently washing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their feet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this is the way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we should live with you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-236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, Jesu (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5715000"/>
            <a:ext cx="9144000" cy="1143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0" y="152280"/>
            <a:ext cx="9144000" cy="5418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Jesu, Jesu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fill us with your love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show us how to serve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the neighbors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we have from you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, Jesu 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5715000"/>
            <a:ext cx="9144000" cy="1143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Jesu, Jesu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43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1447920"/>
            <a:ext cx="9144000" cy="4844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Jesu, Jesu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fill us with your love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show us how to serv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 neighbor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e have from you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© 1969, 1989 Hope Publishing C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, Jesu 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115720" y="990720"/>
            <a:ext cx="4912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WORDS: Tom Colvin, 1969 (Jn. 13:1-17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Kneels at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eet of his friend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ilently wash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ir fee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aster who act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s a slave to them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-236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, Jesu 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906480"/>
            <a:ext cx="9144000" cy="447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Jesu, Jesu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fill us with your love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show us how to serv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 neighbor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e have from you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, Jesu 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Neighbors a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ich and poo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eighbors a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lack and whit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eighbors a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ear and far aw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-236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, Jesu 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0" y="906480"/>
            <a:ext cx="9144000" cy="447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Jesu, Jesu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fill us with your love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show us how to serv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 neighbor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e have from you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, Jesu 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These are the on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should serv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se are the on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should lov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these are neighbor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us and you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-236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, Jesu 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0" y="906480"/>
            <a:ext cx="9144000" cy="447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Jesu, Jesu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fill us with your love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show us how to serv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 neighbor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e have from you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, Jesu 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Loving puts 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 our knee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erving as thoug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are slave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is is the wa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should live with you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-236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, Jesu 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593640"/>
            <a:ext cx="914400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1. Kneels at the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feet of his friends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silently washes their feet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Master who acts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as a slave to them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-236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, Jesu 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0" y="5715000"/>
            <a:ext cx="9144000" cy="1143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0" y="906480"/>
            <a:ext cx="9144000" cy="447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Jesu, Jesu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fill us with your love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show us how to serv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 neighbor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e have from you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, Jesu 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5. Kneel at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eet of our friend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ilently wash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ir fee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is is the wa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should live with you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-236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, Jesu (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906480"/>
            <a:ext cx="9144000" cy="447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Jesu, Jesu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fill us with your love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show us how to serv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 neighbor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e have from you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, Jesu 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228600"/>
            <a:ext cx="9144000" cy="5418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Jesu, Jesu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fill us with your love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show us how to serve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the neighbors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we have from you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, Jesu 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5715000"/>
            <a:ext cx="9144000" cy="1143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136440"/>
            <a:ext cx="9144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2. Neighbors are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rich and poor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neighbors are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black and white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neighbors are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near and far away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236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, Jesu 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5715000"/>
            <a:ext cx="9144000" cy="1143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152280"/>
            <a:ext cx="9144000" cy="5418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Jesu, Jesu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fill us with your love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show us how to serve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the neighbors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we have from you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, Jesu 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5715000"/>
            <a:ext cx="9144000" cy="1143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152280"/>
            <a:ext cx="9144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3. These are the ones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we should serve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these are the ones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we should love;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all these are neighbors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to us and you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-236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, Jesu 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5715000"/>
            <a:ext cx="9144000" cy="1143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152280"/>
            <a:ext cx="9144000" cy="5418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Jesu, Jesu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fill us with your love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show us how to serve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the neighbors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we have from you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, Jesu 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5715000"/>
            <a:ext cx="9144000" cy="1143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152280"/>
            <a:ext cx="9144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4. Loving puts us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on our knees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serving as though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we are slaves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this is the way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we should live with you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-236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, Jesu 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5715000"/>
            <a:ext cx="9144000" cy="1143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152280"/>
            <a:ext cx="9144000" cy="5418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Jesu, Jesu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fill us with your love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show us how to serve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the neighbors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we have from you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, Jesu 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5715000"/>
            <a:ext cx="9144000" cy="1143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nnifer McCay</cp:lastModifiedBy>
  <dcterms:modified xsi:type="dcterms:W3CDTF">2010-07-08T23:39:06Z</dcterms:modified>
  <cp:revision>23</cp:revision>
  <dc:subject/>
  <dc:title>PowerPoint Presentation</dc:title>
</cp:coreProperties>
</file>