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6F8-9E72-4A49-8C36-1BBAE2C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0E0-9EB3-4B44-BF6D-DBFB3E05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EF2-0333-4375-87B0-5F219FBE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C25-DC78-490F-827F-76F1748A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AAC-CB9F-4C2A-82FD-27BA734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C392-92EB-4D60-B3BD-9BB4062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B609-0CB5-43F7-BCB9-B6D90448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A825-F13D-405B-95A6-E6426347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A346-E6C1-40C0-A1A4-008675E9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6A68-2C16-44CA-B748-779DDDB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A3B5-412C-46F3-A58B-3D6E9BE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7B3-09F7-466F-B05A-D4607BE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9755-BD0C-4678-A94D-AFFE89B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3930-3FC4-462A-897D-00EC171E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CB45-EE1F-4E9D-A0FF-3A77784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D38C-4F59-4665-A441-DBB9FC75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23B0-A941-4870-AECC-7592C550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270-C982-49B9-BDAE-465D6E8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D0F-0D2D-41F9-A087-40FC8BF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65A-0141-43D5-B3F5-19572D82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07A-072E-40CD-95B5-AF36E54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593-8021-4C6F-BDC0-38A905B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46F-EC20-410A-85A4-8D29F33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9A4-A065-4DBF-9D58-5A1B86EB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6385-EF4E-4517-8283-0A726A92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0C34-D427-4202-80C1-160124878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760" y="1143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952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6002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93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2760" y="6858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3T00:22:24Z</dcterms:modified>
  <cp:revision>55</cp:revision>
  <dc:subject/>
  <dc:title>PowerPoint Presentation</dc:title>
</cp:coreProperties>
</file>