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D126-84D2-4FC8-AD11-0EFD2E85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BFD-C889-480B-84F4-4FFA7C02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7FB-7AA3-429F-B5FB-0C5CC218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11E-4978-4F04-9A65-E9D4C6FE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1A0-B68E-4F08-BCB9-D77053A4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EA6-E578-474B-B06F-EA453846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6D3-4FBD-47A2-AD2F-8FBEADC3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673-C698-4169-B49F-6274A8C8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0B9-309C-42E5-95ED-E5BDC54D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C5A7-B0BF-4F6E-96B6-4B1B00A6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DC6-7D8F-4EA2-994D-4441C063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F55-D854-4DCE-8CF1-830F458E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DDFB-A1F6-43E8-926B-58D18CDC6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re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370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sabbath rest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Galilee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calm of hills abov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e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11120" y="1066680"/>
            <a:ext cx="473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Greenleaf Whittier, 187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re Jesus knel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hare with the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ilence of eternit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erpreted by lov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op thy still d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qui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our strivings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from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and 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ord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s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y of th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8:30Z</dcterms:modified>
  <cp:revision>9</cp:revision>
  <dc:subject/>
  <dc:title>PowerPoint Presentation</dc:title>
</cp:coreProperties>
</file>