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AB5-4B26-4790-A0C2-FA7112C2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712-0BAF-4609-8F6A-4103E5EC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50C-66D4-4A17-8369-F6802638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4FB-A64E-4427-A606-1931B07A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52F-8F88-48C3-9332-61918C3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66E-F602-4757-B933-7C57BF11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450-B6A7-4873-B3C0-67012274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555-FACA-479F-B099-EDA041A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6CF-E00E-45C5-8FD3-D89C6E8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285-D64B-4603-AD7E-CD2E7B2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8A2-57A1-4738-8A08-C21578B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EB6-CF95-4AFC-81EA-E135BDC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B3CB-1DBD-46BA-B80B-61D189716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Jesus, My King and My Sovereig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Je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 Es Mi Rey Sober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. © 1982,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Vicente Mendoza, 1920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sther Frances, 1982, and George Lockwood, 198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gozo es cantar su loor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5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Es Mi Rey Soberan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2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eñor, ¿que pudier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dar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tanta bondad para mí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¿Me basta servirte 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ar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¿Es todo entregar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us Es Mi Rey Soberan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ft all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at my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Jesus, My King and My Sovereign (3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5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surrend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5:52Z</dcterms:modified>
  <cp:revision>11</cp:revision>
  <dc:subject/>
  <dc:title>PowerPoint Presentation</dc:title>
</cp:coreProperties>
</file>