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C301-CA09-4354-ACF8-1141D5E8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C017-D45D-4A59-AD46-6D27E213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7A9-19C8-4CD6-8BA2-09D91F20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047B-447F-4793-94B6-2004FFFA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AE03-C6BF-4EFF-86E3-30148450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F840-1E56-4980-90BA-BEBE0F01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FC6E-39F6-4188-88FF-1B8753CF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09A0-A798-4B6D-B73A-84B25D7B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7920-61AF-41CC-85BB-26091BEC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ED89-A795-43A0-A9D9-1AFBA384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C39B-B792-4558-8E2D-E5CE2845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E47-1E5E-4982-A1A0-0D974DCA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D391-15CF-4D2B-BC0D-4CE02B70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3CD0-77A6-494D-AA00-A996A982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3CEB-B0F4-48F7-A466-3B626A4B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0AF5-FE46-4E35-85D3-4B75279C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702F-F3A3-4309-BB1A-AF04C35A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54A1-46B7-4094-8C4A-0B3632A7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9B7-EAB1-41D5-A6AC-D279C24D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9DA-2F9C-4663-BE24-390367CA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0644-1790-4D24-951E-7A1B951F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A6D-B6A5-4712-AC8F-3BA4AFB9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D05B-2A93-4339-BC97-878632D5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61CD-23A4-4D06-BFC3-73C6E514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51F5-90FC-4FAB-A04C-A770DE09E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470B-49DB-4F0D-81B6-66E59297D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3049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 Came upon the Midnight Cl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37160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1. It came upon the midnight clear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glorious song of ol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angels bend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near the earth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o touch their harps of gol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28480" y="99072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dmund H. Sears, 1849 (Lk. 2:8-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ace on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will to 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heave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gracious King.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ld in solem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ness l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r the angel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Still through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oven skies they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eace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ngs unfur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till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ly music floa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ll the weary wor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its s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owly pla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y bend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vering w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 o’er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abel sou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lessed angel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nd ye, ben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’s crushing lo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fo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ending 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toil a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limbing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ainful steps and s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 now! for gl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lden hou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swiftly on the w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rest be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eary ro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ar the angels s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For low! the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hastening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prophet seen of 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-circling y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he time foretol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over all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s ancient splendors f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whol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nd back the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ch now the angel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Peace on the ear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od will to me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rom heaven’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 gracious King.”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ld in solem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illness lay to hear the angels s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Still through the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loven skies they co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eaceful wings unfurl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still thei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ly music floa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ll the weary worl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its sad and lowly plain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y bend on hovering w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 o’er i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abel sound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blessed angels s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And ye, benea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ife’s crushing loa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forms are bending low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 toil alo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climbing wa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ainful steps and slow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ook now! for gla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lden hour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ome swiftly on the wing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rest beside the weary roa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ar the angels sing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4. For low! the day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re hastening 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y prophet seen of ol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ith th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ever-circling year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he time foretol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en peace shall over all the ear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ts ancient splendors fl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whole worl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end back the so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ich now the angels s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 Came upon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idnight Cl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1337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It came up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 midnight clea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glorious song of ol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from angels bend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near the ear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 touch their harps of gol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28480" y="163836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dmund H. Sears, 1849 (Lk. 2:8-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12-05T00:21:08Z</dcterms:modified>
  <cp:revision>65</cp:revision>
  <dc:subject/>
  <dc:title>PowerPoint Presentation</dc:title>
</cp:coreProperties>
</file>