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F81-59A9-4264-B2E0-127161B4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242-A3F5-4CF3-B668-0DF6DEAB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77B-7F05-460A-89C0-FD97FB16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C5C-EE66-438B-85ED-6B03D36F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D63-0F6E-4858-8E89-787B6B9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C48-3EEE-4952-9531-76282D5E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D69-BF19-47E6-AF7B-68D5407D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039-DC5C-4EBA-A14C-F5FD111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02A-37E8-4463-A2E1-35370E11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EA1-78DE-406D-A3B2-FE93327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412-49B8-4C7E-8E59-C7752DA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885-FA4A-4F5E-AC79-6FBF927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DB11-4B88-46F8-9E62-9F430BB4C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command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love one an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have love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 © 1988 S T Kimbrough, J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600" y="1066680"/>
            <a:ext cx="805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mans 12:9, 16; Song of Solomon 8:6-7; 1 Corinthians 13:4-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lossians 3:12-14; 1 John 3:18; Tobit 8:7; Psalm 127:1, 34:8, adapt.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 T Kimbrough, Jr.; Response 1, John 15:12, Response 2, Ephesians 5:30, 31b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builds the hou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abor is never in v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e refuge in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are redeemed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wo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92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love be genu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ive in harmon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te what is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d fast to what i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d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howing hono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ever concei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stronger than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jealousy is cru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gra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loods cannot drown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alth cannot buy it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love above all el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Christ’s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ule your hear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be forgiv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Christ has forgiv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not jealous or boas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rogant, rude, or stubbor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rritable, resen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r possessi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ve is patient and kin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love in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speech on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ve also in deed and tru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ceive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ince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d merc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ow old 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600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joices in the r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bears, believes, hop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ures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love is fai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less.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21Z</dcterms:modified>
  <cp:revision>30</cp:revision>
  <dc:subject/>
  <dc:title>PowerPoint Presentation</dc:title>
</cp:coreProperties>
</file>