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CC7-EC41-4741-9A3B-E3E0A76B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7F4-1BED-4C46-9850-0D89150A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9CE-F705-4A89-A4E7-8584709E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EFF-F32A-4A00-8343-78934D46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38A-3B69-4438-8134-79BC8A6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001-E334-478B-97D8-A1C2AF52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4E1-6D5A-4466-ABB3-DDE70181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93B-2A47-404E-AC2A-FE6CC178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6B4-BED5-42BC-ADC9-DFFE8D6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C58-7214-4A88-81C5-F612282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216-8EF9-4AEC-A02C-3A0171F1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78C-35CD-401A-A39D-267365D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C1C8-FAAA-4E59-A659-16CC7D5F6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w-Kee, Aim Daw-Tsi-Taw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Great Spirit, Now I Pr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404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12Z</dcterms:modified>
  <cp:revision>90</cp:revision>
  <dc:subject/>
  <dc:title>PowerPoint Presentation</dc:title>
</cp:coreProperties>
</file>