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F1C-4016-4945-A171-E9CB93CB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894-4ABC-40FB-9015-7C7BFEA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0AD-FAE1-4167-9D1C-80C28FC7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EF5-56F4-40F2-9E3E-B5E50E8B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C6B-651E-4DD2-B07C-932EB054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3F4-E0CF-484C-9314-C8241218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EA6-79CE-43C8-B59C-364BAD2D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078-8D42-422E-80F6-79AF5A7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9D3-95A0-4C46-ACBB-13DB5822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8DE-17BD-405B-AC29-F15FEB1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2A6-6173-4BC2-87FB-EBE9D7C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07A-A09A-4C98-B519-FB277A6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A099-34D2-4EF0-9B82-D1FF8868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8:29Z</dcterms:modified>
  <cp:revision>53</cp:revision>
  <dc:subject/>
  <dc:title>PowerPoint Presentation</dc:title>
</cp:coreProperties>
</file>