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9A3-2018-49E5-8E02-77969E97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6B4-184E-4F7E-AF68-5D3F444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E76-6C38-4F53-BE86-027AD393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D2B-8869-41D5-8DF3-689BF8B3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7A2-ED68-467A-8B63-A0C5EAB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E18-5C51-4265-AE40-5470408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A75-682D-4FD8-A2B7-9AA1725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113-CEBC-496F-9E22-8B8D4FD4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0EA-335D-465B-A4FA-9785F9E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33E-D36C-4AD1-AE2F-502165B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14A-4E07-49E2-A6EB-9252DEC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F6B-E23F-4BC4-948E-0D3DBE1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308-1DFE-4C96-91D6-7BABFD0E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Back Quickl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Young Taik Chun, 1943; trans. by Sang E. Chun and Ivy G. Chun, 1988 (Lk. 15:11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ow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ins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how burden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 sin he canno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sinner not accep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loving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uch gre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waits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do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pt open w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anxious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day and every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 chil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gone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you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 have sin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ren’t fit to be hi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ll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big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, come back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pen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3:06Z</dcterms:modified>
  <cp:revision>99</cp:revision>
  <dc:subject/>
  <dc:title>PowerPoint Presentation</dc:title>
</cp:coreProperties>
</file>