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640-C5D4-49D8-9C89-1418BC74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8EA-8168-498B-A145-606F658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0EB-967F-456A-9EF9-FE8FC692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7E0-2608-4B15-B2AF-E414E4C4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BC7-B85C-474F-9CF0-3EFA3E43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B5B-FF8C-4CA9-9B49-FB32C493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699-631F-47C5-92A7-451CBB42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0EF-F965-4117-859D-129F32E7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71D-01E3-4560-B9F2-0F00849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79E-64CE-4FCD-9E8D-EC82246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1C1-EF72-44A6-999C-092FF3A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A0F-1ECA-4F94-96A0-9334717C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B657-6ACB-4377-AB0F-408F1C3B8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Faith, Come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6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pirit of faith, co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 the thing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itness with the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thine the blood to ap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us eyes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d for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surely di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 one can truly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less thou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eil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eath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only then, we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interest in hi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y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hou art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migh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ll-atoning Lamb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of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and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tue of his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ng power, im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stify to hu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eak in ever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spire the living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which whosoe’er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tnes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selves they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ciously believ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th that conquer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o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s who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esus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s them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21Z</dcterms:modified>
  <cp:revision>87</cp:revision>
  <dc:subject/>
  <dc:title>PowerPoint Presentation</dc:title>
</cp:coreProperties>
</file>