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857E-6314-4371-AC66-2D5EDC117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C907-E870-456B-9406-F4B93EE63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1B25-22A8-4697-A358-99C359B67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514A-A8F7-4227-8007-DA8950C5C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737A-2F4A-4445-9385-4EEDBB4DF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DCCE-D616-4365-9D47-EBA12DE82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0082-E229-4CE9-87DB-F6591758B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8668-B676-4D7A-B5C0-4F2FE800F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B380-813B-495C-A8B0-04A11B090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0BBD-A794-4F06-9AB2-556C45C6A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F685-EBDF-41A4-BDBE-DBD5B5BC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3A7D-AD96-4777-B904-DB4073592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63E4F-2480-4EBC-AD7E-A6AC6BB950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Day Is Past and O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8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day is past and ov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anks, O Lord, to the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pray thee that offensel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ours of dark may b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ay Is Past and Ov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40760" y="1143000"/>
            <a:ext cx="71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Anon., Greek, prob. 6th cent.; trans. by John Mason Neale, 185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Jesus, keep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y s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uard us throu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oming n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e joys of day are ov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lift our hearts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all on thee that sinl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ours of dark may be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ay Is Past and Ov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Jesus, mak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darkness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uard us throu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oming n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he toils of day are ov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raise our hymn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sk that free from peri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ours of dark may b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ay Is Past and Ov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Jesus, keep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y s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uard us throu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oming n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Be thou our souls’ preser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God, for thou dost k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many are the peri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which we have to 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ay Is Past and Ov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 Jesus Chri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hear our c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uard and sa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s from them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9:34:49Z</dcterms:modified>
  <cp:revision>20</cp:revision>
  <dc:subject/>
  <dc:title>PowerPoint Presentation</dc:title>
</cp:coreProperties>
</file>