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0FD-6A71-46EA-9A6D-3A6E6DA0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45D-0F23-4ED6-B100-1CC4EF02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41A-8065-43D1-8AD1-AED45B26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38C-C242-4545-895F-A40D9432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E4A-1189-41E3-BDC8-590E3B5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586-2B65-447A-99F4-7CCA8B54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B23-C553-4995-A1BE-85CC8983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ECB-1DE8-45AD-BD90-6C721959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4CA-7ACC-4E8D-806F-0BAFDCB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532-C1F7-43B2-8C89-D91597C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3FE-0B6E-4314-AEE9-9694BB1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CF1-421E-4215-81D0-31B5B2D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0D4-07BF-413D-AC94-4A482E6B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to us, and among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as the wi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leanse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as the fire, and bu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ome as the dew, and refresh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990720"/>
            <a:ext cx="4382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Eric Milner-White, England, 20th c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71440"/>
            <a:ext cx="883908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vict, conve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onsec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ny hearts an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our great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o thy greater glor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is we as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Jesus Christ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7:40Z</dcterms:modified>
  <cp:revision>24</cp:revision>
  <dc:subject/>
  <dc:title>PowerPoint Presentation</dc:title>
</cp:coreProperties>
</file>