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F4E-DC0A-4802-A662-FAB9F295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209-82C4-4EFD-A4EE-B2D009D4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3F2-56E5-4EF4-8EDA-57C34D30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F3B-9726-464F-9759-1ED961F6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5F4-3BEB-4CB7-A492-1F1AB1A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19C-C095-483D-8A0B-D28F0F37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C52-58AA-4FC2-A8F5-E77B2EF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BEC-79AC-4168-9EA4-C0442FDB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3C2-2B37-4B5A-84D3-BD75EC3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5FD-2327-4B79-8CF6-021C24D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F33-9D10-48F8-AD76-1CA80054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42E-6F2A-491C-9E77-4365D72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80AF-EFB0-421C-8B7A-6B10B94A8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Churc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ts its outer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roar of traff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w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 (Jas. 2: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our prayer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 times mor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 we b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Christ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our hearts ar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evotion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bove this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world of ou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ymns sh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rget its nee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Christian d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st the gifts we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ney, talents,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o sa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nsc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ecret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reprove, inspi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y you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, dying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rue Christian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59Z</dcterms:modified>
  <cp:revision>96</cp:revision>
  <dc:subject/>
  <dc:title>PowerPoint Presentation</dc:title>
</cp:coreProperties>
</file>