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392-7D8C-424C-AB3D-C6D7FAB2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301-94E7-4699-8979-FF38480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CCC-7F63-4725-BE31-B4F68941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652-CAAE-41CC-9AB4-DC1A540C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3BA-87FE-485E-8AE6-846EC519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B45-CDCF-4F33-ABCC-7A97296A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7AD-2FD8-491C-B88A-EA9CE39A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32F-3077-4F6F-953F-55938456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941-C4D3-4FBC-920E-A57BC7E6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2B7-8A9A-40A2-8744-BE493788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DFD-E8A7-4397-A7FE-67ADAEB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C72-B4FB-45FC-BBFB-B007019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D227-D1C4-4496-BA64-12AB74FD5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ll Understand I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tter By an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are tossed and drive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the restless sea of ti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ber skies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ling tempes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t succeed a bright sunshi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Albert Tindley, ca. 1906 (1 Cor. 13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guid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’ll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mptations, hidden sn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ten take us unaw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made to bl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 though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r d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w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the 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o our b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’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t land of perfect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ists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are often destitu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ife dem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of f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nt of she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y hills and barren l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ru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cor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’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rials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ver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cannot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would lea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at blessed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1:36Z</dcterms:modified>
  <cp:revision>52</cp:revision>
  <dc:subject/>
  <dc:title>PowerPoint Presentation</dc:title>
</cp:coreProperties>
</file>