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99B3-2396-4F41-A4FC-5F73D82DE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70B0-6E23-497D-AED7-B84E7B52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5196-BEEC-4AB1-8ACF-5C7C6F75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7DD9-5279-4978-BA15-E3C467D7E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8D14-1472-415D-A4AA-E2428C89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FE9B-8EE4-47FC-9B81-689232E7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BCD7-7685-4499-97B8-E8B48455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3E36-7A08-4200-AA69-9D21C44B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7EB6-7A62-4A29-9620-CBAC2C20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6BB3-F37F-405A-9ADF-36458150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3E6F-D7CF-439D-990B-DEE01D2D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A38A-5343-450F-AC1C-0E37F220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8226-534D-4AD1-8375-72F70D55F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aising God of Many Na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 burning Mountain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 chosen Sun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 perfect Moon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 fathomless We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ing God of Many N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8480" y="1066680"/>
            <a:ext cx="5025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Mechthild of Magdeburg, Germany, 13th cent.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 unattainable Height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 Clearness beyond measure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 Wisdom without end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 Mercy without limi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 Strength beyond resistance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 Crown beyond all majesty: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The humblest thing you created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  sings your praise.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3T14:52:05Z</dcterms:modified>
  <cp:revision>19</cp:revision>
  <dc:subject/>
  <dc:title>PowerPoint Presentation</dc:title>
</cp:coreProperties>
</file>