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39F-51B4-4DAD-B73C-807DCF0E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EA3-7318-410E-BCF7-724D0489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FCE-F34F-4DF7-BD79-A5E8F132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1DF-7A99-4183-BC45-18F3E504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36E-C02F-408C-9B3A-B227235F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F04B-2578-43A9-941E-0DCF1529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D48-90B2-456C-B604-50B655D5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1324-414E-4CE5-8A24-B0AFD5F3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79E7-4864-4152-9C67-9740FF72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795D-A080-4A8C-A897-6CF9F0F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A6C7-0EF4-4E64-AAFF-993C6635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48D-679A-46D4-9B2D-9F28B75D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AFEC-A10F-4DCA-9569-CEFE0CA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AB39-E74E-4F27-ABDA-8D19B9A1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505C-AC34-4752-892B-C6B06D26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70A7-696F-4D75-8587-D1A6D9EE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EAA9-4DD0-46AC-B7D3-604B0C6B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CAD-A002-42C1-A71D-F3CA2E9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7DD-62C3-4639-87A7-37AE3F8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118-10C6-4BB8-91BD-CE188B3D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80D-2DC6-42F3-A298-5C913757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1E9-11A7-43F4-B1A3-3F7BA47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97D-DFA4-46C4-AF9A-C97B39A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073-583C-4694-9E8F-304F22E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465-9723-4AF9-8D89-3125062A3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8F1E-937B-4DF6-BA30-FA4F0BF7F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2680" y="63972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2680" y="63972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2680" y="106668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19T15:37:12Z</dcterms:modified>
  <cp:revision>19</cp:revision>
  <dc:subject/>
  <dc:title>PowerPoint Presentation</dc:title>
</cp:coreProperties>
</file>