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B2F-DCA5-499F-BAAC-D056A6A2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2D9-33A7-4E74-8BE7-DAF700FF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73D-5A09-45F0-B6D3-4152FD56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E26-01CA-4F8E-A389-C6E6DF9C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106-202C-4379-BCF6-47E2AE80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A20-DA90-4EB9-87B7-C2EA95A1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8C7-2E43-4455-A1D7-8C538D30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3A1-1BDF-42AC-8B2E-B799DA70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59D-1433-4190-8FCF-BB4D2249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4D5-B297-4097-8E86-261A6659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E3F-6038-48DA-AC70-A6B9CAD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33F-0C74-49E3-8F85-D273526E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7523-2699-4FB7-BE40-90C24AEA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Joy of Our Desi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Janus, 1661;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joy of our desi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ost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b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aspi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 to uncreate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lesh that fashio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impassion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ruth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ing,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ope is gu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, what peac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ic ring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fl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conf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of joy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less spr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beau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wisdom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iest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ost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oys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00Z</dcterms:modified>
  <cp:revision>146</cp:revision>
  <dc:subject/>
  <dc:title>PowerPoint Presentation</dc:title>
</cp:coreProperties>
</file>