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7AE-A8F3-4F98-8B4C-02C31DD0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B14-5C0F-4C3B-97EE-4E1CD37D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1CC-AA2A-45B8-A8F0-D54C9B82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8D2-70F5-4950-AE2A-61CE24DB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FA4-126F-4279-917E-AA44C50A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05B-8427-46B7-A6F4-B0F76754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895-61AD-4B0F-8D91-571F24F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9B3-0ACD-4ADE-9F17-29245CB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E58-1A58-450E-BC74-F0DA46EE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A6C-D1FB-45C7-A733-462823A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0CC-420C-4B62-9D73-D53DE5BD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861-7B6F-46AB-BFF8-FD33392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AAE7-EEBD-4467-879A-02C213B47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and Great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y and grea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are thy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7880" y="1092240"/>
            <a:ext cx="72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R. Renville, ca. 1846; para. by Philip Frazier, 1929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Ps. 104:24-30; Jer. 10:12,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s have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with st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ingers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s and pl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at thy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ers were form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seas obey thy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rant un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ar abiding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un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well with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re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us with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s no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2:26Z</dcterms:modified>
  <cp:revision>8</cp:revision>
  <dc:subject/>
  <dc:title>PowerPoint Presentation</dc:title>
</cp:coreProperties>
</file>