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CC8-11E6-4F94-A46E-B4D7A8BE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D57-DA46-4892-A35D-1AE9E8E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4C6-FE70-4CF3-A6AE-9C37A407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2A3-1A25-4E31-B382-F02D9C34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F1F-9154-4215-965D-A9F7AB07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02A7-95A8-4675-AC2E-9B4A96AE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E789-452C-4229-8394-A9FC0E8E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703-E516-4503-A950-96C036C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5133-21B5-45D4-8229-0686C836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C62F-B377-4279-8C82-920D7048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3083-8992-47C7-80BB-448F745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FEC-B449-444F-962B-DA4EF0FD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2EA4-A97B-4DF7-B655-7C8469C8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119E-6FEA-44C8-9FA1-C1BDA5C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398A-1BCE-49B6-9FFA-464B8E7A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622C-9F55-4263-83B7-FA6879A5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D38-A3CB-42FD-9940-30787BE0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662-EC28-41DF-8E77-61B5DCDA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804-F78E-46FA-BBEA-5D427540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199-A962-44CA-A580-D6589DE6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380-CCA6-48E5-8E69-EE8576D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AB0-3697-472E-B2CC-85737E6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5D4-9F5D-4C84-AADB-A805A0F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50C-E001-4F63-8854-E70B1D8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51C6-89FC-4CCC-9D35-C89EF2830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5C6-EB6F-418D-93DC-846FF260D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366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Come, let us jo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friends ab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 have obtained the priz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2160" y="14479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let us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obtained the pri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2160" y="17524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 the eag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g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oys celestial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aints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to glory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and heaven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e fami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hurch above, be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now divi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tream of dea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arm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command we b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 of his 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crossed the f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 are crossing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n thousa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endless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olemn moment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rgin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xpec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now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in our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that went bef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ee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-besprinkled b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eternal sh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ur spirits to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quickly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ith glory crow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u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aptain’s s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r his trumpet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grasp our Guid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the word were giv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 of Ho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ves di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nd us all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n the eagl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ngs of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joys celestial r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saints on ea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e to s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those to glory go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all the servants of our King in earth and heaven are 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652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One family w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well in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e church above, beneath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gh now divid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e stre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narrow stream of death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e army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his command we bow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of his ho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ve crossed the flo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part are crossing no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en thousand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ir endless ho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solemn moment fl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e are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argin c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e expect to di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E’en now by faith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e join our hands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ith those that went before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greet th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lood-besprinkled bands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on the eternal shor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Our spirits too shall quickly joi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ke theirs with glory crowned, and shout to s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Captain’s sig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hear his trumpet soun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at we 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ight grasp our Guide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at the word were given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, Lord of Hos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aves divi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and us all in heav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05T23:28:46Z</dcterms:modified>
  <cp:revision>53</cp:revision>
  <dc:subject/>
  <dc:title>PowerPoint Presentation</dc:title>
</cp:coreProperties>
</file>