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EF8-E7C6-4C9B-90E0-40199F84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91A-F690-4B3B-A063-ABAF8D48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D9E-D1D3-4D81-B2A2-928E78A7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736-5763-40C9-AB1F-7C8E5639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0EE-D426-468F-B544-F7B889AE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75A-A7BD-4557-AF12-11CE5418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A12-E75C-4365-BD82-8D7D2788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849-5FF4-414B-A1B2-58943EFF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F4E-8187-4051-AAD2-7827952D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B8C-8D8E-4DFF-943E-054387F9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9CF-9FC8-46E3-8C60-4F443DBD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DDE-8DE8-4805-91C0-239E8FC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557F-42F3-4695-B58F-813AEA581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Are the Se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Sois la Sem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672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, 1979; trans. by Raquel Gutiérrez-Achon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Skinner Chávez-Melo (Mt. 28:19-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571840"/>
            <a:ext cx="8686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 are the seed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 a new spr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’re a star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in the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4160" y="1523880"/>
            <a:ext cx="7173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new kingdom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uilt on a rock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here justice and truth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lways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85800"/>
            <a:ext cx="914400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0120" y="1219320"/>
            <a:ext cx="6995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1880" y="1752480"/>
            <a:ext cx="7401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You are the lif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ture the pl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’re the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 turbulent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3680" y="1828800"/>
            <a:ext cx="5443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terday’s y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ginning to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oaf of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y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5560" y="1752480"/>
            <a:ext cx="5497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ere is no place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for a city to hide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nor a mountain can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cover its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3480" y="1752480"/>
            <a:ext cx="664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ay your good deed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how a world in despair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 path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lead all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762120"/>
            <a:ext cx="853416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6800" y="1219320"/>
            <a:ext cx="6677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1. Sois la semill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ha de crec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estrell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ha de brill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5720" y="1752480"/>
            <a:ext cx="685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y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small grain of sa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752480"/>
            <a:ext cx="8534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evadur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grano de sal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torcha que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be alumbr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6840" y="1905120"/>
            <a:ext cx="6218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a ma</a:t>
            </a: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an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vuelve a nac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is espig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mpieza a gra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4160" y="1828800"/>
            <a:ext cx="6980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is aguijón y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ricía a la vez.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stigos que voy a envi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1600"/>
            <a:ext cx="91440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4880" y="1981080"/>
            <a:ext cx="7049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4760" y="1676520"/>
            <a:ext cx="5423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is una llam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ha de enc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plandores 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 y car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1920" y="1676520"/>
            <a:ext cx="4861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is los pasto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han de llev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mundo p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as de pa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1760" y="1828800"/>
            <a:ext cx="5776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os amigo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quise escog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palabr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intento esparc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1920" y="1752480"/>
            <a:ext cx="7012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reino nuevo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empieza a engendrar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justicia, amor y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371600"/>
            <a:ext cx="89154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1160" y="1905120"/>
            <a:ext cx="7403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dawn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ring a new day;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’re the wheat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ear 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4880" y="1523880"/>
            <a:ext cx="7049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6280" y="1752480"/>
            <a:ext cx="5604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ois fuego y sab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vine a tra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is la o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gita la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8960" y="1600200"/>
            <a:ext cx="46306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levadu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queña de 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menta 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a del 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9200" y="1523880"/>
            <a:ext cx="5209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Una ciudad no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e puede escond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ni los monte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e han de ocul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7160" y="1828800"/>
            <a:ext cx="6660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en vuestras obra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buscan el bien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el mundo al Padre v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447920"/>
            <a:ext cx="86868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88560" y="1523880"/>
            <a:ext cx="7049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6080" y="1752480"/>
            <a:ext cx="6608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a sting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d a soft, gentle touch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y witnesse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33520"/>
            <a:ext cx="853452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0640" y="1905120"/>
            <a:ext cx="80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You are the flam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en the dar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ing sparkl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, faith, and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9440" y="1828800"/>
            <a:ext cx="6502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ead the who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valley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stures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828800"/>
            <a:ext cx="6375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friend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at I chose for myself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e word that I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ant to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8:30Z</dcterms:modified>
  <cp:revision>91</cp:revision>
  <dc:subject/>
  <dc:title>PowerPoint Presentation</dc:title>
</cp:coreProperties>
</file>