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EAF6-5031-47FC-8964-DC2B9828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4B48-00B0-4854-8FC8-78E38C3E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C75E-7417-4B17-96D1-97B0B1330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6455-626D-4B85-B4FD-3F0A04A9A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03B5-3B90-4C9D-9598-2C3B08E97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A50D-906B-4352-9A08-929424D1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B46D-A126-4698-B359-48A410F6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A4F2-4408-4889-A9C9-43C35A0F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BC32-76CB-4E56-A538-33C56D4A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25D9-291C-485F-B4F1-178F49F3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B060-475F-486D-8F6F-A784DE4C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C6B3-AC98-4E31-BB98-DA74828D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6C7D-2567-4EEE-8AC1-81D485D4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149D-FD5E-4066-87C9-2649C047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5907-A46C-4E34-A4D2-D26EAB00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235F-D149-45DA-AF32-40B26FED0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1C65-9653-46B5-A34F-8A39546E2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650E-0699-40E2-A54E-B7122BA5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D3D7-1EC6-4A08-BE6C-2F011906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AB20-BE01-4FB9-B2EC-E5A2E18A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89C0-ECD7-401C-96F5-7A9EC889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E2A1-6E18-484B-A7A8-70236501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92C8-3BED-40A3-BF60-967DF6C6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EB33-AFB5-44F1-8DCA-87FFBA75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D86A-95C9-41CF-B09E-98EF3313B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F3E4-F0E6-4F16-8E5B-F13E8BC3C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aptism of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5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676520"/>
            <a:ext cx="8839440" cy="350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Father in heaven, at the baptism of Jesus in the River Jordan you proclaimed him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your beloved Son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 of the L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6560" y="1092240"/>
            <a:ext cx="785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fter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The Book of Common Prayer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(Mt. 3:13-17; Mk. 1:9-11; Lk. 3:21-2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685800"/>
            <a:ext cx="815328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and anointed him with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the Holy Spirit.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Grant that all who are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baptized into his name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1066680"/>
            <a:ext cx="883944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may keep the covenant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that they have made,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and boldly confess him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as Lord and Savior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304920"/>
            <a:ext cx="9144000" cy="49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who with you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and the Holy Spirit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lives and reigns, One God,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in glory everlasting. 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aptism of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5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82880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ather in heav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t the baptism of Jes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the River Jorda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proclaimed hi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r beloved S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 of the L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6560" y="1092240"/>
            <a:ext cx="785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fter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The Book of Common Prayer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(Mt. 3:13-17; Mk. 1:9-11; Lk. 3:21-2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95360" y="1919160"/>
            <a:ext cx="8153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nointed him w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Holy Spirit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ant that all wh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re baptized into his na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y keep the covena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they have mad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boldly confess hi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s Lord and Savio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09480" y="1477800"/>
            <a:ext cx="853452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with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e 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lives and reig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e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glory everlasting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1-09T00:03:36Z</dcterms:modified>
  <cp:revision>11</cp:revision>
  <dc:subject/>
  <dc:title>PowerPoint Presentation</dc:title>
</cp:coreProperties>
</file>