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D85-0AAE-4E7D-9324-D007584F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97B-4C21-4B4F-A7DB-EE6B1F4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B55-48A1-40E6-9DB5-792AF923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B3D-450E-4377-A826-AE6B6920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A54-2CDA-4048-BC34-8317E7C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9B8-CF88-4FC1-A2CD-D2528E6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D48-9842-41C6-B216-B78D947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1E9-C54A-47F1-865E-8FCCEA08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D04-7B24-4B2A-92EA-4AA254F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A4F-BFA5-404A-977B-14270D2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68C-9338-44DD-B842-BD00BEE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AFB-8DBC-4E9F-AC80-3BB9956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DE1-E5F0-48E7-984F-290B820A5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man in the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oman in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t from giving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our preciou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on the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520" y="101592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omen on the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comed and rest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l far and w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 to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Women on the h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when men have fl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needs lov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your hope i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Women in the da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and spices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liest to mou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liest to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man in the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eping up beh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ing is allow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and you will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oman at the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stion the Messia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your friends and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your heart’s des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oman at the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righteous st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go in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him with your h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oman in the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d to be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your second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sten, think, and spea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5:14Z</dcterms:modified>
  <cp:revision>31</cp:revision>
  <dc:subject/>
  <dc:title>PowerPoint Presentation</dc:title>
</cp:coreProperties>
</file>