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772-EA16-4DA3-89CE-D5D98757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B05-D11E-45E2-8ADE-71FD9DFA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C99-BDFA-47F2-8CCF-DC6D075F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D09-0266-44A9-8E6B-F6D86521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511-12BC-4899-96CC-A472AB7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C52-97CA-4F1C-81E3-E6D4FCD5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A99-44E2-445E-B9C9-E0691584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AF0-BBE5-4337-88FD-59D4060D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3C6-176A-48E8-8467-DD45D39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D12-C9A6-4E94-9680-624958D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D70-A6B2-4C56-A4F2-77B3B0F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8ED-70AD-4A61-B6D1-1B54457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507B-9FFF-4698-9C89-677BD43C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Ignatius of Loy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serve you as you deser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give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ount the co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fight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ed the wou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Ignatius of Loy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2960" y="990720"/>
            <a:ext cx="42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gnatius of Loyola, Spain, 16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oil and not to seek for re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labor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ask for any rewa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xcept that of kno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we d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8:16Z</dcterms:modified>
  <cp:revision>13</cp:revision>
  <dc:subject/>
  <dc:title>PowerPoint Presentation</dc:title>
</cp:coreProperties>
</file>