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B3C-A23A-42D9-8C75-F1A714CB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337-A2ED-466F-8575-A81C049B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054-48F9-4072-BE9B-442F8FE0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4F3-B0AE-48C3-8C2A-44623E40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A0B9-1A37-40D9-B54A-52A57525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639E-BD1E-4F8E-84A9-11F889A2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D9EE-8AB2-45F3-965A-7DEB2BE5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13F6-DCC6-4C39-9A35-71280B37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0066-2AFF-43DE-8DB3-14D7730D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75EB-33C4-4C7A-A62F-D3703BEA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C22E-6D59-431F-BB85-1F65073B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4730-9162-4E4A-BC18-08D59891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C5F0-90C4-49AB-9549-482CCF1C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8F5F-0A68-4E87-9355-B1BFB524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B229-50FF-4BDB-A7D1-E3D3B963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A35E-AD0E-4DF3-9890-BAF900D5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6D3E-9981-405D-873E-3D23DAE3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37A-9DC7-4CF6-8BFC-58DF10FB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25D-9301-40B9-BD9A-A6AB81D4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C615-5884-456C-99C0-3E670162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0D3-C10B-42B9-A77C-BB4CFD1E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590-BD1F-45CD-846B-E9824FF2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D81-C045-4B3D-9C98-5FE9AF8C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311-97F9-4D10-AEB2-82CB26C5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4BC2-D518-49E9-B503-CA8E7420A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D2C6-D711-4382-9E34-F8FE4AF18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a Frie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Have in Jes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6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251460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hat a frie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have in Jes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our sins and griefs to bear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at a privilege to carr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verything to God in prayer!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1752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seph M. Scriven, ca. 185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119160"/>
            <a:ext cx="9144000" cy="57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Can we find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a friend so faithful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who will all our sorrows share?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knows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our every weakness;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take it to the Lord in prayer.</a:t>
            </a:r>
            <a:endParaRPr b="1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334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3. Are we weak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avy lade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cumbered with a load of care?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Precious Savio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our refuge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ake it to the Lord in prayer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Do thy friends despise,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forsake thee?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ake it to the Lord in prayer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arms he’ll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ake and shield thee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wilt find a solace there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hat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often forfe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hat need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in we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because we do not car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thing to God in prayer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ve we tri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mptations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re trouble anywher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discourag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it to the Lord in prayer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we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friend so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ill all our sorrows shar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kn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y weakn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it to the Lord in prayer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334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re we w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vy la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mbered with a load of car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our refug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it to the Lord in prayer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thy friends despis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sake the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it to the Lord in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arms he’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and shiel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wilt find a solace ther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763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What a FriendWe Have in Jes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26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1066680"/>
            <a:ext cx="9144000" cy="405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1. What a friend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we have in Jesus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all our sins and griefs to bear!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privilege to carry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everything to God in prayer!</a:t>
            </a:r>
            <a:endParaRPr b="1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685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Joseph M. Scriven, ca. 185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71280"/>
            <a:ext cx="91440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 what peac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we often forfeit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 what needles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pain we bea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because we do not carry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thing to God in prayer.</a:t>
            </a:r>
            <a:endParaRPr b="1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7632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2. Have we trial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nd temptations?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s there trouble anywhere?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We should never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be discouraged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ake it to the Lord in prayer.</a:t>
            </a:r>
            <a:endParaRPr b="1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1-21T02:06:32Z</dcterms:modified>
  <cp:revision>54</cp:revision>
  <dc:subject/>
  <dc:title>PowerPoint Presentation</dc:title>
</cp:coreProperties>
</file>