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AE4-A55A-4846-AC28-513BF754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4D9-F52F-452F-B302-3F12A9AE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2B9-D9FF-4C6F-A5BB-A7AC3354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8A8-DEEB-426B-817A-D82B59DF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382-D5BA-41C3-8A2E-CB8C293D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DFB-963A-4250-B3A9-8DD56DAC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0C6-16B6-4CDC-A2D4-E594DEA2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338-CEFF-45F0-9799-E3CB37C5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702-E743-4EBC-BC08-BCC40DAD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A7F-3DFD-41E1-9A5B-27EAA50C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CCB-C018-42B0-8F92-816FAF72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514-BE4B-4BC5-A2CD-E915ED68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C8F8-96B0-4502-AE9C-B24A8B16A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 of Chri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Every 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church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et by chan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pirit-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re for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reser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ea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berat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claim and 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rit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on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cross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ross the str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i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justice cr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helt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read to 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they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n let the serv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caring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ngs to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artner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sacrif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th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huma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or he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blood was 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cure the f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bl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us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our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ving multitu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have no mi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ull obed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4:13Z</dcterms:modified>
  <cp:revision>92</cp:revision>
  <dc:subject/>
  <dc:title>PowerPoint Presentation</dc:title>
</cp:coreProperties>
</file>