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230-1A95-40DB-BCF7-4DE38DD0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F56-2A83-4FD8-874F-A0C1F6C2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992-CC1A-407D-B5DD-9E27B4D1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9F4-2011-41A9-AD04-066E6981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5A39-74C1-47B7-A680-96042DA0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13A2-FEF4-4A11-892A-E9523D1A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F07F-8FAD-4034-97FD-7C5BCC0F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56C8-EF04-4CC1-A26F-A2DCBD8D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35A0-1076-4E4B-9F92-818C1198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217F-00C5-42C0-8C08-02FB2278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D84D-B30A-491A-BB3B-6B2CD0BE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E74-02D6-4CE2-9581-BE2C9DCD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7203-BE46-4C60-8C48-9911D69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AC06-D7A1-430A-8090-F1B54481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5B1E-8029-4A1B-B88A-457ECD87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02E7-8712-48A1-9691-CE049CA2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608B-137E-4EEF-BDF2-D7457932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015-9A86-4396-9381-D5E2F256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162-D168-4D7D-91DB-711FC40D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899-4305-4A1B-B306-56E7EDE0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86B-7179-455D-B2FC-A9E677E3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831-15A7-4D8A-A152-05E779FD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AD4-BCFD-47F8-9F33-8387F768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C00-E798-467A-8DD1-B1B28167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4D2A-443C-49A2-91AB-0880F90D6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6B1E-B47A-49F1-A58B-B3183CE83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Bleak Midwi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n the bleak midwin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sty wind made mo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stood hard as ir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like a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89520" y="118116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ristina G. Rossetti, 1872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320" y="152280"/>
            <a:ext cx="4876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now had falle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now on snow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now on snow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bleak midwint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g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280" y="212760"/>
            <a:ext cx="5639040" cy="39344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2. Our God, heaven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annot hold him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nor earth sustain;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heaven and earth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hall flee away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hen he comes to reig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320" y="152280"/>
            <a:ext cx="5257800" cy="39344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In the bleak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midwinter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a stable place sufficed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the Lord God Almighty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Jesus Chris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now had fall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now on s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now on s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bleak mid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ng a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ur God,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not 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earth sust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flee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e come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bl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d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table place suffic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ngels and arch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have gathered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erubim and serap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ged the 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his mother o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r maiden bli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ed the bel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ki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at can I giv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 as I am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I were a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ould bring a lamb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I were a Wise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ould do my 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what I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give him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320" y="228600"/>
            <a:ext cx="5715000" cy="39344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1. In the bleak midwinter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frosty wind made moan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earth stood hard as iron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ater like a stone;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12-20T02:06:33Z</dcterms:modified>
  <cp:revision>68</cp:revision>
  <dc:subject/>
  <dc:title>PowerPoint Presentation</dc:title>
</cp:coreProperties>
</file>