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A68-1A66-40B2-BFBB-410D6719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7EC9-C9C0-448D-B83A-C531DF66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FE36-4B4E-458A-908E-5F9A0460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EEC-2431-45B9-A50D-34D58881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BE3D-B658-487E-9076-D1AD5795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730D-907C-4434-82F9-DF09F62B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B2D-B3E1-4946-8149-CC39CCD4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6470-6400-4DAD-A953-759D50F9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4F67-9812-46CE-9AFB-9F5568AD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3302-209C-4F59-9A83-99DF27EB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30AE-60D3-4552-9C7B-27513A1B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97D-A786-46FA-BF0A-6A7E0C8C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B4CE-838A-463A-A0E3-192C59BE9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n el Fr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o Invernal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Cold December Flies Awa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En el frío invern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 mes de diciemb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capullo del ros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ota en un pese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78 Lutheran Book of Worship; Spanish trans. © 1987 Skinner Chávez-M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o Inver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3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atalonian carol; trans. by Howard Hawhee, 1978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panish by Skinner Ch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ávez-Melo, 1987 (Is. 35:1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ld December flies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rose red splend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pril’s crow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brea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the who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wonder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December Flies Aw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holy unseen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ch bears the flow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blessed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ooms the reddest fl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ooms the r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n love’s own gar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and strong in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n the hope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me of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dows deep had falle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y undern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yes were closed in sleep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December Flies Aw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, when all see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t in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e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golden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s unending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s the endless jo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ghest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hop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ght daw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beloved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w the bud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blo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world awaken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lil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st flower dwe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wondrous fragran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December Flies Aw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t spread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its bi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ts beauty live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flower it liv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fl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t sprea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its heavenly brigh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perfume delightf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l calor primaver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ce al mundo despert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qué fragante ol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tan bella fl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esa ro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esa ro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esa rosa anhe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 ja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 del ciel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as tinieblas del 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uyen prontamen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mañana deja 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l resplandecient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o Invern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nocturna oscurid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 el mundo clarid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qué felicid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ta Navid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la lu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la lu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la luz divi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mundo ilumin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Va el capullo a florec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a blanca y pur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 fragancia va a ofrec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toda criatur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o Invern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e aroma sin igu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va vida da al mort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de Dios el d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mo galardó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l mun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l mun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l mundo ha da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su Hijo ama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3:26Z</dcterms:modified>
  <cp:revision>79</cp:revision>
  <dc:subject/>
  <dc:title>PowerPoint Presentation</dc:title>
</cp:coreProperties>
</file>