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A1E-4BFA-4354-8920-D0AE7F5E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9DE-410C-4B79-A1D0-7446751D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77D-0BF6-49D2-A752-4BFE407E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FD2-6014-45B8-841D-06793D6F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214-1F4E-4B26-8F42-25C1BF4F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BEC-69E4-4DDE-AB0B-1A0772A8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D09-F66F-4475-8360-B0BD57B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A53-14D7-429B-92C7-6E1E3DAC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FCD-40F2-4739-A2D5-E07760FB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BF7-05E1-47F2-8E7A-9E9E224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158-9DC0-4411-9317-7446FF9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E2B-CBD0-4118-9E73-27F6A1A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2EFB-C454-4CC7-8066-FB258E5A7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Hebrew blessing; trans. by Roger N. Deschne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676520"/>
            <a:ext cx="66294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chaverim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chaver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0481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01992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95680"/>
            <a:ext cx="106668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523880"/>
            <a:ext cx="106668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905120"/>
            <a:ext cx="85345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hitra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hitra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990720"/>
            <a:ext cx="74674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ewell, dear friends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safe, dear friends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907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8195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5720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4920" y="2057400"/>
            <a:ext cx="6554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ee you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ee you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3:26Z</dcterms:modified>
  <cp:revision>160</cp:revision>
  <dc:subject/>
  <dc:title>PowerPoint Presentation</dc:title>
</cp:coreProperties>
</file>