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3FA-42D8-4792-B9C6-D61582D3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73-253D-49CA-AA79-D4E22282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ECF-6CC3-4ADD-AFC0-2352E96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F57-DAC0-4407-9E88-D4CFF3D8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A992-2BDE-443D-AC79-479E9D22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A56E-A3F5-44FD-B034-650A9274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940-7E75-413A-9CBC-9DB816F3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020F-C3A9-40FE-A935-9C8B37E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0AC-B0CA-4510-8F2D-8D829CC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362-0245-4583-8229-04ED2E5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F42-5E1B-486D-828F-A09DE09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A0A-1E00-4F25-904C-E43ABDA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329-84DC-48F1-98E5-E48A12F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91E-3661-409C-9276-616149A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380-B9DD-4C40-95E6-B0EBECD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B26-CEC2-41CD-956B-45F30506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EAB1-992E-499E-B927-A0A7AA7F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978-CA1D-4D3E-9362-F6BA5720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BBF-AC9D-4E02-928F-1C61C5E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B43-B561-484A-9AEC-51BA2A50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A28-6D0B-4758-86E9-CD8792B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3CA-E2BF-445D-B655-99C59A2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FF5-6474-4166-9C7F-EE2698EA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CC3-CF56-4C51-8712-D2641E9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BC6-C6D2-4C33-9CEF-1DFD5690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26C7-48FC-4B1B-A0A6-63B5DF14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 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5080" y="83808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need thy presence here, amid our pr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y face appear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bove our noisy day,   again to lea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ong God’s holy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5080" y="160020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hum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s pr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marv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l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ur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t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sh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be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erve humanity; to make our though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actions less prone to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wa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l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se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back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 fal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ft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ir up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 pro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weal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sta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u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ck of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ve their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omy dread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ce 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app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779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nois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We marvel at the purpose that held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course               while ever on the hilltop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set forward where love and duty shone,           while we betray so quickly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gainst war’s bloody way, where hate and lu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alsehood hold back Christ’s holy sway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bid false love of countr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blinds us to his call, who lifts abo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4. Stir up in us a protes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ed for wealth, while others star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hunger and plead fo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ry out for lack of bread, who live their year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neath a gloomy dread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44:48Z</dcterms:modified>
  <cp:revision>15</cp:revision>
  <dc:subject/>
  <dc:title>PowerPoint Presentation</dc:title>
</cp:coreProperties>
</file>