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D24D-F3CE-4C81-AD01-8B69FCDD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5CA-2C97-4ECF-BE19-207788A8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610-51F3-4BAF-9B7B-0A9AC25B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DAE-DF13-4D80-95FA-164C36B5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FFE3-F630-4672-B5B8-0CA52842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621C-2E97-466D-A9A4-8E754532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DBB-4CBA-4669-A212-1D4C30B1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096-F033-4252-BB41-4611B8CB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0FE-0AAF-4C04-B480-3EE8C310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EC72-CDCB-45F0-8D78-A3DABDB8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DC7-4A77-4967-8EEF-DE2DBA9E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C198-7D60-4E02-B968-D1B9E617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548C-5E8A-4B68-B684-8E87203DC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bide with 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70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7002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bide with m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ast falls the eventid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darkness deepens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ith me abid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512080" y="1219320"/>
            <a:ext cx="40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Henry F. Lyte, 1847 (Lk. 24:29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38088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’s morning break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arth’s vai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hadows fl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n life, in death, O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bide with m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bide with 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ide with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st falls the event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rkness deepe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ith me abid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512080" y="1219320"/>
            <a:ext cx="40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Henry F. Lyte, 1847 (Lk. 24:29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other help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l and comforts f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of the helpl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abide with 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ft to its cl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bbs out life’s little 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’s joys grow d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glories pass away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ge and dec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around I s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ou who changest n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ide with 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thy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passing hou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but th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foil the tempter’s power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, like thysel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guide and stay can b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c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un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abide with 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fear no fo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at hand to bl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lls have no we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ars no bitterness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s death’s sting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, grave, thy victory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triumph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thou abide with 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thou thy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my closing ey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 through the glo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int me to the skies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7621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other helpe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ail and comforts fl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elp of the helples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abide with m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morning brea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rth’s v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dows fl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fe, in death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ide with 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7621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wift to its clos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bbs out life’s little day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’s joys grow d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s glories pass away;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-31680" y="8380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hange and deca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n all around I s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Thou who changest no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bide with m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3049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.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need thy presen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passing hour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but thy gr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an foil the tempter’s power?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600" y="3049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o, like thyself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my guide and stay can be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clou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unshin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abide with m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-12600" y="6858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4.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fear no fo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e at hand to bless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lls have no weigh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ears no bitterness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0" y="7621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is death’s sting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, grave, thy victory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triumph stil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f thou abide with m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-4680" y="7858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5.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old thou thy cros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my closing eyes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through the gloom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point me to the skies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06-25T14:23:11Z</dcterms:modified>
  <cp:revision>45</cp:revision>
  <dc:subject/>
  <dc:title>PowerPoint Presentation</dc:title>
</cp:coreProperties>
</file>