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746-0815-4148-936B-E964ADC4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8FEF-FFDE-4881-BBF6-7E45322C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6B8-73E0-4691-B5F2-F842F4DA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FE67-BEBE-4A7E-A767-B43ADD84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AEA-4E2E-47AC-9FB2-2DF336D9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5914-39C7-4277-AFEB-B8B97B5E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CE3-ED05-4381-BD15-46EDB496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607-BBC5-4D7C-96F5-5C9C9892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DDE1-59F8-44A6-9328-B669C69C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14BC-1350-46D4-B9D3-94013ECC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FA29-220C-4C46-A2CE-B86CC3FF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72F-28B8-410E-8519-74BEDFF9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1215-42AF-4E95-9646-051E83600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ise Up, O Men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Rise up, O men of God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done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sser thing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heart and mi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oul and streng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serve the King of king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Up, O Men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 William P. Merrill, 1911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Rise up, O men of G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tarries lo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in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rotherh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nd the night of w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Up, O Men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ise up, O men of G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urch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doth wa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strength unequ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r task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 up, and make her grea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Up, O Men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ift hig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of Chris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ad where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 have tr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brother of the Son of 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 up, O men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Up, O Men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39:59Z</dcterms:modified>
  <cp:revision>81</cp:revision>
  <dc:subject/>
  <dc:title>PowerPoint Presentation</dc:title>
</cp:coreProperties>
</file>