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602-A40B-45DE-9BA4-D0C7C53F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9AF-FC5B-416F-BD39-57132EC9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F81-1F15-4B08-BC5F-F2D8AFFC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999-F304-4589-AA0E-C48521F0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266-B310-42F7-90EE-9C652F47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27E-2E35-4962-AF9A-1F7BCE99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150-1045-46EB-9B45-468124A8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1B8-74B3-46BE-AFBB-991607DC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B5F-B53D-4C70-AED1-C60D12A6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066-2FA4-480F-9B82-F0F9B5B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BF4-F6A7-4508-8530-0E795B84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DE5-A831-4BBC-AB43-A9CEE61E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A6D5-9B0F-4EBA-85E4-0F9A1CA44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da la Tierr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All Earth Is Wa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75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oda la ti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pera al Salva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surco abier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 del Señ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1972 Alberto Taulè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22000" y="1562040"/>
            <a:ext cx="63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text by Alberto Tau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è, 1972; English trans by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ertrude C. Suppe, 1987 (Is. 40:3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and strugg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s true liber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cries out for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arches for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us says the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A virgin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nam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od with u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hope will blos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ce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untains and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ha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made pl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new hig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 highwa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now coming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come all and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the door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wide as wide can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lowly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appea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, feel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 lives in all Christi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s with us 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, with his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bring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el mundo que luch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la libert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lama justic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busca la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ice el profe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pueblo de Israe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De madre virg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viene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á “Dios con nosotro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 será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él l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volve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ntes y val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brá que prepar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cami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emos que traz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está ya muy cerc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nidlo a encontr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todas las puert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rid de par en p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una cue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ús apareció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o en el mu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á presente h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ve 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s, con ellos está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uelva de nue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darnos libert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earth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ee the Promi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open fu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owing 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5:52Z</dcterms:modified>
  <cp:revision>57</cp:revision>
  <dc:subject/>
  <dc:title>PowerPoint Presentation</dc:title>
</cp:coreProperties>
</file>