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C004-23E9-4C11-ACDD-D3063994F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CE2D-BF2C-4DED-8CF0-9C63D8FF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9D0F-8496-4EC5-9D71-74E70689F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97B2-A1D6-4454-8EF6-9249712A4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46E9-B900-4142-8D86-1D62754B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6C5F-7E5C-408B-8082-1EF67564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6523-44BD-4D70-91C2-AA56A7EC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0B40-9626-4868-9B0B-715265FF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C23C-9BB1-484A-A71C-4526FCBD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5054-CCA9-41C4-9EBC-FAF398A9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E191-3189-4483-AD87-A3E2C34A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AD2C-6641-41DD-8D63-D369F1C9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2503-E300-41AC-9B0F-284D3160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267A-D073-4199-AF57-D756E136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AA56-9274-4BBA-87AD-8E1CE26E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B4EA-7777-429B-8DA5-C556A1E6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C417-6E27-4DB6-BFBF-FC742230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44C0-050B-4866-9CED-A7219F97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C7C2-F831-4B3A-8E7D-5470AE43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1462-B10B-4744-A97F-A25BB26D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62C2-BAD1-47FF-8111-46305369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20D3-B63A-4B07-B637-BA2E1955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8279-CD7F-43ED-B78C-86625FA9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E5AE-1648-47D8-B820-99C1C3AD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C4AA-9785-47BB-9D3F-C5AE8A9BB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9788-2474-4B87-BC72-D08C5C8C4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763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a Day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New Beginn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295280"/>
            <a:ext cx="91440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Brian Wren, 1978; alt. 1987 (Rev. 21:5)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Arial"/>
              </a:rPr>
              <a:t>© 1983, 1987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5238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1. This is a da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f new beginning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ime to remember and move on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86688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is is a day of new beginnings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ur God is making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ll things new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a Day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New Beginn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523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Brian Wren, 1978; alt. 1987 (Rev. 21: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28600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his is a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new beginn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me to rememb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move 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83, 1987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me to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love is bring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ying to r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ain that’s g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For by the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death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mighty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as the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make for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world of differe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faith and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born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hen let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the Spirit da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ep from the p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eave behin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disappointmen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lt, and grie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ing new path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ure to f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Christ is al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oes befor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show and sh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love can 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a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new beginning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od is ma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ne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In faith we’ll g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und the tab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aste and sh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love can 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60948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ime to believ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hat love is bringing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aying to res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pain that’s gon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a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new beginning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od is ma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ne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763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a Day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New Beginn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295280"/>
            <a:ext cx="91440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Brian Wren, 1978; alt. 1987 (Rev. 21:5)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Arial"/>
              </a:rPr>
              <a:t>© 1983, 1987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827360"/>
            <a:ext cx="9144000" cy="353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his is a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new beginn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me to remember and move 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me to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love is bring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ying to r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ain that’s g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2. For by the life and death of Jes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mighty Spirit,                      now as then,                                   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an make for u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 world of differenc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s faith and hope are born again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3. Then let us, with the Spirit dar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tep from the past                           and leave behind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r disappointment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uilt, and griev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eking new paths, and sure to fin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5552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4. Christ is alive, and goes before u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o show and shar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love can do. 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r God is mak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things ne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5. In faith we’ll gathe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ound the tabl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o taste and share what love can do.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r God is mak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things ne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82224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2. For by the life and death of Jesu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mighty Spirit,                      now as then,                   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83808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an make for u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 world of differenc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s faith and hope are born again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94284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3. Then let us, with the Spirit dar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tep from the past                           and leave behind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86688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ur disappointment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guilt, and griev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eeking new paths, and sure to find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9056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4. Christ is alive, and goes before u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show and shar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hat love can do.                            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01916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is is a day of new beginnings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ur God is making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ll things new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86688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5. In faith we’ll gathe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round the tabl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taste and share what love can do. 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3-19T01:04:52Z</dcterms:modified>
  <cp:revision>133</cp:revision>
  <dc:subject/>
  <dc:title>PowerPoint Presentation</dc:title>
</cp:coreProperties>
</file>