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2A4F-4617-4895-98E3-1F4EF02A9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9301-34FE-4AE6-954A-3B9A9A5C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3A8D-B479-4012-AB2E-56279B8DC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FCD1-83FD-4CC6-90A2-84FC76F1F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FB03-230B-4643-9679-7694DB4F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FCD1-FE7F-4401-922D-FACC6F8D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0EBD-2810-49A9-BD03-C78345B1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CBCE-1098-47CA-9788-D2E012AD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E601-643C-48A4-82DE-73BD5BAF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D246-60A7-4C3F-B03D-27AE2B02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A061-4BE4-4804-850B-17AD2A93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B34A-CB4D-40C9-BCBD-15671411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BF51-AFA0-4709-90F5-527C592D7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 Would See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5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e would see Jes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! his star is shi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ove the stab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the angels s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Would See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13120" y="1092240"/>
            <a:ext cx="33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. Edgar Parks, 19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ar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mean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rvice scorn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we are t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give ourselves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in a mang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hay reclin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te, let us lay our gifts 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the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e would se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ry’s son most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 of the villa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from day to d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Would Se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ining revealed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task most low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rist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ife, the truth,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e would se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mountain teac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all the liste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ople gathered rou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Would Se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birds and flow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k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ove are preac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lessedness whi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mple trust has f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e would se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is work of hea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event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the sun was se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Would Se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vine and hum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is deep revea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d made fle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oving service m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We would se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early mor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as of 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calleth, “Follow me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Would Se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09:49Z</dcterms:modified>
  <cp:revision>13</cp:revision>
  <dc:subject/>
  <dc:title>PowerPoint Presentation</dc:title>
</cp:coreProperties>
</file>