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514-7D43-4793-BCC8-D550D29A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DC9-BD4E-4F4E-B138-FB8D62B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3B3-CFB1-4C88-B994-96DB3505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373-44B7-4726-B66C-CCA2D712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5ED-8E9D-47BC-A0BD-16245786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0775-E1E0-4764-9859-87685AB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759-4BCE-4D7F-9E27-CFF0668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4D7-BF7C-4D68-8486-42C2272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E66-32CA-4493-9DFF-CCF789BF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2C94-54A0-40C4-8A4D-92826942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79EB-BA75-49F4-B90C-B989ADD9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965-FDF7-42DA-BEBF-F54FC9D1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A622-F33B-413E-82E8-2AF84CAE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D91-8012-4317-840D-7F05E39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B6D6-3AA8-470B-BE7D-D6F4A9E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09C-EDA6-4FD1-8D14-D8C37288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7E3-9D13-47F0-8D98-3A8D74DF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2D9-3496-4B31-8BBF-74A625D4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BAB-66CD-4ED2-9F6C-3C09F5B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879-F9ED-4E97-BFC2-52209C69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232-F6D6-44F2-AF3C-1F66962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74B-C62D-418B-8C6D-52DF6B7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10A-9EA0-43E5-814E-F3C8BB1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236-94B4-44D0-8478-F4AC0DB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B1EA-99B5-4CF2-B8B7-91DB2DC6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EB9-8CD1-4ED8-AB2D-D308AC0B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9000" y="99072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35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60948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37:57Z</dcterms:modified>
  <cp:revision>21</cp:revision>
  <dc:subject/>
  <dc:title>PowerPoint Presentation</dc:title>
</cp:coreProperties>
</file>