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6B6-E5EF-40A0-B27B-4E34919D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BCB-CA70-453B-83A2-4C801D25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5EF-8B10-476F-B0D9-67CAD9B5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F0F-C7BF-4B54-99DE-69109CC0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0CB-02DD-4B0C-9DBF-88BA64CB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EA8-88D3-4F09-97BD-46FE5E34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518-7411-4A03-9FBE-4A4E2AC0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E11-2701-453F-B71D-F55A9E68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70B-C839-4078-8C7A-8EB8AFC4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421-8640-46D2-9801-12A978E8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DE3-DC75-4DC0-AE3D-5303A383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871-286D-4107-9613-737898AC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8353-64E0-4016-BD83-DC1DBB4F0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ill Trust in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Ps. 37: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I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1:15Z</dcterms:modified>
  <cp:revision>160</cp:revision>
  <dc:subject/>
  <dc:title>PowerPoint Presentation</dc:title>
</cp:coreProperties>
</file>