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28E-E0EA-4C27-8A08-BCA10BD0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3C2-1393-4CBE-8E87-37A59E8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1EF-70F3-4A8F-85A4-8932F942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CFE-F025-4F10-9595-01DF98F2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850-97D2-47EA-A7E7-6CC35D7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466-4F66-4E51-92D7-3389FF30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127-8A58-4C73-9E5C-01E935DB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09F-E929-4100-AE34-8F98BC6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F5E-8978-40D9-8068-1539AD2A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5B9-7CC2-4EC5-A251-B6A10FC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4AD-D71C-4311-979B-EE76116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8A7-2CFE-4915-A185-FA448FF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3FBA-E1BC-44D4-A160-74F829E7F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 My Cup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cup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ift it up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que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irsting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9 by Richard Blanchard, assigned to Sacred Songs © 1964 Sacred 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My Cup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ichard Blanchard, 1959 (Jn. 4:5-15; 6: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it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51:42Z</dcterms:modified>
  <cp:revision>124</cp:revision>
  <dc:subject/>
  <dc:title>PowerPoint Presentation</dc:title>
</cp:coreProperties>
</file>