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868-3D6F-411A-8DE0-2079016A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95C-7C76-4AFE-8660-8C56E38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38F-EF46-4676-8848-BEDFBD3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133-A3F6-4044-A6D4-35314BE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3A1-4A73-42AC-8A3C-164B9C9F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51D-6C83-419D-A49E-FBA6E4B8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6FF-A111-4911-9AD3-0CAB33C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AB2-4088-4F32-80DA-41C3949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3A9-3A31-44DE-ADB8-228BB93D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8A7-B8A5-44D8-8FF8-F666B80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00F-D12A-4F1B-9687-D990C52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D2A-3BB4-4240-957F-63A9D8A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CBD6-C3CD-41C7-B714-D37FA5D6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postolic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olic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 Corinthians 13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1:22Z</dcterms:modified>
  <cp:revision>163</cp:revision>
  <dc:subject/>
  <dc:title>PowerPoint Presentation</dc:title>
</cp:coreProperties>
</file>