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7F2-52DD-4C39-850C-682C4357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143-1B04-4D72-9216-50A5F9A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4EE-2E4C-44C3-9637-8006FD98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D4D-1321-4E49-AB22-4868B582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A9B-9B38-4C92-ABF1-0B9B0F50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DBC-7D8E-4206-89BE-7092F89C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966-D8FB-43C8-9933-AFC4F166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419-2941-43A2-8219-A5B7BCC8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45E-277C-4185-A532-04A2E5CB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C56-2AA4-40B7-96E2-F8526EFB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5DD-D5FC-47BB-A795-95F77A3A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099-9BD4-401B-A3C1-7B5DC04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AFC4-1222-420D-8316-A467143FE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For a Heart to Praise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2 (Ps. 51: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for a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praise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heart from sin set fr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heart that al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eels thy bl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o freely shed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 heart resig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ve,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great Redeemer’s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nly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heard to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Jesus reign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 humble,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ing, true, and cl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eithe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death ca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Christ who dwells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 heart i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ull of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ect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ure and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copy, Lord, of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y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Lord, im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quickly from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ite thy new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new, best name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4:33Z</dcterms:modified>
  <cp:revision>141</cp:revision>
  <dc:subject/>
  <dc:title>PowerPoint Presentation</dc:title>
</cp:coreProperties>
</file>