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3BCE-1DAF-49C4-8BF2-C2AF3671F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CC80-2B57-49A6-A3FF-46EAE707C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8466-97EC-4F8A-94BD-BB5AFDDD5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D806-561C-4AA7-BBE1-C06DE5C66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693E-9E24-4D64-87A2-1E25D1DB7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7AF5-47A9-4C8E-AA92-DDE9E71B8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9C1C-AE42-4861-9948-7E3690F53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6CE9-2FE0-4D65-815E-C463CE87A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DDD5-BB65-43A3-B658-6D9393A78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8924-225B-4FF5-A4F0-441B41E1F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5667-728C-4265-82C1-176D20B1F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16F1-8999-4F08-848A-10EFDF514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01A4-6F6E-490E-9FC9-81E3321F4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0910-EB01-42DD-BB14-D35A90818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BCF2-000D-4EEE-816F-488B5C9E7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3333-DE0D-46D3-8520-6A7BC27BA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7338-D5D4-4334-B7A5-8528C0FEC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A370-ADF6-409F-96A5-EBAAD4C3F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F6FD-C7AC-4C3A-8937-67A72AC8D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D34A-A34F-4257-84E3-15203BE27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36A9-5BF5-4AB6-B8C1-BE9903D77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296D-1A84-4010-A8CD-50CF9CBF3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6138-60A8-416D-81D1-F745CB49D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E0CD-9E52-4041-8D22-AB6F90B18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3DB4-C96A-450A-B5F9-E57FA953F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8824-7983-4972-9A8C-238F28809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D7AD-4D28-44B1-9781-76699B916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198F-FD29-40BC-8E7D-47626950A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31AB-0A50-4009-85F5-FF60CA116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7073-0D65-4B76-85CB-2FDFB4FD5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C2EE-9BA2-4A4C-A6E2-517D13C76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7021-45EA-42AF-A7AE-277F44E54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3562-21F4-4569-8929-4A1E35063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CCD0-B86C-4124-9FDF-15779A2C2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9F67-5D1A-4E0E-8588-A986A6F0E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CA0-76CC-4A5F-A533-3FD18B3E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CE1-44C1-409D-AA42-B23F226C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23A-7B59-4089-A721-680BF5A5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7C1-2F2A-4166-A4AD-895C9110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C5A2-C37D-4A67-ADEA-CE2D29B1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175A-D2A4-4F10-951B-3057E69B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082E-2C2F-42F6-B452-2F17198E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156C-17B9-4834-93CC-BDDE2E46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6CFA-0D82-4963-876B-7A04328B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7D72-AF06-4DEF-B5A3-02200AD6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C43C-61CC-4E8F-BAE5-DE516D85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11FE-7202-40AE-ABE6-C4CBCD50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0CAE-408D-43E1-8D54-43B54145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EA4B-9610-43AF-B83C-5D7C734B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A5DF-6678-4351-AC72-0CBA4DF3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B285-81A7-401D-9306-140DB77C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FB8B-F561-4195-8A0D-F9C28EB9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134-04AC-45EB-ADF2-AFAF09A3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B24-96B9-4F19-8193-D693BDF1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F32-0890-4EA4-A927-519ECE6C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3C6-96E6-425F-B1E2-5B4D23EF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38D-2659-490B-B4E0-F3B87476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F17-103D-4C6C-BF28-D25C3D36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298-96F0-43F5-9976-645DB0E5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2D73-67E6-49E1-9844-4822A4C0F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43B9-5CA5-4574-995C-C0E6A4AAF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Here I Am, Lor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9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137160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1. I, the Lord of sea and sky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my people cry.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o dwell in dark and sin 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my hand will save.</a:t>
            </a:r>
            <a:endParaRPr b="1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68580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Dan Schutte, 1981 (Is. 6:8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1, 1983, 1989 Daniel L. Schutte and NAL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3. I, the Lord of wind and flame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end the poor and lame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t a feast for them.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My hand will save.</a:t>
            </a:r>
            <a:endParaRPr b="1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763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inest bread I will provid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eir hearts are satisfie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ive my life to them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all I send?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249120"/>
            <a:ext cx="9144000" cy="40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am, Lor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it I, Lord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you calling in the night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76320"/>
            <a:ext cx="9144000" cy="40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o,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lead me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hold your people in my heart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re I Am, Lor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1676520"/>
            <a:ext cx="9144000" cy="473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, the Lord of sea and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heard my people cr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dwell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and si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and will sav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1, 1983, 1989 Daniel L. Schutte and NAL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Dan Schutte, 1981 (Is. 6:8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ho mad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s of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make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brigh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ill bear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to them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 am,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it I, Lor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hear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ing in the nigh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g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lead 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eople in my hear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, the Lor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now and 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bor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eople’s pai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wept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of the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turn awa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br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hearts of st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hem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love alo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speak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to the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76320"/>
            <a:ext cx="91440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I who made the stars of night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make their darkness bright.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Who will bear my light to them?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all I send?</a:t>
            </a: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 am,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it I, Lor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hear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ing in the nigh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g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lead 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eople in my hear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,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ind and 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ten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or and 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set a feast for the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and will sav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est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ov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i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satisfie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give my life to the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11430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 am,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it I, Lor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hear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ing in the nigh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g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lead 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eople in my hear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Here I Am, Lor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9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0" y="167652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1. I, the Lord of sea and sky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my people cry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o dwell in dark and si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my hand will save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68580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Dan Schutte, 1981 (Is. 6:8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1, 1983, 1989 Daniel L. Schutte and NAL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7160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who made the stars of night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make their darkness bright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ho will bear my light to them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all I send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76320"/>
            <a:ext cx="9144000" cy="442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am, Lord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s it I, Lord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you calling in the night.       I will go, Lor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lead me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hold your people in my heart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7621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I, the Lord of snow and 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borne my people’s pain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wept for love of them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y turn away.                                         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76320"/>
            <a:ext cx="9144000" cy="40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am, Lor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it I, Lord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you calling in the night.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685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break their hearts of sto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em hearts for love alon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peak my word to them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all I send?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76320"/>
            <a:ext cx="9144000" cy="442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am, Lord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s it I, Lord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you calling in the night.       I will go, Lor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lead me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hold your people in my heart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0" y="9144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I, the Lord of wind and fla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end the poor and la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t a feast for them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y hand will save.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10969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inest bread I will provid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eir hearts are satisfied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ive my life to them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all I send?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76320"/>
            <a:ext cx="9144000" cy="442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am, Lord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s it I, Lord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you calling in the night.       I will go, Lor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lead me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hold your people in my heart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76320"/>
            <a:ext cx="9144000" cy="40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o,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lead me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hold your people in my heart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31680"/>
            <a:ext cx="9144000" cy="59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2. I, the Lord of snow and rain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borne my people’s pain.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wept for love of them.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They turn away.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48096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break their hearts of ston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em hearts for love alon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4906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peak my word to them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all I send?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173160"/>
            <a:ext cx="9144000" cy="40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am, Lor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it I, Lord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you calling in the night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76320"/>
            <a:ext cx="9144000" cy="40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o,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lead me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hold your people in my heart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0-08T13:15:30Z</dcterms:modified>
  <cp:revision>101</cp:revision>
  <dc:subject/>
  <dc:title>PowerPoint Presentation</dc:title>
</cp:coreProperties>
</file>