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0C4-97BD-4111-B1C7-CE1A1395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666-0CB8-4A1A-8531-DB18D9E8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7CF5-BA34-4B8A-B1B2-3305D4B5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F8A-C59B-4F97-8159-EF9EB047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B189-4ECF-4239-9410-A012AFB8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634F-EF22-4766-A3C6-46C4290A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48A6-D6B5-4C66-BC52-3D39D78A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F44B-0EF8-4F81-A41A-B67A62A0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8A28-F848-4D35-B2B2-E9F08A11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CAC3-9EA5-456E-BF7A-D5CC1E8B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69D4-5DC0-468B-B43C-7F0D12E7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545-14D1-410A-BCA9-C5B4DAB0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5268-1C6E-4F30-8C06-046F55A5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EC73-D3A8-44A3-926F-8231810E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25C1-885D-4AC1-8E9D-BCA6D032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4DF3-6CC6-4574-B133-5EEDB083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37AE-9C85-4289-AC44-EA22F309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EF0C-2754-427F-8E85-C6F06782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096E-4EF2-4346-B5D3-56FCB587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CF2-F6D4-4DA3-8C0F-2A27B732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1C7-D5E8-42BB-8351-689E7E6D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E4F-708E-4F55-AB1D-F3B50147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A6B3-9F48-4AA8-8C88-6DB29181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8665-435E-4FB3-AC60-03563DD8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6BDE-1D40-4054-B190-A6716063D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6D47-3721-412D-A07D-166F0B18DB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eople, Look Ea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1736640"/>
            <a:ext cx="9144000" cy="330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People, look east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ime is near of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ing of the year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ords by permission of David Higham Assoc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803680" y="990720"/>
            <a:ext cx="3577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leanor Farjeon, 1928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10508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4. Angels announ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houts of mirt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im who bring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new life to earth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10666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et every peak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valley humm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w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is coming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76320"/>
            <a:ext cx="9144000" cy="53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eople, Look Ea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0" y="1736640"/>
            <a:ext cx="9144000" cy="37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People, look east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ime is near of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ing of the year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ords by permission of David Higham Assoc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2803680" y="990720"/>
            <a:ext cx="3577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leanor Farjeon, 1928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ake your house fai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 are abl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rim the hear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t the table.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76320"/>
            <a:ext cx="9144000" cy="55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Gues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0" y="9144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Furrows, be gla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earth is ba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ne more se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s planted there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9144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up your strengt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ed to nourish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n cours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lower may flourish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76320"/>
            <a:ext cx="9144000" cy="55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Ros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ake your house fai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 are abl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rim the hear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t the table.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9619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Stars, keep the watch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night is dim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ne more li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owl shall brim,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hining beyo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frosty weathe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 as su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nd moon together.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76320"/>
            <a:ext cx="9144000" cy="55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Sta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10508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4. Angels announ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houts of mirt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im who bring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new life to earth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10666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et every peak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valley humm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w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is coming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76320"/>
            <a:ext cx="9144000" cy="55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76320"/>
            <a:ext cx="9144000" cy="53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Gues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0" y="9144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Furrows, be gla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earth is ba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ne more se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s planted there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9144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up your strengt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ed to nourish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n cours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lower may flourish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76320"/>
            <a:ext cx="9144000" cy="53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Ros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9619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Stars, keep the watch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night is dim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ne more li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owl shall brim,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hining beyo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frosty weathe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 as su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nd moon together.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76320"/>
            <a:ext cx="9144000" cy="53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Sta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11-27T02:49:00Z</dcterms:modified>
  <cp:revision>53</cp:revision>
  <dc:subject/>
  <dc:title>PowerPoint Presentation</dc:title>
</cp:coreProperties>
</file>