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3954-3058-4D76-BAE7-483FE437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FEF-EC4E-4DF1-8F94-CC50B023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5B94-9AE3-4820-8F95-B5BF9270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DAE8-4B77-4A9E-A3C9-48878E34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6082-1F0B-41CD-9BD7-C4A856F0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972C-7BB0-4119-9D7E-4BDDA956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F8C4-1213-4ED5-81A1-9EDD252A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2D48-7E7E-4406-88A4-B53EA73D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94D6-0658-454F-A52C-8F9F5FFC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B015-8D41-4955-B1D9-57F0834F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B266-4F6E-4BB3-98F3-26735947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9D35-E136-455C-BABC-2564F797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56BE-B0B9-45DB-AA73-7EDA4109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C49C-8CCA-46B3-88F0-4896C41D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3C72-100B-446C-86FF-87DE628A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1BAF-954B-4567-B9AA-2F4D5C34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15C6-C108-4EC1-8924-F33CF5EE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030-6A31-45C0-8B0F-7F02CFAC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331C-958D-46C5-86F6-D85DD4C8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84E-EBCD-4278-A4D9-6D51704C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0F6-1680-48F8-B53C-9FE559F8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8BB5-671C-4AA0-9229-4ACC4D7E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B3DE-3972-47BC-963D-DF262235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5B7C-3804-4C36-B7BB-22074BCC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135B-1B98-4277-B953-6861149B0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9A17-8903-4E95-B0A1-16019AA23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Am Thine, O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am thin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heard thy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t told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o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89280" y="990720"/>
            <a:ext cx="536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anny J. Crosby, 1875 (Heb. 10: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kneel in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thee, my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mune a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iend with frie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28736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re are depths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canno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rrow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re heights of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may not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 res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28736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Am Thine, O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8288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am thin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heard thy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t told thy love to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9280" y="990720"/>
            <a:ext cx="536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anny J. Crosby, 1875 (Heb. 10: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 long to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arms of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clos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n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860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 long to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arms of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clos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n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onsecrate m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servic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powe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8222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soul look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 steadfast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wi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in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2860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the pure de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 single h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efore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I spe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kneel in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thee, my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mune a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iend with frie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22860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re are depths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canno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rrow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8736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re heights of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may not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 res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2860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onsecrate m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servic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powe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soul look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 steadfast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wi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in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28736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the pure de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 single h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efore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I spe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1-02T23:56:35Z</dcterms:modified>
  <cp:revision>10</cp:revision>
  <dc:subject/>
  <dc:title>PowerPoint Presentation</dc:title>
</cp:coreProperties>
</file>