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500E5-A02F-4BBA-9A0D-D10056AEE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21091-2230-4085-92B2-C0BF2F119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8F363-6846-477A-B440-B99271169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103DF-31D9-44B1-BED7-7B5B6E4EF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4C496-F33C-4827-B686-9E638EBA1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93229-D2FC-49F3-994D-C1B4E8DA8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C04AE-14BB-4F3E-A262-8F1316B4A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BAF96-9865-40E7-B663-31DF06C56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1A858-F668-4497-BF01-AB9BB233F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D50CA-4A0C-44BD-9711-987620B83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72161-B85B-4144-AD5C-20C8A248A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16251-65F7-47AF-8027-5007C9888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1DFFF-2644-4DF2-AF09-0402D8049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59B08-00F4-4DFE-ABE1-13978B868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4FE87-360C-4871-83C7-A3C7688DA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A54AE-C9AD-47C7-B179-CB0D2635C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A5ACB-9501-4360-99D5-936B6E053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75280-6402-4FD8-B30A-29F7BB41D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EEDCB-B25E-4505-8F08-7007802D0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24EF4-5FC7-48DC-937A-431798322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014BD-EBE7-415F-9A6E-947D0693D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1FF96-0463-4CA7-8E8C-1D3395238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42B47-C3C7-48BC-B9C1-F50F49D81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05A03-3A2F-4A23-872F-0EC15DEA5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A2F9D-D5D3-4D18-BB31-F2FE10D810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55733-C038-40E4-B915-D9AD744B8E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304920"/>
            <a:ext cx="8915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Immortal, Invisible,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God Only Wi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10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27432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Immortal, invisibl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 only wis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light inaccessibl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id from our eyes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mmortal, Invisible, God Only Wis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719720" y="1778040"/>
            <a:ext cx="571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Walter Chalmers Smith, 1867 (1 Tim. 1:17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44136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ost bless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ost glorio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Ancient of Day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mighty, victorio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great name we prais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4800600"/>
            <a:ext cx="9144000" cy="20541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7621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Unresting, unhast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silent as ligh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r wanting, nor wast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ou rulest in might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mmortal, Invisible, God Only Wis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4800600"/>
            <a:ext cx="9144000" cy="20541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7632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justic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ike mountain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igh soaring abo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cloud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ich are fountain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goodness and lo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4800600"/>
            <a:ext cx="9144000" cy="20541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9144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To all, life thou gives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both great and small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all life thou lives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true life of all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mmortal, Invisible, God Only Wis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4800600"/>
            <a:ext cx="9144000" cy="20541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83808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blossom and flouris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s leaves on the tr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wither and perish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ut naught changeth the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4800600"/>
            <a:ext cx="9144000" cy="20541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0" y="9144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Thou reignest in glory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ou dwellest in light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ine angels adore th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veiling their sight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mmortal, Invisible, God Only Wis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4800600"/>
            <a:ext cx="9144000" cy="20541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91440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laud we would render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help us to se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’tis only the splendo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light hidest the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4800600"/>
            <a:ext cx="9144000" cy="20541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ost bless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ost glorio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Ancient of Day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mighty, victorio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great name we prais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Unresting, unhast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silent as ligh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r wanting, nor wast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ou rulest in might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mmortal, Invisible, God Only Wis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justic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ike mountain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igh soaring abo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cloud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ich are fountain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goodness and lo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To all, life thou gives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both great and small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all life thou lives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true life of all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mmortal, Invisible, God Only Wis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blossom and flouris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s leaves on the tr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wither and perish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ut naught changeth the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Thou reignest in glory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ou dwellest in light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ine angels adore th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veiling their sight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mmortal, Invisible, God Only Wis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laud we would render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help us to se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’tis only the splendo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light hidest the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76320"/>
            <a:ext cx="8915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Immortal, Invisible,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God Only Wi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10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1905120"/>
            <a:ext cx="9144000" cy="283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1. Immortal, invisible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God only wise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in light inaccessible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hid from our eyes,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mmortal, Invisible, God Only Wis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719720" y="1371600"/>
            <a:ext cx="571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Walter Chalmers Smith, 1867 (1 Tim. 1:17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4800600"/>
            <a:ext cx="9144000" cy="20541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nnifer McCay</cp:lastModifiedBy>
  <dcterms:modified xsi:type="dcterms:W3CDTF">2008-04-25T00:17:29Z</dcterms:modified>
  <cp:revision>18</cp:revision>
  <dc:subject/>
  <dc:title>PowerPoint Presentation</dc:title>
</cp:coreProperties>
</file>