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B0CA-EDCB-482A-9D65-4FD58A206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438A-6A51-4701-B609-E5A94C0A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2E02-9B69-4DE8-A352-8DEEB6C5B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5FE6-515E-464F-B1AB-1703C6AC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F8E6-63CA-4434-B318-2A53AC3F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1DDF-E090-4580-9B1F-BA519867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DF8E-55B1-446E-968E-6E8983A2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B24E-98B0-4C0C-A43F-D281B3D6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4CB5-E05E-40D1-99D2-388CD4BB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3854-E7D9-4F61-A018-71EFC4B3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BCAB-DFC9-4DB0-9657-3610FAF7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B75E-76A6-42A9-A3E8-8BED01DF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8922-3F3D-4202-A0FF-F71E2AD8C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ike the Murmur of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Dove’s S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82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Like the murmur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the dove’s song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ike the challeng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her flight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2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ke the Murmur of the Dove’s So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39640" y="1676520"/>
            <a:ext cx="446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arl P. Daw, Jr., 1981 (Acts 2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vig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wind’s ru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new flam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ger might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Holy Spirit,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o the memb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hrist’s bo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branch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Vi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ke the Murmur of the Dove’s So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faith assembl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er mid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gift and sig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Holy Spirit,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ith the hea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divi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cease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oice of pray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ke the Murmur of the Dove’s So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power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and wi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yond compar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Holy Spirit,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5:54Z</dcterms:modified>
  <cp:revision>15</cp:revision>
  <dc:subject/>
  <dc:title>PowerPoint Presentation</dc:title>
</cp:coreProperties>
</file>