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46C-D270-47A3-9DA3-4A29E1F4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7FB-EDBE-40AB-9C21-F8447360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6C2-58BE-4655-A7A9-B2ED7727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E63-5B68-4D2C-9F82-B68E2C40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278-81F7-415B-9219-2DA58C4E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4A9-D0C6-4039-A379-41155AA6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168-74F9-43D8-AE5D-DBEC16D8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FEB-7F2B-4D71-8C05-299B6D1D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B01-A7B3-4558-9D82-659D3D96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AF3-C181-4CD3-9361-93192CA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55F-7F45-44C2-B880-6CAAB84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D7B-C122-40D0-ADCA-19EFA657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0A40-61F4-4F52-803B-FC2E10A63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, How a Rose E’er Blo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Lo, how a R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’er bloom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ender stem hath sprung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lineage com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se of old have su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.  3 © 1940, 1942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0200" y="990720"/>
            <a:ext cx="66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2, 15th cent. German; trans. by Theodore Baker 1894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3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ame a floweret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d the cold of 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saiah ’twas foretol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ose I have in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ry we behol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gin Mother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God’s love a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bore to us a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Flow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ragrance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l in glorious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rkness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man yet ver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sin and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are our every l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56Z</dcterms:modified>
  <cp:revision>60</cp:revision>
  <dc:subject/>
  <dc:title>PowerPoint Presentation</dc:title>
</cp:coreProperties>
</file>