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F83F-9365-45E3-9011-3AE768583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835E-9F0B-4230-9DA6-056FEECD8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60E8-4E22-483D-8B10-8EE5F4660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153C-7463-4A9C-B1C4-2C6C71979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8D71-B989-4A14-A365-BB3A3E2B2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257A-FA28-462F-ABF9-6549E4634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74E7-D9B6-479B-9604-A51B63B24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2133-7D03-40DF-8C22-82C971A22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BFC0-906E-42C7-8382-24F917291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1F72-8772-4BFA-8728-A7BD1F05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549E-8E0B-4D4F-A90E-23BB18F0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216D-17B8-4B26-A0B6-2B76C04F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9F4D6-F336-4986-8CB7-FD76F71D40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amina, Pueblo de Dios</a:t>
            </a:r>
            <a:br>
              <a:rPr sz="40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Walk On, O People of Go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mina, Pueblo de Dio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5440" y="1447920"/>
            <a:ext cx="908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esareo Gabara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ín;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rans. by George Lockwood, 198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362320"/>
            <a:ext cx="9144000" cy="424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mina, pueblo de Dio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mina, pueblo de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7 Ediciones Paulinas; trans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ueva ley, nueva alianz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 la nueva creaci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ó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mina, pueblo de Dio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mina, pueblo de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Cielo y tierra se abraza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uestra alma halla el perd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ó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Vuelven a abrirse los ciel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ara el hombre pecad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mina, Pueblo de Di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rael peregrin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ive y canta tu redenci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ó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y nuevos mundos abiert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 la nueva creació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mina, Pueblo de Dio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2049480"/>
            <a:ext cx="9144000" cy="234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mina, pueblo de Dio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mina, pueblo de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ueva ley, nueva alianz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 la nueva creaci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ó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mina, pueblo de Dio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mina, pueblo de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lk On, O People of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287360"/>
            <a:ext cx="9144000" cy="389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people of Go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people of Go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new la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new allia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creation is rebor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Walk on, O people of Go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on, O people of Go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Look 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lvary’s summi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e roc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towers a cros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lk On, O People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th that giv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irth to new liv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new peop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new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Christ has brought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us salvation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ith his death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rising again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ueva ley, nueva alianz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 la nueva creaci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ó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mina, pueblo de Dio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mina, pueblo de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2263680"/>
            <a:ext cx="9144000" cy="233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Everything come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o new birthing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ll creation is reborn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lk On, O People of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287360"/>
            <a:ext cx="9144000" cy="389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people of Go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people of Go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new la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new allia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creation is rebor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Walk on, O people of Go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on, O people of Go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2. Christ take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nto his body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ll our sin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enslavement, and pain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lk On, O People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s he destroys them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he brings u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life’s abundanc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life’s new joy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br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concili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all th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eople with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ature bursts in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w flowe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creation is rebor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lk On, O People of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287360"/>
            <a:ext cx="9144000" cy="389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people of Go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people of Go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new la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new allia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creation is rebor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Walk on, O people of Go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on, O people of Go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Heaven and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embrac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ur sou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nd pardon at la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lk On, O People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Mira all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á en el Calvari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 la roca hay una cruz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uerte que egendra la vid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uevos hombres, nueva luz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mina, Pueblo de Di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heaven’s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ates are reopen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sinn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us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rael walks a journe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we li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lvation’s our so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’s resurrec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s freed u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are new worl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expl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lk On, O People of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287360"/>
            <a:ext cx="9144000" cy="389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people of Go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people of Go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new la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new allia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creation is rebor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Walk on, O people of Go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on, O people of Go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isto nos ha salvad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n su muerte y resurrecci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ó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das las cosas renac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 la nueva creació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mina, Pueblo de Dio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049480"/>
            <a:ext cx="9144000" cy="234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mina, pueblo de Dio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mina, pueblo de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ueva ley, nueva alianz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 la nueva creaci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ó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mina, pueblo de Dio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mina, pueblo de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Cristo toma en su cuerp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l pecado, la esclavitu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 destruirlos, nos tra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a nueva plenitu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mina, Pueblo de Di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one en paz a los hombr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las cosas y al Creado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do renace a la vid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 la nueva creaci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ó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mina, Pueblo de Dio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049480"/>
            <a:ext cx="9144000" cy="234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mina, pueblo de Dio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mina, pueblo de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57:25Z</dcterms:modified>
  <cp:revision>66</cp:revision>
  <dc:subject/>
  <dc:title>PowerPoint Presentation</dc:title>
</cp:coreProperties>
</file>