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46F-3D81-4462-94BC-F0C73857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AB0-8086-4C15-A0D5-2B48A54B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74C-D97B-4D41-BBDC-75F15C14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1F7-8DDE-43FC-9AF2-557D5F5F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C774-BA11-4E8F-B67C-9E477287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4BD4-DC03-4074-96E8-D02F6C1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F67C-7F9C-4993-AB10-EEC06CD6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5928-E9F1-4339-9B8D-825075BD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6378-4975-4EAA-81FB-57531C0F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7069-BA88-4AEA-8333-20F5CECD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B8EA-45E0-49CE-9FD5-6B99BF0F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B1B-7FE3-40B9-BF24-B1EE5864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443C-1822-4D6C-B8E8-91C5D15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CCB4-0391-4C99-B7EC-EC69BDE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93E3-5EBD-492F-9E72-23866E7E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7771-FD15-4691-B4C1-8DB320E7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BF73-C945-4DB7-8D62-2D2F517B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BC9-9F25-449C-A515-281DA2E4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1E4-7395-4712-8702-27ACB03B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630-449A-49B9-906B-FB9F513A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D8F-8F9D-44CE-B79F-0A9D67AE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FB6-6463-445A-B873-E46C583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182-7355-4821-B7A5-FF383F1C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6EC-7C0A-47F6-898B-72EA986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BEF1-75C4-4183-83F2-8446B7215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A919-89F9-4445-88E6-15AE89CE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Down, Mo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Ex. 3:7-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Israel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Egypt’s l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ed so ha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uld not st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s Israel st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water’s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did di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When they had rea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ther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a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iumph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O Moses,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eave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et my people g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ire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ade b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. Your foes 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you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’ll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Canaan’s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0. This world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erness of wo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naan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1. O 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bondage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Down, Mo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39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Ex. 3:7-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144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Israel was in Egypt’s l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ed so h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uld not st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Thus saith the Lord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old Moses sai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not I’ll smit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irstborn dead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No more shall th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bondage to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m come 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Egypt’s spo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 need not alw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ep and mo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ear those slave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ains forl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Thus saith the Lor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ld Moses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not I’ll sm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irstborn dea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Come, Moses,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not get l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etch out your r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ome acr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6. As Israel st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e water’s s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God’s command it did div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7. When they had reach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other sho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y sang a song of triumph o’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8. O Moses, the clou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leave the 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let my people go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fire by night, a shade b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9. Your foes shall no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fore you st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you’ll poss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ir Canaan’s l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0. This world’s a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derness of wo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let us on to Canaan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1. O let us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bondage fl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et us all in Christ be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shall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ondage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come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gypt’s sp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need not al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and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ar those sla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ins forl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1932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Come, Moses,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not get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tch out your r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e a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24T00:36:21Z</dcterms:modified>
  <cp:revision>149</cp:revision>
  <dc:subject/>
  <dc:title>PowerPoint Presentation</dc:title>
</cp:coreProperties>
</file>