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E90-742A-493C-A605-54D83DCF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709-906B-4E89-A581-53F4EB1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DBC-0D97-4C57-88F1-7F8087B6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619-68F7-4645-A068-43C8D767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E6D-50C2-48A8-ADF3-E9D4288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3D0-ED38-4C08-BF79-2BCEA47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B3E-F4C4-4846-BEBA-84F5F64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EF4-D3F3-440D-88F8-61D937D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C44-95D7-458C-A92F-B88DC508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13F-9A20-4019-A3A5-6E9B560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90A-7651-4D10-9509-56C8474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8D2-A35A-4885-8251-61A4748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C85F-2939-47A8-B106-95162EF0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Earth Is Wai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oda la Ti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1400" y="156204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60020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39Z</dcterms:modified>
  <cp:revision>57</cp:revision>
  <dc:subject/>
  <dc:title>PowerPoint Presentation</dc:title>
</cp:coreProperties>
</file>