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602-D65A-4959-A883-11481671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FCB-1E1A-42B6-BF45-435635BE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26B-0A5B-4B78-9611-83D7C7FC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8FE-9F52-4BF8-831D-89BC3E9D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FE7-70BD-49F1-9CF6-9F02BABB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A59-D22B-4D07-9F22-DFA635DF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9C5-16DA-4B87-9CC6-5AC8A44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AFE-46C4-472E-8C57-05607E7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33E-2B18-4912-9373-910BC079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EDA-F017-4A52-AE95-27DE4B6F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581-4487-4B94-BF6C-CCAE129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88A-E847-45CA-A70F-0894FBC0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06ED-29FA-4909-9FAC-919A49793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Created Heaven and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2544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d creat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nd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ught to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3 Boris and Clare A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7120" y="1092240"/>
            <a:ext cx="57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Taiwanese hymn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oris and Clare Anderson, 1983 (Gen. 1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eat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de dark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revol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and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u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ercy gre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n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ove awa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ho fash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ch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blessing g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i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ever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ol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e v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ndmade go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od and c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not hel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ut God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yond com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s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eath’s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arth’s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mall and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for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st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11Z</dcterms:modified>
  <cp:revision>12</cp:revision>
  <dc:subject/>
  <dc:title>PowerPoint Presentation</dc:title>
</cp:coreProperties>
</file>