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D1E-F31B-4C50-8047-658DA8AE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E29-8348-40ED-AE89-630F1A2A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83C-4EA7-46D6-8FB8-FFF109B3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138-222D-49F0-B6DF-AFFEABA9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8A7B-205B-4AB8-B006-1AF8DD98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433F-5ACC-475E-8A51-49E1665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D3B-5459-47B6-BD2B-C9C5B8A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8DC-AD7F-4703-849C-5DBEF42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5919-05B2-4955-BFF2-672CE53D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F9A-BB87-4CBE-988C-31865ABF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737B-7456-47CF-999A-8CB168F1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63F-DA48-4D27-8C18-342D972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3CA8-1B3C-4740-BC15-EC061E5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9C4-08DB-4220-AA27-A5F6267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A59-942F-4725-919D-4E36DA08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D960-DEE5-46F3-8708-4B209D38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2F2-97E3-40AD-B700-EC5F7A82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205-13BC-4C36-BD7E-1BFA3EE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305-85EB-4B79-9767-BD39B74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A4A-A3DB-405C-A70F-D45E1908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9B0-6531-41BD-AB07-0A72536B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80E-C96F-4760-9DCA-680FC06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639-F610-4A75-8230-E5D4650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6C-7387-4864-82BB-B492B50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B4A-7A6E-4393-8AFA-356DDA90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581F-4C0A-4FE6-9470-DF554D30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9520" y="12952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3644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66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9520" y="7621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10T02:16:46Z</dcterms:modified>
  <cp:revision>42</cp:revision>
  <dc:subject/>
  <dc:title>PowerPoint Presentation</dc:title>
</cp:coreProperties>
</file>