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EBD-4012-48F9-9651-8957D07F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3CA-E69F-4C8E-BAF0-51467757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0D6-29F1-49E1-AC5C-C526C38B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76A-92C6-4F7B-9D94-DB99F079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2B3-02AD-4112-8846-691C471C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C3C-621D-40A5-A06B-7386E00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CA2-3293-47C0-8408-FFF8836D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B0E-B8A6-4D71-8C21-CC83C5D5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665-B7D5-43EB-BBE6-D4E8D47E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B75-A93D-4B5B-A228-BD012F8A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AED-50A9-4A38-9405-48D0DA10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7BB-9D33-4F70-B2F4-C3820E3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0779-D5EF-42B7-A88E-DECAF3BD0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7920" y="1700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5:05Z</dcterms:modified>
  <cp:revision>13</cp:revision>
  <dc:subject/>
  <dc:title>PowerPoint Presentation</dc:title>
</cp:coreProperties>
</file>