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6CE-D026-426E-BFAD-FA763C4D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C36-7094-4FC8-A423-AB6B4F2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431-07E6-4F34-A3CB-4EDD23C2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2FF-043E-43CF-BE1F-4438D839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C6F-CEE8-4BD1-AED0-3CD50FD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578-B80F-4FDA-B63C-48B68F9C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2C1-E11A-47DF-BB5B-47C36744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1DF-174D-45D1-852B-1D38CDD4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E50-5B04-48A1-88D8-F718F4C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05C-09C3-48FC-80C7-DA0FDD2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F83-2DC6-4679-BCBD-336EECB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023-D3A2-4049-91FA-18D42A1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CA3-76DA-4640-B294-4523E232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Whose Glor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, whos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n of Righteousness, a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0320" y="177804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es of n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pring from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, be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tar,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rk and cheer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accompanied by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less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’s re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y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s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y i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 my ey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isit the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ierce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and gr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dianc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tter all my unbel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self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53Z</dcterms:modified>
  <cp:revision>34</cp:revision>
  <dc:subject/>
  <dc:title>PowerPoint Presentation</dc:title>
</cp:coreProperties>
</file>