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7B4-702F-4D61-97F1-7AA58EFC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18E-3A64-4119-A1A3-C3B8122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460-9A87-4C8A-B08E-5F82586B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C24-94FC-4F04-B32A-7B02F342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279-8206-4C87-A7C9-0E19AEC2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E5C8-4BFD-442B-ABE4-73CC8DFF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7FA-F470-42E4-8EC3-119EEA7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53B5-C75E-4DC3-969B-6623E85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6B4D-5A18-4A55-A159-2A02B05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01B-7D85-4BB8-B844-D0D0E4B8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54A6-B238-4457-9BB2-BF28DADF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272-42EF-495D-BD6A-03C47A5F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D5B7-F818-4E0D-8123-F0E0ADC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3B47-B9E8-42F3-8137-31B0546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6E5F-CCEB-4DC1-AC92-4BCF9CE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155-D07C-4828-8D54-A48F5D9C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DD4-E3A9-40B6-995E-3802BBEE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9BE-8F9F-4D72-A42E-E4A9A248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608-1EE1-4F97-9982-0EFFB8C1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6E6-D345-462E-A9D4-48B9A74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025-F70B-4A4C-8BAD-443694D0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5AD-B96F-433B-93AB-50E88F6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3B9-AD31-4C4D-B963-6DD87E7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5A6-7A85-4F2C-8BDD-56CE3B4B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7D0-247B-49DB-86A0-FD22899F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CA5F-1619-4156-BFEC-C00C36C2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74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25T14:23:06Z</dcterms:modified>
  <cp:revision>152</cp:revision>
  <dc:subject/>
  <dc:title>PowerPoint Presentation</dc:title>
</cp:coreProperties>
</file>