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4488-56CD-4703-AA65-1987D4FE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51FE-F326-43E5-8176-7DB53B28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8C92-5EF3-412A-B2FB-31E3A47FC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1C64-EEA6-414E-A609-1807B516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9404-7509-4714-B2B3-4783705F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63B7-6165-4DC4-8781-68C2C72E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EC97-BAD5-4A7E-A216-BD431A54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E3A1-1306-42C3-9F1A-417F247A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F743-5E83-4660-B631-00934F89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4BAD-88DF-4F89-97DD-5921588D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8CE5-700D-4804-B60E-EE7AA85C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FE3D-DBE7-412B-BE15-6550BEFE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DE3F-45D0-4C8D-9E54-FD0473D8C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ise to Greet the Su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9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4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 to greet the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dening in the sk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rrior-like and str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ly as a groo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65 Bliss Wi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 to Greet the Su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0480" y="1143000"/>
            <a:ext cx="80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Tzu-ch’en, Chao, 1931; trans. by Mildred A. Wiant and Bliss Wiant, 194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irds pass high in f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agrant flowers now bloo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racious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my toil resu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ather, I impl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fely keep this chil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my conduct g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tions calm and mil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 to Greet the Su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enerating 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mbly teaching you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ways serving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ring thy rich tru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May this day be bl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ing Jesus’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’s freed from i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r blue sky’s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 to Greet the Su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ad for cotton co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ain food satisfi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y countless nee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kind hand suppl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31:46Z</dcterms:modified>
  <cp:revision>14</cp:revision>
  <dc:subject/>
  <dc:title>PowerPoint Presentation</dc:title>
</cp:coreProperties>
</file>