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138-E4E2-43B3-A8B5-472BB289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C73-9DD6-4D89-824D-FBB7261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DCE-5C1F-4262-A191-B9407A72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6FB-59C1-4569-A07A-766FA83F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178-7B6C-41E6-BA08-D971C69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CF0-80AC-4E4A-BD5D-B6ED3D83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1D8-3FA0-4F86-B71C-13586C6C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FCD-61A1-46B3-BD36-D0371FD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EEF-12EE-4CD2-8C58-95AD17D7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FCE-8B0C-4612-9EF6-5352637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F23-3EE3-4A15-8020-361F613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198-100E-4B16-94CA-C392F20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9001-806B-4528-8201-79B6509E5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46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1.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Utry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2280" y="1066680"/>
            <a:ext cx="45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rad. South African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287360"/>
            <a:ext cx="876312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87360"/>
            <a:ext cx="86868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7:55Z</dcterms:modified>
  <cp:revision>8</cp:revision>
  <dc:subject/>
  <dc:title>PowerPoint Presentation</dc:title>
</cp:coreProperties>
</file>