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7481-3280-4BAD-828D-046272D42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FEA6-DF0C-490E-9B64-914382A8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D652-8F2F-456B-905D-71980470E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2058-7456-490B-86E3-A35227F28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4CF8-F028-491B-90BF-FC5D32A67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DD3E-E5B0-40EF-B045-C1A95EF0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5E2E-4150-4E40-999E-F5B07D23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1827-845B-4AD2-8C52-9C4FE6B3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A853-9BBB-4A73-8D3E-B7CB010B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F538-6056-4558-97FD-DBFDB186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F325-7C5F-4029-9B95-5DF49912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3DDC-6AFE-4089-AC55-1307B87A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966F-9737-406E-8BB7-0540A201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C967-C2A4-4307-BEE0-40B69767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798C-63CA-40C6-87F2-0C68F7C7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48CC-6A55-463B-9BF2-66F07F78B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2EB8-0D36-4A47-A1F0-5616B2537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E2B5-B44D-4181-A545-096950AB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675E-9184-44B0-857C-B6A87E17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784E-2EC1-4C32-9ECE-BDA4DDA6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0738-32F6-4485-915C-6E2DD8E3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D9F1-1F5D-4B3B-A921-72D3CE73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54A2-6612-42AD-944F-29872492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69D3-9974-4F86-BF5F-866AF91E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5663-F51F-42FC-BD3C-09C30CB6D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1F59-C40B-4324-A1C3-D76253386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oldiers of Christ, Ar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2880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Soldiers of Christ, aris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put your armor on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trong in the strengt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hich God supplie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ru his eternal Son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s of Christ, Ar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14560" y="1004760"/>
            <a:ext cx="51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49 (Eph. 6:13-18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trong in the Lord of Host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in his mighty powe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o in the strengt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f Jesus trust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s more than conquero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Stand then in his great migh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 all his strength endue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ut take to arm you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e figh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panoply of Go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s of Christ, A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at having all things don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all you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onflicts passe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ye may o’erco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rough Christ alon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stand entire at las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Pray withou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easing, pra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(your Captain gives the word)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is summon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heerfully obe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call upon the Lor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s of Christ, A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3808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God your every wan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instant prayer displa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pray always, pra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never fain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pray, without ceasing pray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29528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4. From strength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strength go on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restle and fight and pray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read all the power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 darkness dow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win the well-fought day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s of Christ, A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44136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till let the Spirit cr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all his soldiers, “Come!”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ill Christ the Lor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descends from hig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takes the conquerors hom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o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of Hos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his mighty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in the streng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Jesus trus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more than conquer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14444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2. Stand then i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is great might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th all his strength endue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ut take to arm you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or the fight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panoply of God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s of Christ, A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aving all things d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flicts pas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 may o’er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Christ al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and entire at l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09692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3. Pray without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easing, pray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(your Captain gives the word)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is summon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eerfully obe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call upon the Lord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s of Christ, A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od your every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instant prayer displ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 always, pr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ever fai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, without ceasing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29528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4. From strength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strength go on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restle and fight and pray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read all the power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 darkness dow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win the well-fought day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s of Christ, A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let the Spirit c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his soldiers, “Come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Christ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scends from h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ake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querors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oldiers of Christ, Ar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219320"/>
            <a:ext cx="914400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Soldiers of Christ, arise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put your armor 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ong in the strength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ich God suppl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ru his eternal Son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s of Christ, Ar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14560" y="685800"/>
            <a:ext cx="51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49 (Eph. 6:13-18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1-13T17:56:07Z</dcterms:modified>
  <cp:revision>13</cp:revision>
  <dc:subject/>
  <dc:title>PowerPoint Presentation</dc:title>
</cp:coreProperties>
</file>