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ED14-B40B-435D-9B1D-858548FA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30D0-F62F-443C-BDCB-89008B07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65E9-6BC0-4836-B22A-F3B92528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89F2-FB82-4ACE-B486-4F89EFC3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7596-EFC1-4AA1-92E0-29490E93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BCE1-2C56-41E4-8854-39060EC7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00E8-7755-4690-A9AB-CE53690B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12EC-68E9-42EE-8FFE-B6195741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163A-834F-45FB-9748-BD7C10B5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D9AA-7D37-4FC9-B263-001478BF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662F-F706-487C-B9FD-E3C1C1D2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925C-204E-47B9-8D4C-78DDB7E5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7EA1-3B02-4CD8-832B-C7F13CBA2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 Out the Wilder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87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8108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died on Calv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8736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died on Calv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80880"/>
            <a:ext cx="8686800" cy="595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ell me, how did you fe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you come ou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525600"/>
            <a:ext cx="9144000" cy="54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me, how did you fe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you come ou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Lor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8736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died on Calv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80880"/>
            <a:ext cx="8686800" cy="595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Did you love every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you come ou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25600"/>
            <a:ext cx="9144000" cy="54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d you love everybody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you come ou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Lor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28736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died on Calv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80880"/>
            <a:ext cx="8686800" cy="595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Did your soul feel happ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you come ou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25600"/>
            <a:ext cx="9144000" cy="54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d your soul feel happy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you come ou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Lor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4:15Z</dcterms:modified>
  <cp:revision>141</cp:revision>
  <dc:subject/>
  <dc:title>PowerPoint Presentation</dc:title>
</cp:coreProperties>
</file>