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406-4E25-4EB1-BC09-D71D13EB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D2A-CEC4-478C-BFD1-50254B0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2B0-9274-4B51-BBCC-43A7781C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1A6-A74A-43A3-9B57-35DFF5E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37B-8B00-4857-A7A5-D8486A6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5FD-52FF-4EC2-9B53-1705EE98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BCC-CAA7-41C2-ABBA-97FFCB2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A52-4C6F-4F56-A4FB-9DB7FF9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A1D-04A0-4BF7-8AFB-DECEFE3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6C1-4DE2-480B-AE86-EDF0654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87E-8295-4ADA-B0FE-2528D8C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4FE-0156-4D6E-8556-7BB9F77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43E-C742-4100-BD36-77BEC7EC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ross the Crowd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re cross the crow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y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s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race and cl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7720" y="1676520"/>
            <a:ext cx="546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k Mason North, 1903 (Mt. 22: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se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g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ead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rn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et have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glorio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no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lfish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your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haun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tchedness and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shadowed thres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ith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aths wher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ures of g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tch the 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tender childho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an’s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’s burdened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famished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’s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rt h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n reco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cup of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olds the fresh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ong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ltitudes to vi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Master,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heart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10Z</dcterms:modified>
  <cp:revision>17</cp:revision>
  <dc:subject/>
  <dc:title>PowerPoint Presentation</dc:title>
</cp:coreProperties>
</file>