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0683-EA1D-405C-BDCD-ABA92962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9249-09CF-4532-A2A6-E10ECA4D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0A45-4082-4D8A-A343-F80AE85B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15F4-B225-47E3-BD55-55614955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A7AD-37C6-4682-8DF7-6FDC9A99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98A2-8DCA-4D43-B4F1-7CE964DE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E2C4-A2D6-46C0-8E1C-804E5F0A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E72F-3F3F-46D7-9772-927D7E5B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5B64-3F7F-47F0-9828-9F672E02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7FEE-17BA-465D-95C6-CF412ED5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6437-3BDD-4B99-991B-7479FF97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0FA5-C1A9-4D33-BA10-E42DD002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86BF-02DE-4548-A784-A709FFF0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974D-7B75-49C8-AAA0-9C39DDA3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1012-0364-4513-9F88-341FF08F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42C6-CD4C-4747-B2C0-242015EC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0039-E9A2-4414-8839-4D18FF9A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318-2DCA-4C2E-A77D-D196F3F9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704-224B-4F6D-95A9-D59A70C1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9D53-29C8-4B85-9D2D-0DAD1757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0558-4721-4843-8E50-2E11AD42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8D44-0C58-49F5-85A5-EB3E90B2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2A15-14BA-4C2C-BAAD-A2D5B395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B10-E8FC-4FC9-9E6A-6C7DB0EE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647B-AF03-4A76-AB1A-6E4D9B7B3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F583-E01A-4E75-B536-58ABE2F45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60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I Surrender Al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35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609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J. W. Van Deventer, 1896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144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to Jesus I surrender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him I freely give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eve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love and trust him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n his presence daily live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0" y="152280"/>
            <a:ext cx="9144000" cy="57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 my blessed Savio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urrender Al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. W. Van Deventer, 1896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him I freely gi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and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s presence daily liv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716040"/>
            <a:ext cx="9144000" cy="518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umbly at his feet I b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ly pleas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forsak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ake me, Jesus, take me now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0" y="716040"/>
            <a:ext cx="9144000" cy="518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me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lly t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me feel the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uly know 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min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0" y="716040"/>
            <a:ext cx="9144000" cy="518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I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self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 me with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and pow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y blessing fall on 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0" y="716040"/>
            <a:ext cx="9144000" cy="518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27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I feel the sacred fla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full salvatio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s name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0"/>
            <a:ext cx="9144000" cy="58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 my blessed Savio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0" y="716040"/>
            <a:ext cx="9144000" cy="518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22860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2. All to Jesus I surrender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humbly at his feet I bow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worldly pleasure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forsaken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take me, Jesus, take me now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0" y="152280"/>
            <a:ext cx="9144000" cy="57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 my blessed Savio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0" y="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3. All to Jesus I surrender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make me, Savio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wholly thine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let me feel the Holy Spirit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truly know  that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mine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152280"/>
            <a:ext cx="9144000" cy="57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 my blessed Savio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0" y="15228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4. All to Jesus I surrender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I give myself to thee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fill me with thy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love and power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y blessing fall on me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0" y="152280"/>
            <a:ext cx="9144000" cy="57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 my blessed Savio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0" y="22860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5. All to Jesus I surrender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now I feel the sacred flame.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 the joy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f full salvation!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glory to his name!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3-17T14:39:56Z</dcterms:modified>
  <cp:revision>114</cp:revision>
  <dc:subject/>
  <dc:title>PowerPoint Presentation</dc:title>
</cp:coreProperties>
</file>