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248A-00F9-407F-8304-34F7DF3C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79D2-6E9C-475A-BDBF-1738BA2A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7376-04B3-4274-B120-D7CFDA777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C7AE-859F-4054-B96F-18E6E448A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926B-0E3F-40B2-A31E-8AD19A16C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1237-ED82-4EA8-9771-C739A102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9CE0-D9C1-407A-B1C0-28CC89D4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EF6D-06A3-4D21-90CF-3358B0EA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57BA-81DF-40E4-8A2A-FECBC9EA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F2F4-D6EC-4908-8654-8B1958B0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592E-AFF7-44C8-815D-8EE215B3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1EF1-E2E0-4306-A8B3-D1DA1250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38C0-2024-45E5-8FC5-59589154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C6CF-9843-4B5B-843D-C2AADBC3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F15F-5864-4885-945D-79F8FF55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08C5-1A41-41B9-AE95-B16DF7F54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97D1-F606-48A3-88A9-97CAC5994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5451-A33A-422C-A2A0-7C8D05B5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1FEB-3A0E-4996-91CA-832D2326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FD79-975D-47A2-B09C-147C2ACD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B810-322D-4359-8A61-8CE10B3F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D633-B246-460C-9A83-9833C94E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7DC1-D366-46A5-B7E4-64EB6EBC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2F81-6B0C-4DB7-931F-89B0F906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AE78-A847-4252-B28B-3C424983D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F01F-1238-4127-A0D9-318C6EEBB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uide Me, O Thou Great Jehova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72400" y="304920"/>
            <a:ext cx="137160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6002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1. Guide m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 thou great Jehovah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pilgrim through thi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arren land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 Me, O Thou Great Jehova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3640" y="838080"/>
            <a:ext cx="5792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William Williams, 1745; trans. from the Welsh </a:t>
            </a:r>
            <a:br>
              <a:rPr sz="1900"/>
            </a:b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by Peter Williams and the author, 177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95880"/>
            <a:ext cx="9144000" cy="75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16040"/>
            <a:ext cx="9144000" cy="55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d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d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d me till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nt no more;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want no mor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d me till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nt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91916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Open no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crystal fountai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ce the heal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ream doth flow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 Me, O Thou Great Jehov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fi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loudy pill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m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journey throu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716040"/>
            <a:ext cx="9144000" cy="55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ong delive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ong delive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ou s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trength and shield;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strength and shield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ou still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 and shie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en I t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erge of Jord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id my anx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rs subs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 Me, O Thou Great Jehov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of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ll’s destruc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nd me sa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Canaan’s 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716040"/>
            <a:ext cx="9144000" cy="55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gs of prais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gs of prais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to thee;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give to thee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522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uide Me, O Thou Great Jehova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304920"/>
            <a:ext cx="137160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60020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Guide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thou great Jehova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ilgrim through th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arren la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 Me, O Thou Great Jehova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3640" y="838080"/>
            <a:ext cx="5792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William Williams, 1745; trans. from the Welsh </a:t>
            </a:r>
            <a:br>
              <a:rPr sz="1900"/>
            </a:b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by Peter Williams and the author, 177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724280"/>
            <a:ext cx="9144000" cy="2130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weak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ou art might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 me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owerful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648320"/>
            <a:ext cx="9144000" cy="2206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52280"/>
            <a:ext cx="9144000" cy="47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d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d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d me till I want no more;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want no mor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d me till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nt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648320"/>
            <a:ext cx="9144000" cy="2206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11456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 am weak, 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ut thou art mighty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old me with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y powerful hand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455760"/>
            <a:ext cx="9144000" cy="496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Open now the crystal fountai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ce the heal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ream doth flow;                       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fire and cloudy pill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me all my journey throu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 Me, O Thou Great Jehov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648320"/>
            <a:ext cx="9144000" cy="2206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95120"/>
            <a:ext cx="914400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rong deliverer, strong deliver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 thou st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strength and shield;</a:t>
            </a:r>
            <a:br>
              <a:rPr sz="48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strength and shield)</a:t>
            </a:r>
            <a:br>
              <a:rPr sz="50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 thou still m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rength and shiel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648320"/>
            <a:ext cx="9144000" cy="2206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5228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 When I trea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verge of Jorda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id my anxious fears subside; death of dea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hell’s destructio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and me safe on Canaan’s si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 Me, O Thou Great Jehov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648320"/>
            <a:ext cx="9144000" cy="2206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577800"/>
            <a:ext cx="9144000" cy="40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gs of prais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gs of prais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ever give to thee;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give to thee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ever give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648320"/>
            <a:ext cx="9144000" cy="2206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41200"/>
            <a:ext cx="91440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read of heaven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read of heaven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eed me till I want no more;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(want no more)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eed me till I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ant no mor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095880"/>
            <a:ext cx="9144000" cy="75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28600"/>
            <a:ext cx="9144000" cy="58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. Open now the crystal fountai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ence the healing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ream doth flow;                         let the fire and cloudy pillar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ead me all my journey through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 Me, O Thou Great Jehov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095880"/>
            <a:ext cx="9144000" cy="75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52280"/>
            <a:ext cx="9144000" cy="59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rong deliverer, strong deliverer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e thou still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y strength and shield;</a:t>
            </a:r>
            <a:br>
              <a:rPr sz="5400"/>
            </a:br>
            <a:r>
              <a:rPr b="1" lang="en-US" sz="5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strength and shield)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e thou still my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rength and shiel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095880"/>
            <a:ext cx="9144000" cy="75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52280"/>
            <a:ext cx="9144000" cy="58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. When I tread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verge of Jorda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id my anxious fears subside; death of death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d hell’s destructio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and me safe on Canaan’s sid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 Me, O Thou Great Jehov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095880"/>
            <a:ext cx="9144000" cy="75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77800"/>
            <a:ext cx="914400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ongs of praise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ongs of praise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 will ever give to thee;</a:t>
            </a: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(give to thee)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 will ever give to the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095880"/>
            <a:ext cx="9144000" cy="75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808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uide Me, O Thou Great Jehova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772400" y="304920"/>
            <a:ext cx="137160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43828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Guide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thou great Jehova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ilgrim through th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arren la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 Me, O Thou Great Jehova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73640" y="1143000"/>
            <a:ext cx="5792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William Williams, 1745; trans. from the Welsh </a:t>
            </a:r>
            <a:br>
              <a:rPr sz="1900"/>
            </a:b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by Peter Williams and the author, 177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weak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ou art might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 me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owerful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9-04T13:30:45Z</dcterms:modified>
  <cp:revision>45</cp:revision>
  <dc:subject/>
  <dc:title>PowerPoint Presentation</dc:title>
</cp:coreProperties>
</file>