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220-E37E-460C-9531-24AF0566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64E-39D1-4573-9E50-DA70152F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771-0F9D-4AAC-B59A-DBA70145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717-2670-49CD-99D8-025B01BD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B275-FF9A-4209-B55B-1531B637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ACAA-DCCB-48D2-B0B6-D406F745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C526-DF9F-4650-A943-37B88339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364A-2126-4BAD-A3CB-7F71D4E8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ABF9-5B11-41C8-BF3B-EEAB8F94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0DBD-0BBB-4C49-92AA-808BE630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5223-DDAC-40B3-9054-3E7BEACC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89D-132D-428B-8F38-EA5E2657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D2FA-E532-409E-88D1-AC2FF626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C95F-0219-4E42-8E25-81524821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5309-1DE8-40FA-B9FA-4BEB0BCE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F889-EF88-4931-A424-A2D8CE7F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0895-6BC9-428C-B957-80B5CCE1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F8F-21AF-4175-A5FC-640B2497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9BA-CBD2-40B6-AD0A-1F14EC97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5621-046B-4C1B-B7D5-D9B83C66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A03-42F2-4918-9E74-19B18206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2DE-E90D-4E32-9E1F-7608D425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449-2561-4BE0-A2EE-4D6D739B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ED7-E735-493B-AF84-2840881F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68F5-50DE-437E-ACF6-4014550AA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244E-9A97-4729-B0D7-FDD6BAD18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-76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Tis So Sweet to Trust in Jes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46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457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Louisa M. R. Stead, 1882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09480"/>
            <a:ext cx="9144000" cy="484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1. ’Tis so sweet to trust in Jesus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take him at his word;         just to rest upon his promis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know, 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“Thus saith the Lord.”</a:t>
            </a:r>
            <a:endParaRPr b="1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185904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just to res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upon his promis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know,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“Thus saith the Lord.”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him more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sweet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st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to t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cleansing bloo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simpl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lung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the hea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ing flood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him more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’tis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rust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from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lf to cease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from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mply t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nd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and pe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136440"/>
            <a:ext cx="9144000" cy="498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 Jesus, Jesus, precious Jesus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him more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’m so gl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earned to trust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cious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frie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 art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t be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him more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76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Tis So Sweet to Trust in Jes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46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6858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Louisa M. R. Stead, 1882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0" y="9907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’Tis so sweet to trust in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take him at his word;         just to rest upon his prom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know,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“Thus saith the Lord.”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0" y="13644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 Jesus, Jesus, precious Jes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7621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sweet to trust in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ust to trust his cleansing blood;   and in simple faith to plunge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eath the healing, cleansing flood!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3644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 Jesus, Jesus, precious Jes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’tis sweet to trust in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ust from sin and self to cease;     just from Jesus simply tak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ife and rest, and joy and peace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sweet to trust in Jesus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just to trust his cleansing blood;   and in simple faith to plunge me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neath the healing, cleansing flood!</a:t>
            </a:r>
            <a:endParaRPr b="1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13644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 Jesus, Jesus, precious Jes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I’m so gla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learned to trust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recious Jesus, Savior, friend;     and I k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thou art with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lt be with me to the end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13644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 Jesus, Jesus, precious Jes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136440"/>
            <a:ext cx="9144000" cy="498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Jesus, Jesus, precious Jesus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’tis sweet to trust in Jesu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ust from sin and self to cease;     just from Jesus simply tak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ife and rest, and joy and peace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136440"/>
            <a:ext cx="9144000" cy="498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Jesus, Jesus, precious Jesus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4. I’m so gla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 learned to trust the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precious Jesus, Savior, friend;     and I know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thou art with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ilt be with me to the en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0" y="136440"/>
            <a:ext cx="9144000" cy="498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Jesus, Jesus, precious Jesus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0" y="2286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s So Sweet to Trust in Jes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Louisa M. R. Stead, 1882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0" y="19810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’Tis so swee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o trust in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take hi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word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8-12T00:45:24Z</dcterms:modified>
  <cp:revision>159</cp:revision>
  <dc:subject/>
  <dc:title>PowerPoint Presentation</dc:title>
</cp:coreProperties>
</file>