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372-5CBA-43CE-8663-522D8D5D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56F-26F1-4338-9042-2E4A627A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A0B-2FC6-4392-9448-DE4F373A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2F8-0AB6-4BE4-B266-03671710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812-5665-42E6-B5F7-C3D669F9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4EA-26C2-4394-B200-BE9DDB6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26A-4A1C-41B9-8B56-877A6511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7D2-003C-43D6-BBDA-4373BFA2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211-D6A5-4827-8AE1-396D41B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4DB-5A03-4C51-BCB4-D78F1A0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020-FBA1-438B-847C-F053D4C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F39-A2C5-4587-9216-15A1FC5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077E-7471-43C8-8322-12C5EB072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Holiness of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09680"/>
            <a:ext cx="8763120" cy="375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ore ho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 permission of Anne Thur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oliness of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1066680"/>
            <a:ext cx="418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Howard Thurman, USA, 20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is the citad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my desi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where my hopes are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the deep resolu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f my spirit take w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cen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y fears are nourish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all my h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re nurtu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my loves are cherish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all the deep hung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f my spirit are hono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ithout quive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without sh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809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, above all el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let love and integr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nvelop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until my love is perfec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the last vesti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my desiring is no long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conflict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0168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ore ho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7:51Z</dcterms:modified>
  <cp:revision>22</cp:revision>
  <dc:subject/>
  <dc:title>PowerPoint Presentation</dc:title>
</cp:coreProperties>
</file>