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A63-B6D8-4761-B44C-5164B8B7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8A5-4AF5-4F88-BE7D-624DA724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6A5-0D10-478C-A67B-9A7CA985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92A-43B0-44FB-99DC-17AEB669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DF2-BD35-4D15-93DA-22C9CD8C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806-6D0A-4DF9-B2DD-EB204CF1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736-B6E8-412E-96C4-79130EA9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4B2-93CD-4B2A-B24F-3F86B2A0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954-33DD-421B-9898-7E72B190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6A2-A2E5-43FE-B30F-826291BB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B66-7661-43DE-BFCA-6CEDE687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515-6AD7-4100-B1E9-168ED4A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718D-1BD6-43A0-94F8-13C6C46E3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rving the P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us worthy,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erve those throughou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ld who live and die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verty or hung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ng the Po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8920" y="990720"/>
            <a:ext cx="577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Mother Teresa of Calcutta, Yugoslavi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4304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en, through our h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day their daily b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y our understanding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peace and joy.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4:22Z</dcterms:modified>
  <cp:revision>13</cp:revision>
  <dc:subject/>
  <dc:title>PowerPoint Presentation</dc:title>
</cp:coreProperties>
</file>