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BF1-7C60-418D-8D5A-5F5CE6A7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8CC-4A2D-4097-A832-3568EBB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52E-8315-40F9-BFE3-A2143F9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CCC-9D9B-46A9-9634-B59ED006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4CA-8D69-40E8-998D-DF7FE89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25D-CCF5-488F-8523-63B64037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4A0-02C3-4B00-A530-65EF2CA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498-26A5-4D12-8B52-4178F8E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711-610E-40C7-82AB-483BD6E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DDC-2E37-4926-8C55-0782A89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1EE-2FBB-4431-A5F6-2A5F1AC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7FF-C652-4453-A90F-3CEBDE3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40C-A883-4226-AC03-E0A3ED1F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Protection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 Jesus, as a hen covers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icks with her wings to kee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safe, do thou this n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tect us under your gold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ng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otection at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000" y="106668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, India (Mt. 23:37; Lk. 13:3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17Z</dcterms:modified>
  <cp:revision>18</cp:revision>
  <dc:subject/>
  <dc:title>PowerPoint Presentation</dc:title>
</cp:coreProperties>
</file>