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704-66AE-4CFF-86E5-F43A485A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647-1C41-4606-A245-2E05F1D2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020-AA1C-415C-99A8-619BAC6B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83E-C87D-40D0-976E-8A72D775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AB4-3833-4AB2-8CE3-1B94FE13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81B-D19F-4FEE-BE7A-4A71D97E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78C-C2D3-4B54-9A1F-D1B20B2E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849-9FDE-4E75-A16A-F854771A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D94-84B0-4ABC-A521-BDAD08CB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96D-5403-421D-AD89-F2FFEA9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5AB-F34F-48FE-9A5A-BC016BB0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34E-6F3C-45E7-B04C-1D32ABBB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BAD4-93C8-41A8-9EFD-CA767645F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k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Seek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now is prese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y to One who is at han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ease from sin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ildoers change their mi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81520" y="914400"/>
            <a:ext cx="49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86 (Is. 55:6-11)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sinful God has pi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retu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forgi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sa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 world that dis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8208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“Judge m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human standards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the vault of heaven so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gh above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th, so hig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my thoughts a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ys than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how rai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now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earth blos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r fru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you, before retu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d for s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to ea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8208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“So my w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turns not fruitl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es not from i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bors cea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ll it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hieved my purp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 world of joy and peac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lose the proph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at vi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spel w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saiah’s inspir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hea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4:18Z</dcterms:modified>
  <cp:revision>40</cp:revision>
  <dc:subject/>
  <dc:title>PowerPoint Presentation</dc:title>
</cp:coreProperties>
</file>