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26CA-E083-452F-97BB-FECA3185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186F-B7DC-4088-87AA-62E2FB3E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059D-8530-4CD5-BC53-4F78033C1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57AE-BAC0-47F7-909F-59EADBD9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72D5-2E6F-4B72-BFDF-8D7996B7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5185-FF7A-4E84-BA6A-37E14C43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3067-3AA2-4B3E-B70B-E28BE2D3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5179-A7BF-4DFF-BA68-4E9ABB0E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BBAB-ADAC-43E1-AEF1-D5B9F9FD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73F0-2F77-4038-A5CB-EDC4C8CC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3A92-0462-4FFA-8AFA-984DA75D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0EAD-B9E3-4A6B-833E-D9F13FE3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F32C-B8C6-42D7-9890-0810B6715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rd, Who Throughou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se Forty Day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6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Lord, who througho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se forty d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us did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st and pray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 Throughout These Forty Day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54944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laudia F. Hernaman, 1873 (Mt. 4:1-11; Mk. 1:12-13; Lk. 4:1-13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 Easte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ending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may att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last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us with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ourn our s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ose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to sta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s thou with Sat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dst cont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id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ictory win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 Throughout These Forty Day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ive us streng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e to f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quer sin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s thou did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nger bear, and thir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teac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ious Lord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 Throughout These Forty Day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die to self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iefly l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st holy word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And through these d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enit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assiontide, 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 Throughout These Forty Day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a, ever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ife and d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abid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Abide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lif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ffering over past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 Throughout These Forty Day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2-18T00:02:26Z</dcterms:modified>
  <cp:revision>27</cp:revision>
  <dc:subject/>
  <dc:title>PowerPoint Presentation</dc:title>
</cp:coreProperties>
</file>