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59D-1800-4560-83DC-865B2F02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FD3-0CAC-4834-B679-89B1DF54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13B-FB3D-4BA5-9C37-AEB0C544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DD9-D669-4ECA-A88B-EBF9F91A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BAB-5B98-46CB-9E1F-FBD7CF7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30D-EC27-4DF6-BFA3-B12B1538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EF5-0F92-46A1-99E2-E28D0DED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332-F648-4771-8413-0F4951BC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A56-F199-4786-8E70-966ABCAF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505-1F07-4E11-AAA8-0B49D05B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29F-CF39-45E0-8DFE-734AA97A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774-3812-49AD-A532-1D6849F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8FE-99E4-438A-8273-531C72A2A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God, This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, this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3000" y="16765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Ken, ca. 167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G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me, O keep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giv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dear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ll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 have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, an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, ere I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eac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d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ve as li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y b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o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 I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glorious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may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e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sweet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yelids clo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that may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vigorous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God, from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4:01Z</dcterms:modified>
  <cp:revision>18</cp:revision>
  <dc:subject/>
  <dc:title>PowerPoint Presentation</dc:title>
</cp:coreProperties>
</file>