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2E1-653A-4054-9019-D800DEA7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821-2BCD-46E6-B1B4-86D59588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65B-3EEE-4414-B513-58A89235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57F-6BF3-4144-8E5D-BA9AB3FA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C8D5-6EE3-4DB2-8217-29774FEA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2F1E-430A-415B-ABC9-CE45C686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6D2A-1972-4943-AD94-0A9564A8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5DF1-3564-4680-85FA-354D3657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694A-7466-4D2D-BAC9-6A2291B7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6B47-6491-4948-B0B1-590A708C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6184-4D1C-4FCE-81F6-82D3555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ACE-0F6F-40B5-B140-6AD74539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90E3-51D0-44A4-A60D-DA99B04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127-344D-4E4A-BFB1-2647148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47D1-981A-4310-87D7-BD72488D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9DC-BF36-4620-8CEE-513D203A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60A-8F1E-4FCD-8901-82B3FA2A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3F6-8750-4756-AD35-86B8ECFE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916-484F-461F-B87A-3A31C465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78D-94B5-46A3-BEBB-CFE591FC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219-D5F9-48F8-BDA6-B5062403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2F4-04BB-4D87-B19B-AF4DCF3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76D-96D1-464E-93E5-11759E78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EA1-9E60-4447-80AE-A2CF0BF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4EB-4EC3-493A-A298-D9917853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77FE-8FE4-41C5-A409-CB9F08870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53520" y="1143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3520" y="1143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know not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aving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did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0080" y="1859040"/>
            <a:ext cx="7683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how belie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ught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know not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m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vincing us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ng faith in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51040" y="114300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know not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ma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night or noonday f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if I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ale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meet him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 know not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aving fa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me he did impart,                        nor how believing in his wor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ought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I know not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mo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incing us of sin,                                revealing Je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the w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eating faith in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I know not wh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Lord may co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night or noonday fair,                     nor if I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vale with h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meet him in the a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6T19:07:29Z</dcterms:modified>
  <cp:revision>57</cp:revision>
  <dc:subject/>
  <dc:title>PowerPoint Presentation</dc:title>
</cp:coreProperties>
</file>