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44F-B5FB-4FB5-83A4-4FAD5326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588-7FCF-4AC7-8FC5-E1778AA4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838-E72B-487A-9A8E-7BDF1E30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F428-0F7A-4E17-88D0-48104A73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F7B-E29D-4A1D-AE0E-D36FD4AE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C88-116A-474A-8EC5-325C6C91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72A7-5637-472C-B235-4A801D85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871-EA1E-4735-9AF5-5F825237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EE41-A198-43A1-8682-868C600D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9C5-F6D4-48CF-B415-AFCAD018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C1C-2EFC-4E61-85AB-474A51C2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616-8DE3-479E-B47A-0CF45DC8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A94A-3836-494A-A724-EDF8FDE8D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ftly and Tenderly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Is Ca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 L. Thompson, 1880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oftly and tende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dows are gath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thbeds are co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;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for the wonde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he has prom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d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we have sin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has mercy and par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don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;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, on the portals h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iting and wat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;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hy should we ta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Jesus is p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ead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y should we li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ed not his merc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rcies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;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ime is now flee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oments are pa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ssing from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rom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19:22Z</dcterms:modified>
  <cp:revision>104</cp:revision>
  <dc:subject/>
  <dc:title>PowerPoint Presentation</dc:title>
</cp:coreProperties>
</file>