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0B7-D923-4761-B00D-7F14F836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7A9-43F7-4E95-A191-15A0FB02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1FDA-24D4-4A01-90DE-E58272E7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CD4-9FE4-466C-9C4D-8700633B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058-A5A7-43B0-8ED2-67883653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6F5-3D86-45E1-B237-20F1F7D7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DEF-FC12-4243-B994-90D4DEDC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5868-AC10-41B8-B706-5373ED3F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02E-6E13-46D4-B5E0-4F66077E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198-0A58-4754-872B-9A7D37C5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6EC-B8F1-4026-B2D1-000C6E0D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0C0-7233-42F0-894E-633A6907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E47D-BCD7-45C5-9270-6E0E083E6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eluia, Allelu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5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to the risen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 The Word of 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5640" y="1168560"/>
            <a:ext cx="33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Donald Fishel,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 is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eart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the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sen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pread the good n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ll the ear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has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as ris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sen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have b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ucified with Chris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w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sen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ome, let us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v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fully s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avi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sen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6:39Z</dcterms:modified>
  <cp:revision>24</cp:revision>
  <dc:subject/>
  <dc:title>PowerPoint Presentation</dc:title>
</cp:coreProperties>
</file>