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E23-0360-4838-82A6-AB75BD5F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5B2-5576-4D33-8091-CDAAC1F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ADD-7BC4-4D9D-8319-0466663B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6B1-FDE8-440E-B1EA-E10AB818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126-F25C-4995-B108-E6E22A3C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2894-7711-4649-BE87-7FBA2D9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7E1D-6730-492D-9B66-15594F6F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563E-788D-458F-840F-3CC0B846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7DB-0B89-40D5-882E-EC81C2F1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6F44-B8F9-45A0-B822-A266BDE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E844-04B5-4A5E-8074-E8B6B3B5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805-4AFA-4583-9477-D391385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EDA9-2127-4428-8140-126E2EF5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037F-3345-4E6B-9FD7-72FD7A5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8609-7934-44C4-8BE6-59F497B7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3FDB-D6DC-408B-9D02-BD9F76FF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CB7D-2FC0-4903-B8B2-22900496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61B-6ACA-4A62-8B0A-0BE78831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C91-43C6-48C4-86C9-21293095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9D6-96B7-44DC-875A-896C023E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DB2-8EBA-4D7E-B300-5F02673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334-ACEE-45BF-931F-62BDF07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06C-F8DD-4809-95C9-C1C176AA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C5B-7A7F-4E1C-ACEA-064C5578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A0EA-BEA5-4895-8AAA-97CB0A7EE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9014-0CD8-4AC6-B6F4-FE7BEFE65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96920"/>
            <a:ext cx="9144000" cy="33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the church togeth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300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K. Avery and Donald S. Marsh, 197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4000" cy="47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K. Avery and Donald S. Marsh, 197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chur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buil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 not a stee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rest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 a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re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s of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any kinds of fa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olor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ges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times and pla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metim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is mar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ly bu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t’s r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h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it’s le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p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laugh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crying someti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f it say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 church is not a buil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not a steep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not a resting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a peopl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e’re many kinds of peop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many kinds of fac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colors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ages, to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all times and place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ometimes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urch is march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it’s bravely bur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it’s ri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hi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ways it’s learn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And when the people g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sing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re’s pray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laughing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crying sometim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of it saying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9T00:55:45Z</dcterms:modified>
  <cp:revision>67</cp:revision>
  <dc:subject/>
  <dc:title>PowerPoint Presentation</dc:title>
</cp:coreProperties>
</file>