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C01-4D0E-4414-AEBD-9C4968B2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6F7-260E-4DF5-96FD-37B33C0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884-51FC-4245-8ACC-3C5B9B31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480-8F39-4EB3-A082-E257C4F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BD3-5923-483C-B5EB-ABB0F9A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FE-2078-4380-876F-CE48DC3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4FB-D2B1-414F-86BA-77C605E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976-4357-4526-BB5F-46BC4DFF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F68-D64A-46F7-A7E7-4E03F69F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1C0-E03A-4067-9151-36B34F5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667-5C66-4EA6-9952-75207E7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2F8-FDF0-4B00-ACCE-4CC0F9B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973-72A4-4D79-B25C-1F0B7659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is la Sem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You Are the Se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3:08Z</dcterms:modified>
  <cp:revision>88</cp:revision>
  <dc:subject/>
  <dc:title>PowerPoint Presentation</dc:title>
</cp:coreProperties>
</file>