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1838-D2AE-4EE9-BB4C-ECC082D12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B271-81EC-4EB4-87F5-93E374BF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7FF8-C7B5-4726-B5B7-392E51802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747B-2E98-49CE-9A13-5292534E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5C05-FD98-43FB-A870-E6947293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9C76-BDBD-4DF4-BE63-ED735F6B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D2A1-8E05-472B-B006-E201D3B6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FFD6-CA06-4CB5-B9F6-1B570733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2B66-D66B-42B5-92B7-37D4FABC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D2CE-A452-47BE-ACCE-2FFDF0D0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A62C-9DAA-4B21-A5F1-ACA5DCED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5BE2-EFD7-46E6-8766-2037EF33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3F20-4C0A-453B-9649-B0A919327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ams of Heaven as I 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Beams of heave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s I go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rough thi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lderness below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ms of Heaven as I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Albert Tindley, ca. 19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its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reets of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hall behold some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 not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long ’twill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what the fu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s for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ms of Heaven as I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is I know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Jesus leads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hall g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me some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arder y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be the fi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ght may oft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ield to m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ms of Heaven as I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cke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while may reig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tan’s cau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seem to 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is a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rules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and of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art of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I am 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ll fight my batt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hall have peace some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 not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long ’twill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what the fu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s for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ms of Heaven as I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is I know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Jesus leads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hall g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me some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Burdens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crush me d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sappointme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rou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ms of Heaven as I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de my feet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ful w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rn my midnigh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day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oubles spea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ournful s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rrow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tear-stained ey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is a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pleasure reig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urning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roam its plain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that l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peace and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to go some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 not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long ’twill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what the fu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s for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ms of Heaven as I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is I know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Jesus leads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hall g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me some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n the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ould gr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always se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tar of hop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oon from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’s grief and da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hall be free some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 not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long ’twill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what the fu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s for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ms of Heaven as I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is I know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Jesus leads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hall g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me some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ftentimes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ky is cl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 abou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out a t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ms of Heaven as I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a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bright beg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uds may h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morrow’s s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’ll be a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’s always b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day that n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ields to n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1:08Z</dcterms:modified>
  <cp:revision>51</cp:revision>
  <dc:subject/>
  <dc:title>PowerPoint Presentation</dc:title>
</cp:coreProperties>
</file>