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0952-A497-4737-AA25-9FC7FAED7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E0BC-2EA4-48B4-A358-9FECD2152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64AE-77F2-4667-9E36-96F694F4E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A5ED-9074-4166-82A6-AA640A4CC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6B4E-8FC1-4431-B19B-16864DFCB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7B2E-BC36-4E8D-A95B-63B4A5ACB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8475-684E-40C9-B50E-A4169214E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0293-0FA6-4455-94CA-1D7022385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F843-903F-45A3-BD6C-C2C8ED4A8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A94F-43A3-4799-ACB3-80A138AE2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48DF-C28C-414E-A510-41453778B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2AF2-971B-48CD-B04D-218850BED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FD096-637F-4A30-A6E5-272A122C17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53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Day of Penteco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4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1828800"/>
            <a:ext cx="8839080" cy="4490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od of grac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 sent the promised gif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f the Holy Spiri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upon the apostles an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he women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89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y of Penteco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96680" y="1066680"/>
            <a:ext cx="5799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Laurence Hull Stookey, USA 20th cent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1187280"/>
            <a:ext cx="883908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upon Mary the mothe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f Jesus and upo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his brothers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ill your church with power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kindle flaming heart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within us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638280"/>
            <a:ext cx="8839080" cy="559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cause us to proclaim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your mighty work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in every tongu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hat all may call on you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be saved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rough Jesus Christ our Lor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6:15:28Z</dcterms:modified>
  <cp:revision>10</cp:revision>
  <dc:subject/>
  <dc:title>PowerPoint Presentation</dc:title>
</cp:coreProperties>
</file>