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398-C13D-4ED6-8410-F55D0ED3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1E5E-1E29-4B39-AB86-D3664952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637A-E26B-4B68-93B0-6652F9AE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7EEC-0883-463A-B322-8CC78D23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00AA-DAAE-4E60-B109-91E610A1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A1EE-1056-4C6B-BA9C-3D3947EB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82B2-1C22-4A5B-96BE-9ECC6B55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FAF9-1E7B-4C2F-95AE-BCC42CB3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4537-EBF6-44CA-B307-05101F1E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29B9-47B6-4F74-9FCE-C1D7081D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FF5E-F90A-46DF-A0C4-22C3A3F5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9702-5558-4F6E-8C0E-8BB3EFA4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2AD2-B4FA-4FF0-8A09-6DCAED0D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D154-3BFE-4F26-B7DA-98EF2383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F1EE-2474-4EFD-AD5C-E7C887B3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C10B-52A8-41C3-904F-5065C61D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065B-4252-40C2-84FC-2C0C689B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9093-743E-4CD2-B4BD-841B751A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1130-1925-4CB5-9535-938BD294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D9DE-B8C5-4A6E-93DC-9768CE15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63C8-946C-4601-87B5-E4EC4AE6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FE29-7ADF-4C99-808C-BF7A8BC8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536C-FF82-42C7-96E8-16E65678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629-8011-4DDE-93D1-A2D28474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ADFC-20E9-42B9-9CDD-84B42D659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41B2-0CB1-47E1-AD8D-71D28FFE2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way in a Mang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52480"/>
            <a:ext cx="9144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1. Away in a manger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no crib for a be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ittle Lord Jesu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laid down his sweet h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y in a Mang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07880" y="990720"/>
            <a:ext cx="2963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Anon. (Lk. 2: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hee,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ok down from the sk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tay by my crad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morning is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Be near me,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sk thee to st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lose by me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ove me, I pr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y in a Mang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 all the dear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y tender c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it us for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ive with thee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699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tars in the sk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ok down where he l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ittle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leep on the h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e cattle are low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aby awak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little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crying he mak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y in a Mang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hee,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ok down from the sk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tay by my crad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morning is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Be near me,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sk thee to st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lose by me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ove me, I pr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y in a Mang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 all the dear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y tender c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it us for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ive with thee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way in a Mang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133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Away in a manger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no crib for a be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the little Lord Jesu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laid down his sweet hea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y in a Mang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07880" y="990720"/>
            <a:ext cx="2963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Anon. (Lk. 2: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tars in the sk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ok down where he l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ittle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leep on the h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e cattle are low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aby awak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little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crying he mak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y in a Mang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12-05T00:02:08Z</dcterms:modified>
  <cp:revision>61</cp:revision>
  <dc:subject/>
  <dc:title>PowerPoint Presentation</dc:title>
</cp:coreProperties>
</file>