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D3F8-A845-4170-8E46-A682294FC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ADFD-46EF-43CE-A36D-FA0757EE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4721-1CFD-430F-B947-2A33CBD1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436C-4BE3-4B44-8521-A3929556B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7FD0A-4034-4545-94F5-D0AD9536E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04DA-B678-45B7-9ECD-2EC60019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9508-38B2-4EB1-8AB0-F8713D01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27C7-ADB5-41F6-85DE-AC61BB05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1CE0-96DA-4F45-B045-F34E491B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AD50-59C3-4D69-93B2-DF7566EB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E272-E8BD-4088-AD0C-CF1CFDC0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2D99-7B97-4C62-8695-A8568575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5E68-F647-4C53-8D32-4998C478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CD2F-6BD0-447D-8425-2DE317AD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12EC-1A75-4CA9-8235-414D27E0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277B-043A-4004-ADEB-1F29D93F2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7DB1-E02E-41E3-BF46-65251DCE2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4616-139B-49E9-8182-62B3CFBE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88EB-DA7E-4F96-B354-A28F248F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530C-EB73-4336-94A3-C61E5403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F9E6-BCE6-4397-897A-A8651BC3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9E4F-2D6B-43A3-A6F3-7B61A359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653C-A9BC-4002-B859-E79BEF3C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B17C-6585-463F-BDED-6E3EC352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2538-DCE9-44CC-9F3C-D80872BD7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DEC8-7589-414B-9ACB-267CFD174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6248520"/>
            <a:ext cx="9144000" cy="606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Want to Walk as a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ild of the L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394000"/>
            <a:ext cx="9144000" cy="301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1. I want to walk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as a child of the light.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I want to follow Jesus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15440" y="1600200"/>
            <a:ext cx="6534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Kathleen Thomerson, 1966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0, 1975 Celeb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907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e have run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ith patience the rac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e shall know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e joy of Jesus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019920"/>
            <a:ext cx="9144000" cy="834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457200"/>
            <a:ext cx="9144000" cy="485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In him there i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no darkness at all.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e night and the da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are both alik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943600"/>
            <a:ext cx="9144000" cy="911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9907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e Lamb is the ligh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city of God.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Shine in my heart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Lord Jesus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019920"/>
            <a:ext cx="9144000" cy="834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Want to Walk as a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ild of the L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362320"/>
            <a:ext cx="9144000" cy="414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I want to wal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a child of the light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ant to follow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0, 1975 Celeb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79680" y="1600200"/>
            <a:ext cx="42055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Kathleen Thomerson, 196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set the st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give light to the worl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tar of my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287360"/>
            <a:ext cx="9144000" cy="39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him there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darkness at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ight and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both ali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amb is th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city of Go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ine in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 want to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rightness of Go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ant to loo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lear S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Righteous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ine on my p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how me the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Fa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287360"/>
            <a:ext cx="9144000" cy="39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him there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darkness at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ight and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both ali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0666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God set the star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o give light to the world.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e star of my lif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is Jesus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019920"/>
            <a:ext cx="9144000" cy="834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amb is th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city of Go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ine in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I’m looking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coming of Christ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ant to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e have r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patience the 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shall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joy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287360"/>
            <a:ext cx="9144000" cy="39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him there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darkness at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ight and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both ali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amb is th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city of Go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ine in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Want to Walk as a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ild of the L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2096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I want to wal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a child of the light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ant to follow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15440" y="1600200"/>
            <a:ext cx="6534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Kathleen Thomerson, 1966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0, 1975 Celeb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1066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set the st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give light to the worl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tar of my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457200"/>
            <a:ext cx="9144000" cy="39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him there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darkness at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ight and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both ali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89856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amb is th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city of Go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ine in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1066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 want to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rightness of Go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ant to loo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457200"/>
            <a:ext cx="9144000" cy="485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In him there i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no darkness at all.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e night and the da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are both alik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095880"/>
            <a:ext cx="9144000" cy="75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5335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lear S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Righteous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ine on my p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how me the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Fa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533520"/>
            <a:ext cx="9144000" cy="39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him there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darkness at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ight and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both ali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amb is th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city of Go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ine in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1066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I’m looking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coming of Christ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ant to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e have r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patience the 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shall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joy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457200"/>
            <a:ext cx="9144000" cy="39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him there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darkness at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ight and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both ali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amb is th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city of Go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ine in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2193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e Lamb is the ligh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city of God.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Shine in my heart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Lord Jesus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172200"/>
            <a:ext cx="9144000" cy="682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0666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2. I want to se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e brightness of God.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I want to look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at Jesus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095880"/>
            <a:ext cx="9144000" cy="75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533520"/>
            <a:ext cx="9144000" cy="49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Clear Sun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of Righteousnes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shine on my path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and show me the wa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Father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095880"/>
            <a:ext cx="9144000" cy="75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533520"/>
            <a:ext cx="9144000" cy="485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In him there i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no darkness at all.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e night and the da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are both alik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019920"/>
            <a:ext cx="9144000" cy="834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03824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e Lamb is the ligh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city of God.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Shine in my heart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Lord Jesus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6019920"/>
            <a:ext cx="9144000" cy="834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0666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3. I’m looking fo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e coming of Christ.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I want to b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ith Jesus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6019920"/>
            <a:ext cx="9144000" cy="834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8-07T16:05:02Z</dcterms:modified>
  <cp:revision>56</cp:revision>
  <dc:subject/>
  <dc:title>PowerPoint Presentation</dc:title>
</cp:coreProperties>
</file>