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A23-7CCB-410E-8938-8A836966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FFE-9CCD-4B21-A762-7EAEC16C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C82-BBEF-4608-9E38-2D6DE30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DF1-C071-46A1-B4AC-786F1CF1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FC1A-BC38-4D8F-97C6-1B5029A5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A686-D344-409A-8293-1E29FAED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77B4-F0C4-4BE8-A4A1-D820869A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61A-FA94-483D-B833-B097709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DE55-FBA8-4DD7-9EEF-9068CA9F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498-A040-46C1-ACB9-67BC9F5A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A39-747C-4F61-8976-1148D95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628-3490-428E-B205-E6B338D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5F9-3100-4D58-96DE-148BCBF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18E2-1EC0-40F3-93BF-B2F147C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9D72-3741-41C1-967B-EC2B6FB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03FE-7B70-4371-9BB6-24B47138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F7B8-F4CB-4A34-9432-7EE9D5CB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16B-513D-44C1-B0B0-17E83B2E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DFA-32C0-42F6-B9FE-41A04CA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0D9-1B26-4A9F-8FB4-B52FE29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E3E-1234-436B-A095-10E90E9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77B-3C94-4F17-BCE0-3C64773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6BE-81C8-4842-8404-D7FE8A3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59D-7A78-4346-9616-E11412B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517-383D-416D-8E33-60B98FA9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7B3-9F87-4B81-A8FC-7D0436CBB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ight and Dark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een a grea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,  Responses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3080" y="1090440"/>
            <a:ext cx="72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9:2; 59:9-10; Psalm 139:11-12; Daniel 2:20, 22; 1 John 1:5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apt. by Alan Luff;  Response 1, Isaiah 9:2, adapt.;  Response 2, Alan Luff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3, trans. by Frederick Oakley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68580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762120"/>
            <a:ext cx="594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in the twilight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5480" y="76212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8120" y="152280"/>
            <a:ext cx="60958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52280"/>
            <a:ext cx="5715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38280" y="228600"/>
            <a:ext cx="6705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, Christma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ght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hrist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46196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in the twilight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51:37Z</dcterms:modified>
  <cp:revision>32</cp:revision>
  <dc:subject/>
  <dc:title>PowerPoint Presentation</dc:title>
</cp:coreProperties>
</file>