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16D-E6AD-4FF2-87C9-DD255BE4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5D0-885E-4EFF-A3FF-D0A8B05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486-7C5B-4B13-8DE5-CD9DF034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C68-BA43-4D59-97F1-84834589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1B62-EB04-41CE-8AD6-FA9A91B1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F788-AD43-40EE-B081-8012EAA7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5F67-246C-4DE5-ABEB-6E12B4D9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0D4F-1080-4D8E-A9EE-68F122B7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48D8-1529-4101-ACCF-77A6BEF9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2947-3982-4AF9-A7C8-38E92C82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6125-AC1D-41BD-9477-AC25D55E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3DA-A572-48A6-AE2C-76E59A8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67AB-4C1D-4563-ABB6-84E569A7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1389-A26F-4234-9CBA-9D3B69F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D74C-D5B0-46FE-920D-DA652A7C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6752-D804-4632-90DF-874480E1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0462-75CB-42F4-9D15-5D25AF04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B8D-89EF-49AA-A05D-9CDC8AA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C8F-DD40-482F-B2A9-916679B0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D92-19A3-4198-AA56-CF5A62DE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88F-8C53-4CB9-8653-ED3F31EF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597-74A8-43C6-9DF4-97AC147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555-B38A-4138-BFEB-C80ADD5F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ECF-7B08-445F-8F03-E2BA813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6A59-615D-4C20-815C-2943B2AA0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A53-A9C6-4440-9B77-9233589F8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74920"/>
            <a:ext cx="9144000" cy="393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how he gave his life on Calvary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5800" y="7621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bout the angels singing and the old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28800"/>
            <a:ext cx="9144000" cy="48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he gave his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Calva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5800" y="1028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roken spirit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7360"/>
            <a:ext cx="9144000" cy="567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s b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ut the angels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90720"/>
            <a:ext cx="9144000" cy="34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he gave his life on Calva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7621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 and heal my broken spirit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6812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127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809880"/>
            <a:ext cx="9144000" cy="30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has built for me in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ut the angels singing and the 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809880"/>
            <a:ext cx="9144000" cy="30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412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6504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come and heal my broken spirit,”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8120"/>
            <a:ext cx="9144000" cy="536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9144000" cy="129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has built for me in glo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17T22:04:53Z</dcterms:modified>
  <cp:revision>23</cp:revision>
  <dc:subject/>
  <dc:title>PowerPoint Presentation</dc:title>
</cp:coreProperties>
</file>