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448-8AB9-48EF-9A3E-30AE713C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D68-9800-48A2-A4C5-63E630A3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A92-D0D8-4C8E-A9E2-F7A1E0F2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8EA-FD9E-43FE-B253-85353AD0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796-FC5C-4DDF-923A-444AC5D3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199-8DFA-4E95-9819-8C27AE2D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56F-CFA3-4979-A8BF-F876619C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523-1714-4AD0-8DF7-FB56B460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A7A-8E93-48EC-A669-D4A2788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766-C041-4FA6-BA2B-5018E4D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C5F-21EB-4C9E-8C67-397FBBE7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C8D-5A5E-4598-8E02-42D8964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4AA-D4C5-43A0-991C-EA614FFF4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ile Shepherds Watch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ir F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ile shepherds wat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locks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eated on the 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3240" y="154944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Nahum Tate, 1700 (Lk. 2:8-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p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“All 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be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ll hence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to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and never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and never cea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ca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shown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shown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!” said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ighty d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seized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d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tid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joy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of hu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To you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town,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r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, who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 s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s shall b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The heavenly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here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ew displ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nly wra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wathing b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a manger l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in a manger lai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us spake the sera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th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ear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thro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4:43Z</dcterms:modified>
  <cp:revision>9</cp:revision>
  <dc:subject/>
  <dc:title>PowerPoint Presentation</dc:title>
</cp:coreProperties>
</file>