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9E8-F3F6-4C3F-830F-CB7921EA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636-1B13-487C-A285-8587D6F2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C80-00A2-4812-B97A-23BAFE83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6FC-B122-41A9-A63A-46919A1A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399-0891-43C6-8273-18B4ED80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059-D1BE-43BB-A201-9570449E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7A0-1DB2-4E4F-A5DD-0329175F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1CC-A2EE-4EB3-9635-A8DB4D1F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5E1-A2CF-4D7A-9C7C-C8302A0D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DB86-37C2-4CCE-B9E6-39F67263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FA4-5A16-4EA1-92A3-D8DE2E6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D1F-77A0-4FF7-A2A1-EF555912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9DEC-E60E-43CD-A1EC-164999F47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Our Friend and Br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our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our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o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2 by Mennonite Leaders’ Coun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Our Friend and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6160" y="109044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ttr. to Ova’hehe; trans. by David Graber and others, 1982 (Jn. 15:14-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nvite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nvite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ge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alls us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1:03Z</dcterms:modified>
  <cp:revision>16</cp:revision>
  <dc:subject/>
  <dc:title>PowerPoint Presentation</dc:title>
</cp:coreProperties>
</file>