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143-38CD-4273-A2C1-CA20B047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CE1-68F7-4913-A78E-9B24F98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635-8A47-4981-B69B-160EC830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AEA-98F1-4CD9-8F7B-AA717273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E174-E021-461B-9457-5F514AC5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81EE-EF2E-4100-B822-99B13B83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E6B-1F9E-46A1-8821-2124CDF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0DD-DE1E-412A-9B13-BBB2BA0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2569-A288-4C88-B6CB-D61AD00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4E1B-3906-4D43-AECE-FBE4E32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5770-B458-43C4-BB2B-9920553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03F-C0C5-4047-8D60-71F8E70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979B-1928-4114-8F82-825CE19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54C2-63DA-4B68-B0D5-37AB16C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EEF5-95B8-4089-B1FA-A416B382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068-1270-4928-A382-2E7F27DB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3187-83A5-429E-BA14-3700E1CD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7FC-72DB-427D-9270-311585F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EEC-DCDA-4BD0-B53C-1C253610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183-2A94-4DC2-BFDE-44244996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8FB-4D25-46CE-BFD2-F3451F59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532-9063-428F-9E4E-77EF8CCC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4D7-2B94-4FAB-A96B-4AA0119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7CE-A853-4C0F-863F-6B0B273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B6D5-C5F6-4F2B-9E2E-901C26E5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C33A-5408-452F-88E8-DEC5369C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32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1604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3T13:40:00Z</dcterms:modified>
  <cp:revision>122</cp:revision>
  <dc:subject/>
  <dc:title>PowerPoint Presentation</dc:title>
</cp:coreProperties>
</file>