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5F6-3400-4B85-B7C5-A93A42E8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5C4-27D0-4D0C-A53B-DF7727DE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D4D-85BB-478C-930E-6DECF0A0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7027-1BF8-4835-A61A-F42C5472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A4A5-3921-4F21-998A-ED829CDD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898F-3C9B-4B26-B307-72BD2A33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B8C0-AF3A-4B2E-ACFC-CE06CB6E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0817-3C80-43D0-9DFA-B7152994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F86A-BDE1-446F-88F3-27D5D5DB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DA2E-1A26-473C-98A0-D9C273B2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5BC0-1968-4E39-A78C-9EEE6A94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6C9-D5F1-4496-8F23-C567AE48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E2E4-B3D5-48AB-95C4-A095AF74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976F-A2BD-4229-9A3D-40F5E68F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4627-038D-4D83-98E0-F49C7860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0D9F-6864-4F41-B3B9-AECEB4CF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5B03-8AFE-4597-9AF3-248ECE73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799-7E58-4776-8218-CBA314CC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491-858F-4215-AF1A-49636FD1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6D18-7654-4B86-A37F-1BE57B4B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9488-52EA-4435-9F18-A154325F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1E6-D157-419D-A2AA-EF1B5632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829-7202-42F8-ADCE-755C0517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3779-E252-4780-85D3-74F680A4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4878-D02C-4A15-8F60-325848B50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BB52-3EFA-47D7-858A-9F3B7B2A7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ft Up Your Heads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e Mighty G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Lift up your hea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mighty gat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old the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lory wait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8640" y="1676520"/>
            <a:ext cx="73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Georg Weissel, 1642; trans. by Catherine Winkworth, 1855 (Ps. 2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k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drawing n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avio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ld is he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ling wide the port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your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it a tem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t ap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earthly 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heaven’s empl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ned with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ve and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Redeemer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us ab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hearts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open w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thy i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ce fee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grace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us reve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y Hol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d us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our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al is w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f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offered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y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k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drawing n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avio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ld is he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ling wide the port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your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it a tem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t ap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earthly 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heaven’s empl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ned with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ve and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Redeemer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us ab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hearts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open w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thy i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ce fee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grace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us reve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y Hol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d us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our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al is w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f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offered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y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ft Up Your Heads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e Mighty G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82880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Lift up your head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ye mighty gates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ehold the K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glory waits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08640" y="1447920"/>
            <a:ext cx="73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Georg Weissel, 1642; trans. by Catherine Winkworth, 1855 (Ps. 2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2-29T00:15:44Z</dcterms:modified>
  <cp:revision>58</cp:revision>
  <dc:subject/>
  <dc:title>PowerPoint Presentation</dc:title>
</cp:coreProperties>
</file>