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A1B8-2BB9-4375-8FEE-3535DF7D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0839-A709-4CBE-BB37-AD091E4D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53B6-35D9-4240-B774-75E61C31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99AF-4CF8-4F48-B36A-DAB759FC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9E81-053E-431F-826E-7B62C6DA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1B45-6690-46AD-BA59-4FBEB9DF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B349-FC02-4CF6-B7DE-A7E5D2BD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09A6-C25D-4665-BE58-D257C160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6C57-99E2-45B0-A028-027E37A7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4C4A-EF2C-4738-8E0F-52362E40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31FC-8357-482B-85BB-49AF9441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A865-5B7F-4A3D-A00A-5A57D36B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21EF-8452-4D7B-8BA0-6768E01DD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, upon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ountain Pea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hrist, up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untain p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s al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glory blaz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7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upon the Mountain Pea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31480" y="1549440"/>
            <a:ext cx="689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rian Wren, 1962 (Mt. 17:1-8; Mk. 9:2-8; Lk. 9:28-3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, if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e to sp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saint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praise him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rembling at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t we sa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se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lijah spea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upon the Mountain Peak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proph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la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t thru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joyful greeting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wift the cl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lory c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proclai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its thunde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upon the Mountain Peak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a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 by na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tions, cry al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wond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is is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loved So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w and proph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de before hi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upon the Mountain Peak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rst and l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ly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cre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adore him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0:43Z</dcterms:modified>
  <cp:revision>21</cp:revision>
  <dc:subject/>
  <dc:title>PowerPoint Presentation</dc:title>
</cp:coreProperties>
</file>