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F0E-4F45-4AE9-AC97-3DD0AE41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1FD-0D7B-49C8-AC12-7B900AA1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240-6C71-40E9-AFA3-084777C8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2C9-75FC-40B1-B567-FC7313EE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B915-B032-4A4B-98F9-A33FF835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6490-4D6F-48CA-AA00-8859A77C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4B0E-FBF7-4C85-BEE2-2BC941C8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F256-0CF6-4AFE-A8AE-9A2A6F9E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58E5-984A-4467-A86B-41E15147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C34F-04C2-4EBD-84BC-4FEFABF0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054B-8AAC-4361-8E85-DE191DD1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A7C-B9A2-47C2-BC7F-E4202B92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B563-DC97-4776-A12A-8EEFAD68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E293-C073-4B72-A430-2F1C06A3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1560-108F-450F-917E-C0F3D3D8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2E37-B363-4100-9A6D-D5F9892D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48EF-AAC8-4699-814B-FA5B1AF1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131-087C-4D0A-BCD2-5782DEB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77A-7747-416E-A8C8-7FC4BC3E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1C7-79EB-45D1-8616-375E3D1E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D9A-E79A-4A1F-9DDC-90328524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336-32D0-4D7B-9E9C-736997E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345-D1B3-423A-9FF8-741B4F0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832-F28F-4724-94C8-184CCB1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E566-1E97-4526-96C7-A45C23295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0A38-9438-4D32-BB5A-38C91BC20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, Our Help in Ages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O God, our help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hope for years to co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shelter fro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stormy bla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our eternal hom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30520" y="838080"/>
            <a:ext cx="39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 thousand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like an evening g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rt as the wat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ends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rising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ime, like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rolling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s all who breathe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ly forgott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s at the opening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 God, our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pe for years to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ife shall las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Under the shad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y thr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ill may we dwell secur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ufficient is thin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m al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ur defense is su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Before the hill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order sto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r earth received her fra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rom everlast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art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ndless years the sa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A thousand age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e like an evening gon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ort as the watc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ends the nigh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fore the rising su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5. Time, like 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 rolling strea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ars all who breathe awa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y fly forgott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s a drea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ies at the opening da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6. O God, our help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ope for years to com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 thou our guid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ile life shall last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, Our Help in Ages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1916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O God, our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ope for years to c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helter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ormy bla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eternal ho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30520" y="1143000"/>
            <a:ext cx="39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der the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may we dwell se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icient is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defense is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fore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rder st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earth received her fr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l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ndless year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28T00:43:55Z</dcterms:modified>
  <cp:revision>35</cp:revision>
  <dc:subject/>
  <dc:title>PowerPoint Presentation</dc:title>
</cp:coreProperties>
</file>