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7A6B-E5A2-42D3-A5FC-DAC931F27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9189-2F41-4825-8874-3151CEAF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37CB-BEFF-46F4-8580-D38763CD4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9CB4-D9B8-4E1C-9414-EDDAB77F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992F-4308-442B-995B-1998FACF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CABB-30F3-4B67-82A9-C899DB24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B363-5E0E-4D50-957A-EE41B915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DDD1-8885-41A3-BD4F-22741375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8AA6-FD3A-4AAE-BA2A-A30B9EDC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F880-FCC8-4A81-8172-B9F53AB3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1D87-5862-4C4D-9BB6-8FCADF6C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99A6-7FC9-458D-A564-16A6F9A7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ABEE-0205-4C43-89F4-98A5CA3D2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2296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Righteous and Just Is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Word of Our Lord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La Palabra Del Se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ñor Es Rec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41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ighteous and just 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word of our Lor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aithful and marvelo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re the Lord’s work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Juan Luis Gar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ía; 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0720" y="1981080"/>
            <a:ext cx="800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uan Luis Garc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ía; trans by George Lockwoord, 1987 (Ps. 33:4-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90648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905120"/>
            <a:ext cx="8915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ice and 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what God lo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sit on thron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God’s right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merc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eous and Just is the Word of Our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merc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85904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79840" y="2590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ear God, all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peopl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w down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you nation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79760" y="1752480"/>
            <a:ext cx="1843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sterpiece work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d and wondr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God’s comm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ang to be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79840" y="2590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ose addic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evil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pla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God frustrat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eous and Just is the Word of Our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63920" y="12193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ly God’s judgme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d’s pla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confirm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claimed forever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828800"/>
            <a:ext cx="183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990720"/>
            <a:ext cx="9144000" cy="41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ghteous and jus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d of our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ful and marvel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the Lord’s work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05320" y="137160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ice and 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what God lo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sit on thron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God’s right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29160" y="1371600"/>
            <a:ext cx="183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merc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79840" y="2590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ice and 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what God lo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sit on thron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God’s right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eous and Just is the Word of Our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63920" y="1295280"/>
            <a:ext cx="1843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merc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143000"/>
            <a:ext cx="914400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 es rect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us obras son maravillosa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justicia y el derec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enen tronos a su diestr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lena est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á toda la tierra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lena está toda la tier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eous and Just is the Word of Our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on su divina palab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ueron creados los cielo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l aliento de su boc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 formaron los lucer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85904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5238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l como en odre reco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l inquieto mar las agua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l abismo h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 estanqu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 los ríos las cañad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85904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216080"/>
            <a:ext cx="914400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 es rect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us obras son maravillosa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justicia y el derec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enen tronos a su diestr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85904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lena est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á toda la tierra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lena está toda la tier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eous and Just is the Word of Our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0666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male toda la tierra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óstrense tod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s pueblo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bras tan grand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xcels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su mandato surgier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85904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2240" y="1219320"/>
            <a:ext cx="74196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ustra e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 l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signi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 los que en 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l se embriaga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ólo sus planes y juici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 confirman y proclam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521000"/>
            <a:ext cx="9144000" cy="39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 es rect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us obras son maravillosa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justicia y el derec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enen tronos a su diestr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479840" y="2590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merc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lena est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á toda la tierra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lena está toda la tier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merc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0360" y="2057400"/>
            <a:ext cx="51595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By the div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from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us we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s creat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from God’s mo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e great breat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ming the star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mor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gathered u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in wineski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wat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ocean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09692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put the deep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ir chamb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de valle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rive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066680"/>
            <a:ext cx="9144000" cy="41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ghteous and jus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d of our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ful and marvel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the Lord’s work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05:29Z</dcterms:modified>
  <cp:revision>24</cp:revision>
  <dc:subject/>
  <dc:title>PowerPoint Presentation</dc:title>
</cp:coreProperties>
</file>