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239-FC2D-4837-A951-CC31318B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61F-7B38-4803-896B-3775EFC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9E5-3DE2-4EBC-852D-C2D7D503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918-CA6B-4736-8883-0936DE98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61C-D51B-47B0-B625-CAAE39C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A78-3E51-4D12-8B4C-62E3D0A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D34-8939-4C4D-9790-E9DA9AC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8B6-0EFE-4960-822B-426AF872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CB9-AC5D-48C9-8158-36EB4D5B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609-0C57-4ED2-A85D-B95EEAA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5D0-29B0-4F46-B3B2-8EB1838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778-73E7-48B9-B4D8-9F131AD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9E5-5352-4994-BD96-3C3958C4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oul Gives Glory to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soul give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y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p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t it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8, 1987 Medical Mission S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990720"/>
            <a:ext cx="61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riam Therese Winter, 1987 (Lk. 1:46b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lift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wl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velous 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God has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things for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holy is this n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clare me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lessings they shall 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rom age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wh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mercy love imp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nsing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missing selfish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ove casts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ir thron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otes the inse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ves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satis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ch seems suddenly p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,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ing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pports those in di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embering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esent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23Z</dcterms:modified>
  <cp:revision>49</cp:revision>
  <dc:subject/>
  <dc:title>PowerPoint Presentation</dc:title>
</cp:coreProperties>
</file>