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D99-A8AE-4F91-8244-05CD7898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75B-4856-4112-A8D4-50738AB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C36-2B44-42FD-9057-89FA3BDA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DB0-C662-43F1-AAB4-B2FC6F5D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4DC-973D-42CE-9DE1-C01A8F9E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E30-CA76-4709-B38F-AEA4C017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102-961D-4F5F-B0C7-AA7F629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A0D-3D6F-470D-99FD-2F291037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355-AB73-4EF0-8023-ACC07D1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C91-9444-4081-BEF2-47198FFE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64C-0C44-49FB-B691-7B3F2A9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646-BBF6-401B-846E-43EF3A1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BA9-6AC1-41E6-968E-57941337A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ing a Song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epherds watch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e new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ngels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9120" y="1066680"/>
            <a:ext cx="36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ouis F. Benson, 188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ght that sh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s all the world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sing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sing a song of Naza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unny days of j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ing of fragr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ers’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e sinless B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za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eart may g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preads the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dea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the winds that b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ing a song of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ake and woo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wal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s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ade the waves b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gh lik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seas of trouble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aith has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’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s peace upo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sing a song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glory and dism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hu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ok our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 who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alv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isen from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, ou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aven ad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ighty now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0:06Z</dcterms:modified>
  <cp:revision>7</cp:revision>
  <dc:subject/>
  <dc:title>PowerPoint Presentation</dc:title>
</cp:coreProperties>
</file>