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8EC-1CA3-434D-A0F2-3843450E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DA3-C875-4BA1-8876-8480CAA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E68-85CE-440A-8DFA-E03C6E17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C92-53C1-416C-A17A-29D4D198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12F-7679-48E2-9F7F-48BAECDB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73D-EB07-4AB5-8788-E53A661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DB0-ED72-4E52-92B4-F2A07C9C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B15-4499-4652-B105-358179F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E55-EDCC-4C2E-835B-0C6060EF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D50-8AC9-412E-B6AC-34C6348E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1EC-D47C-4391-9463-652B60B6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4A3-FA30-43CC-82F2-5D327FE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8955-1D07-4B59-84C0-C0C205A27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of Damascus; trans. by John Mason Neale, 1862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day of resurrecti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, tell it out abro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ssover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ssover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unto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rist h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us 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ymns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ur heart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see a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n rays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s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acc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hear, so calm and p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“All hail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h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aise the victor st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let 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yfu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the song begi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keep trium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at is there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n and un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not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ness bl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hath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oy that hath no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5:42Z</dcterms:modified>
  <cp:revision>60</cp:revision>
  <dc:subject/>
  <dc:title>PowerPoint Presentation</dc:title>
</cp:coreProperties>
</file>