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153-DF7F-454A-9C97-6582470E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672-8BD9-4276-BEE2-BDB6785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2C0-8144-40FD-87F5-8D02BEF1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FE2-2D08-4D9B-8CC2-87B017FB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4B5-62F6-4DBA-9A52-507A76D3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6D0-6664-42C3-9A7C-70E6C5C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7CC-432A-4ABD-9079-16CD5F9A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1A7-EDEE-403A-956F-146579D8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572-D02E-4BE8-AF88-8763DB6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724-BB05-4613-9F02-0E496D2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EA2-2DFB-4E58-B1A1-B89BE10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DAD-A5EE-4E40-B7EA-D184C897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28B-458D-4E0F-B9B2-199FFFAA2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 Tierra Lejana Ven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rom a Distan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49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9:24Z</dcterms:modified>
  <cp:revision>18</cp:revision>
  <dc:subject/>
  <dc:title>PowerPoint Presentation</dc:title>
</cp:coreProperties>
</file>