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2FA-C088-448E-99D5-9F55B08B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E2F-0A3E-4C0B-A176-B308AAF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825-C558-4748-A031-A40943D0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EDB-1D25-4D22-87F3-DB985768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FDC-AAE8-4111-8CCA-3D9A913F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7FB4-3B34-41FA-9ECA-01C65C0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DCF0-F50B-45BC-9683-27B763BA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42B1-26D5-4913-8B63-F2985CA2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161-DC92-4730-9CFD-054A369A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BAA-D5D1-464F-803F-68B20FF4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C5CD-7562-4D59-A061-93292D1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A5E-15CB-4889-906F-74E579C8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EC62-BF7D-4555-A18C-01EFEE0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7F78-C3E1-4F30-9856-3D4A5EE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726F-B65D-44EA-AB6C-A34085DA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17E0-4ED8-4D93-92F8-ABDCAF4B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2C6-A037-494B-83D6-D02D0B2F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645-48BB-4789-85E8-491E4F22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076-B44F-4763-BFD9-5FDA7B2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C55-6D25-4894-8D04-20FE0BE7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52C-422C-4559-A621-9BA69E5E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037-5288-499E-9FF0-BC735EC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6E8-38DF-4169-BD17-73E09BB5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9B5-83F4-4F7C-B1CF-DFC53F3F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8FE5-BACD-417C-8DB7-54E30BE5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1C6-86B9-48A6-AC68-017BF62B6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lfred H. Ackley, 19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erve a risen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in the world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that he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foes may s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3, renewed 1961 The Rodeheaver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5800"/>
            <a:ext cx="90885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lfred H. Ackley, 19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3, renewed 1961 The Rodeheaver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477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I serve a risen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’s in the world toda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that he is liv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ever foes may s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7760" y="380880"/>
            <a:ext cx="6781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0016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n all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around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ee his loving ca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ough my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ws wea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never will despa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is lead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the stormy blas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ay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appear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ll come at l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0440" y="1482840"/>
            <a:ext cx="6781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52280"/>
            <a:ext cx="8915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 is so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22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5228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aroun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loving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gh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ver will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l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tormy bl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app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com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5T00:10:41Z</dcterms:modified>
  <cp:revision>67</cp:revision>
  <dc:subject/>
  <dc:title>PowerPoint Presentation</dc:title>
</cp:coreProperties>
</file>