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17D-234E-4507-BC15-5EC33B86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A18-3313-43E0-820B-5E43D8D3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9C2-A596-4A7A-B8CC-81A1DEE3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AFD-AE3D-4C65-A5DD-3F2658A9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6BC8-9453-45F3-AE39-2F95DAAB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B907-BC18-4A9E-809A-2A34AF45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25BC-8092-45E1-89F2-91761425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4B41-FC57-42F8-9ADA-E029CEFF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35F1-BB54-495E-8FEB-6EBB478A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7A2F-3EC4-4E8A-AD6B-2147B2D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FF42-5D52-482E-B602-0760159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D72-809C-43FE-9FFF-5F0BCBEF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FB13-F10A-4F00-A688-2904D735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4FFB-3374-47F2-A87A-3EAA087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F78C-4C31-46C3-9FD4-BF3BDB0B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EF73-6DB8-4647-ACD2-6823B913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D254-BDAA-4784-82E9-C4127573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6DC-B129-46A9-BE00-631863E0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035-9573-43AF-B210-B7BC4358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479-CAA4-471D-AFD6-5737FEE6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289-9226-4690-897C-49BCDDE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219-65D8-45E3-9FD9-4CACEE8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6E9-71D0-4ACE-9DAB-8322D78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C2C-97C2-4115-BAA2-6176B2E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9C15-4F5B-4CB4-B46E-2592551A9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0824-06F6-46FE-8059-04EF78B94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lp Us Accep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lp us accept each oth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 accepted 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each us as sister, bro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erson to emb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74 (Jn. 15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413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for 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 care fo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unger fo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free us, 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160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u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fre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lp Us Accept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28600"/>
            <a:ext cx="9144000" cy="34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lp us accept each oth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 accepted 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each us as sister, bro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erson to emb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74 (Jn. 15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21T23:31:32Z</dcterms:modified>
  <cp:revision>66</cp:revision>
  <dc:subject/>
  <dc:title>PowerPoint Presentation</dc:title>
</cp:coreProperties>
</file>