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DB9-E725-491F-BE88-F33139C8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BA0-4EFF-450B-82B3-423756AB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20E-E3EC-4F02-9DAC-CDEA16BB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944-8752-4E82-90B2-526366AA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257-9DB9-45E9-A0E6-57ED6C22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B86-AC1C-413D-8676-7D562ACD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C97-36F6-4F1A-9792-DB74D5B1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F8A-0EDD-46B3-8079-575C968E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D0F-813A-4D1D-9047-06523AC5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A95-75B9-4A51-AAE4-01A1D39A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5E8-1759-4D76-A7C0-4D5E6E4F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AF8-E56F-49A2-B2E6-BF52CF9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EAFF-ECFC-4BF5-AA75-3ABA3B94A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Jesus’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Perronet, 1779; alt. by John Rippon,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7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ophies 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9:24Z</dcterms:modified>
  <cp:revision>18</cp:revision>
  <dc:subject/>
  <dc:title>PowerPoint Presentation</dc:title>
</cp:coreProperties>
</file>