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A2A-CB00-4567-B04E-1BFE1D2A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770-5D56-466E-BC3F-14F7C3AF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3E9-B27E-4C19-B251-D200E00C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8EC-44B3-4F8E-B5FC-F8EAA1D5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6F9-003C-4906-855A-3A642DC7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B41-EFC6-4BE9-BC8C-3455BABE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B82-A770-44A0-8F67-8BE62A3F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115-E8A3-466A-A590-CD9097AB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2BF-D48D-4CD9-BDDD-EB5EB934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1CF-4ACA-4FEC-ACD8-1FDE25D8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3AF-F8AD-44B0-A547-F3F0CE1E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FB3-5985-4BBB-9BE6-113ECDF1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E512-E141-48B4-A36A-0D69991F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raw Us in the Spirit’s T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raw u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’s t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en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ercy Dearmer, 1931 (Mt. 18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o or th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met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dst of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arment’s 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discip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ed to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 to sup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ith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 the cup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now b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riendship u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me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our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aments of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y c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ing, 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ay true disciples b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faithfu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3:30Z</dcterms:modified>
  <cp:revision>133</cp:revision>
  <dc:subject/>
  <dc:title>PowerPoint Presentation</dc:title>
</cp:coreProperties>
</file>