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5B8-8A0A-4026-A452-4ECF4E2D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16A-8BC0-4766-8156-ACBCAABD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87E3-8B23-446A-8F38-7D6C47D3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9E0E-54F2-4217-AF79-116FD4A5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2F5-DD7C-4B3F-8851-CAB729C8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B00-676E-4399-BE14-6638159E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B98-2300-466F-A262-38CA2D6E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BCC-E01B-4E9D-826C-7BDBE1AD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982-C7F4-4291-9A73-C20256E6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9A1-43A9-464A-B24C-36B653D7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C60-7D32-4153-BFFB-13A41222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C25-03E6-463A-BBA8-20E75BB6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8D81-F248-4A3B-977A-B184C2D17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ck Thyself, My Soul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ith Glad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Deck thyself, my sou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gladnes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ave the gloom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aunts of sadnes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k Thyself, My Soul, with Glad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ann Franck, 1649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Catherine Winkworth, 1863 (Jn. 6:35-5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rt invi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requit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is banqu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m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how v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ep its treasu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ere dost giv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y gue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receive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in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light’s splend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aises rend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grace unb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this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nquet foun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o’e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s he reign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to d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he deign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un, who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ife dost bright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, who d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enlight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k Thyself, My Soul, with Glad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, the b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ny knowe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t, whenc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being flowe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t thy fee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cry, my Mak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me be a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it partaker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od from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lory,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, bread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pra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glad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obey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k Thyself, My Soul, with Glad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9:44Z</dcterms:modified>
  <cp:revision>113</cp:revision>
  <dc:subject/>
  <dc:title>PowerPoint Presentation</dc:title>
</cp:coreProperties>
</file>