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EC26-9841-4550-A4FC-FC48DE51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B4C8-3BAD-4322-AC91-F9E58238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B1C-BF5F-460C-9778-8176F186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65F-A9F9-49B9-B28E-30DF2CE8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8F69-39C8-4003-96F4-60B18CC2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DEF2-2329-42B8-BDED-380574C4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3FD-401B-48C6-868F-983336DE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4DF-48C7-407C-8DCD-B69B6BB0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C9E5-CDEE-476D-9811-03520826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C89-1443-44A9-B17E-F3128C10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63FA-592E-48B5-902F-F6600E88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2B3-5EEE-40C7-8CEA-BAAC3750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655B-CCF4-45F0-88C8-94DF08019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43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ur Father,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t in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© 1981 Abingdon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1440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tthew 6:9-13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dapt. by J. Jefferson Cleveland and Verolga Nix, 198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Amen, a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, a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, a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kingdom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ill be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Done on earth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in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s thi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aily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for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deb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for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ebto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ead us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tempt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del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from ev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ine is the king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, and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4:01Z</dcterms:modified>
  <cp:revision>26</cp:revision>
  <dc:subject/>
  <dc:title>PowerPoint Presentation</dc:title>
</cp:coreProperties>
</file>