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C62-2EA3-40BA-8487-94650867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1A5-AE4A-482E-857F-3A126DEA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6D06-EBA5-4DE8-AD53-AF889101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242-EB8C-4FC5-B82F-09B71EA2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B16A-F197-4E02-BE4C-867421A2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E93A-876E-43B3-A015-D5811F06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8471-9D2E-4500-BE16-59D55468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D243-D7EE-4D23-934A-5C6A05D7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EBC6-05B3-42DF-9B3C-579E3B52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1F8B-95C5-4CE9-B2F0-D9222C39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6321-2BB0-4A53-9116-8A895EAA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AD31-8CFC-4B41-9E71-211809FB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F698-49AD-49E2-AD39-11230004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A70B-3C47-463D-899B-FA065E98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0EE8-C65B-45E0-8C8A-CC9A8670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8B7C-AB8E-4CF6-924E-C6F247AA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82CD-81DA-4815-92FE-8F0FBDAB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085B-202B-49A8-8DEC-476B47F4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A8D-BD4D-4D47-BD62-AF92578E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5FB-E2AE-45CB-8A1B-C4A36ECC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D48-DDB9-405A-8C2F-125BC9FC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44D-EAB4-47C3-881C-A7AE8413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685C-65FC-4CD9-9210-5F8F1AA1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EBF-6C3F-4E97-8EAF-6FD4B5E9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9DEB-02C0-494A-83DE-2DD7B2475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85BB-9C7E-43D7-832C-4575DFA2B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522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on and Very So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67652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1. Soon and very soon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52920" y="838080"/>
            <a:ext cx="5439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ndra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 Crouch, 1978 (Rev. 21:3-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© 1978 Communiqué Music, Inc. &amp; Crouch Music Co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dying ther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e K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 more cr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          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cr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cr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e K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808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on and Very So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86000"/>
            <a:ext cx="9144000" cy="388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oon and very so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 Communiq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Music, Inc. &amp; Crouch Music Cor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73480" y="1143000"/>
            <a:ext cx="43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ndra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 Crouch, 1978 (Rev. 21:3-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28600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and very so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and very so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e K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 more d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1905120"/>
            <a:ext cx="89154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d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dying ther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e K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 more cr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oon and very so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 are going to see the King;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Hallelujah!)           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oon and very so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 are going to see the King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2286000"/>
            <a:ext cx="8686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cr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cr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e K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 No more dying the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Hallelujah!)       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 more dying the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we are going t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 more dying there,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are go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see the King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No more crying the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Hallelujah!)      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 more crying the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we are going t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1276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 more crying the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are go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see the King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522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on and Very So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905120"/>
            <a:ext cx="9144000" cy="304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oon and very so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52920" y="838080"/>
            <a:ext cx="5439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ndra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 Crouch, 1978 (Rev. 21:3-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© 1978 Communiqué Music, Inc. &amp; Crouch Music Co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soon and very soon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we are going to see the King;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(Hallelujah!)                                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soon and very soon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we are going to see the King.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 more d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           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d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5-02T00:50:23Z</dcterms:modified>
  <cp:revision>51</cp:revision>
  <dc:subject/>
  <dc:title>PowerPoint Presentation</dc:title>
</cp:coreProperties>
</file>