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DB9-2101-4C32-B280-0F52F4F6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167-9EDC-43D4-A39E-3C4B10A9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BCC-216E-40A0-8B0E-AF5FC4DB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850-3342-4DF1-869E-C15F895E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8938-0739-4B3F-866E-AF8E2012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0F46-104D-4C96-BB45-B5480A95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7EB1-5F6C-41B2-A888-7F82EEE0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B187-FFCC-4FA4-B965-5D94201B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F04B-848E-41EF-B490-81BB6666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342F-1B00-4BB4-9FA3-72A536E6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2571-2A39-4495-866F-8ED7A0DF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101-5F8B-46EE-93AC-079B1F03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82F1-E454-40EF-BBBF-5678CDF6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A84E-F49B-4DEF-9600-FC3CFA0E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BC96-2557-4479-AD81-32658126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2A3E-941B-4CF4-AED6-F70183AB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EC6F-6F57-45E8-B9DF-FAD6666A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02F-84FC-4C11-ABAA-D7C6A925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50C-9F56-4932-9E29-05C29766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6FC-E2DA-4EFC-BFD3-87BAAF67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CE8-A170-4731-8F79-B4F8990B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E93-8389-4B99-89F7-2BD8560A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88C-A3DA-4452-ACB0-79262F6C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0B1-E0EC-4D22-9099-76CDB00A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9C2D-19B3-42B3-B6E8-96FE0E9D3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31E3-055D-4B54-B018-35D17FAE9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I Want to Be a Christ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414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1. Lord, I want to be a Christian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Lord, I want to be a Christian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9907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257800"/>
            <a:ext cx="9144000" cy="1596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808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3808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8580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83808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76212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808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I Want to Be a Christ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628640"/>
            <a:ext cx="9144000" cy="311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Lord, I want to be a Christi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I want to be a Christi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9907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47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5228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1276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1276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12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be more lov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7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512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be more hol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47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320"/>
            <a:ext cx="9144000" cy="512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be like Jesu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47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I Want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a Christ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86000"/>
            <a:ext cx="9144000" cy="38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Lord, I want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a Christi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I want to be a Christi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6765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2T13:01:56Z</dcterms:modified>
  <cp:revision>25</cp:revision>
  <dc:subject/>
  <dc:title>PowerPoint Presentation</dc:title>
</cp:coreProperties>
</file>