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004D-1C57-45F9-83F8-F1DC3CB13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E57F-CD47-4A2A-9ADE-69993F4D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41BD-4771-4119-A74B-F8A5BA7E2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8FEC-66DA-4316-ACDB-31266AC91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C1F7-4250-4491-8264-E24BE331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4EB6-4087-4DFD-84C2-477DC68A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341C-9B45-42BE-ADB2-FE1B3362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D9C9-273A-49A1-A48D-CFD37AA1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F908-CB95-46FC-A6A8-8DD3BA1D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CA5F-8EE5-4C93-AD7E-C8A2FBCB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9ACD-F2CF-4CD3-8D96-74C7F864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1D48-E4A4-4777-8A08-38ED2A34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DC9C-8F38-4886-8F31-CEB34085A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n I Survey th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ondrous Cro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 Survey the Wondrous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Isaac Watts, 1707 (Gal. 6:1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en I surv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ndrous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which th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ince of Glory di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richest 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ount but l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our contemp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all my pr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 Survey the Wondrous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orbid it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 should bo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e in the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Christ, my G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vain th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harm me mo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acrifice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is b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richest 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ount but l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our contemp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all my pr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 Survey the Wondrous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orbid it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 should bo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e in the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Christ, my G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vain th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harm me mo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acrifice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is b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 Survey the Wondrous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ee, from his h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hands, his f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rrow and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ow mingled d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d e’er such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orrow m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thorns comp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rich a crown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 Survey the Wondrous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ere the whole real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nature m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ere an offe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r too sma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so amaz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mands my so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life, my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n I Survey th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ondrous Cro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 Survey the Wondrous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37160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Isaac Watts, 1707 (Gal. 6:1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en I surv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ndrous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which th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ince of Glory di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4-01T21:42:30Z</dcterms:modified>
  <cp:revision>53</cp:revision>
  <dc:subject/>
  <dc:title>PowerPoint Presentation</dc:title>
</cp:coreProperties>
</file>