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109D-3FEE-483A-8359-03793BD53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FD2E-3AB5-4670-BBDF-D0BC54CF1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FFEF-3028-4388-ADA4-3D7DAD8A6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A614-C36F-4D00-9D7D-662A1B670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2FAB-B7F3-401B-9C51-FCB2F3571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9B36-DE2E-47BE-BEC8-43A6FF0A9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E93A-AE99-4759-8A5F-3E834890E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B271-ECDA-40E8-AE3A-A4B3EBBD5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B7EE-3A9F-4922-AA6D-6C031CA05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C18A-6D66-4600-9760-C87F7B4D1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3B1C-0D84-4729-B350-81590E3EA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6C78-676C-43A0-B6AA-383A30BA5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5C11F-5439-4A2A-8F76-D44A148915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 Want Jesus to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alk with M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21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0" y="2362320"/>
            <a:ext cx="9144000" cy="353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I want Jesus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with me.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walk with me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ant Jesus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with me.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walk with me)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ant Jesus to Walk with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1600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African American spiritu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1028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along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ilgrim journe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I want Jesus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with me.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walk with me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0" y="1668600"/>
            <a:ext cx="9144000" cy="349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In my trials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with me.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walk with me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y trials, Lord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with me.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walk with me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ant Jesus to Walk with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0" y="19810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my heart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most break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Lord, I want Jesus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with me.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walk with me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0" y="1752480"/>
            <a:ext cx="9144000" cy="349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When I’m troubled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with me.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walk with me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I’m troubled, Lord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with me.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walk with me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ant Jesus to Walk with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my he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bowed in sorr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Lord, I want Jesus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with me.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walk with me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mrsnaja najafabadi</cp:lastModifiedBy>
  <dcterms:modified xsi:type="dcterms:W3CDTF">2024-02-24T23:04:55Z</dcterms:modified>
  <cp:revision>49</cp:revision>
  <dc:subject/>
  <dc:title>PowerPoint Presentation</dc:title>
</cp:coreProperties>
</file>