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DFF-3FB0-4A09-BFD5-670D1810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218-F689-4907-A582-91D4DABC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F8A-4610-4E81-9806-AFB77B5D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EDF-7175-469C-9E04-003C42F1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7C99-A51C-48D0-B082-0C71301D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597D-FAEF-44C9-B11A-B6E1843A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AF99-0788-4986-B8F2-BF7D5FD1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27D2-E7D3-4510-84DA-430F6C7A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57C0-BEC0-4AE7-9CCF-2BC0364E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AD40-4055-4C3E-9057-8541F586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55A4-210E-4C6D-B98F-4BE2204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B18-245F-403D-A258-1D7B8072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4CAE-C660-4C04-A086-5658F24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B68E-2EDE-49DB-BC1E-EAC677D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DAA1-6B56-4E5B-866E-225C778F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4F28-7108-4FD3-86C7-EF74A8FF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90B5-DE74-420F-86C4-694F2141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500-249E-452F-BEBE-2B30970D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DC5-FDB3-4BF2-9C97-2A52CAB9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24B-0F9A-4ACB-BB9B-AD4B1E6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0EA-C590-413C-92AC-C2E87218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AE7-A580-4C2A-9F36-0C95641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3AE-9961-4D85-A458-21E69CE2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099-5CD3-4FD7-A649-9A115B3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2F81-D8B4-4AAD-9021-F313135B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E476-896C-495B-8C57-0AE1378EB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mmanuel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manuel, Emman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43520" y="609480"/>
            <a:ext cx="465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ob McGee, 1976 (Mt. 1: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6 C. A. Music (div. of Christian Artists Corp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ed in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mmanuel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90512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6 C. A. Music (div. of Christian Artists Corp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manuel, Emman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2920" y="110484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ob McGee, 1976 (Mt. 1: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ed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04T14:34:41Z</dcterms:modified>
  <cp:revision>54</cp:revision>
  <dc:subject/>
  <dc:title>PowerPoint Presentation</dc:title>
</cp:coreProperties>
</file>