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AEB-D4C8-4787-9B74-A24A53A1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C5A-E1E3-4A8B-9BD6-639E963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4F9-6CBB-40CD-85B5-C856F6A3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17B-8031-400F-ACB7-53650116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9A9-2169-42A4-A6BE-62B5C287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AD6-5EAF-4D64-935A-A650061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C4F-76B7-4866-909E-8F1FA1C1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B50-F4AB-4477-AD66-7292EE2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D83-9931-429C-A5CB-A3B3E25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D2D-C436-440A-A7B0-EA6B166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815-8920-4807-AAD6-22A17E4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F0B-2A7C-4C03-A431-1F0039C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CE3-7EA0-4652-AB05-5846EA7B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i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risto Vive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320" y="1371600"/>
            <a:ext cx="76651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18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9:58Z</dcterms:modified>
  <cp:revision>70</cp:revision>
  <dc:subject/>
  <dc:title>PowerPoint Presentation</dc:title>
</cp:coreProperties>
</file>