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AA4-658E-4096-AE6C-F1A3A76F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EA3-0E0A-4A46-A2BB-3E01BCFA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A55-4B9B-4974-A67E-7EEBE17C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03B-2488-41A7-8766-35055B7A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C1A-9FEC-4191-BF29-433BC1C7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51A-B837-4EAA-A801-5BD9EEA3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E38-8939-458F-B6E7-F782D8F2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A9A-B87E-4E36-9D10-F2F6256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EA0-A43F-4BC9-81D7-A8ABC198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E3B-2B44-49C1-92A1-1E1E315A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168-E498-4048-A220-D9B9A99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8B3-F4F6-4316-B7E1-3D04BC2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5A3-55CE-4786-B134-E84221B3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Charge to Keep I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Lev. 8: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 charge to keep I h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God to glorif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never-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it for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o serve the present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calling to fulf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i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owers eng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o my Master’s wi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rm me with jealous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in thy sight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h, thy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trict account to gi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elp me 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hyself r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ured, if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ust bet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06Z</dcterms:modified>
  <cp:revision>137</cp:revision>
  <dc:subject/>
  <dc:title>PowerPoint Presentation</dc:title>
</cp:coreProperties>
</file>