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9DC-303A-40ED-B433-8BB70EE6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0A0-1E5E-422D-993B-1D43360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69E-E72B-496A-95E9-DD9E71EF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661-D595-4491-A22E-97699715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8F6A-28E2-4128-9F46-8B549F9E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820-02CE-41B9-AE2F-16C47EE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58E-DF48-4EE1-8A23-799451B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116D-7801-4411-BAD2-5C9C353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A27-2F64-4E26-9159-F367D25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99A-DEE4-45DB-A5E1-C7FFBEF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AFA-E8C3-4D7E-9D16-E89907E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769-6E86-4ACC-8A0B-73A399C8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2D74-60AE-43C5-A10D-34745AD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74B-E76B-48A0-A3C7-25E0336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C08-C5C5-48E8-AADC-CA8D93C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7135-4039-484B-A543-DBB76ADA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B445-735F-482A-BB2D-C9B4F75C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7E0-A692-453A-B908-015AA2E6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F51-63B6-4F4E-AC1C-2C7FF1CE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79E-897A-482F-8673-7BCF3951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F0-9CA3-4FB9-97CB-A595B4E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C15-A676-4EDB-85B7-B587897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147-8798-4D0F-A266-2858C4C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CC6-5EBF-4550-BBC8-046E7033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181-1765-47BD-8EF7-89FA5CA1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DDB2-197A-4C03-82E3-F90207350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58760" y="685800"/>
            <a:ext cx="69886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546120"/>
            <a:ext cx="861048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pirit rejoic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my Savi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s looked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me, a lowly serv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Almighty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eat things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oly is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ast dow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ighty from their thr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fted up the low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63828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good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nt the r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ome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id of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hosen serva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958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i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mise of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promise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Abraham and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ildren for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5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pirit rejoices in God my Savior, who has looked with favor on me, a lowly servan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66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Almighty has done great things for me and holy is the name of the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539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ast down the mighty from their thrones and lifted up the lowl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38280"/>
            <a:ext cx="9144000" cy="37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 with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s and sent the rich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ome to the aid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srael, the chosen serva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membering the promise of mercy, the promise made to our forebears, to Abraham and his children for ever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8600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7840" y="1623960"/>
            <a:ext cx="69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1:17:39Z</dcterms:modified>
  <cp:revision>32</cp:revision>
  <dc:subject/>
  <dc:title>PowerPoint Presentation</dc:title>
</cp:coreProperties>
</file>