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510-6EE5-4D17-8AF0-9CF50EC5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CA7-4947-4421-A52B-0DE3C519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783-3378-461F-91F1-D36FAA3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83E-9858-4BD7-8049-1A7C71BD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41E-BEDF-4FEF-8339-FD08EF82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0C5-A6E0-4ED7-8F85-1ED58BC0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118-3840-406A-9DEF-D1D3CE0E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BC9-CFFC-417E-A801-98FAD8CE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BBF-E73E-4C75-9A50-E88B4684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27E-6437-4B61-A9E6-3674BC9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C8F-ABFF-4749-AD97-E6632F5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B98-496E-407C-A4C8-53D0E53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5DF4-471D-49FC-8670-01BE8A86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ut th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can w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my s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6600" y="1066680"/>
            <a:ext cx="361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ghteousn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aga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s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 at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for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3:05Z</dcterms:modified>
  <cp:revision>10</cp:revision>
  <dc:subject/>
  <dc:title>PowerPoint Presentation</dc:title>
</cp:coreProperties>
</file>