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DDD4-0FF7-42A8-98AF-CF73D89C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E1E8-CF55-482E-86C9-FC88C63A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4AFF-D32B-47FF-B7DB-831B77F1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19A3-2CFB-42D0-A07F-D5E5A47C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174D-5916-410F-8E7D-951998BD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A57B-2637-4F44-93E8-FE2E1521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2ABB-ADAB-4A1A-9739-E0317A16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5174-C18D-4EF9-873B-0429B482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BCBE-46AF-4BBD-956B-FD7712BB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F907-12F5-41E0-804E-331A3B94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5E97-6FE3-4750-AF3A-4591C67F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503-9579-41D2-92F4-CEC859C3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F5B0-354D-4AF1-BDD2-A7562E4CB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My Hope Is Firmly Grou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90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ll my hop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mly grou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great and living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, whe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most nee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fails to keep his word.</a:t>
            </a:r>
            <a:br>
              <a:rPr sz="50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86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My Hope Is Firmly Grou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6880" y="1066680"/>
            <a:ext cx="6689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Joachim Neander, 1680; trans. by Fred Pratt Green, 198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 m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ly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and ju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ell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an trust our na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an, w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secur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of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iry cast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the hurricane endur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My Hope Is Firmly Gr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ild on s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ught can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our earth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dom plann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ut in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me and sea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of lov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undant st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sust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hole cre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nt of life 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My Hope Is Firmly Gr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ho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and a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nt on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failing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ank, O than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reat Creat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u God’s only Son this 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pot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us out of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and c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My Hope Is Firmly Gr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ick to h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ong in d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shall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ople f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6:47Z</dcterms:modified>
  <cp:revision>51</cp:revision>
  <dc:subject/>
  <dc:title>PowerPoint Presentation</dc:title>
</cp:coreProperties>
</file>