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B63-6E94-44A3-BE04-C1D8EF42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3A5-770A-4B20-BC09-12C6DAC8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EBD5-1387-4E3B-A1AD-2CC9B020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17E-24E6-4568-A78B-D88B9146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549-2344-49C9-BAFC-84029B90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759-9376-4C7B-8580-F5997DDF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1F5-26C0-42A0-A471-15059213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A83-F96A-486B-A57A-7CDA3DC9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79C-2B21-4B5F-9866-B0E09BB6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19C-FF2C-40EB-9633-76DD362F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4F4-21AF-4D5B-8EF0-8CAFEED7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45D-CA1E-4F90-BDC8-0FF24E44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8B0C-D410-459A-AC28-39B1D495F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l Est N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He Is Bor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88360" y="1562040"/>
            <a:ext cx="49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rad. 19th cent. French carol, trans. an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810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divin Enfa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uez hautbo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sonnez musett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esus,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ing a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among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heaven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divin Enfa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antons tous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v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nemen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rough long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phets have foret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co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long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the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come at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406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p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this perfec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of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p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ious g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umank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0:10Z</dcterms:modified>
  <cp:revision>76</cp:revision>
  <dc:subject/>
  <dc:title>PowerPoint Presentation</dc:title>
</cp:coreProperties>
</file>