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E34-7E87-4F4F-9C27-6E1EF9F4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8A0-4337-4D4B-8686-2534735C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3CA-6057-4417-9A49-78C41E56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0ED-E80F-42CE-8772-A0E1CB45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9742-3E07-4327-8429-0C46C1E9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CFBC-9E21-4EDE-920A-8EE909D4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7A7D-498D-41D0-A874-92F28ADF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4AE8-7368-49FF-9161-D018B7A3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ADD7-BF86-4C26-B84F-1C1717F4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5B46-B224-4D43-9592-1410DC1F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6695-5194-45B1-A21B-D7A30C1E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20C-BE65-415A-A68E-669F812D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C5FC-87AD-41A6-B89F-FE583A50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D2F5-1FB9-48D4-A245-9100522B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3849-6FE4-4978-A1FC-01F2194A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2197-C611-4692-B1E6-07C500AF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029F-EDA0-4C6D-8FAE-EA74D1B9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F49-5FF5-4D0A-9252-465C0AC1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96D-63AB-49EC-9D4A-8D0E3C5D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BF2-C40B-4E47-9909-6579A7F0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EFA-0791-4945-A01A-29EB65A6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F70-E3E1-4FDD-9631-5C6C14D9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77D-B08A-4A79-BDBC-8398C490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300-6A25-4C78-9CB8-3A2FE49D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E677-2C5D-4A1C-BC40-CCB81EC87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5B69-9988-4A62-9CB3-D85CE3BEF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the Very Thought of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, the 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t of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we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the br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75240" y="1092240"/>
            <a:ext cx="540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Bernard of Clairvaux, 12th cent.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Edward Caswall, 18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sweeter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ace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c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pe of every contrite hear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joy of all the meek,                       to those who fa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kind thou art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good to those who seek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But what to those who find?      Ah, this nor tongue                        nor pen can show;                                   the love of Jesus, what it i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ne but h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ved ones know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our only joy be th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our prize wilt be;          Jesus, be thou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ur glory n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rough eternit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sweeter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ace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c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pe of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trite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joy of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meek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who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kind thou 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goo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seek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ut what to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ind? Ah,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tongue nor pe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sh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1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t is,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none but 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loved ones know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our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 be th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ize wilt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be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glory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rough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the Very Thought of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1296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, the ve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t of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weetness fills the breast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75240" y="762120"/>
            <a:ext cx="540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Bernard of Clairvaux, 12th cent.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Edward Caswall, 18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6-21T00:05:16Z</dcterms:modified>
  <cp:revision>38</cp:revision>
  <dc:subject/>
  <dc:title>PowerPoint Presentation</dc:title>
</cp:coreProperties>
</file>