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744-9302-4615-8A16-0389E2AA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243-2CA5-4506-A3D6-2B31817F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98E-C78B-496F-9C56-6BEE1505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1AB-5541-4225-9A62-B2D2841C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257-CD5E-47D5-8D3E-BCEA2FE2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383-E3E2-4090-BCAC-D52FBA44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24F-2F52-4FDF-8D01-7D1EDB33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AFF-9190-4A95-A5B6-254C33C9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033-ECF5-4655-AE4C-B9BCB450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263-1F22-43E7-A34E-6D76F93A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B09-6F60-4C5D-A5E0-735BEDF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ECB-58DC-4C0D-B720-10E797CD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79BC-C07C-4584-B4A8-93CFB0B04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Courage to Do Jus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Courage to Do 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38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lan Paton, South Africa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600200"/>
            <a:ext cx="8305560" cy="500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open my eyes that I m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see the needs of others;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open my ears that I m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hear their cries;</a:t>
            </a:r>
            <a:br>
              <a:rPr sz="48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, 1982 Seabury Pres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600280"/>
            <a:ext cx="876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heart so that the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need not be without succ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not be afraid to def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weak becaus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ger of the st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nor afraid to defen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poor becaus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ger of the r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how me where love and hop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faith are need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use me to bring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those plac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096920"/>
            <a:ext cx="883908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nd so open my eye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my ear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at I may this coming d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be able to do some work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peac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8:48Z</dcterms:modified>
  <cp:revision>150</cp:revision>
  <dc:subject/>
  <dc:title>PowerPoint Presentation</dc:title>
</cp:coreProperties>
</file>