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0C83-F7E8-4FB4-9370-2A2C04A8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3B08-F990-4401-A817-B16AEAAF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4649-AE7C-4E6F-A9B8-2A6578DF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5D35-011B-4D19-B0B9-5A0B8462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D924-1DE1-44FC-8D25-597DB426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DDA3-5427-48D2-ABBB-CC4AF567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5DD4-AFCD-4C62-858C-AF8345DC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C7E6-AF30-4EB8-9EAF-F87D0923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A619-278D-429F-8E77-3CA4F8C6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D40E-3989-484E-BE44-AB9BBBA7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977A-73F9-4DEA-A7BE-F785DD40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4FE3-FAD2-4F76-A97B-A98EB70A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3084-4E76-443D-B4DD-6398CCBF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9A9D-5F6E-49B2-BE18-0F83761F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8B5F-574C-4D88-8044-918D158A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573F-36BC-4915-ABE1-DEC6D75C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15B1-9538-4522-A56D-0C0820F9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995D-001A-4C4F-852E-C23CF4E8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B0F0-1D8A-4A90-974A-C92770CA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EC49-BE70-4864-9D83-05A9A653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4522-2302-42CF-85B2-243D06FE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E301-5F9E-41A3-8B3D-362DAA97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6533-D527-4F57-8174-30FED4BC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1750-6E70-4B58-B84D-1DB99F77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C2F0-0BA0-459C-AA04-10672E108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EAB3-DDDD-4140-B407-76543B146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scue the Peris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19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for the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natch them in p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in and the gr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62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anny J. Crosby, 18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uty demands 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for thy lab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will prov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ck to the narrow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tiently win the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the poor wander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avior has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228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for the dy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merc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scue the Peris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for the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natch them in p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in and the gr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anny J. Crosby, 18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ep o’er the erring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the fall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them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ighty to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for the dy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merc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ough they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ighting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he is wai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iting the penit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 to rece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d with them earnest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d with them gentl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for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they only belie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for the dy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merc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Down in the human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ushed by the temp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lings lie bur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race can rest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ep o’er the erring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the fall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them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ighty to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uched by a loving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kened by kin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ords that were bro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vibrate once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for the dy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merc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uty demands 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for thy lab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will prov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ck to the narrow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tiently win the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the poor wander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avior has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for the dy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merc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for the dy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merc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ough they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ighting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he is wai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iting the penit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 to rece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d with them earnest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d with them gentl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for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they only belie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28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for the dy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merc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Down in the human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ushed by the temp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lings lie bur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race can rest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uched by a loving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kened by kin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ords that were bro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vibrate once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808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for the dy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merc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2-07T15:45:48Z</dcterms:modified>
  <cp:revision>96</cp:revision>
  <dc:subject/>
  <dc:title>PowerPoint Presentation</dc:title>
</cp:coreProperties>
</file>