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F38-B8A9-447E-9FDE-F12744A1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EC5-317E-4ECB-BCE7-9D9327A5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DF8-E6CB-48BF-BF6B-356CFEB4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84D-AC22-4EE3-90C4-5AAA2612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6F6-2FF6-4010-853D-79BF56EF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CD1-D48B-46CA-83A3-3F589474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D20-93E9-4699-9531-12DFF4C3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1A4-F653-42A9-9BCA-705BE6EE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EB3-2453-496F-9D6E-EA24A4B7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72A-5BE5-4496-B983-EAD65081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182-C257-4979-BA87-4C511DB9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EE2-2E02-4999-B10A-8B13DC93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2931-7DBA-42EF-A146-D55EBBBDF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hold the Savio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Man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the Savior of Mank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7524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amuel Wesl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51460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Behold the Savior of manki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nailed to the shameful tr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ow vast the love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him inclin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o bleed and die for th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14444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Hark how he groans! whi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nature shak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earth’s strong pillars ben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 temple’s veil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sunder break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 solid marbles re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4444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’Tis done! the preci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ransom’s pai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“Receive my soul!” he cri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see where he bows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sacred hea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bows his head and di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4444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 But soon he’ll brea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death’s envious ch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in full glory shin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 Lamb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was ever pa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as ever love like thin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3:11Z</dcterms:modified>
  <cp:revision>53</cp:revision>
  <dc:subject/>
  <dc:title>PowerPoint Presentation</dc:title>
</cp:coreProperties>
</file>