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1DC-44F6-4E52-A205-80CEF780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08B-5D18-4F1B-9629-EF7339D0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7000-F13F-4EB3-8DB2-9D2BB9D5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FBA-3222-45FD-BE80-B4C9F5F4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BD0-4594-4462-9D23-6FFB2300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4BE-88F3-42B9-9AAF-10D69C17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6F76-01C2-4E48-AB06-E3C8D585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425-8DDA-4CF1-AE40-4A42784C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4AE-4EF8-4AA6-8322-88552A8C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B1B-AAA4-44EC-99C5-D2A7AD0E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6749-9837-4266-9672-00980D54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C81-53BB-4820-A6CD-461CAE2C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262F-E03A-47EF-9D23-3A993467E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ther, We 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8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ather, we thank you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you plant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r holy na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in our heart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40, 1943, renewed 1971; 1985 rev.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Greek, 2nd cent.;</a:t>
            </a:r>
            <a:br>
              <a:rPr sz="2100"/>
            </a:b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trans. by F. Bland Tucker and others, 1939, 1982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ledge and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mmort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your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imp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you have mad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r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n us f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our d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eterna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is the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yours the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atch o’er your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in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it from ev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 it st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 i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, unite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ed and confor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your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grain, once scatt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hillsid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in the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made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from all l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hurch be gath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your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6:50:30Z</dcterms:modified>
  <cp:revision>71</cp:revision>
  <dc:subject/>
  <dc:title>PowerPoint Presentation</dc:title>
</cp:coreProperties>
</file>