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8C95-3017-44EC-A92E-877FB8D62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3AD0-F338-4E99-A1DB-AD5389BC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0ED3-4EA1-4F77-AEC9-F9591D25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817B-AAA7-4378-A259-EA0BE667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83CC-DDA3-446A-B905-84344955B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63DC-1C57-4E23-AF40-C9B079BB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3645-46A1-44D5-8CF9-A0CD7D0C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03F9-364D-4208-984E-163CC963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1EFC-6526-4D0C-9C32-CBF18821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BD99-0B49-4054-92B8-B0117BEC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2363-C526-4720-B0A1-D127947D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DF4E-D4F6-4B5B-8556-F8280EB9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AD72-485C-4381-A3AC-945BF610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7EB4-D17B-4B7E-B95A-53A28BDC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9E25-2BF9-42D9-AEE0-F5DFC5D3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01CA-EB4E-4DBF-9902-9BA819DA5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4A86-E7AB-4EE3-9523-94ADBF799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CAC6-D13B-49C1-AA1B-7B4ECC59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9A9F-BF2F-43BF-924E-17E5BBFC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E76F-A713-4B44-B077-C4B1D1A7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E835-240E-4E4A-B7B7-0DB4677D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F660-268B-4C23-A135-79B4D18C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7BC7-C705-4B02-AD6F-52C0B2F7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99F5-4B16-4CA8-AC13-E026A249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2FF3-4793-4CA4-AFAA-2F6507AC0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AE87-2B1E-496B-B228-C082E21D1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Little Light of M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8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057400"/>
            <a:ext cx="9144000" cy="43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is little light of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little light of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;</a:t>
            </a: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apt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Little Light of M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frican American spiritual (Mt. 5:14-1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where I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t shine, let it 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t shine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t it shin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ll through the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all through the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Little Light of Mine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rough the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t shine, let it 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t shine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t it shin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little light of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t shine, let it 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t shine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t it shin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Everywhere I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everywhere I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Little Light of Mine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where I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t shine, let it 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t shine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t it shin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ll through the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all through the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Little Light of Mine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rough the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t shine, let it 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t shine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t it shin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Little Light of M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8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50804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This little light of min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’m goin’a let it shin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is little light of min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’m goin’a let it shine;</a:t>
            </a:r>
            <a:r>
              <a:rPr b="1" lang="es-MX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Little Light of M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85800"/>
            <a:ext cx="91440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frican American spiritual (Mt. 5:14-1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apt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little light of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t shine, let it 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t shine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t it shin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Everywhere I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everywhere I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Little Light of Mine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1-27T20:34:34Z</dcterms:modified>
  <cp:revision>91</cp:revision>
  <dc:subject/>
  <dc:title>PowerPoint Presentation</dc:title>
</cp:coreProperties>
</file>