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327-1AB7-4686-A372-7BBD98DD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962-6A8B-4ACC-B5F2-BC7F902E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0AF-8728-4324-AE0E-7A2E7442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3A4-FB85-4C84-AA8A-63A6F432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B8C-E0A3-434B-8735-4B4CE13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70A-939D-44B0-8DEC-DCD00632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3F1-56F0-41DC-9592-C5E43AE2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76F-E277-4A05-82E9-CC16931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94C-5CCB-42D0-A77B-5B388BB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AF4-CD7E-47A3-8FEB-BA8687B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C02-4D4A-4604-921C-668E9ED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D9F-EBDA-4575-9141-6D8CA7F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0332-E593-4A7B-BB36-AB411552A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ather, we thank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you pla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holy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in our heart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eek, 2nd cent.; 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ns. by F. Bland Tucker and others, 1939, 1982 a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6:48Z</dcterms:modified>
  <cp:revision>70</cp:revision>
  <dc:subject/>
  <dc:title>PowerPoint Presentation</dc:title>
</cp:coreProperties>
</file>