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C1D-F441-4009-A0B8-036C5EC7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F5B-7361-453E-9BF9-6DE65E4D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A53-3090-44CE-8953-598550CF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BA4-A5B5-4662-A5E7-1067CFB7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153D-D175-40DF-AC60-1A01A3EC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5FD8-0933-4C6D-B27F-6AAA4DAE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5089-DB42-4816-A2D1-E3723AB8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3B79-3B32-468A-BB42-FD1C931B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DBB4-2F5B-4F39-A051-994FCEC2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925B-BE68-408E-AC66-FE6D6515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703C-C869-49E6-98F4-865547F1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27B-2832-49D2-A666-633692DE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B7F0-0693-4E98-A403-69DAA731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DF61-7570-4451-9470-1512515B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BE10-1097-4821-AB0D-23B00089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44CF-2FC7-4391-BC44-ECDD1204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1EB8-0A92-46B9-AE8E-5FB76FD1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741-DBAB-4481-A891-EE008F24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F65-D70D-4801-9699-426B7668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060-D723-4ED3-83D2-2C7D4CBE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6A6-DCD9-4A38-A6EB-423DB8B1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3B5-7692-4645-B64F-D8634BD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C48-25E0-480E-BC62-83C4BA41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287-55F8-4D84-9233-0C376EEB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6E60-0EA8-4F96-991B-C484039E7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9D54-F150-48D5-978B-0DEB9B748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almighty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forth in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starry ba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4400" y="106668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C. Roberts, 18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6760" y="2286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ining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ateful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y throne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led us in the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free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our lot is c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60948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ru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, guide,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our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s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’s al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dly pest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strong 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 sure def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68580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ue relig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 incr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ounteou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urish us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toilsom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 from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ver-ending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76212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be ever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479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of the ag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se almighty h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ds forth in beau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e starry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4400" y="77616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C. Roberts, 18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6760" y="2286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ining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ateful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y throne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led us in the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free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our lot is c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ining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ateful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y throne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60948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ru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, guide,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our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s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’s al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dly pest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strong 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 sure def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68580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ue relig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 incr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ounteou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urish us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toilsom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 from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ver-ending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76212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be ever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led us in the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free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our lot is c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ru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, guide,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our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s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’s al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dly pest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strong 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 sure def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ue relig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 incr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ounteou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urish us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toilsom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 from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ver-ending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be ever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of the ag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se almighty h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ds forth in beau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e starry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4400" y="77616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C. Roberts, 18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1-10T02:41:47Z</dcterms:modified>
  <cp:revision>41</cp:revision>
  <dc:subject/>
  <dc:title>PowerPoint Presentation</dc:title>
</cp:coreProperties>
</file>