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72A-56F6-4A64-B5D3-7A2F25C5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A81-57B6-4171-B53E-CCDB140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D7D-C289-44D2-B9D4-390CFC41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C5F-E5EF-4A31-941C-10401CBB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DF5-0963-4624-A0AF-EB3B825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CB8-7951-4C70-91A1-B3E18BC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46B-8151-4543-9BE2-DB479CEC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BC3-56C8-4090-A3D5-C087E08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D8B-C69C-41EC-B7F0-76FDA80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D72-1DFA-47CC-B79D-30468B1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9B9-69D9-4F97-AC36-D5C1416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EA0-EE56-421B-82C9-63882A4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07A-CE5A-4BF8-AD87-EF2D9C2F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ther, we prais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night is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ve and watc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e all before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9560" y="1243080"/>
            <a:ext cx="74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Gregory the Great, 6th cent.; trans. by Percy Dearmer, 19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,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med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 ad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onarch of all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 us for thy man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 our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th and wholeness s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saints uni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without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hol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equal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ity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hy salv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s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eaming and res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49Z</dcterms:modified>
  <cp:revision>16</cp:revision>
  <dc:subject/>
  <dc:title>PowerPoint Presentation</dc:title>
</cp:coreProperties>
</file>