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CEA6-8991-410F-993E-1B38EE78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9BF-58A8-4C6D-A3F8-F3FC2ADA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6B3-D6A2-4A6E-A31A-B4843E8A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B75A-5D51-46EF-8F14-5117A953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D516-39D7-4FC7-BB24-75051672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3A23-A42E-47AA-B92C-7F1896D4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B300-FEB1-4F61-A08D-B5C791FE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3B58-00D2-4B88-8E45-B96FAE63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CA45-83A3-4D51-B1BC-0F7C3ED4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4510-6E43-4E81-83BC-656EBAEC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048D-4473-4A5C-9535-88CA2E60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27AD-1202-480A-BEA9-1F4FFF92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FD07-FC0B-40DD-BA2A-72342B74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5872-B7C3-447E-BFAD-3C7D4FEA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DE3A-2FC3-4962-A392-ECBE0A57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11A7-D2AB-4611-9528-68B1961C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42E2-9CD2-48AA-8113-1B70B594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DF5-2D2A-4932-A5CB-336BAE37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2E9-78D8-4974-A679-C1C38DAF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7BD4-AD87-434E-BC8A-C5CCECDA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06FB-6300-438D-B3AF-E769FC90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6967-EE30-4BC4-A3AF-F4CC7C4A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79C-CE9C-4D75-9F34-E83F6D68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C8C2-6DF8-4D22-82B8-24837710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5F92-9666-44AF-9154-0F6611E6D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3505-D94D-4229-84BD-A2F5491EC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eet Hour of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080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Sweet hour of prayer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calls me from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 world of car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8480" y="762120"/>
            <a:ext cx="395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Walford, 18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eason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tress and grie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has of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d relief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t escap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empter’s sn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y ret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joys I fe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iss I sha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ose whose anx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s bu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trong desi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retu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uch I has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God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s his f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adly 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tation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ait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ings sha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tition be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m whose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aithful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gage the wa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to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ce he bi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his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ieve his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ust his gr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cast o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every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ait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034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bids me a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 Father’s thron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ake all my want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wishes know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eet Hour of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alls me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of care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8480" y="762120"/>
            <a:ext cx="395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Walford, 18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ids me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ather’s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all my w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shes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176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seasons of distress and grief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soul has often found relief,     and oft escaped the tempter’s sna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y thy retur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Sweet hour of pray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joys I feel, the bliss I share        of those whose anxious spirits bur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strong desires for thy return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such I hasten to the pla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 God my Savio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ows his face,                                and gladly take my station the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ait for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5176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Sweet hour of pray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y wings shall my petition bear     to him whose truth and faithfulnes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ngage the waiting soul to bles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74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ince he bids me seek his f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lieve his wor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rust his grace,                         I’ll cast on him my every ca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ait for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860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In seasons of distress &amp; grief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my soul has often found relief,     and oft escaped the tempter’s snar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by thy return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76320"/>
            <a:ext cx="9144000" cy="57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2. Sweet hour of prayer!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the joys I feel, the bliss I share        of those whose anxious spirits burn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with strong desires for thy return!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563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With such I hasten to the place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where God my Savior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shows his face,                                and gladly take my station ther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wait for the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Sweet hour of prayer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y wings shall my petition bear     to him whose truth and faithfulnes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ngage the waiting soul to bles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6320"/>
            <a:ext cx="9144000" cy="642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since he bids me seek his fac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believe his word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trust his grace,                         I’ll cast on him my every car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wait for the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eet Hour of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alls me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of care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8480" y="1066680"/>
            <a:ext cx="395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Walford, 18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ids me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ather’s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all my w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shes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0-17T02:06:05Z</dcterms:modified>
  <cp:revision>10</cp:revision>
  <dc:subject/>
  <dc:title>PowerPoint Presentation</dc:title>
</cp:coreProperties>
</file>