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1C6-306F-490E-AC7C-CABAAC94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0D8-561B-4FC4-9D5C-C1BA0104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F5D-30F4-4193-A20C-F3F17926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679-52C3-4269-A4EE-075DE724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3635-BF03-4C14-A894-362D1935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8194-639C-43D7-8B55-E12F5D7C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4EFD-2B5C-4284-819E-B8D1107C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0FBB-05D5-47AD-A5AE-6924BDA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3513-7BAC-4957-ACF4-856729F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EA1-A7B8-43FA-9872-FB7BE6E4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6BF7-2603-48F1-8CF7-5655DC6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8F4-5464-4543-B325-8047190B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AA78-99E3-4C2C-8924-EE490087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0F23-4DBE-40D2-ACC1-0CF8C4A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21A9-087D-4D5C-B008-6CFE3336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579D-0B67-49EF-B8F5-AB5E5557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46C2-70B6-44CD-93CB-85236B57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549-8EB6-4FDD-A719-99A8DB4A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6FC-FF79-44BA-8F08-53E2536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660-D2E2-4BCA-8018-3A3EE65F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B46-22C3-4C26-8B88-89018F01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44F-7887-4BFD-B485-C0B41D0E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312-2959-44D4-A12F-B04318FB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F7B-1E7B-4718-9987-03F8E0F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8CFF-042F-4D9D-8BF2-E704CE222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3F62-3E21-46B3-884A-7D06A0804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Love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Bi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092240"/>
            <a:ext cx="81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. 1 Anna B. Warner, 1860; Sts. 2-3 David Rutherford McG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8080"/>
            <a:ext cx="9144000" cy="553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sisa a ki ke yu h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oh wel a khi no hih 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su nah sti ka Tsu tse l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 hli ni ki tih ye hn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by Robert Bushyhead, 1962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sis a ki ke y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khi no hih se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38080"/>
            <a:ext cx="9144000" cy="54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liebt m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nz gewi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nn die Bib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gt mir di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salter und Harfe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1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 Kinder schw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d kle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äd’t Er herzl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zu sich e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e Bibel sagt mir d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8080"/>
            <a:ext cx="9144000" cy="520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JAPAN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u ware o ai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u wa tsuyo kere 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re yowaku-tom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sore wa araj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Japanese phonetic transcription, Mas Kawashima, 198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ga Shu E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re o ais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54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ien lo sé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palab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hace 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imnario Metodista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19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los niño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Aqué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ien 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Amigo fi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Biblia dice así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ttl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 bel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weak,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Love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60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762120"/>
            <a:ext cx="81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. 1 Anna B. Warner, 1860; Sts. 2-3 David Rutherford McG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ttl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 bel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weak,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he loved so long ago,       taking children on his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ying, “Let them come to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 lov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lking with me on my way, wanting as a friend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and love to all wh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127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he l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long a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ing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s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ying, “Let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 lov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lking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nting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wh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2-10T18:36:30Z</dcterms:modified>
  <cp:revision>45</cp:revision>
  <dc:subject/>
  <dc:title>PowerPoint Presentation</dc:title>
</cp:coreProperties>
</file>