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82B-3AF4-4BD9-AC6F-2443C0B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DB9-3A14-4A4F-97DF-DE28A84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D26-F477-4F7E-BB0E-E34CA5A8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007-287E-47FD-90B7-E94C157D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AA8-018C-4525-9B3C-23B13BD3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4B5-C9DD-49F4-B783-6BD337C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C7A-1490-4540-BC7B-EF8FA658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9FE-73CA-41AF-9BBB-B4F7D6C3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EBC-4AAC-4D05-8884-9123D4E1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E1C-8228-4C66-ACE1-9EEE02D6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ACC-F401-475F-8A70-AB98F6D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FD9-B2CA-4264-A817-D9BEF58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EA9-004C-42E8-94E4-F673AC85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m Goin’a Sing Wh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pirit Say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m goin’a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goin’a mo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goin’a s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59Z</dcterms:modified>
  <cp:revision>89</cp:revision>
  <dc:subject/>
  <dc:title>PowerPoint Presentation</dc:title>
</cp:coreProperties>
</file>