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A21-5BE5-49C9-B470-E82239C3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D69-4EBF-4D38-95D3-A4B798A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BF8-3E26-4A11-AA40-B3526F5C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30A-A074-4D62-8209-C8591EB2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14B6-C6BC-4748-BBB1-61947F42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0411-4D4B-4FBC-98A9-B412ACE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80F6-7673-4F61-998B-F6BA37AA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49D-A254-4B9F-8256-61A58C5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5C1E-62B9-4C68-84B4-CFF48248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54F0-333B-4531-A3E9-D344B9D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802-DACB-4AAF-9BE7-4CCA459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E6F-9F39-4175-9406-CBD06545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46D9-A601-4BC6-9528-4C38C69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BDC5-1910-4B78-AE25-AB84AB2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997-2F4A-4DEC-8B54-31515A9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2EF-DF01-4D2D-82E7-58A17E69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DD6-7DE4-40FB-B615-CC642941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938-1B3B-44FE-B970-480E7B1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C7E-9980-43BA-B836-A965BEC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72C-BB97-4B47-B27C-FF784C5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F07-67A5-471E-A3CC-BC72ECD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531-DECA-4AA5-BE8E-764C1AC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465-3B9D-4105-8A5A-4C9DF13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8C9-CED2-4D33-B62B-9C28B12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597B-EDA6-4AE0-90C0-F6D4A839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CE74-E86A-42CC-AD3C-8270ECA9C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m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ir beaut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 Sing them over again to m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et me more of their beauty se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7524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Christ, the blessed one, gives to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ner, list to the loving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     all so freely given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Sweetly echo the gospel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fer pardon and peace to 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Jesus, only Savior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the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lis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o freely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ly 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spel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00:42Z</dcterms:modified>
  <cp:revision>102</cp:revision>
  <dc:subject/>
  <dc:title>PowerPoint Presentation</dc:title>
</cp:coreProperties>
</file>