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89C-0961-4C12-83EA-A02BCE72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941-82D3-4E4A-B7FE-6480D79B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320-AF2A-4CD2-9CF4-DFFC4B45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00A-6D89-4DCB-B0BF-CD83EE4B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40B6-B363-4EF8-BD43-6E3A1A16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C933-0AD4-4D32-A7D9-5EA80C6E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84F4-31B6-4A3E-911D-42FC9F94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ADC3-B311-494E-AC49-3F39591E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E96F-0044-417F-84C1-45DEF450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2136-7498-46AE-A092-E9735E9C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1772-67F5-4FED-887C-2D32715F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4C2-F750-4B2A-976F-4632CB82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0388-AE8B-40C0-A542-A3EA35A6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AD27-FCA8-4F92-A3BE-7A229E81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BD30-F0F6-4D89-9815-60EE9156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3206-0C10-41D7-8D1A-26F63065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E36E-303D-42A9-A991-7FBBE65F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B1C38-A66F-4E0D-A165-A1D9B53E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16BE7-3377-40DB-A0F5-E831461C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330AC-0B2E-4C1C-BEA1-E50B0B9C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E38A1-BB27-4D4E-8C88-0132EC35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E4B53-8848-49DE-B2F1-3592A57B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D10-657D-4D61-A1ED-9252337F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C5B06-0A5A-44C4-BA97-D2A9A51B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DCD46-9D7B-4B31-87A0-070A145A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4852A-91FE-4A09-A3B0-39738364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68329-EAF7-4380-82BA-C1AAB646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BD28D-EA22-4915-ADA6-2A912A4D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6F8D4-0754-4FD9-A83F-6D5F1A3B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6D26D-C27D-4709-99B9-32FC05A1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FF60E-FED7-451C-B59A-58F36AEF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AC412-2DB7-4A9C-AA74-BFE520D1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A8561-6748-4C2D-9239-16CA0A79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2314-B89D-4E5E-9E5F-A04BC911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F2FBF-6515-4437-88AA-BAA7464B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3D94E-121F-48F5-8173-92CA0208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E99F9-4EFB-4C2A-BDD7-A7841C59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D64BF-B81D-4397-88B8-F5CFCE67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19494-DC8C-4488-9FC0-BA286AAD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175A8-039B-4727-9C68-3766F0D0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170F2-F222-47D0-B6BD-69C37DDF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3EBEE-3381-403F-BCE3-5E2B0CC8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FAC37-E31B-4820-B015-B0BD245E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D39-D63A-43EF-89CA-C28EA898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537-3D35-4DF7-B9DB-0F92D094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37D6-4941-4687-AAC1-E5400888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767C-E5B3-44C8-B38A-CAFDDA20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CA5-1F89-4A41-97DB-3C91F44C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1574-3AD1-4C07-A92B-DBBD28F5E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F5E1-B128-4EE8-B9FD-4C6F1BF71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B2A2-C352-49F0-967C-BE9AA560F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5804-8663-47BE-A13C-66388274C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38088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Leaning on the Everlasting A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13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0" y="16765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at a fellowship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joy divin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;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123640" y="1219320"/>
            <a:ext cx="492048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Elisha A. Hoffman, 1887 (Dt. 33:27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blessed peac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Lord so nea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0" y="0"/>
            <a:ext cx="9144000" cy="576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fe and secure from all alarms;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0" y="152280"/>
            <a:ext cx="9144000" cy="5123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.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0" y="38088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Leaning on the Everlasting A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13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0" y="198108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What a fellowship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joy divi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;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2123640" y="1219320"/>
            <a:ext cx="492048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Elisha A. Hoffman, 1887 (Dt. 33:27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blesse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peace is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0" y="304920"/>
            <a:ext cx="9144000" cy="3462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fe and secure from all al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838080"/>
            <a:ext cx="9144000" cy="273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.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sweet to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is pilgrim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bright the p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ows from day to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0" y="304920"/>
            <a:ext cx="9144000" cy="3462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fe and secure from all al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9619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blessednes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peace is min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838080"/>
            <a:ext cx="9144000" cy="273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.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at have I to d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have I to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blessed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Lord so n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0" y="304920"/>
            <a:ext cx="9144000" cy="3462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fe and secure from all al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838080"/>
            <a:ext cx="9144000" cy="273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.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38088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aning on the Everlasting A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at a fellow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joy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123640" y="1219320"/>
            <a:ext cx="492048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WORDS: Elisha A. Hoffman, 1887 (Dt. 33:27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blesse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peace is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0" y="685800"/>
            <a:ext cx="9144000" cy="544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 and sec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al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974880"/>
            <a:ext cx="9144000" cy="471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.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how sweet to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pilgrim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0" y="0"/>
            <a:ext cx="9144000" cy="576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fe and secure from all alarms;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bright the p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ws from day to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0" y="609480"/>
            <a:ext cx="9144000" cy="544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 and sec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al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0" y="974880"/>
            <a:ext cx="9144000" cy="471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at have I to d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have I to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blessed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y Lord so n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0" y="762120"/>
            <a:ext cx="9144000" cy="544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 and sec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al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974880"/>
            <a:ext cx="9144000" cy="471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52280"/>
            <a:ext cx="9144000" cy="5123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.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sweet to walk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n this pilgrim wa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;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11145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bright the pa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grows from day to da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0" y="0"/>
            <a:ext cx="9144000" cy="576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fe and secure from all alarms;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0" y="152280"/>
            <a:ext cx="9144000" cy="5123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.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0" y="11145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What have I to drea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have I to fea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?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2-25T15:18:29Z</dcterms:modified>
  <cp:revision>59</cp:revision>
  <dc:subject/>
  <dc:title>PowerPoint Presentation</dc:title>
</cp:coreProperties>
</file>