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D67-5D89-4BA4-9C6B-2919ABF7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395-8375-4A03-B132-35D3A2A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BFB-FD01-4AF0-855A-E8C9C790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A39-5EFD-4E0F-8166-D56E8F27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A829-9CCA-4963-A8EE-146A3BA4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7FA2-9593-4B75-B361-12D16C41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41F5-0F31-4206-A521-0BC4BC9A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CB3A-270B-4E3D-875D-6DCB0F1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DE4-FC09-45DE-968A-72B453A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FFA-0DE7-4125-8765-FDE56AB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E81B-FA84-43FB-B87D-484A859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726-88DA-4D6E-8601-85582EA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7A9-1B5B-4626-8477-A08B83F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3D9-F0E7-4231-B9B0-A00A62D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CA6-9A26-4650-BC83-0826D3B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FB6-343D-47DD-ABF4-620B8931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65A-C430-4BFE-A0E6-E2772DC7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7F9-88B4-4623-9E31-F63368AC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58C-B50B-4628-A24B-9F511822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B86-51D3-4917-B566-628C698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C9E-A8DE-4CB8-B357-AD9C4B3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AB6-4480-4311-9A3C-20ACD2FC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4B6-CA2B-4932-B66A-95FD6AD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C84-38EF-44D1-A689-F68A3CF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E0D-B9BC-41C4-A285-E5D1F878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DB6-F6C4-4FA3-9D20-C66FD469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8380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5760" y="10922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 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1T00:38:59Z</dcterms:modified>
  <cp:revision>18</cp:revision>
  <dc:subject/>
  <dc:title>PowerPoint Presentation</dc:title>
</cp:coreProperties>
</file>