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2CB3-2AA4-4EAC-9EAC-4B4BBF03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9C2F-4FF8-4FA8-A1DD-2319E28F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8B52-B984-494C-80D5-8CED5BAB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0386-4A15-417B-870C-9C050427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8E6-8687-4212-ADFB-0C709F47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0749-38E4-4A2A-A6A5-AE74EBAD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0ADE-AD0C-4839-BE8E-E835FFFC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35A-EBF6-47D6-B424-B4A35699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2361-7197-4FB5-9A6C-4741322E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CE6-59EC-49B6-924E-CE03DB80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4318-93AF-403E-9CC7-5F33B69C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1C34-47A3-4D3F-A822-8CBF2865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7B64-2F87-454D-98DE-4253D5FD9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ought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ought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non., ca. 189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I sought the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and afterward I knew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e moved my sou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to seek him, seeking 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was not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f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Savior tru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, I was found of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ought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ou didst reach f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hand and mine enfol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lked and sa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orm-vexed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was not so mu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on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ok h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thou, dear Lord, o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ought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 find, I wal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, but oh, the who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love is b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answer, Lord,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ou wert 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hand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ou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ways thou loveds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01:56Z</dcterms:modified>
  <cp:revision>97</cp:revision>
  <dc:subject/>
  <dc:title>PowerPoint Presentation</dc:title>
</cp:coreProperties>
</file>