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0AA3-4D72-495B-A51A-F0272FF8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AAC8-F650-4246-934E-6C3923DA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2586-6F97-467E-814E-ED97B934F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FA27-EB49-4E96-B018-CD2C7CA0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982B-CAF0-4CBA-BDB3-E5CA6276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B839-32CA-4A79-B25E-EC0F5CA9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52BA-B0AD-4BCF-929B-F5B3C02D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9E16-7C2B-410E-AE48-6F321AF4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1A7B-C27D-4E86-811E-11C614AA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40BB-952A-4BC7-85A1-C5AB17BA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5704-7007-4526-9336-D71C1F74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BB7E-0272-4282-9EE4-095CC7F3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68EC-03F7-4695-A5AD-B523D3032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Is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Is 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Fred Pratt Green, 19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057400"/>
            <a:ext cx="914400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her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your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et to off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and pray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of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hurch and king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n a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hange and doub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od Is Her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us faith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gospe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us wo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purpose ou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, in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y’s dedic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e have to give, recei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, who can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ve without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dore you! We belie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we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fuller meas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it i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we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, a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around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ur varied skills and 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it the co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open minds and he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are symbo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remin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lifel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ed of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Is 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are ta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nt, and pulp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the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central pl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in hones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reac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in silence, as in spee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, in new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enew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the Spirit comes to eac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our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nd a wel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Shepher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ock and fol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Is 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as b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ne are tak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sustains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of o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the serva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Serv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 in worship to expl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it mea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daily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lieve and to ad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11:58Z</dcterms:modified>
  <cp:revision>153</cp:revision>
  <dc:subject/>
  <dc:title>PowerPoint Presentation</dc:title>
</cp:coreProperties>
</file>