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3B4-8E02-444F-8DBA-28A4BB4B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6DD-75C6-460A-8887-925F73E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BEE-7A02-41E1-94F7-085CDFFC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671-3FEB-4797-8E77-EA4D840D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019-8851-41F6-B24C-EEB9E77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DE7-4EE7-4EEC-BC94-E2B342AE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BC8-FBE2-47CF-AC7D-DCCC309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8CC-641B-4575-B3B3-D6F0C13A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978-D465-4BEC-9729-67EBE30B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ADE-FA2A-4FCC-BFE5-D1C70372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09E-9333-4658-A95F-9670B5D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F82-2018-4FA8-97DF-20DDE67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1F74-C9B8-4579-B227-4277CA78D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, Shine, You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ise, shine, you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 en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uman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 him is cent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6280" y="106668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A. Klug, 1973 (Is. 60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come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eath and sin surr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unbo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 how he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 evil ree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s us free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ife and hea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n and wo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guilt are dr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re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celebr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banners high unfu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ongs and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the darkness hur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e world go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ll how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his Son to save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of the Son,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freedom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s from every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7:08Z</dcterms:modified>
  <cp:revision>38</cp:revision>
  <dc:subject/>
  <dc:title>PowerPoint Presentation</dc:title>
</cp:coreProperties>
</file>