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BF7-3F27-4597-891E-6F75330D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EF4-E8F8-4825-8A86-7D23C737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FEA-F26D-4283-A30B-949E7D4E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2EC-21F1-4177-BE02-FDC9D48C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C39-FA3A-46A2-8022-4223D46D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1017-2B28-4C06-9C60-5D56C614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F344-FC11-40E2-B631-38783EE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DAF8-8CD0-48F0-845B-B5553254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692-53C4-46CB-9137-4B8A802A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DDB2-456E-4810-B3E6-60172071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BACB-385B-4941-87BB-E3F7AE3B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0BA-E834-4BB9-9D5E-B9297043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6588-5DCC-4BA2-8571-9C1EE50C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6972-FD78-4F1B-A2E5-B27C7033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5E06-99C6-45DC-9553-22073FB0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0A84-89F3-4074-B976-871545EF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5995-D9DD-4563-944C-F80F4BEA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EB3-F462-4C9A-8024-005DF37F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486-74C6-43C0-880F-D5AE3EF2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B4D-01A7-418A-9AFA-5CE82D1A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94F-AA93-4A45-9CCB-12CEC438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35D-BA34-4F5E-830C-1D50EC4E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666-5AFE-4245-9A46-CE7B21D8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DDE-8E0D-48FB-AB39-94E2AD5F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9354-96AB-4A43-B2C9-B10FF242F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6A3A-AEA4-4E0D-8C62-33C179D3C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the Almighty Power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sing the almighty power of Go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ade the mountains rise,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pread the flowing seas abroa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built the lofty ski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59640" y="76212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oon shines fu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God’s comm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s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sing the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ill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with f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ormed the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u the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nounced them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how thy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displ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my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ound I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gaze upon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re’s not a pl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flower be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make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ies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louds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mpests b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or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y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all that b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from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can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t prese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wisdom that ordain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to rule the day;                    the moon shines fu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t God’s comm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 stars ob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I sing the goodness of the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 filled the earth with food,       who formed the creatur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ru the W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n pronounced them g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how thy wond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display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I turn my eye,                      if I survey the ground I trea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r gaze upon the sk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re’s not a pla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r flower bel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ut makes thy glories known,         and clouds aris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mpests bl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y order from thy thron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all that borrow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fe from the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s ever in thy care;                           and everywhe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can b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God, art present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the Almighty Power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sing the al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ad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untains 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59640" y="109224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pread the fl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s ab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uil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fty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orda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 the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6-13T19:38:29Z</dcterms:modified>
  <cp:revision>13</cp:revision>
  <dc:subject/>
  <dc:title>PowerPoint Presentation</dc:title>
</cp:coreProperties>
</file>