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9E3-6E32-4614-8B04-56AE70DA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F81-28CB-44F1-A10A-959E375E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E24-EC8E-4F7C-9C83-AED6EE10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581-AD03-4512-BD8B-5138DA38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26B-6DAB-42CB-83C0-28838450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D9C-2FF6-42FA-BED6-75B08487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93A-E99F-4583-901F-12FA0459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42D-4E59-4338-8376-800588A3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B42-40E2-4824-BA01-A927CE25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EF1-CEDD-4F38-B689-4BFCD256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D34-9DD0-43C1-A1CF-E561F9C5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05A-9737-4780-A3D8-A4107518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F282-0618-407E-A53A-FB98B64E3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llelujah! What a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an of Sorro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Son of God, who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ined sinners to recla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7040" y="1066680"/>
            <a:ext cx="419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P. Bliss, 1875 (Is. 5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aring sh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coffing ru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demned he st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led by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blo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uilty, vi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pless w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otless Lamb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as h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atonement can it b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ifted up was he to d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t is finished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his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alted hig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hen he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glorious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his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me to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n anew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g we’ll s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09Z</dcterms:modified>
  <cp:revision>26</cp:revision>
  <dc:subject/>
  <dc:title>PowerPoint Presentation</dc:title>
</cp:coreProperties>
</file>