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87F-575D-4AFB-A2A5-4A842291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085-329A-4CEA-9AEF-6B1BE7CD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74C2-F033-4C4C-AFD9-05FD3923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ECEA-E98F-4D11-9B4D-FC7BC01E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940-E0E0-48AE-9490-D36EBA4B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437-99B0-46BA-848D-650F8276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09A-C293-42F5-A7AE-42CA431C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14E-B4CE-4947-919D-9708FEE6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05A-8428-4652-8088-02768E27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CF04-67DA-48E8-A0D5-36661D99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8FA9-7E32-4261-8152-EA2D91F5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5D77-090E-48E0-A069-8B43818B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6C1E-CE7B-4030-A2B0-BA755F70E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Day of God, Draw N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day of God, draw n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auty and in po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with thy tim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dgment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tch our present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78000" y="114300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. B. Y. Scott, 19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ring to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oubled mi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ertain and afr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quiet of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dfast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 of a call obey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ring justice to our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ll may dwell sec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nely bu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days to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dations that end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ring to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of str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overeign word of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r may hau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arth no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solation c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 day of God, draw n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at creation’s bi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, and s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judgments on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9:07Z</dcterms:modified>
  <cp:revision>52</cp:revision>
  <dc:subject/>
  <dc:title>PowerPoint Presentation</dc:title>
</cp:coreProperties>
</file>