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551-57E7-46DC-8D56-37E96E6F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B5E-F2A8-4C1C-A92C-AD0E64D3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6C8-2F16-4AA5-A2DC-E49CEC59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E4A-BFA7-493D-8D58-E1BC7534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0CD-44C6-4CFE-9B8C-42AE186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26A-6C00-426A-8C82-1D817BE3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27F-E174-4F80-A66E-6ECF8D3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5D1-0C0B-4CFD-AAB0-0E0D7B3D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FE2-E135-4FC5-A360-617E3F0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697-8650-48A9-9416-E193FCC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07A-4103-4265-A626-9D256EA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35D-A2FF-4290-B780-5E3E413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3898-6709-4930-BEA9-614EB6355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erfect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orothy B. Gurney, 18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perfec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tran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fore thy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ir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no 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join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rfect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assu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ender char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eadfast fai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tien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 end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ildlike trus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nor pain n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righ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s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pe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s all earthly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life’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m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 and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9Z</dcterms:modified>
  <cp:revision>148</cp:revision>
  <dc:subject/>
  <dc:title>PowerPoint Presentation</dc:title>
</cp:coreProperties>
</file>