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716-200C-4A4B-A08E-4930A8D7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59B-461F-41E2-93CC-577A4E3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2AC-A68D-4158-BCEC-64816E29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E91-9600-4B3C-BAAE-8D53492C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9F79-22A6-4CD5-A2F8-960A115E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F047-9ECD-41A8-9328-F017C92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A157-EC4E-4FA8-B13D-960B120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FED-90C5-4E61-B9EF-B36C6BC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7E3B-28DB-43D6-965A-1D3BA3EE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401E-3FD3-405E-87CE-6BADBEF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7BDC-35F6-47D1-97A2-180F113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5B-B49F-4546-B804-1B5F82E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8D7-3C79-4632-B7A9-72240B3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2EE-D9B5-4B74-AAAF-D75E9814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57CF-F9BE-4F91-A579-4C7CCC9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E294-1D03-4CE0-8E03-DCAE6BE0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414B-16CD-4575-BE13-6FE3D942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596-4191-40EE-999C-5234701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0A8-8944-4AAC-977D-F961BB7E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56F-EA39-47E4-87E3-4C4E015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2E5-CBF6-404B-8DED-C571165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881-63C3-4B5D-8E2E-4219D53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57B-1F0E-48C9-8CD2-BB6EE9F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642-6476-4807-A46A-483E5FE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EA7-3956-4E28-9A35-1FDD2BF7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8C2D-932A-4AF3-8A03-A936EAF38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94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800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arm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gl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9T00:18:01Z</dcterms:modified>
  <cp:revision>80</cp:revision>
  <dc:subject/>
  <dc:title>PowerPoint Presentation</dc:title>
</cp:coreProperties>
</file>