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08FA-8F1E-445D-88FA-4A98404D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085D-A924-4E61-8E79-0B2E2486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0D4B-E4B8-4808-8A2B-38616A05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F3D7-40F7-499F-B2D4-C8A25B80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1A8A-242C-4600-812B-7FBC658E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5F6E-71B1-4AC4-AA0F-88253716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C81A-60AB-4F70-B2F2-24C3D4C5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9A7A-BF31-4C8A-A4AD-0F532206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AD50-5D13-4063-A02E-D5FBC7C9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FC45-A5F9-422D-8608-25D32E4E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AA85-08B0-4789-902B-F92FA3E2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404F-40D9-47B9-90F4-319A3A04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60DD-E240-4D62-AE05-AAA76D9CF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153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ús Es Mi Rey Soberano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O Jesus, My King and My Sovereig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71800"/>
            <a:ext cx="9144000" cy="323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ús es mi Rey soberan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 gozo es cantar su lo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82,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s Es Mi Rey Soberan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Vicente Mendoza, 1920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trans. by Esther Frances, 1982, and George Lockwood, 198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ft all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in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ome lift my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ashe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happy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joy came to st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Jesus, my fri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yea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arkness and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ways n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My King and My Sove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alks at my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tient, hum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ves me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fort and che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s why I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ly fol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’s my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mpanio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happy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joy came to st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Lord, tell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could I give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your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ness to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My King and My Sove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ld this be enoug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e and lo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itting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le life to the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accept my devo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I surrende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happy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joy came to st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 R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me ve cual herman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 R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me imparte su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jando su tron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 glor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 vino a sac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 la escor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yo soy feliz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yo soy feliz por é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es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ús es m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migo anhela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n sombras 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uz siempre v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ciente y humil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mi la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yuda y consuelo me d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s Es Mi Rey Sobera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 eso constan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 si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que él es mi R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mi ami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yo soy feliz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yo soy feliz por é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, ¿qué pudie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 dar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 tanta bondad para mí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¿Me basta servirte 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mart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¿Es todo entregar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 a ti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s Es Mi Rey Sobera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tonces acept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 vi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a ti sol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da rendi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es yo soy feliz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es yo soy feliz por ti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Jesus, my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Sovereig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joy is to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 my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My King and My Sove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king, yet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ats me like fami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king, yet 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res all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0:30Z</dcterms:modified>
  <cp:revision>11</cp:revision>
  <dc:subject/>
  <dc:title>PowerPoint Presentation</dc:title>
</cp:coreProperties>
</file>