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0DD-078D-41D4-AEA4-F705D81B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59A-AB2A-426A-878C-F45A49B5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0E4-5CF3-45B4-B471-D432114E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B52-3865-4AF4-BD4C-D2C209CE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8DC-9ED3-42E4-A929-D3E4A4F9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894-5928-4798-B770-C76FACF9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DBC-8463-46BA-9867-3EC10033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1FD-5583-448E-901A-D3D4747C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214-8E30-4F48-8B2A-34A852B7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B2E-AE37-4245-BC56-E6235319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745-65C1-4BC6-AC95-BB7A34DA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255-8924-4192-85BC-364A6E66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330E-A889-423C-A134-F67F22C7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t of the Depth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Cry to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3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ut of the depth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cry to you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Lord, now hear me calling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cline your ear to my distres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spite of my rebell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7040" y="1600200"/>
            <a:ext cx="70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tin Luther, 1524; trans. by Gracia Grindal (Ps. 130; 120:1-2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reg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ful dee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me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pirit need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it I am noth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All things you s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re full of grac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crown our lives with favor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good work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re done in va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out our Lord and Savio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gives us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es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ip of dea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e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od’s k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It is in God tha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hop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not in our own merit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rest our fea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God’s good W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rust the Holy Spirit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promise k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trong and 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ru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ig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cribed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empl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y soul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ne who longs for mor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watcher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eater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I for Christ’s retu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ope as Isra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ends redemp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8:16Z</dcterms:modified>
  <cp:revision>13</cp:revision>
  <dc:subject/>
  <dc:title>PowerPoint Presentation</dc:title>
</cp:coreProperties>
</file>