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85B4-A93B-4218-AB0D-8524EC2CF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23DE-FB42-4CE2-905F-31DF03908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F30F-F12E-43FD-9C48-2B3B465F3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C636-4346-4BDF-A8BE-51BFC63F2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2F4F-421C-4182-B4A9-5D8640CAD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7A15-BAEA-4DE3-BA53-0ACFF722E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E697-91C5-48B0-957D-427469C9A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0C62-FD96-463C-90F6-1579858B5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F517-280E-4C23-90DD-80BB4C07B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5E01-3477-481B-9168-B7CE6C3C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C593-EC34-462C-A570-CD3094E1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D2C1-7087-464B-8490-97846E93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33907-EB94-4830-AB19-B6E8F6FB0A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ave Thine Own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ay, Lor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8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ve Thine Own Way,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0" y="144792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Adelaide A. Pollard, 1902 (Jer. 18:6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Have thine own way, Lor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ve thine own way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art the pott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am the clay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026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ld me and make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fter thy wi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I am wait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ielded and still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ve Thine Own Way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Have thine own way, Lor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ve thine own way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arch me and try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vior today!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h me just now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h me just 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in thy pres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umbly I bow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ve Thine Own Way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Have thine own way, Lor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ve thine own way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ounded and wea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lp me I pray!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ower, all pow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rely is thin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uch me and heal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vior divine!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ve Thine Own Way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Have thine own way, Lor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ve thine own way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ld o’er my be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bsolute sway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 with thy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all shall s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only, alway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ving in me!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mrsnaja najafabadi</cp:lastModifiedBy>
  <dcterms:modified xsi:type="dcterms:W3CDTF">2024-03-02T21:03:39Z</dcterms:modified>
  <cp:revision>130</cp:revision>
  <dc:subject/>
  <dc:title>PowerPoint Presentation</dc:title>
</cp:coreProperties>
</file>