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F30-5859-414D-9AFB-0EFF1EDB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442-27AC-42B6-9CCD-B06809CA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339-0B6E-4952-ADC5-A457C6C0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B9C-BC6E-40E8-9648-7BCF043C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844-4031-4452-9547-ACA18C8B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372-A503-4E62-BC15-2AEDE8B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43B-D515-4169-8122-6214390C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FAD-7E57-469D-902B-B221181E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100-B696-4845-A141-97B0801C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F1E-A8FE-4121-9CC5-72AC30F4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AC4-FC99-4DF9-836C-6B6F01F5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6F3-F3E2-4745-B9C1-3A2B40C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ED0E-4049-4026-8A52-BA52B783A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Glory, Starlit S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orning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lit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aring mus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holars’ tru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J. W. Shore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2000" y="1092240"/>
            <a:ext cx="49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. H. Vanstone, 1980 (1 Cor. 13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n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of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f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love mus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Here is Go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narch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d in eas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te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s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arm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hing, s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sust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ight of swall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umn le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mory’s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of you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ind and s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dden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agon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ende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expen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ove that g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s ever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s with z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eager h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ares not, keeps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tp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ture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all exp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Drained 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aking fu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in set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thers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in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r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in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erefore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shows u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less ha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57Z</dcterms:modified>
  <cp:revision>44</cp:revision>
  <dc:subject/>
  <dc:title>PowerPoint Presentation</dc:title>
</cp:coreProperties>
</file>