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68E-EB9F-4771-BB4A-EAC9CE4A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A36-AF7C-49EC-B15A-1A7C88C0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E8C-1005-41AC-8056-512A415F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E82-EDA5-4B5B-8639-8A7D2953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919-A30F-4BC8-BC8B-16CCEA30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E319-7B33-4C87-8718-EA8B461F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C7A-06C3-4792-8386-EA833687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1AAE-9DEF-4FCB-91E0-72C6C80D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884-7A5F-49AA-9995-E5D8DBAA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95AB-2890-43A9-8D9D-2AE0B81C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D3B-323C-4BEF-A215-32AE97BF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4E87-3031-4300-A0D2-85C5F16D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10B6-55B4-4E43-A99E-21DF43C68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(Advent &amp; 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grant 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 us with its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and Response 1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Wis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25600" y="1092240"/>
            <a:ext cx="63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Wisdom of Solomon 7:15, 24-30, adapt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sponse 1, Harrell Beck; Response 2, Henry Sloane Cof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8273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light is succeed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the n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ut against wisd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evil does not prevail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6368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thou Wis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rder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and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Wis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371600"/>
            <a:ext cx="861048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God grant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that I speak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with judgment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have thoughts worth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f what I have receiv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5760"/>
            <a:ext cx="861048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God is th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ven of wisd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corrector of the wis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sdom is more mobi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n any motio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cause of her pur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sdom pervades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enetrates all thing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730080"/>
            <a:ext cx="861048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she is a bre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power of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a pure emanation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glory of the Almight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refore nothing defil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ains entrance into wisdom.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she is a refle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eternal l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spotless mirror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orking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 image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od’s goodn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ugh wisdom is but o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he can do all thing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ile remaining in herself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sdom renews all things;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409680"/>
            <a:ext cx="8610480" cy="556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every generation wisd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asses into holy soul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makes them frie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God and prophe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uly God loves noth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o much as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live with wisdom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she is more beautif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n the su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excels eve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stellation of the star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mpared with the l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he is found to be superi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49:53Z</dcterms:modified>
  <cp:revision>29</cp:revision>
  <dc:subject/>
  <dc:title>PowerPoint Presentation</dc:title>
</cp:coreProperties>
</file>