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7EE-6081-45AB-BF87-0EA2CA34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5A-E453-48F0-9F66-A5F8C4E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69E-64D6-46DE-A881-79843EE4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D18-5886-4D91-9992-F2CAA05D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F7C-1370-4C7D-A9F2-E5613598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632-2A96-48F4-BF17-A579D56F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AE4-0C85-4DDA-B9B8-812CA1C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389-6E6C-4A0B-9850-B682EBA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6C0-68BA-4615-9F1A-4D8CE8C9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EFE-B87D-405D-BA05-C5589B3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C49-24A0-4966-ABCF-22CC616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848-9741-4538-89BB-8F7EE0D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3D7-2867-4338-9FF7-BEA226626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u, O King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, O King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st yield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f right was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120" y="1600200"/>
            <a:ext cx="54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. Bland Tucker, 1938 (Phil. 2:5-1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by all ador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dark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might sh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cam’st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wliness of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e the outc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poor were sou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y thy death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salvation wrou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this min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which was i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as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ight be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ing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on Calva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refore,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urpose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high exal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creatures n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ich all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ess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and ear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28Z</dcterms:modified>
  <cp:revision>30</cp:revision>
  <dc:subject/>
  <dc:title>PowerPoint Presentation</dc:title>
</cp:coreProperties>
</file>