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5D7-F96D-4EBE-AE72-3027796C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DA2-AC60-4562-9523-73AB0BDC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485-E53D-4F63-9DAC-FF81C4C6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27A-73CE-41B2-8ECA-A73E178F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106-4B96-4720-8DF4-CEB17A99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F79-0972-4187-B2AF-A6A8202A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7AA-334B-4206-AE56-E198C818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0E6-E83C-48ED-9965-FAA429A8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756-7742-4411-8AF3-A314381D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CC6-1E7F-4A46-99F1-81B22B58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089-7DE3-46E8-BF98-CE7D4FB4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460-6012-4C28-A12D-982EAA07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E74E-19AB-47EB-8CA8-E67C5C55F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ou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Whose Pres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Th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hos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takes de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hom in affliction I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eph Swain, 1791 (Ps. 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peaks! and eter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his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-echoes the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mfort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in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lvation, my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re dost th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ort with thy sh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eed the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ures of lo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, why in the vall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death should I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alone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derness ro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why should I wa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alien from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cry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ert for br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oes will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y sorrows they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mile at the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sh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store,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ght of th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oul-che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fort im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 sweet tok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ardoning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ing joy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olate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e look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n thous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riads wa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8:55Z</dcterms:modified>
  <cp:revision>44</cp:revision>
  <dc:subject/>
  <dc:title>PowerPoint Presentation</dc:title>
</cp:coreProperties>
</file>