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FE2-B5D1-4AEE-8D97-AD3BF947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850-17E9-42C0-B562-9D7B27C7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594-F5E7-4CE8-BC37-FC88B8D1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158-6FF4-4CE2-B1CD-7D747C00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8A5-A608-43FF-AF70-8CFEB290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A84-A6A3-4C28-9CD4-741DDF6E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E6A-1BCE-431A-9AA2-DC74F872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802-59C6-45F9-AB7F-AD33359F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393-5D67-4DB2-8ADB-8FF44E0F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393-BE1C-48DC-A131-B49E547C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E22-2645-4771-9FF1-62B05C2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F28-8194-42B1-9652-AEE4CAC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0957-F49C-43FD-A37B-494659549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6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many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, endlessly be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8400" y="10922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ny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we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, endlessly becom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hovering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b and birth of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eop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of Jewish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odus and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of Miriam and Mos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bbi of th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ve fore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of wounde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b and loom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penter of new cre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7:06Z</dcterms:modified>
  <cp:revision>21</cp:revision>
  <dc:subject/>
  <dc:title>PowerPoint Presentation</dc:title>
</cp:coreProperties>
</file>