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A84-6249-4954-8627-B644D6A8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382-B289-4C5E-BF2D-7C8BFDFD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F0B-8542-48D6-8261-1C5CC06B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EA1-F763-4C00-B0D6-1F10BAB0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4123-1DFF-4D8A-8A9A-9BEC11EA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FDC0-C6D9-4231-9964-9663AF8A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C37C-700C-4DCA-AC36-B275B7DA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BC47-CECF-449C-ACAC-34540EC8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212B-1BEB-447F-AB31-849769A0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1716-C4F6-47BB-8DD1-D92ED8AA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2688-8529-4457-9799-2974F5C2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CCB-17F8-4F8B-905E-2C912164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6381-2A17-4E7D-9294-C273B4A5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B9AD-2CD8-4808-8B39-E46714FB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8653-3C61-4729-9395-08751849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55DD-E16B-4A01-8B1A-E219C99A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964F-6690-4931-9151-73AD0BA2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0AE2-29BF-4180-8BC1-34A5F31E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8F8-3D0A-4300-AC8D-E057CD05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77F-83E5-4BCB-8B78-7F689FAE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90E-28BE-4EE6-A524-28BC5815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397-F41A-469D-B267-198D2827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EB6-F9B3-46F9-9B9C-CC78D22C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E48-A598-4FFC-854F-F25B1281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6A4F-4161-4254-AF69-48E301F0B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D36A-D917-4B2E-9421-2ADFC454A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hurch’s On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7176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The church’s one found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Jesus Christ her Lord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e is his new cre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y water and the Wo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9907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muel J. Stone, 186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 happy ones and holy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rd, give us grace that w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 the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meek and lowl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high ma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well with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hurch’s On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051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e church’s one found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s Jesus Christ her Lor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he is his new cre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y water and the W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9907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muel J. Stone, 186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and sought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is holy br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own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bought 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 her life he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lect from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one o’er all the ea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charter of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hol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bles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takes one holy f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one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pres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very grace endu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ough with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ornful w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e oppr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chisms rent asu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eresies distress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saints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 are keep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ry goes up, “How long?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ight of weep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e morn of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id toil and tribu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umult of her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nsumm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 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,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on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longing eyes are bl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e church at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Yet she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ath un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the Three in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st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commun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se whose rest 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heaven 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me and sought h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his holy brid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his own blo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bought h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for her life he di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appy ones and hol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give us grace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eek and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igh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lect from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one o’er all the ea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charter of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holy name she bless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akes one holy fo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o one hop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e press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every grace endu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Though with 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ornful wond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see h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re oppress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y schisms rent asund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y heresies distresse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t saints thei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tch are keeping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ir cry goes up, “How long?”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soo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ight of weep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ll be the morn of so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id toil and tribu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umult of her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nsumm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 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ll, with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sion glorio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r longing eyes are bles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e gre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urch victorio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ll be the church at r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. Yet she 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arth hath un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God the Three in On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yst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weet commun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those whose rest is w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0-31T21:49:30Z</dcterms:modified>
  <cp:revision>17</cp:revision>
  <dc:subject/>
  <dc:title>PowerPoint Presentation</dc:title>
</cp:coreProperties>
</file>