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8B19-261C-4464-A872-8DCA3AE0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B451-A02E-478A-9260-F6BF5949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F37A-95FA-4213-A57B-645060C8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F79-A487-40DD-BA1D-4C06F986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FAE3-A200-4EDE-92F5-937DE258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81A-27CC-4492-A8F2-A90C438C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B6A-DD1F-4106-8E4D-E3332E4B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6A62-CC09-4261-B065-752D828A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ED17-AFA0-42E6-9C4D-9F02528B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4BB-975C-474B-AB0B-4120999A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8BB-B717-4E69-B3A1-BDF9AD60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1A99-E1AE-4441-86F5-272988C1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6CB0-DEC5-4C34-A40A-4B0429D92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Head Tha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ce Was Crow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002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homas Kelly, 1820 (Heb. 2:9-1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 head that o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crowned with thor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crowned with glory n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65840" y="2239920"/>
            <a:ext cx="64123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rofi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joy to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ystery of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The cross he b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life and heal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sham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ath to hi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79080" y="2239920"/>
            <a:ext cx="6587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people’s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people’s weal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everlasting the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roy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adem ador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ctor’s br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 highest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heaven aff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longs 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of k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rd of l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ve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 joy of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dwell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joy of all be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18880" y="1859040"/>
            <a:ext cx="5106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ifests hi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nts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to k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o them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ll its sh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ll it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gi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98080" y="1859040"/>
            <a:ext cx="49478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name 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jo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They suffer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Lord bel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reign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 ab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4T19:46:02Z</dcterms:modified>
  <cp:revision>84</cp:revision>
  <dc:subject/>
  <dc:title>PowerPoint Presentation</dc:title>
</cp:coreProperties>
</file>