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F68A-A32F-4E81-AC72-0F6DA50C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3DE-423E-4935-B82A-89A460B3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8CD4-5752-4E37-ACA3-D4400939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B70-C325-4A86-95F4-29CACF35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65D-FE7C-4AC6-937C-6E0905F7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949-1694-4435-B81F-3E523E0B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AC4-F82A-4C00-B2C6-2B536B7A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446-E6F1-4D93-AB4E-11A32827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92B7-7244-43F7-8F49-22B534FA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287-D319-4192-9BD6-BF167BD2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2DA-CB75-493C-B916-BADB118D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CC09-CFC5-4FA7-8164-8620418B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AAB0-6DFB-4021-B05B-ACFB7153D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rucified Redee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0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crucified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life-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spil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ds by permission of Community of Resurrection,  Mirfield, 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rucified Redeem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7800" y="990720"/>
            <a:ext cx="361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imothy Rees, 194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rucified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se ar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es of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they br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elfish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come in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you we rais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ur guilty hand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umbl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wn our guilt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ay we see your passio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 open to our gaz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wded str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untry 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Calvary displ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hear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of angu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outpoure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rucified Redee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battlefie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n red with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neighbors’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ther bat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igh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bre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might is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lf is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rn-crowned h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groa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ung out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and c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rucified Redee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uish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illion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reak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umb desp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8:04Z</dcterms:modified>
  <cp:revision>15</cp:revision>
  <dc:subject/>
  <dc:title>PowerPoint Presentation</dc:title>
</cp:coreProperties>
</file>