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466-2F51-4996-B4D9-7B500A37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AA6-86FD-47CA-9941-391DB7A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8CB-74AB-45DA-BF92-E3BCA1D6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3AE-D267-4B87-9F41-BDFBE22D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A113-B9FD-456E-87B0-837B3A5B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F652-84D5-4C2C-ABEF-08A0D848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310A-6FC0-4D8C-8875-65CEFDD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6014-3B04-4372-8B67-2FB3F9C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11F3-45B6-4415-90DF-5D55B374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B5EF-B4A1-4FFA-97FC-559B5A4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6D26-8464-4BE7-9BF5-0F84080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DFE-58D9-4D42-8E1D-2069E95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258F-8DFB-48BE-885F-0EAF09B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A9B-6497-41C8-8D43-EA213345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552-D037-4CDF-BB58-8D272D6D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7662-78D0-480F-88E8-2FDA6E85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A59F-0400-4F2C-83FF-163221D3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72A-02C1-4B0C-BF2E-D70A18B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C6A-A6A6-4C27-BC11-C32E865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5FF-BDD1-40A9-A5C5-44414B24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DFF-5EFC-4AA4-89AB-B331395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961-614E-4236-B329-FA36101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491-CB53-48AF-AD80-FED5953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ED3-1122-4E73-8688-61E0D15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02E-0653-4EB2-B1D4-95415767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A59-4174-41DE-AD47-3AE2031B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’ve a st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ve a song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lif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eth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end us hi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rrow hath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reat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36232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2:58:53Z</dcterms:modified>
  <cp:revision>76</cp:revision>
  <dc:subject/>
  <dc:title>PowerPoint Presentation</dc:title>
</cp:coreProperties>
</file>