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C09-47FD-4047-B8B9-3397C91D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617-E4CC-4401-9C3C-A98EE8A4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DF0-39EC-4529-B28D-57F7A373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6E6-F088-4577-81EE-9A52AA12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BC84-AE15-45D8-AAB5-52A3B233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62A2-2F3E-46A9-96B7-480684A1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0DB9-BE2D-4443-A00E-F11BAFFC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F696-0918-4CFD-A28D-672CE39B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8968-C34E-499A-BE8D-CE6446B1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F7FC-7FFA-426D-854E-C3934F7B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BCBF-82F6-4144-B7D9-A087B711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8D5-DAAD-4F07-8588-52785EB4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98E6-31A9-4F75-81FC-F2861BD8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95AB-32AD-4B4E-90E3-C3D82EE4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B75D-327D-4092-906B-C9077E53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B882-4239-430F-802D-B7F47B61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C78A-13FE-42B8-8BB8-4BB2E9BA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D920-94FB-40F1-90A2-BA474DAA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9619-BDCE-4839-83E7-F95B23E5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F7FB-D4C5-4FFB-A50A-BED01E28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5206-9366-4139-9ED6-B5B739DE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0D6E-3F52-47C5-885D-C342AD98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FD1-1EA0-417B-B635-E5306B10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48621-4F51-43B7-BE8D-6FB63ADF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D8B9-48B6-49E5-8674-B92D2440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307C-4B80-4F2A-91B1-14B97CDE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05E16-4E93-49C6-92C9-5FF431B2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1F2AC-384D-48C3-8EE7-99ADC8D9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FA17-F33B-42BF-8B59-E768ED6B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E23A-657D-4C98-965A-28047CB1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03E-20D3-48FF-8D20-1C0F0AED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48B-155D-4138-ADF3-85DE2416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9A8-B15C-4901-A113-9C232BC9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96A-84D7-443D-B1DA-109A72C9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7BC-054A-4A9E-A62D-A438874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CDA-6971-47B8-BF5D-F5BC7D66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1D0B-362B-4C77-B749-98854BE82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8F31-735E-44B4-847E-AA64D3495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E754-471C-47C0-9955-D16CAA73E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670572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Joy to the worl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Lord is come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earth receive her King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every hear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pare him room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9144000" cy="417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heaven and nature sing,)</a:t>
            </a:r>
            <a:br>
              <a:rPr sz="32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heaven and nature sing,)</a:t>
            </a:r>
            <a:br>
              <a:rPr sz="36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, and heave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nature si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y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 reig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eir songs emplo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fields and floo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s, hills and pla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8088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peat the sounding joy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peat the sounding joy,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,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nding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let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rrows g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orns infest the gr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omes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s 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8088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r as the curse is found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r as the curse is found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, far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urse 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517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e rules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ruth and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s the nations p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0492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wonders of his love,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wonders of his lov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,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oy to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oy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receive her K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pare him roo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87520" y="1092240"/>
            <a:ext cx="438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98:4-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387440"/>
            <a:ext cx="9144000" cy="417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heaven and nature sing,)</a:t>
            </a:r>
            <a:br>
              <a:rPr sz="32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heaven and nature sing,)</a:t>
            </a:r>
            <a:br>
              <a:rPr sz="36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, and heave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nature si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y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 reig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eir songs emplo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fields and floo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s, hills and pla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80880"/>
            <a:ext cx="6553080" cy="356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nd heaven and nature sing,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(and heaven and nature sing,)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nd heaven and nature sing,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(and heaven and nature sing,)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nd heaven, and heaven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nd nature sing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35576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peat the sounding joy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peat the sounding joy,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,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nding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let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rrows g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o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est the gr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omes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s 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135576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r as the curse is found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r as the curse is found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, far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urse 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e rules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ruth and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p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35576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wonders of his love,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wonders of his lov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,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33520"/>
            <a:ext cx="670572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Joy to the worl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avior reigns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all their songs employ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le fields and flood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cks, hills and pl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89080"/>
            <a:ext cx="66294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eat the sounding joy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repeat the sounding joy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eat the sounding joy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repeat the sounding joy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eat, repea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ounding jo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28600"/>
            <a:ext cx="655308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No more let si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sorrows grow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r thor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fest the ground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 comes to mak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s blessings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320" y="212760"/>
            <a:ext cx="67053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r as the curse is found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ar as the curse is found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r as the curse is found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ar as the curse is found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r as, far a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urse is fou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04920"/>
            <a:ext cx="67057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 He rules the worl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th truth and grace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make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nations prov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glories of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s righteousnes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304920"/>
            <a:ext cx="67057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onders of his love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and wonders of his love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onders of his love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and wonders of his love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onders, wonder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 his lo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oy to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0508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oy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receive her K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pare him roo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520" y="838080"/>
            <a:ext cx="438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98:4-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12-12T01:41:14Z</dcterms:modified>
  <cp:revision>14</cp:revision>
  <dc:subject/>
  <dc:title>PowerPoint Presentation</dc:title>
</cp:coreProperties>
</file>