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1604-FCE4-4D89-A346-1DFE7A58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7B91-BD22-45A8-A762-70AF7CEC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3C2F-18F4-4DF8-A53B-FFA55818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1F9D-8360-4651-9E70-649C039B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43DA-57E7-4F2D-BECE-38150CAA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7156-1464-4DCB-80BC-A8DFD330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8EB8-CF4A-4245-908B-E7F8C01A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8572-6424-47CC-AC2D-F212622F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6AD9-90E6-4F8E-A782-DDD36000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0EC6-A390-4FBC-8B05-7119DCC8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89CE-370E-4C3D-A19F-45BFC358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5077-B885-4A48-A42C-CC565626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0F63-45E6-4403-A49B-CC51185A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7C1B-3182-4DCA-A7E9-65F64FEF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E2BF-1481-4799-A7E1-EB126717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EE4E-A90E-4A02-8A51-ECAE3F70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05D5-6C16-422F-8807-F2B3CEED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0BE-8AD2-48CB-8765-D48A35DA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1B39-205F-4C68-A223-368D02A4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EC9C-FE2A-4860-B1A2-C6C15E90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BBA7-13E0-41E5-B0F1-C407094D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6DE7-0972-4785-848C-FCE58497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ECF3-F3AC-4EA4-824C-26883B2F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4956-19AA-4B74-A578-440D9EDB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5737-AA95-4D3C-9E80-DA90DFB88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6ED6-3C6D-4ED2-AC8E-9781F1AD7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God of Every 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838080"/>
            <a:ext cx="4724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W. Reid, Jr. 195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76520"/>
            <a:ext cx="9144000" cy="47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 God of every n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every race and 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deem your whole 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your almighty h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8, renewed 1986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446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re hate and fear divide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bitter threats are hurl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love and mercy guide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al ou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ife-torn wor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From search fo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ealth and pow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scorn of truth and righ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rust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ombs that show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estruction through the night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pride of 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indness to your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iver every n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God,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572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Lord, strengthe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ll who labo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all may find relea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fear of rattling sabe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dread of war’s increase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op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rage fal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let your voice be hea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faith that none can al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ervants undergi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572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Keep bright in 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vision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ays when war shall ceas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en hatred and divis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give way to love and peac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808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ll dawns the morning glorio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n truth and justice reig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Christ shal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ule victorio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’er all the world’s dom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ate and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vid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itter threats are hur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ve and mercy guid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l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ife-torn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rom search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alth and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corn of truth and 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rus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mbs that sh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struction through the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pride of 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indness to your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iver every n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God,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Lord, strengt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who lab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all may find rel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fear of rattling sab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dread of war’s increa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op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rage fal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let your voice be hea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faith that none can al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ervants undergi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Keep bright in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visio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s when war shall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hatred and divi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way to love and pe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dawn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ning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ruth and justice reig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ule vict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all the world’s dom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God of Every 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760320"/>
            <a:ext cx="525780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W. Reid, Jr. 195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8, renewed 1986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60020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O God of every natio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f every race and la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deem your whole crea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ith your almighty hand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1-10T02:14:17Z</dcterms:modified>
  <cp:revision>146</cp:revision>
  <dc:subject/>
  <dc:title>PowerPoint Presentation</dc:title>
</cp:coreProperties>
</file>