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97F-0505-4209-8EA8-CE189D62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687-9FBD-4798-B554-D4DFD5F9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D86-23A2-4CF9-ADDD-468C8D8F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330-85D0-4A91-9B58-D46F7EA5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8A0-216F-425D-90FE-A8D3011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79D-CB8F-441D-8B0E-5EA1186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64E-0A84-46D3-88A8-3202E9B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B8E-AD50-4926-A7B5-8B54024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0B7-011B-4B92-A8D9-DA4B3D2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D95-0D98-4085-A4C3-C4EF4C8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921-5E55-4BEF-B2F2-D3C1FBD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5D1-CA1C-43E3-B8BE-9F5184D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7F62-F852-492A-8955-C7C73C836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Victor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8560" y="114300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Immortal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Creat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ldren of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you form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glorious and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all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-spoken prophe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t cre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came from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dust shall retur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t the grave shall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up our gla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, alleluia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29Z</dcterms:modified>
  <cp:revision>10</cp:revision>
  <dc:subject/>
  <dc:title>PowerPoint Presentation</dc:title>
</cp:coreProperties>
</file>