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CCE-2543-496F-8613-F244FF0C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C3B-66C4-45C0-B55B-C888662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FF3-21DC-4E3B-9DC8-10604AAC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0EC-4005-40F3-891B-A2C37806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A34-42ED-44B1-A2C9-F05B4848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EE4-ED32-4627-8659-FEE58721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78F-AC3D-4820-A285-2B2DBD6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423-7191-4D72-94B9-A66FADE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D52-6DC1-4693-B115-292701A7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F8F-D6AC-499F-9F5E-48B651B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06F-170C-468B-BD85-9F4D9C8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F48-8E81-40A3-9BD2-BB2167B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A4E5-DE00-4875-9571-DAC1070D7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Loves Exc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loves exce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rth come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ddenly re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m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s le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woul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the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st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nd prais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inish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new cre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and spo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e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ly rest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d from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ou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cas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s bef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in u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e dwel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ies cr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, unb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ou 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t u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alv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ter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ing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reathe, O brea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oubled bre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inhe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fin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o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ent to s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pha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ega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 of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ts beg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ife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8:23Z</dcterms:modified>
  <cp:revision>132</cp:revision>
  <dc:subject/>
  <dc:title>PowerPoint Presentation</dc:title>
</cp:coreProperties>
</file>