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B38-8B2C-42F7-82C8-79096880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0D2-E593-4D46-B588-B6352CFC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DFB-47D9-4C8C-81D1-5B23B9D9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6D8-91C6-4F4D-8E20-B4817BAD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B9F-3D59-4A6C-BEBA-4B0FAD8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509-AEBA-4BCB-93A4-3FD675EC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9EF-6B6C-4CC6-A5E4-61175AE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410-432A-4EB7-9EAA-77D3FC1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479-C45E-42BC-8C27-43FC3C1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A27-40A6-47DD-928F-E69AB7B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C83-A5B5-48B1-A24B-C5A55E5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7E1-CC70-46C1-A7AB-1B1177B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4905-6917-43C1-87B0-A703EF5A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Priceless Tr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priceles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st friend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53; trans. by Catherine Winkworth, 18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y heart hath pa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t well-nigh fa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ing aft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 a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otless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to h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for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ine arms I res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s who would mole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reach me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earth be sh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 be qu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ms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nflict f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heav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s assail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not fail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nce, all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d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enters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ho love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ave peac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mus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priceless treas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14Z</dcterms:modified>
  <cp:revision>59</cp:revision>
  <dc:subject/>
  <dc:title>PowerPoint Presentation</dc:title>
</cp:coreProperties>
</file>