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06E-5E7E-4231-A8C5-0BB27459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85D-0FBC-4F7B-8F5C-904DFD5E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209-BDF1-4BD7-9BDC-F5F46947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B30-3609-4356-A76F-0D21D454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A82-20A9-4B76-80A7-759573A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BFE-5ACE-40D2-9C98-DEADA6C9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857-DE2C-4443-8D3F-6C1432E1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67D-18DE-4862-8C2E-B30B0BF0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663-2F7A-4480-8DC0-7B9AB76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8C9-D8DC-4CAE-AFA6-DAFF114E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282-1DBD-469A-94AD-61B1DE8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AC3-B784-4431-B68F-F4B377E6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7232-A4AC-47CF-88C8-D8C22624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nd Who Mak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Winds That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ind who makes 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nds that b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usts that b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apling 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Thomas H. Troeger, 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9200" y="1676520"/>
            <a:ext cx="484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3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tar py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own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and b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at bla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eds, and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at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ever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under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les that he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a in w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ing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’s deep cave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m your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ead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,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, renew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we’ve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ire who fu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ires that b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s around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ets 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cons mar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efs and shoa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tru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soul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us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 c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st in tongu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fl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and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readth and l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 and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ithi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4:36Z</dcterms:modified>
  <cp:revision>10</cp:revision>
  <dc:subject/>
  <dc:title>PowerPoint Presentation</dc:title>
</cp:coreProperties>
</file>