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CAD9-BC02-465D-A88C-E9F14493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0C7-2175-4859-84D9-F5E5F8B3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F999-FD73-46E5-8BB1-4B97E155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6C23-7FA8-4328-AFDF-06D88AE5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24B7-F0D9-4087-ADCF-9529503A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5838-C2A6-4295-848E-272BB5A1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14CC-9614-4B4B-BDDE-76A0B968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0492-2046-4F1B-BB8B-830555C3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4CC6-6DCD-4391-A3BF-A1F53ADC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87A8-977D-49B2-8A95-7D9BC808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4A37-F284-4B7F-A850-BD05F513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38AF-39EC-46F8-8611-943BF8A4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1DB0-B358-499A-AE2A-99AB2B83B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the Spirit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uide and Guard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the Spirit, Guide and Guard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arl P. Daw, Jr., 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od th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and guardi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nd-sped fl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vering d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unt of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b of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ing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giving all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you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trength and weak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may t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urch exalt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see 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steadfast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not overlook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faul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1337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une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sterious be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divided and diver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the Spirit, Guide and Guard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per th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minds can fath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er th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reeds rehears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u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varied call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full im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oclai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our ministries uni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give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r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voice of prophe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gn of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 of lov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to t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lead your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sh anoin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your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 them f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bold apost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r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our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vereign, shephe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made fle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crucifi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the Spirit, Guide and Guardia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er, heal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ffering serv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iend of sinn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e of prid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t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all pasto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rn and l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hepherd’s c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them cour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mpas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wn through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eed and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Creat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best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th beyond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t’s re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the Spirit, Guide and Guard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8:54Z</dcterms:modified>
  <cp:revision>150</cp:revision>
  <dc:subject/>
  <dc:title>PowerPoint Presentation</dc:title>
</cp:coreProperties>
</file>