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870-7A7E-45A6-8686-AE87563C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ACC-1832-42B7-9EC0-6C9F2960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871-BD06-45D6-9B09-E9038027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36C-9F5E-4C3C-977E-5EE48262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C4C-DDB1-4A2F-A47D-3C8BF7D7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0B2-2B83-4304-9609-ADFBFDAC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3DA-9AD1-47AB-BD22-40609EC6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81E-3BB4-4CCA-B1E3-2E13ECCF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B71-9535-4251-AFF3-93157A5B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387-5068-4136-9B80-C5E0735D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FA2-58DD-41BE-A870-3B65677A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288-A583-4DDF-A792-A0526FB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69FB-ECD4-491E-8A1A-B5C615F87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Our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90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our pray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our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Our Pr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42Z</dcterms:modified>
  <cp:revision>30</cp:revision>
  <dc:subject/>
  <dc:title>PowerPoint Presentation</dc:title>
</cp:coreProperties>
</file>