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D54-C748-425E-AFAC-A574D317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999-A517-4BA9-AE67-E13AE5C5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1B7-2F4B-4B50-A3EC-B671AF6C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585-88E4-4518-881D-AC5ED076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B05-C2F7-4269-9E6A-6518A259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235-0E9E-4A61-9ABD-EFE46062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0CC-70C0-46F2-80C7-CADAA750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2B2-5C83-4BA9-ABDF-C1225A56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07B-F0CD-491C-8740-1DB9116A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01B-2B88-44A2-AE50-88A0306B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258-1115-4F94-B702-1D349521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493-60FE-4D59-9E25-EAC055C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46A8-33A6-442E-ABB2-181124D73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Spirit’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try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6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is is the Spirit’s entry now: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water and the w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cross of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your br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eal both felt and hea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Thomas E. Herbra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47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E. Herbranson, 1972 (Rom. 6:3-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water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ust die each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i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de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ollowers of his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newing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baptismal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hes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cleanse again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8:50Z</dcterms:modified>
  <cp:revision>108</cp:revision>
  <dc:subject/>
  <dc:title>PowerPoint Presentation</dc:title>
</cp:coreProperties>
</file>