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380-61BC-42D5-AA62-7BB565CF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4A5-B72E-4785-96CC-7B1E53B9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07A-7D51-4812-8B17-F27EF063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230D-249A-4FCE-AC98-1D7B2F91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C7D-9705-4ADE-ACD0-4F98D828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60B-B5EC-4FF8-8993-F1A4FF16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704-DC0B-4B6E-86DE-52F41A67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72C-B17C-4EE8-A073-A3F56432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61B-153A-4319-973D-A7CB294A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7C0-1918-4950-894F-E8B82079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96A-3DDE-4F10-99EF-3916EB35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F33-09B1-46BE-8A93-97CDA9B4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BA52-815D-4539-B25A-BE4F7BF18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ke, Awak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Night Is Fl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ake, aw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ight is fl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tchmen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ights are cry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ke, Jerusalem, at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e, Awake, for Night Is Fl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8520" y="152388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hilipp Nicolai, 1599; trans.  by Catherine Winkworth, 1858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Rom. 13: 11-12; Mt. 25:1-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ne pear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shining p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w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hoir immort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dazzling thr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eye hath s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ear hath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tained to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re is ou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e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ymn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dnight h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elcome voi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t the thri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rejoic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forth, ye virg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ight is p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idegro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, aw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amp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ness t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 his marri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st prep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e must g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et him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Zion h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tchmen s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her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oy is spring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wakes, she r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r glo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e, Awake, for Night Is Fly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down all-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ong in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th victorio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Star is ris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Light is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h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blessed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 beloved So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lls we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ou has bi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p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w let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s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ints and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bef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arp and cymba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rest 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e, Awake, for Night Is Fly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0:09Z</dcterms:modified>
  <cp:revision>57</cp:revision>
  <dc:subject/>
  <dc:title>PowerPoint Presentation</dc:title>
</cp:coreProperties>
</file>