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3362-CCF3-457C-8376-723A3B189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1FFB-5914-4656-A8CE-B320C4EB4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AC58-DB29-4D0C-9D06-A0B28AAC9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C47F-1DC9-41DE-A2D4-8B417A3EC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94D5-08E4-4438-A111-9C3E37B79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2793-B864-49A0-B749-7693B0E63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D63A-8573-454C-9E28-9082E96C7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3A7E-74B8-421A-859B-E0D77861F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228C-CB31-4858-A0FB-6394C54FF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FFB7-80E9-4D95-B723-6F1CC8A65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2902-F9CF-416F-9816-E6914AE4D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0476-205E-44DE-B919-46EB8893C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CCD52-318F-42CB-949B-9A6477EDCF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las! and Did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My Savior Ble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5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909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Alas! and di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Savior ble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did my Sovereign die?</a:t>
            </a:r>
            <a:br>
              <a:rPr sz="5000"/>
            </a:b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as! and Did My Savior Blee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42120" y="1600200"/>
            <a:ext cx="7261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Isaac Watts, 1707; refrain by Ralph E. Hudson, 188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God, the might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ker, di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his own creature’s s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906480"/>
            <a:ext cx="9144000" cy="473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the cross, at the cro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 I first saw the l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 burd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my hear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olled away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as! and Did My Savior Blee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t was there by fai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received my s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now I a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ppy all the 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Thus might I hid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blushing fa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le his de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ross appears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as! and Did My Savior Blee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issolve my hear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ankfulne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melt min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yes to tear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906480"/>
            <a:ext cx="9144000" cy="473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the cross, at the cro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 I first saw the l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 burd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my hear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olled away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as! and Did My Savior Blee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t was there by fai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received my s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now I a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ppy all the 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But drops of tea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n ne’er rep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debt of love I ow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as! and Did My Savior Blee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re, Lord, I gi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self awa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’tis all that I can d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906480"/>
            <a:ext cx="9144000" cy="473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the cross, at the cro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 I first saw the l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 burd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my hear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olled away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as! and Did My Savior Blee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uld he devot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sacred hea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sinners such as I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t was there by fai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received my s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now I a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ppy all the 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906480"/>
            <a:ext cx="9144000" cy="473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the cross, at the cro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 I first saw the l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 burd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my hear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olled away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as! and Did My Savior Blee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t was there by fai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received my s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now I a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ppy all the 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Was it for crim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I have do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groaned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pon the tree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as! and Did My Savior Blee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mazing pity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ace unknown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ove beyond degre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906480"/>
            <a:ext cx="9144000" cy="473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the cross, at the cro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 I first saw the l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 burd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my hear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olled away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as! and Did My Savior Blee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t was there by fai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received my s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now I a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ppy all the 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Well might the su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darkness hid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hut its glories in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as! and Did My Savior Blee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20:31:59Z</dcterms:modified>
  <cp:revision>8</cp:revision>
  <dc:subject/>
  <dc:title>PowerPoint Presentation</dc:title>
</cp:coreProperties>
</file>