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61D-A71A-470F-AE98-B863E274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B72-7D1B-453A-8673-106C255A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06B-D46F-4C0B-9182-45158DE5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968-E9D3-4008-9AD5-486DBA57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DF2-C40C-4B7C-9B79-961D5BBF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8D6-4DB1-44CF-87C8-B0E77688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E5D-C07C-4F15-ACEB-B7B25A30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C88-6E0F-4B16-A0E2-34B4D979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E02-6186-4E50-B9B7-432CD79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C07-1461-4492-BE1D-64F265C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78C-6D09-4105-9F42-2B98BFF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80A-54BF-45AD-8B08-2D06FC27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F2B-C185-481F-A948-EA21C825D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With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eart a Mel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uther B. Bridgers, 19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’s with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a mel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is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and 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east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ches of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neath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ltering w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look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miling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s why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oon he’s coming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elcom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ry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ligh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s un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, b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f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 and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 was wrec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cord fille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wept a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oken st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ed the slumb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gh some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lead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s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als fall across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some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h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gh and st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footpr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6:42Z</dcterms:modified>
  <cp:revision>124</cp:revision>
  <dc:subject/>
  <dc:title>PowerPoint Presentation</dc:title>
</cp:coreProperties>
</file>