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7A5-9E64-4FD8-A162-BF6707EBC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69DB-70AB-4117-AEE0-1A7AAA0E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87F5-00B5-4CE7-8700-90D65BF0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F151-CE67-4FAB-A4B7-8628F872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928A-E5FA-46B1-9924-2DAC5D0A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CF81-9DF2-46ED-AE2B-A555DFBD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D3EB-FBA8-45EC-9D9A-F0D332AA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953F-B593-439C-84AA-3E393049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E6DE-3E0C-4C9E-BAE5-A9942C8F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3926-CC8C-4283-BC53-A808108D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00C7-F2B4-4775-BB0D-4208747D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45F5-84DE-4459-B55E-E279CC1D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A524-A3CC-4B0A-B797-03082F74D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risto Vive</a:t>
            </a:r>
            <a:br>
              <a:rPr sz="36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Christ is Ris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sto Viv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447920"/>
            <a:ext cx="908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Nicolás Martinez, 1960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Fred Kaan, 1972 (1 Cor. 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¡Cristo vive, fuera el llant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s lamentos y el pesa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 la muerte ni el sepulcr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 han podido sujet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2 Metho Press, Ltd.; trans. © 1974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hrist is ris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it 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goes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f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d never ris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d have no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lie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his prom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be truste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You will 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I liv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sha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of Ad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live a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has l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sting and terr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Death has l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old domin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 and shou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 firstb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s us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ads us ou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tha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, who cau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to spring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gr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s ris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s g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eterna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pro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busqu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tre los muert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 que siempre ha de viv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Cristo vive! estas nuev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 doquier dejad oí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Que si Cristo no vivie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ana fuera nuestra 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s se cumple su promesa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‘Porque vivo, vivi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is.’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sto Viv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 en A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n entró la muer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 Jesús la vida entró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temá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l triunfo es vuestro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El Señor resucitó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i, es verdad q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 la muer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l pecado es aguij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temáis pues Jesucris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s da vida y salvaci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sto Viv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ias de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Dios Pad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nos da segurid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quien c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Jesucris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ve por la eterni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hrist is ris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s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y your t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unafrai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and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ld not hol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the tomb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which he l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not loo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ong the dea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who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10:38Z</dcterms:modified>
  <cp:revision>71</cp:revision>
  <dc:subject/>
  <dc:title>PowerPoint Presentation</dc:title>
</cp:coreProperties>
</file>