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C1E-9047-4A79-8707-DF94E202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864-56D6-4AFA-8950-E50E2198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A1D-74F5-45BA-975F-C1ED1387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E9B-846A-43DC-A168-B74ACF31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67F-0078-48A5-B0F4-F50A160B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496-51E0-42D0-AF9B-83CF1C83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2A3-A361-4E8D-8A92-FFF1CBB8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F56-58DC-4AB7-A5C2-863234B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B9C-E834-41C6-BBCC-ABE1A9F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AF7-D64A-429B-9C42-FF19D00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E89-20BA-437B-8619-12BDFDDC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87-7D4B-4466-9229-048F35D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9CDE-ECC4-40C0-B80B-E10370A6A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00240" y="1143000"/>
            <a:ext cx="314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Trad. (Lk. 23:4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17Z</dcterms:modified>
  <cp:revision>34</cp:revision>
  <dc:subject/>
  <dc:title>PowerPoint Presentation</dc:title>
</cp:coreProperties>
</file>