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9A3-071A-4355-B888-85639993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349-EB14-4880-B33A-984293F8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490-AF9B-4FBF-936A-79A9FF6F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5C5-660B-4CC2-B9BC-7BDF848A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0AB-FA64-4828-B9C6-2DE228F8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9A5-BAFF-44BE-8836-BB82BA62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C0F2-83BD-45F9-B454-BB70173D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0AA-4E13-46A9-8B24-19631774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4E8-796F-4D7D-9613-B7BA4B9C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EA2-E44F-4A14-9F7D-6AA88DCB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8D4-B3DF-4966-830B-14CBFADC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B05-C20C-4DFF-A504-D0314FBA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F35E-D68D-40F3-807B-C5EC9A264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ther the Word B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ached or Read</a:t>
            </a:r>
            <a:br>
              <a:rPr sz="4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harles Wesley, 1783 (2 Cor. 3:5-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574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Whether the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be preached or 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no saving benefit I g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from empty sou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or letters d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unprofitable all and v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less by fa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word I h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ee i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ly charac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Unmixed with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the Scripture g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no comfort, life, or light to s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ut me in dark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darkness lea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mplunged in deeper miser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verwhelmed with nature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rest ill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pirit sav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letter kil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820800"/>
            <a:ext cx="883944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God enlight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hrough his W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 shall my ki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Enlightener bles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ut void and nak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of my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hat are all verbal promis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hing to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ill faith divi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spire, inspea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and make them m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 Jesus,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ppropriating gr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’tis thine on sinners to bestow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pen my ey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o see thy f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pen my heart thyself to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n I throu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Word obt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re prese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eternal 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5:45Z</dcterms:modified>
  <cp:revision>12</cp:revision>
  <dc:subject/>
  <dc:title>PowerPoint Presentation</dc:title>
</cp:coreProperties>
</file>