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FA5-4FB8-42A5-932B-D9E62902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54E2-BA25-4CB4-BB89-DEFD8C5C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BE35-DD0A-4C2B-806E-96AE3566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86C6-EE89-4069-829F-33B0FB9D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4CFD-2A17-4283-8F74-3594E752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2A6B-5C8F-44D9-A1CC-0CDA4263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608F-40D6-4168-9BFE-A6567A33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3356-FA3C-43FE-B009-B262692C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9F8C-1F09-41FE-B3E5-54C93876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910B-8A8E-4357-B1C6-0D9EC2DE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F516-2A2D-4CC0-B05E-CE9EA830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607-9604-4D2E-B84D-3C9E95F6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113A-FD4B-4125-8DFD-97E1596E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5E55-2A21-448B-B55B-AD2FA752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B4A2-6671-472F-8461-3F30B673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C0B8-B81F-473A-87BB-6659434D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E5FF-77BA-4D18-9637-93630DF4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E66-CA47-4178-9CBD-3DF79F23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AB34-226B-4C4F-B42C-4912A424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97D-FAF6-4DDE-9FDD-B8A6C433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4CE2-A2EC-4D60-9EB8-21601826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5AD5-D238-4651-9425-220B1842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AA46-0061-4BFB-BD2D-49733E83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3A7C-E8AF-494C-B7FB-FD898707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C536-C6C3-44C4-AAA9-D40FA5D97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4018-F954-4404-9223-C3D2E707A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Need Thee Every H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765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I need thee every hou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ost gracious Lord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 tender voice like thin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an peace affo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838080"/>
            <a:ext cx="5002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nnie S. Hawks, 1872 (Jn. 15: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68120"/>
            <a:ext cx="9144000" cy="547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Need Thee Every H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need thee every hou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gracious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tender voice like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peace aff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990720"/>
            <a:ext cx="5002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nnie S. Hawks, 1872 (Jn. 15: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06480"/>
            <a:ext cx="9144000" cy="46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need thee every hou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y thou nearb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mptations l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ou art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06480"/>
            <a:ext cx="9144000" cy="46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need thee every hou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oy or p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quickly and ab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life is v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06480"/>
            <a:ext cx="9144000" cy="46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 need thee every hou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hy w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rich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e fulf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906480"/>
            <a:ext cx="9144000" cy="46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I need thee every hou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Holy 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ke me thine ind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blessed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20760"/>
            <a:ext cx="9144000" cy="547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906480"/>
            <a:ext cx="9144000" cy="46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Need Thee Every H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432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I need thee every hou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ost gracious Lord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 tender voice like thin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an peace affor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838080"/>
            <a:ext cx="5002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nnie S. Hawks, 1872 (Jn. 15: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144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89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need thee every hou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y thou nearb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mptations l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ou art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25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need thee every hou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oy or p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quickly and ab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life is v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52280"/>
            <a:ext cx="9144000" cy="431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 need thee every hou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hy w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rich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e fulf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25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I need thee every hou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Holy 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ke me thine ind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blessed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2056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I need thee every hour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tay thou nearby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emptations los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ir pow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en thou art nigh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52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4440"/>
            <a:ext cx="9144000" cy="547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0382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I need thee every hou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joy or pain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ome quickly and abid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r life is vain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549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05084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. I need thee every hour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each me thy will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thy rich promis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me fulfil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44440"/>
            <a:ext cx="9144000" cy="547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5084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. I need thee every hou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ost Holy On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make me thine indee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ou blessed S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7-31T14:13:55Z</dcterms:modified>
  <cp:revision>23</cp:revision>
  <dc:subject/>
  <dc:title>PowerPoint Presentation</dc:title>
</cp:coreProperties>
</file>