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A42-CD68-408D-AD37-B4C5D712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9DC-393D-46F1-B9BB-EF9229E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A1D-37C0-4DC3-AB8D-4D06A65D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333-548A-45BB-8585-16EF146D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9B6-860C-4592-860F-9614ABA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8FE-F259-49FB-967C-EF6698BF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3FB-AA13-40B3-B9F7-92BA0F21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360-1481-402B-BFE2-2D0DD55C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EFC-998D-4A56-9286-D746DD42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97E-179D-41FA-B6E8-54A6F9B7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286-F757-428D-A644-B887F7F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FB2-ACF1-4C97-AFB6-7FFFF3A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CD6-E91E-47AD-A304-5A32814C7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venant Faithfulnes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Quaerite Domin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35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ce, Lord, do I seek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not your face fro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ovenant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2080" y="2233440"/>
            <a:ext cx="59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iah 55:6-11; adapt.; Response, Isaiah 55:6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05120"/>
            <a:ext cx="86104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it shall accompl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which I inte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prosper in the 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which I send it.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29528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now is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ll upon the Lor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nea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sake their 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unrigh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ir thought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return, that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have mercy on the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our God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bundantly pard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y thoughts ar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though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either are your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y ways, says the Lord.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0666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as the heaven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er than the earth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are my ways hig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n your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and my though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n your though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335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s the rain and the s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down 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turn not b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at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ing it b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th and sprou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ing seed to the s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d to the eat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shall my word be that go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th from my mou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t shall not retu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me emp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40Z</dcterms:modified>
  <cp:revision>30</cp:revision>
  <dc:subject/>
  <dc:title>PowerPoint Presentation</dc:title>
</cp:coreProperties>
</file>