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478-223E-4ED9-ADF0-AFE5383F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39C-C661-457A-B2C7-5A08C3A5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1F5-BDFB-490B-8168-188D2F1B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552-8764-4643-A00C-F55B14FF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B35-4F3A-4591-8AD1-B90458AA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126-634B-4389-8D48-7FC00276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2E9-802A-4C69-8A62-D14E0070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FDB-188F-4A80-A49A-79FB254C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DF3-BAF4-4A43-A3C5-FA66F8EE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948-E2EA-4157-9E74-73D5CD6C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FA0-7495-4119-AFE5-BD4EF5E2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AA6-5BEE-4C08-AC0C-49D63242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73D2-D489-4673-98E9-94EAAF4C4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to the Holy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reat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se breath gives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wor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hose voice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rd in the soft breez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to the Holy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2880" y="990720"/>
            <a:ext cx="340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Trad. Native American pr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need your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sdom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use us to walk in beaut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us eyes ever to beh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red and purple suns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us wise so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may underst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at you have taught u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us learn the les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hidd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every leaf and r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us always rea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come to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clean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teady ey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hen life fad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ike the fading sunse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pirits may 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you without sh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5:00Z</dcterms:modified>
  <cp:revision>22</cp:revision>
  <dc:subject/>
  <dc:title>PowerPoint Presentation</dc:title>
</cp:coreProperties>
</file>