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226-B027-4F32-80AE-EB411FF5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5EF-6361-4781-A683-73FF71A7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CDD-87DB-43EC-8821-06D7D8B7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EAE-4B1B-4355-BEC6-E400A463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154C-E916-412F-8CE3-AEE88D8C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3393-C885-4F85-BFFE-9A2EE27D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E59A-8244-47E7-9500-7BA012A9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4C6A-FE8E-4B66-A439-D0E5CB8E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5497-4D14-4311-A71D-E6654EDD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3AF6-18B9-4F17-B391-992E312F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0557-1CC7-4FD8-B2BB-150FF4DB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139-A323-479B-9B4B-59FC39B0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B4A9-A325-4A0C-BF27-6617AD92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9D41-8741-4AC5-9E27-F8C22586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EE2B-66A3-4172-963C-65C0E7F8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D1B2-AEBC-42D3-A66B-DDE18DEC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59DC-4E3F-4D06-B801-94C3A8FE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B79-F512-4A37-BC91-E070DD51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9A0-49B3-4689-A7CD-CEC1E014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569-6098-47E7-A551-9064D54D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9A8-1097-4AF6-87DE-9F9F68BB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B29-246A-45B8-A3CE-E9291AF2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0DA-1E55-4FD3-A558-7AE848E9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8BE-EC7A-49E5-835F-7EDA7B40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F08E-EFEA-4A54-8DB2-F49D575CA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70B5-62D5-4E83-AAA8-D187E3CA5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ing a Song of the Saints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si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ai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 and brave and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0600" y="121932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esbia Scott, 19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i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joyous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lo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Jesus’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n meet them in scho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street, in the st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urch, by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use next do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are sai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ther rich or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mea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ing a Song of the Saints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si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ai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 and brave and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80600" y="121932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esbia Scott, 19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oiled and f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d and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d and k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doc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qu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shepherd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gr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ere all of them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, and I me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el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y loved thei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ear, so d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st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followed the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esus’ s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of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lives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soldi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pri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sl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 fierce wild be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oiled and f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d and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d and k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’s not any r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, not the l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I shouldn’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y lived not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ges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hundr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ousand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i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joyous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lo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Jesus’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n meet them in scho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street, in the st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urch, by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use next do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are sai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ther rich or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mea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doc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qu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shepherd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gr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ere all of them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, and I me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el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y loved thei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ear, so d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st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followed the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esus’ s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of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lives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soldi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pri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sl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 fierce wild be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’s not any r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, not the l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I shouldn’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y lived not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ges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hundr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ousand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6-07T14:29:52Z</dcterms:modified>
  <cp:revision>56</cp:revision>
  <dc:subject/>
  <dc:title>PowerPoint Presentation</dc:title>
</cp:coreProperties>
</file>