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80D-8D98-4B3E-BA20-AC9C1E10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8C9F-3E62-4F56-81F0-DD35449C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4CB-3FE8-4FED-BCE8-4EBD1805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482D-0328-4C4C-A8D8-A9FCBC78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FE99-B4B2-485D-BBC1-0E68748A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1EB3-A457-4749-8427-13E88186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0B1E-0E50-4E5E-9127-90D3211E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C0AC-FDA8-423C-8BF2-2CEDD822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A058-2381-4562-A78B-6E3E5B54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DEDF-6D79-4D66-B17B-65226762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139D-FD91-4C18-B406-E2B6DBED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F139-0AD6-4BD3-916F-C76B5608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D116-9568-4695-92B2-EBBC0226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07AF-BBC7-47EA-B48B-376D55ED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3323-AF62-48A1-825E-59B095D5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2A9B-8E5D-4CBB-952E-4C81F6B7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AE61-FB7A-4B23-8629-BAE236C8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B10-B1D1-4F7D-8394-BD6E104F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2FC0-A9DE-4637-9C26-0CC5C429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682B-A78E-4BBF-B128-85B99B92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F5C-D34A-4951-BD2B-2A21CB8F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68A6-733F-40AC-8DEC-93EAC7DC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541-0E89-4F82-9197-5C410095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1B0F-FDA2-455E-8E94-04FD2887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4660-72F6-4D30-86D4-66C81C821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A769-BD0D-4EAB-AEA0-56F5E6F31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’s a Song in the 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re’s a song in the ai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’s a star in the sk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’s a moth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 pr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baby’s low c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20880" y="109224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siah G. Holland, 18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049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 star rains i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ire while the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autiful 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manger of Bethlehe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radles a King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re’s a tumult of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he wonderful bi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virgi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b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he Lord of th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6504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y! the star rains i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ire while the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autiful 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manger of Bethlehe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radles a King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the light of that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 the ages impearl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t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swept over the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earth is af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eautiful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home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tion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rejoice in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echo the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omes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heavenly th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y! we shout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vangel they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gr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cradl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 and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’s a Song in the 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432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There’s a song in the ai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a star in the sky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a mother’s deep pray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a baby’s low cr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20880" y="83808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siah G. Holland, 18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049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 star rains i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ire while the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autiful 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manger of Bethlehe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radles a King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re’s a tumult of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he wonderful bi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virgi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b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he Lord of th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tar rains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e while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m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adles a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6504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y! the star rains i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ire while the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autiful 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manger of Bethlehe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radles a King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the light of that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 the ages impearl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t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swept over the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earth is af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eautiful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home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tion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rejoice in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echo the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omes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heavenly th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y! we shout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vangel they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gr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cradl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 and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re’s a tumult of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he wonderful bi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virgi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b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he Lord of th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y! the star rains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e while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m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adles a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the light of that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 the ages impearl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t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swept over the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earth is af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eautiful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home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tion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rejoice in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echo the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omes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heavenly th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y! we shout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vangel they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gr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cradl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 and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’s a Song in the 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32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There’s a song in the ai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a star in the sky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a mother’s deep pray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a baby’s low cr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20880" y="83808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siah G. Holland, 18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2-02T00:34:31Z</dcterms:modified>
  <cp:revision>8</cp:revision>
  <dc:subject/>
  <dc:title>PowerPoint Presentation</dc:title>
</cp:coreProperties>
</file>