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0BA-DB3F-4BD1-BC60-1D875FBF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391-D013-4A2E-97E4-7969AED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0D1-62AE-4751-A253-E1C4B3D7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2B8-A4C2-401F-A8B4-795DEE46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EF2-E77D-46AF-BE80-3E2C5DA8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A60-6447-4B40-A8D3-73A0342F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4D7-CEA0-49B3-AD07-E4A199BD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DE2-4DDC-4C20-A4CD-40613C2D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A4A-DA2C-4838-BF30-7889947F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49D-2B0A-4614-A4E5-AC4A54C0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70D-3109-4F2D-8ACD-85B4B293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7B4-C62D-4AFB-9F2F-DE1C7E8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57B8-F655-44D1-AC7F-937FA293D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Chari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Love Prev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ere charity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prevai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re God is ever found;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1 World Library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9th cent. Latin; trans. by Omer Westendorf, 1961 (1 Jn. 4: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her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are we thus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th gratefu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charity we lea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ith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ind 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love Christ in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give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faul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our faults conf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ian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strife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ontention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hrist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s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s his ho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et us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s God’s begotten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emb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ody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in him mad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ove can exclu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ace or cr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honored be God’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race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Maker i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6:58Z</dcterms:modified>
  <cp:revision>20</cp:revision>
  <dc:subject/>
  <dc:title>PowerPoint Presentation</dc:title>
</cp:coreProperties>
</file>