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1A3-FD51-434A-A550-156061F7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8B3-7DBD-4076-ADA7-DE3E3DB3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88C-D631-48A6-81A9-9DA9E6A8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4B4-5CC2-4A1D-B0AF-22630A1C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E63-86A9-4EE2-A2CC-8D42A627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0D8-3180-4741-90AF-C253E9F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18C-4275-43C2-A407-727ED78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E21-FFD6-41C4-AF3F-91D680C9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52F-56F7-45D0-B990-2D978E8D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1C9-85AF-489D-9AE9-D6397D9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2C6-CD81-4A24-856F-6096945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FDB-19CF-471D-B7CB-770EBFA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9666-81AB-4A2C-B45D-0ED1D0AE5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Hath Spok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y the Proph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hath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k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3, renewed 1981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7440" y="1676520"/>
            <a:ext cx="45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eorge W. Briggs, 1952, a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ge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exp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mess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s th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f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ure faith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f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bides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uncha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rom ag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 proclai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the world’s desp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rm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irm anch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eth fa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hath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ness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’s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ken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time was bo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rth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a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an fo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yet speak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eth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8:42Z</dcterms:modified>
  <cp:revision>24</cp:revision>
  <dc:subject/>
  <dc:title>PowerPoint Presentation</dc:title>
</cp:coreProperties>
</file>