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D17D-D088-4D05-AD06-FA112D9D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150-3775-4385-8C25-0E261ED0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A00-2F0A-4373-BD6D-79F6D1F2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5AA2-18DD-4F59-8C23-ACA3CD6A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8BAB-ADFA-406F-B79D-0228F325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B689-6728-4057-9985-84BA757B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4DC-466A-43DA-9765-5E3123D9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33F1-F5A8-4555-831D-D1F03EB9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BB4-A6ED-400B-8FE9-76EB4DFF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5489-5AEE-4B56-9D86-75DCA736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E54-099A-4ADA-AABB-E9286083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B93-059B-42B8-AB3B-3772BAA9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B28E-4126-4784-91AF-3789E3BFC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e Bread Whic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 Have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868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For the bread whic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have broke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the wine whic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have poure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tic transcription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ouis F. Benson, 1924; phonetic transcription from the Taiwanese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-to Loh, 1988 (Mt. 26:26-29; Mk. 14:22-25; Lk. 22:15-20; 1 Cor. 11:23-2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Ūi Lí só kóng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oáh-miā ê oē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Chú goán kám-siā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sim lâi gî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you have sp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give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ks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y this pled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 do lo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gi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ace restor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aven abo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 all our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ith our sain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s in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ted a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boa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e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waited for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love’s t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broken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In your servic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 defend 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our heart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keep watch and wa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world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have sen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your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1. M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í-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pau Ch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ú Lí</a:t>
            </a:r>
            <a:br>
              <a:rPr sz="4900"/>
            </a:b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i goán lâi peh,</a:t>
            </a:r>
            <a:br>
              <a:rPr sz="4900"/>
            </a:br>
            <a:r>
              <a:rPr b="1" i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Phû-tô-chiú</a:t>
            </a:r>
            <a:br>
              <a:rPr sz="4900"/>
            </a:b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i goán lâi thî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aiwanese Phonetic Transcripti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30:25Z</dcterms:modified>
  <cp:revision>118</cp:revision>
  <dc:subject/>
  <dc:title>PowerPoint Presentation</dc:title>
</cp:coreProperties>
</file>