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01E-5C0A-4793-8036-716D955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642-0B61-4FF9-B823-93924BA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716-B6E0-459F-8520-E920123B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CC7-77FC-48D4-B72C-77E829E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493-9F22-45E8-9353-06134FA6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CA4-55AA-47A6-BDA1-3C1E0D72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D83-3B68-4C40-962C-08A3728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355-7B19-488B-BB64-B6DADBE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000-4C71-481D-84AE-AA77406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137-96E5-495F-BB8B-F7851A0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271-1F13-4325-8013-469177A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8BC-A8E2-46EB-B82D-0D24B4F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490-5452-4BA7-9943-2179D88D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Name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0120" y="109224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M. Noel, 1870 (Phil. 2:5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e Fath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call him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umbled for a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lips of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whom he c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he bor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tless to the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it back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a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ore it up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huma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r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central he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hrone of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’s br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it wit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perfec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let him subd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emptation’s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s will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light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48Z</dcterms:modified>
  <cp:revision>31</cp:revision>
  <dc:subject/>
  <dc:title>PowerPoint Presentation</dc:title>
</cp:coreProperties>
</file>