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46C-C265-48AC-A75B-FA1EA92C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32A-05F2-4924-82D1-3238231B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B11-7BB7-4A9A-81A5-6F6F387D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1F0-9AB8-4B10-AC27-DCE7F6DD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EF1-D00A-491F-A8CE-B4380A1D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C48-F214-4EF6-B9E1-9E60248B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908-D6F1-48CF-817D-FA7B8DFA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264-C74F-4C99-831F-B1F07FA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037-8688-48E6-95E1-7569CD80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7E3-B556-4971-92B6-0CAE815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D88-4B36-4D38-B910-FF2C4B6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C3D-1738-4CE7-AA2A-F2F8FB8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A6EA-4F99-4357-92B8-D36CC9F9A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8077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On Jordan’s Stormy Banks I Stand</a:t>
            </a:r>
            <a:endParaRPr b="1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077320" y="304920"/>
            <a:ext cx="10666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 Jordan’s sto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ks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st a wishful e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naan’s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pp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y possessions li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973600" y="11430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Stennett, 178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 shall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ppy pl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be forever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osom res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8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’er all those w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tended pl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one eternal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God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catters night aw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chilling w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poisonous breath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ch that healthful sh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ckness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elt and feared no mo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28:08Z</dcterms:modified>
  <cp:revision>55</cp:revision>
  <dc:subject/>
  <dc:title>PowerPoint Presentation</dc:title>
</cp:coreProperties>
</file>