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FDDD-008D-4AAF-BF46-07628DAF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AB2D-B55A-49F6-B6A5-138A8180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C397-043F-4D40-BEF5-F2CFB070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4CC2-007B-445B-8CAF-6AFF2959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4A2F-D1FD-40F5-BDA3-8D3EF670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A76F-D3F5-44F1-AEA2-ECFB4242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52B4-D718-4DCA-86E4-1BD74A3C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F41-FFBA-4776-A32D-7EA5284D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8D2C-9924-4222-9EAD-D0C9D0CD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6075-9C71-4E99-BC4D-73190308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A8B-F909-453B-A9C9-14D93EEF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4B88-9370-4C5D-A454-5B4AABBD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89E4-B638-4431-AD39-089076A3C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Who Love an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rve Your 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Who Love and Serve Your C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Erik Routley, 1966 (Lk. 19:41; Ezk. 48:3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who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erve your c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who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s daily str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69 by Galliard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Judge, our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its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The Lord is ther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cry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peace and just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cur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who bles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Who Love and Serve Your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n your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loss and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your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helpless strif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nor,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retrea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is your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Who Love and Serve Your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n your day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alth and plen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ted wo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asted pl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 to min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Work ye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it is day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Who Love and Serve Your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For all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days of judg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waiting sti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rawing near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who spur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fering peace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lvary’s h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Who Love and Serve Your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Risen Lord,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t the c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the c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despair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11:47Z</dcterms:modified>
  <cp:revision>143</cp:revision>
  <dc:subject/>
  <dc:title>PowerPoint Presentation</dc:title>
</cp:coreProperties>
</file>