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519-5C02-4057-B4EB-F248064E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D96-6CF5-45CD-B55F-43164416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E42-3D6E-4ADC-99DD-84EAF252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A83-007E-428C-A330-628E3486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D69-E6C0-4F4D-9B1A-DC7319C7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FD3-9A73-4597-9691-A175106D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1B5-7682-495B-8272-7B70AE55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891-4613-4610-A060-0CDE0575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041-00CB-4497-BAB1-F6A062C7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546-7001-4938-AFD8-2A83B3D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5EF-7B6F-4FA9-B59B-1A0D11D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3EC-6E21-4B5C-8613-32348F6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A316-5012-4940-88F9-7A1A888D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the Poor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uando El Po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A. Olivar and Miguel Manzano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orge Lockwood  (Mt. 25:31-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the poor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ve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with strang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thirs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give unto us a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7000" y="1295280"/>
            <a:ext cx="7506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1040" y="2133720"/>
            <a:ext cx="558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04280" y="2576520"/>
            <a:ext cx="653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hermano 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6520" y="2576520"/>
            <a:ext cx="705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nque el odio 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13372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69240" y="2576520"/>
            <a:ext cx="6005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95280"/>
            <a:ext cx="86104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810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9200" y="2576520"/>
            <a:ext cx="6467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371600"/>
            <a:ext cx="86104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89154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0960" y="1295280"/>
            <a:ext cx="6487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65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8915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4880" y="1676520"/>
            <a:ext cx="7119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2640" y="2576520"/>
            <a:ext cx="667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5:59Z</dcterms:modified>
  <cp:revision>144</cp:revision>
  <dc:subject/>
  <dc:title>PowerPoint Presentation</dc:title>
</cp:coreProperties>
</file>