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EE69-05B9-4FE6-A4D1-3F87CD4B6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782F-7656-4CF2-AFAC-D268E2DC9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05A3-D47D-48D4-B917-970CF2AC8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6B70-C1B3-4B9A-9D2D-8017BD7B1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EC9F-246D-440F-B78B-E1BC09BDF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E936-1D0C-4258-BD86-CC2706BDE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5C51-D44F-47C1-8427-AAAA431A4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4C6A-E40B-4C6B-9D1C-4D1E10F0F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D84B-AB84-4B48-A460-D0D7DFAD0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C811-5B2D-44E0-9485-A1E2603A0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46A4-77A9-4552-8FEF-DEDDBA58F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F799-2495-45FA-9EE5-154D52733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7983D-3A58-411B-B556-B3D4D6447D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808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I Want to Be Read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72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676520"/>
            <a:ext cx="9144000" cy="4652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want to be read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want to be read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want to be read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walk in Jerusale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ust like Joh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Want to Be Read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050200" y="1295280"/>
            <a:ext cx="504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African American spiritual (Rev. 21:2, 1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173240"/>
            <a:ext cx="9144000" cy="4652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want to be read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want to be read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want to be read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walk in Jerusale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ust like Joh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Want to Be Read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914400"/>
            <a:ext cx="9144000" cy="470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Lea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O John, O Joh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at did you say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lk in Jerusale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ust like John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Want to Be Read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914400"/>
            <a:ext cx="9144000" cy="5219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Leader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you’d be the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judgment 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All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lk in Jerusale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ust like John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838080"/>
            <a:ext cx="9144000" cy="4652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want to be read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want to be read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want to be read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walk in Jerusale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ust like Joh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Want to Be Read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066680"/>
            <a:ext cx="9144000" cy="470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Lea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John said the cit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s just foursqua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lk in Jerusale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ust like John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Want to Be Read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914400"/>
            <a:ext cx="9144000" cy="498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Leader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e delcar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’d meet me the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All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lk in Jerusale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ust like John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173240"/>
            <a:ext cx="9144000" cy="4652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want to be read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want to be read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want to be read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walk in Jerusale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ust like Joh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Want to Be Read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685800"/>
            <a:ext cx="9144000" cy="5401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Lea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Now sinners, mi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w you step on the cros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All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lk in Jerusale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ust like John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Want to Be Read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914400"/>
            <a:ext cx="9144000" cy="490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Leader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foot might slip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your soul get los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All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lk in Jerusale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ust like John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6T21:11:59Z</dcterms:modified>
  <cp:revision>58</cp:revision>
  <dc:subject/>
  <dc:title>PowerPoint Presentation</dc:title>
</cp:coreProperties>
</file>