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7C0-B859-44BF-9FDC-918AAD45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2ED-AD66-4250-BAC5-DC8A470C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2E5-3EE9-4CFF-B4A9-6349868E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837-0659-431F-9DA6-B76897C0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BA55-1864-4C8B-9977-5E5863F4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1B76-6D8C-4CF2-AD75-AA633FE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1C0E-2362-4CDF-B65B-1C5764A2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FC5D-810C-4BAC-A079-A933EA5D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7E85-D7E1-4965-81A2-DD285BF3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1B9B-AE36-4D17-B0AF-F3289312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9863-2580-4DCF-8F38-63CBB358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BB1-1158-4D49-8C7C-B0971590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9480-E72F-459E-B322-289C0D3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6B7A-B42D-4C28-BCDA-4BF99A91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943B-581F-440B-A5FC-68B6B18E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3514-6E31-45C7-8796-1EFDE63C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60FB-4934-49A1-BE89-DB70AF7A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9F3-B23C-4904-9C88-C22DF9A4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661-14EA-4F91-B9AE-7FA581AD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195-6F4B-45BA-8EE7-16D9733C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432-ECAD-417B-ADB3-59D9D31A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5E5-B9AD-4DE7-980C-3A09DD4B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44A-9FF8-48EF-AC02-23CCDDD5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CAB-FD4C-41BD-80E6-AAEAD08F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CAEF-4E7B-4E58-AAC2-D1E1588CE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9927-4032-4482-A9DA-95B9EAB82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First Noe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first No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 did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o cer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ields as they lay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589400" y="1066680"/>
            <a:ext cx="598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English carol (Luke 2:8-14; Mt. 2:1-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is star drew n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northw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took its rest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it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stop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over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lay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n enter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ise Men th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reveren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kne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fered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gold and myrr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ankincens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228600"/>
            <a:ext cx="480060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1. The first Noel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e angel did sa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as to certai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poor shepherd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n fields as they lay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52280"/>
            <a:ext cx="48769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n fields where the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lay keeping their sheep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on a cold winter’s night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as so deep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320" y="228600"/>
            <a:ext cx="4876560" cy="33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60948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2. They looked up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saw a star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shining in the eas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eyond them far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ields whe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 keeping their sh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cold winter’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 so deep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68580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the earth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t gave great ligh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it continue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oth day and night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228600"/>
            <a:ext cx="480060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3. And by the light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of that same star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ree Wise Men came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from country far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52280"/>
            <a:ext cx="48769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o seek for a king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as their inten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follow the star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herever it went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60948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4. This star drew nigh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northwes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Bethlehem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t took its rest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68580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it di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oth stop and stay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right over the place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Jesus lay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609480"/>
            <a:ext cx="495288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5. Then entered i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ise Men three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full reverentl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e knee,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68580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fered there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presence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gold and myrrh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frankincense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looked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w a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in the 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m far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gave great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 it continu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day and nigh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by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at same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e Wise Men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country far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k for a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heir int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follow the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it wen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18-12-19T03:04:11Z</dcterms:modified>
  <cp:revision>10</cp:revision>
  <dc:subject/>
  <dc:title>PowerPoint Presentation</dc:title>
</cp:coreProperties>
</file>