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CFC-B450-4923-A977-FCEF830B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56F-3120-45EA-B4F8-322F7FB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DDF-8754-416F-AE4F-9EB6F1EF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BF6-AFEE-482C-ADA7-DD6257DB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B0C7-AE1C-4E4D-92AD-F2F6B628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378C-FC23-4C48-AB63-97CB082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608-2BF0-4DFC-8575-CADC9476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1D2D-5125-412C-B7AC-99BDB1F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6CE9-126A-4EF5-96A9-82E35FA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DC80-5C8D-4742-A73E-E12C938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E0C7-990C-4B22-8ABE-B9D561D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3C9-BCBC-4DE1-A7D3-27D9B66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4AA-E4FF-433C-86D1-4833AE0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D07D-C1F0-4FDA-80D1-53F3E26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B952-B862-4CE6-B898-ECB97247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1A5E-77F0-4B12-91DB-D256FE2F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B872-104E-49B5-B4E2-6B3664FF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E72-425D-4EFC-AC0A-B4489C8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84B-3107-4B1D-8E57-2AF73FD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748-4245-4259-BF20-9757009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B16-4072-44CC-8EEE-95985A6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88E-023A-4036-B873-110073F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3EE-34D9-4D50-9719-F717B12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C50-8283-4A51-902E-3A0F386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F982-B9A1-4696-B160-A51E61FE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12A-F25D-4D8E-A9E2-694C8DE26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8680" y="106668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is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t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b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prost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8680" y="76212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ake the name of Jesus e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a shield from every snare;            if temptations round you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the precious name of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it thrills our souls with joy, when his loving arms recei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t the name of Jesus b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ing prostrate at his feet,        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1932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sn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empt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u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t thr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with j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25T02:43:41Z</dcterms:modified>
  <cp:revision>11</cp:revision>
  <dc:subject/>
  <dc:title>PowerPoint Presentation</dc:title>
</cp:coreProperties>
</file>