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D9D-AE11-4F00-B74C-D7C0CAFF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B5C-0161-4899-8FC6-1CE8CF1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AF-1B21-4E3C-94AA-53C01DA8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EAE-E080-4178-8EAB-8CFA415E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1EE-B0DB-467F-BF14-6E865DB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0E4-8F76-49D0-9469-EF0D568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7D5-EE95-4D8A-A863-E32B116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9D5-2EE0-4866-9F71-C5D009B6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27E-2B37-49E5-810D-19304B18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FB9-3AFA-45C8-88D3-96E94EE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3E5-E3FE-47CA-B212-1A689B2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88E-CC23-4A2A-916C-5C8B29C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A9AB-8226-48E9-80F1-132387B9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Never Said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mbalin’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y crucifi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He hung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ng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47Z</dcterms:modified>
  <cp:revision>52</cp:revision>
  <dc:subject/>
  <dc:title>PowerPoint Presentation</dc:title>
</cp:coreProperties>
</file>