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9580-3C31-4FCF-A389-EC3AE3479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859B-9255-48F4-9FCE-CF338F83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6CA1-077E-4007-BE92-776B0056E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BDFC-3426-46B6-8803-7A5BD460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C65C-2CE9-41D5-A3E9-23FA415E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79AA-E110-42DE-8114-F6195D8A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7235-626C-4039-A7E3-5D19B8B4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98F1-B8C1-46B9-B4F3-62A66913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F262-BDEA-4173-A3E0-97D2548C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C4D7-1F48-4C00-8227-2F6247B7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D7E8-C933-45BA-B9A8-1D76568B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F36E-5488-40C7-80CA-C2767EF9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EC73-25CC-47B1-A504-281DA949F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f Thou But Suffer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to Guide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f thou but suff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to guid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pe in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all thy way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Thou But Suffer God to Guide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73520" y="1495440"/>
            <a:ext cx="7016040" cy="337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WORDS: Georg  Neumark, 1657;  trans. by Catherine Winkworth, 1863 (Ps. 55:2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give streng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e’er betid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ar thee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evil day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61240" y="1863720"/>
            <a:ext cx="62218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trust in Go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changing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ilds on the ro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naught can m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nly be st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ait God’s leis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eerful h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eart conten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Thou But Suffer God to Guid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ake whate’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Maker’s pleas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-disce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hath sen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43120" y="1863720"/>
            <a:ext cx="56718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know our inm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nts are kn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e are cal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God’s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ing, pray, and k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ways unswerv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do thine 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rt faithfull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Thou But Suffer God to Guid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rust God’s w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undeser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yet shalt find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e for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57160" y="1863720"/>
            <a:ext cx="56365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never y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sook at n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oul that trus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nd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00:40Z</dcterms:modified>
  <cp:revision>61</cp:revision>
  <dc:subject/>
  <dc:title>PowerPoint Presentation</dc:title>
</cp:coreProperties>
</file>