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318-153F-4582-99CB-8630A9D3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A6A4-1298-4A65-BEBB-6C38AB9F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0478-E877-4265-A78B-3A509C7A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F58-5D13-40DD-A32F-B64870CB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BCC-991B-485B-83B9-0F1D2D14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8FCE-6157-4E8F-8648-8E270E2C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DFB8-37BB-46B7-93DF-E70146A7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A6A-EF0B-4054-8FEA-086FDB6B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21B-04D2-4EDD-80C1-5825FAE7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31C-6063-4415-B0F7-803C3F31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89C-1641-4401-9919-0C116525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826-6D6A-4C3C-8A78-95D0F9C2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C6C2-805E-46C4-BA25-4E4277852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H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7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lory will be our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ight shall be no more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© 1988 S T Kimbrough, Jr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Hop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5160" y="1143000"/>
            <a:ext cx="74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evelation 21:1-6, 23-24; 22:5, 12, 20, adapt. by S T Kimbrough, J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sponse, Revelation 21:23; 22:5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hall hear 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peak from the thron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, I mak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ll things ne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am Alpha and Omega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beginn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end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1919160"/>
            <a:ext cx="861048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Lord testif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se thing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, I am coming soon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65888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s with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 Co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Lord Jesus! Come!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8572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56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hall see a ne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ven and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old will pass aw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28456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shall see a new Jerusal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city descen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rom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ity shall ne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 sun or mo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God’s gl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ll be its ligh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84320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God’s Lamb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e its lamp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by its light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nations shall walk.  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hall hear a lou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voice from the thron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, God’s dwell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with morta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deed, God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dwell with 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y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e God’s peopl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shall wipe aw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l our tea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re shall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 more de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urning, cry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pain shall cea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 all former th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ll pass away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23:08Z</dcterms:modified>
  <cp:revision>31</cp:revision>
  <dc:subject/>
  <dc:title>PowerPoint Presentation</dc:title>
</cp:coreProperties>
</file>