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523-701B-49FE-A01F-935C1236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571-4DA7-40C9-8ACE-0FD4153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F29-1D00-4C40-9953-33F770A5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A4A-DA58-49CA-BF40-3AD836AE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B59-37D9-4CC7-B7B9-61306692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89E-77EA-4AA4-822A-2B218CB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611-2527-46F5-821B-A8F1404E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C1E-3042-46E0-8873-E1F25D6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AE0-3BE5-4A9F-B300-E83A466B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DA5-D09C-4207-B128-2A87B8D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191-BA28-4410-8726-B02C1743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587-125A-4CFD-A4B0-672D4A9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9BD-DAEB-4AB5-B9F0-269D14E5B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Shall Re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shall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es its success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rneys r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3240" y="109224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desc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arth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ud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shore to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ons shall wax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n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o Jesus e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be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dless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s h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like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shall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ever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if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eople and real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well on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est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fant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early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lessings a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he reig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risoners lea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ose their cha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nt ar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Let every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 and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nor peculi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ur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4:49Z</dcterms:modified>
  <cp:revision>17</cp:revision>
  <dc:subject/>
  <dc:title>PowerPoint Presentation</dc:title>
</cp:coreProperties>
</file>