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DFF-6337-4E81-B4DE-7F1390EE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64C-C123-41A7-8245-BD8CAA7D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952-4BFE-479D-A4E3-384C0351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3EC-7443-474B-BF1B-9BA15EB8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63A-D15E-4F8B-8B86-14578BB2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D91-CE3C-446B-A6AE-2FD6301A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01B-79FE-417E-9B20-83429433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A73-CCA8-4D51-878C-705ABC07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908-5155-4BCA-8904-980ABFE9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FD7-8F90-4924-B3D9-DCB4880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6EE-20A8-47A2-AF05-6BDA8158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DAD-AADE-4140-A799-390FB7F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4EAF-946C-46FB-8547-82B982076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Out,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numb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ings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1480" y="100476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imothy Dudley-Smith, 1961 (Lk. 1:46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der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 of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o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my heart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know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ght, who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eds ha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ercy 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ge to age the s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hol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ght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s and domin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their glory b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ud hear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ub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s are put to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ngry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mble lifted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o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’s w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is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mercy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hildren’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ever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49Z</dcterms:modified>
  <cp:revision>50</cp:revision>
  <dc:subject/>
  <dc:title>PowerPoint Presentation</dc:title>
</cp:coreProperties>
</file>