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1602-79D3-4907-B2B1-47B0A11F7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B331-6D54-4E8B-87B8-8C550425C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9EFF-817D-4E0C-99F1-C7BEC7342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2769-60AF-4B86-AA7A-C6CF6CBC2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2642-700E-42B8-B2FD-8D24EF2D0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4FF2-304A-404C-A6C8-7FBCAB42E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FBB4-26B8-4A23-8D8F-1FE13EF33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A9CB-59E4-4ACF-AB4A-3C0E5E4B7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09F4-9D7B-41FA-9BE7-8261BD2EF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A0F6-D661-4072-BDD8-FA770A46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5EBB-2D81-4034-AB0B-569E0B02A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6364-F658-46DC-9D73-03386384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51955-3D9C-4823-BE69-04A9499020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Jesus, Remember 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8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711440"/>
            <a:ext cx="9144000" cy="457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Jesus, remember m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hen you com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nto your kingdom.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Jesus, remember m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hen you com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nto your kingdom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Remember 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333240" y="990720"/>
            <a:ext cx="25124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Luke 23:4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5:20:51Z</dcterms:modified>
  <cp:revision>31</cp:revision>
  <dc:subject/>
  <dc:title>PowerPoint Presentation</dc:title>
</cp:coreProperties>
</file>