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BD0-CF61-4CE7-801A-4695A9B0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05B-DD51-46E7-A6D9-09F42A26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A78-207D-40EA-A95A-2F62FD75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F99-DDB8-4278-BE74-217E70DC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9F7A-E1D1-4F9C-B833-00263AE1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35D7-6766-4397-8611-D422EA44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E3D-35C0-4A42-AAEE-FCA85A12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7B9A-FCFB-443F-BDF6-9B76931A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2E20-E221-47B9-920B-9B9FF4E6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D994-BF30-40AF-B14C-60F06114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ED28-3E3B-4882-9EDE-64747DD8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802-C429-4A02-B3A7-8E05E733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BF6A-4EBD-441B-A04B-3BA0C07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A119-C872-4DFB-829A-262BC7B1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9C2B-0335-4A74-9F61-9DF27AE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4861-AD15-4C1C-B314-4947D786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5745-4FA3-44B4-BB50-2BC1DA47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727-919F-41B4-93B2-E922BC44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08F-AA4C-4671-8AE5-02DBF33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344-D8C8-48C8-A0DF-E1B6CBD3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5D5-E825-4295-9932-C69A2CE9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10F-BAC6-42C6-B725-0FC20603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4A9-E91A-4234-A681-9CF97AF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63B-5146-4ACB-9926-D0903389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66D6-55E4-43ED-A08E-9EB1642E1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824-72D2-4BED-8744-E70DD2EC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 Dear Uniting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lest b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r uniting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will not let us part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bodies m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off remov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till are one in hear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 (1 Cor. 2:2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Partakers of the Savior’s gr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ame in mind and he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joy, nor grief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time, nor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life, nor death can p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ined in on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appoints w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n Jesu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tsteps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o his work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w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know be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est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Jesu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im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with each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th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, we l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t point of un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artak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in mind an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joy, nor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ime, nor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life, nor death can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 Dear Uniting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Blest be the dear uniting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will not let us p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bodies may far off rem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still are one in he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144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 (1 Cor. 2:2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Joined in one spirit to our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he appoints we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till in Jesus’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otsteps tr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do his work bel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may we ever walk in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othing know bes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desi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este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Jesus crucifie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 all are one who him recei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each with each ag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the 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Truth, we liv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t point of unit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9T21:55:49Z</dcterms:modified>
  <cp:revision>72</cp:revision>
  <dc:subject/>
  <dc:title>PowerPoint Presentation</dc:title>
</cp:coreProperties>
</file>