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811-B031-4253-A89B-020E63A1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1AD-0F6F-4A28-B247-6F3B9B6D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E83-6375-470B-BBC2-FE1E9349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404-4143-4A2B-B952-D5A7C8AA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C0A-A089-4665-A523-E0EFADA8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6AE-B8A5-45DC-92A2-856BE9F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514-47B4-4049-8D09-3BF51B3E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93F-E236-4D15-BEA1-AD1E9C91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594-8D8B-40DF-BAB1-D2F91DA8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FE7-2CE3-4550-841C-D24A63A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89B-54CA-43AC-BDFC-9CE1AF95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225-1719-4D16-B2D7-4F96C5F5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7A55-1F65-4581-960F-0BB159011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na Espiga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Sheaves of Summ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Ediciones Musical PAX; trans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body and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pes in bu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t down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21Z</dcterms:modified>
  <cp:revision>140</cp:revision>
  <dc:subject/>
  <dc:title>PowerPoint Presentation</dc:title>
</cp:coreProperties>
</file>