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2F3-B00D-44CD-B8CA-DA9C4260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6B3-6FDC-48B4-91A9-D263BAD3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81D-2570-45E2-8A74-BF5ECE83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84C-1B5A-447D-A977-99C93938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FB0-EA37-496D-AEA6-ADA40530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E14-7AE4-4E70-B0F8-4EBBA376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A88-F153-41C4-A550-CC4C2284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952-BE5C-4984-A7B9-1A295EFB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35B-B17E-47F9-89E7-7F763587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FF1-7563-4BA1-8330-48F2B967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249-DF86-4E25-919D-4A02BA7C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567-723D-4B03-9155-4DE0333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4215-B55B-4669-9837-AB55DD3CF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is Name Is Wonder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9, renewed 1987 Manna Music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 Name Is Wonder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6160" y="1092240"/>
            <a:ext cx="32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udrey Mieir, 1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the mighty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ster of everyth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’s the great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ock of all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mighty God is h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w down 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9:02Z</dcterms:modified>
  <cp:revision>36</cp:revision>
  <dc:subject/>
  <dc:title>PowerPoint Presentation</dc:title>
</cp:coreProperties>
</file>