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496-D230-4FDE-93D1-92E68E95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E43-39D2-4B09-BCDA-5669617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AAB-65B7-4FF8-8172-BF6EAAE6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690-2ABA-4936-9735-189F29FB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3FB-7326-4289-B69E-366C2D9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E83-F319-4DBD-9620-B7FCB52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DC5-5F53-4AC7-A4AA-17C8D4AB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CC2-0E56-4B76-B9AE-62F4FA2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8A2-FEEA-487F-A90D-B0649575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E09-572A-4479-B438-8D23246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721-35CB-4BE2-85FA-154C104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77E-BD7C-4928-BED2-6A6F25C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D343-1675-4510-830A-D535C013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ose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por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9160" y="1066680"/>
            <a:ext cx="38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for 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orldly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for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sha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w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 and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m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ale of sh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me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fitfu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g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e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0:23Z</dcterms:modified>
  <cp:revision>22</cp:revision>
  <dc:subject/>
  <dc:title>PowerPoint Presentation</dc:title>
</cp:coreProperties>
</file>