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F815-823A-487F-8740-7E1F12DE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DEF-6E66-4F63-9A32-7776A11A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C23-6CF1-40E0-A8B2-450ABB48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D17A-A6C1-4C38-B093-D88E0133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287D-7518-49C7-A276-97A3C7E5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01F3-9735-46F6-98E4-DE530325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7BC3-D2D6-4FC4-99F7-7A43368D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0818-5DBB-4946-B96C-999092D2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FD7F-914D-4E96-A432-976FDD8E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2FD3-5925-4950-AEC5-8D58D694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6683-1720-4DCD-B455-4DE47EEE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661-9A89-42A6-BB56-14974973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129F-4DAB-413E-AEEE-2FD09BE9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CC5B-CFD0-464F-AA79-13393821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0E46-FF2E-4FDD-B58F-DF7996E2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9E76-6D2C-4549-B856-659BCFB3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D77D-BD04-4D08-B6B1-CB19F93E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28A-576A-46E2-A9D4-172C8366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7F0-3154-4622-B7CD-C32BBBB3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66A-20A6-4475-AF05-06933099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605-6200-4158-93CA-AF5BD02A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738-C6A4-48A7-9F8B-72107878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2AF-EBAB-4A2E-9EBE-1A9EDEC3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FC7-F5E2-46AB-9D57-D1D6055E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421E-1BA4-4413-9C0B-3317EB9A3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2ACF-06FA-4C6E-B1F6-EFC5F8A55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ow I Love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14400"/>
            <a:ext cx="9144000" cy="51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re is a name I love to hear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sing its worth;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it sounds like music in my ear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the sweetest name on earth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26200" y="685800"/>
            <a:ext cx="38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Whitfield, 18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t tells of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loving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feel my deepest wo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in each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ars a 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none can bear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ow I Love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re is a name I love to h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sing its worth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t sounds like music in my 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sweetest name on eart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26200" y="1015920"/>
            <a:ext cx="38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Whitfield, 18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3808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2. It tells m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 Savior’s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to set me fre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t tells m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his precious blo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nner’s perfect pl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6524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3. It tells of 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loving he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an feel my deepest wo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o in each sorr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ears a p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none can bear bel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8200"/>
            <a:ext cx="9144000" cy="480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4320"/>
            <a:ext cx="9144000" cy="57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2. It tells me of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a Savior’s lov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to set me free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it tells me of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his precious blood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nner’s perfect plea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14520"/>
            <a:ext cx="9144000" cy="480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6504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It tells of on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loving hear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an feel my deepest wo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 in each sorro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ears a par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none can bear below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65280"/>
            <a:ext cx="9144000" cy="467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ow I Love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re is a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sing its wo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sounds like mus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y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weetest nam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26200" y="1015920"/>
            <a:ext cx="38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Whitfield, 18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t tells m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avior’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to set me fr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tells m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precious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nner’s perfect pl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8-07T15:39:23Z</dcterms:modified>
  <cp:revision>36</cp:revision>
  <dc:subject/>
  <dc:title>PowerPoint Presentation</dc:title>
</cp:coreProperties>
</file>