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1754C-7D92-4F40-A571-CB0C320A4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E42F9-F7B5-46E1-BD37-002EAABDE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2FB34-995C-48EC-B9A9-BE1E0E87B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8C77B-2A96-413F-B7D5-7087ED595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F95E6-0B56-4AE2-A475-E0DE0B531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5CB1F-237B-4120-A9D0-F87022856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33993-A370-4B04-BF26-F8AE37C2A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0B40F-5186-40C2-9719-42E31909F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759DF-1ABF-4C8B-B03E-2A8B17B4F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6D1F0-4A8F-4314-A9C7-1D8DEABC5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267F7-0BB2-4516-BC95-0DA2C006F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116A7-80DA-44D5-9337-CD74EB6BE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DD259-041C-4C97-BB86-DB0203CF0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009A9-B431-4542-A389-98549C632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2758E-21FD-4822-A7EF-7B3354C93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DF4AE-9EB1-40AB-86BD-B2FA9B93B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D5936-C15E-4783-B3EB-921F48E31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3E84A-A186-43E1-81A9-2068E4FB8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0CA12-31AC-4E0D-A05C-1F76D262E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88FEF-063C-4729-A14A-56E291DFE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60CCC-19F2-48FF-A104-92DA88452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66557-1702-41AD-802A-ECA06422B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5C131-AF93-4F68-B357-C103D57BE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6997E-7488-4F4E-BC0D-2E4482EC5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8E7B0-8AB8-4C23-888C-8C47F143A3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6E0A0-7D0D-416C-8965-C1BB6F3D62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We Shall Overcom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53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2057400"/>
            <a:ext cx="9144000" cy="3080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1. We shall overcome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we shall overcome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we shall overcome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someday!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 Shall Overcom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0" y="11430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African American spiritu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h, deep in my hear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do belie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the Lord will see us through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meday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1522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We Shall Overcom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53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1371600"/>
            <a:ext cx="9144000" cy="3080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1. We shall overcome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we shall overcome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we shall overcome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someday!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 Shall Overcom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83808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African American spiritu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9144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h, deep in my hear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do belie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shall overco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meday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9144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We’ll walk hand in han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’ll walk hand in han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’ll walk hand in h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meday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 Shall Overcom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9907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h, deep in my hear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do belie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’ll walk hand in h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meday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10508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We shall all be fr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shall all be fr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shall all be fre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meday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 Shall Overcom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0" y="9907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h, deep in my hear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do belie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shall all be free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meday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8380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We shall live in peac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shall live in peac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shall live in peac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meday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 Shall Overcom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8380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h, deep in my hear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do belie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shall live in peace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meday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1066680"/>
            <a:ext cx="9144000" cy="3080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5. The Lord will see us through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the Lord will see us through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the Lord will see us through 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someday!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 Shall Overcom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h, deep in my hear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do belie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shall overco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meday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9748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h, deep in my hear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do belie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the Lord will see us through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meday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We’ll walk hand in han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’ll walk hand in han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’ll walk hand in h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meday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 Shall Overcom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h, deep in my hear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do belie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’ll walk hand in h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meday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We shall all be fr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shall all be fr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shall all be fre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meday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 Shall Overcom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h, deep in my hear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do belie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shall all be free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meday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We shall live in peac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shall live in peac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shall live in peac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meday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 Shall Overcom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h, deep in my hear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do belie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shall live in peace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meday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1890720"/>
            <a:ext cx="9144000" cy="3080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5. The Lord will see us through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the Lord will see us through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the Lord will see us through 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someday!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 Shall Overcom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nnifer McCay</cp:lastModifiedBy>
  <dcterms:modified xsi:type="dcterms:W3CDTF">2008-02-02T15:14:36Z</dcterms:modified>
  <cp:revision>56</cp:revision>
  <dc:subject/>
  <dc:title>PowerPoint Presentation</dc:title>
</cp:coreProperties>
</file>