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ED7A-BB91-49B5-92A9-421F865FE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4B60-9BE8-474E-AF0F-988511267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3AB7-73BA-4264-BE49-F2031B355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5EFC-B5DB-4B1E-874E-C9B825AB9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8209-48B2-4015-BDA3-7A1D2CA22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13F3-2CBD-4F00-8A76-EF6BA2EB7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BBF4-FE0F-4461-AF41-8DC22B154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28C7-4316-48BA-885E-9E8D7E740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A8FF-D7F0-473C-9D3C-C411C27CF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B54B-3672-444B-A981-FA7207D80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E82B-2CB9-4BD6-ADB7-526B73FCF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53FB-1D82-4C74-ADCE-2DA049C9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00613-6851-496C-8ABA-A230AB9BBD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d of Love and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d of Pow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7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God of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od of pow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nt us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burning hour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Love and God of Pow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00200"/>
            <a:ext cx="9144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 Gerald H. Kennedy, ca. 1939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God of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od of pow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e us wor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is hou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Love and God of Pow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fering liv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f it’s thy wi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eeping free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irits sti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of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od of pow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hast called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is hou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ce to ask the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fts of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ring hear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pirits fr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of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od of pow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hast called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is hou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e are no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first to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anished by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ars from th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Love and God of Pow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e us courag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h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’s trumpe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nging cle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of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od of pow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hast called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is hou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All our liv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long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our final loyalt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Love and God of Pow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laves are w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e’er we sh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devotion anyw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of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od of pow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hast called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is hou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40:54Z</dcterms:modified>
  <cp:revision>83</cp:revision>
  <dc:subject/>
  <dc:title>PowerPoint Presentation</dc:title>
</cp:coreProperties>
</file>