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1AD-6710-428A-AD23-291FE645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388-A51F-4518-861B-73E7FA5C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319-D8AA-4621-AF60-332A3C33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F4D-DCDE-43DE-A799-C7BAB7A1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3AC-0F0A-426D-A84A-C3CA68D8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CCF-6B15-4B7F-8F80-922C9F9A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190-4BAA-4093-AA82-4353624A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067-6DB7-4B72-90D2-1A79F306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F7E-A445-4CA7-B74C-8D30E664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9AA-FB88-4729-85BB-EDCF433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EAB-1B04-4D08-95A1-03A09993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C72-062E-46DC-930B-DD4DB6F3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6B08-13BB-4797-99E5-96DD24246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urce and Sovereign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 and Clo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ource and Sove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and Clo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tress,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lter,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4840" y="1523880"/>
            <a:ext cx="38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H. Troeger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udge, Defend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y,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e whose li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life endow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25600"/>
            <a:ext cx="9144000" cy="55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ord and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ot and 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pherd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ant, La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ll and Wat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ead and Wi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y who leads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I A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25600"/>
            <a:ext cx="9144000" cy="55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torm and Stil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 and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nder, Temp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rlwind, Fi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fort, Counselo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sence,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ergies th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ver ti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25600"/>
            <a:ext cx="9144000" cy="55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0:40Z</dcterms:modified>
  <cp:revision>29</cp:revision>
  <dc:subject/>
  <dc:title>PowerPoint Presentation</dc:title>
</cp:coreProperties>
</file>