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DA5-56B8-41E1-AFEE-17B40C00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594-DB4C-4794-AB68-43DEA08E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843-8340-4AD3-8849-4A8FD41A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0D5-34EC-4FE8-845D-C1FACCC0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22B-3DBA-4BC3-8EEF-86AFB8CF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D04D-15F2-4FD3-BC98-3FEDF20D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BF1D-5817-4226-A6ED-D5A2BCC9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759A-FDF1-4689-AAE1-80A6B2D3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821-A9D9-4F51-B70D-3C2B1090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D01C-14FA-4BC6-ACDC-0F28ACC6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C69B-F75A-4F38-8264-8FAB187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B3C-6FDD-4304-8253-A3768E70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99C-150B-4D2E-B38F-80DBB78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066A-DA53-4A89-9C91-6BB89AE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820B-5649-4294-8FA1-E135AED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434E-7FD1-4FBC-8DD0-39D753EA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952-C079-4FF6-BB1B-5461EC8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5AF-DB10-4707-ABE9-8076ACE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2BE-75CA-4060-AEC1-69739EBB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28D-E8E5-4ABA-8769-6E6E59E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D39-DEE6-4F13-9EBC-3A0F666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004-B7B6-40E9-825F-C47B156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222-3222-4D9A-9EBF-0E7E97B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8B5-5CB7-42C5-8E88-0965B87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499F-F743-44F2-91A2-E8006BEE5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FCF-FAFA-40BA-96DD-672B839A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46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4628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4628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462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112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112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enfol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1:13:49Z</dcterms:modified>
  <cp:revision>106</cp:revision>
  <dc:subject/>
  <dc:title>PowerPoint Presentation</dc:title>
</cp:coreProperties>
</file>