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04A-9D9F-4A6C-81B7-899D70D2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943-80A6-4B65-90AD-AADFB202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519-D975-4891-A1FE-2C22D88B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9DF-5230-4419-969B-DC85FA62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BF9-4361-4642-A27D-397C6FE8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E5E-13EB-4734-B5DE-ED797A46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F44-7AA9-4D41-A729-6064CE4A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C46-7654-41EC-BCE9-C32C7AD0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AEF-88A2-4B36-BF9B-5D834176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EB2-E755-499D-9B10-5E551DFD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415-25A3-4B09-8700-91B4968E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746-D8D3-467B-83FE-7E7FEE1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8994-A51F-452A-B9EB-0E891387C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undays of Ea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5960"/>
            <a:ext cx="8839080" cy="451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give us the joy of celebrating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Lord’s resurre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days of E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0520" y="914400"/>
            <a:ext cx="4167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3399"/>
                </a:solidFill>
                <a:latin typeface="Times New Roman"/>
              </a:rPr>
              <a:t>The Lutheran Book of Worship</a:t>
            </a: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, 19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also the joys of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your serv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ing us at last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full joy of life eterna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6:07Z</dcterms:modified>
  <cp:revision>21</cp:revision>
  <dc:subject/>
  <dc:title>PowerPoint Presentation</dc:title>
</cp:coreProperties>
</file>