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926-2C55-4027-AE91-FE3069A1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B8F-E547-40D9-BA16-E3BC91C9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C30-4014-4127-A298-C4EE6F97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3F2-DFD8-46B6-8D33-8C035636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AB54-1E5D-4FF0-9A08-CB5FEF46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01F9-6F32-483B-B216-8E6D32C0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D25-0BFE-4739-928A-20ACE3B5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3BA-A5F8-4EAC-A9A8-C9712895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D8A4-C234-4778-9D63-36217CC2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D33-8824-481A-954A-2A2E50AD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38CE-1F21-4BDF-BF9D-A0C5F443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C67F-7BBA-4E93-B502-3B4DFC6F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8AC1-962C-4A54-97BD-C330C9554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aya Ho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Victory Hym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588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onetic transcription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31840" y="1461960"/>
            <a:ext cx="688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on. Hindi; trans. by Katherine R. Rohrbough, 1958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honetic transcription from the Hindi by I-to Loh, 19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438280"/>
            <a:ext cx="9144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143000"/>
            <a:ext cx="8915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1295280"/>
            <a:ext cx="8915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h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182880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981080"/>
            <a:ext cx="9144000" cy="269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come before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 Great and Hol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Great and Ho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752480"/>
            <a:ext cx="9144000" cy="277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bow our head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, Great and Hol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reat and Ho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1447920"/>
            <a:ext cx="89154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w at thy feet w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bow in quiet rever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then sing thy prais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evermore repeating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21932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330200"/>
            <a:ext cx="914400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1600200"/>
            <a:ext cx="8915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1523880"/>
            <a:ext cx="89154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h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95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82880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676520"/>
            <a:ext cx="9144000" cy="26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let us see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grant us a visi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nt us a visi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600200"/>
            <a:ext cx="9144000" cy="26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s and denial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ar Lord, forgive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ar Lord, forgive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67652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us and keep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in thy strong protectio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safe in thy refug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we will sing thy prais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5120" y="1143000"/>
            <a:ext cx="86788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600200"/>
            <a:ext cx="914400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1523880"/>
            <a:ext cx="8915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1600200"/>
            <a:ext cx="89154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h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175248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7160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h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7524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76520"/>
            <a:ext cx="9144000" cy="272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re sana muk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ham hain 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Ham hain a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05120"/>
            <a:ext cx="9144000" cy="277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 ra no may h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sha nav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sha  nav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teri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m hain gat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teri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m hain g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1143000"/>
            <a:ext cx="89154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371600"/>
            <a:ext cx="914400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7:13Z</dcterms:modified>
  <cp:revision>21</cp:revision>
  <dc:subject/>
  <dc:title>PowerPoint Presentation</dc:title>
</cp:coreProperties>
</file>