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353-087D-47F8-A93F-D2A62E7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52F-2480-4653-9716-5A95606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051-F4FF-45A2-BD4F-DC98B4D3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60C-9D50-46F2-AB9A-C4C18D93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723-E341-4A55-AAB8-835586C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C59-4898-4BEE-AF46-5303D94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CDA-C0F1-4812-AE13-2584818B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98D-5D90-47A7-B6A0-2A8D526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FFB-5D4A-4D44-9EA5-2E3D88B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AEF-E9FF-4AA4-B549-09AEED1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D18-5374-404D-B9F9-B518CDC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107-8F47-440B-B102-707E842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9CF-05E0-464E-91AB-529D268B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Refuge amid Di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n ant on a st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oth ends o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re bur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go to and fro wit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ing what to d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great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uge amid Di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1600" y="1066680"/>
            <a:ext cx="15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Trad. 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inescapable shad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follow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ad weight of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haunts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look upon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love is my refug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47Z</dcterms:modified>
  <cp:revision>7</cp:revision>
  <dc:subject/>
  <dc:title>PowerPoint Presentation</dc:title>
</cp:coreProperties>
</file>