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1C18-481A-490C-9FE4-955AF489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792-7B71-4FE6-BC98-C53475E9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849-091D-499A-9D7D-726D18C7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17C-03D5-4F86-865B-6A09B549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9277-EA01-4782-8F5D-668B5F08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175-7412-42DA-AB62-1B2092A6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59E3-4012-4274-B306-D354AB05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693C-DC68-413C-8E47-4E4540AB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452-72D9-4724-9E12-F128AD70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EAAD-B99B-4436-B210-849F91F4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3AC-BCCE-45E6-A59F-B41E74CE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2569-17F4-4601-85FF-2AEE74C4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DCCB-AD18-4F4A-8155-63A4D83FA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 Sun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3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o  Oo 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Sun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come Sun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6, renewed G. Schirmer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34440" y="106668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uke Ellington, 19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dear Lord abov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 look dow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my people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believe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t sun and mo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 in the sk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n’t mind the gray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use they’re j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uds passing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9072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dear Lord abov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 look dow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my people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aven is a goodness ti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righter light on high.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Do unto others as you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would have them do unto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ve a brigh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666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dear Lord abov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 look dow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my people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believe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now, was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ways will b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’s bl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an make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9072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dear Lord abov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 look dow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my people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18:02Z</dcterms:modified>
  <cp:revision>59</cp:revision>
  <dc:subject/>
  <dc:title>PowerPoint Presentation</dc:title>
</cp:coreProperties>
</file>