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69E2-6752-48E7-A992-72185C07E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AED0-8401-46CD-AFB7-46D41D7D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8388-8732-49E7-8ED1-B8E10F66E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EF93-01C1-4D5C-B77F-BA214E99B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7BEE-3A89-432C-A143-7990F675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B781-0856-4E87-8F33-2DAEA1E4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CC6B-8B29-4F55-9FFA-0AC732A6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71D6-8D1C-4F67-A606-87C045B9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7DF9-2B79-4185-AA53-00D9A0B1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474A-3741-4A2D-BC35-7EBF08B9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3131-AD7C-4234-ACDB-FA609142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6A55-720D-4F48-B588-09E69580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2453-0C98-4597-99D0-F3F858AA1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aster Vigil or 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7524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Jesus Chri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overcame dea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pened to us the gat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everlasting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ster Vigil or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37400" y="914400"/>
            <a:ext cx="2953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3399"/>
                </a:solidFill>
                <a:latin typeface="Times New Roman"/>
              </a:rPr>
              <a:t>The Book of Hymns</a:t>
            </a: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, 196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ant that w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celebrate the d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our Lord’s resurrect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ay, by the renew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your Spir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ise from the dea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sin to the lif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righteousnes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15:59Z</dcterms:modified>
  <cp:revision>19</cp:revision>
  <dc:subject/>
  <dc:title>PowerPoint Presentation</dc:title>
</cp:coreProperties>
</file>