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CDED-9748-457B-944C-345307A6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278A-D9C4-4816-8A7E-94D0B9DA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24DF-2D23-4094-A2C2-03DAA5C25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67A5-36E8-4455-B3C7-40127C32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6124-662C-4C1C-B698-72C0C1C1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1994-7160-4F5B-8C9C-A9575578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301F-927C-4F64-9D4C-D3072FAD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730D-6FCC-4661-A70B-63A0C163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27D8-D192-4498-8E60-9BA8A7EC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146B-4933-4DBE-B983-D2CE5F4C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A5DB-A80B-45F6-926E-BA9C4D0D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EA66-BEA2-4391-95D3-192B4753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FB28-16E7-46B8-A812-18A0192E2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t So in Haste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So in Haste,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Bradford Torrey, ca. 187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Not so in haste, my hear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faith in God, and wa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though he linger l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never comes too l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So in Haste, My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He never cometh lat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knoweth what is b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ex not thyself in v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il he cometh,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So in Haste, My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Until he cometh, r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r grudg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urs that ro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feet that wait for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soonest at the go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So in Haste, My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Are soonest at the go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is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ained with spe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n hold thee st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I shall wait his l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08:34Z</dcterms:modified>
  <cp:revision>153</cp:revision>
  <dc:subject/>
  <dc:title>PowerPoint Presentation</dc:title>
</cp:coreProperties>
</file>