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67C-19AA-4461-A9AB-D482BB48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5DD-94FD-4C05-9921-1300E0C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460-5D10-446B-9811-B2FE0C25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EB0-F391-4A38-96FC-08E86646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8C9-E5A8-497D-A94C-506F70D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19B-3B95-4CA7-856F-92D1643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95F-C509-4D0C-AD77-17E65CB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8F0-B297-410C-B127-0C6AAE2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696-2C42-45E4-B8C4-6E74E10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E3C-FED0-4506-A926-81BBB33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925-30E9-4C06-B9DA-37CED36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D82-4BFE-421D-A9B1-892F514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EEA-1E56-4733-9288-ABE68028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Old Rugged Cros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a hill far aw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od an old rugged cro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emblem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uffering and shame;</a:t>
            </a:r>
            <a:endParaRPr b="1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124452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Bennard, 1913 (1 Cor. 1:22-25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’twa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uffere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m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23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 old rugge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b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roach gladly be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he’ll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om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y home far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I’ll sh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ove 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dea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world of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 was sl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spised by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raction for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his glory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ark Calvar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4792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 I s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38:08Z</dcterms:modified>
  <cp:revision>18</cp:revision>
  <dc:subject/>
  <dc:title>PowerPoint Presentation</dc:title>
</cp:coreProperties>
</file>