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E7B-4888-49E8-99C2-318BA15D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336-2564-4668-B0EE-A1BF221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AB8-B3AC-4A30-B25E-700DAEF6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868-1D3C-402F-823F-44713CC4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9F4-1DDB-4D8C-A5DB-AF6801E6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559-9FE8-447C-8DC2-B772998F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FE7-8FA3-400B-89AC-351DEFB4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40F-EAE5-43AC-ADE6-9F74281F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62D-33D3-47E9-BB60-A6AF9DAF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F2E-8502-4E63-A528-A261D69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09A-0C2F-4491-9D3A-85E3B5D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746-F466-4873-AA5F-EF752031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E9DE-35F1-440A-B995-AD21EAB7E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Prayer Rises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483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 permission of Vietnamese Min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8600" y="1066680"/>
            <a:ext cx="366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Dao Kim (Ps. 141: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I wis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ld liv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rest of my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in your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feel ass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y prayers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always in your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tru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r judgments are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compa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you do I tr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 the thirsty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s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ife-giving r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flower and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 raise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pray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d me from al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y to har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8:23Z</dcterms:modified>
  <cp:revision>8</cp:revision>
  <dc:subject/>
  <dc:title>PowerPoint Presentation</dc:title>
</cp:coreProperties>
</file>