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FA6-8E74-4940-B305-CB89117E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BB7-CBE7-4103-A6BC-664C3546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577-DED3-431A-B986-0F4CE100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360-2C3D-4301-9577-933DCAD5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403-9DBB-42D0-8EE6-0DB3F100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ACD-A0FE-44A2-9C98-5318E2B8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B2B-C7DB-4C64-B7FC-45941899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793-60B3-4FA6-A95F-CE636A72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210-697F-427B-BFE9-78C21D14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DE0-A0FF-4C3F-9A4A-4CD63B28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C60-9F33-4CA5-BDC5-9BC6B966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88D-1216-4BA1-9730-229CD879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9903-52A7-4F6B-9AA2-74426D985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od of Abraham Prai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905120"/>
            <a:ext cx="9144000" cy="32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The God of Abraham prais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who reigns enthroned above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cient of Everlasting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Days, and God of love;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481400" y="1143000"/>
            <a:ext cx="62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o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Yigda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of Daniel ben Judah, ca. 1400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ra. by Thomas Olivers, 1760; a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hovah, great I AM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earth and heaven confess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ow and bl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sacred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ever blesse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he great I AM has swor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on this oath depend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, on eag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ngs upborne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heaven ascen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9144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 behold God’s fac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 God’s power ador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sing the wond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God’s grace forevermor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5508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The heavenly land I se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peace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lenty blest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land of sacred libert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ndless rest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re milk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ney flow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il and wine aboun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trees of lif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ever gr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mercy crowne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4572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The God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igns on hig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reat archangels 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“Holy, holy, holy!”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ry, “Almighty King!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53352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was, and is, the sa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vermore shall be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hovah,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reat I A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worship thee!”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03T13:07:28Z</dcterms:modified>
  <cp:revision>32</cp:revision>
  <dc:subject/>
  <dc:title>PowerPoint Presentation</dc:title>
</cp:coreProperties>
</file>