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756-6602-4705-B7B2-FFD392AE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D3B-22A2-46EE-82DF-B5BB1B5D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D00-212E-4F36-84DD-7FC18203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1F5-B339-403D-918C-2BF6330F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C43-8532-4493-8095-63422C6A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825-F11F-44EF-B201-C0966C6B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C4C-4CB0-4C32-9FB6-A983DCBA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A75-DE18-4E0D-81D1-D6804A95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994-C8B5-44EE-8191-026EDD01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ADA-BF69-4F8F-911F-DE1CECF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99B-6BF8-4C78-B07C-9EEA4B1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E23-6F9C-4822-99F2-9EF6555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FC6E-213D-4817-8391-B230E1764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Present 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Tabl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esent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able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her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ado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Present at Our Tabl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Cennick, 1741,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eatures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ea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dis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7:39:03Z</dcterms:modified>
  <cp:revision>122</cp:revision>
  <dc:subject/>
  <dc:title>PowerPoint Presentation</dc:title>
</cp:coreProperties>
</file>