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5156-0B6B-4916-8D91-10FEBF17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51CD-D2E4-431C-8F37-ACC4E45B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82B4-8AC4-4C44-A28A-A857DE88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8F44-4D8D-4E14-815A-AC045718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BC0A-65EE-4368-8C8D-10811311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17DE-835B-4094-A0FA-53B5074D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D41-9787-454C-9F13-6F30A9C1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BE97-27B3-402F-828F-3D09734B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B238-11C8-41F7-BADB-8FEF5D4C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57A5-BF70-4110-86DD-831485F4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9734-98A3-43F5-B2B7-8F3E5BFC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C708-E908-40DA-B367-BCB9DAB9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A0CD-639C-4E3B-97E8-51EECEF16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ly Spirit, Com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nfirm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Come, Confirm 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7652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Brian Foley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Holy Spirit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firm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truth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makes kn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Faber Music, Lim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have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understa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your help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fts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Come, Confirm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Holy Spirit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sol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s advoc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plea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ing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nt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elp we n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Come, Confirm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Holy Spirit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new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your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make us l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loving pres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ifts you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Come, Confirm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Holy Spirit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sses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ree in 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9:56:05Z</dcterms:modified>
  <cp:revision>91</cp:revision>
  <dc:subject/>
  <dc:title>PowerPoint Presentation</dc:title>
</cp:coreProperties>
</file>