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C39-A54C-41C1-BD8B-D25B1C94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E65-1382-46D3-9011-B6028C7B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C979-4F72-4D41-AD67-EEF2F92D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9C2-6DBA-44CF-96FC-E9C54B6E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C63A-53F5-4F1B-A152-C9F95BEA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6FB4-2C50-4751-A582-D1321B9E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C892-B333-4896-AE6B-34070B6B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F54C-22A2-4FD1-96CE-E1E0EF15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CD9B-C19C-4686-9782-1C03742E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D992-60D3-4177-9BC6-E3479E79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E100-EBE1-40E4-9C89-074D5399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3793-E3CE-4C1B-A4C0-BD7150F7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2A90-DD1C-4409-A958-16F6C3B4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2689-1A2B-4851-A5DD-053967C0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CD64-6E2C-4BBE-A492-0FD04728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58CB-896E-46F5-91BF-11281C6F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8898-F344-4639-89E9-1BDF6189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06FE-2F99-4B01-A251-837B56D9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CFF-3E43-4B9F-99D9-D12F479D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3BC-AEEC-445E-802F-F831D653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8A7-2E6C-49C0-AA5D-DA3CC53A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ED01-5FC3-47DA-9085-35DA2D23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FEA-7D67-410C-B39E-04D4940A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55C-2598-4040-9D13-0FDAAA17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08BC-AD39-4E41-876D-1BAC11953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5150-6A77-42E4-A1A1-A29813D1C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All Mortal Fles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eep Sil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et all mortal fl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sil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fear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ing stand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iturgy of St. James, 4th cent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Gerald Moultrie, 1864 (Jn. 6:35-58; Rev.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x-winged serap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erubim,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less ey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il their fa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pres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ith ceas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ice they cr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All Mortal Fles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eep Sil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981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Let all mortal fles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keep silen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ith fear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rembling stand;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371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iturgy of St. James, 4th cent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Gerald Moultrie, 1864 (Jn. 6:35-58; Rev.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onder nothing earthly mind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with blessing in his hand,   Christ our God to ear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escende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full homage to dema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King of kings, yet born of Ma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s of old on earth he stood,         Lord of lords, in human vestu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e body and the blood;              he will give to all the faithfu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s own self for heavenly foo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890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ank on rank the host of heave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preads its vanguard on the way,    as the Light of light descende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the realms of endless day,   that the powers of hell may vanis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s the darkness clears awa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890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t his feet the six-winged serap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erubim, with sleepless eye,        veil their faces to the presen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s with ceaseless voice they cry:    Alleluia, Alleluia, Alleluia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rd Most High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nder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ly mi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ith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h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our God to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cend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ull hom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em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kings,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f M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of old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e sto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lords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an ves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gi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own 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avenly f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nk on ra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st of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eads its van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Ligh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descend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realm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pow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l may van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r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30T01:24:26Z</dcterms:modified>
  <cp:revision>129</cp:revision>
  <dc:subject/>
  <dc:title>PowerPoint Presentation</dc:title>
</cp:coreProperties>
</file>