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F037-25B9-4B90-8AAF-37DBE514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3B8A-004A-4CB2-B9A0-D89A0281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8461-E2EF-44DF-82F5-C78B8FDA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9D5-0EF2-4CB2-9CD8-C7FC9962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7B6B-376B-4CF3-B589-E55A2BCB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48E9-607A-4FFF-82F2-02C18B08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A4E6-4628-492C-B451-1021C183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A616-F432-47D5-B7F6-D5E538A4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1858-801D-46AC-9E01-E5893FFF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A1B1-9829-4391-A7DA-F59025AF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43BE-CCFF-4BE5-9483-D095AF9F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32F9-CF6B-42A0-ACD6-0948A09D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7F1D-BF31-43CA-9E2F-F30E6432F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All the Spirit’s Gifts to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All the Spirit’s Gifts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red Pratt Green, 1979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81080"/>
            <a:ext cx="9144000" cy="41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Of all the Spirit’s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gifts to 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I pray that I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may never ceas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2239920"/>
            <a:ext cx="82296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learest purp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to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, joy, and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2239920"/>
            <a:ext cx="82296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ake and treas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st these thre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, joy, and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All the Spirit’s Gifts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e Spirit show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’s the ro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every gi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nt from ab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2239920"/>
            <a:ext cx="82296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every fl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every fru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od 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All the Spirit’s Gifts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 Spirit sh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I poss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love no ev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destro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239920"/>
            <a:ext cx="82296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ever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my distr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this is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All the Spirit’s Gifts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ough what’s ah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myste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ife it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ours on l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2239920"/>
            <a:ext cx="82296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day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s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Go forth in peac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All the Spirit’s Gifts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We go in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made aw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, in a nee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ld like thi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9:58:08Z</dcterms:modified>
  <cp:revision>93</cp:revision>
  <dc:subject/>
  <dc:title>PowerPoint Presentation</dc:title>
</cp:coreProperties>
</file>