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BEC-41F1-4A03-81A9-6B0319B2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8D3-BB90-4C98-8DCE-0C47239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B19-9566-4826-901A-18367293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31C-FB09-42E7-B842-E8075E8D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C4A7-96DA-402F-A01A-24806E24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C826-C52F-4F7A-9257-BF9D8810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E49C-C653-4154-A5D2-7D0BFC3A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91C7-E6E4-4B0A-B956-FAA31801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E326-BC41-4D97-84FC-D5D24B69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2B19-E928-4F02-B3F8-2EA191BB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38CC-B8AC-4BC3-BF9D-62BB0AB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159-4714-423F-8E4C-9357CCE2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2703-5A64-41E1-8661-C4A4271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4CAC-072C-4005-8C9D-357CAD45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73B0-45C2-4E67-A143-9FC6C69D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AE68-9E0D-4952-A15D-517773A2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400E-E1D0-40C2-87BA-F947D4DA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ACF-1185-4C44-8053-0299F25B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ABD-FCB8-46C6-9AD1-2FA5D2B1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72E-2757-4601-BA67-73A459AB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8FF-8ACE-45A7-8291-B75E0702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E2C-FB07-4636-889C-D0CC9839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601-95A8-4F17-9CB0-B327B6E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229-402A-478E-A921-14AF013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DB42-1017-4BD1-8C3C-36C76A56C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93C7-435B-4581-A4FB-EE792259A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scend upon 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piri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 upo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n it from earth;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ts pulses m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3240" y="154944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Croly, 1867 (Gal. 5: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dling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descended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an al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ove a fl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scend upon 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Spirit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scend upon my hear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an it from earth; throug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its pulses mov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3240" y="137160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Croly, 1867 (Gal. 5: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p to my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y as thou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ought to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ask no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prophet ecstas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udden r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eil of c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angel visit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pening sk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ake the dim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soul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2076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st thou not bi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ee, God and K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, all thine own, soul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t and streng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m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y cross;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y heart to cl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see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let me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ach me to fee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always n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strugg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oul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ck the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t, the rebel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pat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unanswere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each me to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ine angel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ing all my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p to my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y as thou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ought to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dling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descended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an al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ove a fl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ask no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prophet ecstas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udden r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eil of c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angel visit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pening sk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ake the dim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soul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940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st thou not bi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ee, God and K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, all thine own, soul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t and streng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m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y cross;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y heart to cl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see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let me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ach me to fee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always n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strugg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oul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ck the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t, the rebel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pat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unanswere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each me to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ine angel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ing all my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10T22:48:43Z</dcterms:modified>
  <cp:revision>12</cp:revision>
  <dc:subject/>
  <dc:title>PowerPoint Presentation</dc:title>
</cp:coreProperties>
</file>