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4B0-5C43-4276-B265-8BB9660C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B13-AA54-49FF-AE87-E306ED2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E6C-9347-42A0-9F50-2E95E4A6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A19-7E76-45B0-B30F-33ABF9D5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932-DF21-4DA6-8F9F-9023E0F1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AC2-5F80-4D8F-B91E-0DE211D6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C13-900C-4412-9D9A-F9855B35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5AA-4DEF-4E69-A108-07113EC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FA8-86CA-4C3E-ABDF-4E763746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A0E-F291-481F-B9E0-11F66BF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FDF-ED8D-416D-9AB3-96A0B52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302-F963-47DD-B476-CF5F124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62CD-5CD7-4B1C-A611-F44F6DE33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k Forth, 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auteous Heavenly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reak forth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uteous heavenl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sher in the morn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st. 2, 3 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520" y="17146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ann Rist, 1641; st. 1 trans. by John Troutbeck, ca. 1885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s. 2, 3 by Fred Pratt Green, 1986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e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 life st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 who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you the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,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 you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ime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conqu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l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s,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not with aff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’s w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child,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in infan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joy shal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tan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m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is night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ght of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orn th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ighty to destr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each 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could he qu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ly st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uch a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reed and ha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cur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’s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dearest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v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b behind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07Z</dcterms:modified>
  <cp:revision>68</cp:revision>
  <dc:subject/>
  <dc:title>PowerPoint Presentation</dc:title>
</cp:coreProperties>
</file>