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8D26-BC47-4BCA-BDA3-273686AD2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95E1-C0C2-4CCA-A9F3-66AB108CF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9796-BC08-46AB-8158-565BD4317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CEA5-140C-495F-8BAA-EDB849DA6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A99C-3A38-402F-B9F2-FF2C1086D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A210-75CE-4A9B-B986-6EB5B95E6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2681-A627-42C8-9007-46ADD0435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97D9-13DA-4B30-AB3C-2667F230D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CFC9-ED12-4628-8EC5-DE7CC36D8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CC9E-B6EB-4A43-AC6D-4D8AC321E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16A8-EBF4-4521-9D07-85892832B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5D9C-B22B-4F5A-9ADB-79BA62D35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7D423-48C5-4A73-957B-6EA98099BC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illed with Excitemen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(Mantos y Palma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7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09588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2, 1979,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ed with Excitem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77000" y="1521000"/>
            <a:ext cx="6388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WORDS: Rub</a:t>
            </a:r>
            <a:r>
              <a:rPr b="0" lang="en-US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én Ruiz Avila, 1972; trans. by Gertrude C. Suppe, 1979, 1987</a:t>
            </a:r>
            <a:br>
              <a:rPr sz="1600"/>
            </a:br>
            <a:r>
              <a:rPr b="0" lang="en-US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(Mt. 21:8-9; Mk. 11:8-10; Lk. 19:36-38; Jn. 12:12-1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6668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Filled with exciteme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happy thro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read cloaks and branch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the city street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á a lo lej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 empieza a mir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n un pollino a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jo de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143000"/>
            <a:ext cx="9144000" cy="38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Estribil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ientras mil voc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suenan por doquie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sanna al que vie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n el nombre del Se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ñ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tos y Palmas (Estribill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90648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3240" y="914400"/>
            <a:ext cx="821520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n un aliento de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n exclamaci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ón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orrumpen con voz triunfal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“¡Hosann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¡Hosanna al Rey!”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“¡Hosann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¡Hosanna al Rey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716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Como en la entrad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 Jerusal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é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dos cantam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 Jesús el Re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-114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tos y Palmas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 Cristo viv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que nos llama ho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ara seguirle c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mor y f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295280"/>
            <a:ext cx="9144000" cy="38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Estribil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ientras mil voc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suenan por doquie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sanna al que vie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n el nombre del Se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ñ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-2514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tos y Palmas (Estribill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90648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3240" y="685800"/>
            <a:ext cx="821520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n un aliento de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n exclamaci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ón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orrumpen con voz triunfal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“¡Hosann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¡Hosanna al Rey!”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“¡Hosann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¡Hosanna al Rey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2440" y="1828800"/>
            <a:ext cx="62006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re in the dista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begin to s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iding on a donke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s the Son of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28736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ed with Excitem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143000"/>
            <a:ext cx="9144000" cy="46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every corn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thousand voices 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s to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comes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ame of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716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7040" y="1600200"/>
            <a:ext cx="812988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one great shout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cclamation loud triumpha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ng breaks forth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Hosanna to the King!”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Hosanna to the King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ed with Excitemen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14479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As in that entra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Jerusale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ing hosann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Christ, our Ki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676520"/>
            <a:ext cx="89154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living Savi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still calls to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king us to follow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love and fai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28736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ed with Excitem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990720"/>
            <a:ext cx="9144000" cy="46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every corn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thousand voices 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s to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comes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ame of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716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0720" y="1447920"/>
            <a:ext cx="812988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one great shout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cclamation loud triumpha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ng breaks forth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Hosanna to the King!”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Hosanna to the King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Mantos y palm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sparciendo, v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l pueblo aleg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 Jerusal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é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ntos y Palmas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6:43:05Z</dcterms:modified>
  <cp:revision>46</cp:revision>
  <dc:subject/>
  <dc:title>PowerPoint Presentation</dc:title>
</cp:coreProperties>
</file>