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03DB-3B29-42D7-B5B0-DF42926A8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6627-0C42-4968-853F-F424176C1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4768-07E7-4889-86A2-7667B35AC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00CD-CE04-4970-9D6B-7F9CCE6B3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227E-1F1C-45CC-9639-3A3FEC545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CDAA-CE57-4B7C-851A-6097D3945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B62F-7ADB-484F-A135-D59E19E7D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FBA9-F17A-479B-B44D-D4B03BB66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9294-F987-4CE9-B6BE-742644C6F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5EAC-CCE8-4F1A-9440-DED8CD71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DE5A-0C56-49AF-829B-91DF5A9A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A2CE-31B5-4C2D-8488-92C422A2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28017-A26C-4102-97DA-091C915461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re Is a Balm in Gile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7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Is a Balm in Gilea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1440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African American spiritual (Jer. 8:2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82880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re is a balm in Gilead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make the wounded who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re is a balm in Gil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heal the sin-sick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Is a Balm in Gilea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Sometimes 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eel discourag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ink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ork’s in vai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then the Holy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vives my soul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Is a Balm in Gilea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6760" y="1477800"/>
            <a:ext cx="861048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re is a balm in Gilead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make the wounded who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re is a balm in Gil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heal the sin-sick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Is a Balm in Gilea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Don’t 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eel discourag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Jesus is your frie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if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ok for knowledg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’ll ne’er refuse to l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Is a Balm in Gilea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6760" y="1477800"/>
            <a:ext cx="861048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re is a balm in Gilead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make the wounded who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re is a balm in Gil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heal the sin-sick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Is a Balm in Gilea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If you can’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each like Pe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f you can’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ay like Pa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ust tell the love of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ay he died for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Is a Balm in Gilea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6760" y="1477800"/>
            <a:ext cx="861048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re is a balm in Gilead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make the wounded who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re is a balm in Gil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heal the sin-sick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42:47Z</dcterms:modified>
  <cp:revision>117</cp:revision>
  <dc:subject/>
  <dc:title>PowerPoint Presentation</dc:title>
</cp:coreProperties>
</file>