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F3A-44EC-411B-B61D-C2B1E262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92B-3D95-4F77-ACAB-2CA3F04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BA0-242B-49E1-8AD6-AB10A6DA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E49-0448-4515-9782-2B97C34E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292-4291-4D4E-9CA7-4C9123C0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154-0E2A-4363-A6CE-7974C7B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E70-7D1D-4B8B-AF91-40AE211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F34-FABC-4F49-AF93-861F278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818-05BC-47EE-AD3B-158C622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E25-79BE-463F-AC9A-A0E65C8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2F7-4E02-49FA-887E-03A6104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739-791D-495C-BF27-11A9135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0DD-CC8B-4AD8-B96C-22EA01A6E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ise, Shine Ou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ight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750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rise, shine 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ght has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olding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ream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4360" y="160020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86 (Is. 60:1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hines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od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distant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lory glea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bove earth’s valle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wit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appea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ry its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ations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your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walls surpa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p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numbered gat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open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athe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he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lco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sou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olenc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well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r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arkl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venu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dancing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low with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thei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5:49Z</dcterms:modified>
  <cp:revision>55</cp:revision>
  <dc:subject/>
  <dc:title>PowerPoint Presentation</dc:title>
</cp:coreProperties>
</file>