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96C1-7EDD-4E0A-98FF-C551F6DD3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B128-617A-4A51-8A7E-CEEC76565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1232-0C18-4C81-B53A-BE2F047E4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D0F7-3319-453C-B472-AD38E2AF7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67CC-C318-4230-994F-AEA9AF004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EE6B-BE03-4D10-BE9A-842B0F9D1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5D31-A9FD-4B51-8ACF-A578C9E5F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407E-2F44-40B0-ABF1-46E964A5C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6B1A-4631-4ECA-B02F-236903282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628B-D313-4170-BFDB-31268AD64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AA93-CAFC-4C3B-B535-6F9A39B58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A0F8-6FF9-4FF8-96F5-7CEB4801D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C1D18-F627-4004-96A9-657072026C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ome, Let Us E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2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859040"/>
            <a:ext cx="9144000" cy="439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, let us ea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now the feast is spre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. 4 © 1972 Contemporary Worship 4: Hymns for Baptism and Communion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ans. sts. 1-3 by permission of Lutheran World Fed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Let Us Ea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143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Sts. 1-3.  Billema Kwilila, 1970; trans. by Margaret D. Miller;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st. 4, Gilbert E. Doan, 1972; alt. (1 Cor. 5:7-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981080"/>
            <a:ext cx="9144000" cy="23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, let us ea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now the feast is spre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762120"/>
            <a:ext cx="9144000" cy="483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Lord’s bod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take togeth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Lord’s bod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take togeth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066680"/>
            <a:ext cx="9144000" cy="483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Come, let us drink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now the wine is pour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, let us drink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now the wine is pour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Let Us Ea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914400"/>
            <a:ext cx="9144000" cy="483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’ blood pour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drink togeth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’ blood pour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drink togeth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990720"/>
            <a:ext cx="9144000" cy="599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In his prese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we meet and res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his prese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we meet and re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Let Us Ea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066680"/>
            <a:ext cx="9144000" cy="483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prese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our Lord we gath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prese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our Lord we gath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762120"/>
            <a:ext cx="9144000" cy="599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Rise, then, to spre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broad God’s mighty W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ise, then, to spre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broad God’s mighty W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Let Us Ea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838080"/>
            <a:ext cx="9144000" cy="599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ris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ll bring in the kingdo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ris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ll bring in the kingdo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42:00Z</dcterms:modified>
  <cp:revision>128</cp:revision>
  <dc:subject/>
  <dc:title>PowerPoint Presentation</dc:title>
</cp:coreProperties>
</file>