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3F7-E759-463A-89C8-A75BF241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A25-DE17-4BDC-AEE0-2BC7FCEE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4D4-D4B3-446B-A8F2-86B9462A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65B-9B8F-422E-A361-4E838134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978-A6CC-4C25-B45C-5DBF84E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1C0-7779-47FB-A9EF-9B9EADDF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0FC-E90A-44E5-B4CD-026B0FE2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E17-BAC2-42CF-88DF-FF46B44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1A1-7C23-439E-AA36-6FB84F26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BDE-835F-49B2-B227-586A872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328-20E0-423F-AA07-65A135B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DE6-F278-4030-8539-8EF6C17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502-03FB-4E15-987D-51B63FA86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Fr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ly behold this your fami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m our Lord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was wil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be betraye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ands of sinn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Fri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7000" y="914400"/>
            <a:ext cx="3944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suffer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pon the cro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now lives and reig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for ever and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1-01T16:16:02Z</dcterms:modified>
  <cp:revision>17</cp:revision>
  <dc:subject/>
  <dc:title>PowerPoint Presentation</dc:title>
</cp:coreProperties>
</file>