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CCC-443E-44E4-AF06-EC47A5DE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D3C-A416-4B61-A2FC-ED30F87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F01-8463-482A-9A0E-1E17BA4A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5C8-B2C5-4A93-AE52-78598FD6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CFA-7CEF-4E8B-8FF6-205C110C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1DA-69B0-4008-A8FD-410BE22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430-7447-4485-93C8-09B2FC1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5102-A8D6-4CF2-B4D0-395ED28A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6AF4-55A5-4BE8-9BA9-6F4A333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704-EC88-41DA-8626-A4590F4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D7B9-A90A-4397-91DD-A3BC727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E1C-1756-492C-B59A-A239C5C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906E-8F98-493D-A061-3BA9B82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B70F-E0BC-4C62-B075-35C5333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BC9-A443-4962-8EB7-C9E03686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E011-5168-4983-B103-3CC01041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12D-BAF1-4E75-AC79-A7390069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A35-13FE-43FA-9648-81E58C8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2AE-80CD-4CEA-8D9F-FF6ADC57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9B9-38AD-47D9-A5C0-32004A2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4CF-EBE7-46D3-9475-CE5ECA8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B50-7D58-4D79-9C45-B973C80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E57-2CFC-4A27-BC2E-CD4C965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2B6-0DAD-4741-A92D-E922B41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9F33-02BD-4192-BE5C-C0E7CEA6F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F5B-125F-4DBB-A2E8-0689451EE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52480"/>
            <a:ext cx="914400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860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190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7:42Z</dcterms:modified>
  <cp:revision>123</cp:revision>
  <dc:subject/>
  <dc:title>PowerPoint Presentation</dc:title>
</cp:coreProperties>
</file>