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27E-172F-4A44-8BE6-DB3D1706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26B-F20F-454D-9385-A9D547CA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1C1A-F1A6-42B2-8A9C-AE55FECC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360-706F-462A-8A20-3144DC5D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12B3-A151-47E8-9827-148E8D9F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B592-5455-4DA9-8C51-78771508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F396-3C58-4887-B30B-A94538ED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F003-03D5-4BC7-AA0B-FB5C1B70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78FE-E5F7-481B-AFC1-02D7D6CA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1D43-31B9-4027-A55D-5AC7BF2E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8EA7-A4DF-42AA-BEFD-803187E7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846-973C-4912-8ED3-FB95A779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9A1E-331F-4752-B8E9-DAA96045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8C81-83C8-4182-A3AA-1CFF648E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4AFC-379A-4E53-994D-D8C1C463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A991-1093-4018-A5A4-40065551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9249-EA80-419C-B08D-378B0ACD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3F0-AC9F-4B25-ACF1-31DEE523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AC5-5BEA-4FD0-887D-A1664F23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DC1-E9AD-4754-B844-C9D7A405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440-EEA4-4D90-958E-5E6F460E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F38-E2C0-4741-8F5F-3790C4E4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510-732D-495B-A410-C59B49B0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07D-3176-49CB-B37D-BADEA0EF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43DB-E750-40F5-9B26-D4D5EE065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BB7F-38D6-4638-AB13-EFCC08564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320" y="13644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at Does the Lord Requ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99072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1. What does the Lord requir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for praise and offering?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What sacrifice, desir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or tribute bid you bring?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520" y="762120"/>
            <a:ext cx="7539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Albert F. Bayly, 1949; alt. (Mic. 6:6-8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49 Albert F. Bay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just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erc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humb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Rulers of earth, give ea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 you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know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God your pleading h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cr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ruelty grow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just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erc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humb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l who 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alth by tra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hom the worker toi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k not to win God’s 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greed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erce soil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just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erc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humb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How shall our life fulf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law s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d and high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Christ endue our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race to fortif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just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humb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858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o justl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ve merc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lk humbl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your Go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32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2. Rulers of earth, give ear!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Should you not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justice know?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Will God your pleading hea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while crim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nd cruelty grow?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o justl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ve merc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lk humbl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your Go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1736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3. All who gain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wealth by trad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for whom the worker toils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ink not to win God’s aid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if greed your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commerce soils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6858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o justl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ve merc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lk humbl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your Go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6360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4. How shall our life fulfill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od’s law s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ard and high?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Christ endue our will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grace to fortify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86688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n justl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erc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’ll humbl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lk with Go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at Does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 Requ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5909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at does the Lord requ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praise and offering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sacrifice, des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tribute bid you bri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49 Albert F. Bay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97840" y="1676520"/>
            <a:ext cx="5545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Albert F. Bayly, 1949; alt. (Mic. 6:6-8)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1-29T13:20:41Z</dcterms:modified>
  <cp:revision>11</cp:revision>
  <dc:subject/>
  <dc:title>PowerPoint Presentation</dc:title>
</cp:coreProperties>
</file>