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294-A818-4341-9F0E-2967DF9F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B5B-7255-49E9-9401-9E033A7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22D-5E73-435E-8E2D-1918A77D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D0E-D5BE-40DB-90CE-D47DCCC4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884-1E9F-47A7-956E-FF87CDBB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DF1-085C-4D77-8AFC-B8AB2F2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0B2-15FF-41BF-8B23-E34F54D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1AE-FF94-4152-BCC2-B04F552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86C-A726-4178-89B3-3C696EF8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B66-DDCF-4414-BE69-EA89BCC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073-9AE0-4F4B-8033-7C6867C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AC5-93AF-47AC-B4EC-C576258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77B-15E8-4E73-8C18-9054D3B12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Holy Wings, O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y holy wings, O Savio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read gently ove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et me rest secure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good and ill in the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Gracia Grindal and LaRhae Knatter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6600" y="1143000"/>
            <a:ext cx="77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65; trans. by Gracia Grindal, 1983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91:4; 73:26; 119:114; 51:10; 1 Pet. 3: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ock and hid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y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ved within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ash me in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oah’s cleansing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a will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eart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into thy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we sweetly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 us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31Z</dcterms:modified>
  <cp:revision>12</cp:revision>
  <dc:subject/>
  <dc:title>PowerPoint Presentation</dc:title>
</cp:coreProperties>
</file>