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53A-DBCF-4CA5-BFCD-51FA2F84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50D-C28D-4BE9-BE23-729A60E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198-0017-45FA-8854-6208DECC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D1B-E014-4626-90C7-F1EDFA9B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171-49B0-4F8A-8AE3-B719E867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92A-BB9F-4465-AA67-3EBDADD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04D-973B-4682-944A-4860C8B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FF8-8594-440A-B3A0-C9AD9088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1DE-9448-47B4-A1EA-1655161D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20A-7157-4BB8-B8DA-7D1ABF8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B27-D8AD-44B5-B0D8-3F1161A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155-26DD-4B48-9AD4-CF4FDE9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FB73-2625-41AB-A087-828AFCD53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ow Ye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mpet,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50 (Lev. 25:8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ow ye the trumpet, blow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adly solemn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 nations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rth’s remotest bou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e gospel trumpet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s of heavenly g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ed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, ap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your Savior’s f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to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, our great high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full atonement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weary spirits,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mournful souls, be gl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xtol the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ll-atoning La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demption in hi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e slaves of sin and h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iberty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fe in Jesus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lest in Jesus li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Ye who have s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n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eritag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hav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ck unb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 of Jesus’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5:26Z</dcterms:modified>
  <cp:revision>122</cp:revision>
  <dc:subject/>
  <dc:title>PowerPoint Presentation</dc:title>
</cp:coreProperties>
</file>