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8E2-D997-4BBB-9FC0-40B3F9C5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174-14D0-4A4A-A21A-6C1097D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7F6-0B22-4EED-BCBA-08982E45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3C1-A267-47BA-947B-6C1FD064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199-0AC0-4C43-BA56-63C214C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46E-C180-4CB0-9ACB-98396219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EC9-6548-4CAE-8687-DF4C3723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095-6652-4A01-A5BC-EE12035B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CCC-B811-4F4B-BD3E-9C8BB57E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540-0C73-4385-9F97-CE7E95B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55E-6B02-4144-99E1-F5960472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A06-1E71-4A3F-BD5C-7F5E775E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2757-C1EA-4BF3-91F5-CFD799362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om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to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sie S. Eslinger, 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to you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my frien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’s full mer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you, my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y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your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e your shal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e your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9:05Z</dcterms:modified>
  <cp:revision>159</cp:revision>
  <dc:subject/>
  <dc:title>PowerPoint Presentation</dc:title>
</cp:coreProperties>
</file>