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957-5B93-40DC-BE30-B5957986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3BB-0FDD-4B7B-A1A4-4BA69EA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BBE-369E-4357-8AD7-117EF7D8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5F6-02C8-44E8-A063-238DE2D5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856-2D00-4318-A9BE-4F79981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222-8B21-46CF-A84D-628F7284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AEF-EFA0-4BB2-A82D-1FD508A3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D70-6A3A-41C0-BA79-19E687B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B60-333C-4F3E-AF6B-62F2B740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032-564C-4383-8C7B-A9CFB8A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80C-A7E4-409B-A068-97F8931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02D-9F98-4804-90E6-D9BAC19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9564-6CB9-4C07-B614-0828E7097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e La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La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9th cent. campmeeting song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Ellen Jane Lorenz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ing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of Calva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that was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lives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nterced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49Z</dcterms:modified>
  <cp:revision>56</cp:revision>
  <dc:subject/>
  <dc:title>PowerPoint Presentation</dc:title>
</cp:coreProperties>
</file>