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812-2E46-40E4-8DB3-6BFF1EEE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1A4-5437-4650-8D54-374B194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EFB-8A00-42AF-A0BB-2099E16F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E50-5ECF-4C8F-906D-476CB5B0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1D1-F88C-4509-8218-FFDB6C3A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11C-7FAE-4F9D-A960-3C00C670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4ED-3FB7-427D-8B47-4D9B2146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30C-7DCB-43DD-9216-C3C76BA5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B14-064C-4EAB-9EBC-C61700A1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001-6524-4DBF-BA60-C9F5E2F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791-8AB3-474B-8538-2D87742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69C-A98F-45B6-BC44-468DE338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C67B-C633-4449-8BF3-9E98142DF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Close of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05120"/>
            <a:ext cx="8839080" cy="30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 Lord my God, I thank thee th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brought this day to 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ose. I thank thee that thou do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ive rest to body and soul.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Close of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3720" y="106668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ietrich Bonhoeffer, Germany, 20th c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rinted with permission of Macmillan Publishing Company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etters and Papers from Prison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v. edn. by Dietrich Bonhoeff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3, 1967, 1971 SCM Press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143000"/>
            <a:ext cx="861048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 has been over m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arding me and preserving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my feeble faith and 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rong I have done this d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lp me to forgive all 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wronged me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810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I may sleep in pe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neath thy care, and defend 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temptations of darkness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81040" y="1219320"/>
            <a:ext cx="856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hy hands I commend m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ved on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this househol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my body and soul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thy holy name be prais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0:05Z</dcterms:modified>
  <cp:revision>17</cp:revision>
  <dc:subject/>
  <dc:title>PowerPoint Presentation</dc:title>
</cp:coreProperties>
</file>