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ED5-5AF8-421E-97DD-4A330F87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506-B6AA-4966-9F4A-AFF1BFF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973-8AED-4B34-93C8-249288CA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038-825A-4BF2-9C7D-6E836E2D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4D1-79AD-49C3-A08F-1715A624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539-A3B2-4D5B-AAB8-AA540930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5DF-D25C-471E-ACB9-9FF081C7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03E-5C05-418C-AB20-EDC35401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FBA-608B-4E39-8F9A-004CF11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8F8-79CE-4143-BA81-036CA3F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89E-59BB-4AD4-A5B2-002B86B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E16-8E6B-433A-86D8-3D8C0BAC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ABC-C67D-417A-895F-BD256E9D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h, Holy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Heermann, 1630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h, hol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ast thou off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to judg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in hate pretend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on 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w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my deser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oes der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e own rejec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afflict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o was the guilt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ought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as, my t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ath undon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t was deni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ucifi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, 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heep is offe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lave hath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 hath suff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aton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e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erce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m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y incar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ortal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ife’s obl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itter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refor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I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ever pray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07Z</dcterms:modified>
  <cp:revision>49</cp:revision>
  <dc:subject/>
  <dc:title>PowerPoint Presentation</dc:title>
</cp:coreProperties>
</file>