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C03-4DC2-4BA6-9CDD-A9CC1645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B2A-6536-4043-8997-73525EF7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DA5-A6D7-4581-AB8F-27127C3A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725-DA78-4418-BF9C-181B8065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72C-E9E4-4F6C-A790-C79A4CC0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E26-7AD6-4603-A307-65A6F596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3FE-677B-4F8E-B8D5-7CA5130C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BD0-8A1E-4C70-B29A-3C5203B5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BAF-F949-423B-BCED-AC5918D5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960-81B3-49C0-A815-A2A3E778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0F0-7849-4B16-8F38-E4E1F63E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417-98D3-4013-AD55-14339341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24E3-B8B8-45F0-9DFA-BA689622F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God, I Lov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y God, I lov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because I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aven there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yet because, if I love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ust for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5000" y="1066680"/>
            <a:ext cx="65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Latin 17th cent.; trans. by Edward Caswall, 184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, O my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ids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cross embr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 didst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ils and sp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nifold dis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n why, O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I not love thee well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for the s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inning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of escaping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t with th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aining a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seeking a re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s thy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t lov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everlasting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So would I lov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est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thy praise will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thou 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ing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eternal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3:20Z</dcterms:modified>
  <cp:revision>10</cp:revision>
  <dc:subject/>
  <dc:title>PowerPoint Presentation</dc:title>
</cp:coreProperties>
</file>