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034-7E8E-4266-A98F-56877BB2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D71-1542-43A1-A102-0289573E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E29-B3B6-4F09-B092-DA93D622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1CE-B2D1-4C7B-B625-FBE3E1E0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92A-03C4-4914-8D56-3188A5AF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728-D865-4F6F-AD93-05EE8313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559-1913-4454-87D4-BE71C463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7F9-6E8B-4C80-B61C-AED053EB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28C-C707-4BBD-BF2F-BE960965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962-276F-46CA-8568-CA47A84B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C55-96B7-48F6-A090-D9D6B7D6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A1A-19DB-427C-9F52-5E928E5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5BF5-D32A-4CAF-B518-6ED647E10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rough It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37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ve learned to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rust in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ve learned to trust in G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It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ve learned to dep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pon God’s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5:47Z</dcterms:modified>
  <cp:revision>40</cp:revision>
  <dc:subject/>
  <dc:title>PowerPoint Presentation</dc:title>
</cp:coreProperties>
</file>