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1861-BD8E-4699-9D4E-7EF86807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B3AF-1E44-4B20-A10D-B24DF911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60A6-89FF-43D8-A4C8-4DA4ADA1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241F-55A1-46E7-96A3-F4017960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2624-3798-4EED-8A53-7208FDDC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F6F-17B1-41DC-8BB9-F2CD59FA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CCCC-F4E3-4AE3-AD3E-01B40E66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9240-028A-4125-85E4-E885B961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005F-CC7F-4105-A982-AA56BCE8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A83F-5C68-4DDF-B583-0497E30B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C9A2-D712-4C34-B339-84327955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A1F0-1168-4FFB-AF85-FEB2A918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FD2E-6DE6-4618-AFCD-8FD779529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m I a Soldier of the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m I a soldi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foll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amb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I a Soldier of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84000" y="1092240"/>
            <a:ext cx="598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Isaac Watts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Sermons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1721-24 (1 Cor. 16:1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e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umph from af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faith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it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When that illust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 shall 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mies shin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I a Soldier of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robes of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lory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I f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wn his cau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blu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peak his na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Must I be carr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k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flow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ds of 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I a Soldier of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others f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in the priz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iled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y sea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re there no f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e to fac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ust I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m the floo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I a Soldier of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this vil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friend to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lp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o Go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ure I must f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I would reig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crease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rag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I a Soldier of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bear the to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ure the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pported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y saints in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glorious w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conqu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they di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I a Soldier of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7:04Z</dcterms:modified>
  <cp:revision>9</cp:revision>
  <dc:subject/>
  <dc:title>PowerPoint Presentation</dc:title>
</cp:coreProperties>
</file>