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B08-B19C-4AD4-93D3-9E80AE45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34A-1D35-4DF2-8AD4-D570431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55A-2E9B-432E-B4C0-9527876C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AE6-96F9-4F05-A813-1A1B1407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91D-4CB6-4E25-940A-E5BB9DE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7CB-B7C1-402F-88EB-6A1DDBAD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0A1-35DD-4D0F-BAA5-ED586F6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834-D4C8-4A9B-9C6A-903415C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29B-88C6-4989-A73D-9A99B4E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6D3-4AEF-4D93-8B55-591FF79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026-0A3E-40C7-A4B6-719B7466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81C-F0DD-433F-80F4-7D6A6BFB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81B-61AB-4F3C-9FE7-1E3B742F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lendo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Glory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lend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that bring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0080" y="167652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mbrose of Milan, 4th cent.; trans. by Robert S. Bridges, 18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’s living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ys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ou tru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us thy gl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all in royal radian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b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s st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ather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of glor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anish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guid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obly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ll env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ubd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ill fortu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to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rongs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20Z</dcterms:modified>
  <cp:revision>15</cp:revision>
  <dc:subject/>
  <dc:title>PowerPoint Presentation</dc:title>
</cp:coreProperties>
</file>