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6C0-F134-4478-B873-DA004FE6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3E0-28BD-40BC-B0A8-64958425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028-5684-4B38-8967-3031C420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463-4BEE-4AFE-95A7-00237CD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8CE-9873-412A-8A8A-7F29CE0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2AD-C22E-40F1-B9D3-3D0F957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EAC-DE4C-4775-B53E-4071019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7DB-3B34-4C9D-95F3-7A7ABA9F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277-537A-48A9-9112-60FFDAB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DDB-AC01-4ABB-9C4B-63D983A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092-30DB-4CA8-8B96-88E0819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9BA-B42F-4494-96B3-DDF9B1EE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1B5-113A-4DD2-B977-0F9B9BDE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Thy Boundl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68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, thy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ought can r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ongue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8760" y="154944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aul Gerhardt; trans. by John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suffering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eaknes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,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ortan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 a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m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 m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or me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knit my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wit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ival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whol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one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nstan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rant that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dwell, bu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love al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ssess m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, my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nge flames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act,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, b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ve, how 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y r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in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li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, anguish,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m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may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ar,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ink, but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26Z</dcterms:modified>
  <cp:revision>12</cp:revision>
  <dc:subject/>
  <dc:title>PowerPoint Presentation</dc:title>
</cp:coreProperties>
</file>