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A35-68BC-4217-BEAD-B82A3AEC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8DB-E69C-445D-B8CA-C953E1E7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B64-75C0-44DD-AE51-D8EE464E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691-90E2-43C6-AB68-5237DBCB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367-83B9-40D6-9A2B-656C2F7E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7CB-C79B-4B90-8E34-9050DA0F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984E-3DE8-4EBC-9B99-BD1F9AB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A4BB-5048-4AA6-936D-F1D685F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9E4-4BAA-4184-BE45-B75DC3F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C6D-1E98-4229-AF0A-56AC211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3E4D-4433-4914-9918-C6CA8D1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9B4-9A65-43E4-9D84-E1309A5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AAF-F976-460D-BD62-24790C7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F131-226D-4E64-BA0B-5DEF4BC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686-80A1-473C-A469-244D972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CA86-ADA0-4370-91A5-C8950957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386D-3C78-4F15-9F71-AA82A8F2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890-CAEA-470B-BE99-4841B44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82A-81D4-4F9A-8853-80994FB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BEC-479E-4FE3-B2F5-A07F014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00B-A290-493C-AA25-D192671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487-2EE5-4E63-9B4B-71670CE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982-C945-4108-BC87-00A537F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70B-AF2C-4140-B641-D13E238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0AA1-3628-4F90-B404-464F9122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288-EE02-4BB1-930C-A70AC966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6858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00" y="12193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7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 he arose,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666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16:35:01Z</dcterms:modified>
  <cp:revision>79</cp:revision>
  <dc:subject/>
  <dc:title>PowerPoint Presentation</dc:title>
</cp:coreProperties>
</file>