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BA2-822C-4116-9ADD-B2AA8D4C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96D-BC84-4FD7-A85D-51F85741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84C-2379-43FC-B781-AF8F71B6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798-240E-470B-8C28-4141E7DB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EE5C-0881-4AD0-B3A7-07D52374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0EF-8D8B-4121-805B-446ED624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B94-93CD-49C4-8E0D-59762076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5A9-71F5-4C42-8A0B-542E0B3E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0F4C-6D51-4B75-A507-472A364B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BD8-F701-42BE-9ACA-EBF75321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578-7C82-4AD5-B33A-E93BB25A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276-AD15-4ACB-851B-5A047C1C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2298-B506-4B76-8E75-CEC6F3CF7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eaves of Summer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Una Espig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aves of summ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ed golden by th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pes in bunches cut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ripe and 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3 Ediciones Musical PAX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, 1973; trans. by George Lockw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29528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 convierten ahora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n y vino de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el cuerpo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sangre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parti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misma comun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os trigo d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mo sembr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 molino a la vi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s tritura con dol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os hace pueb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o en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o granos que 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cho el mismo p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o notas q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jen un can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o gotas de agu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se funden en el m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 cristian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 cuerpo for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mesa 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os se senta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hijos s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 compartirá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a misma esperan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ndo cantará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vida como herman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 a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79840" y="257184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converted in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and w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body and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dea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sh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me communion m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wheat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m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wer s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aves of Summer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millst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grind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wn with sorrow and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God make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people bound b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grains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one s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loa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note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oven into s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aves of Summer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droplet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er that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nded in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, as Christi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ody shall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gether we shall si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God’s childr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’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aves of Summer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ame hope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sing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walk alo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s, sis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fe, in love, we’ll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Una espiga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rada por el s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racimo q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rta el v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6:02Z</dcterms:modified>
  <cp:revision>142</cp:revision>
  <dc:subject/>
  <dc:title>PowerPoint Presentation</dc:title>
</cp:coreProperties>
</file>