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DB4E-0EB7-46D6-9D8B-D95F78F62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8C34-86A1-47C4-A5E5-2462E28C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1A7A-B9EF-48DB-A62D-B6C9E600B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254D-62BB-40FE-B616-BE16683F4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5A7B-B32B-4D5F-B50F-78783BD0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8A1E-AD95-4FDC-98CB-E2A105D3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7C8F-8BE7-48DB-99CF-3DFD1708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B493-971F-4404-A573-5966955A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C455-CDB0-4BB9-8FFB-42B4E66F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87A4-3523-4A4B-9DF1-F093ECF2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B090-62EC-4E8B-A042-31322C74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472D-878F-4A6F-8CD9-7D1686DE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66D3-8B73-44A9-B627-A132E9B41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Holy Ghost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ur Souls Insp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5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ome Holy Gho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ouls inspi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ght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celestial fi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Holy Ghost, Our Souls Insp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4840" y="1600200"/>
            <a:ext cx="822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ttr. to Rhabanus Maurus, 8th-9th cent.; trans. by John Cosin, 162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the anoin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 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dost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venfold gifts imp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y blessed unc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b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comfort,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ire of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Holy Ghost, Our Souls Insp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able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rpetual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ullnes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blinded s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oint and che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oiled f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abund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y g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Holy Ghost, Our Souls Insp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ep far our fo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peace at ho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thou art gu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ill can 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us to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ather, 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e, of bo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but 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Holy Ghost, Our Souls Insp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rough the ag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al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, this may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endless song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to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me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ther, 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ly Spirit. 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9:54Z</dcterms:modified>
  <cp:revision>9</cp:revision>
  <dc:subject/>
  <dc:title>PowerPoint Presentation</dc:title>
</cp:coreProperties>
</file>