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FA6-6242-48C5-93EA-43912C06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605-3C3A-4830-BB6A-639A5DB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F7B-97D1-4647-94B0-754A282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83C-A092-4567-8E92-D0B3B6AF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C2B-B023-42B7-91A1-5E2241D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A68-0249-4020-A08F-3E1C2124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9CA-9411-4393-A41B-D651204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465-97AC-4DF8-AA63-5E3398E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259-7C9F-4BF2-98D2-5F40A9AE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CE1-02B5-4EB6-B4EF-2E098FB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6CF-7AA4-4943-A02B-CF90CDB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8D4-FD76-4367-B45B-BB78FAA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06BA-39EC-4E6C-82B9-560B3D71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h 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7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every thing and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that you have ma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h Wedn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4440" y="91440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(Gen. 3:19; Ps. 51:10; 1 Th. 2: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form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rom the dust of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raise us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edemptiv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cro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e in us clean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t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new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ea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your call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2:42Z</dcterms:modified>
  <cp:revision>15</cp:revision>
  <dc:subject/>
  <dc:title>PowerPoint Presentation</dc:title>
</cp:coreProperties>
</file>