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765E-114F-47EA-84AF-3327A7E5E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5B5B-6AA4-4B58-A094-30C10F5A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62C3-073E-4ABC-BB95-C47CFC029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B34C-5FC1-4DEB-8312-B38CEAA57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9C58-B272-4579-8A5E-383958BD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2EDF-1AC3-45A8-AEE9-E298AC63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298F-9556-49F8-9FCF-561A6165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7120-7727-4ED1-9C7F-85F4F15F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2F38-C293-4BC8-8EE0-681C6BFC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737E-DE00-48DC-86F5-A4A077BF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816A-AAB5-4041-80BD-0849A232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BCF5-765B-4375-8913-724881AB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5444-7021-4A0B-9914-E409F7B79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Sinners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o the Gospel Fea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3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Sinners, to the Gospel Feast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47 (Lk. 14:16-2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, sinn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gospel fea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every so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 Jesus’ gu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thou, this mom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 his c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ive for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died for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 need not 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 left beh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God hath bi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humank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Sinners, to the Gospel Feast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Sent by my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you I ca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invit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to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, all the worl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, sinner, thou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ings in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ready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Sinners, to the Gospel Feast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Come, all ye sou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sin oppres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 restless wander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fter re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 poor, and maim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alt, and bl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Christ a hear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lcome f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Sinners, to the Gospel Feast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My message 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God recei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 all may 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Christ and l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et hi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heart constr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suffer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die in v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Sinners, to the Gospel Feast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This is the ti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more dela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is the Lor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ccepted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00:23Z</dcterms:modified>
  <cp:revision>95</cp:revision>
  <dc:subject/>
  <dc:title>PowerPoint Presentation</dc:title>
</cp:coreProperties>
</file>