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476-AC8B-4028-A2E0-5D68EAAB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921-4154-4BA5-B2F5-E369A4DA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868-8736-445D-8B76-FA554C15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D93-0690-4EBC-B3D2-FA1B0CE4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815-68BB-46C6-A2A5-6274822B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DCE-95FC-46B4-A5D3-26C563CF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DC1-EF05-400B-A356-CAF4A0EE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FE3-494E-4E8F-93D4-717CCA72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09F-23AF-444D-9C4A-EE8EC300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069-C5B5-44E7-BBFF-AE7F2CF6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285-BC42-49CF-883F-D7DAD0B2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D61-495A-4024-9224-E6557294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1C47-9E08-43EC-9072-BBC4447EB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e Love to Thee, O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Elizabeth P. Prentiss, 186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ore love to thee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love to the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thou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I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bended kn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nest plea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nce earthly joy I cra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ght peace and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ee alone I seek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what is b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shall b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Let sorrow do its wor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grief and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are thy messeng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their refr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y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ith m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n sh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test br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sper thy pra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b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ting c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shall 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still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shall b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7:39Z</dcterms:modified>
  <cp:revision>151</cp:revision>
  <dc:subject/>
  <dc:title>PowerPoint Presentation</dc:title>
</cp:coreProperties>
</file>