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DFA-6E84-4DA2-93B2-120807CE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196-DC79-4C87-8B28-C42BFAB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4FE-1FC2-4BE3-97B2-10D5FB1E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11A-91AE-435F-8BB2-73ED5B30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373-8549-4B32-97DB-0F21632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111-34F2-4788-A749-938C3F4C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469-CCB1-4D1F-98A3-F1936923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A71-A3A8-4CE1-AAAB-827700B6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998-AAA6-4CE0-8E52-FE19955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55C-8A5E-460C-8765-C4CB447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29D-F298-43BC-8A9D-40B71FC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098-B66A-44CF-B8C4-45FFEC1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9E6B-683A-4327-BDA1-1A79CFCE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the Heal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ed Through Gali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 the heal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d through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Stainer &amp; Bell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440" y="160020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eter D. Smith,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nt woman straight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ugh and to sh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e twel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ssi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nt out in tw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 sick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new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There’s still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ch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ing to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ling and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f cam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ind came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paralyzed man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down through a 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ins were for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alking the p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th of his dau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d Jairus to w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took h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raised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l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blind Bartimae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out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 made him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ight was restor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lepers were hea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emons cast 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09Z</dcterms:modified>
  <cp:revision>18</cp:revision>
  <dc:subject/>
  <dc:title>PowerPoint Presentation</dc:title>
</cp:coreProperties>
</file>