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FD43-17E9-4B79-B5B0-D0140BBF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6125-9916-49C8-B7E2-3545D45C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7500-9523-4E5B-A6DA-AAB34078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5065-B443-460A-B95E-9993F7CD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86B9-6698-4826-98E0-24F0354E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B3CD-BCC4-43B9-8152-4B4A33C4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4994-1502-44C5-A62E-66F838CF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0E42-F10F-496D-A30B-DA632E58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6978-7910-4424-8161-F469F459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2045-554A-427F-8B1C-E8ACBA5C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5370-9950-40A6-8825-52E1E4FF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BDB2-0092-46CF-AB3C-DB06ADBF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9302-8F20-41AA-A00F-C205CEBA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93F6-3855-4660-A6B0-1127E6DD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BFED-1A31-4ACE-82D5-0CFA875D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E47C-C7A0-48B6-958A-61F04859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3683-AAF7-4798-BD46-8C6FD4A5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9326-28AC-4B30-AC93-63AADD2C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DA4F-555D-492A-B186-0157AB16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3A25-570B-41D6-9CFB-61447F13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3E15-FFBD-43D0-8126-D2F733D1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0342-BA22-4399-B837-0B96DB08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8670-E646-461F-933F-29F2A19B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23F3-5F6B-4003-85A4-036174B1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B220-3085-42F1-8EC3-1ECCB62AC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4326-3812-4BC6-B742-A517AA101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pen My Eyes, That I May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144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lara H. Scott, 18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4479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1. Open my eyes, that I may se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glimpses of truth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ou hast for m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16040"/>
            <a:ext cx="9144000" cy="490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ly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ait for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ady, my God, thy will to se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eyes, illumin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pen my e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 may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oices of tr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sendest cl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ile the wave-not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 on my 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thing fal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disapp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716040"/>
            <a:ext cx="9144000" cy="490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ly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ait for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ady, my God, thy will to se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ears, illumin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Open my mo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et me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adly the war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uth everywhe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716040"/>
            <a:ext cx="9144000" cy="490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ly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ait for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ady, my God, thy will to se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heart, illumin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pen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me prep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with thy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us to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286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pen My Eyes, That I May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9144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lara H. Scott, 18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7524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Open my eyes, that I may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impses of tr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hast for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8222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ace in my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nderful k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hall unclas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t me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98280"/>
            <a:ext cx="9144000" cy="430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ly now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wait for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ready, my God, thy will to see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eyes, illumine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82224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lace in my hand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wonderful ke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at shall unclasp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set me fre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Open my ears, that I may hea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voices of truth thou sendest clear;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while the wave-not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all on my ea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verything false will disappea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98280"/>
            <a:ext cx="9144000" cy="430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ly now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wait for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ready, my God, thy will to see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eyes, illumine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Open my mouth and let me bea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ladly the warm truth everywhere;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pen my heart and let me prepar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ove with thy childre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us to shar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98280"/>
            <a:ext cx="9144000" cy="430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ly now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wait for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ready, my God, thy will to see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eyes, illumine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98280"/>
            <a:ext cx="9144000" cy="506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ly now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I wait for the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ready, my God, thy will to see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eyes, illumine m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28600"/>
            <a:ext cx="9144000" cy="484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2. Open my ears, that I may hear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voices of truth thou sendest clear; </a:t>
            </a: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and while the wave-notes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fall on my ear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everything false will disappear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98280"/>
            <a:ext cx="9144000" cy="506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ly now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I wait for the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ready, my God, thy will to see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eyes, illumine m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7760"/>
            <a:ext cx="9144000" cy="553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imes New Roman"/>
                <a:ea typeface="Arial"/>
              </a:rPr>
              <a:t>3. Open my mouth and let me bear</a:t>
            </a:r>
            <a:br>
              <a:rPr sz="5100"/>
            </a:br>
            <a:r>
              <a:rPr b="1" lang="en-US" sz="5100" spc="-1" strike="noStrike">
                <a:solidFill>
                  <a:srgbClr val="000000"/>
                </a:solidFill>
                <a:latin typeface="Times New Roman"/>
                <a:ea typeface="Arial"/>
              </a:rPr>
              <a:t>gladly the warm truth everywhere; </a:t>
            </a:r>
            <a:r>
              <a:rPr b="1" lang="en-US" sz="5100" spc="-1" strike="noStrike">
                <a:solidFill>
                  <a:srgbClr val="000000"/>
                </a:solidFill>
                <a:latin typeface="Times New Roman"/>
              </a:rPr>
              <a:t>open my heart and let me prepare</a:t>
            </a:r>
            <a:br>
              <a:rPr sz="5100"/>
            </a:br>
            <a:r>
              <a:rPr b="1" lang="en-US" sz="5100" spc="-1" strike="noStrike">
                <a:solidFill>
                  <a:srgbClr val="000000"/>
                </a:solidFill>
                <a:latin typeface="Times New Roman"/>
              </a:rPr>
              <a:t>love with thy children</a:t>
            </a:r>
            <a:br>
              <a:rPr sz="5100"/>
            </a:br>
            <a:r>
              <a:rPr b="1" lang="en-US" sz="5100" spc="-1" strike="noStrike">
                <a:solidFill>
                  <a:srgbClr val="000000"/>
                </a:solidFill>
                <a:latin typeface="Times New Roman"/>
              </a:rPr>
              <a:t>thus to share.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98280"/>
            <a:ext cx="9144000" cy="506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ly now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I wait for the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ready, my God, thy will to see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eyes, illumine m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pen My Eyes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at I May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600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lara H. Scott, 18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Open my ey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 may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impses of tr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hast for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ace in my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nderful k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hall unclas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t me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1-22T12:55:59Z</dcterms:modified>
  <cp:revision>156</cp:revision>
  <dc:subject/>
  <dc:title>PowerPoint Presentation</dc:title>
</cp:coreProperties>
</file>