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CFB-5CF4-4C2D-A932-425E5874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1A8-5DAC-4C1B-ADCC-D8ECCB1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218-27C8-4818-BC49-C4E7AD25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AF2-3999-46CE-9BC4-A95267AB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741-7E64-4F0D-84F7-9701BC52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FB4-5505-46A2-8EDD-A43A64BA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00C-7ECE-47A4-B3D9-AD2A2176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7F4-F49A-44D6-8F2B-EEC51EF3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C7F-6F46-40E6-B53A-96C547B9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061-6090-4AE2-8B68-0703286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38E-C73D-4F8F-A0DC-F5A6AF1C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347-4A1A-4767-BF34-4C549FB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542-4DD2-47DF-85AB-2D2C42923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sten, Lord (A Pray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610480" cy="24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we come this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ee-bowed and body-b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y throne of gr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, Lord (A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6280" y="1143000"/>
            <a:ext cx="44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ames Weldon Johnson, USA, 20th c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58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7 The Viking Press, Inc., renewed 1955 Grace Nail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057400"/>
            <a:ext cx="88390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–this morning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w our hearts beneath our kne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knees in some lones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ll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e this morning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mpty pitchers to a full fount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o merits of our ow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pen up a window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av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600200"/>
            <a:ext cx="8686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n out far over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ttlements of glory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isten this mor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0:16Z</dcterms:modified>
  <cp:revision>15</cp:revision>
  <dc:subject/>
  <dc:title>PowerPoint Presentation</dc:title>
</cp:coreProperties>
</file>