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C68E-BC0A-430B-92B0-D498ADE98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C4C4-3C14-42F7-B63A-AF2A5625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FEE8-1A2B-47D7-B34A-04F15478B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6256-74A4-4877-AB0F-DFA38BA8B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E3FD-7F3E-423D-B099-8ECF85D6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7499-B1D5-4B62-91B9-D6BC5E4D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E2EC-3BA8-4BEC-8608-1B2AF17D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0C13-5E88-4A8E-86CE-1CD4FD04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E920-98A0-4C4D-A088-24261C8E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DF16-81E2-4940-8E27-C9E37257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444C-ED89-4444-ADD1-88640598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672D-E1E1-4561-95A2-D9A05632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68DA-7A8B-439B-9215-3910FF844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Church’s One Foun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19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The church’s one foundatio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s Jesus Christ our Lord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are his new creatio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y water and the Word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apt. © 1983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Samuel J. Stone, 1866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dapt. by Laurence Hull Stookey, 19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happy ones, and hol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give us grace that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eek and low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high m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well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heaven 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e and sought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e might ever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living servant peop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is own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t f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alled fo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every n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one o’er all the ear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charter of salvation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rd, one fai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bi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holy name profes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t one table f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one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ways pr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Christ’s own Spirit l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ough with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cornful wond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se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oppres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schisms rent asund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eresies distress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saints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tch are keep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cry goes up, “How long?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so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ight of weep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e the morn of s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Mid toil and tribul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umult of our w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ait the consumm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peace foreverm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i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ision gl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longing eyes are bl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urch vict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e the church at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We now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have un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od the Three in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re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commun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ose whose rest is w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6:18Z</dcterms:modified>
  <cp:revision>18</cp:revision>
  <dc:subject/>
  <dc:title>PowerPoint Presentation</dc:title>
</cp:coreProperties>
</file>