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4DE-0FD6-4058-AD2D-B2E394A8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269-E29D-4BF5-AF4D-36140991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FFA-9C40-4B0C-ADE2-CB17D2BD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710-3388-490B-8684-003E22B7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0734-3FB2-4192-93D5-713CA0F5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1FC6-4667-40BA-B06C-DCC6FEB9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3EC9-EE16-4C19-998E-C66B4CEE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3820-5A0B-4B2A-A3C1-EBD5CEC6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3A21-677C-44F6-AC48-7E037812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0920-9384-4B60-A6EC-98DD887E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2A34-C4BB-48C8-94C2-AE188F37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649-B768-4D03-A92B-85E219CB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B017-10C3-462B-AB56-3C4A4186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ABA-4301-41B3-B1AB-06C3109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45F9-D39A-4108-9B18-D48B10FA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E447-E0E9-46DD-A672-1C07B023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F985-7160-4018-9193-D5B40086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562-FE41-4D01-91C2-5301BA2B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19A-658A-41C2-838D-5A0860D0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8E9-663C-43E4-97F3-73A6D123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CE9-0B64-48B1-8D5B-59C3C530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41C-4770-4189-AA1E-41FC9B1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759-6198-406F-910D-9F93A476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807-DA01-41D8-847B-CB041AD9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7689-C455-4056-8C6D-042115198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0955-9FDE-42D1-913C-DE2D36304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456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8, renewal © 1963 Birdwing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the Living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5840" y="990720"/>
            <a:ext cx="433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Iverson, 1926 (Acts 11:1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t me, mol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, use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the Living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7621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Iverson, 1926 (Acts 11: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8, renewal © 1963 Birdwing Music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t me, mol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, use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19T21:22:25Z</dcterms:modified>
  <cp:revision>15</cp:revision>
  <dc:subject/>
  <dc:title>PowerPoint Presentation</dc:title>
</cp:coreProperties>
</file>