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74D-F487-4FEE-B17F-6B85EAE8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F5B-1457-479C-83B3-975FC4EE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852-B419-465E-ABE4-6EC44A50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73B-3E33-4B34-94D9-DEB20180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2E4-F09D-47CE-8B74-B9057A81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75F-FFE6-445A-A28C-BF00CC25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92CB-3AD1-4404-83BB-1200967A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BDB-2EC9-4D7D-B65F-284BCBA2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4D5-FF93-416B-B4F6-60EB1D26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093-08BD-43D0-B192-9BFDFEAE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AD70-2364-4816-9946-16A0C931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99C-0FF8-4094-912A-4CA89072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1FA9-DEF8-4173-8A2B-48CF0F8EC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s Finished! The Messiah 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’Tis finishe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essiah d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t off for s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not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Finished! The Messiah D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06668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62 (Jn. 19: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omplishe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crif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eat redee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 is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veil is re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aven is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Finished! The Messiah D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iddle w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roken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enter 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’Tis finishe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y guilt and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n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ifice bes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Finished! The Messiah D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e, for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mb is sl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finishe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just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 reign of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ath is o’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ay l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 set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Finished! The Messiah D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tan hath l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mortal pow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swallowed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0:01Z</dcterms:modified>
  <cp:revision>43</cp:revision>
  <dc:subject/>
  <dc:title>PowerPoint Presentation</dc:title>
</cp:coreProperties>
</file>