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9B9-184B-4F22-AA54-4179896B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DA3-4819-4BB6-9ED3-0B2BC585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1C5-F4C3-4409-BF9C-0232A4ED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C3B-6C5F-4DA3-8151-91BF38D4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080-E018-4FFD-AB26-A2D3D596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57D-2D2E-4EA1-A42F-580DF374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151-9D5C-42CF-A495-3F5C1FD7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87F-52BB-4DEF-A6F1-0DE193D2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21E-7E5D-4DC3-B3FA-BEBCA330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BF2-EA31-4626-B7AE-3992BE2B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39B-BAA0-4D0A-BEFD-F2583153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B3C-2E36-48EF-84E9-527CC56D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4639-2EE8-44FC-90D1-8BCE1DC02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Day Thou Gavest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Is E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y thou ga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s en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rkness f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y be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16002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Ellerton, 1879 (Ps. 113:2-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our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s ascen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aise shall ha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our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thank the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hurch, unsleeping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earth rolls on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watch is kee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sts not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day or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s o’er 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tinent and is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wn leads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other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oice of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ever sil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die the str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raise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 be it,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hrone shall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earth’s pr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pires, pas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kingdom st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ow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thy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thy s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0:47Z</dcterms:modified>
  <cp:revision>28</cp:revision>
  <dc:subject/>
  <dc:title>PowerPoint Presentation</dc:title>
</cp:coreProperties>
</file>