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4E0A-BCFF-412A-84BB-7E6A5A5F1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279F-87A4-4171-9506-43F3C75B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E6EE-448C-4FE2-8A77-A3BC9AEE8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C07F-5205-4505-8685-E5686B024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AD5E-A180-450E-A6BC-1FF35DF6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EBD1-3E51-4363-A25A-972681FD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A9EA-32E3-4178-B627-CAE16221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76D7-6BB3-435D-9603-E84B12BE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72A1-F311-4E57-A70F-575A0203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C8A9-275F-4C58-8E43-69965A6A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A40A-206E-4A68-B92D-71B1FD60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3028-1454-4EF1-BB20-0A6CCD1A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6BE3-DCB3-442E-B8CE-4673A35BA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at This Br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29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t this br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ink this cu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to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ever be hung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4 Les Presses de Taiz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 France; by permission of G.I.A. Publication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t This Br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Robert Batastini and the Taiz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é Community, 1982 (Jn. 6:3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1296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t this br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ink this cu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in m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will not thir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8:39:10Z</dcterms:modified>
  <cp:revision>123</cp:revision>
  <dc:subject/>
  <dc:title>PowerPoint Presentation</dc:title>
</cp:coreProperties>
</file>