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E2F-940A-4736-877E-3F5A36CB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C53-C7E9-4C67-8616-3D8A3FB5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9ED-7985-4578-BE73-81D18767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D7E-C79E-44A8-B981-F2472CAD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7237-B24D-43BF-B80E-E275F87A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8B02-9A23-4915-962F-17C156C7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E7EF-6C89-42AC-9572-653EBCE7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FE58-2545-4600-8AC3-6E63FE30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47C9-293C-41B8-8339-599FE37B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D34B-E5D2-4D57-A88F-F68113E6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3B22-2CA0-4C40-B538-AAE5CCF2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D08-A744-4BFB-B220-DE1F4F46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6632-1C99-437A-9B69-6DC2EEF4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1A0D-346E-48B1-B8D6-67AFB415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3C2F-4271-468F-AF8E-5318D807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D326-060C-4645-9C82-82D98CE8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BDEA-B7EF-4AFE-A994-6BE44CF3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3E4-3250-40FC-A3F7-98C7B9C7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7F6-F074-4B9E-8DD0-4B245580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D1D-6CDE-4548-A70B-8AADFE18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004-B305-4285-8F99-24B393BC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116-6D43-4497-8A9D-B5B94450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B27-FB45-4E32-A0DC-0BDE4775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94B-0E0C-4942-91E1-63E4248A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A116-478F-40D0-BE72-795D14E57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A91C-E010-444E-B83C-4460561B4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the on Me, Breath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Breathe on me,    breath of Go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ill me with life anew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066680"/>
            <a:ext cx="47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Edwin Hatch, 1878 (Jn. 20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6805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Breathe on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ill I am wholly thin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54080" y="2263680"/>
            <a:ext cx="70372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ill all this earthl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art of 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lows with thy fire divin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Breathe on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 shall I never di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93840" y="2263680"/>
            <a:ext cx="47574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ut live with the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perfect lif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thine eternit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04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the on Me, Breath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28800"/>
            <a:ext cx="9144000" cy="15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reathe on me, breath of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ill me with life ane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1066680"/>
            <a:ext cx="47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Edwin Hatch, 1878 (Jn. 20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82960"/>
            <a:ext cx="91440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7320" y="1066680"/>
            <a:ext cx="686952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I may lo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thou dost love,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o what thou wouldst do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882960"/>
            <a:ext cx="91440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286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Breathe on me, breath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til my heart is pure,                 until with th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will one wil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do and to endu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882960"/>
            <a:ext cx="91440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6699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6805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Breathe on me, breath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ill I am wholly thine,                       till all this earthly part of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lows with thy fire divin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882960"/>
            <a:ext cx="91440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86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Breathe on me, breath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 shall I never die,                             but live with th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perfect lif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thine eternit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882960"/>
            <a:ext cx="91440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7080" y="882720"/>
            <a:ext cx="8910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I may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at thou dost love, 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o what thou wouldst do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Breathe on me, breath of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til my heart is pure,                 until with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will one wi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do and to endur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6805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Breathe on me, breath of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ill I am wholly thine,                       till all this earthly part of 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lows with thy fire divin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562720"/>
            <a:ext cx="9144000" cy="129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7632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Breathe on me, breath of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 shall I never die,                             but live with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perfect lif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thine eternit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638680"/>
            <a:ext cx="9144000" cy="1216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the on M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th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9092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reathe on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ill me with life ane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1600200"/>
            <a:ext cx="47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Edwin Hatch, 1878 (Jn. 20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37960" y="2263680"/>
            <a:ext cx="686952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I may lo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thou dost love,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o what thou wouldst do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Breathe on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ntil my heart is pur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12240" y="2263680"/>
            <a:ext cx="55191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ntil with the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will one wi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do and to endur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0-09T23:39:25Z</dcterms:modified>
  <cp:revision>13</cp:revision>
  <dc:subject/>
  <dc:title>PowerPoint Presentation</dc:title>
</cp:coreProperties>
</file>