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5CA-6EC7-469E-B972-9C70A63E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1D28-6EB3-4AF6-B8E2-0D629BB2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782D-C5A9-489B-AF49-E4A88901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3182-717A-44A7-9F39-F6F81D3B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1A1C-314E-47D1-8CD6-4A4BB26A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CA1B-9150-47D2-9E6A-08478737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033F-0368-4BE5-B823-4A81FB02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395E-FB7F-4EF8-AA72-ACD78FF1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8962-AA61-46AD-A9EE-9DC8AE5A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70C-F6F3-4DDC-813E-2C2B7C9C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287-7C7B-4FE0-9ACA-443FC62B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103D-F6BB-4380-B38D-3E9575A7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02DF-6480-4CF6-AE11-D74CB49AE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Up Thy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Up Thy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. Everest, 1833 (Mt. 16:24-25; Mk. 8:34-35; Lk. 9:23-2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“Take up thy cross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avior s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if thou wouldst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sciple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ny thysel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forsak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umbly fo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fter m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Up Thy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ake up thy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not its we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 thy w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with alar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trength shall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pirit 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ace th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erve thine ar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Up Thy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ake up thy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heed the sh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let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olish pride rebe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rd for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ss endu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ave th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eath and h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Up Thy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ake up thy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llow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think till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ay it d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nly t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ear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hope to w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ious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2:42Z</dcterms:modified>
  <cp:revision>140</cp:revision>
  <dc:subject/>
  <dc:title>PowerPoint Presentation</dc:title>
</cp:coreProperties>
</file>