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AB8D-EE0E-4BC2-B8A4-BD171E06F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D89D-09C0-42F3-8244-4344664E0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1113-7BC7-4977-AFB4-5FD7C2CAC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C465-87E1-4794-B0E6-D4AB82979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5AC6-8EC6-4EA0-A848-B7A4ED4D1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11D0-CB00-4EC7-AADC-4F5E52BF5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F0AE-233C-4729-8A32-AB607714D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F56B-BD3F-4F2F-A419-28F5A917E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85B6-85E9-448E-9687-CD8B9FBCC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F539-D034-4AF4-A535-8555E0F66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1DFF-21FB-453F-AED0-934FC34B9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CAD3-222C-4C5D-BFC0-0A4515329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BF5D2-2C57-4BF3-931A-FF3A388194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83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ll Glory, Laud, and Hon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8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133720"/>
            <a:ext cx="9144000" cy="393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glory, laud, and hon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e, Redeemer, K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whom the lips of childr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de sweet hosannas r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Glory, Laud, and Hono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5440" y="1066680"/>
            <a:ext cx="908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Theodulph of Orleans, 8-9th cent.; trans. by John Mason Neale, </a:t>
            </a: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1851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(Mt. 21:8-9; Mk. 11:8-10; Lk. 19:36-38; Jn. 12:12-1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Thou didst accep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ir praise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ccept the prayers we bring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in all good delighte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 good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acious K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-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Glory, Laud, and Hono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1287360"/>
            <a:ext cx="9144000" cy="393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glory, laud, and hon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e, Redeemer, K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whom the lips of childr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de sweet hosannas r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Glory, Laud, and Hono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Thou art the K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Israe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 David’s royal S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in the Lord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ame come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King and Blessed O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-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Glory, Laud, and Hono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287360"/>
            <a:ext cx="9144000" cy="393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glory, laud, and hon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e, Redeemer, K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whom the lips of childr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de sweet hosannas r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Glory, Laud, and Hono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The company of angel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re prais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e on hig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we with all creati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chorus make repl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-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Glory, Laud, and Hono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287360"/>
            <a:ext cx="9144000" cy="393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glory, laud, and hon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e, Redeemer, K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whom the lips of childr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de sweet hosannas r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Glory, Laud, and Hono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The people of the Hebrew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palm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fore thee wen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prayer and prai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anthem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fore thee we presen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-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Glory, Laud, and Hono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287360"/>
            <a:ext cx="9144000" cy="393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glory, laud, and hon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e, Redeemer, K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whom the lips of childr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de sweet hosannas r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Glory, Laud, and Hono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To thee, before thy pass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y sang thei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ymns of prais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e, now high exalt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melody we rais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-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Glory, Laud, and Hono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1287360"/>
            <a:ext cx="9144000" cy="393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glory, laud, and hon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e, Redeemer, K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whom the lips of childr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de sweet hosannas r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Glory, Laud, and Hono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6:49:41Z</dcterms:modified>
  <cp:revision>44</cp:revision>
  <dc:subject/>
  <dc:title>PowerPoint Presentation</dc:title>
</cp:coreProperties>
</file>