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A3DC-F904-4043-A60F-E079A0D46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276E-20A9-4098-8C6E-9D1E75A9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DD0E-D7E2-43C5-A572-F8C7F0CE0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573C-D7E8-44A8-8FCE-1DFCB23F6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3E2C-DC7F-4DA3-A4D0-40E83C2C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6FF6-AFED-47E3-9417-E7EE56C4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D097-ADB6-41E7-991F-6D4C8255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11F5-E495-42D7-92E6-DB8931C3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449A-644B-45EE-9ABC-7F28D61F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BCB1-9832-422D-82DD-41DA0A9E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E46D-1BA5-4C88-8FF8-9E430E26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391D-94C1-40F0-8E4E-5FA66708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77D5-54D3-450C-81C3-26B9045D0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, That Mades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arth and Hea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8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, that made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arth and heav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arkness and ligh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the day for toil hast giv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rest the nigh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That Madest Earth and Hea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2520" y="1523880"/>
            <a:ext cx="85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St. 1, Reginald Heber, 1827; st. 2, Frederick Lucian Hosmer, 1912 (Gen. 1:1-1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716040"/>
            <a:ext cx="861048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thine ang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ards defend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lumber sweet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rcy send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dreams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s attend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live-long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en the const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 retu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seals our ey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we, b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ew like mo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abor r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That Madest Earth and Hea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rd us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ask that calls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not 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elf enthral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ong through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e’er befal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od most wi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39:23Z</dcterms:modified>
  <cp:revision>26</cp:revision>
  <dc:subject/>
  <dc:title>PowerPoint Presentation</dc:title>
</cp:coreProperties>
</file>