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06A-F3FE-4281-A04A-59973DC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7FB-136B-4234-8389-0C6AE38F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C44-34D1-4409-BAAF-4567AE92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344-949C-447A-8485-45E8BE58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B93-FCA6-4880-BC3B-01D28036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4B5-E349-4637-A590-7C91CB9E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9C7-DE51-452D-BE12-90E839A3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FA6-A1AF-41DE-9D20-AFCE10F8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317-BEE8-4EB0-B06A-C86DCFC0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86E-A600-4819-B0D0-5A339BE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C57-E01E-4B23-B733-021C329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1D4-BB25-446A-AB01-8D8EC10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4F4C-6FE7-4F45-B126-8012CA56D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ord, You Have Come to the Lakesh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228600"/>
            <a:ext cx="14479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80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87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 lake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ing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87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5:11Z</dcterms:modified>
  <cp:revision>103</cp:revision>
  <dc:subject/>
  <dc:title>PowerPoint Presentation</dc:title>
</cp:coreProperties>
</file>