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8CC-B2D1-406B-AD6A-B9DDF638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80A-595C-491B-BD05-285C3EB6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3B9-E776-4A03-ABE8-DF7FD69C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A95-30DF-4230-8B99-7AFC10E3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FD1E-C69F-4592-84CD-222DC643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9532-097D-4E5D-B92D-5D445548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8456-52D8-46CD-86B4-6A1CB22C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01E5-EDEA-48EE-AA06-28FF304D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4C38-B34C-4372-9A68-F2C6A286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FC27-473F-4376-B5D4-E0E64B50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BEF3-55BB-40DF-9B75-F8ECE2AF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E45-C94C-4413-B90B-F8EC9E5F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0F65-0256-4C85-A74F-6FFA92C9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EDFD-560E-4794-BBAA-C7C09AD9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A9AB-C64E-4B85-AF78-17913491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0736-F722-414C-8B6C-1B230A36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F053-EB3B-48BE-B58D-170579EE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584-315E-4803-8386-E7C82105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2B5-0B67-428A-9A5F-E6377F56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F22-0FF7-406E-BB52-05EDBD81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413-932B-4B09-9066-FC40E6AB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697-74D4-43C7-9A6F-6B84D6F4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3B2-ABB7-4753-BE7B-7FCAAD0C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423-C120-4FE6-8F99-51B9BE48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2393-3573-49D3-8480-C38D086A4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F323-03F5-491B-B800-D241BC226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781680" y="0"/>
            <a:ext cx="2362320" cy="5181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76320"/>
            <a:ext cx="7315200" cy="60688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1. We three kings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of Orient are;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bearing gifts we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traverse afar, field and fountain,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moor and mountain,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following yonder star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Three K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three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rient a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ing gifts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verse af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66320" y="1092240"/>
            <a:ext cx="52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H. Hopkins, Jr. 1857 (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05520" y="2239920"/>
            <a:ext cx="6133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eld and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or and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ing yonder s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orn a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Bethlehem’s p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ld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rown him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77040" y="2239920"/>
            <a:ext cx="5389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ing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us all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ankincen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ffer have I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ow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Deity n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26080" y="2239920"/>
            <a:ext cx="689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and pra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s ra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ing God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yrrh is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bitter perfu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s a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athering gl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82760" y="2239920"/>
            <a:ext cx="81788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ing, sig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,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led in the stone-cold t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loriou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him ar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an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crifi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50760" y="2239920"/>
            <a:ext cx="54414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arth and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47712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 We three king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f Orient are;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aring gifts w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verse afar, field and fountain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or and mountain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llowing yonder st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52280"/>
            <a:ext cx="6782040" cy="43603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228600"/>
            <a:ext cx="594360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. Glorious now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hold him arise;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ing and Go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d sacrifice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unds through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earth and sk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52280"/>
            <a:ext cx="6553080" cy="50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781680" y="0"/>
            <a:ext cx="2362320" cy="5181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320" y="76320"/>
            <a:ext cx="739116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2. Born a K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n Bethlehem’s plai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old I br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o crown him again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ing forev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easing nev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ver us all to reig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781680" y="0"/>
            <a:ext cx="236232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320" y="76320"/>
            <a:ext cx="8076960" cy="50317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3. Frankincens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o offer have I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ncense owns a Deity nigh; prayer and prais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voices rais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orshiping God on hi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781680" y="0"/>
            <a:ext cx="2362320" cy="5181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32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4. Myrrh is min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ts bitter perfum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reathes a lif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f gathering gloom; sorrowing, sigh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leeding, dy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ealed in the stone-cold tomb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76320"/>
            <a:ext cx="647712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5. Glorious no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ehold him aris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ing and G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nd sacrifice: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ounds throug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earth and ski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31T04:11:24Z</dcterms:modified>
  <cp:revision>13</cp:revision>
  <dc:subject/>
  <dc:title>PowerPoint Presentation</dc:title>
</cp:coreProperties>
</file>