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676-BD42-427F-9990-C3711F21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58D-49BF-4A37-857F-D397CC81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D95-81D8-411D-B504-4B5BE75D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AAA-8A02-479E-BFAC-53BFF155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F76E-3208-47D5-BB7F-CF342A09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BF85-3461-46B3-8C6B-F6B9A0BF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AF2B-5E81-47CC-8D0B-AAB137AE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B9F4-55BC-42AD-9FC4-DD6522EF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7234-5811-4C72-B39B-C40C0AAD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C37B-99DE-43F7-BD2A-6F699893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B07D-1A49-4063-AFB4-8902732F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683-3833-48EA-B76A-3194DB22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637B-C4CA-4337-AB8C-03D19749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0F14-4B62-4177-A188-55D2DA20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B9B6-51ED-4B21-B21F-6A094A46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A3D4-0434-4AF7-97D3-FE1FF38F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51BC-9D64-4ADA-8713-690D5CC9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180-F545-4E98-A165-4AC4825A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B01-A4ED-4CA0-8875-C0D89962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5F7-C74F-4C91-B422-B543FE96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D7CA-8BF2-42C2-8524-502D9538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75B-7C9F-408D-879A-BAEADADF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870-ED6F-4D9C-AA34-FC7BEEF5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74A-EC8A-4BC4-81BA-1A501CBE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FDA5-6BE8-49D0-A5B1-D70884947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7DC1-A0A0-4A59-A3C1-0C2A2464E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cause 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366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God sent his S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y called him Jesus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came to lov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al, and forgiv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2880" y="685800"/>
            <a:ext cx="536400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Gloria and William J. Gaither, 197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808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hen as dea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ives way to victor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’ll see the light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glor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I’ll know he reign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51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808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cause 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sent his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alled him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me to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, and forg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2880" y="990720"/>
            <a:ext cx="536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Gloria and William J. Gaither, 197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d and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uy my par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empty grave is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ove my Savior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ow sweet to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born ba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l the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he giv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greater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alm assur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child can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ertain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905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ived and di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buy my pard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 empty grave is ther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prove my Savior live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then on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cross the ri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fight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al war with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as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s way to vic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ee the li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know he reig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cause 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sent his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alled him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me to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, and forg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2880" y="685800"/>
            <a:ext cx="536400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Gloria and William J. Gaither, 197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d and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uy my par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empty grave is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ove my Savior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80880"/>
            <a:ext cx="9144000" cy="37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ow sweet to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born ba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l the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he giv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80880"/>
            <a:ext cx="9144000" cy="51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greater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alm assur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child can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ertain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then on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cross the ri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fight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al war with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as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s way to vic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ee the li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know he reig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3352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How sweet to hol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 newborn bab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feel the prid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joy he gives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968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ut greater sti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calm assuranc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is child can fac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uncertain day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62080"/>
            <a:ext cx="9144000" cy="51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4460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And then one d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’ll cross the river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’ll fight life’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inal war with pain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9-04T13:59:21Z</dcterms:modified>
  <cp:revision>16</cp:revision>
  <dc:subject/>
  <dc:title>PowerPoint Presentation</dc:title>
</cp:coreProperties>
</file>