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170-2493-4958-81CC-3E722C14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D16-709E-49FD-AB96-4E2BDAC5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04E-4D61-439D-BC9A-3E7E99AA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0C0-0C48-488F-8C36-39BFDD5B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87E-E657-4D85-AF76-A218E546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8FF-35C3-4C58-A727-9EC1551D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7FD-5BCE-4DBB-8C63-0185691C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395-3B90-40EA-B966-FDEEC8F2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193-8B29-46FF-818D-31C08309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FB0-8804-47EF-AC1F-74130897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CBC-7AEB-4CC6-9F70-62E73075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BE6-7E04-425B-B1ED-AE5B6321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C0A7-1F6E-4B1D-8BFA-F40E3AFE9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Still, My Soul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on your sid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patient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of grief and pai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273760" y="1092240"/>
            <a:ext cx="4612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atharine von Schlegel, 1752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Jane Borthwick, 1855 (Ps. 46:10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to you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rder and prov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cha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faithful will remai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026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b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eavenly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orny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to a joyful end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od will under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uide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ages pas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onfi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nothing sh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now myste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bright at las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v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ds sti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rist who ru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while he dwelt below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 is hastening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with the Lord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disappoint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f, and fear are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forg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purest joys restored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chang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rs ar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safe and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meet at las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18T00:09:57Z</dcterms:modified>
  <cp:revision>10</cp:revision>
  <dc:subject/>
  <dc:title>PowerPoint Presentation</dc:title>
</cp:coreProperties>
</file>