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964-3607-4B1F-96F9-AA26CE8A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368-422B-47D7-99F0-731920B8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2A2-B43B-4FB8-A9C4-EC9C3911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02F-F2D5-40D6-9B1B-7B3E802D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69F-CA14-40A4-8F0B-2DFF5202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E50-B236-4E0D-93A1-A699DE2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5CF-5A3C-4DB8-A074-F2B3CB48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919-8210-47FC-9B85-839ABA6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E95-F392-4013-8AEB-483DCBEC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007-9438-4585-9F0F-0FF553B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5AA-3DEA-4BD9-860D-7884C7E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5B1-994B-4D67-8AF8-3A4B801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8B68-FB82-41E8-8957-1AD4CE1EE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ry, Don’t You W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2240" y="1066680"/>
            <a:ext cx="626904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African American spiritual (Jn. 20:11-18; Ex. 15:2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put on my sh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run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the ne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e of these morn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f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take m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ve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sing and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n’t nobody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turn me ou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8:34Z</dcterms:modified>
  <cp:revision>55</cp:revision>
  <dc:subject/>
  <dc:title>PowerPoint Presentation</dc:title>
</cp:coreProperties>
</file>