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AD78-0A00-4E9A-84B2-15DF66096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356A-8BDA-4629-AC66-616A6706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CAF1-B1D0-4F71-BDFF-1CB3F2E2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1241-FC8B-4B75-A572-D76534A09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E1DA-0F69-4469-872C-FAB792E3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6894-471C-4A63-B42F-E7323E0B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68F9-C711-4D31-BA7C-A1C6BA73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0C8C-687F-4E36-9E20-97EA86BE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068F-CB12-4E07-A9A2-25257E92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667F-299A-4A94-B084-B31CC7F0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96F3-B590-4D92-9E4F-258EF7F6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BD82-97E3-4AE8-9E71-0A56510D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FA3A-5E6C-462D-926B-EFAD0F535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Asc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286000"/>
            <a:ext cx="8839080" cy="412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verlasting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eternal Chri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ce dwelt on ear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onfined by time and spa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sc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09760" y="990720"/>
            <a:ext cx="4521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Laurence Hull Stookey, USA, 20th cent.</a:t>
            </a:r>
            <a:br>
              <a:rPr sz="2100"/>
            </a:b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(Lk. 24:51; Acts 1:9-11; Eph. 1:16-23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 us faith to discer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every time and pla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presence among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him who is head ov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ll things and fills al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ven Jesus Chri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ur ascended Lord.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8:04:36Z</dcterms:modified>
  <cp:revision>22</cp:revision>
  <dc:subject/>
  <dc:title>PowerPoint Presentation</dc:title>
</cp:coreProperties>
</file>