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82B-2592-473F-BD70-57A766CA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016-1B3A-4954-A5F7-2BE21BB8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D76-5B8C-4ED3-8688-7B1F8B1F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0B6-6F77-4CC0-B70F-2802C99E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B9D-B3E7-4709-9ADD-19496317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7EA-F6D6-4E25-8B55-14EAE576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8C7-68A7-4FB0-B309-2BAE2431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2593-2B8D-475A-A7A2-79C4F5E5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E07-25F9-4CAF-9A35-28EB165F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FCE-2DE2-4086-A3C2-931FE35D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FF0-889E-4241-B60E-B5E693C9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A2F-3E16-434E-BC11-2BE8F2E9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FCED-A05C-4ED1-9DD2-39A80DF8F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body Know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Troubl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43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body knows the trouble I s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body knows but Jesu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nobody know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halleluja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ometimes I’m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I’m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I’m alm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g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8428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 but Jes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h, 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ry hallelujah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though you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going long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my troub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e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8428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 but Jes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h, 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ry hallelujah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makes old Sat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e me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use he got me o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8428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 but Jes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h, 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ry hallelujah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9:33Z</dcterms:modified>
  <cp:revision>46</cp:revision>
  <dc:subject/>
  <dc:title>PowerPoint Presentation</dc:title>
</cp:coreProperties>
</file>