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ADF-DA56-4FEA-A0AB-AC76C409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041-DED7-4EC3-A083-AC72CC00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FDB-EF85-4A19-A898-C3CDD3F5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58C-C2FF-46E9-AF10-9FA567BA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EA6B-5270-4EEE-8542-0E3C424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63A8-779C-4721-B1A6-462342E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78C3-1F92-4447-ABDC-85E63F7F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C635-8441-46F8-9CC6-6D8E646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B9A8-4596-48E7-83AE-E9B8A55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7D1C-7D3C-4FA9-A385-B17030C2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CF1-4001-4103-A6D3-A6A9B60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00F-8472-4857-8620-FFD834E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0CC-52CF-4D98-9440-340D7FF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4C48-14CB-4F6B-BE2E-CAB9783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C9A-7C3B-45CA-9DC3-B2AD4485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16D4-6CD4-41FA-9B67-A3044296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6F19-FA5A-4B25-9DEB-F96C842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5A2-648F-4D20-8FDA-78EA344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A33-D5F6-4CCC-AC72-68B8632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808-D937-495F-9376-3447A108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EC3-F1B5-442E-94C0-8D5D4EF0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9A7-BE4E-416B-9314-5CF539F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1E8-00E0-48F2-9F49-C188575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E34-D141-4459-8D5B-BA11449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42D3-8FA2-4865-A0A7-5C2FAC799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36A-11F1-4822-8065-D8740ABB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chang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ime and sp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fear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us 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l Car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99072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we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hadows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great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6120"/>
            <a:ext cx="9144000" cy="388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od of change and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f time and sp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fear the fu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to us your gr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760320"/>
            <a:ext cx="3181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l Car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6094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ing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ace to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God of many colo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f many sig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have made us differen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sing many kinds. As the old ways disapp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your love cast out our f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ing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ace to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Freshness of the mor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ewness of each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are still creat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ndless love and light.                  This we see, as shadows p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 from one great he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many col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ny s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diffe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many ki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old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out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eshness of the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ness of each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still cr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0T13:23:03Z</dcterms:modified>
  <cp:revision>31</cp:revision>
  <dc:subject/>
  <dc:title>PowerPoint Presentation</dc:title>
</cp:coreProperties>
</file>