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0BD-AE66-4F61-8AAB-72872E82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7C8-4315-40B9-B47F-0B500FDB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BAA-41C0-47C9-B9FC-0767FAB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59B-160F-46B6-97BA-74CB0CE2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B93-E0C5-4530-A68A-AD521B22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507-7171-4296-8267-90B00351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147-74F2-4CFD-920A-B354A0B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F14-6AB1-4C19-8000-897746DA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B5D-D54A-40E9-8BA3-DECB587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AA55-06E6-44C0-88C4-888C0AC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9F2-DD4E-4DDB-9062-136E794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7E8-1AFA-4D16-ACE4-9F48540B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3557-6E5C-4620-9BE7-211F76E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F6C9-C22A-4134-883B-B3A7C19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FB2C-BB36-431F-A1DE-DB1DE598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B578-E4CD-451E-9415-A23C7082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43B4-7BE2-4338-AB91-859846B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8DC-388B-43E3-A6C5-991622A3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D13-AFA4-4B65-BC7A-870C41D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6A0-B712-4ACD-ABC6-60C2018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832-5C7D-49D2-B26A-5C7BA09A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AE3-D956-4B02-8840-077272A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079-96E5-44DD-B53A-F48FA16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625-A365-4840-BE29-3155EF1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9B68-6E79-4451-80AB-7116D631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6F3-5E29-452D-8508-E4C59168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3000" y="8524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3000" y="10666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will over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n trav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h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e and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, s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one glimps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the to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rep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6765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war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ze before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his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be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p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will op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60020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uds will overspread the sky;     but when traveling days are o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hadow, not a sig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et us then be true and faithf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sting, serving every day;          just one glimpse of him in gl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the toils of life rep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nward to the prize before 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on his beauty we’ll behold;     soon the pearly gates will op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8T20:08:53Z</dcterms:modified>
  <cp:revision>45</cp:revision>
  <dc:subject/>
  <dc:title>PowerPoint Presentation</dc:title>
</cp:coreProperties>
</file>