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95A9-F781-4ECC-8897-A6F6D3EA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9FE8-DAAE-440E-8A70-DAF4C1F7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A839-23EF-41C5-9D0B-6E8825CB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C0C-A0C2-4912-BAE4-C06013E3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4122-6054-4D48-91B9-1F773F9B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6F49-2CFD-40DE-8EE1-9F4F471F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B13E-28D4-44D7-9F43-1EB3CE88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A12B-AF2B-4AF2-B9A1-49A7FD6F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5865-13AB-4435-AFF4-2E489A87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443B-7B2B-48FD-8C56-53E10F66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0FCF-5A99-48B7-9E42-711EB8B8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3C7F-45E4-43BB-9DB5-22E2DFC6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B91E-F5B4-4F9C-A5CA-D766A1E15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give Our Sin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s We Forgiv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2438280"/>
            <a:ext cx="9144000" cy="40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“Forgive our sin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s we forgive,”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taught 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rd, to pray;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, 1983 Rosamond Herklots, by permission of Oxford University Pres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give Our Sins as We Forg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887120" y="1701720"/>
            <a:ext cx="53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Rosamond E. Herklots, 1966 (Mt. 6:12)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you al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grant us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the words we say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ow can your pard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ach and b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unforgiving heart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give Our Sins as We Forg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roods on wr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ll not l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ld bitterness depart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blazing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cross revea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th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mly knew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give Our Sins as We Forg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trivial deb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owed to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great our debt to you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19810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rd, cleanse the dept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our sou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id resentment cease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give Our Sins as We Forg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, bound to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onds of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ives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ead your peac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3-02T20:59:18Z</dcterms:modified>
  <cp:revision>15</cp:revision>
  <dc:subject/>
  <dc:title>PowerPoint Presentation</dc:title>
</cp:coreProperties>
</file>