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66E-BC81-4D5C-8DEE-D6C4059B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8ED-39D2-4D3F-83C9-56F3A16A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92C-8D2A-4609-86CC-6ACCDAB3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67E-C9C8-4A46-8231-4BE50FC6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CD7-E348-46E5-A5FC-05CFB342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ED8-DC05-4682-8DD9-487FF9A7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5D0-715D-4D8E-9903-00D582BB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5D9-5C45-4157-89B5-4133F0F4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B1F-4310-4E7D-B975-73DAC15F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1DF-36E9-4266-BCC4-49DC0696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9D3-00DD-41CE-9D9A-324FFC63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D4D-03D5-4656-B6DD-4BBDAC0A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4BAC-BDA5-4713-9F22-9B9E9CEED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ift of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ough I may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ravest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ve the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inspi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ift of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10960" y="1066680"/>
            <a:ext cx="513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Hal Hopson, 1972 (1 Cor. 13:1-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ve not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words are v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sounding bra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less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I may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poss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iving 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ve prof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ift of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not be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love with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fit s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s strangely 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e, Spirit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contr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pirits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mad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ift of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nwar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every de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s we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re fr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0:37Z</dcterms:modified>
  <cp:revision>23</cp:revision>
  <dc:subject/>
  <dc:title>PowerPoint Presentation</dc:title>
</cp:coreProperties>
</file>