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FE47-267A-40CA-B574-BF94D05C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DCA4-2F81-4500-B0AA-19B26593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B178-765C-45BF-8429-88B0E4D9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FFC-869C-49C0-AE37-9A552A91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B072-CAAE-488D-819C-B59B7B61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FFDA-4A96-4EFE-8EDA-E63EBEBF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85C2-FC65-47AA-9BAE-5E4AF9C0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19B5-1806-4EAB-A195-AF372D19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7B17-07D9-4B29-8697-59A6A032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476B-99AD-47F1-85B8-3A8DB842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0098-3336-4EE5-8E59-4B7248D5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9049-692C-4C75-8900-6DA97ABA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8BAE-9A46-4000-B926-28D68F3B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8B23-A440-42C7-97D7-2905FFB9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E594-8A7C-4FA5-914D-8AEAEE55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27E0-0E9D-42A5-8D13-81342787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A3F4-00FB-413E-90D8-93069A9B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61E7-E7FB-426E-975F-B1E06854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087-47BA-4840-99A2-5ACA4FC4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E6BA-94A4-490B-AF64-C774373C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32C6-AA58-4F53-BCCA-2C5799B9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8355-3EB8-4CCC-B790-62E80EEE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A69-F4E7-492A-96F0-1CCD9B43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1E1-BC40-405B-9EE0-F28EF711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FD25-BB29-4EA9-AAEF-1A47746BD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1E94-0AF6-4F99-9405-B0EC26A14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l Me, Hands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9544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Heal me, hands of Jes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search out all my pai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tore my hope,  remove my fea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bring me peace ag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4280" y="762120"/>
            <a:ext cx="56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ichael Perry, 1982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Jubilate Hymns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leanse me, blood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bitterness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for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one for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me peace to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Know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w me all my s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pel the memories of gui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me peace wi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89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ill me, joy of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xiety shall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ve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enity be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Jesus brings me pea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l Me, Hands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05740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eal me, hands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arch out all my p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ore my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ove my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me peace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Jubilate Hymns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68280" y="1192320"/>
            <a:ext cx="30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ichael Perry, 19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leans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bitterness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for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one for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me peace to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Know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w me all my s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pel the memories of gui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me peace wi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ill me, joy of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xiety shall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ve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enity be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Jesus brings me pea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4-05T00:43:44Z</dcterms:modified>
  <cp:revision>25</cp:revision>
  <dc:subject/>
  <dc:title>PowerPoint Presentation</dc:title>
</cp:coreProperties>
</file>