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597-D219-4297-A305-81CE972E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4DD-4BC8-4F48-8E8A-2CCDAEE0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7F9-FCA9-4E8B-A11D-7C772F48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DBC-5D37-4D7C-81BB-1DD13EA7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8DB3-43AC-412D-9618-E32D95AB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9DD3-156A-48CB-B930-C7B035C9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65FF-42F0-4010-8A1B-E2666FC7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A1C6-9A8A-4069-82EA-A5EBE8F8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9939-0E68-467E-B327-18D9FAA9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34FB-E115-4B6E-AB39-7C233AC3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5BA6-1E98-4AA3-9B8B-DB754402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A8E-708F-4547-8F25-9C657512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B7DF-A377-461B-9E76-A081A68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819B-1AE6-42B7-A80C-EC92BED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B1AC-DA4F-410D-A886-E7B3D27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A26B-F372-4800-833E-12A44D19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EE44-77F4-49B1-BD11-32F02628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3DC-F196-4191-8370-7CE0CC96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DAC-7D90-4D95-BDB7-E2D2074E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D8E-9208-4FC3-A493-14480F41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DB8-DA31-4D65-B9C9-FBC83F4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B8D-EA9E-4F88-B112-D77018E3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A83-11AC-4F11-9B4C-10CC89E4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73B-448E-4492-9531-C8EF2FF7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4F83-F3BC-439F-AB69-4373FB7AC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8FE0-4A8A-4BE4-9304-5EEDDF664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for the World We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ing ze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muel Wolcott, 1869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oor, and t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mou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faint and overbor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-sick and sorrow-wo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m Christ doth hea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for the 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ervent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wayward and the lo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restless passions toss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deemed a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untless co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ark despai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for the 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work to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reproach to d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cross to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rist for the 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ful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newborn soul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se d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claimed from error’s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spired with hope and pra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Christ belo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or, an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int and overbor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-sick and sorrow-w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Christ doth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ervent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yward and the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res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ions to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d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c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rk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work to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reproach to d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cross to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ful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laimed from error’s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d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rist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for the World We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9810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hrist for the world we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world to Christ we br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loving zeal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muel Wolcott, 1869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03T19:43:19Z</dcterms:modified>
  <cp:revision>74</cp:revision>
  <dc:subject/>
  <dc:title>PowerPoint Presentation</dc:title>
</cp:coreProperties>
</file>