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EF32-5CB5-4B88-A9BD-A06327809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8651-434D-4C41-9651-6BC7D827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6002-73C1-4F6A-AB82-ACE6D9760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07ED-35E2-4572-9B9A-6F40F99E7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E46B-DE51-4F1B-B467-CE0519F7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0A4C-EB0B-40B6-81B9-A7893DB5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14DC-CD44-4C6A-B49B-5CCAD32B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D0EB-FDA8-46E6-84F4-37A623EA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8BCB-1BAC-456E-96B1-0E22DF79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957C-2A50-4BCC-8281-EDBE0066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EC33-756C-4893-8BCA-AC23104F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8AB8-8207-4038-8112-5619E768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EA2F-64D8-4D7B-A771-DC3387056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763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ail to the Lord’s Anointe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54380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0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121932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1. Hail to the Lord’s Anointed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great David’s greater Son!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Hail in the time appointed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his reign on earth begun!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o the Lord’s Anoint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2230920" y="74628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ames Montgomery, 1821 (Ps. 72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comes to brea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ppres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set the captive fr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ake away transgres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rule in equity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He comes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ccor spee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ose who suffer wro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elp the po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need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bid the weak be strong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o the Lord’s Anoint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give them so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sig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ir darkness turn to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se soul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ndemned and dy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precious in his sight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He shall come d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ke show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pon the fruitful ear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, joy, and hop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ke flow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pring in his path to birth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o the Lord’s Anoint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f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mountai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peace, the herald, 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righteous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fountai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hill to valley flow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To him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yer uncea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daily vows asce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king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ill increa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kingdom without end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o the Lord’s Anoint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tide of ti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n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covenant rem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name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forev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name to us is lov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7632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He comes to break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oppression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set the captive free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take away transgression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rule in equity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0" y="7632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2. He comes with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succor speedy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those who suffer wrong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help the poor and needy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bid the weak be strong;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o the Lord’s Anoint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17316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to give them songs for sighing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their darkness turn to light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whose souls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condemned and dying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are precious in his sight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7632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3. He shall come down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like showers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upon the fruitful earth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love, joy, and hop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like flowers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spring in his path to birth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o the Lord’s Anoint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6048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Before him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mountains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peace, the herald, go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and righteousness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in fountains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from hill to valley flow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7632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4. To him shall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prayer unceasing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daily vows ascend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his kingdom still increasing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 kingdom without end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o the Lord’s Anoint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7632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e tide of time shall neve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his covenant remove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his name shall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forever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at name to us is love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0" y="3049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ail to the Lord’s Anointe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0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Hail to the Lord’s Anoint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eat David’s greater So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il in the time appoint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reign on earth begun!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o the Lord’s Anoint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2230920" y="100476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ames Montgomery, 1821 (Ps. 72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1-12-04T00:55:44Z</dcterms:modified>
  <cp:revision>52</cp:revision>
  <dc:subject/>
  <dc:title>PowerPoint Presentation</dc:title>
</cp:coreProperties>
</file>