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BEA4-4153-401B-9ADF-43CBE301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CC3A-CFB8-45D4-BF62-16E69053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B067-56A6-4C6F-A690-713484A6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27D0-2729-4AE9-A075-FE800115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F7D8-08C7-4710-8489-2BFAC1DF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07CC-9AC3-44B8-853C-265AEA36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250-48BE-4666-9054-54B88C9A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BFE9-54D8-4D02-BE92-C083B884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1CB1-42E5-411C-A227-DEB44648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6CDF-0085-4A73-9A2E-A63287ED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A3A3-B34E-40BD-A6CD-5F875891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89D-A6C2-4C0F-B2B4-4BDFF33F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BFFB-7506-46E3-958C-BE4F2DA4D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e Who Claim the Faith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39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Ye who 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aith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the wond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ere don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t. 4 © 1982 Church Pension F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ho Claim the Faith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30680" y="1004760"/>
            <a:ext cx="528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s. 1–3 Vincent Stucky Stratton Coles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t. 4 F. Bland Tucker, 1982 (Lk. 1:26-5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“Magnify,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greatn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rej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ho Claim the Fait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ll me bl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s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ift my v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has cast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w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his choic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ver s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ictory w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he m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Virgin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the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only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Blessed w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hosen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t of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did c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ho Claim the Fait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nd of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shione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earthly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more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r the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 who b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m in her womb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refore l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faithful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the ho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her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ho Claim the Fait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e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er foreshadow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rt in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nksgiving clai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Christ’s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ng in gla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Christ’s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the sam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0:09Z</dcterms:modified>
  <cp:revision>48</cp:revision>
  <dc:subject/>
  <dc:title>PowerPoint Presentation</dc:title>
</cp:coreProperties>
</file>