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00D-9D81-4BD1-9BC6-310DCEF9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D56D-4FE4-47E3-BA3C-A89509CD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527-F360-4610-A03D-8963A1B1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A20D-521B-43A8-8723-EEC9FDC0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1EB-A84B-4443-B460-205410E7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FBA0-7075-4283-BEB1-55C7814E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A6E-919C-49DE-B969-8FF24775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D676-CDE3-4F73-BF24-388919A1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16F-F554-4F86-846B-9D860A05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0C2-3734-4FD7-83B3-EB5DE7C1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DE2-AC51-4D9E-A906-67112780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3C8-5106-4DCB-BCA6-77517ABB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9111-9988-4E62-830B-15B154297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me, O Thou Traveler Unkn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228600"/>
            <a:ext cx="12193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2 (Gen. 32:24-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O th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aveler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till I hol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cannot s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o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lessing sp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conquered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instant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, or thou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nce shalt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me i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, or thou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nce shalt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me if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’Tis Love! ’tis Lo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iedst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hear thy whis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rning brea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hadows f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, Univers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hou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,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ercies 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tur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,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ercies 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tur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omp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is g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am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all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ean to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restle 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k of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all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ean to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restle 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k of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need not t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e who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mis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 decl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self hast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by m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 on th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ad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ho, I ask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art thou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me th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me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ho, I ask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art thou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me th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me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ield to me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I am w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confid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self-despai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9:37Z</dcterms:modified>
  <cp:revision>136</cp:revision>
  <dc:subject/>
  <dc:title>PowerPoint Presentation</dc:title>
</cp:coreProperties>
</file>