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F42A-CA28-473D-8F43-24EC8B174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32A0-A5B7-4AC9-BB79-216923B8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1980-1067-4D28-B2CC-8DD5C77A7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B1E4-7C82-4778-AE47-DC7A8BDCE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C7B9-6015-49C8-A430-8BE6E813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13A0-F687-466C-A451-F3590D16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9BE4-6A6D-495E-86BE-AE1D7F04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33D3-B27C-4C41-B74A-BE2E835B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0276-16B0-4DD7-8000-F58D2D5C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4104-41F3-4820-88F3-9414ED6A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3AB7-8E50-4A89-934B-6ED6822E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630D-0921-4C9D-91AE-CFBF4CF5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A242-9445-4365-AFA9-1A1671DB1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reator of the Stars of N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9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443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eator of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s of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eopl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l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© 1940, 1943, renewed 1971 The Church Pension F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or of the Stars of N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54640" y="1143000"/>
            <a:ext cx="74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non. Latin, 9th cent.; trans. from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he Hymnal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, 1940 (Phil. 2:10-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85904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hrist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Savior of us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pray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 us when we c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t the great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Jesus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knees must be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hearts must b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or of the Stars of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ings celesti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 shall 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ings terrestri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alon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41:48Z</dcterms:modified>
  <cp:revision>29</cp:revision>
  <dc:subject/>
  <dc:title>PowerPoint Presentation</dc:title>
</cp:coreProperties>
</file>