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ADD-7F9C-487D-ADCF-DCD321D6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C61-6DD6-46BC-9FDE-99376EA9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A8F-C653-4D2E-AFB6-33823814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D63-DF06-4C33-9F20-93D1A587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52C-9C23-49B7-A29A-4DA52B55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634-3229-4A0A-8281-6DA80FC6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4CB-BA80-4FDF-870E-0B20468A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683-1542-40DA-BDB2-D3973B92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7AA2-843D-4921-8CB1-A1607EC5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BE9-B81A-4491-803F-730D7107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42C-E90C-4658-BE6D-48CD96AC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946C-18AE-4C39-9AFF-2DF9E36F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B1FE-211A-4FF2-8E28-851910A06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3</a:t>
            </a:r>
            <a:br>
              <a:rPr sz="44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King James Ver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WORDS: Response 1, Psalm 23:1, Grail version; Response 2, John 10:10, adap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124080"/>
            <a:ext cx="9144000" cy="306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hepherd 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indeed shall I wa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1 © 1963 The Grail, by permission of G.I.A. Publications, In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2 © 1989 The United Methodist Publishing Ho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2096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Christ the King,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od Shephe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that we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ve it abundant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3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2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(Easter, Funerals, Memorial Servic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561960"/>
            <a:ext cx="86104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y shephe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 shall not w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maketh me to li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down in green pastures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he leadeth me besi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the still wat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restoreth my soul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he leadeth me in the path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f righteousness for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name’s sa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744480"/>
            <a:ext cx="8610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a, though I walk throu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valley of the shad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of dea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 will fear no evil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for thou art with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thy rod and thy staf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they comfort m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82080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preparest a ta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efore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the pres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f mine enemie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ou anointest m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head with oi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my cup runneth ov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4763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goodness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mercy shall follow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all the days of my life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and I will dwell in the hous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of the Lord for ever.</a:t>
            </a:r>
            <a:r>
              <a:rPr b="1" lang="en-US" sz="4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9:12Z</dcterms:modified>
  <cp:revision>34</cp:revision>
  <dc:subject/>
  <dc:title>PowerPoint Presentation</dc:title>
</cp:coreProperties>
</file>