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935A-C10D-42E9-95E9-5083B07C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050-3B69-469A-9009-E5497BF5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B4A2-7EA4-4580-86E9-59B2AD17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8B00-4CD9-4950-861D-17AC168E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2B32-E3B5-4901-8990-58124B43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596-C97A-4DC1-977E-7B32747C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1B4E-AC02-4CAC-8D04-C30A7B69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D10-0762-463A-B2AC-8B5FE148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ED34-C9CA-41E8-9E69-FD9B8EEB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7A9-6800-4164-86C8-1E60BCD0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7F8-3E29-4071-A0FE-46AE725B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DF0-E6A7-42BE-8747-05185958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D9D3-F9B2-48CE-9A91-7C88B9BCC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60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 By M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8001000" y="304920"/>
            <a:ext cx="11430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2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83808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hen the storm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life are ragi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en the storm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life are ragi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8580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Charles Albert Tindley, ca. 1906  (Mt. 8:23-27; Mk. 4:35-41; Lk. 8:22-25)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22860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my lif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comes a burde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I’m near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hilly Jorda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 thou Lily of the Valley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.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en the wor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s tossing m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ike a ship upon the sea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ou who rules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nd and wat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tand by me.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7632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2. In the midst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of tribulation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br>
              <a:rPr sz="5700"/>
            </a:br>
            <a:r>
              <a:rPr b="0" i="1" lang="en-US" sz="5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in the midst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of tribulation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the hos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f hell assail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my strength begins to fail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ou who neve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st a battl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.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522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. In the mids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f faults and failure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the mids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of faults and failure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1522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I’ve done the best I ca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my friends misunderstand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ou who knowes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ll about m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.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1522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In the mids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f persecut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the mids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f persecut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7632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When my foe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in war array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undertake to stop my way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ou who saved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Paul and Sila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stand by me.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1522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. When I’m grow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ld and feebl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I’m grow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ld and feebl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3-03T13:21:40Z</dcterms:modified>
  <cp:revision>12</cp:revision>
  <dc:subject/>
  <dc:title>PowerPoint Presentation</dc:title>
</cp:coreProperties>
</file>