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734-E36E-4F4E-9138-8426B091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4BE-D929-462A-AF48-8F0A083B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81D-928C-43A7-A707-20914861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26A-7A82-4432-BAA1-B815C461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B5C-2C41-43B0-8DF3-DEF6E2B3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6AB-5C70-43E7-8829-AD01EDB7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359-BFFB-4DEB-B6EF-0428E163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C34-9336-4CBE-8AAA-13C6ECA3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4CD-69AF-41D4-8E71-1ABC2307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304-4DDE-4CA3-81E2-76A4943D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2B7-E252-4B9F-BBD5-120A5D8F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049-ED5F-46EC-A519-CD64295D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65D6-EB69-4BDE-9D28-159F588FA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Day of Pea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Dimly Sh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day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imly shi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our hop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yers and dream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Peace That Dimly Sh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5840" y="1600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rl P. Daw, Jr., 1982 (Is. 11:6-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just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, and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ed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elfish schem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words of h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from our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vy find re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by God’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arring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ee Christ’s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n shall the wo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with the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shall the fier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vour the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Peace That Dimly Sh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easts and c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ly graz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ittle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lead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enemies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to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tru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pe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fulfil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know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8:35Z</dcterms:modified>
  <cp:revision>59</cp:revision>
  <dc:subject/>
  <dc:title>PowerPoint Presentation</dc:title>
</cp:coreProperties>
</file>