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29A-2D4C-4542-B60C-C143B5EA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2E1-A616-4848-A18B-ECF1676D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8E6-523B-49DA-9E43-347F4D87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557-1728-4D81-8203-04DEE41A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D1E-BB7D-4E0C-A5DF-41A70820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97E-6977-4228-980A-5C23566F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028-6164-4141-A9EA-756C5E78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EB0-4C8B-428C-A793-64C16546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416-C3E2-47EF-BDC7-99467B6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BCA-416D-4E0B-B490-FC4478F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E16-DB01-4BBC-B328-CC6E017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043-AE71-4962-BD04-F99EBF1A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DC5-7104-4AEC-9819-CD3DB51E2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Un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hrist’s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each of us, 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ive in such magnanim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tra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Unity of Christ’s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2760" y="1828800"/>
            <a:ext cx="18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inese Pr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Head of the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never have caus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ay to any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This is my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n by you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49:44Z</dcterms:modified>
  <cp:revision>12</cp:revision>
  <dc:subject/>
  <dc:title>PowerPoint Presentation</dc:title>
</cp:coreProperties>
</file>