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0B4-D2FB-4F3E-A5CD-C8901FCF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614-59F9-4F37-A48A-5219BBDF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F5F-F522-49EF-92CD-35A2E628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AF9-1426-45B8-B10D-59B7D22C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4AB-6AC8-4AF2-8BE6-521A67CA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F29-4383-4273-8E77-0443EA06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EA4-EA96-48FC-818C-F2FD554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2C8-2B09-4C27-9DFB-BE78DB50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8B1-A049-456E-961D-B17D139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AC7-9CAD-42DE-8FA7-0C0AC587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E97-3BC2-45DC-A169-436FE97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A0D-4AB1-4474-8A16-4CE6DA5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0D7F-DD5E-4CC0-87B6-A81A5C900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Dismiss U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Th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ismis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bles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 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5720" y="160020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John Fawcett, 177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ea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poss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in redeeming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refresh us, O refres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l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wilder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 we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do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gospe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fru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s ab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faithful, ever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uth may we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3:22Z</dcterms:modified>
  <cp:revision>10</cp:revision>
  <dc:subject/>
  <dc:title>PowerPoint Presentation</dc:title>
</cp:coreProperties>
</file>