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E6C6-5493-4F69-A370-0500379C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F4F-B1A4-40C1-892E-594B97F0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8FC-C3EE-4AE4-83B0-7E553F6D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E5A-EFFB-4500-9F01-12769AD0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6AB7-1B2E-4A8E-9690-C47BB634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711B-2982-4E64-90A6-3B3CD5BF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6EF7-3938-43BD-AD2E-75C9A68D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C669-9781-497A-ADF5-F378F1FD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7E7B-A24F-4001-887A-E3FA0E4A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E8A6-737B-4602-8216-17CCE100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4A48-84E6-4D54-A521-292B329A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1139-2129-47AE-B2D1-A38CC0D1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95CC-A987-4FFB-94E4-67D4444E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0FD8-B873-4A3A-B733-77B733F1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17BF-C343-481C-A08A-08D7BBA7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6C17-7EDA-42D9-86DE-1791229E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62CB-D852-430F-A1C5-DF99F7B9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8D99-B345-41C5-AE15-8C64DFAC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947D-41DD-4D43-9CC3-A23B5C3C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5F70-7521-46BB-AD2A-A948FEC2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4F9-D423-4F48-86A3-57149FF8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A2B-CD81-42D6-954B-AC16BC5B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AB4C-9C43-4BC1-AA97-F69E03F5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3EF-5ECE-442A-B073-41C3750F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4628-AD23-4637-86FA-10810F79F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37D1-5DBC-4282-AD02-D66D3DDAD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Ye Thankful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eople,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ye thank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ople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the song of harvest h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ll is safely gathered 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re the winter storms beg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58080" y="1752480"/>
            <a:ext cx="602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Henry Alford, 1844, alt. (Mk. 4:26-29; Mt. 13:36-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6760" y="457200"/>
            <a:ext cx="86104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our Maker doth provid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our wants to be supplied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ome to God’s ow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emple, co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aise the song of harvest ho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 the world 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’s own fiel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uit as praise to God we yield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at and tar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gether sow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re to joy or sorrow grown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32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irst the blad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n the e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n the full corn shall appear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ord of harvest, grant that w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lesome grai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pure may b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Lo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God shall co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hall tak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harvest hom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the field shall in that da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 offenses purge away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ing angels charge at l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fire the tares to c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fruit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s to st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garner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n so, Lord, quickly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thy final harvest h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 thou thy people 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from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from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, forever purif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presence to ab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wit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angels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the glorious harves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6760" y="1096920"/>
            <a:ext cx="86104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ur Maker doth prov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wants to be suppli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God’s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mple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the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arves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world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own fie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uit as praise to God we yiel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at and ta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gether s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o joy or sorrow gr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st the bl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n the 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the full corn shall app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of harvest, grant that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esome gr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ure may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shall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t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arvest h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field shall in that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ffenses purge a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ing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rge at l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fire the tares to c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fruit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s to st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garner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n s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ickly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thy final harvest h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 thou thy people 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from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from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, forever purif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presence to ab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wit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angels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the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ves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Ye Thankful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eople,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477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ise the song of harvest hom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all is safely gathered i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re the winter storms beg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58080" y="1371600"/>
            <a:ext cx="602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Henry Alford, 1844, alt. (Mk. 4:26-29; Mt. 13:36-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1-20T13:36:52Z</dcterms:modified>
  <cp:revision>31</cp:revision>
  <dc:subject/>
  <dc:title>PowerPoint Presentation</dc:title>
</cp:coreProperties>
</file>