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DFD-D5EF-4D8B-9FFF-13D0588B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A60-CDD7-4C5E-9081-CBDB40D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E11-567F-4CBA-B86E-6E707F7E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446-7CB5-465D-8B0F-F2FEC192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34-E9C2-4925-8532-1D0934A3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77-FDCF-46BF-BB75-CF89AEC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884-5277-477B-9DFC-25AFC34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61A-591D-4547-A9B0-152A1B0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241-C277-4A26-8400-11E0849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738-AC82-4B13-BF3C-8FD6713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4CA-6018-40AD-9CE3-9427CC7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483-37F0-4569-AD49-B7316C9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312-EEDC-4B12-8358-EECD55BE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My W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Truth, M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th, my L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gives us br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7000" y="1600200"/>
            <a:ext cx="458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Herbert, 1633 (Jn. 14: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ends all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killeth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m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east, my Streng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shows a f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nds in l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akes his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m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e, my He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joy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ne can m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one can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joys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0Z</dcterms:modified>
  <cp:revision>25</cp:revision>
  <dc:subject/>
  <dc:title>PowerPoint Presentation</dc:title>
</cp:coreProperties>
</file>