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606-8318-4CBC-AE41-C5FADC0C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E8B-CAFC-443E-AD70-CD9E7AD6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1A5-C919-43F1-B46A-E6CB803C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CB0-A1E6-4CAC-8312-154EA436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4246-F1A5-413F-A70C-B3CF4F76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F552-024A-4D19-B06F-A0EEB040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2F4A-FB2C-440B-AEB6-6104ACA1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40BA-5E2D-4B21-BFCC-388D4A65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308E-5FC4-42DA-B983-F0FD04A3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6292-CD2C-4447-9702-E321EDE1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1136-2E55-4352-9A6C-65413E15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82D-300B-468B-B4FA-2C7FF61B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9420-16FE-4C51-9D74-076F9727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49B3-9852-4DD9-9547-F9F3E9A7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27C9-46F8-4EA8-9980-A0A79013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3445-2F1D-4E5C-BDC8-5D61AF61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D0A5-0B1A-44D5-93A9-D725615A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39E-9DED-4953-8DA2-83CDD745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21B-5CEE-4520-9277-613DCA9A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7BE-B9AF-4663-A1C9-148781A7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457-42A7-4BBC-A3DE-FEDFF277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F28-EF81-408D-9CAD-BAFB313A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D37-104A-49A5-9889-DF409F08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B45-9E8D-4C82-8F1B-F84BE71A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EB87-A7C5-46C5-8A3B-65D63B40A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3DC2-78C0-475E-8CA5-3C0C830B3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 Up and Bless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ames Montgomery (Neh. 9: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tand up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people of his ch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up and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your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and soul and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and up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less the Lor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Lord your God ado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and up and ble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s glorious na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nceforth forevermo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all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all blessing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ould not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ol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ud and magnif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for the living fl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is own altar br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ouch our li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inds insp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our thou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and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salvation our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be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proclai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our ransomed pow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up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e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your God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up and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lorious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nceforth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 Up and Bless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ames Montgomery (Neh. 9: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38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Stand up and bless the L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 people of his choic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 up and bles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Lord your Go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heart and soul and vo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Though hig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bove all pra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bove all blessing hig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would not fea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s holy na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laud and magnify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for the living fla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his own altar brou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touch our lip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minds inspi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ing to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ven our thought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is ou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rength and so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his salvation our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n be his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Christ proclaim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all our ransomed power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6-21T00:22:52Z</dcterms:modified>
  <cp:revision>155</cp:revision>
  <dc:subject/>
  <dc:title>PowerPoint Presentation</dc:title>
</cp:coreProperties>
</file>