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7000-AC0F-4A6C-A6B7-8720D02132C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FA2-7151-439B-B573-D5A66269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01F-8D48-40E4-AB96-4A06FD6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7FC-4BA2-4388-922A-56B6F894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F7D-1443-4780-BDCC-8051DA50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B581-2CDD-4995-BB46-63B8ACCA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F10-4296-436E-837D-907409E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47EB-F92A-40CB-B243-F05F57F3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023-D99D-4FA1-B74D-58B9A8AB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A766-8D07-44CA-8375-75E85EF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1CB2-6BF8-4BCE-B724-09ED1276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9B6-AD1F-41B0-BB71-9D0E6A0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952-CF45-4EA4-A1F8-66F43E59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8DF6-3768-4115-A2C3-80A5E10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FEA9-BF70-4F74-92F1-399F9A5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72F9-863B-4DF2-BB0B-70BAF53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DB04-F72A-4084-9FCE-2BF18700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404A-6F30-46BD-93CE-86CA40E8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30A-B511-433D-A866-D45AA48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20F-D03E-4067-A055-C2D2593D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CA5-11DF-486C-8F64-2DDBCF8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CE9-0BC0-4F79-BCB4-9005C127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279-B8F8-4E24-A2FE-268D55F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8B4-D55E-4327-928E-2171D04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808-8963-4402-847D-E51742E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B55-A354-4A95-AB3E-5A53F6101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E7BF-602A-436A-8EE2-B7DCCCE3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52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388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Mine eyes have seen the glory                   of the coming of the Lord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is trampl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 the vintage wher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pes of wrath are stor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11200" y="8380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In the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lilies Christ w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rn across the sea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a glo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his bosom th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figures you and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-1371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God is marching 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2285280" y="-1142640"/>
            <a:ext cx="4724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Mine eyes have s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lor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ing of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tramp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the vintage where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pes of wrath are stor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1200" y="121932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loosed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eful lightning of h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rible swift swor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4778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have seen him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-fires of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undred circling cam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have builded hi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tar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dews and dam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ence by 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5238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 has sounded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tha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all retre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sifting 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arts of me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s judgment s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loosed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eful lightning of h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rible swift swor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the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lie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across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bosom tha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figures you and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-1371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God is marching 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14300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 rot="10800000">
            <a:off x="2285280" y="-1142640"/>
            <a:ext cx="4724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e 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lory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on the w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wisdo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ighty, he 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 to the b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-1066680"/>
            <a:ext cx="5791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his footst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rong his sl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447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0800000">
            <a:off x="762120" y="-15235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 have seen him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ch-fires of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hundred circling camp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 have builded h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ltar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ning dews and damp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ence by 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He has sounded fo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umpet that sh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ver call retrea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is sifting out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hearts of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his judgment sea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5-22T23:42:08Z</dcterms:modified>
  <cp:revision>57</cp:revision>
  <dc:subject/>
  <dc:title>PowerPoint Presentation</dc:title>
</cp:coreProperties>
</file>