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9F8-961F-4A95-B9AD-4E227C78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77A-A0AB-4C17-A6A3-2669EA50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484-2D60-4F74-9539-DD9B2801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756-2595-4636-BCAE-0FC1BB60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B37-E7C0-4E9C-8F03-937784F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0C5-F182-494E-BFFD-3A830FE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F4A-6AB0-447E-BD09-6E257EF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EAC-87CE-4E40-ACA6-B425D63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4BE-3AD7-4B76-8077-B7811C7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895-7C58-444A-A7BF-0EF0385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E33-9F3D-4407-A372-506DEED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06A-E4B0-4489-A617-740BE90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EA2-01CD-4218-8169-4614D9EB0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lence, Frenzie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nclean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Silence, frenz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lean spiri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d God’s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2640" y="1701720"/>
            <a:ext cx="66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4 (Mt. 1:21-28; Lk. 4:31-3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your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hen we hear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e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e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our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m our fee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fract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ng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, an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your rant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sh can’t bear 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 a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su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’s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mon tr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its vict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ly ru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crow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assem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in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unned and hu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the de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re th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ay c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i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yrant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rill and dr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sted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ip and b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s that st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rt to pan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distor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son’s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 that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ving frant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s that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 with f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len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clean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he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26Z</dcterms:modified>
  <cp:revision>21</cp:revision>
  <dc:subject/>
  <dc:title>PowerPoint Presentation</dc:title>
</cp:coreProperties>
</file>