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542-9495-47DA-AD7D-7E013A8A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7D88-0E3B-4607-A881-7327A7FA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0F6-0356-4771-8B5E-0B75E90B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0F2-64DD-40B3-B8FF-003E0053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8F5-A97D-4239-972C-EB08A813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26F1-F015-4AEF-88A2-4FDFDFFB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8096-3F38-45F6-8466-46FDC2F0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576-C190-4C39-B7AB-522436F7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310-8071-43E2-BCE5-DB6AAE9B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B0D-1153-4D14-BCC2-3D62FC6B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95F-C446-415B-9C80-081FC9C4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ECE-DD0C-4AA1-A5E6-0ACFF3AC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D88F-2B12-4E8A-A996-871FA56F3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Us Now Depar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y 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Now Depart in Thy Pe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New Mexican folk song, adapt. by Lee Hastings Bristol, Jr., 1961 (Lk. 2:2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now de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us to our ho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’s love in our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61 Concordia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not the busy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aim all our loyalti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us ever mind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Lord, of thee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0:48Z</dcterms:modified>
  <cp:revision>162</cp:revision>
  <dc:subject/>
  <dc:title>PowerPoint Presentation</dc:title>
</cp:coreProperties>
</file>