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45FA-8555-4017-A4CC-BAAA0085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7CB-30E9-4089-ACB7-331FD60C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1B16-B0F4-44E9-96B4-456FF45F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753-38AC-4A6B-A1F6-947AE5CA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767E-45A0-4944-B138-B64C4C34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62B-1125-4984-B527-1BDD66D2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623-6635-4DAB-AF44-59861380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E10C-0779-42C5-9621-82FF3186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E432-F4AB-4EFF-A0A3-5F483CA8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748-6F4E-4633-8BF6-61FA29BA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9B2E-E3DF-420F-A0CC-3F801599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80AB-586E-4A2F-A634-8E54D2D6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B4F6-3554-4C3E-9567-AC8F43417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was in the Moo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Winter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’Twas in the mo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winterti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all the birds had f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ighty Gitchi Manit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 angels choirs instea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by permission of Frederick Harris Music Co.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8840" y="1649520"/>
            <a:ext cx="71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ean de Brebeuf, ca. 1643; trans. by Jesse Edgar Middleton, 1926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childre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orest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eed of Manit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ly Ch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arth and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orn today fo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kneel bef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adiant b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rings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y, peace, and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668600"/>
            <a:ext cx="9144000" cy="32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your King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glor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ir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ars grew d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nters heard the hym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68600"/>
            <a:ext cx="9144000" cy="32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your King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glor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ithin a lod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roken b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ender babe was fou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ragged ro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abbit sk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wrapped his beauty r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as the hun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aves drew n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gel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ng loud and high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668600"/>
            <a:ext cx="9144000" cy="32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your King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glor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earliest mo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winter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not so round and fa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as the 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lory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lpless infan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iefs from 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him kne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ifts of fox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aver pel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668600"/>
            <a:ext cx="9144000" cy="32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your King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glor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05:28Z</dcterms:modified>
  <cp:revision>9</cp:revision>
  <dc:subject/>
  <dc:title>PowerPoint Presentation</dc:title>
</cp:coreProperties>
</file>