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BB9-FBC1-4619-83A3-45A10C2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DAE-94C5-437F-B75A-01488CD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D6D-756F-41FA-B20B-27B8B3C6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2EA-0899-4185-82B5-81A32140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FE6-760C-4009-86D9-46C1742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88E-D318-4063-A10B-BA1C5BD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33E-9723-4F41-A733-FE06720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3A5-F6BC-47F1-B6B3-2AD0CF9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BEA-BFEB-4476-8159-ED009B2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AAA-A6B0-4C55-95E6-32B56AE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6C6-56D2-4187-BDEC-2A1E5AE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54B-CA85-460C-9303-381476B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986-80AA-47B6-A9AC-8E362229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of the Dan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810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danced in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world wa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un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tainer &amp; Bell Lt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90080" y="114300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yndey Carter, 196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ross to di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back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till go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ll never, never di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d my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nce went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it was a sha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6:52Z</dcterms:modified>
  <cp:revision>27</cp:revision>
  <dc:subject/>
  <dc:title>PowerPoint Presentation</dc:title>
</cp:coreProperties>
</file>