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751-D4DA-4BBB-B158-18C4E758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8AB-F2F5-47AE-97B7-6E659D90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12B-2676-4E6A-8B06-9B5A8FA0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149-6954-4864-93CC-61C1CFB6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312-5367-40D4-9725-B2CB69B3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136-14E5-479D-82AE-62D4A2DE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0C3-8ECE-4BFC-80E8-9A245B99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014-E491-4BB4-BFFF-B4FE2726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8FA-A3D0-423A-95C8-11B954DB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CAB-8711-4E99-B80E-48CAA4A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5BD-33EF-47D9-A669-F422871D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2FE-5D0F-4137-8834-B1FF90E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8837-8520-49F2-941A-40A17D153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f Death My Frie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Me 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0"/>
            <a:ext cx="89154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death my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me div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ou dost not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my sorrow ch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r frown my tears to s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Death My Friend and Me Divi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1080" y="160020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6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rained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ionate exc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bidst me mo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calm distr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m that rest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 feel a str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mmortal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bears my mourn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pirit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eneath its mountain loa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deemed from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grief, and p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oon shall f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friend a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in the arms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Pass a few flee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oments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death th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all rest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death has snatched awa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e thou wil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ummons s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me ba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parted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at eternal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09:16Z</dcterms:modified>
  <cp:revision>13</cp:revision>
  <dc:subject/>
  <dc:title>PowerPoint Presentation</dc:title>
</cp:coreProperties>
</file>