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08B-5DCA-462F-B2DB-FCB56845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7F2-FB99-40FA-9007-6A67B28B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4F3-57E1-40C1-88C5-6CAE7B06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1AF-C80B-4D38-8C16-12E19502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A988-DCD2-4035-A544-177D76F1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4D3B-2763-437E-BA0D-D0C44912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0E02-0CE9-4DD0-AB91-4AF3678B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7614-C559-400C-8EF6-0ACE485C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1C8F-143A-41C2-8E94-1605FF38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502F-0B69-4F45-9E16-818C70E1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3C3B-8F8B-4BAF-9FF0-50E5B189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A4B-C987-405B-8113-1C9D47FA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1E43-F1FC-482A-8772-ACD8E405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31BC-25B4-4FBB-8A21-EAF75EE7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1A49-3C0C-4858-AA4D-2CA3498F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C5FD-CF8E-4C5D-9D85-5D89DBC4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AAD5-6AEA-4764-AB91-90F3E540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E81-4822-4B1B-85B7-18B71DAA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0D1-2BE9-4152-BDC3-C4F63853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4F0-A0A0-44A2-9F4C-2F94B25C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AB9-6185-455A-9870-0796B2EA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51E-33D6-413D-A249-F2C73AD9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174-6286-44BD-8018-40973CBE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71A-FE6C-4ACA-BDFA-3788235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DDEC-2F16-4297-ADF8-ACAF22A06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7D76-14AC-4566-9CCB-F09BA9120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60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Pass Me Not, O Gentle S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35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858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Fanny J. Crosby, 1868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14400"/>
            <a:ext cx="9144000" cy="40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1. Pass me not,  O gentle Savior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 thou art calling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0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me a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sweet rel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eeling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deep contri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y unbelief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rusting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I seek thy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l my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ken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me by thy grac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 the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my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life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hav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beside th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in heaven but thee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Pass Me Not, O Gentle S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35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9907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Fanny J. Crosby, 1868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52388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Pass me not,  O gentle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 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76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me at thy throne of merc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sweet relief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kneeling the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 deep contritio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y unbelief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76320"/>
            <a:ext cx="914400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0" y="76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rusting onl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meri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I seek thy fac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l my wound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roken spiri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e me by thy grac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0" y="76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 the spr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my comfo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life to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m have I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beside the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m in heaven but the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76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270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me at thy throne of merc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sweet relief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kneeling the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n deep contrition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y unbelief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73080"/>
            <a:ext cx="914400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3. Trusting onl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meri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I seek thy face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heal my wounded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broken spiri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ave me by thy grace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76320"/>
            <a:ext cx="914400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 the spr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my comfor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life to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hom have 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beside thee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hom in heaven but thee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0"/>
            <a:ext cx="9144000" cy="49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 Me Not, O Gentle S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9907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68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Pass me no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gentle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0-15T00:42:34Z</dcterms:modified>
  <cp:revision>111</cp:revision>
  <dc:subject/>
  <dc:title>PowerPoint Presentation</dc:title>
</cp:coreProperties>
</file>