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29BC-3FC1-4056-AB54-68746450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ED4C-FAF7-4B48-A7D8-A64A6B33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2C69-748D-40AA-B9BA-64AFD241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AE81-FEBE-4A38-BE73-698880B1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492-6D13-48FB-86A4-82A1B9C6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2BE5-E9DC-4189-A287-6F54041A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6C2-389B-453A-A33A-5E0529E4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DAC-844D-46FD-A7A8-035EB535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E3EC-9D78-4827-B17C-6B3A740C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5834-D015-4CA4-98FF-44942073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5500-DD26-4698-A06B-CCE24287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82DF-2393-47F3-949E-41267FDA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00A3-5DE3-442E-9D0D-AD23BB621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Rememb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ighteous live fore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reward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Rememb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9240" y="1166760"/>
            <a:ext cx="74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sdom of Solomon 3:1-9, adapt.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sponse 1, Wisdom of Solomon 3:1-9, adapt.; Response 2, Psalm 28:7,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will govern nati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rule over peopl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Lord will reig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ver them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trust in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ll understand tru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faithfu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ll abide in lov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65888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cause grace and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re upon the elec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God watched ov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one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71600"/>
            <a:ext cx="914400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y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give thanks and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ord is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and shie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Rememb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492200"/>
            <a:ext cx="861048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56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56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ouls of the righteous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the hand of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no torment will ev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uch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2845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eyes of the foolis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y seem to have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ir departure w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ought to be an affli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9191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ir going from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be their destructio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ut they are at pe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ough in our s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y were punish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ir hope is fu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immortality.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735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ing been disciplined a litt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y will receive great go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cause God tested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ound them worthy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ke gold in the furna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od tried th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like a sacrificia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urnt offer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od accepted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time of their visit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y will shine fo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ill run like spar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rough the stubb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50:15Z</dcterms:modified>
  <cp:revision>33</cp:revision>
  <dc:subject/>
  <dc:title>PowerPoint Presentation</dc:title>
</cp:coreProperties>
</file>