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D60-233A-40E7-A500-D8B69E6F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5CE-C1E2-462A-A697-0471B5DA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EF5-FFA4-4DEE-98DD-D6ECDA51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7E1-A7A3-41DF-B785-C94F6964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423-CEA9-4E6A-ADB1-65C90DD7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0A5-DBD1-4EA0-A29C-2E4F1BB0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4F9-47D5-4E04-8596-0C8DADCB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C0F-29CD-4EDA-95F8-FE05CAAF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30D-C770-4774-BBD4-BFC7A6C4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164-C030-44E7-B811-71289A80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270-4F2F-4522-AD63-13994485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B54-CDAD-4421-8909-B14A6980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9AD2-0006-4C43-B19D-FB547956D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7652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ICAL SETTING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820800"/>
            <a:ext cx="86868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295280"/>
            <a:ext cx="87631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en, amen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, holy, holy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85800"/>
            <a:ext cx="914400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95280"/>
            <a:ext cx="91440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sann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highes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4:43:57Z</dcterms:modified>
  <cp:revision>13</cp:revision>
  <dc:subject/>
  <dc:title>PowerPoint Presentation</dc:title>
</cp:coreProperties>
</file>