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066-F37D-465A-B48F-FB3270AA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3E5-9BB7-4526-BEF8-39E3A5B6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7FA-B52E-469D-B375-160C53A7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319-CB48-45D9-87ED-5AF73468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A013-5922-4851-A951-5EE02F91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410E-89D1-4DC9-80CC-011BDC1C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14AA-6FD6-4199-8393-380003E4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5495-B637-443A-8986-E0AC9290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3E49-E93A-4DEC-8C55-4DBAAD63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4C33-C2A1-4DF8-A51F-A08F2D91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6978-CB8F-4F43-BC4A-86EA57DD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C67-5DC4-4BFE-8D4E-439FD681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78D3-0D1B-4FDE-B3FD-00B9C113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31C6-CD67-4A46-A614-C351F1F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200C-7348-44C9-AFE1-7DCA0389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36A1-DF98-494A-87DF-069CCE51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AB2C-B3E1-44C0-A945-AAE7E06B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A2C-D823-44DB-8238-6C97112F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82D-396B-43A4-8023-45551E9C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CFA-6DEB-470B-AF7C-9E81CA71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BB5-2D95-48F6-A45D-6C0D2729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178-D0B1-4068-83B4-D258018E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0AE-A756-4874-9A21-27FEE98C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4A2-DB36-474A-B668-06C56D9F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113E-8B45-4109-85A1-EBE93FB19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EAD5-212A-47AD-88B0-9C189AEFC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0020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0200" y="990720"/>
            <a:ext cx="62485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763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80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0"/>
            <a:ext cx="8763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n remembrance of these your mighty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cts in Jesus Christ, we offer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urselves in praise and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anksgiving as a holy and living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sacrifice, in union with Christ’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22860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380880"/>
            <a:ext cx="876312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1255680"/>
            <a:ext cx="876312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371600"/>
            <a:ext cx="70102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(Musical Setting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160" y="76320"/>
            <a:ext cx="9067680" cy="1447560"/>
            <a:chOff x="38160" y="76320"/>
            <a:chExt cx="9067680" cy="14475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38160" y="76320"/>
              <a:ext cx="95256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8153280" y="76320"/>
              <a:ext cx="952560" cy="14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09-30T18:15:25Z</dcterms:modified>
  <cp:revision>13</cp:revision>
  <dc:subject/>
  <dc:title>PowerPoint Presentation</dc:title>
</cp:coreProperties>
</file>