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4C6-2B44-4418-BF2C-FFD58F3D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7C4-33F5-422C-A94E-A2DDA008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59E-DFBE-4D2C-82F1-B686C51B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F47-B0D5-4DF5-9F3D-0A4708A8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46C-969C-4503-9544-8FB6EBB6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4AB-17C2-4054-9E61-DB74CA20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06C-55D0-41A3-8FB8-8A82A552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9B9-E696-4BD7-A8E5-0D40657D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606-49ED-47C4-8AA7-5CDAC8C3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2C3-699F-4540-9715-3C4219D1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28D-1E53-4FDF-998D-258A4052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5E3-B046-4073-B2E5-6585398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D589-3E01-4B28-98E8-7D45A5B77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76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5909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 that do truly and earnestly 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pent of y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re in love and charit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neighbo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ABLE 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mercy upon 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ardon and deliver us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our sin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and strengthe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all goodnes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37016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ring us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lasting lif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Jesus Chris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95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ORDS OF AS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ords of Assura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what comfortable wor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Scriptures say to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truly turn to the Lor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Matthew 11:2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35200"/>
            <a:ext cx="868680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 to me, all who lab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re heavy lad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I will give you 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Matthew 11:2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ohn 3:1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03320"/>
            <a:ext cx="8686800" cy="45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so loved the world that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his only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hoever believes in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ould not perish but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ternal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John 3:1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 Timothy 1: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370160"/>
            <a:ext cx="86868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ying is sur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thy of full accepta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Christ Jesus came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world to save sinn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1 Timothy 1: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 John 1: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003320"/>
            <a:ext cx="868680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confess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od is faithful and ju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ll forgive our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cleanse us from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righteousnes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1 John 1: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 John 2:1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y one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have an advoc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 the righteou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003320"/>
            <a:ext cx="868680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e is the exp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not for ours only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ut also for the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whole worl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From 1 John 2:1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48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29528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ith th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un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tend to lead a new life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llowing the commandment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alking from hencefort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in his holy way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73520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meet and right so to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very meet, r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ut bounden du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should at all tim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in all pla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thanks unto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Father,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lasting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, with angel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rchange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th all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pany of heav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aud and magnif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glorious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more praising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ying (singing)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God of hosts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thy glory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be to thee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1337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that come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heavenl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of thy tender merc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dst give thine only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uffer death u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cross for our redemp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made there, by the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of him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full, perfect,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ufficient sacrifi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sins o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whole worl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id institut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in his holy Gospe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mand us to contin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perpetual mem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is precious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til his coming agai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us, O merciful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we most humb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seech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less and sanctif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thy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se thy gifts of bre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n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aw near with faith, an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ake this Holy Sacrament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comfo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ke your humble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ession to almighty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, receiving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ccording to thy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avior Jesus Christ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institu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assion,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surrec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be partaker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vine nature through hi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, in the same night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was betrayed, took br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when he h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iven than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broke it, and gave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his disciples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167652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iven for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wise after supp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took the cup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when he h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iven than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gave it to them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ye all of thi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or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hich is shed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for man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or the forgiveness of sin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205740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 as oft 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e shall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our heavenly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we, thy humble serva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desire thy father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odness merciful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o accept this our sacrif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f praise and thanksgiving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st humbly beseeching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ee to grant tha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by the merits and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f thy So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through fa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n his bloo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nd thy whole chur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may obt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orgiveness of our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all other benefi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f his pass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FESS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1430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mighty God, Father of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Lord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maker of all thing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judge of all peopl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cknowledge and bewail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ur manifold si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wicked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re we off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present unto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 Lord, ourselve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ur souls and bod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o be a reasonable, ho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lively sacrif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unto thee;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umbly beseeching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at all we who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partakers of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ly Commun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may be filled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y gra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eavenly benedi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though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be unworth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rough our manifold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o offer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y sacrifi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we beseech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o accept this our bound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duty and servi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not weighing our meri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but pardo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ur offens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ur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by whom, and with who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n the unity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5526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onor and glory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unto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world without 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48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AYER OF HUMBLE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of Humble Acce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29528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 not presume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ome to this thy tab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 merciful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rusting in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wn righteous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t in thy manifo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great merci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not worth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o much as to gather up 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y crumb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der thy tabl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ou art the sam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se property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lways to have merc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us, therefo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racious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o to partake of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acrament of thy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esus Chris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walk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ewness of lif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grow into his like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may everm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dwell in him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he in us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we from time to ti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ost grievous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ve committ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ought, w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de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gainst thy divine majes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takest awa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ins of the wor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ve mercy upon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takest awa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ins of the wor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ve mercy upon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takest awa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ins of the wor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rant us thy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48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 and Cu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rd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was given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eserve thy soul and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to everlasting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 and eat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tha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died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eed on him in thy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faith with thanksgiv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rd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was shed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eserve thy soul and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to everlasting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thi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tha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’s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as shed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48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2193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eace of God, whic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passeth all understand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keep your hearts and mi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the knowledg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of his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Jesus Christ our Lor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63828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blessing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 Father, the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e among you,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remain with you alw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8088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 earnestly repe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re heartily sorry for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ese our misdoing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e remembrance of them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s grievous unto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mercy upon u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ave mercy upon u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most merciful Fa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y Son our Lor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Jesus Christ’s sak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 all that is pas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rant that we ma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ever hereafte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ve and please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n newness of lif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honor and glor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y na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Lor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FOR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FOR PARD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1430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heavenl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of thy great mercy has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omised forgiveness of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m that with hear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pentance and true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urn to the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5:04:00Z</dcterms:modified>
  <cp:revision>13</cp:revision>
  <dc:subject/>
  <dc:title>PowerPoint Presentation</dc:title>
</cp:coreProperties>
</file>