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D0F-6A8D-4A74-996F-AFD5E87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7BC-6092-487C-B97B-99F7DD5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D1A-9B51-432F-9F2D-AB4A9E5F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D8C-58F2-4C79-AAF3-35E22B35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61F6-06AD-48E0-B54B-DA2A76E3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A8C8-C4E5-446D-A3ED-69F52B0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2B63-B5A0-4712-9970-36445884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31FD-8083-45BB-9B7F-02EA5543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82D4-F35E-47F3-BDB8-85E254F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1CA-EB9F-40E0-86BB-3352953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D58A-C3FC-4154-AB35-992726E6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CF-F1B4-4DED-B305-BCAA209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5C6-B26C-49AE-87DB-2F35619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2E5D-17E2-48EE-A98E-CE5822D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0AF6-3F19-47C6-87AE-84FA9E7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291-B733-4A57-8A7C-56363AD4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1D70-C654-4FC5-9390-173CCF07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1A3E-ED80-4899-9287-B7103AB8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0973-3D95-4EFD-9399-8178B1AD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F580-6AAA-48C7-A6A8-D3455A2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3103-79F9-4A84-8EBB-BE1CE09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F15B-5EF5-4205-B06E-1B35406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D32-5181-48F8-A9BB-5CF52E2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D738-FF7D-4DB0-8A15-FD4B57DE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ECF6-9FDA-474F-A57D-4A93C39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FDDD-62A6-489E-89AD-8B4E4DB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B92C-1E3B-42D5-B3CF-4AF191D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91B9-7167-4805-8D6F-2104C8E3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6691-947D-4B8F-A981-389A557A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B6BC-8DDE-40EE-9698-A583C2D3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2F4-9BD7-4DD5-B3CD-1C58708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054-6663-4BB6-831C-4CDC563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B66-7F8A-4F1A-B11B-CC6EB00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B84-9AE2-42FF-A25A-57388DE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F9A-1423-494C-8A84-11E66F06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129-94A5-459F-9E86-B9B293F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6B26-D92E-493D-B840-03C8D79D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4EA-4874-4027-BC31-00F06A87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74A-2B43-4669-923B-A40E7B8AF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 SERVICE OF WORD AND TABLE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388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096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36232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105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219320"/>
            <a:ext cx="86868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ven and earth are Full of your glo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12760"/>
            <a:ext cx="87631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And so, in remembrance of these your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9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1:38Z</dcterms:modified>
  <cp:revision>12</cp:revision>
  <dc:subject/>
  <dc:title>PowerPoint Presentation</dc:title>
</cp:coreProperties>
</file>