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1D2-45FF-451F-B86D-249503D2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071-3AEE-4DAE-B777-573A9FE6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02E-BFEA-4A8A-B889-8C24B7DA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1AD-ACEB-43AA-B5BB-A5210F83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70D-7511-4FAC-AC99-793799B8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782-2590-4401-A267-9F391B44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7D5-8F74-4BA0-8F4E-BBEFB6F6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161-5222-4170-AA58-2D1BA237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27C-EE8A-48C0-BA46-07D5C5DF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77B-F107-4731-8324-C586E47B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178-60AC-4A59-8E12-353F8866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564-FDD0-45F2-88A8-8AC92F0E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B989-14E8-4D36-A9B5-BA51DF602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GREGATIONAL PLEDGE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09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you as a congreg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cept the responsibility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sisting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ar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fulfillment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baptismal vow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ONGREGATIONAL PLEDG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187280"/>
            <a:ext cx="868680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do you undertake to provid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acilities and opportuniti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 Christian nurture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fellowship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e will, by the grace of Go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5:28:43Z</dcterms:modified>
  <cp:revision>16</cp:revision>
  <dc:subject/>
  <dc:title>PowerPoint Presentation</dc:title>
</cp:coreProperties>
</file>