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626-B050-4E08-9F6A-65AF4B14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137-D27F-4406-9B14-7AF2CAD9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93D-9D6A-4E77-B924-06F0A395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CA3-236A-4748-9823-BE5742EF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316-7326-4DC0-846A-7092FA6E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D21-06B0-49F2-8C4F-CD092382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45C-B834-47A2-9B44-DEB963E6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CD8-F187-40EC-8B4A-08F24AB1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EB4-366B-468A-8E56-AC477908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999-2E3D-4794-BC24-3367A7F3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0F6-A6BF-4210-87CE-B13D78BC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A40-A649-4672-93A0-14EB83B0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C781-CDF8-4C0C-889F-9B4691026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6836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10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1337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484280"/>
            <a:ext cx="86868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47:34Z</dcterms:modified>
  <cp:revision>14</cp:revision>
  <dc:subject/>
  <dc:title>PowerPoint Presentation</dc:title>
</cp:coreProperties>
</file>