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5B3-B92C-4856-A679-743AB5B1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C61-B43B-4C6E-904C-35F8553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FDB-E22F-41B5-A16C-EDF52EBF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912-B22C-4571-93AA-E05991B7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CE0F-0744-4D99-8B6E-29CDA799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5A0-EEE3-4745-97F2-414E1FB6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731-B6D7-4901-A048-E0CBCCB3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92A5-F1C6-471E-AC03-BA23DC2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1204-07A7-47D2-8C8D-17204B8D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3133-0B88-4041-9023-70E45AE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DD82-D1D8-46E7-9AA0-0666B5D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B17-E7B6-4AB3-BC9A-C4337D3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34A-46A7-4124-BAA3-8434A9E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9CAD-B1B8-43D8-835B-F2ED93C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10F-EF98-424F-8932-9BD36E88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9BDA-2651-4DD1-8D97-B6A2DD6D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275-9D2A-48EE-AB89-A4CF2E1C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CA9-581F-4C00-B9E3-AF93D03E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CC9-8848-413B-A04F-8B61590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0F3-5AB6-41AB-92EF-924EF5E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B60-3CF0-49CB-B7C7-1FB8A46D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E64-3227-402D-A1DE-52EF047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3CE-594A-4273-8601-6CCAC39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4FC-51DF-48CD-852C-D1F710B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C94-331B-4BF4-8336-A789C8F6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4F17-2E52-440D-AF27-39465209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386000"/>
            <a:ext cx="868680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52280"/>
            <a:ext cx="87631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at liberty those who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ppressed, and to annou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e time had com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save your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ealed the sick, fed the hung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te with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76320"/>
            <a:ext cx="9067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7621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Jesus asce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promise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with us al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power of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393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7621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609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808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06524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7632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 in remembrance of the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80880"/>
            <a:ext cx="86108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86868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9144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74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668160"/>
            <a:ext cx="8991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94284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393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Jesus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 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8991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101520"/>
            <a:ext cx="906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your will be don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ive us today our daily brea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give us our s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335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ave us from the time of tria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now and forever. Am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REAKING THE B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reak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094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re is one loa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, who are many, are on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ll partake of the one loaf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ead which we break i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ring in the bod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1430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p over which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anks is a sh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lood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33520"/>
            <a:ext cx="88390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30492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 God, we give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anks for t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oly myster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which you have giv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yourself to u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90676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rant that we may g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to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the strength of your Spirit, to give ourselves for other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1143000"/>
            <a:ext cx="87631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name of Jesus Chri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2060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609480"/>
            <a:ext cx="899172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 and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union 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AND TABL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905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8954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0880" y="124128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95360" y="246708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sen Christ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pening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 all hearts are op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desires know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you no secre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idd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eanse the thought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inspiration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perfect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yo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orthily magnify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39384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formed us in your im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thed in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th of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turned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r love fai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love remained steadf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CLAMATION AND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Illum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3623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open 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i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power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480" y="1295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ILLU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, as the Scriptures are r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Word proclaim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may hear with jo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you say to us tod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SPONSE TO TH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to the Wor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191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 jud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iving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table all who lov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earnestl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ir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ek to live in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ailed to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62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094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ed us from captiv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de covenant to be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vereig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poke to u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neighbo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not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118584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1337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480" y="1371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formed us in your im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thed in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th of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turned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r love fai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love remaine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teadf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92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ed us from captiv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de covenant to be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vereig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poke to u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21932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6510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pirit anoint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ach good new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oclaim relea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capti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covery of s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bli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at liberty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are oppr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o announce th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me had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en you would s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ealed the si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ed the hung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te with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Jesus asce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promise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with us al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power of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5335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11872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29528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in the name of the Lor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99072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will b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to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ve us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ime of tria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ow and forever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REAKING THE B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reak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re is one loa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, who are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on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ll partak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loaf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ead which we break i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ring in the bod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p over which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anks is a sh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lood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86868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God, we giv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nks for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myste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which you have gi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self to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that we may g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strength of your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give ourselves for oth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pirit anoint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ach good news to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oclaim releas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ptives, and recovery of s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bli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05T23:36:48Z</dcterms:modified>
  <cp:revision>12</cp:revision>
  <dc:subject/>
  <dc:title>PowerPoint Presentation</dc:title>
</cp:coreProperties>
</file>