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B5E5-8ADB-469F-852E-7B8E8F7D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34A4-E16F-4FD3-884F-E5298DDE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441F-DA1B-4C8C-AC07-D46C4778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8765-AAEE-4C78-8198-3AFC2560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DF44-8691-4F2C-AE2E-28A5A48C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6955-A2D4-4F2B-983A-9FB0A76C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804C-1087-424F-9835-E5676CAD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73A1-190A-43A6-861B-7905009C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DFD3-7A62-456F-97AF-AE2EDFCF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1253-E6F4-4205-AF04-91662615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23EC-92E1-4872-87E7-07D0A32D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D61C-3016-4730-8922-9B703B31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07C2-5D69-4329-8DDD-93A284361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1430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TRODUCTION TO THE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troduction of Service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0968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 church is of God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will be preserve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the end of time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for the conduct of worship and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due administration of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God’s Word and Sacraments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APTISMAL COVENANT I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131920"/>
            <a:ext cx="8686800" cy="26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truly and earnestly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repent of your sins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1003320"/>
            <a:ext cx="8686800" cy="48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believe in Go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Father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Father Almight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creator of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aven and ear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1735200"/>
            <a:ext cx="868680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believe i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Jesus Christ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is only Son, our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45576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was conceived b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Spiri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orn of the Virgin Mar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uffered und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Pontius Pilat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as crucified, di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as buri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descended to the de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45576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the third d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rose agai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ascended into heav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s seated at the r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and of the Fath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ill come again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judge the liv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de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1735200"/>
            <a:ext cx="868680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believe i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Holy Spirit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Spiri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holy catholic churc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communion of sain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forgiveness of si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resurrec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the bod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life everlast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1079640"/>
            <a:ext cx="868680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receive and profes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Christian fait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s contained in the Scripture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the Old and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New Testaments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1979640"/>
            <a:ext cx="86868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promise, according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the grace given you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keep God’s holy will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commandment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1430280"/>
            <a:ext cx="868680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nd walk in the sam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ll the days of your lif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s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faithful members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of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Christ’s holy church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62864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maintenance of Christia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ellowship and disciplin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edification of believe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e convers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the worl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aptis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2131920"/>
            <a:ext cx="8686800" cy="26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desire to b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baptized in this faith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8380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APT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1430280"/>
            <a:ext cx="868680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Name,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I baptize you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the name of the Father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of the Son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of the Holy Spiri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aying on of Hands…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523880"/>
            <a:ext cx="86868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333399"/>
                </a:solidFill>
                <a:latin typeface="Times New Roman"/>
              </a:rPr>
              <a:t>Name,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the Lord defend you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ith his heavenly grac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nd by his Spirit confirm you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the faith and fellowship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all true disciples of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Jesus Chris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088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LAYING ON OF HANDS, CONFIRMATION, OR REAFFIRMATION 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ception into the United Methodist Churc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457280"/>
            <a:ext cx="86868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Let those persons who are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members of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ther communion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Christ’s holy church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nd who now desire to ente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to fellowship of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is congregation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0492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CEPTION INTO THE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UNITED METHODIST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162864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present themselve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be received into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membership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The United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Methodist Church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1079640"/>
            <a:ext cx="868680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ill you be loyal to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United Methodist Church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uphold it by your prayers,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r presence, your gift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your service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ception into the Local Congreg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838080"/>
            <a:ext cx="868680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Let those who are member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other congregations of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United Methodist Church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nd now desire to ente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to the fellowship of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is congregation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present themselves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be welcomed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2860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RECEPTION INTO THE LOCAL CONGREGATION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mmendation and Welco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066680"/>
            <a:ext cx="86868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Brothers and sisters,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 commend to you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love and car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whom w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is day receiv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to the membership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this congregation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049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MMENDATION AND WEL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1919160"/>
            <a:ext cx="86868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all in your power to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crease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faith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confirm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hope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perfect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m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in love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rejoice to recognize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s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of Christ’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oly churc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bid you welcome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is congregation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United Methodist Chur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979640"/>
            <a:ext cx="86868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ll, of every age and station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stand in need of the mean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grace which i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lone supplies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82080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yo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e renew our vows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uphold it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y our praye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ur presen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ur gifts, and our servi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8208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God’s help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e will so order our liv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fter the example of Chri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, surrounded b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teadfast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you may be establish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e fait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28456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confirmed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trengthened in the w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leads to eternal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1101600"/>
            <a:ext cx="86868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God the Father, God the Son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God the Holy Spiri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bless, preserve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keep you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now and evermore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ayer for Those to be Baptize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27000"/>
            <a:ext cx="868680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Forasmuch as all have sinne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fallen short of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glory of God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ur Savior Christ said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“Unless one is bor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water and the Spiri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ne cannot enter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kingdom of God.”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AYER FOR THOSE TO BE BAPT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803240"/>
            <a:ext cx="868680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Let us pray: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lmighty and everlasting God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e call upon the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for these thy servants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27800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at they, coming to thy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holy baptism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may receive remiss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their sin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be filled wit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Holy Spiri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27800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Receive them, O Lord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s thou hast promise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by thy well-beloved Son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nd grant that they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may be faithful to the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ll the days of their lives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452600"/>
            <a:ext cx="86868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inally come to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eternal kingd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ich thou hast promise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ofession of Fait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0492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NUNCIATION OF SIN AND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OFESSION 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68680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in the presence of Go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this congregat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renew the solemn vow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promis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made at your baptism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18T19:26:46Z</dcterms:modified>
  <cp:revision>18</cp:revision>
  <dc:subject/>
  <dc:title>PowerPoint Presentation</dc:title>
</cp:coreProperties>
</file>