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CD71-E9F9-44FA-8A87-6EAB03E7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A3E-3047-4727-8603-9E7299AB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C59-7351-4FD8-BFBD-6143F58A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82C-10D2-4060-B0C9-7BBEC885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76DA-EE1B-4A90-B69F-A94CBB23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20E-E92A-41BC-996A-BBA815A7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E0D-6676-4023-B5BA-21FEA6D3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940-FCE8-46B1-BC68-6D233E0B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30A-09AA-4D16-A09A-4A6118FA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9E4-9AFC-4D8B-B600-8442F2EF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9E9-DB8A-4E2B-B790-9AFFA2B6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FF8-0413-4C71-9684-154A1599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183E-99B0-4E15-A20A-59FBECD29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al Setting 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36836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SICAL SETTING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438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90512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981080"/>
            <a:ext cx="7925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11744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484280"/>
            <a:ext cx="876312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, amen,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18T14:50:17Z</dcterms:modified>
  <cp:revision>15</cp:revision>
  <dc:subject/>
  <dc:title>PowerPoint Presentation</dc:title>
</cp:coreProperties>
</file>