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28D-304F-4D9D-9D8B-4FC29CCD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1E1-62BB-423F-9ECE-F93293E4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37D-0711-4998-8037-D5BE7534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AFE-F287-4523-889B-32810939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3FF-ED03-45AF-AC0C-0ED33DFB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FCB-3E70-441B-BF2B-9C2E54D6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056-276F-453B-8208-FC517613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016-D2CE-488D-B242-35A881DF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01C-9E10-4769-87F5-C47B2095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561-74BF-4137-8941-D990FC81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AD3-8CBE-4731-B34B-F892E11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E4D-7950-4864-B5CB-CC75959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B84A-2ADC-48E8-B4DC-014C97C0B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EGATIONAL PLED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193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mber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usehold of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end to your love and c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is chi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m we this day recogniz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memb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family of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ONGREGATIONAL PLEDG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endeavor so to lo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is child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grow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knowledge and love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our Savior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27800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ith God’s help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we will so order our live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after the example of Christ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600" spc="-1" strike="noStrike">
                <a:solidFill>
                  <a:srgbClr val="000000"/>
                </a:solidFill>
                <a:latin typeface="Times New Roman"/>
              </a:rPr>
              <a:t>this child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, surrounde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by steadfast love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may be established in fait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confirmed an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strengthene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in the way that lead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to life eternal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5:29:48Z</dcterms:modified>
  <cp:revision>18</cp:revision>
  <dc:subject/>
  <dc:title>PowerPoint Presentation</dc:title>
</cp:coreProperties>
</file>