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21F-96A1-40BF-8358-06E9F658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96D-7510-49B0-A8E3-F6806F37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125-1E40-4D3D-BC46-59ACDCEC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B3E-3D06-4856-B448-BB3F5220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48B-A9B7-4098-B50F-A76AEDD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5F7-98D9-4320-AC25-00B6A22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660C-D423-4900-B69B-A28FA84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95A7-FB6B-4BE7-A058-9AE329D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2732-470A-4589-9F10-D7C6FEF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37B-EF57-46AB-A474-34C8B957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94F-BA09-427B-9AAB-CFEA2D9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2C0-B714-46AD-A875-C6541FA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CF6-FB53-4228-8A09-73753AD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6748-1FC7-4A4D-B57F-AC49FFC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A80-AFE2-4745-B9BF-71008D4B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0089-024B-4FC7-8A5D-A4FD5DC1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133-EC24-4D0A-B286-ADBEE23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1F2-EA1E-4DFD-A702-5DE9F4A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D05-81DE-4EE6-8B5E-FC561B5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D91-0F3D-40BA-943F-5A2A4313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75B-2C25-408D-B12B-4180157A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9B4-1705-40E6-B4EE-A593D93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C83-C92D-45FE-AAED-BD821263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D8C-F8B0-4451-B135-08829EA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004-470D-414B-AFB9-089814FF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3CFE-1C2E-457B-B7C9-F6C23F1A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097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71440"/>
            <a:ext cx="914400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ll you remain faithful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Christ’s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76320"/>
            <a:ext cx="90676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4572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15228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 under Pontius Pilate, was crucified, died, and was burie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the third day he rose again; he ascended into heaven, is seated at the ri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and of the Father, and will come again to judge the living and the dea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6858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7632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686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686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320" y="7632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s slaves in Egypt,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Jordan to the l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hich you promi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144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you have washed away our sins, and you clothe us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ith righteousness throughout our lives, that dying and rising with Christ we may share 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his final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89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ith you and the Holy Spirit lives and reigns for ever. 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600200"/>
            <a:ext cx="868680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809640"/>
            <a:ext cx="86868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2280"/>
            <a:ext cx="868680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75248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give thanks for all tha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God has already given 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in the ministries of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37160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21276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od of all grace, who has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and strengthen you by the power of the Holy Spirit, that you may live in grac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209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682560"/>
            <a:ext cx="8915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7432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71440"/>
            <a:ext cx="86868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ill you remain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76320"/>
            <a:ext cx="883944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 rej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evil powers of this world,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523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you have washed away our sin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 clothe u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ou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dying and ris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45576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43828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89917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Do you accept the freedom an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evil, injustice, and oppress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9144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228600"/>
            <a:ext cx="8686800" cy="47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8T23:54:10Z</dcterms:modified>
  <cp:revision>17</cp:revision>
  <dc:subject/>
  <dc:title>PowerPoint Presentation</dc:title>
</cp:coreProperties>
</file>