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C22-778E-4561-8909-A9F9AE86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6A6D-3528-4F01-975F-41BF51BC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57E-5AD1-4A86-9ABE-AD012F31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CE8-8859-4EFE-96BE-B0D88837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18EB-62F1-4AB2-B63C-8D8E701E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93A8-142D-4269-993A-D65DC098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C367-CFE6-4FFF-BC4E-CB9C290F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8E0F-56E0-40AF-B212-32BDF6CF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3772-FEBE-4119-9CE7-F9E1CD83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D93D-05D8-4EED-ADC0-3EBD0CB2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CAD8-82A4-4F19-AAB9-88826068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EAD3-21F8-4F1F-B540-266D4F99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BE92-A940-4675-A5AC-BC43EF8C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0091-9D2D-415D-BBF5-083FD3A9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86C5-1A26-4B22-A7B5-B87251FF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CDC5-CAD7-423D-820D-ED91A7D0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3FD1-1B08-4B7B-857D-77E214BB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101-C5AC-4D50-AC1D-7E8A16EF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6A6-7CE5-436A-93BA-D0E9D5D8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45C-3684-4736-AC55-46ECD4F8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6959-C0DE-4E82-862E-25BD21E8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50A-BEF1-4437-A4B9-5C9D6315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E2B-47A4-4613-ADA6-3DACEF49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28FB-B848-462C-98C4-5BECC451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93C1-F1B9-408B-BFA2-3A8300C82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4139-F963-4EE9-88DB-7456E8CCC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143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Brothers and sisters in Christ: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rough the Sacrame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Baptism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e are initiated into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Christ’s holy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confess Jesus Chris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s your Savior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put your whole trus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his grace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promise to serve hi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s y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ception into the Local Congregation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320" y="824040"/>
            <a:ext cx="8991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As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of this congregation, will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you faithfully participate in its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ministries by your prayers, your 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presence, your gifts, and your service?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320" y="152280"/>
            <a:ext cx="906768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99"/>
                </a:solidFill>
                <a:latin typeface="Times New Roman"/>
              </a:rPr>
              <a:t>RECEPTION INTO THE LOCAL CONGREG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2193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Members of the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household of God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 commen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o your love and ca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28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28600" y="6094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4572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iven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Christia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28600" y="7621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members together with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body of Chris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2280" y="441360"/>
            <a:ext cx="883944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renew our covenant faithfull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to participate in the ministri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of the churc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by our prayers, our presen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our gifts, and our service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99072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52280" y="228600"/>
            <a:ext cx="883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The God of all grace, who has called us 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to eternal glory in Christ,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establish you and strengthen you 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by the power of the Holy Spirit,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that you may live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in grace and peac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37016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in union with the churc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hich Christ has opene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people of all age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nations, and rac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05740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nurture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these children (persons)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Christ’s holy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638280"/>
            <a:ext cx="8686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at by your teaching an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example </a:t>
            </a:r>
            <a:r>
              <a:rPr b="0" i="1" lang="en-US" sz="4800" spc="-1" strike="noStrike">
                <a:solidFill>
                  <a:srgbClr val="003300"/>
                </a:solidFill>
                <a:latin typeface="Times New Roman"/>
              </a:rPr>
              <a:t>they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may be guide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accept God’s grac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for </a:t>
            </a:r>
            <a:r>
              <a:rPr b="0" i="1" lang="en-US" sz="4800" spc="-1" strike="noStrike">
                <a:solidFill>
                  <a:srgbClr val="003300"/>
                </a:solidFill>
                <a:latin typeface="Times New Roman"/>
              </a:rPr>
              <a:t>themselve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profess </a:t>
            </a:r>
            <a:r>
              <a:rPr b="0" i="1" lang="en-US" sz="4800" spc="-1" strike="noStrike">
                <a:solidFill>
                  <a:srgbClr val="0033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faith openly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to lead a Christian lif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1440"/>
            <a:ext cx="868680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cording to the gr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n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ill you remain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faithful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member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Christ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chur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erve as Christ’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representativ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worl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137016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sponsor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these candidates, 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pport and encourag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them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ian lif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003320"/>
            <a:ext cx="868680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, as Christ’s body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e church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reaffirm  both your reject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sin and your commitme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Chri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Will you nurture one another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the Christian fait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life and includ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now before you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your ca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6765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od’s help we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roclaim the good ne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ve according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example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surroun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th a community of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forgive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grow in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thei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rust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be found faithful in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thei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service to oth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We are incorporated into God’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mighty acts of salvat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given new birth throug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ater and the Spirit.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All this is God’s gift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fered to us without pr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pray for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be true discipl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walk in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leads to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Let us join together in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professing the Christian fait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s contained in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Scriptures of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ld and New Testamen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003320"/>
            <a:ext cx="868680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believe in Go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e Fath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believe in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Jesus Chri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as conceived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orn of the Virgin Ma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uffered under Pontius Pilat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as crucified,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third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rose agai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ascended into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seated at the r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nd of the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ill come again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judge the l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believe in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e Holy Spir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917720"/>
            <a:ext cx="86868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Let us pr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Eternal Father: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When nothing existe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but chao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swept across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dark water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brought forth l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rough confirmation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through the reaffirmat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our faith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e renew the covena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declared at our baptis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In the days of Noa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saved those on the ark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rough water.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After the flood you se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the clouds a rainb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When you saw your peopl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s slaves in Egypt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led them to freedo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rough the sea.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eir children you brough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rough the Jorda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the land whic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promis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In the fullness of tim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sent Jesu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nurtured in the water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a womb.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He was baptized by Joh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anointed by your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He called his disciple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share in the baptis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his death and resurrect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to make disciple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all na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33028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57636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si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clothe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righteousnes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at, dying and being rais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 Chris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may share i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45576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praise to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ternal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your S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ith you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91772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the name of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f the 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f the Holy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acknowledge what Go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s doing for u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affirm our commitme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Christ’s holy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728640"/>
            <a:ext cx="8686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e Holy Spirit work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ithin you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at being born throug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ater and the Spirit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may be a faithful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disciple of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682560"/>
            <a:ext cx="8686800" cy="55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Now it is our joy to welcome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our new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sisters and brothers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in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baptis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incorporat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the Hol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to God’s new cre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ade to share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hrist’s royal priesthoo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all one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hrist Jesu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joy and thanksg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amily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firmation and Reaffirmat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43828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Remember your baptis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be thank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0948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IRMATION AND REAFFIRMA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728640"/>
            <a:ext cx="8686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Holy Spiri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ork within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having been bor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rough water and the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may live as a faith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isciple of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10168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Remember your baptis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be thank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ception into the United Methodist Churc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3716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of Christ’s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universal church,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ill you be loyal to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United Methodist Church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do all in your power to   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strengthen its ministries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0492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CEPTION INTO THE UNITED METHODIST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ception into the Local Congregation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371600"/>
            <a:ext cx="86868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A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of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this congregation,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   will you faithfully participate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   in its ministries by your 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   prayers, your presence,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   your gifts, and your service?</a:t>
            </a:r>
            <a:br>
              <a:rPr sz="46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0492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CEPTION INTO THE LOCAL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97964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Members of the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household of God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 commen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o your love and ca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98108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(s)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 baptism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presen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(s)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iven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Christia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18288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members together with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body of Chris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1295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renew our covena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aithfully to particip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ministr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chur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our prayers, our pres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gifts, and our servi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469800"/>
            <a:ext cx="8686800" cy="59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e God of all grace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ho has called us to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eternal glory in Christ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establish you an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strengthen you</a:t>
            </a: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   by the power of the Holy Spirit,</a:t>
            </a:r>
            <a:br>
              <a:rPr sz="46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at you may liv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grace and pe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8380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40004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Brothers and sisters in Christ: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rough the Sacrame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Baptism we are initiate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to Christ’s holy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" y="1522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We are incorporated into God’s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mighty acts of salvation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and given new birth through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water and the Spirit.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All this is God’s gift,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offered to us without pric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3049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rough confirmation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through the reaffirmat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our faith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e renew the covena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declared at our baptis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6094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acknowledge what Go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s doing for u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affirm our commitme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Christ’s holy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762120"/>
            <a:ext cx="86868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Makenzie Lynn Huber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or baptism.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Pat Koleszar, Debbie Morkunas, Dan and Jen McCay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to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reaffirm 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faith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3716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(s)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affir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ai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presen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(s)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o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gregation from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____________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9810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On behalf of the whole church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 ask you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0948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15228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renounce the spiritual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forces of wickedness, reject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e evil powers of this world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repent of your s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152280"/>
            <a:ext cx="8839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Do you accept the freedom and 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power God gives you to resist evil, 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injustice and oppression in 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whatever forms they present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themselves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2872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confess Jesus Christ as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r Savior, put your whole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rust in his grace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promise to serve hi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s y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600" y="15228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in union with the churc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hich Christ has opene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people of all age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nations, and rac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98892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nurture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these children (persons)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Christ’s holy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2280" y="76320"/>
            <a:ext cx="899172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that by your teaching and example</a:t>
            </a:r>
            <a:br>
              <a:rPr sz="4300"/>
            </a:b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i="1" lang="en-US" sz="4300" spc="-1" strike="noStrike">
                <a:solidFill>
                  <a:srgbClr val="003300"/>
                </a:solidFill>
                <a:latin typeface="Times New Roman"/>
              </a:rPr>
              <a:t>they</a:t>
            </a: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 may be guided to accept God’s</a:t>
            </a:r>
            <a:br>
              <a:rPr sz="4300"/>
            </a:b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   God’s grace for </a:t>
            </a:r>
            <a:r>
              <a:rPr b="0" i="1" lang="en-US" sz="4300" spc="-1" strike="noStrike">
                <a:solidFill>
                  <a:srgbClr val="003300"/>
                </a:solidFill>
                <a:latin typeface="Times New Roman"/>
              </a:rPr>
              <a:t>themselves, </a:t>
            </a: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to </a:t>
            </a:r>
            <a:br>
              <a:rPr sz="4300"/>
            </a:b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   profess </a:t>
            </a:r>
            <a:r>
              <a:rPr b="0" i="1" lang="en-US" sz="4300" spc="-1" strike="noStrike">
                <a:solidFill>
                  <a:srgbClr val="003300"/>
                </a:solidFill>
                <a:latin typeface="Times New Roman"/>
              </a:rPr>
              <a:t>their</a:t>
            </a: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 faith openly,</a:t>
            </a:r>
            <a:br>
              <a:rPr sz="4300"/>
            </a:b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   and to lead a Christian life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52280" y="141120"/>
            <a:ext cx="883944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ccording to the grace given to you,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will you remain</a:t>
            </a:r>
            <a:r>
              <a:rPr b="0" i="1" lang="en-US" sz="4300" spc="-1" strike="noStrike">
                <a:solidFill>
                  <a:srgbClr val="000000"/>
                </a:solidFill>
                <a:latin typeface="Times New Roman"/>
              </a:rPr>
              <a:t> faithful members 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of</a:t>
            </a:r>
            <a:br>
              <a:rPr sz="4300"/>
            </a:br>
            <a:r>
              <a:rPr b="0" i="1" lang="en-US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hrist’s holy church and serve and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and serve as Christ’s</a:t>
            </a:r>
            <a:br>
              <a:rPr sz="4300"/>
            </a:br>
            <a:r>
              <a:rPr b="0" i="1" lang="en-US" sz="4300" spc="-1" strike="noStrike">
                <a:solidFill>
                  <a:srgbClr val="000000"/>
                </a:solidFill>
                <a:latin typeface="Times New Roman"/>
              </a:rPr>
              <a:t> representatives 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in the world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15228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sponsor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these candidates, 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pport and encourag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them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ian lif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" y="250920"/>
            <a:ext cx="868680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Do you, as Christ’s body, the church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reaffirm  both your rejection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of sin and your commitment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to Christ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681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On behalf of the whole church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 ask you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0948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Will you nurture one another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the Christian fait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life and includ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now before you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your ca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8600" y="6858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od’s help we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roclaim the good ne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ve according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example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1522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will surround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with a community of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and forgiveness, that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may</a:t>
            </a:r>
            <a:br>
              <a:rPr sz="4500"/>
            </a:b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row in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trust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and be found faithful in</a:t>
            </a:r>
            <a:br>
              <a:rPr sz="4500"/>
            </a:b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  their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service to other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8600" y="5335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pray for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be true discipl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walk in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leads to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4572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Let us join together in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professing the Christian fait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s contained in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Scriptures of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ld and New Testamen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50004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believe in God the Fath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8600" y="60948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believe in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Jesus Chri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8600" y="1522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was conceived by the Holy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Spirit, born of the Virgin Ma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suffered under Pontius Pilat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was crucified, di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6320" y="210960"/>
            <a:ext cx="8991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third day he rose agai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ascended into heaven, is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eated at the right hand of th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ather, and will come again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judge the living and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8600" y="6858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believe in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e Holy Spir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003320"/>
            <a:ext cx="868680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renounce the spiritual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forces of wickednes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reject the evil powers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this world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repent of your s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8600" y="22860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143000"/>
            <a:ext cx="86868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Let us pr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320" y="3049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8600" y="2286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Eternal Father: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When nothing existed but chao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swept across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dark water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brought forth l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In the days of Noa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saved those on the ark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rough water.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After the flood you se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the clouds a rainb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152280"/>
            <a:ext cx="868680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When you saw your people as slaves 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in Egypt, you led them to freedom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through the sea.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Their children you brought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through the Jordan to the land 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which you promise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8380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52280" y="380880"/>
            <a:ext cx="8839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In the fullness of time you sent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Jesus, nurtured in the water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a womb.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He was baptized by Joh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anointed by your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8600" y="3049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He called his disciple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share in the baptis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his death and resurrect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to make disciple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all na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9144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8600" y="83808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38280"/>
            <a:ext cx="8686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accept the freedo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power God gives you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resist evil, injustice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oppress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whatever forms they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present themselv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52280" y="11736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sin, and cloth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n righteousnes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at, dying and being rais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 Christ,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may share i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praise to you, Eternal Fa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your So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with you and the Holy Spiri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1012680"/>
            <a:ext cx="899172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Makenzie Lynn Huber,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  in the name of the Father, and of 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  the Son, and of the Holy Spiri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825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52280" y="250920"/>
            <a:ext cx="891540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The Holy Spirit work within you,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that being born through water and 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the Spirit, you may be a faithful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disciple of Jesus Chris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52280" y="152280"/>
            <a:ext cx="899172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Now it is our joy to welcome our new</a:t>
            </a:r>
            <a:br>
              <a:rPr sz="4500"/>
            </a:b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sisters and brothers </a:t>
            </a: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in Chris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baptism, you are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corporated by the Holy Spiri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into God’s new cre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2280" y="152280"/>
            <a:ext cx="8915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made to share i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Christ’s royal priesthood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are all one in Christ Jesu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joy and thanksgiv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we welcome you as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of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the family of Chris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firmation and Reaffirmat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52388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Remember your baptis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be thank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2286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IRMATION AND REAFFIRMA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28600" y="152280"/>
            <a:ext cx="86868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at Koleszar, Debbie Morkunas, Dan and Jen McCay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e Holy Spirit wor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in you, that having been born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ough water and the Spirit, you m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ve as a faithful disciple of Jesus Chri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83808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Remember your baptis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be thank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ception into the United Methodist Churc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1143000"/>
            <a:ext cx="8839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of Christ’s universal church  </a:t>
            </a: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will you be loyal to The United</a:t>
            </a: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Methodist Church, and do all in your </a:t>
            </a: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power to strengthen its ministries?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320" y="7632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CEPTION INTO THE UNITED METHODIST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9-23T03:11:52Z</dcterms:modified>
  <cp:revision>19</cp:revision>
  <dc:subject/>
  <dc:title>PowerPoint Presentation</dc:title>
</cp:coreProperties>
</file>