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1A6C-937D-465B-8376-E835FF514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276A-3E06-41DD-A37E-4382B9668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EF21-CB83-43EC-8B05-9F3DD9FE2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02D1-7245-4B3B-9649-8E117A38A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B2A18-C386-4CB5-A96C-DA67910BC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4BFA9-2C13-4B6A-868B-A61909EAD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A0B20-E359-4269-9458-6A22D889D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25459-7A85-46FE-8536-67907F448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27D2B-9383-4FF6-8216-6F807A996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DB692-D088-45F2-9440-B21989C28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6DC2F-8213-460C-86C6-5C3B502A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683C-5668-4EEC-896A-FD4AA0473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D486B-0564-4DC7-A062-3FF217CE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40FB7-AD0D-45EE-AF53-BBF50EE4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7F33C-6B7F-4061-B4A3-CF566AD0B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C6417-E2B7-4F29-BCF5-FA7B19045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46396-9D4D-4D55-A919-FA05C6495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FAF78-7B3C-4B98-BFF0-03117388B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3A4D2-F377-4970-9C0F-83B46EF43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A93A1-F8C9-41C7-A3F0-A2DF7D819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B18FB-0A47-43DA-99A3-9E56E803C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B69BC-7911-46A5-9224-94F6429A3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543F-173F-41A0-9066-217BADB36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F5189-0B03-4072-82A3-0510FAE7C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B0CEE-1CBF-42FA-9D99-9872C3226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1DCBB-6EC2-47AD-836D-1FC9E420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9871C-2167-4819-8665-D94A4D73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293D7-D3EB-4938-96A4-A318D2057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7A4C5-6F0C-43A9-814B-76A9E9E09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53610-9F31-42AA-B935-57EB4FC0D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D7E6A-A2B0-4E84-A1B7-77AF24009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75EBA-7FB1-422D-AFAD-833D1EC02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E3009-5892-42E5-A78C-185584318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2FD8-C721-4DCE-AD07-0D75F0CDE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3AD56-E25A-4E69-B53D-0312B0F4B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B7888-6B47-4851-965B-F2ABC762C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97F45-04FB-4882-98E6-B44D30004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E6405-0B6C-49C8-B990-B781B3091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B1E4A-7281-4EBE-A5A6-A1F231CF0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385B6-A0A0-448F-8FCB-E4588D14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4FBBF-FB36-4031-A075-F5DA456F1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457CF-0B85-4063-8513-D59A5A40B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E6550-F23E-46D9-9ADA-348032B97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C827-3E1F-4445-B52F-557FD588A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4EC9-8AF1-4420-B17B-40DD55C8A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CF68-9ECD-4187-9510-9FF18653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3274-75DF-47F0-BD14-B3714635E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720F-1A12-487C-94BB-93EB3272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06756-73BB-46D4-9606-962559BDDC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A712C-3530-461C-ACC5-878C106DDF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660AA-D45A-4676-A986-28A765650C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088F3-E563-4F5D-89E2-BD2AF65D80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99072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INVI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Invitat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1676520"/>
            <a:ext cx="8686800" cy="42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Christ the Lord invites to his table all who love him, who </a:t>
            </a:r>
            <a:br>
              <a:rPr sz="5500"/>
            </a:b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earnestly repent of their sin and seek to live in peace with one another.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 SERVICE OF WORD &amp; TABLE I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14480" y="152280"/>
            <a:ext cx="8915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THANKSGIVING AND COMMUN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Great Thanksgiv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1447920"/>
            <a:ext cx="9144000" cy="44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The Lord be with you.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nd also with you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Lift up your hearts.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 lift them up to the Lord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14480" y="76212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E GREAT THANKSGI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304920" y="3429000"/>
            <a:ext cx="86104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E LORD’S PR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he Lord’s Praye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57200" y="99072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 now, with the confidenc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children of God, let us pray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0" y="38088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GIVING THE BREAD AND C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Giving the Brea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57200" y="990720"/>
            <a:ext cx="8686800" cy="56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body of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iven for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blood of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iven for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38088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DISMISSAL WITH BLE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Dismissal with Bless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57200" y="990720"/>
            <a:ext cx="86868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o forth in peace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grace of the Lo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Jesus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e love of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e communi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the Holy Spiri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 with you all.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457200"/>
            <a:ext cx="8991720" cy="39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Let us give thanks to the Lord our God.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It is right to give our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anks and prais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380880"/>
            <a:ext cx="89154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t is right, and a good and joyful thing, always and everywhere to give thanks to you, Father Almighty,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reator of heaven and earth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28600" y="380880"/>
            <a:ext cx="8686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nd so,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with your people on earth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and all the company of heaven we praise your name and join their unending hymn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228600" y="380880"/>
            <a:ext cx="86868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Holy, holy, holy Lord, 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 God of power and might, heaven and earth are full of your glory.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Hosanna in the highest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457200" y="2651040"/>
            <a:ext cx="868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304920"/>
            <a:ext cx="91440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Blessed is he who comes in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e name of the Lord.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Hosanna in the highest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Holy are you, and blessed is your Son Jesus Chris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76320" y="76320"/>
            <a:ext cx="899136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By the baptism of his suffering,</a:t>
            </a:r>
            <a:br>
              <a:rPr sz="5200"/>
            </a:b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   death, and resurrection you gave birth to your church, delivered us from slavery to sin and death, and made with us a new covenant by water and the Spirit.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52280" y="438120"/>
            <a:ext cx="8991720" cy="43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On the night in which he gave</a:t>
            </a:r>
            <a:br>
              <a:rPr sz="5600"/>
            </a:b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   himself up for us, he took</a:t>
            </a:r>
            <a:br>
              <a:rPr sz="5600"/>
            </a:b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   bread gave thanks to you,</a:t>
            </a:r>
            <a:br>
              <a:rPr sz="5600"/>
            </a:b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   broke the bread, gave it to his disciples and said: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52280" y="380880"/>
            <a:ext cx="8763120" cy="45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Take, eat;</a:t>
            </a:r>
            <a:br>
              <a:rPr sz="5800"/>
            </a:b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   this is my body which is</a:t>
            </a:r>
            <a:br>
              <a:rPr sz="5800"/>
            </a:b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   given for you.</a:t>
            </a:r>
            <a:br>
              <a:rPr sz="5800"/>
            </a:b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   Do this</a:t>
            </a:r>
            <a:br>
              <a:rPr sz="5800"/>
            </a:b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   in remembrance of me.”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52280" y="942840"/>
            <a:ext cx="899172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When the supper was over,</a:t>
            </a:r>
            <a:br>
              <a:rPr sz="5800"/>
            </a:b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   he took the cup, gave</a:t>
            </a:r>
            <a:br>
              <a:rPr sz="5800"/>
            </a:b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   thanks to you, gave it to his disciples, and said: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76320" y="152280"/>
            <a:ext cx="8686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erefore, let us confess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 our sin before God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 and one another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52280" y="36115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ONFESSION AND PARD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" y="4175280"/>
            <a:ext cx="839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Merciful God, we confes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52280" y="515880"/>
            <a:ext cx="8763120" cy="45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Drink from this, all of you;</a:t>
            </a:r>
            <a:br>
              <a:rPr sz="5800"/>
            </a:b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   this is my blood of the new</a:t>
            </a:r>
            <a:br>
              <a:rPr sz="5800"/>
            </a:b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   covenant, poured out for</a:t>
            </a:r>
            <a:br>
              <a:rPr sz="5800"/>
            </a:b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   you and for many</a:t>
            </a:r>
            <a:br>
              <a:rPr sz="5800"/>
            </a:b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   for the forgiveness of sins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28600" y="1066680"/>
            <a:ext cx="8763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Do this, as often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as you drink it,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in remembrance of me.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52280" y="76320"/>
            <a:ext cx="876312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And so, in remembrance of these your mighty acts in Jesus Christ, we offer ourselves in praise and thanksgiving as a holy and living sacrifice, in union with Christ’s offering for us,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228600" y="304920"/>
            <a:ext cx="8763120" cy="49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s we proclaim the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mystery of faith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Christ has died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Christ is risen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Christ will come again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52280" y="838080"/>
            <a:ext cx="876312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Pour out your Holy Spirit</a:t>
            </a:r>
            <a:br>
              <a:rPr sz="5800"/>
            </a:b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   on us gathered here,</a:t>
            </a:r>
            <a:br>
              <a:rPr sz="5800"/>
            </a:b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   and on these gifts of</a:t>
            </a:r>
            <a:br>
              <a:rPr sz="5800"/>
            </a:b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   bread and wine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52280" y="609480"/>
            <a:ext cx="8763120" cy="45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Make them be for us the body and blood of Christ, </a:t>
            </a:r>
            <a:br>
              <a:rPr sz="5800"/>
            </a:b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that we may be for the world</a:t>
            </a:r>
            <a:br>
              <a:rPr sz="5800"/>
            </a:b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the body of Christ, </a:t>
            </a:r>
            <a:br>
              <a:rPr sz="5800"/>
            </a:b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redeemed by his blood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28600" y="533520"/>
            <a:ext cx="8763120" cy="45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By your Spirit make us</a:t>
            </a:r>
            <a:br>
              <a:rPr sz="5800"/>
            </a:b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   one with Christ,</a:t>
            </a:r>
            <a:br>
              <a:rPr sz="5800"/>
            </a:b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   one with each other,</a:t>
            </a:r>
            <a:br>
              <a:rPr sz="5800"/>
            </a:b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   and one in ministry</a:t>
            </a:r>
            <a:br>
              <a:rPr sz="5800"/>
            </a:b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   to all the world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28600" y="838080"/>
            <a:ext cx="876312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until Christ comes in</a:t>
            </a:r>
            <a:br>
              <a:rPr sz="5800"/>
            </a:b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   final victory</a:t>
            </a:r>
            <a:br>
              <a:rPr sz="5800"/>
            </a:b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   and we feast at his</a:t>
            </a:r>
            <a:br>
              <a:rPr sz="5800"/>
            </a:b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   heavenly banquet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52280" y="152280"/>
            <a:ext cx="8763120" cy="55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Through your Son Jesus Christ, with the Holy Spirit</a:t>
            </a:r>
            <a:br>
              <a:rPr sz="5800"/>
            </a:b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in your holy church, all honor and glory is yours,</a:t>
            </a:r>
            <a:br>
              <a:rPr sz="5800"/>
            </a:b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almighty Father, now and forever.  </a:t>
            </a: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304920" y="3429000"/>
            <a:ext cx="86104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E LORD’S PR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he Lord’s Praye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04920"/>
            <a:ext cx="868680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And  now, with the confidence of children of God, let us pray: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52280" y="228600"/>
            <a:ext cx="8991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at we have not loved you with our whole heart. We have failed to be an obedient church. We have not done your will, we have broken your law,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0" y="1364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LORD’S PRAY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52280" y="1676520"/>
            <a:ext cx="899172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Our Father, who art in heaven, hallowed be thy name. Thy kingdom come, thy will be done on earth as it is in heave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rd’s Pray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Former Methodist Tex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115000" y="838080"/>
            <a:ext cx="491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FROM THE RITUAL OF THE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FORMER METHODIST CHU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467480" y="380880"/>
            <a:ext cx="1371600" cy="7034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9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304920" y="517680"/>
            <a:ext cx="8534160" cy="466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Give us this day our daily bread.  And forgive us our trespasses, as we forgive those who trespass against u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152280"/>
            <a:ext cx="9144000" cy="558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nd lead us not into temptation, but deliver us from evil.  For thine is the kingdom, and the power, and the glory, forever.  Amen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0" y="15228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GIVING THE BREAD AND C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Giving the Brea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990720"/>
            <a:ext cx="9144000" cy="40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body of Christ, given for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blood of Christ, given for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0" y="15228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DISMISSAL WITH BLE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Dismissal with Bless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790560"/>
            <a:ext cx="8915400" cy="45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Go forth in peace. The grace of the Lord Jesus Christ, and the love of God, and the communion of the Holy Spirit be with you all.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124920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INVI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Invitat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28600" y="1903320"/>
            <a:ext cx="8686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hrist the Lord invites to his tabl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ll who love him, who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earnestly repent of their sin a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 SERVICE OF WORD &amp; TABLE I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52280" y="380880"/>
            <a:ext cx="868680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eek to live in peace with on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oth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refore, let us confes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ur sin before Go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one anoth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228600" y="114300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erciful God, we confess tha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have not loved you with ou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le heart. We have failed t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e an obedient chur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52280" y="2286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ONFESSION AND PARD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228600" y="152280"/>
            <a:ext cx="86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have not done your will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have broken your law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have rebelled against your love, we have not loved ou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eighbors, and we have not heard the cry of the need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28600" y="152280"/>
            <a:ext cx="86868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 have rebelled against your love, we have not loved our neighbors, and we have not heard the cry of the needy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228600" y="53352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give us, we pray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ree us for joyful obedienc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rough Jesus Christ our Lord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28600" y="3808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ar the good news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Christ died for us whil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e were yet sinners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at proves God’s lov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ward u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228600" y="152280"/>
            <a:ext cx="8686800" cy="45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name of Jesus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are forgiven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the name of Jesus Chris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are forgiven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lory to God. 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152280" y="60948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E PE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Peac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8600" y="1676520"/>
            <a:ext cx="8686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us offer one anoth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igns of reconciliati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lov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152280" y="53352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OFF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Offer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04920" y="129528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forgiven and reconcil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eopl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us offer ourselv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our gifts to Go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14480" y="152280"/>
            <a:ext cx="8915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THANKSGIVING AND COMMUN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Great Thanksgiv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" y="167652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be with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also with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ift up your heart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lift them up to the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14480" y="99072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E GREAT THANKSGI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304920" y="457200"/>
            <a:ext cx="868680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us give thank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the Lord our Go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t is right to give ou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nks and prais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228600" y="3808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t is right, and a good and joyful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ing, always and everywher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 give thanks to you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Father Almight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creator of heaven and ear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228600" y="3808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so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ith your people on ear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all the company of heave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e praise your name 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join their unending hymn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228600" y="3808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ly, holy, holy Lord,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God of power and migh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aven and earth ar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full of your glory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Hosanna in the highe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28600" y="533520"/>
            <a:ext cx="86868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Forgive us, we pray.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Free us for joyful obedience, through Jesus Christ our Lord.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457200" y="2651040"/>
            <a:ext cx="868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80880" y="1217520"/>
            <a:ext cx="8458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lessed is he who com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the name of the Lord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Hosanna in the highe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0" y="12193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ly are you, and bless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s your Son Jesus Chri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228600" y="152280"/>
            <a:ext cx="8763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y the baptism of his suffering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death, and resurrection you gav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birth to your church, deliver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us from slavery to sin and deat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made with us a new covenant by water and the Spiri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152280" y="152280"/>
            <a:ext cx="8763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n the night in which he gav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imself up for u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e took brea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gave thanks to you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broke the brea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gave it to his disciples and said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52280" y="380880"/>
            <a:ext cx="8763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ake, eat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is is my body which i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given for you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Do thi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remembrance of me.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152280" y="457200"/>
            <a:ext cx="8763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n the supper was ov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e took the cup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gave thanks to you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gave it to his disciple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said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152280" y="152280"/>
            <a:ext cx="8763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rink from this, all of you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is is my bloo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 the new covenan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poured out for you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for man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for the forgiveness of sin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228600" y="1066680"/>
            <a:ext cx="8763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o this, as ofte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s you drink i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remembrance of me.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228600" y="152280"/>
            <a:ext cx="8763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so, in remembrance of these your mighty acts in Jesus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offer ourselves in praise 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nksgiving as a holy and living sacrifice, in union with Christ’s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fering for u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228600" y="304920"/>
            <a:ext cx="876312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we proclaim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mystery of fai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rist has died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rist is risen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rist will come agai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28600" y="685800"/>
            <a:ext cx="86868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Hear the good news: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Christ died for us while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we were yet sinners;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that proves God’s love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toward 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52280" y="838080"/>
            <a:ext cx="8763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our out your Holy Spiri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n us gathered her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on these gifts o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bread and win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152280" y="609480"/>
            <a:ext cx="8763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ke them be for us the bod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blood of Christ,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at we may be for the worl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e body of Christ,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redeemed by his bloo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228600" y="533520"/>
            <a:ext cx="8763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y your Spirit make u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ne with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ne with each oth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one in ministr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 all the worl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228600" y="838080"/>
            <a:ext cx="8763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until Christ comes i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final victor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we feast at hi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eavenly banque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152280" y="152280"/>
            <a:ext cx="8763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rough your Son Jesus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the Holy Spiri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your holy churc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l honor and glory is your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mighty Father, now and forever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304920" y="3429000"/>
            <a:ext cx="86104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E LORD’S PR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he Lord’s Praye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57200" y="99072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 now, with the confidenc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children of God, let us pray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0" y="1364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THE LORD’S PRAY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52280" y="1676520"/>
            <a:ext cx="8991720" cy="27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ur Father, who art in heaven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hallowed be thy name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Thy kingdom come, thy will be don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on earth as it is in heave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rd’s Pray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Former Methodist Tex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115000" y="838080"/>
            <a:ext cx="491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FROM THE RITUAL OF THE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FORMER METHODIST CHU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467480" y="380880"/>
            <a:ext cx="1371600" cy="7034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89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304920" y="287280"/>
            <a:ext cx="853416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Give us this day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our daily bread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And forgive us our trespasse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as we forgive thos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who trespass against u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304920" y="380880"/>
            <a:ext cx="88390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And lead us not into temptatio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and deliver us from evil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For thine is the kingdom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and the power, and the glor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forever.  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0" y="15228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GIVING THE BREAD AND C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Giving the Brea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852480"/>
            <a:ext cx="9144000" cy="35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body of Christ, given for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blood of Christ, given for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52280" y="272880"/>
            <a:ext cx="8686800" cy="52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name of Jesus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are forgiven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In the name of Jesus Christ, you are forgiven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Glory to God. Amen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0" y="15228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DISMISSAL WITH BLE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Dismissal with Bless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28600" y="76212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o forth in peace. The grace of the Lord Jesus Christ, and the love of God, and the communi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the Holy Spirit be with you all.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160020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INVI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Invitat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57200" y="2133720"/>
            <a:ext cx="86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hrist the Lord invites to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is table all who love him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ho earnestly repen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 their si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seek to live in peac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ith one anoth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 SERVICE OF WORD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ND TABLE I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457200" y="2284560"/>
            <a:ext cx="8686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refore, let us confes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ur sin before Go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one anoth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457200" y="1600200"/>
            <a:ext cx="86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erciful Go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confess that we have no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oved you with ou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le heart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have failed to b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 obedient chur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7621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ONFESSION AND PARD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457200" y="455760"/>
            <a:ext cx="8686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have not done your will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have broken your law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have rebell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gainst your lov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have not lov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our neighbor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we have not heard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cry of the need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457200" y="191916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give us, we pray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ree us for joyful obedienc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rough Jesus Christ our Lord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57200" y="15526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ar the good news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Christ died for us whil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e were yet sinners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at proves God’s lov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ward u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457200" y="1185840"/>
            <a:ext cx="8686800" cy="45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name of Jesus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are forgiven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the name of Jesus Chris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are forgiven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lory to God. 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228600" y="106668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E PE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Peac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7200" y="2284560"/>
            <a:ext cx="8686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us offer one anoth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igns of reconciliati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lov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228600" y="83808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OFF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Offer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57200" y="191916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forgiven and reconcil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eopl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us offer ourselv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our gifts to Go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52280" y="60948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E PE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Peac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" y="1676520"/>
            <a:ext cx="868680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Let us offer one another</a:t>
            </a:r>
            <a:br>
              <a:rPr sz="5200"/>
            </a:b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signs of reconciliation</a:t>
            </a:r>
            <a:br>
              <a:rPr sz="5200"/>
            </a:b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and love.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14480" y="380880"/>
            <a:ext cx="8915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THANKSGIVING AND COMMUN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Great Thanksgiv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57200" y="2133720"/>
            <a:ext cx="868680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be with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also with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ift up your heart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lift them up to the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14480" y="137160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E GREAT THANKSGI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457200" y="1735200"/>
            <a:ext cx="868680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us give thank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the Lord our Go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t is right to give ou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nks and prais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457200" y="1187280"/>
            <a:ext cx="86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t is right, and a goo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joyful thing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lways and everywher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 give thanks to you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Father Almight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creator of heaven and ear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457200" y="15526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so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ith your people on ear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all the company of heave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e praise your name 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join their unending hymn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457200" y="167652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ly, holy, holy Lord,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God of power and migh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aven and earth ar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full of your glory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Hosanna in the highe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457200" y="2651040"/>
            <a:ext cx="868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85800" y="2209680"/>
            <a:ext cx="8458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lessed is he who com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the name of the Lord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Hosanna in the highe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0" y="2600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ly are you, and bless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s your Son Jesus Chri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380880" y="455760"/>
            <a:ext cx="87631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y the baptism of his suffering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death, and resurrecti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you gave birth to your churc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delivered us from slaver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to sin and deat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made with us 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new covenan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by water and the Spiri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380880" y="820800"/>
            <a:ext cx="87631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n the night in which 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gave himself up for u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e took brea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gave thanks to you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broke the brea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gave it to his discipl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said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380880" y="1187280"/>
            <a:ext cx="8763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ake, eat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is is my body which i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given for you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Do thi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remembrance of me.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52280" y="53352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OFF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Offer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4920" y="1295280"/>
            <a:ext cx="8686800" cy="26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As forgiven and reconciled</a:t>
            </a:r>
            <a:br>
              <a:rPr sz="5500"/>
            </a:b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people, let us offer ourselves</a:t>
            </a:r>
            <a:br>
              <a:rPr sz="5500"/>
            </a:b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and our gifts to God.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380880" y="1552680"/>
            <a:ext cx="8763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n the supper was ov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e took the cup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gave thanks to you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gave it to his disciple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said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380880" y="1187280"/>
            <a:ext cx="8763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rink from this, all of you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is is my bloo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 the new covenan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poured out for you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for man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for the forgiveness of sin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380880" y="2284560"/>
            <a:ext cx="8763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o this, as ofte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s you drink i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remembrance of me.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380880" y="455760"/>
            <a:ext cx="87631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so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remembrance of these your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mighty acts in Jesus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e offer ourselves in prais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thanksgiving as 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oly and living sacrific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union with Christ’s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offering for u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380880" y="1370160"/>
            <a:ext cx="876312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we proclaim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mystery of fai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rist has died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rist is risen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rist will come agai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380880" y="1919160"/>
            <a:ext cx="8763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our out your Holy Spiri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n us gathered her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on these gifts o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bread and win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380880" y="1552680"/>
            <a:ext cx="8763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ke them be for us the bod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blood of Christ,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at we may be for the worl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e body of Christ,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redeemed by his bloo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380880" y="1552680"/>
            <a:ext cx="8763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y your Spirit make u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ne with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ne with each oth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one in ministr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 all the worl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380880" y="1919160"/>
            <a:ext cx="8763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until Christ comes i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final victor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we feast at hi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eavenly banque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380880" y="455760"/>
            <a:ext cx="87631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rough your Son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Jesus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the Holy Spiri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your holy churc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l honor and glory is your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mighty Fath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w and forever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05-02T02:09:10Z</dcterms:modified>
  <cp:revision>13</cp:revision>
  <dc:subject/>
  <dc:title>PowerPoint Presentation</dc:title>
</cp:coreProperties>
</file>