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2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8BA-0E8F-47CC-9F5B-F8672D92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9BC-2F12-4528-BAD1-D116B8F6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0F8-CE08-4EAD-824B-41B65950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115-425E-415A-8640-1D1A8395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5F3-7E8A-4645-8DAD-D7C60AAC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311-4B92-41B2-98B1-D1786B6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80F5-8A4D-4CB3-BA18-F1A75851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48C6-0EC2-4FA5-8630-BE03D43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BF4-EF6F-4890-923F-2ECE794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0E3E-BDD6-47AD-8B82-973521F0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EBAA-3375-411A-959B-15FFC68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C5B-086E-4A2C-9DEA-11975F1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822F-2EFF-4B74-A059-BED79C0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9AE-8D79-41D4-8545-36FF4CE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81B5-CC1C-4BDE-9600-8CF35423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E1B-A736-4E7E-8E2C-DE2C84B0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2B1E-A19C-4938-9A0B-5E7280D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A7D-7D1A-4D1E-A1F2-5C502B80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067-8488-4B25-B6CF-4F3A6F0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D08-E192-4528-89F5-838682E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BE9-D255-4F89-BE81-FE6530C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E67-8A86-4753-AD32-CB61283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36E-E15E-4C66-856A-C8490B1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4D5-F8A7-4EDC-BCF8-4586885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8829-5E0C-4652-AC68-B1FCDAB2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A790-607F-4B0C-AF08-A162DD82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accept God’s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msel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annah Lynn Sutto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Joshua Bernstei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8380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shua Bernstei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brother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memb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 Kevin Whitehea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opl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ther, through your So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Christ, who with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nd 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 and Savior, put your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le trust in his grace,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FFIRMATION AND PROMISE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28600" y="804960"/>
            <a:ext cx="86868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ents: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Christ’s holy church,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ample he may be guided to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ept God’s grace for himself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944640"/>
            <a:ext cx="8686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o profess his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rents: We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y Kevin Whitehead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7621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household of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 love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are, this child, whom we thi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ay recognize as a member of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family of Go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AL P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52280" y="304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endeavor so to liv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y grow in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 and love of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Savior Jesu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7632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 With God’s help, we wi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order our lives afte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xample of Christ,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 surrounded b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eadfast lov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71424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be established in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, and confirmed an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ened in the way t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to life eter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6232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1772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954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9270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828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Baptism we are initiated  into Christ’s holy chur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362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38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9144000" cy="64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accept the freedom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evil, injustice, and oppression 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0492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609480"/>
            <a:ext cx="86868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219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8686800" cy="58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accept God’s grace fo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mselves, to profess thei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 openly, and to lead a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ian lif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491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89856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7621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76212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83808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der Pontius Pilate,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rucified, died, and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ied; he descended to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89080"/>
            <a:ext cx="8915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On the third day he rose 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gain; he ascended into heaven, is seated at the right hand of the Father, and will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will come again to judge the living and the dea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76212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447920"/>
            <a:ext cx="8686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9018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15228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s slaves in Egypt, you le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m to freedom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rough the Jordan to the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land which you promise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8380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295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in,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lo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y sha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 who with you and the Holy Spiri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023840"/>
            <a:ext cx="8686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 baptize you in the name of the Father, and of the Son, and of the Holy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320" y="152280"/>
            <a:ext cx="899136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oly Spirit work withi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, that being born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52280"/>
            <a:ext cx="914400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ough baptism, you 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corporated by the Holy Spirit into God’s new creation and made to shar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4604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Christ’s royal priesthoo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elcome you as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the family of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796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137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you in the body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and in this congregation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d Methodist Church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ministries of the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371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od of all grace, who ha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you and strengthen you by the power of the Holy Spirit that you may live in grace and pea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28456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Hannah Lynn Sutto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17T16:17:59Z</dcterms:modified>
  <cp:revision>21</cp:revision>
  <dc:subject/>
  <dc:title>PowerPoint Presentation</dc:title>
</cp:coreProperties>
</file>