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263-6BCD-480C-B529-C87558DD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51B-6F0C-46EB-B87A-245E9638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AD6-F0AF-472B-B00E-524980B3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60D-98AF-4F5C-B744-F89FDDC9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1A4-63FE-4C4B-9796-EEBB197E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ECD-A8E2-49CD-8558-8BBAAC6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02D-7FEE-4CD8-B290-A655EF7D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931-4CE3-464D-A332-9DD6135F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707-911A-4735-AE79-70B9BE2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C6D-27C4-4F6F-BB0B-EDA56A9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FF9-9E76-4944-9D34-E426024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928-2CBF-4BA2-83AB-29CBD7B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88F-AFC5-4F6F-83BC-D68ABDAA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 fu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4300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735200"/>
            <a:ext cx="8763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5:28Z</dcterms:modified>
  <cp:revision>13</cp:revision>
  <dc:subject/>
  <dc:title>PowerPoint Presentation</dc:title>
</cp:coreProperties>
</file>